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827-B0F2-4D27-8636-BCB9C086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96E-E7FD-40BE-8AD1-CB465BB9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371-829A-426D-BAAB-2C1B5A29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8C5-306B-4967-9DFB-C8F24F7A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E3B8-9654-4431-B627-1D62F961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0671-85FC-4CAC-AA81-3FB9CDAB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36E5-B1F3-47D8-8299-E47674D7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7EF8-981D-4854-A6A9-1E79C10E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6B0D-E123-4C77-A58D-300E3EA3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E9A3-D89E-44AE-99D4-0A31865F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69E7-9677-4343-BCBE-7AD41B5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731-F62C-4192-B35B-C3E03314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9332-E329-4F90-9B92-03BEC92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28F5-4504-415E-9879-D0B80BC9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49E5-AD36-4AE9-8252-28A06794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0992-966E-4503-9649-643683AC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2F96-93DC-4683-A95D-CCB25305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AE0-615A-4541-B97B-3655EC7D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BE4-C191-4D93-B6D1-7B089367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B54-11BF-4532-B0D7-B3B0689C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4CB-AD86-4EF6-B571-D191CC1A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4D3-4E14-4F96-9723-270F7BB0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3C5-7DA0-4174-ADFA-D234D029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056-B0E3-4C84-BB56-9F43C727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4996-2CB5-4BA2-A9F0-E9B3D8C4A33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7920" y="63000"/>
              <a:ext cx="3623040" cy="6129720"/>
              <a:chOff x="5407920" y="63000"/>
              <a:chExt cx="3623040" cy="612972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1520" y="348120"/>
                <a:ext cx="2116800" cy="235584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1040" y="1959840"/>
                <a:ext cx="906840" cy="84240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8200" y="2931840"/>
                <a:ext cx="523800" cy="32666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B185-E015-40E5-A765-14F868A041D7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2436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Comic Sans MS"/>
              </a:rPr>
              <a:t>Вежливый отказ</a:t>
            </a:r>
            <a:endParaRPr b="0" lang="en-US" sz="6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11" name="Picture 6" descr="AG00317_"/>
          <p:cNvPicPr/>
          <p:nvPr/>
        </p:nvPicPr>
        <p:blipFill>
          <a:blip r:embed="rId1"/>
          <a:stretch/>
        </p:blipFill>
        <p:spPr>
          <a:xfrm>
            <a:off x="7559640" y="189000"/>
            <a:ext cx="1584360" cy="1773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1979640" y="5157720"/>
            <a:ext cx="69390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ыполнила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читель СФ ГБО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школы-интерната № 2 г.о. Жигулёвс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азухина Татьяна Серге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24400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ечевой этикет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- правила поведения, принятые в речевом общении между людьми. Именно из уст культурного и вежливого человека мы слышим этикетные выражения: добро пожаловать; приятного аппетита; благодарю вас; будьте здоровы; извините меня; пожалуйста; добрый вечер.</a:t>
            </a:r>
            <a:endParaRPr b="0" lang="en-US" sz="32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24364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Отказ</a:t>
            </a:r>
            <a:r>
              <a:rPr b="1" lang="ru-RU" sz="4800" spc="-1" strike="noStrike">
                <a:solidFill>
                  <a:srgbClr val="6600ff"/>
                </a:solidFill>
                <a:latin typeface="Times New Roman"/>
              </a:rPr>
              <a:t> – это речевое действие, с помощью которого выражается отрицательная реакция на просьбу</a:t>
            </a:r>
            <a:endParaRPr b="0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Причины отказа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евозможность выполнить    просьбу, например, из-за неприемлемости усло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ежелание выполнить просьб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о причинам личного характе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82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Чтобы отказ стал вежливым, его можно смягчить специальными выражениями</a:t>
            </a:r>
            <a:br>
              <a:rPr sz="4000"/>
            </a:br>
            <a:r>
              <a:rPr b="0" lang="ru-RU" sz="40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32000" y="2401920"/>
            <a:ext cx="7812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Вежливое слово  + Причина отказ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(выражение):</a:t>
            </a: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</a:rPr>
              <a:t>благодарность,      аргументация,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</a:rPr>
              <a:t>извинение             объяс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олезные советы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для произнесения 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вежливого отказа</a:t>
            </a: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Используй вежливые слова и выра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бязательно объясняй причину отказ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роизноси отказ мягким тон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имика должна выражать твою доброжелатель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Старайся не употреблять слова с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</a:rPr>
              <a:t>не-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3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Разбор ситуаций</a:t>
            </a:r>
            <a:endParaRPr b="0" lang="en-US" sz="4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79280" y="1125000"/>
            <a:ext cx="78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дноклассники приглашают тебя в дворовую футбольную команду, но мама просит в то же время сходить в магазин. Ваши действия и возможные слов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Друг просит тебя на время дать ему лазерную мышку от компьютера, но это вещи папы. Ваши действия и возможные слова?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6:29:40Z</dcterms:created>
  <dc:creator>Mother</dc:creator>
  <dc:description/>
  <dc:language>en-US</dc:language>
  <cp:lastModifiedBy>Татьяна</cp:lastModifiedBy>
  <dcterms:modified xsi:type="dcterms:W3CDTF">2020-04-07T06:42:55Z</dcterms:modified>
  <cp:revision>12</cp:revision>
  <dc:subject/>
  <dc:title>Будьте вежливы</dc:title>
</cp:coreProperties>
</file>