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234-61D7-4F19-848F-5B5F1411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C0E-8828-48CC-B1E2-9576AC8E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B79-95EA-4E74-BA3F-64E9E081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A87-F7E4-475D-97F0-AD8BB6DD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D269-1D8E-493C-A14A-F33A1249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BAA8-2E11-4C6B-9FAA-9D288746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1CDE-556D-41D1-82CE-F3A10ED6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D482-3D06-4413-A86F-6DCD5655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59A3-E59E-4A98-8C4D-4F9A1452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949A-FDEE-42A2-9C86-0F84C328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20B0-7CC7-40AB-A562-E5AB0181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84CB-FDF7-4E89-BD88-C772701A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C02E-5766-4339-84D6-AFCB2C55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EE91-BE6F-443D-A9A3-1279A89B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079A-0A1F-4D11-85C5-6FD6AA57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8B34-9348-4B05-A4FA-252026CC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244F-D386-4345-8FC9-ABF901D1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7FF6D-F504-42E0-BA41-9EEC6EF8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3AC80-E68C-4309-8F5B-B2A25ADB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2C27-9473-4E02-A357-B2E64CEC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09EF8-1289-486F-977B-CC05AD73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CDFA4-C76E-4CF6-B316-1B26BC91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1B7F-BC60-4D29-91AA-6472516F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08BC6-BF3E-4B14-BD93-820F8130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9855F-55FB-4999-9AA2-C957CE2C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FF1D-D62D-4C91-B629-0A3B59ED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C0257-830D-4EF4-BF00-D5D7A6F7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6C6F6-1EE1-44DA-A48D-75159B50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A2D1F-CD77-4DE3-BCA3-95CB9679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943A2-0090-4E66-AB24-1214CED6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B81-6AC0-4ED5-AB94-F8A06E8E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802-1A32-458E-A17D-074B8101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4917-A6E6-4A27-8ED4-B215DF9E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683-718B-49E5-A886-A6D2368A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A25-D604-44F9-A6D1-5141EEC2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99D-B393-4574-8D79-A6503453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3366-962B-4CB2-B7DC-230D65B8121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B669-4366-46D8-97F2-FEAE26375B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8964-78AB-4D6C-8CDB-9DF328A0304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ма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Язык СМС сообщений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ыполнила проект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Ученица 9 в класс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Трацевитская Я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ладимировна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роверил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репута Е.П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2018 год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«Лузинская СОШ №2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мпрессия текста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2920" y="1600200"/>
            <a:ext cx="53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афически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щас &lt;- сейча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skoko &lt;- skol'ko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сколько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интаксически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тивное использование безглагольных конструкций -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не на такси или на автобусе?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рфологически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ед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ороче, чем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уезжа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вори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ороче, чем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оговори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ловообразовательны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сечение -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униве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бревиация -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едкл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 и др.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ксических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ту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ороче, чем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дес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shop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ороче, чем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агази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sms_logo"/>
          <p:cNvPicPr/>
          <p:nvPr/>
        </p:nvPicPr>
        <p:blipFill>
          <a:blip r:embed="rId1"/>
          <a:stretch/>
        </p:blipFill>
        <p:spPr>
          <a:xfrm>
            <a:off x="6143760" y="3643200"/>
            <a:ext cx="2520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00000" y="1785960"/>
            <a:ext cx="75405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ранслитерация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172c4"/>
                </a:solidFill>
                <a:latin typeface="Times New Roman"/>
              </a:rPr>
              <a:t>(необходимость набирать русские слова латиницей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Ж - zh, Ц - t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c, Щ - sch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др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semu svoe vrem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og teba o4en lubit,i ja tozhe:-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зыковая игр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=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=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=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=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sms-server1"/>
          <p:cNvPicPr/>
          <p:nvPr/>
        </p:nvPicPr>
        <p:blipFill>
          <a:blip r:embed="rId1"/>
          <a:stretch/>
        </p:blipFill>
        <p:spPr>
          <a:xfrm>
            <a:off x="6715080" y="4357800"/>
            <a:ext cx="15764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 Похлопывания 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28800" y="1499760"/>
            <a:ext cx="7037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ивет! Как дела?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Ястреб, ястреб! сокол на связи - как слышно, прием?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окойной ночи! Сноффффф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5" descr="moskva-raspechatka_sms_soobscheniy_detalizaciya_zvonkov_probit_nomer_318"/>
          <p:cNvPicPr/>
          <p:nvPr/>
        </p:nvPicPr>
        <p:blipFill>
          <a:blip r:embed="rId1"/>
          <a:stretch/>
        </p:blipFill>
        <p:spPr>
          <a:xfrm>
            <a:off x="5786280" y="3429000"/>
            <a:ext cx="25196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моц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3920" y="1499760"/>
            <a:ext cx="47149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) - улыбающий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) - подмигивающ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( - грустн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D - смеющий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8" descr="istockphoto_10526111-modern-mobile-phone-send-and-receive-sms-messages"/>
          <p:cNvPicPr/>
          <p:nvPr/>
        </p:nvPicPr>
        <p:blipFill>
          <a:blip r:embed="rId1"/>
          <a:stretch/>
        </p:blipFill>
        <p:spPr>
          <a:xfrm>
            <a:off x="5051520" y="2781360"/>
            <a:ext cx="290808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ходе опро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1500120"/>
            <a:ext cx="58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мс сообщения наиболее популярны среди среднего и старшего звена учащихс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Девочки пишут смс чаще, чем мальчи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мс – сообщения мальчиков чаще носят  информативный характер, девочек – эмоциональны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1272028698_tip-top-sms-4"/>
          <p:cNvPicPr/>
          <p:nvPr/>
        </p:nvPicPr>
        <p:blipFill>
          <a:blip r:embed="rId1"/>
          <a:stretch/>
        </p:blipFill>
        <p:spPr>
          <a:xfrm>
            <a:off x="6357960" y="4071960"/>
            <a:ext cx="20876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ипичные ошиб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28760" y="214272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рфографические ошибки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унктуационные ошиб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амматические ошиб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чевы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огическ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sms"/>
          <p:cNvPicPr/>
          <p:nvPr/>
        </p:nvPicPr>
        <p:blipFill>
          <a:blip r:embed="rId1"/>
          <a:stretch/>
        </p:blipFill>
        <p:spPr>
          <a:xfrm>
            <a:off x="5286240" y="3643200"/>
            <a:ext cx="18288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279080" y="620640"/>
            <a:ext cx="47214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рфографические ошибк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Я через час зас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а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чу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а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икольн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         Усп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коилась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…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омой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п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ора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о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твечаеш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озв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нить                     занима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ешс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ражит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а счет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той см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sms"/>
          <p:cNvPicPr/>
          <p:nvPr/>
        </p:nvPicPr>
        <p:blipFill>
          <a:blip r:embed="rId1"/>
          <a:stretch/>
        </p:blipFill>
        <p:spPr>
          <a:xfrm>
            <a:off x="5286240" y="3643200"/>
            <a:ext cx="18288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28440" y="142560"/>
            <a:ext cx="7643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унктуационные ошиб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14240" y="1071360"/>
            <a:ext cx="7632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сутствие знаков препинания  при обращен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  </a:t>
            </a: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Папа привет как де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Спокойной ночи мам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сутствие знаков препинания между частями сложного предлож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Мне привидения снятся а еще учител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  </a:t>
            </a: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Если честно то и не думал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сутствие знаков препинания  для выделения вводных сл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Короче выходи     Короче я уш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шние знаки препинания в конце предлож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     </a:t>
            </a: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Аууу!!!! ПРИВЕТ!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знака  препинания в конце предложения или заменяемого смайликом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  <a:ea typeface="Times New Roman"/>
              </a:rPr>
              <a:t>Спасибо за поздравления </a:t>
            </a:r>
            <a:r>
              <a:rPr b="0" i="1" lang="ru-RU" sz="1400" spc="-1" strike="noStrike">
                <a:solidFill>
                  <a:srgbClr val="3172c4"/>
                </a:solidFill>
                <a:latin typeface="Wingdings"/>
                <a:ea typeface="Wingdings"/>
              </a:rPr>
              <a:t>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  <a:ea typeface="Times New Roman"/>
              </a:rPr>
              <a:t>Звонка не было </a:t>
            </a:r>
            <a:r>
              <a:rPr b="0" i="1" lang="ru-RU" sz="1400" spc="-1" strike="noStrike">
                <a:solidFill>
                  <a:srgbClr val="3172c4"/>
                </a:solidFill>
                <a:latin typeface="Wingdings"/>
                <a:ea typeface="Wingdings"/>
              </a:rPr>
              <a:t>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sms"/>
          <p:cNvPicPr/>
          <p:nvPr/>
        </p:nvPicPr>
        <p:blipFill>
          <a:blip r:embed="rId1"/>
          <a:stretch/>
        </p:blipFill>
        <p:spPr>
          <a:xfrm>
            <a:off x="5364000" y="4022640"/>
            <a:ext cx="21355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амматические ошиб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55640" y="1413000"/>
            <a:ext cx="7429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Синтаксические:  нарушение границ предложения, в результате чего запись становится  трудночитаемо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Ленка спрашивала что у меня новог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говорит приедет, сказала что т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придешь она сказала: плох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Используется  пропуск слов в предложе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И тебе всякого разнообраз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Буду после 9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ловообразовательн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3172c4"/>
                </a:solidFill>
                <a:latin typeface="Times New Roman"/>
              </a:rPr>
              <a:t>… </a:t>
            </a: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Не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     …</a:t>
            </a: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У тя ч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sms"/>
          <p:cNvPicPr/>
          <p:nvPr/>
        </p:nvPicPr>
        <p:blipFill>
          <a:blip r:embed="rId1"/>
          <a:stretch/>
        </p:blipFill>
        <p:spPr>
          <a:xfrm>
            <a:off x="5286240" y="3643200"/>
            <a:ext cx="18288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086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чев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71640" y="105228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пользование слен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…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нам в л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…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клевого тебе настро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…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у меня все просто супе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Хай детка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пользование слов – паразитов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Клева: У меня все просто супе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Ты где, короче выход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Короче говори че мне дел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sms"/>
          <p:cNvPicPr/>
          <p:nvPr/>
        </p:nvPicPr>
        <p:blipFill>
          <a:blip r:embed="rId1"/>
          <a:stretch/>
        </p:blipFill>
        <p:spPr>
          <a:xfrm>
            <a:off x="5286240" y="3643200"/>
            <a:ext cx="18288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главле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Введ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Основная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Выв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Глоссар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sms"/>
          <p:cNvPicPr/>
          <p:nvPr/>
        </p:nvPicPr>
        <p:blipFill>
          <a:blip r:embed="rId1"/>
          <a:stretch/>
        </p:blipFill>
        <p:spPr>
          <a:xfrm>
            <a:off x="4859280" y="3801960"/>
            <a:ext cx="22813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71680" y="620280"/>
            <a:ext cx="79610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общениях чаще используются односоставные предлож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              </a:t>
            </a: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Встретимся завтра.</a:t>
            </a:r>
            <a:r>
              <a:rPr b="0" lang="ru-RU" sz="1400" spc="-1" strike="noStrike">
                <a:solidFill>
                  <a:srgbClr val="3172c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              </a:t>
            </a: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Завтра дашь перевод</a:t>
            </a:r>
            <a:r>
              <a:rPr b="0" lang="ru-RU" sz="1400" spc="-1" strike="noStrike">
                <a:solidFill>
                  <a:srgbClr val="3172c4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              </a:t>
            </a: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Выйдешь на улиц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огические: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Ты на меня какую мелодию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             </a:t>
            </a: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поставил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4" descr="pc2sms"/>
          <p:cNvPicPr/>
          <p:nvPr/>
        </p:nvPicPr>
        <p:blipFill>
          <a:blip r:embed="rId1"/>
          <a:stretch/>
        </p:blipFill>
        <p:spPr>
          <a:xfrm>
            <a:off x="5572080" y="3643200"/>
            <a:ext cx="28623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обенности стиля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ms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сообщений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71360" y="2000160"/>
            <a:ext cx="33130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Ограничен состав книжных сл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Используется большое количество просторечных и разговорных сл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Авторы используют междометия и частиц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928760" y="20718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     Предложения коротк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.     Сленг становится языковой нормо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.    Богатство интонаций передается  большим количеством знаков препин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.    Часто  употребление смайлов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4" descr="400_F_15893969_U0qHtikxIyIYjIBrCmLQYoMftirrcTQw"/>
          <p:cNvPicPr/>
          <p:nvPr/>
        </p:nvPicPr>
        <p:blipFill>
          <a:blip r:embed="rId1"/>
          <a:stretch/>
        </p:blipFill>
        <p:spPr>
          <a:xfrm>
            <a:off x="1357200" y="4429080"/>
            <a:ext cx="16970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42960" y="1143000"/>
            <a:ext cx="7858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ексты СМС  вписываются в современную социокультурную ситуацию, характерными чертами которой  являются жаргонизация литературного словаря, расшатывание норм языка, снижение общей и словесной культур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Характерные особенности языка см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692280" y="2349360"/>
            <a:ext cx="788976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просторечной и жаргонной лексик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жённое написание слов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численное количество орфографических, пунктуационных и грамматических ошибок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окращени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3.Причины нарушения языковых норм  в СМС-сообщения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сприятие СМС как разновидности устной речи (изобилие просторечий и жаргонов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экономическая сторона вопроса (дети экономят место н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M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-страничках, так как СМС – платная форма общения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принципиальное отношение к ошибкам в СМС-сообщениях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высок уровень  практической орфографической и пунктуационной грамотности учащихс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6516720" y="5100480"/>
            <a:ext cx="1760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3760" y="16347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SMS (англ..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Short Message Servic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— служба коротких сообщений) — система, позволяющая посылать и принимать текстовые сообщения при помощи сотового телефо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</a:rPr>
              <a:t>Транслитера́ция</a:t>
            </a:r>
            <a:r>
              <a:rPr b="0" lang="ru-RU" sz="1400" spc="-1" strike="noStrike">
                <a:solidFill>
                  <a:srgbClr val="333333"/>
                </a:solidFill>
                <a:latin typeface="Arial"/>
              </a:rPr>
              <a:t> — точная передача знаков одной письменности знаками другой письменности, при которой каждый знак (или последовательность знаков) одной системы письма передаётся соответствующим знаком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sms"/>
          <p:cNvPicPr/>
          <p:nvPr/>
        </p:nvPicPr>
        <p:blipFill>
          <a:blip r:embed="rId1"/>
          <a:stretch/>
        </p:blipFill>
        <p:spPr>
          <a:xfrm>
            <a:off x="5508720" y="3943440"/>
            <a:ext cx="2232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0866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276640"/>
            <a:ext cx="712764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СМС-язык превратился из модного течения в новый стиль общения, наличие орфографических ошибок входит в привычку и становится причиной падения грамотност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Для подрастающего поколения разница между нормальным русским языком и СМС-ками скоро может стать незаметно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sms"/>
          <p:cNvPicPr/>
          <p:nvPr/>
        </p:nvPicPr>
        <p:blipFill>
          <a:blip r:embed="rId1"/>
          <a:stretch/>
        </p:blipFill>
        <p:spPr>
          <a:xfrm>
            <a:off x="5286240" y="3643200"/>
            <a:ext cx="18288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857268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 рабо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57160" y="2428920"/>
            <a:ext cx="74296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Изучить явление современной русской SMS(смс)-коммуникации с лингвистической и культурной точки зр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ыяснить, засоряют ли смс-сообщения русский язы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роанализировать следующие особенности смс-сообщений: компрессия текста, транслитерация, языковая игра, позитивная эмоциональная роль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sms"/>
          <p:cNvPicPr/>
          <p:nvPr/>
        </p:nvPicPr>
        <p:blipFill>
          <a:blip r:embed="rId1"/>
          <a:stretch/>
        </p:blipFill>
        <p:spPr>
          <a:xfrm>
            <a:off x="5286240" y="3643200"/>
            <a:ext cx="18288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71680" y="2071800"/>
            <a:ext cx="407808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с-ки -  это не причина неграмот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й молодежи, а зеркало, 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м отражаются многие негатив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произошедшие с культур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го общества за последнее врем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sms"/>
          <p:cNvPicPr/>
          <p:nvPr/>
        </p:nvPicPr>
        <p:blipFill>
          <a:blip r:embed="rId1"/>
          <a:stretch/>
        </p:blipFill>
        <p:spPr>
          <a:xfrm>
            <a:off x="5286240" y="3643200"/>
            <a:ext cx="18288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16000" y="54936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SM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англ.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Short Message Servic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— служба коротких сообщений) — система, позволяющая посылать и принимать текстовые сообщения при помощи сотового телефо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sms"/>
          <p:cNvPicPr/>
          <p:nvPr/>
        </p:nvPicPr>
        <p:blipFill>
          <a:blip r:embed="rId1"/>
          <a:stretch/>
        </p:blipFill>
        <p:spPr>
          <a:xfrm>
            <a:off x="1357200" y="2000160"/>
            <a:ext cx="65725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е коммуникативные задачи СМС: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8000" y="90792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Узнать о местонахождении (и планах) адресат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Ты где?</a:t>
            </a:r>
            <a:r>
              <a:rPr b="0" lang="ru-RU" sz="1400" spc="-1" strike="noStrike">
                <a:solidFill>
                  <a:srgbClr val="3172c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Чего заблокирован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Опять телефон отобрал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Узнать или сообщить о самочувствии и настроении  адресат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4785d1"/>
                </a:solidFill>
                <a:latin typeface="Times New Roman"/>
              </a:rPr>
              <a:t>Аууу!!!! Ты жива?</a:t>
            </a:r>
            <a:r>
              <a:rPr b="0" lang="ru-RU" sz="1400" spc="-1" strike="noStrike">
                <a:solidFill>
                  <a:srgbClr val="4785d1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4785d1"/>
                </a:solidFill>
                <a:latin typeface="Times New Roman"/>
              </a:rPr>
              <a:t>Как прошли выходны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Сообщить о своём местонахожден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Уже до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172c4"/>
                </a:solidFill>
                <a:latin typeface="Times New Roman"/>
              </a:rPr>
              <a:t>В автобус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sms"/>
          <p:cNvPicPr/>
          <p:nvPr/>
        </p:nvPicPr>
        <p:blipFill>
          <a:blip r:embed="rId1"/>
          <a:stretch/>
        </p:blipFill>
        <p:spPr>
          <a:xfrm>
            <a:off x="5292720" y="3968640"/>
            <a:ext cx="26398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71320" y="549360"/>
            <a:ext cx="810396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4.Сообщить о своём самочувствии и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местонохождении (планах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3172c4"/>
                </a:solidFill>
                <a:latin typeface="Times New Roman"/>
              </a:rPr>
              <a:t>Буду после 6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3172c4"/>
                </a:solidFill>
                <a:latin typeface="Times New Roman"/>
              </a:rPr>
              <a:t>Куча дел, настроение не очень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5.Сообщить о мимолетном текущем впечатлении, о чем-то только что сделанном или увиденном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3172c4"/>
                </a:solidFill>
                <a:latin typeface="Times New Roman"/>
              </a:rPr>
              <a:t>Ура! Ура! Исполнилась моя мечта!!!</a:t>
            </a:r>
            <a:r>
              <a:rPr b="0" i="1" lang="en-US" sz="1500" spc="-1" strike="noStrike">
                <a:solidFill>
                  <a:srgbClr val="3172c4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6.Выразить в ответ сочувствие, поощрение, благодарность и т.п.: 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3172c4"/>
                </a:solidFill>
                <a:latin typeface="Times New Roman"/>
              </a:rPr>
              <a:t>Расслабься... ;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3172c4"/>
                </a:solidFill>
                <a:latin typeface="Times New Roman"/>
              </a:rPr>
              <a:t> </a:t>
            </a:r>
            <a:r>
              <a:rPr b="0" i="1" lang="ru-RU" sz="1500" spc="-1" strike="noStrike">
                <a:solidFill>
                  <a:srgbClr val="3172c4"/>
                </a:solidFill>
                <a:latin typeface="Times New Roman"/>
              </a:rPr>
              <a:t>Не парься </a:t>
            </a:r>
            <a:r>
              <a:rPr b="0" i="1" lang="ru-RU" sz="1500" spc="-1" strike="noStrike">
                <a:solidFill>
                  <a:srgbClr val="3172c4"/>
                </a:solidFill>
                <a:latin typeface="Wingdings"/>
                <a:ea typeface="Wingdings"/>
              </a:rPr>
              <a:t></a:t>
            </a:r>
            <a:r>
              <a:rPr b="0" i="1" lang="ru-RU" sz="1500" spc="-1" strike="noStrike">
                <a:solidFill>
                  <a:srgbClr val="3172c4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3172c4"/>
                </a:solidFill>
                <a:latin typeface="Times New Roman"/>
              </a:rPr>
              <a:t>Спасибо </a:t>
            </a:r>
            <a:r>
              <a:rPr b="0" i="1" lang="ru-RU" sz="1500" spc="-1" strike="noStrike" u="sng">
                <a:solidFill>
                  <a:srgbClr val="3172c4"/>
                </a:solidFill>
                <a:uFillTx/>
                <a:latin typeface="Times New Roman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flechas"/>
          <p:cNvPicPr/>
          <p:nvPr/>
        </p:nvPicPr>
        <p:blipFill>
          <a:blip r:embed="rId1"/>
          <a:stretch/>
        </p:blipFill>
        <p:spPr>
          <a:xfrm>
            <a:off x="5429160" y="428760"/>
            <a:ext cx="33051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черты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S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общений как жанр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8880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Краткос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июминутность и частный характер содерж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ильная зависимость от средства передачи информаци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7" descr="sms1"/>
          <p:cNvPicPr/>
          <p:nvPr/>
        </p:nvPicPr>
        <p:blipFill>
          <a:blip r:embed="rId1"/>
          <a:stretch/>
        </p:blipFill>
        <p:spPr>
          <a:xfrm rot="19628400">
            <a:off x="5503680" y="1612800"/>
            <a:ext cx="324000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2:57:23Z</dcterms:created>
  <dc:creator>User</dc:creator>
  <dc:description/>
  <dc:language>en-US</dc:language>
  <cp:lastModifiedBy>Елена</cp:lastModifiedBy>
  <cp:lastPrinted>2018-12-25T16:03:21Z</cp:lastPrinted>
  <dcterms:modified xsi:type="dcterms:W3CDTF">2020-04-07T17:33:47Z</dcterms:modified>
  <cp:revision>57</cp:revision>
  <dc:subject/>
  <dc:title>Научно – практическая конференция « Мы молоды и нам все интересно».    Язык  sms сообщений или мобильный этикет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plications">
    <vt:lpwstr>172;#Office 2000;#-1;#TBD;#-1;#TBD;#-1;#TBD;#-1;#TBD;#-1;#TBD;#-1;#TBD</vt:lpwstr>
  </property>
  <property fmtid="{D5CDD505-2E9C-101B-9397-08002B2CF9AE}" pid="5" name="AssetId">
    <vt:lpwstr>TS001159440</vt:lpwstr>
  </property>
  <property fmtid="{D5CDD505-2E9C-101B-9397-08002B2CF9AE}" pid="6" name="AssetType">
    <vt:lpwstr>TP</vt:lpwstr>
  </property>
  <property fmtid="{D5CDD505-2E9C-101B-9397-08002B2CF9AE}" pid="7" name="AuthoringAssetId">
    <vt:lpwstr>TP001159440</vt:lpwstr>
  </property>
  <property fmtid="{D5CDD505-2E9C-101B-9397-08002B2CF9AE}" pid="8" name="CHMName">
    <vt:lpwstr/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1F9DE411C1B38343BE78B0080F632418</vt:lpwstr>
  </property>
  <property fmtid="{D5CDD505-2E9C-101B-9397-08002B2CF9AE}" pid="11" name="DirectSourceMarket">
    <vt:lpwstr>english</vt:lpwstr>
  </property>
  <property fmtid="{D5CDD505-2E9C-101B-9397-08002B2CF9AE}" pid="12" name="EditorialStatus">
    <vt:lpwstr/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LCID">
    <vt:lpwstr>1049</vt:lpwstr>
  </property>
  <property fmtid="{D5CDD505-2E9C-101B-9397-08002B2CF9AE}" pid="16" name="Markets">
    <vt:lpwstr/>
  </property>
  <property fmtid="{D5CDD505-2E9C-101B-9397-08002B2CF9AE}" pid="17" name="Milestone">
    <vt:lpwstr>Continuous</vt:lpwstr>
  </property>
  <property fmtid="{D5CDD505-2E9C-101B-9397-08002B2CF9AE}" pid="18" name="NumericId">
    <vt:lpwstr>-1.00000000000000</vt:lpwstr>
  </property>
  <property fmtid="{D5CDD505-2E9C-101B-9397-08002B2CF9AE}" pid="19" name="OpenTemplate">
    <vt:lpwstr>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ublishTargets">
    <vt:lpwstr>OfficeOnline</vt:lpwstr>
  </property>
  <property fmtid="{D5CDD505-2E9C-101B-9397-08002B2CF9AE}" pid="24" name="ShowIn">
    <vt:lpwstr>Show everywhere</vt:lpwstr>
  </property>
  <property fmtid="{D5CDD505-2E9C-101B-9397-08002B2CF9AE}" pid="25" name="SourceTitle">
    <vt:lpwstr>School books design template</vt:lpwstr>
  </property>
  <property fmtid="{D5CDD505-2E9C-101B-9397-08002B2CF9AE}" pid="26" name="TPAppVersion">
    <vt:lpwstr>11</vt:lpwstr>
  </property>
  <property fmtid="{D5CDD505-2E9C-101B-9397-08002B2CF9AE}" pid="27" name="TPApplication">
    <vt:lpwstr>PowerPoint</vt:lpwstr>
  </property>
  <property fmtid="{D5CDD505-2E9C-101B-9397-08002B2CF9AE}" pid="28" name="TPCommandLine">
    <vt:lpwstr>{PP} {FilePath}</vt:lpwstr>
  </property>
  <property fmtid="{D5CDD505-2E9C-101B-9397-08002B2CF9AE}" pid="29" name="TPFriendlyName">
    <vt:lpwstr>{Document Themes}</vt:lpwstr>
  </property>
  <property fmtid="{D5CDD505-2E9C-101B-9397-08002B2CF9AE}" pid="30" name="TPInstallLocation">
    <vt:lpwstr>{Document Themes}</vt:lpwstr>
  </property>
  <property fmtid="{D5CDD505-2E9C-101B-9397-08002B2CF9AE}" pid="31" name="TPLaunchHelpLink">
    <vt:lpwstr/>
  </property>
  <property fmtid="{D5CDD505-2E9C-101B-9397-08002B2CF9AE}" pid="32" name="TPLaunchHelpLinkType">
    <vt:lpwstr/>
  </property>
  <property fmtid="{D5CDD505-2E9C-101B-9397-08002B2CF9AE}" pid="33" name="UACurrentWords">
    <vt:lpwstr>0</vt:lpwstr>
  </property>
  <property fmtid="{D5CDD505-2E9C-101B-9397-08002B2CF9AE}" pid="34" name="UALocComments">
    <vt:lpwstr/>
  </property>
  <property fmtid="{D5CDD505-2E9C-101B-9397-08002B2CF9AE}" pid="35" name="UALocRecommendation">
    <vt:lpwstr>Localize</vt:lpwstr>
  </property>
  <property fmtid="{D5CDD505-2E9C-101B-9397-08002B2CF9AE}" pid="36" name="UANotes">
    <vt:lpwstr>Contains image from Hemera. Uses Hemera photos from CAM site which can only be used on Office Online. These templates cannot be distributed in a CD or in the box with any software application.. SEO Pilot 2008</vt:lpwstr>
  </property>
  <property fmtid="{D5CDD505-2E9C-101B-9397-08002B2CF9AE}" pid="37" name="display_urn:schemas-microsoft-com:office:office#APAuthor">
    <vt:lpwstr>REDMOND\cynvey</vt:lpwstr>
  </property>
  <property fmtid="{D5CDD505-2E9C-101B-9397-08002B2CF9AE}" pid="38" name="display_urn:schemas-microsoft-com:office:office#APEditor">
    <vt:lpwstr>REDMOND\v-luannv</vt:lpwstr>
  </property>
</Properties>
</file>