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7AC2-0196-40DE-B76F-A02FA90C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189B-962C-4A60-AC1E-15774CD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DCB3-AB38-41CB-8E52-30859E81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754D-F75A-45FD-AEA7-127009D4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335F-41E4-4F52-9BEE-C1BF898F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610B-E659-46A9-8575-9A15647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C77-04F7-4AAE-A3F1-5A5D867A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AE06-4F2B-4BAC-977B-43F2093E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2B76-CFA6-419F-A241-12798FCE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C133-746C-48E3-9A5F-F5FC4E5E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00B6-1309-44DA-B69B-1BAE94E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373B-DF81-4606-8DC9-79D443C3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153D-35F5-4347-AECE-3AE0AAA2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BA95-19E5-400B-96E2-2E59335D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D1B1-7909-408A-B829-5FA53A43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2EB-EB31-49EE-B847-098FF116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6003-1656-4922-8939-AD8C7722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EEAD-3396-4790-B96E-20FE5865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DF74-A30F-44AB-A988-FC4EB53A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7CEC-50CD-4569-B939-D4694D4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F7AD-A3F2-4441-824A-798D47C6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7858-7A6D-4288-B360-859F31A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E2A6-FB48-4D28-AC7C-BC0D56B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D758-BA8F-4EA8-85D3-A678D4B8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C67B-F86F-4C9F-9C4B-7FE7287E0B2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669E-EC08-44D9-BC2C-093E4E98E54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640720" cy="568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2" descr="http://thelike.ru/_nw/12/87271099.jpg"/>
          <p:cNvPicPr/>
          <p:nvPr/>
        </p:nvPicPr>
        <p:blipFill>
          <a:blip r:embed="rId1"/>
          <a:stretch/>
        </p:blipFill>
        <p:spPr>
          <a:xfrm>
            <a:off x="2484360" y="743040"/>
            <a:ext cx="403236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Tahoma"/>
              </a:rPr>
              <a:t>ВИТЯ НОВИЦ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40000" y="907560"/>
            <a:ext cx="4484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ник 21 школы г.  Новороссийска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я рано осиротел. Родителей он не помнил, воспитывался в семье у дяди. Витя любил свой город и людей, живущих в нем. Фашисты подошли к Новороссийску. Советские воины отстаивали каждый дом, каждую улицу. С ними был и Витя. Вместе с пулеметчиками он засел в башне высокого дома. Отсюда отбивали атаки защитники города. Погибли все, кроме Вити. Немцам удалось ворваться в башню. Мальчика схватили, облили керосином, зажгли и бросили на мостову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17672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Толя Алех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11" descr="picture"/>
          <p:cNvPicPr/>
          <p:nvPr/>
        </p:nvPicPr>
        <p:blipFill>
          <a:blip r:embed="rId1"/>
          <a:srcRect l="20855" t="18906" r="12503" b="18906"/>
          <a:stretch/>
        </p:blipFill>
        <p:spPr>
          <a:xfrm>
            <a:off x="324000" y="1428840"/>
            <a:ext cx="3477960" cy="4530600"/>
          </a:xfrm>
          <a:prstGeom prst="rect">
            <a:avLst/>
          </a:prstGeom>
          <a:ln w="76320">
            <a:solidFill>
              <a:srgbClr val="000000"/>
            </a:solidFill>
            <a:round/>
          </a:ln>
        </p:spPr>
      </p:pic>
      <p:sp>
        <p:nvSpPr>
          <p:cNvPr id="160" name="Прямоугольник 4"/>
          <p:cNvSpPr/>
          <p:nvPr/>
        </p:nvSpPr>
        <p:spPr>
          <a:xfrm>
            <a:off x="4427640" y="1989000"/>
            <a:ext cx="403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ыл радистом в партизанском отря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Ходил в разведку, подрывал железную дорог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бою с врагами пал смертью храбр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Венера Павлен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5" descr="picture"/>
          <p:cNvPicPr/>
          <p:nvPr/>
        </p:nvPicPr>
        <p:blipFill>
          <a:blip r:embed="rId1"/>
          <a:srcRect l="17500" t="17780" r="14167" b="20001"/>
          <a:stretch/>
        </p:blipFill>
        <p:spPr>
          <a:xfrm>
            <a:off x="434880" y="1417680"/>
            <a:ext cx="3548160" cy="4530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63" name="Прямоугольник 4"/>
          <p:cNvSpPr/>
          <p:nvPr/>
        </p:nvSpPr>
        <p:spPr>
          <a:xfrm>
            <a:off x="4284720" y="1700280"/>
            <a:ext cx="417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месте с подругой Кларой Навальневой спасла лётчиков из подбитого фашистами самолёта. Девочек выследили и выдали врагам. Лётчики успели уйти. Девочек схватили и замучили на допрос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748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 героической Малой земле в качеств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вязистов воевали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тя Ковал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ля Ткач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Женя Барабаш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батальоне морск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хоты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тя Чал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ня Савино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се они были удостоены орденов и медалей,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о, к сожалению, не дожили до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беды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еройски пал на поле брани под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Крымской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ня Виноградо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менивший погибшего пулеметчика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50920" y="3516840"/>
            <a:ext cx="88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 оказание помощи партизанам был закопан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живым в станиц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вказской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Федя Токаре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жжен заживо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Шура Белик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ешен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Жора Ероск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далеко от Горячего Ключа расстре-лян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Леня Тараник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Майкопе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Женя Попо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Каменномостском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ля Токаре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Юра Сазонов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Анап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атя Соловьянова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а-ниц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здвиженской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Митя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ав-лик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ля Серги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ся Федор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ля Загладин, Ваня Полухин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МашаСимонова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анице Брюховецкой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ит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Лена Голубятниковы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Краснодар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олодя Головатый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анице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ссов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абинского  района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Леня Литвиненко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Могила Елены и Виталия Голубятниковых , погибших при освобождении станицы Брюховецкой  от немецко-фашистских захватчиков 10 февраля 1943 года.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юсты Елены и Виталия установлены в 1960-х годах на территории средней школы №3 станицы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Picture 3" descr="C:\Users\тоня\Documents\оен.jpg"/>
          <p:cNvPicPr/>
          <p:nvPr/>
        </p:nvPicPr>
        <p:blipFill>
          <a:blip r:embed="rId1"/>
          <a:stretch/>
        </p:blipFill>
        <p:spPr>
          <a:xfrm>
            <a:off x="324000" y="2421000"/>
            <a:ext cx="4427280" cy="3311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Users\тоня\Documents\еек.jpg"/>
          <p:cNvPicPr/>
          <p:nvPr/>
        </p:nvPicPr>
        <p:blipFill>
          <a:blip r:embed="rId2"/>
          <a:stretch/>
        </p:blipFill>
        <p:spPr>
          <a:xfrm>
            <a:off x="5003640" y="3284640"/>
            <a:ext cx="3845160" cy="3176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457200" y="0"/>
            <a:ext cx="800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лава юным героям Кубани, отдавшим жизнь в борьбе с фашизмом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526600" cy="52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3" descr="сын полка"/>
          <p:cNvPicPr/>
          <p:nvPr/>
        </p:nvPicPr>
        <p:blipFill>
          <a:blip r:embed="rId1"/>
          <a:srcRect l="18358" t="0" r="18398" b="0"/>
          <a:stretch/>
        </p:blipFill>
        <p:spPr>
          <a:xfrm>
            <a:off x="214200" y="142920"/>
            <a:ext cx="3930840" cy="35370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31" name="Picture 13" descr="9"/>
          <p:cNvPicPr/>
          <p:nvPr/>
        </p:nvPicPr>
        <p:blipFill>
          <a:blip r:embed="rId2"/>
          <a:stretch/>
        </p:blipFill>
        <p:spPr>
          <a:xfrm>
            <a:off x="4356000" y="115920"/>
            <a:ext cx="4648320" cy="3657600"/>
          </a:xfrm>
          <a:prstGeom prst="rect">
            <a:avLst/>
          </a:prstGeom>
          <a:ln w="381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2" name="Picture 11" descr=""/>
          <p:cNvPicPr/>
          <p:nvPr/>
        </p:nvPicPr>
        <p:blipFill>
          <a:blip r:embed="rId3"/>
          <a:stretch/>
        </p:blipFill>
        <p:spPr>
          <a:xfrm>
            <a:off x="-14400" y="3773520"/>
            <a:ext cx="4586400" cy="3048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3" name="Picture 2" descr="http://ic.pics.livejournal.com/zortonr/45788637/161036/161036_original.jpg"/>
          <p:cNvPicPr/>
          <p:nvPr/>
        </p:nvPicPr>
        <p:blipFill>
          <a:blip r:embed="rId4"/>
          <a:stretch/>
        </p:blipFill>
        <p:spPr>
          <a:xfrm>
            <a:off x="4572000" y="3613320"/>
            <a:ext cx="4572000" cy="32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ВАЛЯ КОТИ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3125880" cy="4537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3132000" y="1042560"/>
            <a:ext cx="601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гда началась война Валя окончил 5 класс. Семья пыталась уйти из Шепетовки, но немцы отрезали пути. Немцы сожгли дом-музей Николая Островского, устроили возле леса лагерь для военнопленных, превратили школу в конюшню. Подпольная организация не давала немцам жить спокойно. Дети помогали взрослым: минировали шоссе, расклеивали листовки. Валя вместе с подпольщиками поджигал нефтебазу, лесосклад, нападал на склад с продовольствие. Валя погиб весной 1944 года. С честью выполнил последнее боевое задание по охране склада с боеприпасами. За мужество, проявленное в партизанских делах Валя Котик награжден медалью «Партизану Отечественной войн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епени». В 1958 г. ему посмертно присвоено звание Героя Советского Сою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2" descr="http://ordenrf.ru/upload/novosty-info/valya-kotik-pioner-geroy.jpg"/>
          <p:cNvPicPr/>
          <p:nvPr/>
        </p:nvPicPr>
        <p:blipFill>
          <a:blip r:embed="rId1"/>
          <a:stretch/>
        </p:blipFill>
        <p:spPr>
          <a:xfrm>
            <a:off x="422280" y="1628640"/>
            <a:ext cx="285732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img.relax.ru/97045/9507606096699674_14524c5c.jpg"/>
          <p:cNvPicPr/>
          <p:nvPr/>
        </p:nvPicPr>
        <p:blipFill>
          <a:blip r:embed="rId2"/>
          <a:stretch/>
        </p:blipFill>
        <p:spPr>
          <a:xfrm>
            <a:off x="3297240" y="1628640"/>
            <a:ext cx="584676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МАРАТ КАЗ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03280" y="981000"/>
            <a:ext cx="5761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ожно бы стал Рафаэл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, может, Колумбом пла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ьчишка в солдатской шин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олных 15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злобные тени фашис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мили собой белый св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кончилось детство мальчи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олных 15 л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шистские танки все бли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, кажется выхода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встал на пути их мальчи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олных 15 л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132360" cy="3816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арат Казей – боец партизанской бригады Герой Советского Союза. Проявил храбрость и отвагу в боях с захватчиками. Однажды Марат выполнял очередное задание, на обратном пути разведчики были окружены фашистами. Когда фашисты подошли совсем близко, Марат поднялся во весь рост и с последней гранатой шагнул навстречу врагу.  Награжден орденом Отечественной войны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степени, медалями «За боевые заслуги», «За отваг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2" descr="http://zateevo.ru/userfiles/image/Deti_geroi/Marat_Kazey/k8.jpg"/>
          <p:cNvPicPr/>
          <p:nvPr/>
        </p:nvPicPr>
        <p:blipFill>
          <a:blip r:embed="rId1"/>
          <a:stretch/>
        </p:blipFill>
        <p:spPr>
          <a:xfrm>
            <a:off x="539640" y="1454040"/>
            <a:ext cx="3400560" cy="4530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fashionbookkids.ru/wp-content/uploads/2015/05/marat-kazej1.jpg"/>
          <p:cNvPicPr/>
          <p:nvPr/>
        </p:nvPicPr>
        <p:blipFill>
          <a:blip r:embed="rId2"/>
          <a:stretch/>
        </p:blipFill>
        <p:spPr>
          <a:xfrm>
            <a:off x="5038560" y="1450800"/>
            <a:ext cx="357192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МУСЯ ПИНКЕНЗО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152880" cy="4048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492360" y="1187280"/>
            <a:ext cx="5651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Великой Отечественной войны Муся со своими родителями эвакуировался из города Бельцы Молдавской ССР на Кубань, в станицу Усть - Лабинскую. Он прекрасно играл на скрипке. Когда в эту станицу пришли фашисты, семья Пинкензон была брошена в тюрьму. Пытки, издевательства, побои не миновали и Мусю. Но все это он перенес стойко. Часто для арестованных Муся играл на скрипке, которую он взял с собой. Семью Муси повели на расстрел. Перед расстрелом немецкий офицер приказал Мусе играть. Он бережно достал свою скрипку и заиграл « Интернационал». Короткой очередью немец убил Мусю, а затем всех остальных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9218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Tahoma"/>
              </a:rPr>
              <a:t>ЛЕНЯ ГОЛИ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472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06:22Z</dcterms:created>
  <dc:creator>Оля</dc:creator>
  <dc:description/>
  <dc:language>en-US</dc:language>
  <cp:lastModifiedBy>User</cp:lastModifiedBy>
  <dcterms:modified xsi:type="dcterms:W3CDTF">2020-04-07T12:31:21Z</dcterms:modified>
  <cp:revision>11</cp:revision>
  <dc:subject/>
  <dc:title>Подготовила ученица   6 класса «Г»</dc:title>
</cp:coreProperties>
</file>