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83953-4DAB-48FA-9C9B-C9187173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D23ED-30EC-437E-BF7A-C500F3A3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FAA37-5470-48B0-AF5E-C75626C6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ABFC6-ACC1-4E33-AFF7-49880322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92CC-757D-4E65-B513-EDCB9936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BA7E-7C79-4196-96C7-BC8CED7F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ED38-916C-46E4-B7CC-B2B831BC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941F-93B4-4976-9154-D708F742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7517-C0CF-45FE-9F74-7E443BF1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4B7C-B2FA-486C-AAB9-83CC0ED7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D89E-2831-418A-9175-1607A7BA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BA893-5667-47AF-BF0A-C918F86C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E0D4-1EAB-4430-9B63-66CC59B4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EFF4-96DC-4E6C-B411-DD0A032C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E9BF-ACD6-43C4-B039-EC500817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C202-D602-46A0-A7A5-20DE5E52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211A-6AF0-4507-870D-527B1E91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02A50-6712-42B7-8BAB-DDB85FC5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B1A0B-CB23-47BF-8B34-F43DA667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55A49-A857-41C5-93F4-AC353A4E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DB9EA-2AE5-4DD7-AB29-18D6CD03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ACCF3-088D-49D9-932E-95DB4DB7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EE5C9-6601-4D55-ACBC-D467B676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C02A3-207B-4B5D-AB92-4AF7DC79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6026-04F7-4BAB-85D3-D93883D891A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83B2-F1BB-4FC7-863D-DF04917A84B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640720" cy="568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2" descr="http://thelike.ru/_nw/12/87271099.jpg"/>
          <p:cNvPicPr/>
          <p:nvPr/>
        </p:nvPicPr>
        <p:blipFill>
          <a:blip r:embed="rId1"/>
          <a:stretch/>
        </p:blipFill>
        <p:spPr>
          <a:xfrm>
            <a:off x="2484360" y="743040"/>
            <a:ext cx="4032360" cy="524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cc"/>
                </a:solidFill>
                <a:latin typeface="Tahoma"/>
              </a:rPr>
              <a:t>ВИТЯ НОВИЦК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40000" y="907560"/>
            <a:ext cx="4484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еник 21 школы г.  Новороссийска.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тя рано осиротел. Родителей он не помнил, воспитывался в семье у дяди. Витя любил свой город и людей, живущих в нем. Фашисты подошли к Новороссийску. Советские воины отстаивали каждый дом, каждую улицу. С ними был и Витя. Вместе с пулеметчиками он засел в башне высокого дома. Отсюда отбивали атаки защитники города. Погибли все, кроме Вити. Немцам удалось ворваться в башню. Мальчика схватили, облили керосином, зажгли и бросили на мостовую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108000" y="1268280"/>
            <a:ext cx="4176720" cy="39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Толя Алех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9" name="Picture 11" descr="picture"/>
          <p:cNvPicPr/>
          <p:nvPr/>
        </p:nvPicPr>
        <p:blipFill>
          <a:blip r:embed="rId1"/>
          <a:srcRect l="20855" t="18906" r="12503" b="18906"/>
          <a:stretch/>
        </p:blipFill>
        <p:spPr>
          <a:xfrm>
            <a:off x="324000" y="1428840"/>
            <a:ext cx="3477960" cy="4530600"/>
          </a:xfrm>
          <a:prstGeom prst="rect">
            <a:avLst/>
          </a:prstGeom>
          <a:ln w="76320">
            <a:solidFill>
              <a:srgbClr val="000000"/>
            </a:solidFill>
            <a:round/>
          </a:ln>
        </p:spPr>
      </p:pic>
      <p:sp>
        <p:nvSpPr>
          <p:cNvPr id="160" name="Прямоугольник 4"/>
          <p:cNvSpPr/>
          <p:nvPr/>
        </p:nvSpPr>
        <p:spPr>
          <a:xfrm>
            <a:off x="4427640" y="1989000"/>
            <a:ext cx="403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ыл радистом в партизанском отряд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Ходил в разведку, подрывал железную дорог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 бою с врагами пал смертью храбр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Венера Павленк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2" name="Picture 5" descr="picture"/>
          <p:cNvPicPr/>
          <p:nvPr/>
        </p:nvPicPr>
        <p:blipFill>
          <a:blip r:embed="rId1"/>
          <a:srcRect l="17500" t="17780" r="14167" b="20001"/>
          <a:stretch/>
        </p:blipFill>
        <p:spPr>
          <a:xfrm>
            <a:off x="434880" y="1417680"/>
            <a:ext cx="3548160" cy="4530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63" name="Прямоугольник 4"/>
          <p:cNvSpPr/>
          <p:nvPr/>
        </p:nvSpPr>
        <p:spPr>
          <a:xfrm>
            <a:off x="4284720" y="1700280"/>
            <a:ext cx="4174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месте с подругой Кларой Навальневой спасла лётчиков из подбитого фашистами самолёта. Девочек выследили и выдали врагам. Лётчики успели уйти. Девочек схватили и замучили на допрос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260280"/>
            <a:ext cx="8748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а героической Малой земле в качестве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вязистов воевали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итя Коваленко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,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Коля Ткач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Женя Барабаш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батальоне морской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ехоты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итя Чаленко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аня Савинов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се они были удостоены орденов и медалей,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о, к сожалению, не дожили до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обеды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еройски пал на поле брани под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Крымской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аня Виноградов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аменивший погибшего пулеметчика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250920" y="3516840"/>
            <a:ext cx="8893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а оказание помощи партизанам был закопан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живым в станице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авказской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Федя Токарев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жжен заживо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Шура Белик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вешен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Жора Ероск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далеко от Горячего Ключа расстре-лян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Леня Тараник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Майкопе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Женя Попов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Каменномостском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Коля Токарев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Юра Сазонов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Анапе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Катя Соловьянова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ста-нице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здвиженской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Митя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Пав-лик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Коля Сергиенко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ася Федоренко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Коля Загладин, Ваня Полухин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МашаСимонова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станице Брюховецкой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итя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Лена Голубятниковы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Краснодаре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олодя Головатый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станице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ассовской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абинского  района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Леня Литвиненко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Могила Елены и Виталия Голубятниковых , погибших при освобождении станицы Брюховецкой  от немецко-фашистских захватчиков 10 февраля 1943 года.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Бюсты Елены и Виталия установлены в 1960-х годах на территории средней школы №3 станицы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4" name="Picture 3" descr="C:\Users\тоня\Documents\оен.jpg"/>
          <p:cNvPicPr/>
          <p:nvPr/>
        </p:nvPicPr>
        <p:blipFill>
          <a:blip r:embed="rId1"/>
          <a:stretch/>
        </p:blipFill>
        <p:spPr>
          <a:xfrm>
            <a:off x="324000" y="2421000"/>
            <a:ext cx="4427280" cy="3311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C:\Users\тоня\Documents\еек.jpg"/>
          <p:cNvPicPr/>
          <p:nvPr/>
        </p:nvPicPr>
        <p:blipFill>
          <a:blip r:embed="rId2"/>
          <a:stretch/>
        </p:blipFill>
        <p:spPr>
          <a:xfrm>
            <a:off x="5003640" y="3284640"/>
            <a:ext cx="3845160" cy="3176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457200" y="0"/>
            <a:ext cx="8002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лава юным героям Кубани, отдавшим жизнь в борьбе с фашизмом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457200" y="1125360"/>
            <a:ext cx="8526600" cy="52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Picture 3" descr="сын полка"/>
          <p:cNvPicPr/>
          <p:nvPr/>
        </p:nvPicPr>
        <p:blipFill>
          <a:blip r:embed="rId1"/>
          <a:srcRect l="18358" t="0" r="18398" b="0"/>
          <a:stretch/>
        </p:blipFill>
        <p:spPr>
          <a:xfrm>
            <a:off x="214200" y="142920"/>
            <a:ext cx="3930840" cy="35370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131" name="Picture 13" descr="9"/>
          <p:cNvPicPr/>
          <p:nvPr/>
        </p:nvPicPr>
        <p:blipFill>
          <a:blip r:embed="rId2"/>
          <a:stretch/>
        </p:blipFill>
        <p:spPr>
          <a:xfrm>
            <a:off x="4356000" y="115920"/>
            <a:ext cx="4648320" cy="365760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2" name="Picture 11" descr=""/>
          <p:cNvPicPr/>
          <p:nvPr/>
        </p:nvPicPr>
        <p:blipFill>
          <a:blip r:embed="rId3"/>
          <a:stretch/>
        </p:blipFill>
        <p:spPr>
          <a:xfrm>
            <a:off x="-14400" y="3773520"/>
            <a:ext cx="4586400" cy="3048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33" name="Picture 2" descr="http://ic.pics.livejournal.com/zortonr/45788637/161036/161036_original.jpg"/>
          <p:cNvPicPr/>
          <p:nvPr/>
        </p:nvPicPr>
        <p:blipFill>
          <a:blip r:embed="rId4"/>
          <a:stretch/>
        </p:blipFill>
        <p:spPr>
          <a:xfrm>
            <a:off x="4572000" y="3613320"/>
            <a:ext cx="4572000" cy="322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00"/>
                </a:solidFill>
                <a:latin typeface="Tahoma"/>
              </a:rPr>
              <a:t>ВАЛЯ КОТИК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1628640"/>
            <a:ext cx="3125880" cy="4537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3132000" y="1042560"/>
            <a:ext cx="6012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гда началась война Валя окончил 5 класс. Семья пыталась уйти из Шепетовки, но немцы отрезали пути. Немцы сожгли дом-музей Николая Островского, устроили возле леса лагерь для военнопленных, превратили школу в конюшню. Подпольная организация не давала немцам жить спокойно. Дети помогали взрослым: минировали шоссе, расклеивали листовки. Валя вместе с подпольщиками поджигал нефтебазу, лесосклад, нападал на склад с продовольствие. Валя погиб весной 1944 года. С честью выполнил последнее боевое задание по охране склада с боеприпасами. За мужество, проявленное в партизанских делах Валя Котик награжден медалью «Партизану Отечественной войны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тепени». В 1958 г. ему посмертно присвоено звание Героя Советского Союз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5000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Picture 2" descr="http://ordenrf.ru/upload/novosty-info/valya-kotik-pioner-geroy.jpg"/>
          <p:cNvPicPr/>
          <p:nvPr/>
        </p:nvPicPr>
        <p:blipFill>
          <a:blip r:embed="rId1"/>
          <a:stretch/>
        </p:blipFill>
        <p:spPr>
          <a:xfrm>
            <a:off x="422280" y="1628640"/>
            <a:ext cx="2857320" cy="4143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http://img.relax.ru/97045/9507606096699674_14524c5c.jpg"/>
          <p:cNvPicPr/>
          <p:nvPr/>
        </p:nvPicPr>
        <p:blipFill>
          <a:blip r:embed="rId2"/>
          <a:stretch/>
        </p:blipFill>
        <p:spPr>
          <a:xfrm>
            <a:off x="3297240" y="1628640"/>
            <a:ext cx="5846760" cy="41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00"/>
                </a:solidFill>
                <a:latin typeface="Tahoma"/>
              </a:rPr>
              <a:t>МАРАТ КАЗЕ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03280" y="981000"/>
            <a:ext cx="5761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1568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можно бы стал Рафаэл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, может, Колумбом план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льчишка в солдатской шине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полных 15 л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 злобные тени фашис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тмили собой белый све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кончилось детство мальчиш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полных 15 ле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ашистские танки все ближ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, кажется выхода н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встал на пути их мальчи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полных 15 л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132360" cy="3816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арат Казей – боец партизанской бригады Герой Советского Союза. Проявил храбрость и отвагу в боях с захватчиками. Однажды Марат выполнял очередное задание, на обратном пути разведчики были окружены фашистами. Когда фашисты подошли совсем близко, Марат поднялся во весь рост и с последней гранатой шагнул навстречу врагу.  Награжден орденом Отечественной войны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степени, медалями «За боевые заслуги», «За отвагу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5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Picture 2" descr="http://zateevo.ru/userfiles/image/Deti_geroi/Marat_Kazey/k8.jpg"/>
          <p:cNvPicPr/>
          <p:nvPr/>
        </p:nvPicPr>
        <p:blipFill>
          <a:blip r:embed="rId1"/>
          <a:stretch/>
        </p:blipFill>
        <p:spPr>
          <a:xfrm>
            <a:off x="539640" y="1454040"/>
            <a:ext cx="3400560" cy="4530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http://fashionbookkids.ru/wp-content/uploads/2015/05/marat-kazej1.jpg"/>
          <p:cNvPicPr/>
          <p:nvPr/>
        </p:nvPicPr>
        <p:blipFill>
          <a:blip r:embed="rId2"/>
          <a:stretch/>
        </p:blipFill>
        <p:spPr>
          <a:xfrm>
            <a:off x="5038560" y="1450800"/>
            <a:ext cx="3571920" cy="44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00"/>
                </a:solidFill>
                <a:latin typeface="Tahoma"/>
              </a:rPr>
              <a:t>МУСЯ ПИНКЕНЗО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152880" cy="4048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3492360" y="1187280"/>
            <a:ext cx="5651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ачале Великой Отечественной войны Муся со своими родителями эвакуировался из города Бельцы Молдавской ССР на Кубань, в станицу Усть - Лабинскую. Он прекрасно играл на скрипке. Когда в эту станицу пришли фашисты, семья Пинкензон была брошена в тюрьму. Пытки, издевательства, побои не миновали и Мусю. Но все это он перенес стойко. Часто для арестованных Муся играл на скрипке, которую он взял с собой. Семью Муси повели на расстрел. Перед расстрелом немецкий офицер приказал Мусе играть. Он бережно достал свою скрипку и заиграл « Интернационал». Короткой очередью немец убил Мусю, а затем всех остальных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5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9218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00"/>
                </a:solidFill>
                <a:latin typeface="Tahoma"/>
              </a:rPr>
              <a:t>ЛЕНЯ ГОЛИКОВ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569080" cy="5472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3:06:22Z</dcterms:created>
  <dc:creator>Оля</dc:creator>
  <dc:description/>
  <dc:language>en-US</dc:language>
  <cp:lastModifiedBy>User</cp:lastModifiedBy>
  <dcterms:modified xsi:type="dcterms:W3CDTF">2020-04-07T12:31:21Z</dcterms:modified>
  <cp:revision>11</cp:revision>
  <dc:subject/>
  <dc:title>Подготовила ученица   6 класса «Г»</dc:title>
</cp:coreProperties>
</file>