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744-C013-4D54-834B-70FDECD1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677-1A3A-4115-92E6-E5C4CF22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9D4-6158-464F-8466-EE1463C1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5B2-BD5B-466D-9934-6C855C01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AD37-7C4F-48BA-A362-7BB9972A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144F-561D-4696-8834-B728558D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8364-413B-4BE5-8028-69FD3A23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B735-5AAA-4F85-80FB-B5560C14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F3C6-EC5A-4D49-BD54-105BDC1B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9320" y="274680"/>
            <a:ext cx="103629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3984-6ED8-4D00-9196-F5AF32E0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01D1-2679-486F-8EF6-7E3B067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E0F-14C5-489A-B4FC-7329B210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AC55-B204-4904-BC63-4124473D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0532-FE93-438F-8843-3E82E1E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C3BC-622B-4B68-BC52-573A3F4F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1FD0-11C2-4396-AC09-81A210C2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8948-16E7-45F9-97F4-B91DE1CE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1584-5A52-4CF6-A0C8-D2B559A2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BAAB-1891-441A-9AA7-FCA4F6F9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97B9-C2DC-4A25-96D7-9798E7B7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B730-6D66-45DF-8546-4A5881C2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0680-2A28-4190-9929-9308190E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182-7474-416C-9F28-03C58CAE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19320" y="274680"/>
            <a:ext cx="103629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09ED7-BF46-4271-BA59-A090F5A4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59BC-B015-4CE8-9387-64ADAF8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366C-AA7E-47B4-ACD6-91630D9C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2BEC-3518-4DD9-8C6A-E7AE322D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E09A-145E-4E99-98B0-3AF040BF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52564-44A2-4472-A6F0-D1F9F3DF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C7E8-67FF-45C4-AB7E-A8628097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B48-659F-4FB2-B3A4-188B85A5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D39-E339-42FB-B949-F50929D6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274680"/>
            <a:ext cx="103629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AEA-99D7-449D-80D1-DEACC23C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AA8-A0F2-48EE-984A-3D4F70D2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CD1-0F7C-4AD2-A461-12A65C41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9B1-5A7C-4962-B362-2E77114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Скругленный прямоугольник 7" hidden="1"/>
          <p:cNvSpPr/>
          <p:nvPr/>
        </p:nvSpPr>
        <p:spPr>
          <a:xfrm>
            <a:off x="85320" y="69840"/>
            <a:ext cx="1201752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Прямоугольник 1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Скругленный прямоугольник 12"/>
          <p:cNvSpPr/>
          <p:nvPr/>
        </p:nvSpPr>
        <p:spPr>
          <a:xfrm>
            <a:off x="87120" y="69840"/>
            <a:ext cx="1201752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8229600" y="6191280"/>
            <a:ext cx="330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1219320" y="6172200"/>
            <a:ext cx="528300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95120" y="6210360"/>
            <a:ext cx="60912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23660EA-6467-4C86-A659-08F004CABA1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6"/>
          <p:cNvSpPr/>
          <p:nvPr/>
        </p:nvSpPr>
        <p:spPr>
          <a:xfrm>
            <a:off x="83880" y="1449360"/>
            <a:ext cx="1202832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Прямоугольник 9"/>
          <p:cNvSpPr/>
          <p:nvPr/>
        </p:nvSpPr>
        <p:spPr>
          <a:xfrm>
            <a:off x="83880" y="1396800"/>
            <a:ext cx="1202832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Прямоугольник 10"/>
          <p:cNvSpPr/>
          <p:nvPr/>
        </p:nvSpPr>
        <p:spPr>
          <a:xfrm>
            <a:off x="83880" y="2976480"/>
            <a:ext cx="1202832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09480" y="1505880"/>
            <a:ext cx="109724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Скругленный прямоугольник 7"/>
          <p:cNvSpPr/>
          <p:nvPr/>
        </p:nvSpPr>
        <p:spPr>
          <a:xfrm>
            <a:off x="85320" y="69840"/>
            <a:ext cx="1201752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e5b6f"/>
                </a:solidFill>
                <a:latin typeface="Franklin Gothic Book"/>
              </a:rPr>
              <a:t>Образец заголовка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8229600" y="6191280"/>
            <a:ext cx="330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219320" y="6172200"/>
            <a:ext cx="528300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95120" y="6210360"/>
            <a:ext cx="60912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6305415-2802-45A5-9727-69D9AC22694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1219320" y="1447920"/>
            <a:ext cx="103629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7fd13b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Образец текст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ea157a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c0e4af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feb80a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feb80a"/>
              </a:buClr>
              <a:buFont typeface="StarSymbol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92" name="Скругленный прямоугольник 7"/>
          <p:cNvSpPr/>
          <p:nvPr/>
        </p:nvSpPr>
        <p:spPr>
          <a:xfrm>
            <a:off x="85320" y="69840"/>
            <a:ext cx="1201752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e5b6f"/>
                </a:solidFill>
                <a:latin typeface="Franklin Gothic Book"/>
              </a:rPr>
              <a:t>Образец заголовка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8229600" y="6191280"/>
            <a:ext cx="330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1219320" y="6172200"/>
            <a:ext cx="528300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195120" y="6210360"/>
            <a:ext cx="60912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CE0729-7CDC-44E4-BC13-68E6DEAFD5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968000" y="4714920"/>
            <a:ext cx="6815160" cy="14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ru-RU" sz="2600" spc="-1" strike="noStrike">
                <a:solidFill>
                  <a:srgbClr val="4e5b6f"/>
                </a:solidFill>
                <a:latin typeface="Perpetua"/>
              </a:rPr>
              <a:t>Выполнила воспитатель ГКОУ КК специальной (коррекционной) школы-интерната ст-цы Шкуринской Котова Е.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136680" y="1231200"/>
            <a:ext cx="658008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Здоровье планеты в наших руках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6" name="Picture 2" descr="http://ufavesti.ru/uploads/2016/06/dreamstime_m_38622929.jpg"/>
          <p:cNvPicPr/>
          <p:nvPr/>
        </p:nvPicPr>
        <p:blipFill>
          <a:blip r:embed="rId1"/>
          <a:stretch/>
        </p:blipFill>
        <p:spPr>
          <a:xfrm>
            <a:off x="982080" y="3796200"/>
            <a:ext cx="40820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s://s1.1zoom.ru/b5050/802/Forests_Summer_Rays_of_498072_2560x1440.jpg"/>
          <p:cNvPicPr/>
          <p:nvPr/>
        </p:nvPicPr>
        <p:blipFill>
          <a:blip r:embed="rId1"/>
          <a:stretch/>
        </p:blipFill>
        <p:spPr>
          <a:xfrm>
            <a:off x="1581120" y="862920"/>
            <a:ext cx="9112320" cy="51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saby-rt.ru/images/uploads/news/2017/10/12/0d96c48ad8418fe91a908edeef75e89a_XL.jpg"/>
          <p:cNvPicPr/>
          <p:nvPr/>
        </p:nvPicPr>
        <p:blipFill>
          <a:blip r:embed="rId1"/>
          <a:stretch/>
        </p:blipFill>
        <p:spPr>
          <a:xfrm>
            <a:off x="2511360" y="835200"/>
            <a:ext cx="7306200" cy="517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img3.stockfresh.com/files/l/lenm/m/84/3242537_stock-photo-crying-earth-due-to-pollution.jpg"/>
          <p:cNvPicPr/>
          <p:nvPr/>
        </p:nvPicPr>
        <p:blipFill>
          <a:blip r:embed="rId1"/>
          <a:stretch/>
        </p:blipFill>
        <p:spPr>
          <a:xfrm>
            <a:off x="6759000" y="907200"/>
            <a:ext cx="4355280" cy="5094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4"/>
          <p:cNvSpPr/>
          <p:nvPr/>
        </p:nvSpPr>
        <p:spPr>
          <a:xfrm>
            <a:off x="930600" y="1596960"/>
            <a:ext cx="6095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рода терпелива. Она многое прощает человеку, но и просит помощ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38280" cy="14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4e5b6f"/>
                </a:solidFill>
                <a:latin typeface="Times New Roman"/>
              </a:rPr>
              <a:t>Будем помнить каждый день, что здоровье нашей планеты в наших руках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57" name="Picture 2" descr="https://i0.wp.com/www.ulmhawkeyeonline.com/wp-content/uploads/2011/02/green-energy.jpg"/>
          <p:cNvPicPr/>
          <p:nvPr/>
        </p:nvPicPr>
        <p:blipFill>
          <a:blip r:embed="rId1"/>
          <a:stretch/>
        </p:blipFill>
        <p:spPr>
          <a:xfrm>
            <a:off x="3074760" y="1447920"/>
            <a:ext cx="665208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e5b6f"/>
                </a:solidFill>
                <a:latin typeface="Franklin Gothic Book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22560" y="814680"/>
            <a:ext cx="468000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e5b6f"/>
                </a:solidFill>
                <a:latin typeface="Times New Roman"/>
              </a:rPr>
              <a:t>Внимательно послушайте сказку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8" name="Picture 2" descr="https://kalinkina-ramdou61.edumsko.ru/uploads/9000/31309/persona/folders/0_9bddb_b2ff7832_XL.jpg?1497469903710"/>
          <p:cNvPicPr/>
          <p:nvPr/>
        </p:nvPicPr>
        <p:blipFill>
          <a:blip r:embed="rId1"/>
          <a:stretch/>
        </p:blipFill>
        <p:spPr>
          <a:xfrm>
            <a:off x="3922560" y="1893240"/>
            <a:ext cx="4288320" cy="42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82332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4e5b6f"/>
                </a:solidFill>
                <a:latin typeface="Times New Roman"/>
              </a:rPr>
              <a:t>Экология- наука об отношениях растительных и животных организмов друг к другу и к окружающей их среде. </a:t>
            </a:r>
            <a:br>
              <a:rPr sz="2400"/>
            </a:br>
            <a:r>
              <a:rPr b="0" i="1" lang="ru-RU" sz="2400" spc="-1" strike="noStrike">
                <a:solidFill>
                  <a:srgbClr val="4e5b6f"/>
                </a:solidFill>
                <a:latin typeface="Times New Roman"/>
              </a:rPr>
              <a:t>(из </a:t>
            </a:r>
            <a:r>
              <a:rPr b="0" lang="ru-RU" sz="2400" spc="-1" strike="noStrike">
                <a:solidFill>
                  <a:srgbClr val="4e5b6f"/>
                </a:solidFill>
                <a:latin typeface="Franklin Gothic Book"/>
              </a:rPr>
              <a:t>словаря Ожегова С.И.</a:t>
            </a:r>
            <a:r>
              <a:rPr b="0" i="1" lang="ru-RU" sz="2400" spc="-1" strike="noStrike">
                <a:solidFill>
                  <a:srgbClr val="4e5b6f"/>
                </a:solidFill>
                <a:latin typeface="Times New Roman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0" name="Picture 2" descr="http://kamchatkairo.ru/images/000_%D0%97%D0%90%D0%A1%D0%A2%D0%90%D0%92%D0%9A%D0%98/%D0%AD%D0%BA%D0%BE%D0%BB%D0%BE%D0%B3%D0%B8%D1%8F.jpeg"/>
          <p:cNvPicPr/>
          <p:nvPr/>
        </p:nvPicPr>
        <p:blipFill>
          <a:blip r:embed="rId1"/>
          <a:stretch/>
        </p:blipFill>
        <p:spPr>
          <a:xfrm>
            <a:off x="2769120" y="1998360"/>
            <a:ext cx="624600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" l="-25098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" l="-25098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" l="-25098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4e5b6f"/>
                </a:solidFill>
                <a:latin typeface="Times New Roman"/>
              </a:rPr>
              <a:t>Отгадайте загадку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 и туча, и туман,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 ручей и океан,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 летаю и бегу,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стеклянной быть могу. 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s://look.com.ua/pic/201306/1680x1050/look.com.ua-70119.jpg"/>
          <p:cNvPicPr/>
          <p:nvPr/>
        </p:nvPicPr>
        <p:blipFill>
          <a:blip r:embed="rId1"/>
          <a:stretch/>
        </p:blipFill>
        <p:spPr>
          <a:xfrm>
            <a:off x="2082600" y="809640"/>
            <a:ext cx="83617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0080" y="90180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6" name="Picture 2" descr="https://im0-tub-ru.yandex.net/i?id=5c56d455d67eb410f0893f196c0ba7dd-l&amp;n=13"/>
          <p:cNvPicPr/>
          <p:nvPr/>
        </p:nvPicPr>
        <p:blipFill>
          <a:blip r:embed="rId1"/>
          <a:stretch/>
        </p:blipFill>
        <p:spPr>
          <a:xfrm>
            <a:off x="1064520" y="519120"/>
            <a:ext cx="1016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e5b6f"/>
                </a:solidFill>
                <a:latin typeface="Times New Roman"/>
              </a:rPr>
              <a:t>Отгадайте загадку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ы его не замечаем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ы о нём не говорим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сто мы его вдыхаем –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н ведь нам необходим…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s://opt-929706.ssl.1c-bitrix-cdn.ru/upload/iblock/655/655cdafb8e86fc9f9f2be58a888ea9ea.jpg?1512083524117310"/>
          <p:cNvPicPr/>
          <p:nvPr/>
        </p:nvPicPr>
        <p:blipFill>
          <a:blip r:embed="rId1"/>
          <a:stretch/>
        </p:blipFill>
        <p:spPr>
          <a:xfrm>
            <a:off x="3271320" y="806760"/>
            <a:ext cx="5769360" cy="52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103629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e5b6f"/>
                </a:solidFill>
                <a:latin typeface="Times New Roman"/>
              </a:rPr>
              <a:t>Отгадайте загадку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103629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ышит, растёт,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 ходить не может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праведливость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праведливость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праведливость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38</TotalTime>
  <Application>LibreOffice/7.4.7.2$Linux_X86_64 LibreOffice_project/40$Build-2</Application>
  <AppVersion>15.0000</AppVersion>
  <Words>91</Words>
  <Paragraphs>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8T17:59:16Z</dcterms:created>
  <dc:creator>ПК</dc:creator>
  <dc:description/>
  <dc:language>en-US</dc:language>
  <cp:lastModifiedBy>Елена</cp:lastModifiedBy>
  <dcterms:modified xsi:type="dcterms:W3CDTF">2020-04-06T23:14:51Z</dcterms:modified>
  <cp:revision>6</cp:revision>
  <dc:subject/>
  <dc:title>Конспект урока  «Здоровье планеты в наших руках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429605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1</vt:lpwstr>
  </property>
  <property fmtid="{D5CDD505-2E9C-101B-9397-08002B2CF9AE}" pid="5" name="PresentationFormat">
    <vt:lpwstr>Произвольный</vt:lpwstr>
  </property>
  <property fmtid="{D5CDD505-2E9C-101B-9397-08002B2CF9AE}" pid="6" name="Slides">
    <vt:r8>14</vt:r8>
  </property>
</Properties>
</file>