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4F2D-DD7A-4242-9F61-8C03127A9D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7D7A-3ABF-4F7F-9AF0-432CA20B0B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F23-22B6-4698-9070-67427DE9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162E-1A33-4776-939E-D0D70CEC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48DF-92E6-4CA3-B175-249C9986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B26-AD1F-4784-B50E-B4FD475E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2D76-F0E2-4D6A-B35E-62451EFF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416A-DA7E-41CE-9B92-6A14468D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07B2-4967-4D74-B0A7-259C3C02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DE5D-EDEB-46AA-AFD4-07802F41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31AA-422A-4CAA-B2B2-06682A7F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C145-6834-41C9-B1EF-0318979C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5441-4A75-4C32-A589-0D2EF7DE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FB58-0648-4351-A367-08161953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45E0-3BAE-4572-B603-EA79CAB2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ED59-9F16-4363-BCF4-316D9142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CF64-523B-4ED9-AD5B-70E97FFD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50D7-15B9-4E74-840D-93456FAE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CB3B-AF63-4896-A6A1-DBCD60A2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C2C99-2514-421F-9467-4A0D23EB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6E1A9-EA87-4189-BCA7-932CDA8C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3ABCA-37E3-4C3A-AA82-5CC6C344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3169D-A6FC-4BFF-8C38-30BB9BFB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31489-937E-4E8B-8522-07AAADB8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27E-BDED-407D-9ECE-12F226E6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30BE4-B5B2-4BAF-978C-0870EEB9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01A5F-C332-4BAE-8E54-32E173DD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68FAB-3CCD-4511-A4E3-89D5A5B0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501FB-3F2B-47DF-9C3E-611BEAB7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2E8B0-8E93-42FA-AE93-C68CC979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F860C-31AE-4188-8C95-6B38006E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0273D-991D-4383-AD6C-C4AA8174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55E47-B5BE-413F-807D-18BF9274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AF37F-0C87-4EB3-9ACF-84D3F7B8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242E0-F030-4888-9BB8-55429765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C08-0BF2-47FC-BE74-379A7C6C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74AEA-746D-4018-AC81-B664F302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DC424-C283-45CD-B10C-25694C50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CD71B-8AF8-4037-9DFA-D83E7D65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8E58D-67F7-4384-918C-DC9F33F1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01936-DAC7-48BA-B27E-7FCBEE87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DBF2C-2C8A-4EF2-B3CB-D85020AC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AA547-7B6F-42E7-93D6-BBAB90E6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52689-5FA6-44BF-A548-3EEDE4B9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1D5A5-F40A-4B98-8981-0F008979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2C794-1F8D-4154-B35E-2D07D4D8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56C-D0B5-4D23-8462-77D44037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1EDC5-D306-43A3-A552-8004C917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5195C-55EF-4C9B-88D7-68B107BF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D8082-6A08-414C-B92B-A2F9B642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90F8A-6476-47EA-8CD5-9D6330AC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98A29-EA4B-4650-9A6A-5D5E61B8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94920-A008-49B8-8DD9-E4443D98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45BB2-9DEC-481D-A2F0-24260F39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CD398-75A7-4233-B2BD-F3E6EDE2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D1BAD-0177-4B99-AC82-1922531E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BA08B-5F44-42F2-A864-3E061EF4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F40B-7B36-4F62-86D9-B01C0E89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E3A1B-749F-4922-8E24-9B885FE8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9D79D-BE51-4481-B820-9353B226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BB1C9-E23D-4C32-8E8D-6F945BB5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04001-16DF-43FE-9CB6-7B5D7DA0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9BED9-BA1A-4876-B8D2-961D4CAD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A34FD-EBE6-4EB3-9ED4-E6B93F8B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5179F-A413-4B28-91B2-2558B315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76773-8325-4186-92A4-DFD973AB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06147-FDE0-4BCB-A3BF-0AF4C46C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FACF9-0507-4824-AE84-BEC16C0D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90FF-697A-40BC-8848-75E8F245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216F9-E0D5-4872-993E-5F6E0B35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F7DCD-76EF-4F4F-8915-34DF73DF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C89C2-96F6-4AC0-8EA8-F89C750B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E19A9-116A-421E-9857-2804385E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4FE32-F7D0-42A6-85B8-BC9FF5B5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DBE1B-EE99-411A-AF98-82ABB6A5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B1D0D-C9C5-4420-8EB5-CC0338AD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CF5A8-69A6-4F9E-BAA4-D43C423E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CB0D6-9A9B-4E5E-B0E0-DA43E540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C2952-0336-4588-A6FD-D78CC998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F12-21FF-443A-8F71-DE489E9F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2493A-87A5-46C9-A20F-5F61ED2B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7501B-C1E4-4E6F-A3BB-D5DCE729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4BE31-FDAB-4264-B5AA-4C64C22B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022BD-0873-49E6-A8F5-5784396C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495B9-1651-4007-8E6A-D1D183C6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56B9-A369-4011-BBB2-81FA54F3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113B-118C-4D3D-B7DD-D86C167EBE1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70C2-FA6E-44DF-A332-79E063E20C2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9EDB-61B3-484B-A477-076D9BE3D4F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1949-59F5-4A8F-8928-234830E3472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E1B7-5707-4CFC-B33E-1E792897E94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425C-B778-47BD-B3EA-E0217EE632E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49B4-5C00-44AE-B174-57768A0CAA2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Дорожные знаки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равила перехода железной дороги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1" descr="img160.jpg"/>
          <p:cNvPicPr/>
          <p:nvPr/>
        </p:nvPicPr>
        <p:blipFill>
          <a:blip r:embed="rId1"/>
          <a:stretch/>
        </p:blipFill>
        <p:spPr>
          <a:xfrm>
            <a:off x="0" y="477720"/>
            <a:ext cx="914400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Рисунок 1" descr="img161.jpg"/>
          <p:cNvPicPr/>
          <p:nvPr/>
        </p:nvPicPr>
        <p:blipFill>
          <a:blip r:embed="rId1"/>
          <a:stretch/>
        </p:blipFill>
        <p:spPr>
          <a:xfrm>
            <a:off x="1428840" y="571680"/>
            <a:ext cx="6572160" cy="55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1" descr="1.jpg"/>
          <p:cNvPicPr/>
          <p:nvPr/>
        </p:nvPicPr>
        <p:blipFill>
          <a:blip r:embed="rId1"/>
          <a:stretch/>
        </p:blipFill>
        <p:spPr>
          <a:xfrm>
            <a:off x="1000080" y="357120"/>
            <a:ext cx="7286760" cy="621504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2" descr="2.jpg"/>
          <p:cNvPicPr/>
          <p:nvPr/>
        </p:nvPicPr>
        <p:blipFill>
          <a:blip r:embed="rId2"/>
          <a:stretch/>
        </p:blipFill>
        <p:spPr>
          <a:xfrm>
            <a:off x="1000080" y="357120"/>
            <a:ext cx="7286760" cy="621504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3" descr="3.jpg"/>
          <p:cNvPicPr/>
          <p:nvPr/>
        </p:nvPicPr>
        <p:blipFill>
          <a:blip r:embed="rId3"/>
          <a:stretch/>
        </p:blipFill>
        <p:spPr>
          <a:xfrm>
            <a:off x="1000080" y="357120"/>
            <a:ext cx="7286760" cy="626292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4" descr="4.jpg"/>
          <p:cNvPicPr/>
          <p:nvPr/>
        </p:nvPicPr>
        <p:blipFill>
          <a:blip r:embed="rId4"/>
          <a:stretch/>
        </p:blipFill>
        <p:spPr>
          <a:xfrm>
            <a:off x="1000080" y="357120"/>
            <a:ext cx="7358040" cy="62150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5" descr="5.jpg"/>
          <p:cNvPicPr/>
          <p:nvPr/>
        </p:nvPicPr>
        <p:blipFill>
          <a:blip r:embed="rId5"/>
          <a:stretch/>
        </p:blipFill>
        <p:spPr>
          <a:xfrm>
            <a:off x="1000080" y="357120"/>
            <a:ext cx="7358040" cy="620388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6.jpg"/>
          <p:cNvPicPr/>
          <p:nvPr/>
        </p:nvPicPr>
        <p:blipFill>
          <a:blip r:embed="rId6"/>
          <a:stretch/>
        </p:blipFill>
        <p:spPr>
          <a:xfrm>
            <a:off x="1000080" y="357120"/>
            <a:ext cx="7358040" cy="621504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8" descr="7.jpg"/>
          <p:cNvPicPr/>
          <p:nvPr/>
        </p:nvPicPr>
        <p:blipFill>
          <a:blip r:embed="rId7"/>
          <a:stretch/>
        </p:blipFill>
        <p:spPr>
          <a:xfrm>
            <a:off x="1000080" y="357120"/>
            <a:ext cx="7358040" cy="621504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9" descr="8.jpg"/>
          <p:cNvPicPr/>
          <p:nvPr/>
        </p:nvPicPr>
        <p:blipFill>
          <a:blip r:embed="rId8"/>
          <a:stretch/>
        </p:blipFill>
        <p:spPr>
          <a:xfrm>
            <a:off x="1000080" y="357120"/>
            <a:ext cx="7358040" cy="621504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10" descr="9.jpg"/>
          <p:cNvPicPr/>
          <p:nvPr/>
        </p:nvPicPr>
        <p:blipFill>
          <a:blip r:embed="rId9"/>
          <a:stretch/>
        </p:blipFill>
        <p:spPr>
          <a:xfrm>
            <a:off x="1000080" y="357120"/>
            <a:ext cx="7358040" cy="624852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11" descr="10.jpg"/>
          <p:cNvPicPr/>
          <p:nvPr/>
        </p:nvPicPr>
        <p:blipFill>
          <a:blip r:embed="rId10"/>
          <a:stretch/>
        </p:blipFill>
        <p:spPr>
          <a:xfrm>
            <a:off x="1000080" y="357120"/>
            <a:ext cx="7358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Рисунок 1" descr="11.bmp"/>
          <p:cNvPicPr/>
          <p:nvPr/>
        </p:nvPicPr>
        <p:blipFill>
          <a:blip r:embed="rId1"/>
          <a:stretch/>
        </p:blipFill>
        <p:spPr>
          <a:xfrm>
            <a:off x="971640" y="357120"/>
            <a:ext cx="710064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2" descr="22.bmp"/>
          <p:cNvPicPr/>
          <p:nvPr/>
        </p:nvPicPr>
        <p:blipFill>
          <a:blip r:embed="rId1"/>
          <a:stretch/>
        </p:blipFill>
        <p:spPr>
          <a:xfrm>
            <a:off x="1366920" y="619200"/>
            <a:ext cx="641016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Рисунок 1" descr="33.bmp"/>
          <p:cNvPicPr/>
          <p:nvPr/>
        </p:nvPicPr>
        <p:blipFill>
          <a:blip r:embed="rId1"/>
          <a:stretch/>
        </p:blipFill>
        <p:spPr>
          <a:xfrm>
            <a:off x="1371600" y="609480"/>
            <a:ext cx="6400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2286000" y="3105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Рисунок 5" descr="img155.jpg"/>
          <p:cNvPicPr/>
          <p:nvPr/>
        </p:nvPicPr>
        <p:blipFill>
          <a:blip r:embed="rId1"/>
          <a:stretch/>
        </p:blipFill>
        <p:spPr>
          <a:xfrm>
            <a:off x="142920" y="571680"/>
            <a:ext cx="8858160" cy="5786280"/>
          </a:xfrm>
          <a:prstGeom prst="rect">
            <a:avLst/>
          </a:prstGeom>
          <a:ln w="76320">
            <a:solidFill>
              <a:srgbClr val="f7a34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Рисунок 3" descr="image001.jpg"/>
          <p:cNvPicPr/>
          <p:nvPr/>
        </p:nvPicPr>
        <p:blipFill>
          <a:blip r:embed="rId1"/>
          <a:stretch/>
        </p:blipFill>
        <p:spPr>
          <a:xfrm>
            <a:off x="0" y="415800"/>
            <a:ext cx="914400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Группа 3"/>
          <p:cNvGrpSpPr/>
          <p:nvPr/>
        </p:nvGrpSpPr>
        <p:grpSpPr>
          <a:xfrm>
            <a:off x="439560" y="0"/>
            <a:ext cx="8264880" cy="6858000"/>
            <a:chOff x="439560" y="0"/>
            <a:chExt cx="8264880" cy="6858000"/>
          </a:xfrm>
        </p:grpSpPr>
        <p:pic>
          <p:nvPicPr>
            <p:cNvPr id="350" name="Рисунок 1" descr="img156.jpg"/>
            <p:cNvPicPr/>
            <p:nvPr/>
          </p:nvPicPr>
          <p:blipFill>
            <a:blip r:embed="rId1"/>
            <a:stretch/>
          </p:blipFill>
          <p:spPr>
            <a:xfrm>
              <a:off x="439560" y="0"/>
              <a:ext cx="8264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Box 2"/>
            <p:cNvSpPr/>
            <p:nvPr/>
          </p:nvSpPr>
          <p:spPr>
            <a:xfrm>
              <a:off x="2143080" y="0"/>
              <a:ext cx="5286600" cy="368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ПРЕДУПРЕЖДАЮЩИЕ ЗНА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2"/>
          <p:cNvSpPr/>
          <p:nvPr/>
        </p:nvSpPr>
        <p:spPr>
          <a:xfrm>
            <a:off x="1143000" y="28584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e074"/>
                </a:solidFill>
                <a:latin typeface="Arial"/>
              </a:rPr>
              <a:t>Запрещающие зн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Рисунок 3" descr="img157.jpg"/>
          <p:cNvPicPr/>
          <p:nvPr/>
        </p:nvPicPr>
        <p:blipFill>
          <a:blip r:embed="rId1"/>
          <a:stretch/>
        </p:blipFill>
        <p:spPr>
          <a:xfrm>
            <a:off x="44280" y="976320"/>
            <a:ext cx="90554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1" descr="img158.jpg"/>
          <p:cNvPicPr/>
          <p:nvPr/>
        </p:nvPicPr>
        <p:blipFill>
          <a:blip r:embed="rId1"/>
          <a:stretch/>
        </p:blipFill>
        <p:spPr>
          <a:xfrm>
            <a:off x="285840" y="334800"/>
            <a:ext cx="864396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1" descr="img159.jpg"/>
          <p:cNvPicPr/>
          <p:nvPr/>
        </p:nvPicPr>
        <p:blipFill>
          <a:blip r:embed="rId1"/>
          <a:stretch/>
        </p:blipFill>
        <p:spPr>
          <a:xfrm>
            <a:off x="14400" y="1309680"/>
            <a:ext cx="91152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" descr="img162.jpg"/>
          <p:cNvPicPr/>
          <p:nvPr/>
        </p:nvPicPr>
        <p:blipFill>
          <a:blip r:embed="rId1"/>
          <a:stretch/>
        </p:blipFill>
        <p:spPr>
          <a:xfrm>
            <a:off x="1643040" y="0"/>
            <a:ext cx="601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8T20:08:10Z</dcterms:created>
  <dc:creator>1</dc:creator>
  <dc:description/>
  <dc:language>en-US</dc:language>
  <cp:lastModifiedBy>User</cp:lastModifiedBy>
  <dcterms:modified xsi:type="dcterms:W3CDTF">2020-04-07T12:06:37Z</dcterms:modified>
  <cp:revision>3</cp:revision>
  <dc:subject/>
  <dc:title>Дорожные знаки.  Правила перехода железной дороги.</dc:title>
</cp:coreProperties>
</file>