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349A-BE64-4081-AA78-459DE91867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15F0-0108-4808-BF1A-2863B00D23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2DC-A109-4ECC-9AB0-9A8AE348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6A9-4A28-47A2-9370-7B75B48B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80A-6CAD-4420-AEE1-35CFFC16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63E-DDAC-4C79-B67E-8855898A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A53B-C203-468B-96C1-D6CD6E66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E0F5-957A-4EEA-A902-9E34EACC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70F2-C1C8-46A5-A7B9-805A93CF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BAFB-4EB8-45E1-984A-BF335A54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101E-922B-44EE-827A-75EFCB44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2C6F-995F-4963-8AE6-A806ABE9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720E-9E5F-442E-811F-83194CA8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1EE-DF8F-4112-A7A3-D7781D10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4796-1F69-4A81-9689-D7C4581E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91CF-95F0-4D2F-A316-5C16D9AE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3862-26B4-46BB-A3C3-CD1BE25B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D330-3A29-4308-95C1-A5E79EA6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FBFF-5183-4E4D-BE1D-31531753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81EA-5E68-4F8D-871B-8C9D0544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A5D0-8DEF-4293-9D55-0708E539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E95C4-CF01-4653-8AF2-500233D5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B91B-13BF-4A01-A3C9-FFC90525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F2F54-B99A-4468-9B53-99A9AB67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984-717D-434A-945E-06F4332B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C694-66BF-4FEF-806F-7CBF56C2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08A2-FD70-4148-A7C7-3C17310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7CFD-3FF7-4123-93FF-90CC11A1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0DFDF-2576-4EE0-8CDF-7AFB2655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27225-1D26-4D23-B0CE-E491F820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D849-15BE-4011-8A77-C045B964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112C-25B6-49AB-B41E-C595D51C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882C-A47D-4380-AC71-B0D980E8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1060-2F5F-46A5-A77A-42F47A18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BBBDB-F94B-4A1F-BA5D-F4EC367B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D7D-D1D9-4743-A61B-EA20230D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15D54-8761-4049-A8C9-C6E3E3DA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E8056-A67C-4172-B59D-EC0FBF77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B6861-457A-471D-BA68-2D4D4916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7ACCB-82E9-490E-989A-0D1D7B8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832C-6F05-46D8-AD46-DFF44CD4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449CE-2DA0-442A-88D4-90C770C0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5D1E0-117B-45F9-8D78-C3696A6B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45D9C-08F1-4EF0-9CDB-F185E6A5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8BD98-6FF2-44A7-AE64-3C5E2B50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07B88-F4B8-46B4-A338-A3C1C123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334-F66A-4CA8-9684-7956DBA8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367BB-EA3D-4563-B09A-5F958432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D46E-3534-4B4C-8DDB-F68AAC63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6CCFF-139A-4EBB-9127-F33052EA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FAAB8-0302-4F70-92D2-0DB3E830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97E3B-40A7-4906-A604-9C1A0B9F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6B93F-533B-4054-8BFB-480752C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BE01C-742D-44BC-AA53-5EA1B52A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BE76D-7A31-4D4C-9F15-437F48BE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33E39-3EE5-42A3-BE5A-1FAECA1A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31A84-9487-4346-B600-B98681B1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B1A-459C-4E43-849F-0A64E93E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F8BBD-B601-4D6B-9E2D-8C12DD96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D957D-C1B2-489E-93A7-C017E56A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B594E-EC27-4BFE-8FE4-6F6A91BD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36FE4-604A-435B-BAC0-E793CD76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C8E27-9057-4CF1-BC33-9FFBC63F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E1B9B-A8CA-4F91-9DBE-8349B208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0C877-B420-44E3-8E45-3380D905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71766-424B-4BE9-9E91-6FFDCFA1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83DB7-03B5-4950-9D59-E513B47F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AEAAB-ED06-4F9B-A2D8-7B0D3635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C24-B071-427A-BBEB-4137117F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7BAD3-AFCC-4237-9F0A-63685CE2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2F003-F7F6-4197-8EC0-C5EB3A72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97366-E1F4-4160-95BF-A9C370B4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B94FC-80A8-427E-B313-DCE5AB18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1E3A4-19EC-40D1-84A4-289224CA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BF097-5FB4-4DCF-9D8D-CE5F42F4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4BB0A-F7BB-4D57-B28C-335DA566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F2333-9404-4587-AE6F-AF6A311B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0020E-6CB0-4182-A9F1-FE683165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89474-5F51-4CB2-B573-27223B47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DF1-6538-495E-A989-84E3CFEA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BCC17-F4F2-43C9-9E68-54010A07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51F82-1A8B-4B2D-AA11-83699718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F5ED9-EBEB-42EF-9A8F-BA538EEE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9E247-4C6B-4CD2-9074-95AB29E2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08868-193B-4DAA-9156-B726296B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9C1-67F0-4B0B-9E6F-182DF9E2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6BC4-1A28-4E48-9892-592B88B2B01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1319-8BD9-48FB-9214-3B3ED732664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5B1C-2EC6-415C-8A59-F183EC6363F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9175-DAE6-46C7-9A3D-3CF174748CD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2176-104A-4C29-8C68-55858BAD192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4473-21DC-41F5-BF8D-622CA3226AE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8225-3B91-4145-8643-515B8AA1403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Дорожные знаки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авила перехода железной дороги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1" descr="img160.jpg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" descr="img161.jpg"/>
          <p:cNvPicPr/>
          <p:nvPr/>
        </p:nvPicPr>
        <p:blipFill>
          <a:blip r:embed="rId1"/>
          <a:stretch/>
        </p:blipFill>
        <p:spPr>
          <a:xfrm>
            <a:off x="1428840" y="571680"/>
            <a:ext cx="657216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" descr="1.jpg"/>
          <p:cNvPicPr/>
          <p:nvPr/>
        </p:nvPicPr>
        <p:blipFill>
          <a:blip r:embed="rId1"/>
          <a:stretch/>
        </p:blipFill>
        <p:spPr>
          <a:xfrm>
            <a:off x="1000080" y="357120"/>
            <a:ext cx="7286760" cy="621504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2" descr="2.jpg"/>
          <p:cNvPicPr/>
          <p:nvPr/>
        </p:nvPicPr>
        <p:blipFill>
          <a:blip r:embed="rId2"/>
          <a:stretch/>
        </p:blipFill>
        <p:spPr>
          <a:xfrm>
            <a:off x="1000080" y="357120"/>
            <a:ext cx="7286760" cy="62150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3" descr="3.jpg"/>
          <p:cNvPicPr/>
          <p:nvPr/>
        </p:nvPicPr>
        <p:blipFill>
          <a:blip r:embed="rId3"/>
          <a:stretch/>
        </p:blipFill>
        <p:spPr>
          <a:xfrm>
            <a:off x="1000080" y="357120"/>
            <a:ext cx="7286760" cy="62629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4" descr="4.jpg"/>
          <p:cNvPicPr/>
          <p:nvPr/>
        </p:nvPicPr>
        <p:blipFill>
          <a:blip r:embed="rId4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5.jpg"/>
          <p:cNvPicPr/>
          <p:nvPr/>
        </p:nvPicPr>
        <p:blipFill>
          <a:blip r:embed="rId5"/>
          <a:stretch/>
        </p:blipFill>
        <p:spPr>
          <a:xfrm>
            <a:off x="1000080" y="357120"/>
            <a:ext cx="7358040" cy="620388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6.jpg"/>
          <p:cNvPicPr/>
          <p:nvPr/>
        </p:nvPicPr>
        <p:blipFill>
          <a:blip r:embed="rId6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8" descr="7.jpg"/>
          <p:cNvPicPr/>
          <p:nvPr/>
        </p:nvPicPr>
        <p:blipFill>
          <a:blip r:embed="rId7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9" descr="8.jpg"/>
          <p:cNvPicPr/>
          <p:nvPr/>
        </p:nvPicPr>
        <p:blipFill>
          <a:blip r:embed="rId8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0" descr="9.jpg"/>
          <p:cNvPicPr/>
          <p:nvPr/>
        </p:nvPicPr>
        <p:blipFill>
          <a:blip r:embed="rId9"/>
          <a:stretch/>
        </p:blipFill>
        <p:spPr>
          <a:xfrm>
            <a:off x="1000080" y="357120"/>
            <a:ext cx="7358040" cy="62485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1" descr="10.jpg"/>
          <p:cNvPicPr/>
          <p:nvPr/>
        </p:nvPicPr>
        <p:blipFill>
          <a:blip r:embed="rId10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1" descr="11.bmp"/>
          <p:cNvPicPr/>
          <p:nvPr/>
        </p:nvPicPr>
        <p:blipFill>
          <a:blip r:embed="rId1"/>
          <a:stretch/>
        </p:blipFill>
        <p:spPr>
          <a:xfrm>
            <a:off x="971640" y="357120"/>
            <a:ext cx="710064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2" descr="22.bmp"/>
          <p:cNvPicPr/>
          <p:nvPr/>
        </p:nvPicPr>
        <p:blipFill>
          <a:blip r:embed="rId1"/>
          <a:stretch/>
        </p:blipFill>
        <p:spPr>
          <a:xfrm>
            <a:off x="1366920" y="619200"/>
            <a:ext cx="64101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1" descr="33.bmp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2286000" y="3105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5" descr="img155.jpg"/>
          <p:cNvPicPr/>
          <p:nvPr/>
        </p:nvPicPr>
        <p:blipFill>
          <a:blip r:embed="rId1"/>
          <a:stretch/>
        </p:blipFill>
        <p:spPr>
          <a:xfrm>
            <a:off x="142920" y="571680"/>
            <a:ext cx="8858160" cy="5786280"/>
          </a:xfrm>
          <a:prstGeom prst="rect">
            <a:avLst/>
          </a:prstGeom>
          <a:ln w="76320">
            <a:solidFill>
              <a:srgbClr val="f7a34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3" descr="image001.jpg"/>
          <p:cNvPicPr/>
          <p:nvPr/>
        </p:nvPicPr>
        <p:blipFill>
          <a:blip r:embed="rId1"/>
          <a:stretch/>
        </p:blipFill>
        <p:spPr>
          <a:xfrm>
            <a:off x="0" y="415800"/>
            <a:ext cx="91440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Группа 3"/>
          <p:cNvGrpSpPr/>
          <p:nvPr/>
        </p:nvGrpSpPr>
        <p:grpSpPr>
          <a:xfrm>
            <a:off x="439560" y="0"/>
            <a:ext cx="8264880" cy="6858000"/>
            <a:chOff x="439560" y="0"/>
            <a:chExt cx="8264880" cy="6858000"/>
          </a:xfrm>
        </p:grpSpPr>
        <p:pic>
          <p:nvPicPr>
            <p:cNvPr id="350" name="Рисунок 1" descr="img156.jpg"/>
            <p:cNvPicPr/>
            <p:nvPr/>
          </p:nvPicPr>
          <p:blipFill>
            <a:blip r:embed="rId1"/>
            <a:stretch/>
          </p:blipFill>
          <p:spPr>
            <a:xfrm>
              <a:off x="439560" y="0"/>
              <a:ext cx="8264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2"/>
            <p:cNvSpPr/>
            <p:nvPr/>
          </p:nvSpPr>
          <p:spPr>
            <a:xfrm>
              <a:off x="2143080" y="0"/>
              <a:ext cx="5286600" cy="368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ПРЕДУПРЕЖДАЮЩИЕ ЗНА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2"/>
          <p:cNvSpPr/>
          <p:nvPr/>
        </p:nvSpPr>
        <p:spPr>
          <a:xfrm>
            <a:off x="1143000" y="2858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e074"/>
                </a:solidFill>
                <a:latin typeface="Arial"/>
              </a:rPr>
              <a:t>Запрещающие зн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Рисунок 3" descr="img157.jpg"/>
          <p:cNvPicPr/>
          <p:nvPr/>
        </p:nvPicPr>
        <p:blipFill>
          <a:blip r:embed="rId1"/>
          <a:stretch/>
        </p:blipFill>
        <p:spPr>
          <a:xfrm>
            <a:off x="44280" y="976320"/>
            <a:ext cx="90554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img158.jpg"/>
          <p:cNvPicPr/>
          <p:nvPr/>
        </p:nvPicPr>
        <p:blipFill>
          <a:blip r:embed="rId1"/>
          <a:stretch/>
        </p:blipFill>
        <p:spPr>
          <a:xfrm>
            <a:off x="285840" y="334800"/>
            <a:ext cx="864396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img159.jpg"/>
          <p:cNvPicPr/>
          <p:nvPr/>
        </p:nvPicPr>
        <p:blipFill>
          <a:blip r:embed="rId1"/>
          <a:stretch/>
        </p:blipFill>
        <p:spPr>
          <a:xfrm>
            <a:off x="14400" y="1309680"/>
            <a:ext cx="9115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img162.jpg"/>
          <p:cNvPicPr/>
          <p:nvPr/>
        </p:nvPicPr>
        <p:blipFill>
          <a:blip r:embed="rId1"/>
          <a:stretch/>
        </p:blipFill>
        <p:spPr>
          <a:xfrm>
            <a:off x="1643040" y="0"/>
            <a:ext cx="60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8T20:08:10Z</dcterms:created>
  <dc:creator>1</dc:creator>
  <dc:description/>
  <dc:language>en-US</dc:language>
  <cp:lastModifiedBy>User</cp:lastModifiedBy>
  <dcterms:modified xsi:type="dcterms:W3CDTF">2020-04-07T12:06:37Z</dcterms:modified>
  <cp:revision>3</cp:revision>
  <dc:subject/>
  <dc:title>Дорожные знаки.  Правила перехода железной дороги.</dc:title>
</cp:coreProperties>
</file>