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F46CE-27DA-4300-A9CC-59EC8451A6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C995-7284-4F75-ACA5-C00282289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154C-023D-44A6-A5B4-43B631768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F7876-0207-4729-8AC4-4034C8F92B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50407-E466-42C9-9007-E0C81C1B0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13C82-C2B1-4494-8753-7F9493ACE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E9127-B6F2-4971-B3AC-1D0309ABD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87771-9AF9-4CCE-B84A-4582AE46BB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B46D-C670-44A0-9F63-F2DFA4868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89FB8-4FFB-40A9-97F7-BD5F7BE9DD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3BD5E-0D95-4D00-BA6E-0CF07848D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AB1CE-E6AD-4184-A1AA-3621C309C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A95EB6-5FF3-4AAE-90DC-3902A8BFAB2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B664B3-1348-467C-8048-C70F483398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3429000"/>
            <a:ext cx="7772400" cy="192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Arial"/>
                <a:ea typeface="Arial"/>
              </a:rPr>
              <a:t>Как отличить приставку от предлога?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Овал 3"/>
          <p:cNvSpPr/>
          <p:nvPr/>
        </p:nvSpPr>
        <p:spPr>
          <a:xfrm>
            <a:off x="4405320" y="4777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Овал 4"/>
          <p:cNvSpPr/>
          <p:nvPr/>
        </p:nvSpPr>
        <p:spPr>
          <a:xfrm>
            <a:off x="4429080" y="114300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Овал 5"/>
          <p:cNvSpPr/>
          <p:nvPr/>
        </p:nvSpPr>
        <p:spPr>
          <a:xfrm>
            <a:off x="3714840" y="1143000"/>
            <a:ext cx="42840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Овал 6"/>
          <p:cNvSpPr/>
          <p:nvPr/>
        </p:nvSpPr>
        <p:spPr>
          <a:xfrm>
            <a:off x="3714840" y="42876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Овал 7"/>
          <p:cNvSpPr/>
          <p:nvPr/>
        </p:nvSpPr>
        <p:spPr>
          <a:xfrm>
            <a:off x="4524480" y="785880"/>
            <a:ext cx="42840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Овал 8"/>
          <p:cNvSpPr/>
          <p:nvPr/>
        </p:nvSpPr>
        <p:spPr>
          <a:xfrm>
            <a:off x="3571920" y="785880"/>
            <a:ext cx="428760" cy="42840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Овал 9"/>
          <p:cNvSpPr/>
          <p:nvPr/>
        </p:nvSpPr>
        <p:spPr>
          <a:xfrm>
            <a:off x="4071960" y="12859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Овал 10"/>
          <p:cNvSpPr/>
          <p:nvPr/>
        </p:nvSpPr>
        <p:spPr>
          <a:xfrm>
            <a:off x="4071960" y="357120"/>
            <a:ext cx="428760" cy="4287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Овал 11"/>
          <p:cNvGrpSpPr/>
          <p:nvPr/>
        </p:nvGrpSpPr>
        <p:grpSpPr>
          <a:xfrm>
            <a:off x="3822840" y="579600"/>
            <a:ext cx="907920" cy="901440"/>
            <a:chOff x="3822840" y="579600"/>
            <a:chExt cx="907920" cy="901440"/>
          </a:xfrm>
        </p:grpSpPr>
        <p:pic>
          <p:nvPicPr>
            <p:cNvPr id="51" name="Овал 11" descr=""/>
            <p:cNvPicPr/>
            <p:nvPr/>
          </p:nvPicPr>
          <p:blipFill>
            <a:blip r:embed="rId1"/>
            <a:stretch/>
          </p:blipFill>
          <p:spPr>
            <a:xfrm>
              <a:off x="3822840" y="579600"/>
              <a:ext cx="907920" cy="90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997440" y="72396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Овал 12"/>
          <p:cNvSpPr/>
          <p:nvPr/>
        </p:nvSpPr>
        <p:spPr>
          <a:xfrm>
            <a:off x="1690560" y="83520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Овал 13"/>
          <p:cNvSpPr/>
          <p:nvPr/>
        </p:nvSpPr>
        <p:spPr>
          <a:xfrm>
            <a:off x="1714680" y="1500120"/>
            <a:ext cx="42840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Овал 14"/>
          <p:cNvSpPr/>
          <p:nvPr/>
        </p:nvSpPr>
        <p:spPr>
          <a:xfrm>
            <a:off x="1000080" y="150012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5"/>
          <p:cNvSpPr/>
          <p:nvPr/>
        </p:nvSpPr>
        <p:spPr>
          <a:xfrm>
            <a:off x="1000080" y="785880"/>
            <a:ext cx="428760" cy="42840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16"/>
          <p:cNvSpPr/>
          <p:nvPr/>
        </p:nvSpPr>
        <p:spPr>
          <a:xfrm>
            <a:off x="17859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17"/>
          <p:cNvSpPr/>
          <p:nvPr/>
        </p:nvSpPr>
        <p:spPr>
          <a:xfrm>
            <a:off x="857160" y="114300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18"/>
          <p:cNvSpPr/>
          <p:nvPr/>
        </p:nvSpPr>
        <p:spPr>
          <a:xfrm>
            <a:off x="1357200" y="164304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19"/>
          <p:cNvSpPr/>
          <p:nvPr/>
        </p:nvSpPr>
        <p:spPr>
          <a:xfrm>
            <a:off x="1357200" y="642960"/>
            <a:ext cx="428760" cy="428760"/>
          </a:xfrm>
          <a:prstGeom prst="ellipse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" name="Овал 20"/>
          <p:cNvGrpSpPr/>
          <p:nvPr/>
        </p:nvGrpSpPr>
        <p:grpSpPr>
          <a:xfrm>
            <a:off x="1103400" y="933480"/>
            <a:ext cx="907920" cy="901800"/>
            <a:chOff x="1103400" y="933480"/>
            <a:chExt cx="907920" cy="901800"/>
          </a:xfrm>
        </p:grpSpPr>
        <p:pic>
          <p:nvPicPr>
            <p:cNvPr id="62" name="Овал 20" descr=""/>
            <p:cNvPicPr/>
            <p:nvPr/>
          </p:nvPicPr>
          <p:blipFill>
            <a:blip r:embed="rId2"/>
            <a:stretch/>
          </p:blipFill>
          <p:spPr>
            <a:xfrm>
              <a:off x="1103400" y="933480"/>
              <a:ext cx="9079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" name=""/>
            <p:cNvSpPr/>
            <p:nvPr/>
          </p:nvSpPr>
          <p:spPr>
            <a:xfrm>
              <a:off x="1282680" y="1081080"/>
              <a:ext cx="55548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Овал 21"/>
          <p:cNvSpPr/>
          <p:nvPr/>
        </p:nvSpPr>
        <p:spPr>
          <a:xfrm>
            <a:off x="8405640" y="140652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Овал 22"/>
          <p:cNvSpPr/>
          <p:nvPr/>
        </p:nvSpPr>
        <p:spPr>
          <a:xfrm>
            <a:off x="8429760" y="2071800"/>
            <a:ext cx="42840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Овал 23"/>
          <p:cNvSpPr/>
          <p:nvPr/>
        </p:nvSpPr>
        <p:spPr>
          <a:xfrm>
            <a:off x="7715160" y="207180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Овал 24"/>
          <p:cNvSpPr/>
          <p:nvPr/>
        </p:nvSpPr>
        <p:spPr>
          <a:xfrm>
            <a:off x="7715160" y="135720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Овал 25"/>
          <p:cNvSpPr/>
          <p:nvPr/>
        </p:nvSpPr>
        <p:spPr>
          <a:xfrm>
            <a:off x="85010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Овал 26"/>
          <p:cNvSpPr/>
          <p:nvPr/>
        </p:nvSpPr>
        <p:spPr>
          <a:xfrm>
            <a:off x="7572240" y="171468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Овал 27"/>
          <p:cNvSpPr/>
          <p:nvPr/>
        </p:nvSpPr>
        <p:spPr>
          <a:xfrm>
            <a:off x="8072280" y="2214720"/>
            <a:ext cx="428760" cy="42840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Овал 28"/>
          <p:cNvSpPr/>
          <p:nvPr/>
        </p:nvSpPr>
        <p:spPr>
          <a:xfrm>
            <a:off x="8072280" y="1214280"/>
            <a:ext cx="428760" cy="428760"/>
          </a:xfrm>
          <a:prstGeom prst="ellipse">
            <a:avLst/>
          </a:prstGeom>
          <a:solidFill>
            <a:srgbClr val="c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Овал 29"/>
          <p:cNvGrpSpPr/>
          <p:nvPr/>
        </p:nvGrpSpPr>
        <p:grpSpPr>
          <a:xfrm>
            <a:off x="7796160" y="1542960"/>
            <a:ext cx="909720" cy="901800"/>
            <a:chOff x="7796160" y="1542960"/>
            <a:chExt cx="909720" cy="901800"/>
          </a:xfrm>
        </p:grpSpPr>
        <p:pic>
          <p:nvPicPr>
            <p:cNvPr id="73" name="Овал 29" descr=""/>
            <p:cNvPicPr/>
            <p:nvPr/>
          </p:nvPicPr>
          <p:blipFill>
            <a:blip r:embed="rId3"/>
            <a:stretch/>
          </p:blipFill>
          <p:spPr>
            <a:xfrm>
              <a:off x="7796160" y="1542960"/>
              <a:ext cx="90972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7974000" y="1685880"/>
              <a:ext cx="55548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Овал 30"/>
          <p:cNvSpPr/>
          <p:nvPr/>
        </p:nvSpPr>
        <p:spPr>
          <a:xfrm rot="2585400">
            <a:off x="6339960" y="1196640"/>
            <a:ext cx="169920" cy="460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Овал 31"/>
          <p:cNvSpPr/>
          <p:nvPr/>
        </p:nvSpPr>
        <p:spPr>
          <a:xfrm>
            <a:off x="6357960" y="135720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Овал 32"/>
          <p:cNvSpPr/>
          <p:nvPr/>
        </p:nvSpPr>
        <p:spPr>
          <a:xfrm rot="19933200">
            <a:off x="6692400" y="1198440"/>
            <a:ext cx="46080" cy="3304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Овал 33"/>
          <p:cNvSpPr/>
          <p:nvPr/>
        </p:nvSpPr>
        <p:spPr>
          <a:xfrm flipH="1" rot="19222200">
            <a:off x="5401800" y="1706040"/>
            <a:ext cx="455760" cy="87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Овал 34"/>
          <p:cNvSpPr/>
          <p:nvPr/>
        </p:nvSpPr>
        <p:spPr>
          <a:xfrm flipH="1" rot="2353200">
            <a:off x="5319720" y="139860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Овал 35"/>
          <p:cNvSpPr/>
          <p:nvPr/>
        </p:nvSpPr>
        <p:spPr>
          <a:xfrm>
            <a:off x="578628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Овал 36"/>
          <p:cNvSpPr/>
          <p:nvPr/>
        </p:nvSpPr>
        <p:spPr>
          <a:xfrm>
            <a:off x="5715000" y="17859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7"/>
          <p:cNvSpPr/>
          <p:nvPr/>
        </p:nvSpPr>
        <p:spPr>
          <a:xfrm>
            <a:off x="5715000" y="128592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Овал 38"/>
          <p:cNvSpPr/>
          <p:nvPr/>
        </p:nvSpPr>
        <p:spPr>
          <a:xfrm>
            <a:off x="5286240" y="157176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Овал 39"/>
          <p:cNvSpPr/>
          <p:nvPr/>
        </p:nvSpPr>
        <p:spPr>
          <a:xfrm rot="2585400">
            <a:off x="2957040" y="48564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Овал 40"/>
          <p:cNvSpPr/>
          <p:nvPr/>
        </p:nvSpPr>
        <p:spPr>
          <a:xfrm>
            <a:off x="2975040" y="64620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Овал 41"/>
          <p:cNvSpPr/>
          <p:nvPr/>
        </p:nvSpPr>
        <p:spPr>
          <a:xfrm rot="19933200">
            <a:off x="3311280" y="485640"/>
            <a:ext cx="442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Овал 42"/>
          <p:cNvSpPr/>
          <p:nvPr/>
        </p:nvSpPr>
        <p:spPr>
          <a:xfrm rot="2585400">
            <a:off x="205920" y="1766520"/>
            <a:ext cx="169920" cy="4428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480" bIns="-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Овал 43"/>
          <p:cNvSpPr/>
          <p:nvPr/>
        </p:nvSpPr>
        <p:spPr>
          <a:xfrm>
            <a:off x="223920" y="1927080"/>
            <a:ext cx="46080" cy="2462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44"/>
          <p:cNvSpPr/>
          <p:nvPr/>
        </p:nvSpPr>
        <p:spPr>
          <a:xfrm rot="19933200">
            <a:off x="560160" y="1766880"/>
            <a:ext cx="44280" cy="331920"/>
          </a:xfrm>
          <a:prstGeom prst="ellipse">
            <a:avLst/>
          </a:prstGeom>
          <a:solidFill>
            <a:srgbClr val="92d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5"/>
          <p:cNvSpPr/>
          <p:nvPr/>
        </p:nvSpPr>
        <p:spPr>
          <a:xfrm rot="2585400">
            <a:off x="8670600" y="1338120"/>
            <a:ext cx="169920" cy="4464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46"/>
          <p:cNvSpPr/>
          <p:nvPr/>
        </p:nvSpPr>
        <p:spPr>
          <a:xfrm>
            <a:off x="8929800" y="1071720"/>
            <a:ext cx="46080" cy="24588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47"/>
          <p:cNvSpPr/>
          <p:nvPr/>
        </p:nvSpPr>
        <p:spPr>
          <a:xfrm rot="19933200">
            <a:off x="9023400" y="1338120"/>
            <a:ext cx="46080" cy="3319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48"/>
          <p:cNvSpPr/>
          <p:nvPr/>
        </p:nvSpPr>
        <p:spPr>
          <a:xfrm rot="2585400">
            <a:off x="2991960" y="1838160"/>
            <a:ext cx="169920" cy="44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Овал 49"/>
          <p:cNvSpPr/>
          <p:nvPr/>
        </p:nvSpPr>
        <p:spPr>
          <a:xfrm>
            <a:off x="3009960" y="1998720"/>
            <a:ext cx="46080" cy="2458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Овал 50"/>
          <p:cNvSpPr/>
          <p:nvPr/>
        </p:nvSpPr>
        <p:spPr>
          <a:xfrm rot="19933200">
            <a:off x="3346200" y="1838160"/>
            <a:ext cx="442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Овал 51"/>
          <p:cNvSpPr/>
          <p:nvPr/>
        </p:nvSpPr>
        <p:spPr>
          <a:xfrm flipH="1" rot="19222200">
            <a:off x="7979400" y="873000"/>
            <a:ext cx="45540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Овал 52"/>
          <p:cNvSpPr/>
          <p:nvPr/>
        </p:nvSpPr>
        <p:spPr>
          <a:xfrm flipH="1" rot="2353200">
            <a:off x="7897320" y="564840"/>
            <a:ext cx="454320" cy="615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Овал 53"/>
          <p:cNvSpPr/>
          <p:nvPr/>
        </p:nvSpPr>
        <p:spPr>
          <a:xfrm>
            <a:off x="836460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Овал 54"/>
          <p:cNvSpPr/>
          <p:nvPr/>
        </p:nvSpPr>
        <p:spPr>
          <a:xfrm>
            <a:off x="8292960" y="95256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Овал 55"/>
          <p:cNvSpPr/>
          <p:nvPr/>
        </p:nvSpPr>
        <p:spPr>
          <a:xfrm>
            <a:off x="8292960" y="452520"/>
            <a:ext cx="7164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Овал 56"/>
          <p:cNvSpPr/>
          <p:nvPr/>
        </p:nvSpPr>
        <p:spPr>
          <a:xfrm>
            <a:off x="7864560" y="73836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Овал 57"/>
          <p:cNvSpPr/>
          <p:nvPr/>
        </p:nvSpPr>
        <p:spPr>
          <a:xfrm flipH="1" rot="19222200">
            <a:off x="115560" y="658440"/>
            <a:ext cx="455760" cy="87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840" bIns="15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Овал 58"/>
          <p:cNvSpPr/>
          <p:nvPr/>
        </p:nvSpPr>
        <p:spPr>
          <a:xfrm flipH="1" rot="2353200">
            <a:off x="33480" y="35100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Овал 59"/>
          <p:cNvSpPr/>
          <p:nvPr/>
        </p:nvSpPr>
        <p:spPr>
          <a:xfrm>
            <a:off x="50004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Овал 60"/>
          <p:cNvSpPr/>
          <p:nvPr/>
        </p:nvSpPr>
        <p:spPr>
          <a:xfrm>
            <a:off x="428760" y="738360"/>
            <a:ext cx="71280" cy="285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Овал 61"/>
          <p:cNvSpPr/>
          <p:nvPr/>
        </p:nvSpPr>
        <p:spPr>
          <a:xfrm>
            <a:off x="428760" y="2379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62"/>
          <p:cNvSpPr/>
          <p:nvPr/>
        </p:nvSpPr>
        <p:spPr>
          <a:xfrm>
            <a:off x="0" y="523800"/>
            <a:ext cx="285840" cy="716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63"/>
          <p:cNvSpPr/>
          <p:nvPr/>
        </p:nvSpPr>
        <p:spPr>
          <a:xfrm flipH="1" rot="19222200">
            <a:off x="2479680" y="1587240"/>
            <a:ext cx="455760" cy="871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64"/>
          <p:cNvSpPr/>
          <p:nvPr/>
        </p:nvSpPr>
        <p:spPr>
          <a:xfrm flipH="1" rot="2353200">
            <a:off x="2397240" y="127944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Овал 65"/>
          <p:cNvSpPr/>
          <p:nvPr/>
        </p:nvSpPr>
        <p:spPr>
          <a:xfrm>
            <a:off x="286380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Овал 66"/>
          <p:cNvSpPr/>
          <p:nvPr/>
        </p:nvSpPr>
        <p:spPr>
          <a:xfrm>
            <a:off x="2792520" y="166680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Овал 67"/>
          <p:cNvSpPr/>
          <p:nvPr/>
        </p:nvSpPr>
        <p:spPr>
          <a:xfrm>
            <a:off x="2792520" y="116676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Овал 68"/>
          <p:cNvSpPr/>
          <p:nvPr/>
        </p:nvSpPr>
        <p:spPr>
          <a:xfrm>
            <a:off x="2363760" y="145260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Овал 69"/>
          <p:cNvSpPr/>
          <p:nvPr/>
        </p:nvSpPr>
        <p:spPr>
          <a:xfrm flipH="1" rot="19222200">
            <a:off x="4979880" y="704520"/>
            <a:ext cx="455760" cy="8712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Овал 70"/>
          <p:cNvSpPr/>
          <p:nvPr/>
        </p:nvSpPr>
        <p:spPr>
          <a:xfrm flipH="1" rot="3744600">
            <a:off x="4965480" y="380520"/>
            <a:ext cx="453960" cy="6336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Овал 71"/>
          <p:cNvSpPr/>
          <p:nvPr/>
        </p:nvSpPr>
        <p:spPr>
          <a:xfrm>
            <a:off x="5364000" y="569880"/>
            <a:ext cx="285840" cy="716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Овал 72"/>
          <p:cNvSpPr/>
          <p:nvPr/>
        </p:nvSpPr>
        <p:spPr>
          <a:xfrm>
            <a:off x="5292720" y="784080"/>
            <a:ext cx="71280" cy="285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Овал 73"/>
          <p:cNvSpPr/>
          <p:nvPr/>
        </p:nvSpPr>
        <p:spPr>
          <a:xfrm>
            <a:off x="5292720" y="284040"/>
            <a:ext cx="71280" cy="28584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Овал 74"/>
          <p:cNvSpPr/>
          <p:nvPr/>
        </p:nvSpPr>
        <p:spPr>
          <a:xfrm rot="1390800">
            <a:off x="4932000" y="554040"/>
            <a:ext cx="285840" cy="71280"/>
          </a:xfrm>
          <a:prstGeom prst="ellipse">
            <a:avLst/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Овал 75"/>
          <p:cNvSpPr/>
          <p:nvPr/>
        </p:nvSpPr>
        <p:spPr>
          <a:xfrm>
            <a:off x="6620040" y="4777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Овал 76"/>
          <p:cNvSpPr/>
          <p:nvPr/>
        </p:nvSpPr>
        <p:spPr>
          <a:xfrm>
            <a:off x="6643800" y="114300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Овал 77"/>
          <p:cNvSpPr/>
          <p:nvPr/>
        </p:nvSpPr>
        <p:spPr>
          <a:xfrm>
            <a:off x="5929200" y="1143000"/>
            <a:ext cx="42876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Овал 78"/>
          <p:cNvSpPr/>
          <p:nvPr/>
        </p:nvSpPr>
        <p:spPr>
          <a:xfrm>
            <a:off x="5929200" y="42876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Овал 79"/>
          <p:cNvSpPr/>
          <p:nvPr/>
        </p:nvSpPr>
        <p:spPr>
          <a:xfrm>
            <a:off x="67150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Овал 80"/>
          <p:cNvSpPr/>
          <p:nvPr/>
        </p:nvSpPr>
        <p:spPr>
          <a:xfrm>
            <a:off x="5786280" y="785880"/>
            <a:ext cx="42876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Овал 81"/>
          <p:cNvSpPr/>
          <p:nvPr/>
        </p:nvSpPr>
        <p:spPr>
          <a:xfrm>
            <a:off x="6286680" y="1285920"/>
            <a:ext cx="428400" cy="428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Овал 82"/>
          <p:cNvSpPr/>
          <p:nvPr/>
        </p:nvSpPr>
        <p:spPr>
          <a:xfrm>
            <a:off x="6286680" y="285840"/>
            <a:ext cx="428400" cy="428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Овал 83"/>
          <p:cNvGrpSpPr/>
          <p:nvPr/>
        </p:nvGrpSpPr>
        <p:grpSpPr>
          <a:xfrm>
            <a:off x="6010200" y="609480"/>
            <a:ext cx="908280" cy="901800"/>
            <a:chOff x="6010200" y="609480"/>
            <a:chExt cx="908280" cy="901800"/>
          </a:xfrm>
        </p:grpSpPr>
        <p:pic>
          <p:nvPicPr>
            <p:cNvPr id="129" name="Овал 83" descr=""/>
            <p:cNvPicPr/>
            <p:nvPr/>
          </p:nvPicPr>
          <p:blipFill>
            <a:blip r:embed="rId4"/>
            <a:stretch/>
          </p:blipFill>
          <p:spPr>
            <a:xfrm>
              <a:off x="6010200" y="609480"/>
              <a:ext cx="908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0" name=""/>
            <p:cNvSpPr/>
            <p:nvPr/>
          </p:nvSpPr>
          <p:spPr>
            <a:xfrm>
              <a:off x="6186600" y="757080"/>
              <a:ext cx="555480" cy="55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Овал 84"/>
          <p:cNvSpPr/>
          <p:nvPr/>
        </p:nvSpPr>
        <p:spPr>
          <a:xfrm>
            <a:off x="7143840" y="1500120"/>
            <a:ext cx="46080" cy="24768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Овал 85"/>
          <p:cNvSpPr/>
          <p:nvPr/>
        </p:nvSpPr>
        <p:spPr>
          <a:xfrm>
            <a:off x="833400" y="219240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Овал 86"/>
          <p:cNvSpPr/>
          <p:nvPr/>
        </p:nvSpPr>
        <p:spPr>
          <a:xfrm>
            <a:off x="85716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Овал 87"/>
          <p:cNvSpPr/>
          <p:nvPr/>
        </p:nvSpPr>
        <p:spPr>
          <a:xfrm>
            <a:off x="142920" y="2857680"/>
            <a:ext cx="428760" cy="42840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Овал 88"/>
          <p:cNvSpPr/>
          <p:nvPr/>
        </p:nvSpPr>
        <p:spPr>
          <a:xfrm>
            <a:off x="142920" y="214308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Овал 89"/>
          <p:cNvSpPr/>
          <p:nvPr/>
        </p:nvSpPr>
        <p:spPr>
          <a:xfrm>
            <a:off x="928800" y="2500200"/>
            <a:ext cx="42840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Овал 90"/>
          <p:cNvSpPr/>
          <p:nvPr/>
        </p:nvSpPr>
        <p:spPr>
          <a:xfrm>
            <a:off x="0" y="250020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Овал 91"/>
          <p:cNvSpPr/>
          <p:nvPr/>
        </p:nvSpPr>
        <p:spPr>
          <a:xfrm>
            <a:off x="500040" y="300024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92"/>
          <p:cNvSpPr/>
          <p:nvPr/>
        </p:nvSpPr>
        <p:spPr>
          <a:xfrm>
            <a:off x="500040" y="2000160"/>
            <a:ext cx="428760" cy="4287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Овал 93"/>
          <p:cNvGrpSpPr/>
          <p:nvPr/>
        </p:nvGrpSpPr>
        <p:grpSpPr>
          <a:xfrm>
            <a:off x="225360" y="2328840"/>
            <a:ext cx="908280" cy="901800"/>
            <a:chOff x="225360" y="2328840"/>
            <a:chExt cx="908280" cy="901800"/>
          </a:xfrm>
        </p:grpSpPr>
        <p:pic>
          <p:nvPicPr>
            <p:cNvPr id="141" name="Овал 93" descr=""/>
            <p:cNvPicPr/>
            <p:nvPr/>
          </p:nvPicPr>
          <p:blipFill>
            <a:blip r:embed="rId5"/>
            <a:stretch/>
          </p:blipFill>
          <p:spPr>
            <a:xfrm>
              <a:off x="225360" y="2328840"/>
              <a:ext cx="908280" cy="901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"/>
            <p:cNvSpPr/>
            <p:nvPr/>
          </p:nvSpPr>
          <p:spPr>
            <a:xfrm>
              <a:off x="399960" y="2471760"/>
              <a:ext cx="555840" cy="55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3" name="Овал 94"/>
          <p:cNvSpPr/>
          <p:nvPr/>
        </p:nvSpPr>
        <p:spPr>
          <a:xfrm>
            <a:off x="1116000" y="2141640"/>
            <a:ext cx="46080" cy="2458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95"/>
          <p:cNvSpPr/>
          <p:nvPr/>
        </p:nvSpPr>
        <p:spPr>
          <a:xfrm flipH="1" rot="19222200">
            <a:off x="1478520" y="2516040"/>
            <a:ext cx="455400" cy="874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96"/>
          <p:cNvSpPr/>
          <p:nvPr/>
        </p:nvSpPr>
        <p:spPr>
          <a:xfrm flipH="1" rot="2353200">
            <a:off x="1397160" y="2208240"/>
            <a:ext cx="453960" cy="6192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Овал 97"/>
          <p:cNvSpPr/>
          <p:nvPr/>
        </p:nvSpPr>
        <p:spPr>
          <a:xfrm>
            <a:off x="186372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Овал 98"/>
          <p:cNvSpPr/>
          <p:nvPr/>
        </p:nvSpPr>
        <p:spPr>
          <a:xfrm>
            <a:off x="1792440" y="259560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Овал 99"/>
          <p:cNvSpPr/>
          <p:nvPr/>
        </p:nvSpPr>
        <p:spPr>
          <a:xfrm>
            <a:off x="1792440" y="2095560"/>
            <a:ext cx="71280" cy="28584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Овал 100"/>
          <p:cNvSpPr/>
          <p:nvPr/>
        </p:nvSpPr>
        <p:spPr>
          <a:xfrm>
            <a:off x="1363680" y="2381400"/>
            <a:ext cx="285840" cy="71280"/>
          </a:xfrm>
          <a:prstGeom prst="ellipse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Овал 101"/>
          <p:cNvSpPr/>
          <p:nvPr/>
        </p:nvSpPr>
        <p:spPr>
          <a:xfrm flipH="1" rot="19222200">
            <a:off x="7051680" y="2587320"/>
            <a:ext cx="45576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Овал 102"/>
          <p:cNvSpPr/>
          <p:nvPr/>
        </p:nvSpPr>
        <p:spPr>
          <a:xfrm flipH="1" rot="2353200">
            <a:off x="6969240" y="2279520"/>
            <a:ext cx="453960" cy="619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Овал 103"/>
          <p:cNvSpPr/>
          <p:nvPr/>
        </p:nvSpPr>
        <p:spPr>
          <a:xfrm>
            <a:off x="743580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Овал 104"/>
          <p:cNvSpPr/>
          <p:nvPr/>
        </p:nvSpPr>
        <p:spPr>
          <a:xfrm>
            <a:off x="7364520" y="266688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Овал 105"/>
          <p:cNvSpPr/>
          <p:nvPr/>
        </p:nvSpPr>
        <p:spPr>
          <a:xfrm>
            <a:off x="7364520" y="216684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Овал 106"/>
          <p:cNvSpPr/>
          <p:nvPr/>
        </p:nvSpPr>
        <p:spPr>
          <a:xfrm>
            <a:off x="6935760" y="2452680"/>
            <a:ext cx="28584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Овал 107"/>
          <p:cNvSpPr/>
          <p:nvPr/>
        </p:nvSpPr>
        <p:spPr>
          <a:xfrm rot="18305400">
            <a:off x="5200560" y="2385720"/>
            <a:ext cx="169920" cy="4608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Овал 108"/>
          <p:cNvSpPr/>
          <p:nvPr/>
        </p:nvSpPr>
        <p:spPr>
          <a:xfrm rot="15720000">
            <a:off x="5217120" y="2545560"/>
            <a:ext cx="46080" cy="2473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Овал 109"/>
          <p:cNvSpPr/>
          <p:nvPr/>
        </p:nvSpPr>
        <p:spPr>
          <a:xfrm rot="14053200">
            <a:off x="5552640" y="2385720"/>
            <a:ext cx="46080" cy="33192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110"/>
          <p:cNvSpPr/>
          <p:nvPr/>
        </p:nvSpPr>
        <p:spPr>
          <a:xfrm flipH="1" rot="13342200">
            <a:off x="4686840" y="2134800"/>
            <a:ext cx="455760" cy="874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480" bIns="15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111"/>
          <p:cNvSpPr/>
          <p:nvPr/>
        </p:nvSpPr>
        <p:spPr>
          <a:xfrm flipH="1" rot="18073200">
            <a:off x="4603680" y="1827720"/>
            <a:ext cx="453960" cy="6192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880" bIns="-2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112"/>
          <p:cNvSpPr/>
          <p:nvPr/>
        </p:nvSpPr>
        <p:spPr>
          <a:xfrm rot="15720000">
            <a:off x="507240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113"/>
          <p:cNvSpPr/>
          <p:nvPr/>
        </p:nvSpPr>
        <p:spPr>
          <a:xfrm rot="15720000">
            <a:off x="5001480" y="221328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114"/>
          <p:cNvSpPr/>
          <p:nvPr/>
        </p:nvSpPr>
        <p:spPr>
          <a:xfrm rot="15720000">
            <a:off x="5001480" y="1713240"/>
            <a:ext cx="71280" cy="28584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115"/>
          <p:cNvSpPr/>
          <p:nvPr/>
        </p:nvSpPr>
        <p:spPr>
          <a:xfrm rot="15720000">
            <a:off x="4572360" y="1999440"/>
            <a:ext cx="285840" cy="7128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116"/>
          <p:cNvSpPr/>
          <p:nvPr/>
        </p:nvSpPr>
        <p:spPr>
          <a:xfrm flipH="1" rot="2151600">
            <a:off x="1869120" y="704520"/>
            <a:ext cx="455400" cy="8712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5120" bIns="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Овал 117"/>
          <p:cNvSpPr/>
          <p:nvPr/>
        </p:nvSpPr>
        <p:spPr>
          <a:xfrm flipH="1" rot="6882600">
            <a:off x="2109960" y="544680"/>
            <a:ext cx="453960" cy="6156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" bIns="-3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Овал 118"/>
          <p:cNvSpPr/>
          <p:nvPr/>
        </p:nvSpPr>
        <p:spPr>
          <a:xfrm rot="4529400">
            <a:off x="257760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Овал 119"/>
          <p:cNvSpPr/>
          <p:nvPr/>
        </p:nvSpPr>
        <p:spPr>
          <a:xfrm>
            <a:off x="2471760" y="671400"/>
            <a:ext cx="7128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Овал 120"/>
          <p:cNvSpPr/>
          <p:nvPr/>
        </p:nvSpPr>
        <p:spPr>
          <a:xfrm rot="4529400">
            <a:off x="2505960" y="432360"/>
            <a:ext cx="71640" cy="28584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Овал 121"/>
          <p:cNvSpPr/>
          <p:nvPr/>
        </p:nvSpPr>
        <p:spPr>
          <a:xfrm rot="4529400">
            <a:off x="2077560" y="718200"/>
            <a:ext cx="285480" cy="71280"/>
          </a:xfrm>
          <a:prstGeom prst="ellipse">
            <a:avLst/>
          </a:prstGeom>
          <a:solidFill>
            <a:srgbClr val="55f1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1" name="Овал 122"/>
          <p:cNvGrpSpPr/>
          <p:nvPr/>
        </p:nvGrpSpPr>
        <p:grpSpPr>
          <a:xfrm>
            <a:off x="2511360" y="396720"/>
            <a:ext cx="549360" cy="547920"/>
            <a:chOff x="2511360" y="396720"/>
            <a:chExt cx="549360" cy="547920"/>
          </a:xfrm>
        </p:grpSpPr>
        <p:pic>
          <p:nvPicPr>
            <p:cNvPr id="172" name="Овал 122" descr=""/>
            <p:cNvPicPr/>
            <p:nvPr/>
          </p:nvPicPr>
          <p:blipFill>
            <a:blip r:embed="rId6"/>
            <a:stretch/>
          </p:blipFill>
          <p:spPr>
            <a:xfrm>
              <a:off x="2511360" y="396720"/>
              <a:ext cx="54936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2635200" y="492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Овал 123"/>
          <p:cNvGrpSpPr/>
          <p:nvPr/>
        </p:nvGrpSpPr>
        <p:grpSpPr>
          <a:xfrm>
            <a:off x="5084640" y="1255680"/>
            <a:ext cx="547920" cy="542880"/>
            <a:chOff x="5084640" y="1255680"/>
            <a:chExt cx="547920" cy="542880"/>
          </a:xfrm>
        </p:grpSpPr>
        <p:pic>
          <p:nvPicPr>
            <p:cNvPr id="175" name="Овал 123" descr=""/>
            <p:cNvPicPr/>
            <p:nvPr/>
          </p:nvPicPr>
          <p:blipFill>
            <a:blip r:embed="rId7"/>
            <a:stretch/>
          </p:blipFill>
          <p:spPr>
            <a:xfrm>
              <a:off x="5084640" y="1255680"/>
              <a:ext cx="54792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"/>
            <p:cNvSpPr/>
            <p:nvPr/>
          </p:nvSpPr>
          <p:spPr>
            <a:xfrm>
              <a:off x="520704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Овал 124"/>
          <p:cNvGrpSpPr/>
          <p:nvPr/>
        </p:nvGrpSpPr>
        <p:grpSpPr>
          <a:xfrm>
            <a:off x="152280" y="1255680"/>
            <a:ext cx="549360" cy="542880"/>
            <a:chOff x="152280" y="1255680"/>
            <a:chExt cx="549360" cy="542880"/>
          </a:xfrm>
        </p:grpSpPr>
        <p:pic>
          <p:nvPicPr>
            <p:cNvPr id="178" name="Овал 124" descr=""/>
            <p:cNvPicPr/>
            <p:nvPr/>
          </p:nvPicPr>
          <p:blipFill>
            <a:blip r:embed="rId8"/>
            <a:stretch/>
          </p:blipFill>
          <p:spPr>
            <a:xfrm>
              <a:off x="152280" y="1255680"/>
              <a:ext cx="54936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" name=""/>
            <p:cNvSpPr/>
            <p:nvPr/>
          </p:nvSpPr>
          <p:spPr>
            <a:xfrm>
              <a:off x="277920" y="134928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Овал 125"/>
          <p:cNvGrpSpPr/>
          <p:nvPr/>
        </p:nvGrpSpPr>
        <p:grpSpPr>
          <a:xfrm>
            <a:off x="8510760" y="396720"/>
            <a:ext cx="554040" cy="547920"/>
            <a:chOff x="8510760" y="396720"/>
            <a:chExt cx="554040" cy="547920"/>
          </a:xfrm>
        </p:grpSpPr>
        <p:pic>
          <p:nvPicPr>
            <p:cNvPr id="181" name="Овал 125" descr=""/>
            <p:cNvPicPr/>
            <p:nvPr/>
          </p:nvPicPr>
          <p:blipFill>
            <a:blip r:embed="rId9"/>
            <a:stretch/>
          </p:blipFill>
          <p:spPr>
            <a:xfrm>
              <a:off x="8510760" y="396720"/>
              <a:ext cx="554040" cy="54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" name=""/>
            <p:cNvSpPr/>
            <p:nvPr/>
          </p:nvSpPr>
          <p:spPr>
            <a:xfrm>
              <a:off x="8636040" y="4921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Овал 126"/>
          <p:cNvGrpSpPr/>
          <p:nvPr/>
        </p:nvGrpSpPr>
        <p:grpSpPr>
          <a:xfrm>
            <a:off x="7156440" y="1042920"/>
            <a:ext cx="549360" cy="541440"/>
            <a:chOff x="7156440" y="1042920"/>
            <a:chExt cx="549360" cy="541440"/>
          </a:xfrm>
        </p:grpSpPr>
        <p:pic>
          <p:nvPicPr>
            <p:cNvPr id="184" name="Овал 126" descr=""/>
            <p:cNvPicPr/>
            <p:nvPr/>
          </p:nvPicPr>
          <p:blipFill>
            <a:blip r:embed="rId10"/>
            <a:stretch/>
          </p:blipFill>
          <p:spPr>
            <a:xfrm>
              <a:off x="7156440" y="1042920"/>
              <a:ext cx="549360" cy="54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"/>
            <p:cNvSpPr/>
            <p:nvPr/>
          </p:nvSpPr>
          <p:spPr>
            <a:xfrm>
              <a:off x="7278840" y="1135080"/>
              <a:ext cx="30132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Овал 127"/>
          <p:cNvGrpSpPr/>
          <p:nvPr/>
        </p:nvGrpSpPr>
        <p:grpSpPr>
          <a:xfrm>
            <a:off x="3651120" y="1755720"/>
            <a:ext cx="555840" cy="542880"/>
            <a:chOff x="3651120" y="1755720"/>
            <a:chExt cx="555840" cy="542880"/>
          </a:xfrm>
        </p:grpSpPr>
        <p:pic>
          <p:nvPicPr>
            <p:cNvPr id="187" name="Овал 127" descr=""/>
            <p:cNvPicPr/>
            <p:nvPr/>
          </p:nvPicPr>
          <p:blipFill>
            <a:blip r:embed="rId11"/>
            <a:stretch/>
          </p:blipFill>
          <p:spPr>
            <a:xfrm>
              <a:off x="3651120" y="1755720"/>
              <a:ext cx="555840" cy="542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8" name=""/>
            <p:cNvSpPr/>
            <p:nvPr/>
          </p:nvSpPr>
          <p:spPr>
            <a:xfrm>
              <a:off x="3778200" y="1849320"/>
              <a:ext cx="301680" cy="301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Прямоугольник 128"/>
          <p:cNvSpPr/>
          <p:nvPr/>
        </p:nvSpPr>
        <p:spPr>
          <a:xfrm rot="2149800">
            <a:off x="4642920" y="2000160"/>
            <a:ext cx="357480" cy="357120"/>
          </a:xfrm>
          <a:prstGeom prst="rect">
            <a:avLst/>
          </a:prstGeom>
          <a:solidFill>
            <a:srgbClr val="e46c0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Прямоугольник 129"/>
          <p:cNvSpPr/>
          <p:nvPr/>
        </p:nvSpPr>
        <p:spPr>
          <a:xfrm rot="17448000">
            <a:off x="6571800" y="192888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Прямоугольник 130"/>
          <p:cNvSpPr/>
          <p:nvPr/>
        </p:nvSpPr>
        <p:spPr>
          <a:xfrm rot="1816800">
            <a:off x="3214440" y="1357200"/>
            <a:ext cx="357120" cy="35748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Прямоугольник 131"/>
          <p:cNvSpPr/>
          <p:nvPr/>
        </p:nvSpPr>
        <p:spPr>
          <a:xfrm rot="1279200">
            <a:off x="928440" y="357120"/>
            <a:ext cx="357120" cy="357120"/>
          </a:xfrm>
          <a:prstGeom prst="rect">
            <a:avLst/>
          </a:prstGeom>
          <a:solidFill>
            <a:srgbClr val="acfa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Прямоугольник 132"/>
          <p:cNvSpPr/>
          <p:nvPr/>
        </p:nvSpPr>
        <p:spPr>
          <a:xfrm rot="19653600">
            <a:off x="3071520" y="2071440"/>
            <a:ext cx="357120" cy="35712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0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2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  <a:ea typeface="Arial"/>
              </a:rPr>
              <a:t>Как отличить приставку от предло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1571760" y="1714680"/>
            <a:ext cx="71150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за)шёл   (за)друг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по)мчался  (по)дорог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(до)нёс   (до)школ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BC97-F51F-4B80-9643-1BAC55A9FE5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EAB49-5008-44B6-9295-E196B0170B0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5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8" dur="5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71320"/>
            <a:ext cx="8229600" cy="1500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  <a:ea typeface="Arial"/>
              </a:rPr>
              <a:t>Как отличить приставку от предло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1571760" y="1714680"/>
            <a:ext cx="7115040" cy="441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шёл   за  друг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мчался  по  дорог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нёс   до  школ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C1D8E-05D8-4251-B0E6-CA7B7B33C95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4BFD2-254D-473E-8AFE-805844AAAF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7"/>
          <p:cNvSpPr/>
          <p:nvPr/>
        </p:nvSpPr>
        <p:spPr>
          <a:xfrm>
            <a:off x="3286080" y="2928960"/>
            <a:ext cx="37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Freeform 19"/>
          <p:cNvSpPr/>
          <p:nvPr/>
        </p:nvSpPr>
        <p:spPr>
          <a:xfrm>
            <a:off x="2000160" y="2428920"/>
            <a:ext cx="428760" cy="142920"/>
          </a:xfrm>
          <a:custGeom>
            <a:avLst/>
            <a:gdLst>
              <a:gd name="textAreaLeft" fmla="*/ 0 w 428760"/>
              <a:gd name="textAreaRight" fmla="*/ 429120 w 4287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Freeform 19"/>
          <p:cNvSpPr/>
          <p:nvPr/>
        </p:nvSpPr>
        <p:spPr>
          <a:xfrm>
            <a:off x="2000160" y="3143160"/>
            <a:ext cx="500040" cy="142920"/>
          </a:xfrm>
          <a:custGeom>
            <a:avLst/>
            <a:gdLst>
              <a:gd name="textAreaLeft" fmla="*/ 0 w 500040"/>
              <a:gd name="textAreaRight" fmla="*/ 500400 w 5000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Freeform 19"/>
          <p:cNvSpPr/>
          <p:nvPr/>
        </p:nvSpPr>
        <p:spPr>
          <a:xfrm>
            <a:off x="2071800" y="4000680"/>
            <a:ext cx="500040" cy="142560"/>
          </a:xfrm>
          <a:custGeom>
            <a:avLst/>
            <a:gdLst>
              <a:gd name="textAreaLeft" fmla="*/ 0 w 500040"/>
              <a:gd name="textAreaRight" fmla="*/ 500400 w 500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7"/>
          <p:cNvSpPr/>
          <p:nvPr/>
        </p:nvSpPr>
        <p:spPr>
          <a:xfrm>
            <a:off x="4000680" y="3714840"/>
            <a:ext cx="37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7"/>
          <p:cNvSpPr/>
          <p:nvPr/>
        </p:nvSpPr>
        <p:spPr>
          <a:xfrm>
            <a:off x="4000680" y="4429080"/>
            <a:ext cx="37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nodeType="clickEffect" fill="hold">
                      <p:stCondLst>
                        <p:cond delay="indefinite"/>
                      </p:stCondLst>
                      <p:childTnLst>
                        <p:par>
                          <p:cTn id="4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nodeType="clickEffect" fill="hold">
                      <p:stCondLst>
                        <p:cond delay="indefinite"/>
                      </p:stCondLst>
                      <p:childTnLst>
                        <p:par>
                          <p:cTn id="4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1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499680"/>
            <a:ext cx="82296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  <a:ea typeface="Arial"/>
              </a:rPr>
              <a:t>Как отличить приставку от предло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457200" y="1785960"/>
          <a:ext cx="8229600" cy="444960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став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ло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7486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Невозможно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4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ду предлогом и словом можно поставить другое слово или вопрос.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7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121231-7094-4D3A-AD02-73514C77E929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BF10-B59C-4266-B001-445BB8583E8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428760"/>
            <a:ext cx="822960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Arial"/>
                <a:ea typeface="Arial"/>
              </a:rPr>
              <a:t>Как отличить приставку от предлога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571760" y="1856880"/>
            <a:ext cx="7115040" cy="441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шёл   за  </a:t>
            </a: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(каким?)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друг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зашёл   за </a:t>
            </a: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 лучшим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другом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мчался  по  </a:t>
            </a: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(какой?)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дорог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омчался  по  </a:t>
            </a: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ровно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дороге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нёс   до   (</a:t>
            </a: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какой?)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школ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донёс   до   </a:t>
            </a:r>
            <a:r>
              <a:rPr b="0" lang="ru-RU" sz="4000" spc="-1" strike="noStrike">
                <a:solidFill>
                  <a:srgbClr val="0000ff"/>
                </a:solidFill>
                <a:latin typeface="Calibri"/>
              </a:rPr>
              <a:t>родной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 школы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7D50E-980C-450A-A364-30A9A7CB908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F49A-2FEC-40B0-BAE0-43FAB40C36D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7"/>
          <p:cNvSpPr/>
          <p:nvPr/>
        </p:nvSpPr>
        <p:spPr>
          <a:xfrm>
            <a:off x="3929040" y="2500200"/>
            <a:ext cx="37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Freeform 19"/>
          <p:cNvSpPr/>
          <p:nvPr/>
        </p:nvSpPr>
        <p:spPr>
          <a:xfrm>
            <a:off x="2000160" y="2071800"/>
            <a:ext cx="428760" cy="142920"/>
          </a:xfrm>
          <a:custGeom>
            <a:avLst/>
            <a:gdLst>
              <a:gd name="textAreaLeft" fmla="*/ 0 w 428760"/>
              <a:gd name="textAreaRight" fmla="*/ 429120 w 42876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Freeform 19"/>
          <p:cNvSpPr/>
          <p:nvPr/>
        </p:nvSpPr>
        <p:spPr>
          <a:xfrm>
            <a:off x="1928880" y="2786040"/>
            <a:ext cx="500040" cy="142920"/>
          </a:xfrm>
          <a:custGeom>
            <a:avLst/>
            <a:gdLst>
              <a:gd name="textAreaLeft" fmla="*/ 0 w 500040"/>
              <a:gd name="textAreaRight" fmla="*/ 500400 w 5000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reeform 19"/>
          <p:cNvSpPr/>
          <p:nvPr/>
        </p:nvSpPr>
        <p:spPr>
          <a:xfrm>
            <a:off x="2000160" y="3500280"/>
            <a:ext cx="500040" cy="142920"/>
          </a:xfrm>
          <a:custGeom>
            <a:avLst/>
            <a:gdLst>
              <a:gd name="textAreaLeft" fmla="*/ 0 w 500040"/>
              <a:gd name="textAreaRight" fmla="*/ 500400 w 5000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7"/>
          <p:cNvSpPr/>
          <p:nvPr/>
        </p:nvSpPr>
        <p:spPr>
          <a:xfrm>
            <a:off x="4000680" y="3214800"/>
            <a:ext cx="3711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7"/>
          <p:cNvSpPr/>
          <p:nvPr/>
        </p:nvSpPr>
        <p:spPr>
          <a:xfrm>
            <a:off x="4714920" y="3929040"/>
            <a:ext cx="37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19"/>
          <p:cNvSpPr/>
          <p:nvPr/>
        </p:nvSpPr>
        <p:spPr>
          <a:xfrm>
            <a:off x="2000160" y="4214880"/>
            <a:ext cx="500040" cy="142920"/>
          </a:xfrm>
          <a:custGeom>
            <a:avLst/>
            <a:gdLst>
              <a:gd name="textAreaLeft" fmla="*/ 0 w 500040"/>
              <a:gd name="textAreaRight" fmla="*/ 500400 w 5000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Freeform 19"/>
          <p:cNvSpPr/>
          <p:nvPr/>
        </p:nvSpPr>
        <p:spPr>
          <a:xfrm>
            <a:off x="2000160" y="4929120"/>
            <a:ext cx="500040" cy="142920"/>
          </a:xfrm>
          <a:custGeom>
            <a:avLst/>
            <a:gdLst>
              <a:gd name="textAreaLeft" fmla="*/ 0 w 500040"/>
              <a:gd name="textAreaRight" fmla="*/ 500400 w 50004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7"/>
          <p:cNvSpPr/>
          <p:nvPr/>
        </p:nvSpPr>
        <p:spPr>
          <a:xfrm>
            <a:off x="4643280" y="4643280"/>
            <a:ext cx="37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7"/>
          <p:cNvSpPr/>
          <p:nvPr/>
        </p:nvSpPr>
        <p:spPr>
          <a:xfrm>
            <a:off x="4071960" y="5429160"/>
            <a:ext cx="37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reeform 19"/>
          <p:cNvSpPr/>
          <p:nvPr/>
        </p:nvSpPr>
        <p:spPr>
          <a:xfrm>
            <a:off x="2000160" y="5643720"/>
            <a:ext cx="500040" cy="142560"/>
          </a:xfrm>
          <a:custGeom>
            <a:avLst/>
            <a:gdLst>
              <a:gd name="textAreaLeft" fmla="*/ 0 w 500040"/>
              <a:gd name="textAreaRight" fmla="*/ 500400 w 50004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Line 7"/>
          <p:cNvSpPr/>
          <p:nvPr/>
        </p:nvSpPr>
        <p:spPr>
          <a:xfrm>
            <a:off x="4071960" y="6143760"/>
            <a:ext cx="3715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990033"/>
                </a:solidFill>
                <a:latin typeface="Arial"/>
                <a:ea typeface="Arial"/>
              </a:rPr>
              <a:t>Как отличить приставку от предлога?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AF80D-1A8B-47A6-A1E1-E2D218CB578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540CE-5D37-4638-9036-6FDD86B41D5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98" name=""/>
          <p:cNvGraphicFramePr/>
          <p:nvPr/>
        </p:nvGraphicFramePr>
        <p:xfrm>
          <a:off x="214200" y="1571760"/>
          <a:ext cx="8715600" cy="4616280"/>
        </p:xfrm>
        <a:graphic>
          <a:graphicData uri="http://schemas.openxmlformats.org/drawingml/2006/table">
            <a:tbl>
              <a:tblPr/>
              <a:tblGrid>
                <a:gridCol w="4017960"/>
                <a:gridCol w="4697640"/>
              </a:tblGrid>
              <a:tr h="5792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ставка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2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ло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4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сть сло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ьное сло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ужит для образования новых слов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ужит для связи слов в предложении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45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шется слит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шется раздельн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982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Между предлогом и словом можно поставить другое слово или вопрос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725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990033"/>
                </a:solidFill>
                <a:latin typeface="Calibri"/>
              </a:rPr>
              <a:t>Образуйте слова с приставкам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1785960"/>
            <a:ext cx="8229600" cy="43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      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             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на         при           от                  с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               </a:t>
            </a:r>
            <a:r>
              <a:rPr b="0" lang="ru-RU" sz="3200" spc="-1" strike="noStrike">
                <a:solidFill>
                  <a:srgbClr val="0000ff"/>
                </a:solidFill>
                <a:latin typeface="Calibri"/>
              </a:rPr>
              <a:t>за         до              пере             вы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50"/>
                </a:solidFill>
                <a:latin typeface="Calibri"/>
              </a:rPr>
              <a:t>              </a:t>
            </a:r>
            <a:r>
              <a:rPr b="0" lang="ru-RU" sz="2400" spc="-1" strike="noStrike">
                <a:solidFill>
                  <a:srgbClr val="003300"/>
                </a:solidFill>
                <a:latin typeface="Calibri"/>
              </a:rPr>
              <a:t> </a:t>
            </a:r>
            <a:r>
              <a:rPr b="0" lang="ru-RU" sz="2400" spc="-1" strike="noStrike">
                <a:solidFill>
                  <a:srgbClr val="990033"/>
                </a:solidFill>
                <a:latin typeface="Calibri"/>
              </a:rPr>
              <a:t>1 ВАРИАНТ                                   2 ВАРИАНТ                       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КОПАТЬ                        РИСОВА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8593D-F53E-4F12-8DE6-067525343E9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B1FF5-AC71-480D-9DB7-E28DE690FA4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Freeform 19"/>
          <p:cNvSpPr/>
          <p:nvPr/>
        </p:nvSpPr>
        <p:spPr>
          <a:xfrm>
            <a:off x="3214800" y="2286000"/>
            <a:ext cx="500040" cy="123840"/>
          </a:xfrm>
          <a:custGeom>
            <a:avLst/>
            <a:gdLst/>
            <a:ahLst/>
            <a:rect l="l" t="t" r="r" b="b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Freeform 19"/>
          <p:cNvSpPr/>
          <p:nvPr/>
        </p:nvSpPr>
        <p:spPr>
          <a:xfrm>
            <a:off x="4857840" y="2857680"/>
            <a:ext cx="745920" cy="142560"/>
          </a:xfrm>
          <a:custGeom>
            <a:avLst/>
            <a:gdLst>
              <a:gd name="textAreaLeft" fmla="*/ 0 w 745920"/>
              <a:gd name="textAreaRight" fmla="*/ 746280 w 745920"/>
              <a:gd name="textAreaTop" fmla="*/ 0 h 142560"/>
              <a:gd name="textAreaBottom" fmla="*/ 142920 h 14256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Freeform 19"/>
          <p:cNvSpPr/>
          <p:nvPr/>
        </p:nvSpPr>
        <p:spPr>
          <a:xfrm>
            <a:off x="1928880" y="2286000"/>
            <a:ext cx="357120" cy="142920"/>
          </a:xfrm>
          <a:custGeom>
            <a:avLst/>
            <a:gdLst/>
            <a:ahLst/>
            <a:rect l="l" t="t" r="r" b="b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Freeform 19"/>
          <p:cNvSpPr/>
          <p:nvPr/>
        </p:nvSpPr>
        <p:spPr>
          <a:xfrm>
            <a:off x="4786200" y="2286000"/>
            <a:ext cx="428760" cy="214200"/>
          </a:xfrm>
          <a:custGeom>
            <a:avLst/>
            <a:gdLst>
              <a:gd name="textAreaLeft" fmla="*/ 0 w 428760"/>
              <a:gd name="textAreaRight" fmla="*/ 429120 w 42876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Freeform 19"/>
          <p:cNvSpPr/>
          <p:nvPr/>
        </p:nvSpPr>
        <p:spPr>
          <a:xfrm>
            <a:off x="6715080" y="2357280"/>
            <a:ext cx="422280" cy="162000"/>
          </a:xfrm>
          <a:custGeom>
            <a:avLst/>
            <a:gdLst>
              <a:gd name="textAreaLeft" fmla="*/ 0 w 422280"/>
              <a:gd name="textAreaRight" fmla="*/ 422640 w 422280"/>
              <a:gd name="textAreaTop" fmla="*/ 0 h 162000"/>
              <a:gd name="textAreaBottom" fmla="*/ 162360 h 16200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Freeform 19"/>
          <p:cNvSpPr/>
          <p:nvPr/>
        </p:nvSpPr>
        <p:spPr>
          <a:xfrm>
            <a:off x="6858000" y="2928960"/>
            <a:ext cx="357120" cy="142920"/>
          </a:xfrm>
          <a:custGeom>
            <a:avLst/>
            <a:gdLst>
              <a:gd name="textAreaLeft" fmla="*/ 0 w 357120"/>
              <a:gd name="textAreaRight" fmla="*/ 357480 w 357120"/>
              <a:gd name="textAreaTop" fmla="*/ 0 h 142920"/>
              <a:gd name="textAreaBottom" fmla="*/ 143280 h 14292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Freeform 19"/>
          <p:cNvSpPr/>
          <p:nvPr/>
        </p:nvSpPr>
        <p:spPr>
          <a:xfrm>
            <a:off x="3143160" y="2928960"/>
            <a:ext cx="419040" cy="139680"/>
          </a:xfrm>
          <a:custGeom>
            <a:avLst/>
            <a:gdLst>
              <a:gd name="textAreaLeft" fmla="*/ 0 w 419040"/>
              <a:gd name="textAreaRight" fmla="*/ 419400 w 419040"/>
              <a:gd name="textAreaTop" fmla="*/ 0 h 139680"/>
              <a:gd name="textAreaBottom" fmla="*/ 140040 h 13968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Freeform 19"/>
          <p:cNvSpPr/>
          <p:nvPr/>
        </p:nvSpPr>
        <p:spPr>
          <a:xfrm>
            <a:off x="1928880" y="3000240"/>
            <a:ext cx="357120" cy="71640"/>
          </a:xfrm>
          <a:custGeom>
            <a:avLst/>
            <a:gdLst/>
            <a:ahLst/>
            <a:rect l="l" t="t" r="r" b="b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"/>
                                        <p:tgtEl>
                                          <p:spTgt spid="1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7142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Calibri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928800" y="1643040"/>
            <a:ext cx="3495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1 ВАРИА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Н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П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ОТ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П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З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П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Д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П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ПЕР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П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ВЫ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ОП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5214960" y="1600200"/>
            <a:ext cx="347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b050"/>
                </a:solidFill>
                <a:latin typeface="Calibri"/>
              </a:rPr>
              <a:t>2 ВАРИАН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Н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СОВ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ПРИ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СОВ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С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СОВ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ЗА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СОВ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ДО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СОВ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ff"/>
                </a:solidFill>
                <a:latin typeface="Calibri"/>
              </a:rPr>
              <a:t>ПЕР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ИСОВАТ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4D70A-8AE8-436A-A783-0404A605C2F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46B16-2D4E-4805-9C06-7B936E36C5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Freeform 19"/>
          <p:cNvSpPr/>
          <p:nvPr/>
        </p:nvSpPr>
        <p:spPr>
          <a:xfrm>
            <a:off x="1000080" y="4786200"/>
            <a:ext cx="500040" cy="214560"/>
          </a:xfrm>
          <a:custGeom>
            <a:avLst/>
            <a:gdLst>
              <a:gd name="textAreaLeft" fmla="*/ 0 w 500040"/>
              <a:gd name="textAreaRight" fmla="*/ 500400 w 50004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reeform 19"/>
          <p:cNvSpPr/>
          <p:nvPr/>
        </p:nvSpPr>
        <p:spPr>
          <a:xfrm>
            <a:off x="1000080" y="2143080"/>
            <a:ext cx="500040" cy="214200"/>
          </a:xfrm>
          <a:custGeom>
            <a:avLst/>
            <a:gdLst>
              <a:gd name="textAreaLeft" fmla="*/ 0 w 500040"/>
              <a:gd name="textAreaRight" fmla="*/ 500400 w 5000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Freeform 19"/>
          <p:cNvSpPr/>
          <p:nvPr/>
        </p:nvSpPr>
        <p:spPr>
          <a:xfrm>
            <a:off x="1000080" y="2643120"/>
            <a:ext cx="500040" cy="214560"/>
          </a:xfrm>
          <a:custGeom>
            <a:avLst/>
            <a:gdLst>
              <a:gd name="textAreaLeft" fmla="*/ 0 w 500040"/>
              <a:gd name="textAreaRight" fmla="*/ 500400 w 50004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Freeform 19"/>
          <p:cNvSpPr/>
          <p:nvPr/>
        </p:nvSpPr>
        <p:spPr>
          <a:xfrm>
            <a:off x="928800" y="3214800"/>
            <a:ext cx="500040" cy="214200"/>
          </a:xfrm>
          <a:custGeom>
            <a:avLst/>
            <a:gdLst>
              <a:gd name="textAreaLeft" fmla="*/ 0 w 500040"/>
              <a:gd name="textAreaRight" fmla="*/ 500400 w 5000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Freeform 19"/>
          <p:cNvSpPr/>
          <p:nvPr/>
        </p:nvSpPr>
        <p:spPr>
          <a:xfrm>
            <a:off x="1000080" y="3643200"/>
            <a:ext cx="500040" cy="214560"/>
          </a:xfrm>
          <a:custGeom>
            <a:avLst/>
            <a:gdLst>
              <a:gd name="textAreaLeft" fmla="*/ 0 w 500040"/>
              <a:gd name="textAreaRight" fmla="*/ 500400 w 50004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Freeform 19"/>
          <p:cNvSpPr/>
          <p:nvPr/>
        </p:nvSpPr>
        <p:spPr>
          <a:xfrm>
            <a:off x="5286240" y="4714920"/>
            <a:ext cx="776520" cy="214200"/>
          </a:xfrm>
          <a:custGeom>
            <a:avLst/>
            <a:gdLst>
              <a:gd name="textAreaLeft" fmla="*/ 0 w 776520"/>
              <a:gd name="textAreaRight" fmla="*/ 776880 w 77652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Freeform 19"/>
          <p:cNvSpPr/>
          <p:nvPr/>
        </p:nvSpPr>
        <p:spPr>
          <a:xfrm>
            <a:off x="5214960" y="2214720"/>
            <a:ext cx="500040" cy="214200"/>
          </a:xfrm>
          <a:custGeom>
            <a:avLst/>
            <a:gdLst>
              <a:gd name="textAreaLeft" fmla="*/ 0 w 500040"/>
              <a:gd name="textAreaRight" fmla="*/ 500400 w 5000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Freeform 19"/>
          <p:cNvSpPr/>
          <p:nvPr/>
        </p:nvSpPr>
        <p:spPr>
          <a:xfrm>
            <a:off x="5214960" y="3714840"/>
            <a:ext cx="500040" cy="214200"/>
          </a:xfrm>
          <a:custGeom>
            <a:avLst/>
            <a:gdLst>
              <a:gd name="textAreaLeft" fmla="*/ 0 w 500040"/>
              <a:gd name="textAreaRight" fmla="*/ 500400 w 5000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Freeform 19"/>
          <p:cNvSpPr/>
          <p:nvPr/>
        </p:nvSpPr>
        <p:spPr>
          <a:xfrm>
            <a:off x="5286240" y="4214880"/>
            <a:ext cx="500040" cy="214200"/>
          </a:xfrm>
          <a:custGeom>
            <a:avLst/>
            <a:gdLst>
              <a:gd name="textAreaLeft" fmla="*/ 0 w 500040"/>
              <a:gd name="textAreaRight" fmla="*/ 500400 w 50004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Freeform 19"/>
          <p:cNvSpPr/>
          <p:nvPr/>
        </p:nvSpPr>
        <p:spPr>
          <a:xfrm>
            <a:off x="1000080" y="4214880"/>
            <a:ext cx="785880" cy="285840"/>
          </a:xfrm>
          <a:custGeom>
            <a:avLst/>
            <a:gdLst>
              <a:gd name="textAreaLeft" fmla="*/ 0 w 785880"/>
              <a:gd name="textAreaRight" fmla="*/ 786240 w 785880"/>
              <a:gd name="textAreaTop" fmla="*/ 0 h 285840"/>
              <a:gd name="textAreaBottom" fmla="*/ 286200 h 28584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Freeform 19"/>
          <p:cNvSpPr/>
          <p:nvPr/>
        </p:nvSpPr>
        <p:spPr>
          <a:xfrm>
            <a:off x="5286240" y="2714760"/>
            <a:ext cx="642960" cy="214200"/>
          </a:xfrm>
          <a:custGeom>
            <a:avLst/>
            <a:gdLst>
              <a:gd name="textAreaLeft" fmla="*/ 0 w 642960"/>
              <a:gd name="textAreaRight" fmla="*/ 643320 w 642960"/>
              <a:gd name="textAreaTop" fmla="*/ 0 h 214200"/>
              <a:gd name="textAreaBottom" fmla="*/ 214560 h 21420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reeform 19"/>
          <p:cNvSpPr/>
          <p:nvPr/>
        </p:nvSpPr>
        <p:spPr>
          <a:xfrm>
            <a:off x="5214960" y="3143160"/>
            <a:ext cx="357120" cy="214560"/>
          </a:xfrm>
          <a:custGeom>
            <a:avLst/>
            <a:gdLst>
              <a:gd name="textAreaLeft" fmla="*/ 0 w 357120"/>
              <a:gd name="textAreaRight" fmla="*/ 357480 w 357120"/>
              <a:gd name="textAreaTop" fmla="*/ 0 h 214560"/>
              <a:gd name="textAreaBottom" fmla="*/ 214920 h 214560"/>
            </a:gdLst>
            <a:ahLst/>
            <a:rect l="textAreaLeft" t="textAreaTop" r="textAreaRight" b="textAreaBottom"/>
            <a:pathLst>
              <a:path w="900" h="360">
                <a:moveTo>
                  <a:pt x="0" y="0"/>
                </a:moveTo>
                <a:lnTo>
                  <a:pt x="900" y="0"/>
                </a:lnTo>
                <a:lnTo>
                  <a:pt x="900" y="360"/>
                </a:lnTo>
              </a:path>
            </a:pathLst>
          </a:custGeom>
          <a:noFill/>
          <a:ln w="5724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0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8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9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2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0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0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1000"/>
                                        <p:tgtEl>
                                          <p:spTgt spid="2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2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2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2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2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8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4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2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29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7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9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990033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ставка – это часть сло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ставки образуют новые слова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иставки пишутся слитно со слова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C88CE-F49B-4285-B80C-88454ADCCC2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07FCA-439B-468C-9C22-DDFA681CA87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Calibri"/>
              </a:rPr>
              <a:t>Вставьте подходящие по смыслу предлог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    …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ебе ярко светит солнышко.    …крыш свисают сосульки.    …дома лужицы.      …деревьях весело чирикают воробь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E72C-1003-4A9D-A06E-FD7AD068B1E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0A295D-4466-41FC-B06E-AB80ABBC503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28760" y="428760"/>
            <a:ext cx="8229600" cy="142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Calibri"/>
              </a:rPr>
              <a:t>ПРОВЕРК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                                 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есна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       </a:t>
            </a: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В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небе ярко светит солнышко.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С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крыш свисают сосульки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У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дома лужицы.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  </a:t>
            </a:r>
            <a:r>
              <a:rPr b="0" lang="ru-RU" sz="3600" spc="-1" strike="noStrike">
                <a:solidFill>
                  <a:srgbClr val="0000ff"/>
                </a:solidFill>
                <a:latin typeface="Calibri"/>
              </a:rPr>
              <a:t>На</a:t>
            </a: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  деревьях весело чирикают воробьи.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7D54F5-B2AF-4AF2-83C0-B1A8117BCA43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DD113-A863-4792-A02E-216E811FD7C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Line 7"/>
          <p:cNvSpPr/>
          <p:nvPr/>
        </p:nvSpPr>
        <p:spPr>
          <a:xfrm>
            <a:off x="1643040" y="2857680"/>
            <a:ext cx="28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7"/>
          <p:cNvSpPr/>
          <p:nvPr/>
        </p:nvSpPr>
        <p:spPr>
          <a:xfrm>
            <a:off x="928800" y="3500280"/>
            <a:ext cx="2854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7"/>
          <p:cNvSpPr/>
          <p:nvPr/>
        </p:nvSpPr>
        <p:spPr>
          <a:xfrm>
            <a:off x="857160" y="4143240"/>
            <a:ext cx="28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7"/>
          <p:cNvSpPr/>
          <p:nvPr/>
        </p:nvSpPr>
        <p:spPr>
          <a:xfrm>
            <a:off x="1143000" y="4786200"/>
            <a:ext cx="2858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500" fill="hold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7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1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3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500" fill="hold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9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ru-RU" sz="4400" spc="-1" strike="noStrike">
                <a:solidFill>
                  <a:srgbClr val="990033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длог – это отдельное слово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длоги служат для связи слов в предложени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Предлоги  пишутся раздельно со словами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63ECF4-1FD0-41D9-90B9-F1801B03BE2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DA21-31E0-4A44-9E94-06966DA8DFC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990033"/>
                </a:solidFill>
                <a:latin typeface="Calibri"/>
              </a:rPr>
              <a:t>ВЫВОД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244" name=""/>
          <p:cNvGraphicFramePr/>
          <p:nvPr/>
        </p:nvGraphicFramePr>
        <p:xfrm>
          <a:off x="457200" y="1600200"/>
          <a:ext cx="8229600" cy="371808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7012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иставка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40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Предло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часть слова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отдельное слов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737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ужит для образования новых слов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служит для связи слов в предложении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40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шется слитн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6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пишется раздельно</a:t>
                      </a:r>
                      <a:endParaRPr b="0" lang="en-US" sz="3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sp>
        <p:nvSpPr>
          <p:cNvPr id="24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141F5-01EC-4BD7-B476-3492E534B735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3392-2049-4F57-8375-3B7EDC4EBE6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Oval 5"/>
          <p:cNvSpPr/>
          <p:nvPr/>
        </p:nvSpPr>
        <p:spPr>
          <a:xfrm>
            <a:off x="684360" y="404640"/>
            <a:ext cx="7559640" cy="5905800"/>
          </a:xfrm>
          <a:prstGeom prst="ellipse">
            <a:avLst/>
          </a:prstGeom>
          <a:noFill/>
          <a:ln w="7632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2"/>
          <p:cNvSpPr/>
          <p:nvPr/>
        </p:nvSpPr>
        <p:spPr>
          <a:xfrm flipV="1">
            <a:off x="179280" y="189000"/>
            <a:ext cx="8713800" cy="6408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3"/>
          <p:cNvSpPr/>
          <p:nvPr/>
        </p:nvSpPr>
        <p:spPr>
          <a:xfrm flipH="1" flipV="1">
            <a:off x="178920" y="189000"/>
            <a:ext cx="8713800" cy="6408720"/>
          </a:xfrm>
          <a:prstGeom prst="line">
            <a:avLst/>
          </a:prstGeom>
          <a:ln w="7632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Rectangle 4"/>
          <p:cNvSpPr/>
          <p:nvPr/>
        </p:nvSpPr>
        <p:spPr>
          <a:xfrm>
            <a:off x="179280" y="189000"/>
            <a:ext cx="8713800" cy="648000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6"/>
          <p:cNvSpPr/>
          <p:nvPr/>
        </p:nvSpPr>
        <p:spPr>
          <a:xfrm>
            <a:off x="179280" y="260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7"/>
          <p:cNvSpPr/>
          <p:nvPr/>
        </p:nvSpPr>
        <p:spPr>
          <a:xfrm>
            <a:off x="4067280" y="189000"/>
            <a:ext cx="50472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8"/>
          <p:cNvSpPr/>
          <p:nvPr/>
        </p:nvSpPr>
        <p:spPr>
          <a:xfrm flipV="1">
            <a:off x="179280" y="2491920"/>
            <a:ext cx="0" cy="57636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9"/>
          <p:cNvSpPr/>
          <p:nvPr/>
        </p:nvSpPr>
        <p:spPr>
          <a:xfrm>
            <a:off x="8893080" y="3068640"/>
            <a:ext cx="0" cy="64764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0"/>
          <p:cNvSpPr/>
          <p:nvPr/>
        </p:nvSpPr>
        <p:spPr>
          <a:xfrm flipH="1">
            <a:off x="3995640" y="6669000"/>
            <a:ext cx="935280" cy="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1"/>
          <p:cNvSpPr/>
          <p:nvPr/>
        </p:nvSpPr>
        <p:spPr>
          <a:xfrm flipH="1" flipV="1">
            <a:off x="4788000" y="404640"/>
            <a:ext cx="1008000" cy="144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2"/>
          <p:cNvSpPr/>
          <p:nvPr/>
        </p:nvSpPr>
        <p:spPr>
          <a:xfrm flipH="1">
            <a:off x="971640" y="1484280"/>
            <a:ext cx="504720" cy="72072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3"/>
          <p:cNvSpPr/>
          <p:nvPr/>
        </p:nvSpPr>
        <p:spPr>
          <a:xfrm>
            <a:off x="2771640" y="6021360"/>
            <a:ext cx="648000" cy="216000"/>
          </a:xfrm>
          <a:prstGeom prst="line">
            <a:avLst/>
          </a:prstGeom>
          <a:ln w="7632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Picture 14" descr="36_12_3"/>
          <p:cNvPicPr/>
          <p:nvPr/>
        </p:nvPicPr>
        <p:blipFill>
          <a:blip r:embed="rId1"/>
          <a:stretch/>
        </p:blipFill>
        <p:spPr>
          <a:xfrm>
            <a:off x="7093080" y="1125360"/>
            <a:ext cx="1741320" cy="239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0" dur="indefinite" restart="never" nodeType="tmRoot">
          <p:childTnLst>
            <p:seq>
              <p:cTn id="371" dur="indefinite" nodeType="mainSeq">
                <p:childTnLst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autoRev="1" nodeType="click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1841 0.11389 C 0.02327 0.07523 0.02188 0.03356 0.02257 -0.00463 C 0.02205 -0.06459 0.02205 -0.12431 0.02118 -0.18426 C 0.02118 -0.18611 0.02014 -0.18797 0.0198 -0.18982 C 0.01684 -0.20695 0.01441 -0.22454 0.01146 -0.24167 C 0.01059 -0.24699 0.01077 -0.26204 0.00452 -0.26204 C -0.09965 -0.26389 -0.20399 -0.2632 -0.30816 -0.26389 C -0.33194 -0.26644 -0.35069 -0.26829 -0.37604 -0.26945 C -0.41198 -0.28148 -0.4493 -0.28843 -0.48576 -0.29537 C -0.496 -0.3 -0.50711 -0.29977 -0.5177 -0.30093 C -0.56076 -0.30023 -0.60382 -0.3 -0.64687 -0.29908 C -0.67482 -0.29838 -0.70711 -0.29815 -0.73437 -0.28611 C -0.73732 -0.2831 -0.74114 -0.28195 -0.74409 -0.27871 C -0.74583 -0.27662 -0.74652 -0.27338 -0.74826 -0.2713 C -0.7526 -0.26644 -0.77343 -0.26412 -0.77465 -0.26389 C -0.7908 -0.26111 -0.80711 -0.25926 -0.82326 -0.25648 C -0.82274 -0.19422 -0.82257 -0.13172 -0.82187 -0.06945 C -0.8217 -0.05023 -0.82083 -0.03125 -0.82048 -0.01204 C -0.82014 0.00949 -0.82361 0.10231 -0.81632 0.14166 C -0.80868 0.23287 -0.81371 0.16643 -0.81632 0.38611 C -0.81649 0.40069 -0.81996 0.41805 -0.82187 0.4324 C -0.82309 0.4412 -0.82604 0.45833 -0.82604 0.45856 C -0.82656 0.46875 -0.82743 0.4794 -0.82743 0.48981 C -0.82743 0.50463 -0.82899 0.5199 -0.82604 0.53426 C -0.82534 0.53796 -0.82066 0.53796 -0.8177 0.53796 C -0.78073 0.53865 -0.74357 0.53935 -0.70659 0.53981 C -0.5217 0.54236 -0.49583 0.54213 -0.27465 0.54352 C -0.26475 0.54676 -0.25555 0.55092 -0.24548 0.55278 C -0.23333 0.55833 -0.22083 0.56666 -0.20833 0.56944 C 0.12917 0.56643 -0.01441 0.66134 0.01007 0.53055 C 0.01025 0.5162 0.01233 0.35115 0.01285 0.3287 C 0.0132 0.31412 0.01268 0.3169 0.01702 0.30833 C 0.01927 0.29004 0.02014 0.2699 0.02535 0.25278 C 0.02726 0.23773 0.02726 0.22129 0.03368 0.20833 C 0.0382 0.17199 0.03629 0.15092 0.03507 0.10648 C 0.03455 0.0875 0.03664 0.0919 0.03091 0.08426 E">
                                      <p:cBhvr>
                                        <p:cTn id="375" dur="3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autoRev="1" nodeType="click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2812 0.1537 C -0.02864 0.17083 -0.0276 0.1956 -0.0309 0.21481 C -0.03298 0.22708 -0.0408 0.24166 -0.04618 0.25185 C -0.05798 0.27384 -0.06753 0.2949 -0.08229 0.31481 C -0.08767 0.32176 -0.08975 0.33102 -0.09618 0.33703 C -0.1033 0.35092 -0.09357 0.33379 -0.10451 0.34629 C -0.10902 0.35162 -0.1125 0.35926 -0.11701 0.36481 C -0.11857 0.36666 -0.12083 0.3669 -0.12257 0.36852 C -0.13854 0.38356 -0.11319 0.36365 -0.13229 0.37963 C -0.13402 0.38078 -0.13611 0.38148 -0.13784 0.3831 C -0.14496 0.39004 -0.15 0.39953 -0.15868 0.40347 C -0.16753 0.41944 -0.18576 0.42986 -0.20034 0.4331 C -0.2158 0.44653 -0.23159 0.46134 -0.25034 0.46458 C -0.25746 0.47199 -0.26145 0.46898 -0.2684 0.47361 C -0.28507 0.48495 -0.28559 0.4831 -0.30729 0.48495 C -0.31527 0.48703 -0.32066 0.49028 -0.32812 0.49421 C -0.36041 0.49282 -0.39218 0.49259 -0.42395 0.48495 C -0.43854 0.48125 -0.45069 0.47268 -0.46423 0.46643 C -0.46979 0.45555 -0.4809 0.4544 -0.48923 0.44791 C -0.5026 0.43796 -0.48246 0.45278 -0.49757 0.43703 C -0.5 0.43449 -0.50312 0.4331 -0.5059 0.43148 C -0.51093 0.42153 -0.51944 0.41296 -0.52812 0.40926 C -0.53715 0.39421 -0.55347 0.38102 -0.56562 0.37014 C -0.57135 0.36504 -0.5783 0.35486 -0.58507 0.35162 C -0.59114 0.34583 -0.59461 0.34097 -0.60173 0.33703 C -0.60642 0.32453 -0.60642 0.33148 -0.61423 0.32384 C -0.62239 0.31597 -0.6309 0.30254 -0.64062 0.29815 C -0.65277 0.28194 -0.63732 0.30185 -0.64895 0.28889 C -0.65364 0.28333 -0.65416 0.27824 -0.66007 0.27569 C -0.66597 0.26435 -0.67343 0.25254 -0.6809 0.24259 C -0.68472 0.22731 -0.69305 0.21389 -0.69895 0.2 C -0.70434 0.1875 -0.70659 0.17338 -0.71284 0.16111 C -0.71736 0.13703 -0.71441 0.15555 -0.71284 0.10185 C -0.71267 0.09606 -0.71319 0.05694 -0.70868 0.04259 C -0.70364 0.02639 -0.6875 -0.00047 -0.67812 -0.01297 C -0.67482 -0.02616 -0.66458 -0.0301 -0.65729 -0.03889 C -0.64548 -0.05301 -0.63732 -0.06412 -0.62395 -0.07593 C -0.61875 -0.08635 -0.59774 -0.10672 -0.58784 -0.11111 C -0.57708 -0.12547 -0.59097 -0.1081 -0.57812 -0.12037 C -0.57361 -0.12454 -0.56996 -0.13079 -0.56562 -0.13519 C -0.56302 -0.13797 -0.56007 -0.14005 -0.55729 -0.1426 C -0.5559 -0.14375 -0.55312 -0.1463 -0.55312 -0.14607 C -0.5493 -0.15394 -0.54166 -0.15996 -0.53507 -0.16297 C -0.53316 -0.16482 -0.53159 -0.16713 -0.52951 -0.16852 C -0.52691 -0.17037 -0.52361 -0.17014 -0.52118 -0.17222 C -0.50798 -0.18403 -0.49375 -0.18542 -0.47812 -0.18704 C -0.40607 -0.20625 -0.46892 -0.19074 -0.28645 -0.18889 C -0.27673 -0.1801 -0.28906 -0.19028 -0.27534 -0.18334 C -0.26909 -0.18033 -0.26562 -0.17593 -0.25868 -0.17408 C -0.25225 -0.16991 -0.24583 -0.16806 -0.23923 -0.16482 C -0.23264 -0.16158 -0.22777 -0.15486 -0.22118 -0.15185 C -0.21666 -0.14306 -0.20955 -0.13912 -0.20312 -0.13334 C -0.196 -0.11898 -0.18159 -0.11181 -0.17118 -0.10185 C -0.16493 -0.09584 -0.1618 -0.09097 -0.15451 -0.08704 C -0.14705 -0.07709 -0.13854 -0.06644 -0.12812 -0.06297 C -0.11996 -0.05463 -0.11458 -0.04398 -0.1059 -0.03704 C -0.09965 -0.02593 -0.09114 -0.02292 -0.08368 -0.01297 C -0.07777 -0.0051 -0.07309 0.00301 -0.06701 0.01111 C -0.06458 0.01435 -0.06336 0.01852 -0.06145 0.02222 C -0.0592 0.02662 -0.05538 0.02893 -0.05312 0.0331 C -0.05104 0.0375 -0.04982 0.04213 -0.04757 0.04629 C -0.046 0.04884 -0.04357 0.05092 -0.04201 0.0537 C -0.03732 0.06203 -0.03524 0.0699 -0.02951 0.07731 C -0.02621 0.09097 -0.01892 0.10046 -0.01423 0.11296 C -0.01076 0.14467 -0.01597 0.11111 -0.00868 0.13333 C -0.00711 0.13796 -0.00711 0.14328 -0.0059 0.14815 C -0.00642 0.15856 -0.00607 0.16921 -0.00729 0.17963 C -0.00833 0.18889 -0.02222 0.20416 -0.02812 0.20926 C -0.02899 0.21111 -0.0309 0.21481 -0.0309 0.21504 E">
                                      <p:cBhvr>
                                        <p:cTn id="379" dur="3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nodeType="clickEffect" fill="hold">
                      <p:stCondLst>
                        <p:cond delay="indefinite"/>
                      </p:stCondLst>
                      <p:childTnLst>
                        <p:par>
                          <p:cTn id="3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47 0.1787 C 0.00608 0.17801 0.00469 0.17778 0.0033 0.17685 C 0.00174 0.17592 0.0007 0.17384 -0.00086 0.17315 C -0.00972 0.16875 -0.02743 0.16574 -0.03698 0.16389 C -0.04861 0.15879 -0.03593 0.16389 -0.06198 0.16018 C -0.07257 0.15879 -0.08333 0.1537 -0.09392 0.15092 C -0.26458 0.15208 -0.26666 0.15463 -0.35503 0.15463 E">
                                      <p:cBhvr>
                                        <p:cTn id="383" dur="3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autoRev="1" nodeType="click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35503 0.15463 C -0.36476 0.15555 -0.37552 0.15254 -0.3842 0.15833 C -0.3875 0.16041 -0.38958 0.16481 -0.39253 0.16759 C -0.39687 0.17893 -0.3941 0.17268 -0.40087 0.18611 C -0.40173 0.18773 -0.40382 0.18703 -0.40503 0.18796 C -0.40798 0.19004 -0.41059 0.19282 -0.41337 0.19537 C -0.41875 0.2 -0.4191 0.20717 -0.42448 0.21203 C -0.42778 0.21852 -0.43194 0.22083 -0.43559 0.22685 C -0.44062 0.23495 -0.44444 0.24259 -0.45087 0.24907 C -0.4618 0.27801 -0.47569 0.28356 -0.49809 0.29352 C -0.50347 0.29583 -0.50712 0.30139 -0.51198 0.30463 C -0.51302 0.30648 -0.51354 0.30856 -0.51476 0.31018 C -0.51614 0.3118 -0.51788 0.31227 -0.5191 0.31389 C -0.52778 0.32801 -0.51597 0.31597 -0.52587 0.325 C -0.53316 0.33935 -0.54479 0.34213 -0.55521 0.35092 C -0.56146 0.35625 -0.56597 0.3662 -0.57309 0.36944 C -0.57951 0.37222 -0.58385 0.37847 -0.58976 0.3824 C -0.60226 0.39074 -0.61302 0.40162 -0.62448 0.41203 C -0.63212 0.42754 -0.64531 0.42963 -0.65642 0.43796 C -0.66076 0.4412 -0.66545 0.44444 -0.6691 0.44907 C -0.67153 0.45231 -0.67396 0.45602 -0.67726 0.45833 C -0.68507 0.46296 -0.68802 0.4625 -0.6967 0.46389 C -0.70312 0.46828 -0.70573 0.46898 -0.71076 0.4787 C -0.71146 0.48055 -0.71198 0.48287 -0.71337 0.48426 C -0.7158 0.4868 -0.7191 0.4875 -0.7217 0.48981 C -0.72864 0.5037 -0.71979 0.48657 -0.72864 0.50092 C -0.73107 0.50486 -0.73177 0.50995 -0.7342 0.51365 C -0.73524 0.51551 -0.73715 0.51597 -0.73837 0.51736 C -0.74045 0.52014 -0.74722 0.53426 -0.74809 0.53611 C -0.7533 0.54652 -0.75191 0.53773 -0.76059 0.54537 C -0.76337 0.54791 -0.76892 0.55277 -0.76892 0.55277 C -0.78212 0.57916 -0.79635 0.58541 -0.81892 0.58796 C -0.81979 0.58981 -0.82048 0.59189 -0.8217 0.59352 C -0.82292 0.59514 -0.82482 0.59537 -0.82587 0.59722 C -0.82778 0.60046 -0.8283 0.60486 -0.83003 0.60833 C -0.82864 0.60902 -0.82726 0.61088 -0.82587 0.61018 C -0.81979 0.6074 -0.81545 0.6 -0.8092 0.59722 C -0.8033 0.58541 -0.79271 0.58055 -0.7842 0.57314 C -0.77969 0.56435 -0.775 0.56273 -0.76771 0.56018 C -0.75903 0.55277 -0.74809 0.54977 -0.73837 0.54537 C -0.73542 0.54398 -0.73298 0.5412 -0.73003 0.53981 C -0.72361 0.53333 -0.71701 0.52754 -0.7092 0.525 C -0.69861 0.51551 -0.68837 0.50463 -0.67864 0.49352 C -0.67083 0.48449 -0.66371 0.47384 -0.65364 0.46944 C -0.65243 0.46481 -0.64427 0.45185 -0.64114 0.44907 C -0.63298 0.44143 -0.63785 0.45 -0.63142 0.43981 C -0.63038 0.43819 -0.63003 0.43541 -0.62864 0.43426 C -0.62621 0.43217 -0.62031 0.43055 -0.62031 0.43055 C -0.61528 0.42384 -0.60903 0.4206 -0.60226 0.41759 C -0.59687 0.41227 -0.59201 0.40926 -0.58559 0.40648 C -0.57951 0.40023 -0.57448 0.3993 -0.56771 0.39514 C -0.56059 0.3912 -0.55382 0.38564 -0.5467 0.3824 C -0.53663 0.36898 -0.5243 0.35787 -0.51337 0.34537 C -0.50868 0.33981 -0.50087 0.32685 -0.50087 0.32685 C -0.49965 0.3199 -0.4967 0.31319 -0.49253 0.30833 C -0.4901 0.30532 -0.4842 0.30092 -0.4842 0.30092 C -0.48212 0.29236 -0.48003 0.29467 -0.47448 0.28981 C -0.46892 0.27847 -0.45555 0.26736 -0.44531 0.26389 C -0.44045 0.2574 -0.43368 0.25254 -0.42726 0.24907 C -0.42326 0.24676 -0.41476 0.24352 -0.41476 0.24352 C -0.41285 0.24166 -0.41128 0.23935 -0.4092 0.23796 C -0.4066 0.23611 -0.4033 0.23634 -0.40087 0.23426 C -0.39496 0.22939 -0.39253 0.22222 -0.38559 0.21944 C -0.38038 0.21412 -0.37569 0.20787 -0.37031 0.20277 C -0.36736 0.2 -0.36371 0.19814 -0.36059 0.19537 C -0.35694 0.18564 -0.35104 0.1787 -0.3467 0.16944 C -0.34167 0.15856 -0.33785 0.15139 -0.33021 0.14352 C -0.32708 0.13518 -0.32153 0.12801 -0.31476 0.125 C -0.31024 0.1206 -0.3059 0.11319 -0.30087 0.11018 C -0.29826 0.10856 -0.29271 0.10648 -0.29271 0.10648 C -0.28576 0.09745 -0.27795 0.09328 -0.27048 0.08611 C -0.26302 0.07916 -0.25729 0.0699 -0.24948 0.06389 C -0.23819 0.05532 -0.22656 0.04768 -0.21476 0.03981 C -0.20833 0.02685 -0.19531 0.02106 -0.18698 0.01018 C -0.1842 0.00648 -0.18194 0.00208 -0.17864 -0.00093 C -0.17257 -0.00625 -0.16667 -0.01227 -0.16076 -0.0176 C -0.1592 -0.01875 -0.15642 -0.0213 -0.15642 -0.0213 C -0.15278 -0.02871 -0.14583 -0.03195 -0.13976 -0.03611 C -0.13819 -0.04283 -0.13489 -0.04468 -0.13003 -0.04723 C -0.12743 -0.04885 -0.1217 -0.05093 -0.1217 -0.05093 C -0.11545 -0.05718 -0.11007 -0.06528 -0.10364 -0.0713 C -0.09548 -0.07894 -0.0868 -0.08565 -0.07864 -0.09352 C -0.07326 -0.09861 -0.06962 -0.10556 -0.06337 -0.10834 C -0.05903 -0.11644 -0.05521 -0.1176 -0.04948 -0.12315 C -0.04601 -0.12639 -0.04323 -0.13102 -0.03976 -0.13426 C -0.0316 -0.1419 -0.02239 -0.14931 -0.01476 -0.15834 C -0.01042 -0.16366 -0.00642 -0.16945 -0.00226 -0.17523 C 0.00347 -0.18264 0.01285 -0.18588 0.01858 -0.19352 C 0.02518 -0.20232 0.0217 -0.19977 0.0283 -0.20278 C 0.03646 -0.21366 0.04653 -0.22385 0.05608 -0.23241 C 0.0592 -0.23889 0.06719 -0.24908 0.07136 -0.25278 C 0.07413 -0.25533 0.07969 -0.26019 0.07969 -0.26019 C 0.08524 -0.2713 0.09531 -0.27709 0.1033 -0.28426 C 0.1066 -0.29098 0.10955 -0.29098 0.11441 -0.29537 C 0.11719 -0.30672 0.11181 -0.30278 0.10608 -0.30093 C 0.09809 -0.28496 0.10868 -0.30371 0.09913 -0.29352 C 0.09774 -0.29213 0.09757 -0.28936 0.09636 -0.28797 C 0.09167 -0.28241 0.08577 -0.27778 0.07969 -0.275 C 0.07708 -0.27153 0.07396 -0.26922 0.07136 -0.26574 C 0.07014 -0.26412 0.07014 -0.26111 0.06858 -0.26019 C 0.06511 -0.25787 0.06111 -0.25764 0.05747 -0.25648 C 0.05469 -0.25556 0.05018 -0.25139 0.04774 -0.24908 C 0.04011 -0.2338 0.05018 -0.25139 0.0408 -0.24167 C 0.03611 -0.23681 0.03299 -0.22963 0.0283 -0.225 C 0.02379 -0.22061 0.01893 -0.21436 0.01441 -0.21019 C 0.01181 -0.20787 0.00868 -0.20695 0.00608 -0.20463 C 0.00417 -0.19723 0.00261 -0.19422 -0.00226 -0.18982 C -0.00642 -0.18148 -0.01163 -0.1794 -0.01753 -0.17523 C -0.02048 -0.17292 -0.02587 -0.1676 -0.02587 -0.1676 C -0.03281 -0.15371 -0.02344 -0.16968 -0.0342 -0.16019 C -0.03559 -0.15903 -0.03576 -0.15602 -0.03698 -0.15463 C -0.03854 -0.15278 -0.0408 -0.15255 -0.04253 -0.15093 C -0.05607 -0.13889 -0.06667 -0.12176 -0.08142 -0.11204 C -0.08576 -0.10348 -0.09427 -0.09931 -0.10087 -0.09352 C -0.11076 -0.08473 -0.11962 -0.07408 -0.12864 -0.06389 C -0.13246 -0.05973 -0.13698 -0.05834 -0.14114 -0.05463 C -0.14705 -0.04306 -0.13976 -0.05463 -0.15087 -0.04723 C -0.1526 -0.04607 -0.15347 -0.04352 -0.15503 -0.0419 C -0.15781 -0.03889 -0.16128 -0.03773 -0.16337 -0.03426 C -0.16632 -0.02894 -0.17187 -0.01829 -0.17587 -0.01574 C -0.1816 -0.01204 -0.18194 -0.01227 -0.18698 -0.00648 C -0.20208 0.01088 -0.22031 0.02268 -0.23559 0.03981 C -0.24305 0.04814 -0.2493 0.05509 -0.25798 0.06203 C -0.26962 0.07176 -0.25521 0.06458 -0.26614 0.06944 C -0.28055 0.08865 -0.29792 0.10277 -0.31476 0.11759 C -0.31562 0.11944 -0.31614 0.12199 -0.31771 0.12314 C -0.31996 0.12523 -0.32587 0.12685 -0.32587 0.12685 C -0.3309 0.13356 -0.33594 0.13865 -0.34271 0.14166 C -0.34392 0.14352 -0.34479 0.14676 -0.3467 0.14722 C -0.35712 0.15023 -0.36024 0.13727 -0.36614 0.13032 C -0.36857 0.12754 -0.3717 0.12569 -0.37448 0.12314 C -0.37587 0.12199 -0.37864 0.11944 -0.37864 0.11944 C -0.38298 0.11064 -0.3901 0.09953 -0.3967 0.09352 C -0.40243 0.08217 -0.39601 0.09328 -0.40364 0.08426 C -0.41094 0.07546 -0.41753 0.06574 -0.42448 0.05648 C -0.42587 0.05463 -0.42726 0.05277 -0.42864 0.05092 C -0.43107 0.04768 -0.43698 0.04352 -0.43698 0.04352 C -0.44114 0.03518 -0.44271 0.03842 -0.44809 0.0324 C -0.45885 0.0206 -0.44601 0.0324 -0.45642 0.02314 C -0.46146 0.01319 -0.46962 0.00926 -0.47587 0.00092 C -0.48403 -0.00996 -0.49184 -0.0213 -0.50087 -0.03056 C -0.50798 -0.03773 -0.51649 -0.04028 -0.52309 -0.04723 C -0.52691 -0.05116 -0.53646 -0.06227 -0.53976 -0.0676 C -0.54097 -0.06922 -0.54114 -0.07176 -0.54271 -0.07315 C -0.55382 -0.08519 -0.53941 -0.0632 -0.55087 -0.07871 C -0.55243 -0.08079 -0.55347 -0.08403 -0.55521 -0.08611 C -0.5592 -0.09121 -0.56788 -0.09792 -0.57309 -0.10093 C -0.58351 -0.10695 -0.57882 -0.10186 -0.58698 -0.10834 C -0.59774 -0.11713 -0.6066 -0.12986 -0.61753 -0.13797 C -0.62847 -0.1463 -0.64028 -0.15301 -0.65226 -0.15834 C -0.66232 -0.16273 -0.67396 -0.17778 -0.6842 -0.18241 C -0.68732 -0.18565 -0.69114 -0.18797 -0.69392 -0.19167 C -0.69514 -0.19329 -0.69548 -0.19584 -0.6967 -0.19723 C -0.69826 -0.19908 -0.70069 -0.19931 -0.70226 -0.20093 C -0.70538 -0.20417 -0.70712 -0.20973 -0.71076 -0.21204 C -0.71753 -0.21667 -0.72448 -0.225 -0.73003 -0.23241 C -0.74062 -0.24653 -0.75243 -0.26829 -0.76771 -0.275 C -0.775 -0.28496 -0.78281 -0.29514 -0.79253 -0.30093 C -0.79514 -0.30255 -0.79809 -0.30348 -0.80087 -0.30463 C -0.80226 -0.30533 -0.80503 -0.30648 -0.80503 -0.30648 C -0.80208 -0.29491 -0.79045 -0.27061 -0.78281 -0.26204 C -0.7816 -0.26065 -0.78003 -0.25973 -0.77864 -0.25834 C -0.77673 -0.25648 -0.77482 -0.25486 -0.77309 -0.25278 C -0.76684 -0.24561 -0.76337 -0.23681 -0.75642 -0.23056 C -0.74878 -0.21528 -0.73923 -0.20162 -0.72864 -0.18982 C -0.72743 -0.18843 -0.72587 -0.18727 -0.72448 -0.18611 C -0.72274 -0.18473 -0.72048 -0.18403 -0.71892 -0.18241 C -0.7158 -0.17917 -0.71389 -0.17454 -0.71076 -0.1713 C -0.7092 -0.17014 -0.70781 -0.16875 -0.70642 -0.1676 C -0.70069 -0.15602 -0.6908 -0.1463 -0.68142 -0.13982 C -0.67778 -0.13241 -0.67239 -0.1301 -0.66614 -0.12686 C -0.66337 -0.12547 -0.65781 -0.12315 -0.65781 -0.12315 C -0.65087 -0.11389 -0.64253 -0.10648 -0.63559 -0.09723 C -0.62899 -0.08843 -0.63767 -0.08843 -0.62309 -0.07871 C -0.61597 -0.07385 -0.61163 -0.06644 -0.60503 -0.06019 C -0.59167 -0.04746 -0.57864 -0.03519 -0.56614 -0.0213 C -0.55937 -0.01366 -0.56476 -0.01713 -0.5566 -0.01019 C -0.55104 -0.00556 -0.55121 -0.00787 -0.5467 -0.00278 C -0.54514 -0.00116 -0.54427 0.00139 -0.54271 0.00277 C -0.53021 0.01365 -0.54739 -0.00625 -0.5342 0.00833 C -0.53264 0.00995 -0.53177 0.0125 -0.53021 0.01365 C -0.52656 0.01666 -0.5191 0.02129 -0.5191 0.02129 C -0.51337 0.0324 -0.50521 0.04027 -0.4967 0.04722 C -0.4934 0.05 -0.49149 0.05509 -0.48837 0.05833 C -0.48351 0.06319 -0.47951 0.06875 -0.47448 0.07291 C -0.4651 0.09189 -0.45191 0.09629 -0.43837 0.10648 C -0.43177 0.11134 -0.42344 0.11689 -0.41614 0.11944 C -0.40364 0.13611 -0.42101 0.11412 -0.40642 0.1287 C -0.39896 0.13634 -0.3993 0.13912 -0.38976 0.14166 C -0.38611 0.14421 -0.38212 0.14606 -0.37864 0.14907 C -0.37587 0.15162 -0.37031 0.15648 -0.37031 0.15648 C -0.36354 0.1699 -0.35555 0.18264 -0.34531 0.19166 C -0.33646 0.20972 -0.35069 0.18217 -0.33698 0.20277 C -0.33212 0.21018 -0.32969 0.21805 -0.32448 0.225 C -0.32101 0.23912 -0.30607 0.2574 -0.2967 0.26574 C -0.29132 0.27615 -0.28177 0.27986 -0.27448 0.28796 C -0.26076 0.30324 -0.27847 0.28449 -0.26771 0.29907 C -0.2651 0.30231 -0.26076 0.30555 -0.25798 0.30833 C -0.24844 0.31759 -0.23976 0.32731 -0.23021 0.33611 C -0.22153 0.34352 -0.21805 0.3537 -0.20798 0.35833 C -0.20312 0.36759 -0.19444 0.36944 -0.18976 0.3787 C -0.18611 0.38634 -0.18854 0.38379 -0.18142 0.38611 C -0.17465 0.39282 -0.16753 0.40208 -0.1592 0.40648 C -0.15642 0.40787 -0.15347 0.40833 -0.15087 0.41018 C -0.14792 0.41227 -0.14253 0.41759 -0.14253 0.41759 C -0.1375 0.42777 -0.13125 0.4375 -0.12448 0.44537 C -0.11319 0.45879 -0.12048 0.45463 -0.11198 0.45833 C -0.10156 0.47222 -0.09062 0.47453 -0.07726 0.48055 C -0.07569 0.48125 -0.07465 0.48356 -0.07309 0.48426 C -0.07083 0.48541 -0.0684 0.48541 -0.06614 0.48611 C -0.06476 0.48727 -0.06354 0.48889 -0.06198 0.48981 C -0.05972 0.4912 -0.05712 0.49166 -0.05503 0.49352 C -0.04948 0.49814 -0.04514 0.50694 -0.03976 0.5118 C -0.03073 0.5206 -0.02135 0.52963 -0.01198 0.53796 C -0.00642 0.54907 0.00417 0.56088 0.01302 0.56759 C 0.01667 0.57037 0.02066 0.57176 0.02413 0.575 C 0.03333 0.5831 0.03715 0.58703 0.04774 0.58981 C 0.05486 0.59467 0.05382 0.59838 0.06163 0.60092 C 0.06302 0.60347 0.06389 0.60671 0.0658 0.60833 C 0.06788 0.60995 0.07049 0.60902 0.07274 0.61018 C 0.07431 0.61088 0.07535 0.61296 0.07691 0.61389 C 0.0849 0.61852 0.09479 0.61967 0.1033 0.62129 C 0.10886 0.6206 0.11511 0.62291 0.11997 0.61944 C 0.12274 0.61736 0.11667 0.60602 0.1158 0.60463 C 0.10816 0.59236 0.09809 0.58379 0.08663 0.5787 C 0.07934 0.56898 0.08611 0.57685 0.07691 0.56944 C 0.07413 0.56713 0.06858 0.56203 0.06858 0.56203 C 0.06493 0.55463 0.06059 0.55486 0.05469 0.55092 C 0.05035 0.54328 0.04497 0.53541 0.03802 0.5324 C 0.03108 0.52314 0.0224 0.51597 0.01441 0.5081 C 0.00903 0.50324 0.00538 0.49629 -0.00087 0.49352 C -0.01753 0.47685 -0.03333 0.45972 -0.05087 0.44537 C -0.05642 0.44074 -0.05746 0.43495 -0.06337 0.4324 C -0.07413 0.41805 -0.06024 0.43541 -0.07309 0.42314 C -0.07934 0.41713 -0.08489 0.40879 -0.09114 0.40254 C -0.09288 0.40115 -0.09496 0.40069 -0.0967 0.39884 C -0.10798 0.38819 -0.11701 0.3743 -0.12864 0.36389 C -0.13646 0.35694 -0.14132 0.34606 -0.14826 0.33796 C -0.15052 0.33472 -0.15642 0.33055 -0.15642 0.33055 C -0.16423 0.30532 -0.15191 0.34259 -0.16892 0.30833 C -0.17587 0.29444 -0.18194 0.28264 -0.19114 0.27129 C -0.19444 0.26713 -0.19844 0.26342 -0.20087 0.25833 C -0.20191 0.25648 -0.20243 0.25439 -0.20364 0.25277 C -0.21128 0.24282 -0.22048 0.23518 -0.22864 0.22685 C -0.2375 0.21759 -0.24566 0.20509 -0.25521 0.19722 C -0.25712 0.19537 -0.25972 0.1949 -0.26198 0.19352 C -0.26701 0.19004 -0.27101 0.18426 -0.27587 0.18055 C -0.28194 0.17592 -0.28923 0.17361 -0.29548 0.16944 C -0.3066 0.1618 -0.31857 0.15602 -0.33021 0.14907 C -0.33385 0.14676 -0.3375 0.14421 -0.34114 0.14166 C -0.34722 0.13773 -0.34323 0.13796 -0.3467 0.13796 E">
                                      <p:cBhvr>
                                        <p:cTn id="387" dur="3000" fill="hold"/>
                                        <p:tgtEl>
                                          <p:spTgt spid="2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6T17:41:13Z</dcterms:created>
  <dc:creator>Admin</dc:creator>
  <dc:description/>
  <dc:language>en-US</dc:language>
  <cp:lastModifiedBy>Михаил</cp:lastModifiedBy>
  <dcterms:modified xsi:type="dcterms:W3CDTF">2020-04-08T03:58:44Z</dcterms:modified>
  <cp:revision>71</cp:revision>
  <dc:subject/>
  <dc:title>Слайд 1</dc:title>
</cp:coreProperties>
</file>