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2C74-BF2B-4408-8550-E8168C6D9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2D69-75D4-4E2D-A5DF-4A9605FC2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984-EC66-4FF4-8A37-095670288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6803-8EDE-4C43-B8D4-4E0287E2A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DA0-6B8C-4BE9-8DC2-080BF063F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28B0-1B8A-4C6E-A3B7-8E0128F2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18F-8065-469F-AB92-9E6A3C60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54B6-4162-4F7A-9FE1-012261C4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33C7-4DD1-40FB-9699-C2C251309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EF6F-838C-4C86-BC3B-2AACB54C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D08-0611-4E98-B611-51884CC6E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EDDD-91F3-4C39-9110-46DDDF437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9B2F7-C299-4CC4-B364-EC73FD28812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176FB-5A50-4954-97FC-5F93639313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4290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Овал 11"/>
          <p:cNvGrpSpPr/>
          <p:nvPr/>
        </p:nvGrpSpPr>
        <p:grpSpPr>
          <a:xfrm>
            <a:off x="3822840" y="579600"/>
            <a:ext cx="907920" cy="901440"/>
            <a:chOff x="3822840" y="579600"/>
            <a:chExt cx="907920" cy="901440"/>
          </a:xfrm>
        </p:grpSpPr>
        <p:pic>
          <p:nvPicPr>
            <p:cNvPr id="51" name="Овал 11" descr=""/>
            <p:cNvPicPr/>
            <p:nvPr/>
          </p:nvPicPr>
          <p:blipFill>
            <a:blip r:embed="rId1"/>
            <a:stretch/>
          </p:blipFill>
          <p:spPr>
            <a:xfrm>
              <a:off x="3822840" y="579600"/>
              <a:ext cx="9079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Овал 20"/>
          <p:cNvGrpSpPr/>
          <p:nvPr/>
        </p:nvGrpSpPr>
        <p:grpSpPr>
          <a:xfrm>
            <a:off x="1103400" y="933480"/>
            <a:ext cx="907920" cy="901800"/>
            <a:chOff x="1103400" y="933480"/>
            <a:chExt cx="907920" cy="901800"/>
          </a:xfrm>
        </p:grpSpPr>
        <p:pic>
          <p:nvPicPr>
            <p:cNvPr id="62" name="Овал 20" descr=""/>
            <p:cNvPicPr/>
            <p:nvPr/>
          </p:nvPicPr>
          <p:blipFill>
            <a:blip r:embed="rId2"/>
            <a:stretch/>
          </p:blipFill>
          <p:spPr>
            <a:xfrm>
              <a:off x="1103400" y="933480"/>
              <a:ext cx="907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Овал 29"/>
          <p:cNvGrpSpPr/>
          <p:nvPr/>
        </p:nvGrpSpPr>
        <p:grpSpPr>
          <a:xfrm>
            <a:off x="7796160" y="1542960"/>
            <a:ext cx="909720" cy="901800"/>
            <a:chOff x="7796160" y="1542960"/>
            <a:chExt cx="909720" cy="901800"/>
          </a:xfrm>
        </p:grpSpPr>
        <p:pic>
          <p:nvPicPr>
            <p:cNvPr id="73" name="Овал 29" descr=""/>
            <p:cNvPicPr/>
            <p:nvPr/>
          </p:nvPicPr>
          <p:blipFill>
            <a:blip r:embed="rId3"/>
            <a:stretch/>
          </p:blipFill>
          <p:spPr>
            <a:xfrm>
              <a:off x="7796160" y="1542960"/>
              <a:ext cx="909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Овал 83"/>
          <p:cNvGrpSpPr/>
          <p:nvPr/>
        </p:nvGrpSpPr>
        <p:grpSpPr>
          <a:xfrm>
            <a:off x="6010200" y="609480"/>
            <a:ext cx="908280" cy="901800"/>
            <a:chOff x="6010200" y="609480"/>
            <a:chExt cx="908280" cy="901800"/>
          </a:xfrm>
        </p:grpSpPr>
        <p:pic>
          <p:nvPicPr>
            <p:cNvPr id="129" name="Овал 83" descr=""/>
            <p:cNvPicPr/>
            <p:nvPr/>
          </p:nvPicPr>
          <p:blipFill>
            <a:blip r:embed="rId4"/>
            <a:stretch/>
          </p:blipFill>
          <p:spPr>
            <a:xfrm>
              <a:off x="6010200" y="609480"/>
              <a:ext cx="908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Овал 93"/>
          <p:cNvGrpSpPr/>
          <p:nvPr/>
        </p:nvGrpSpPr>
        <p:grpSpPr>
          <a:xfrm>
            <a:off x="225360" y="2328840"/>
            <a:ext cx="908280" cy="901800"/>
            <a:chOff x="225360" y="2328840"/>
            <a:chExt cx="908280" cy="901800"/>
          </a:xfrm>
        </p:grpSpPr>
        <p:pic>
          <p:nvPicPr>
            <p:cNvPr id="141" name="Овал 93" descr=""/>
            <p:cNvPicPr/>
            <p:nvPr/>
          </p:nvPicPr>
          <p:blipFill>
            <a:blip r:embed="rId5"/>
            <a:stretch/>
          </p:blipFill>
          <p:spPr>
            <a:xfrm>
              <a:off x="225360" y="2328840"/>
              <a:ext cx="908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Овал 122"/>
          <p:cNvGrpSpPr/>
          <p:nvPr/>
        </p:nvGrpSpPr>
        <p:grpSpPr>
          <a:xfrm>
            <a:off x="2511360" y="396720"/>
            <a:ext cx="549360" cy="547920"/>
            <a:chOff x="2511360" y="396720"/>
            <a:chExt cx="549360" cy="547920"/>
          </a:xfrm>
        </p:grpSpPr>
        <p:pic>
          <p:nvPicPr>
            <p:cNvPr id="172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6720"/>
              <a:ext cx="5493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123"/>
          <p:cNvGrpSpPr/>
          <p:nvPr/>
        </p:nvGrpSpPr>
        <p:grpSpPr>
          <a:xfrm>
            <a:off x="5084640" y="1255680"/>
            <a:ext cx="547920" cy="542880"/>
            <a:chOff x="5084640" y="1255680"/>
            <a:chExt cx="547920" cy="542880"/>
          </a:xfrm>
        </p:grpSpPr>
        <p:pic>
          <p:nvPicPr>
            <p:cNvPr id="175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55680"/>
              <a:ext cx="5479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124"/>
          <p:cNvGrpSpPr/>
          <p:nvPr/>
        </p:nvGrpSpPr>
        <p:grpSpPr>
          <a:xfrm>
            <a:off x="152280" y="1255680"/>
            <a:ext cx="549360" cy="542880"/>
            <a:chOff x="152280" y="1255680"/>
            <a:chExt cx="549360" cy="542880"/>
          </a:xfrm>
        </p:grpSpPr>
        <p:pic>
          <p:nvPicPr>
            <p:cNvPr id="178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5568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125"/>
          <p:cNvGrpSpPr/>
          <p:nvPr/>
        </p:nvGrpSpPr>
        <p:grpSpPr>
          <a:xfrm>
            <a:off x="8510760" y="396720"/>
            <a:ext cx="554040" cy="547920"/>
            <a:chOff x="8510760" y="396720"/>
            <a:chExt cx="554040" cy="547920"/>
          </a:xfrm>
        </p:grpSpPr>
        <p:pic>
          <p:nvPicPr>
            <p:cNvPr id="181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6720"/>
              <a:ext cx="5540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26"/>
          <p:cNvGrpSpPr/>
          <p:nvPr/>
        </p:nvGrpSpPr>
        <p:grpSpPr>
          <a:xfrm>
            <a:off x="7156440" y="1042920"/>
            <a:ext cx="549360" cy="541440"/>
            <a:chOff x="7156440" y="1042920"/>
            <a:chExt cx="549360" cy="541440"/>
          </a:xfrm>
        </p:grpSpPr>
        <p:pic>
          <p:nvPicPr>
            <p:cNvPr id="184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42920"/>
              <a:ext cx="5493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27"/>
          <p:cNvGrpSpPr/>
          <p:nvPr/>
        </p:nvGrpSpPr>
        <p:grpSpPr>
          <a:xfrm>
            <a:off x="3651120" y="1755720"/>
            <a:ext cx="555840" cy="542880"/>
            <a:chOff x="3651120" y="1755720"/>
            <a:chExt cx="555840" cy="542880"/>
          </a:xfrm>
        </p:grpSpPr>
        <p:pic>
          <p:nvPicPr>
            <p:cNvPr id="187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55720"/>
              <a:ext cx="5558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71760" y="1714680"/>
            <a:ext cx="7115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за)шёл   (за)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о)мчался  (по)доро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до)нёс   (до)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78212-E7E5-4C03-B4DF-3E177EC70AD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641CA-A6D4-4927-BE0D-6033282D79D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71760" y="1714680"/>
            <a:ext cx="7115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шёл   за  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мчался  по  доро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нёс   до 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BA2D-E763-4AC4-91EE-8B5B648A621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234C-386E-4767-A692-19F24F851A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3286080" y="29289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9"/>
          <p:cNvSpPr/>
          <p:nvPr/>
        </p:nvSpPr>
        <p:spPr>
          <a:xfrm>
            <a:off x="2000160" y="2428920"/>
            <a:ext cx="428760" cy="142920"/>
          </a:xfrm>
          <a:custGeom>
            <a:avLst/>
            <a:gdLst>
              <a:gd name="textAreaLeft" fmla="*/ 0 w 428760"/>
              <a:gd name="textAreaRight" fmla="*/ 429120 w 4287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9"/>
          <p:cNvSpPr/>
          <p:nvPr/>
        </p:nvSpPr>
        <p:spPr>
          <a:xfrm>
            <a:off x="2000160" y="314316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9"/>
          <p:cNvSpPr/>
          <p:nvPr/>
        </p:nvSpPr>
        <p:spPr>
          <a:xfrm>
            <a:off x="2071800" y="4000680"/>
            <a:ext cx="500040" cy="14256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>
            <a:off x="4000680" y="3714840"/>
            <a:ext cx="37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000680" y="4429080"/>
            <a:ext cx="37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78596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став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возможн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 предлогом и словом можно поставить другое слово или вопрос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46430-3FA0-4A94-BF95-1865E18168C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7548-B7DB-43DA-87DF-69AB1B28BB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71760" y="1856880"/>
            <a:ext cx="7115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шёл   за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(каким?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шёл   за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 лучши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мчался  по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(какой?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оро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мчался  по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ровно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оро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нёс   до   (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какой?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нёс   до 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родно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1F17-8C47-4416-ABB5-B48DB67099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11DB-F890-4015-AD98-06EB42E0E2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3929040" y="250020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9"/>
          <p:cNvSpPr/>
          <p:nvPr/>
        </p:nvSpPr>
        <p:spPr>
          <a:xfrm>
            <a:off x="2000160" y="2071800"/>
            <a:ext cx="428760" cy="142920"/>
          </a:xfrm>
          <a:custGeom>
            <a:avLst/>
            <a:gdLst>
              <a:gd name="textAreaLeft" fmla="*/ 0 w 428760"/>
              <a:gd name="textAreaRight" fmla="*/ 429120 w 4287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1928880" y="278604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9"/>
          <p:cNvSpPr/>
          <p:nvPr/>
        </p:nvSpPr>
        <p:spPr>
          <a:xfrm>
            <a:off x="2000160" y="350028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4000680" y="3214800"/>
            <a:ext cx="37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714920" y="392904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2000160" y="421488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9"/>
          <p:cNvSpPr/>
          <p:nvPr/>
        </p:nvSpPr>
        <p:spPr>
          <a:xfrm>
            <a:off x="2000160" y="492912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4643280" y="464328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4071960" y="54291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9"/>
          <p:cNvSpPr/>
          <p:nvPr/>
        </p:nvSpPr>
        <p:spPr>
          <a:xfrm>
            <a:off x="2000160" y="5643720"/>
            <a:ext cx="500040" cy="14256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4071960" y="61437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4A847-55EC-49A6-B45E-E2EF5EEBC11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98BA-6478-4BD7-8A21-CD673BD796E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14200" y="1571760"/>
          <a:ext cx="8715600" cy="4616280"/>
        </p:xfrm>
        <a:graphic>
          <a:graphicData uri="http://schemas.openxmlformats.org/drawingml/2006/table">
            <a:tbl>
              <a:tblPr/>
              <a:tblGrid>
                <a:gridCol w="4017960"/>
                <a:gridCol w="46976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став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ь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ит для образования новых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ит для связи слов в предлож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тся 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тся 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9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 предлогом и словом можно поставить другое слово или вопро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Образуйте слова с пристав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а         при           от                  с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а         до              пере             в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1 ВАРИАНТ                                   2 ВАРИАНТ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АТЬ                        РИС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3DFE-A0C5-4858-8816-F4C727A50E8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C3FF-38F0-4ED2-B048-270B4506391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9"/>
          <p:cNvSpPr/>
          <p:nvPr/>
        </p:nvSpPr>
        <p:spPr>
          <a:xfrm>
            <a:off x="3214800" y="2286000"/>
            <a:ext cx="500040" cy="123840"/>
          </a:xfrm>
          <a:custGeom>
            <a:avLst/>
            <a:gdLst/>
            <a:ahLst/>
            <a:rect l="l" t="t" r="r" b="b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9"/>
          <p:cNvSpPr/>
          <p:nvPr/>
        </p:nvSpPr>
        <p:spPr>
          <a:xfrm>
            <a:off x="4857840" y="2857680"/>
            <a:ext cx="745920" cy="142560"/>
          </a:xfrm>
          <a:custGeom>
            <a:avLst/>
            <a:gdLst>
              <a:gd name="textAreaLeft" fmla="*/ 0 w 745920"/>
              <a:gd name="textAreaRight" fmla="*/ 746280 w 7459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1928880" y="2286000"/>
            <a:ext cx="357120" cy="142920"/>
          </a:xfrm>
          <a:custGeom>
            <a:avLst/>
            <a:gdLst/>
            <a:ahLst/>
            <a:rect l="l" t="t" r="r" b="b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"/>
          <p:cNvSpPr/>
          <p:nvPr/>
        </p:nvSpPr>
        <p:spPr>
          <a:xfrm>
            <a:off x="4786200" y="2286000"/>
            <a:ext cx="428760" cy="214200"/>
          </a:xfrm>
          <a:custGeom>
            <a:avLst/>
            <a:gdLst>
              <a:gd name="textAreaLeft" fmla="*/ 0 w 428760"/>
              <a:gd name="textAreaRight" fmla="*/ 429120 w 4287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9"/>
          <p:cNvSpPr/>
          <p:nvPr/>
        </p:nvSpPr>
        <p:spPr>
          <a:xfrm>
            <a:off x="6715080" y="2357280"/>
            <a:ext cx="422280" cy="162000"/>
          </a:xfrm>
          <a:custGeom>
            <a:avLst/>
            <a:gdLst>
              <a:gd name="textAreaLeft" fmla="*/ 0 w 422280"/>
              <a:gd name="textAreaRight" fmla="*/ 422640 w 42228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9"/>
          <p:cNvSpPr/>
          <p:nvPr/>
        </p:nvSpPr>
        <p:spPr>
          <a:xfrm>
            <a:off x="6858000" y="2928960"/>
            <a:ext cx="357120" cy="142920"/>
          </a:xfrm>
          <a:custGeom>
            <a:avLst/>
            <a:gdLst>
              <a:gd name="textAreaLeft" fmla="*/ 0 w 357120"/>
              <a:gd name="textAreaRight" fmla="*/ 357480 w 357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9"/>
          <p:cNvSpPr/>
          <p:nvPr/>
        </p:nvSpPr>
        <p:spPr>
          <a:xfrm>
            <a:off x="3143160" y="2928960"/>
            <a:ext cx="419040" cy="139680"/>
          </a:xfrm>
          <a:custGeom>
            <a:avLst/>
            <a:gdLst>
              <a:gd name="textAreaLeft" fmla="*/ 0 w 419040"/>
              <a:gd name="textAreaRight" fmla="*/ 419400 w 4190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9"/>
          <p:cNvSpPr/>
          <p:nvPr/>
        </p:nvSpPr>
        <p:spPr>
          <a:xfrm>
            <a:off x="1928880" y="3000240"/>
            <a:ext cx="357120" cy="71640"/>
          </a:xfrm>
          <a:custGeom>
            <a:avLst/>
            <a:gdLst/>
            <a:ahLst/>
            <a:rect l="l" t="t" r="r" b="b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28800" y="1643040"/>
            <a:ext cx="349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ЕР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2149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ЕР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29064-3B7D-4C8F-9519-06F7BBE27CF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D85F-FF38-4EF3-9440-A2835A3B95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1000080" y="4786200"/>
            <a:ext cx="500040" cy="21456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1000080" y="214308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9"/>
          <p:cNvSpPr/>
          <p:nvPr/>
        </p:nvSpPr>
        <p:spPr>
          <a:xfrm>
            <a:off x="1000080" y="2643120"/>
            <a:ext cx="500040" cy="21456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9"/>
          <p:cNvSpPr/>
          <p:nvPr/>
        </p:nvSpPr>
        <p:spPr>
          <a:xfrm>
            <a:off x="928800" y="321480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9"/>
          <p:cNvSpPr/>
          <p:nvPr/>
        </p:nvSpPr>
        <p:spPr>
          <a:xfrm>
            <a:off x="1000080" y="3643200"/>
            <a:ext cx="500040" cy="21456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9"/>
          <p:cNvSpPr/>
          <p:nvPr/>
        </p:nvSpPr>
        <p:spPr>
          <a:xfrm>
            <a:off x="5286240" y="4714920"/>
            <a:ext cx="776520" cy="214200"/>
          </a:xfrm>
          <a:custGeom>
            <a:avLst/>
            <a:gdLst>
              <a:gd name="textAreaLeft" fmla="*/ 0 w 776520"/>
              <a:gd name="textAreaRight" fmla="*/ 776880 w 7765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9"/>
          <p:cNvSpPr/>
          <p:nvPr/>
        </p:nvSpPr>
        <p:spPr>
          <a:xfrm>
            <a:off x="5214960" y="221472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9"/>
          <p:cNvSpPr/>
          <p:nvPr/>
        </p:nvSpPr>
        <p:spPr>
          <a:xfrm>
            <a:off x="5214960" y="371484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9"/>
          <p:cNvSpPr/>
          <p:nvPr/>
        </p:nvSpPr>
        <p:spPr>
          <a:xfrm>
            <a:off x="5286240" y="421488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9"/>
          <p:cNvSpPr/>
          <p:nvPr/>
        </p:nvSpPr>
        <p:spPr>
          <a:xfrm>
            <a:off x="1000080" y="4214880"/>
            <a:ext cx="785880" cy="285840"/>
          </a:xfrm>
          <a:custGeom>
            <a:avLst/>
            <a:gdLst>
              <a:gd name="textAreaLeft" fmla="*/ 0 w 785880"/>
              <a:gd name="textAreaRight" fmla="*/ 786240 w 7858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9"/>
          <p:cNvSpPr/>
          <p:nvPr/>
        </p:nvSpPr>
        <p:spPr>
          <a:xfrm>
            <a:off x="5286240" y="2714760"/>
            <a:ext cx="642960" cy="214200"/>
          </a:xfrm>
          <a:custGeom>
            <a:avLst/>
            <a:gdLst>
              <a:gd name="textAreaLeft" fmla="*/ 0 w 642960"/>
              <a:gd name="textAreaRight" fmla="*/ 643320 w 6429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9"/>
          <p:cNvSpPr/>
          <p:nvPr/>
        </p:nvSpPr>
        <p:spPr>
          <a:xfrm>
            <a:off x="5214960" y="3143160"/>
            <a:ext cx="357120" cy="214560"/>
          </a:xfrm>
          <a:custGeom>
            <a:avLst/>
            <a:gdLst>
              <a:gd name="textAreaLeft" fmla="*/ 0 w 357120"/>
              <a:gd name="textAreaRight" fmla="*/ 357480 w 35712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ставка – это часть сл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ставки образуют новые сл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ставки пишутся слитно со слов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CE73-33E9-4093-A206-041C153AC30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60439-C952-41A5-82A7-0D716B03EFE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Вставьте подходящие по смыслу предлог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…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бе ярко светит солнышко.    …крыш свисают сосульки.    …дома лужицы.      …деревьях весело чирикают воробь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33B38-DA54-41E7-B74F-F51D531BD85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D2E53-AD77-4FC5-B0DD-3655BD79ECF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с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небе ярко светит солнышко.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крыш свисают сосульки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дома лужицы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деревьях весело чирикают воробь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18C54-601C-4BEF-B4FB-C42B738596B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4AE1-46EC-4B1E-8D6B-8A75087EA2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1643040" y="285768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928800" y="3500280"/>
            <a:ext cx="28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57160" y="414324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143000" y="478620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ог – это отдельное слов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оги служат для связи слов в предложе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оги  пишутся раздельно со слов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E3AE-93A8-4F32-8E5E-C41F85DE921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042A8-09CB-47CD-B0BB-5AE320BD586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371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став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ь сло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е сло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ит для образования новых с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ит для связи слов в предложен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тся слит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тся раздель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664D3-DCE4-453F-9FA7-0A92687E6DE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F89E-1D64-430C-8951-3486E19553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val 5"/>
          <p:cNvSpPr/>
          <p:nvPr/>
        </p:nvSpPr>
        <p:spPr>
          <a:xfrm>
            <a:off x="684360" y="404640"/>
            <a:ext cx="7559640" cy="590580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"/>
          <p:cNvSpPr/>
          <p:nvPr/>
        </p:nvSpPr>
        <p:spPr>
          <a:xfrm flipV="1">
            <a:off x="179280" y="189000"/>
            <a:ext cx="8713800" cy="640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H="1" flipV="1">
            <a:off x="178920" y="189000"/>
            <a:ext cx="8713800" cy="640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179280" y="26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4067280" y="18900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 flipV="1">
            <a:off x="179280" y="2491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8893080" y="3068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3995640" y="666900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 flipV="1">
            <a:off x="4788000" y="404640"/>
            <a:ext cx="1008000" cy="144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971640" y="1484280"/>
            <a:ext cx="50472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2771640" y="6021360"/>
            <a:ext cx="648000" cy="216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4" descr="36_12_3"/>
          <p:cNvPicPr/>
          <p:nvPr/>
        </p:nvPicPr>
        <p:blipFill>
          <a:blip r:embed="rId1"/>
          <a:stretch/>
        </p:blipFill>
        <p:spPr>
          <a:xfrm>
            <a:off x="7093080" y="1125360"/>
            <a:ext cx="17413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autoRev="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11389 C 0.02327 0.07523 0.02188 0.03356 0.02257 -0.00463 C 0.02205 -0.06459 0.02205 -0.12431 0.02118 -0.18426 C 0.02118 -0.18611 0.02014 -0.18797 0.0198 -0.18982 C 0.01684 -0.20695 0.01441 -0.22454 0.01146 -0.24167 C 0.01059 -0.24699 0.01077 -0.26204 0.00452 -0.26204 C -0.09965 -0.26389 -0.20399 -0.2632 -0.30816 -0.26389 C -0.33194 -0.26644 -0.35069 -0.26829 -0.37604 -0.26945 C -0.41198 -0.28148 -0.4493 -0.28843 -0.48576 -0.29537 C -0.496 -0.3 -0.50711 -0.29977 -0.5177 -0.30093 C -0.56076 -0.30023 -0.60382 -0.3 -0.64687 -0.29908 C -0.67482 -0.29838 -0.70711 -0.29815 -0.73437 -0.28611 C -0.73732 -0.2831 -0.74114 -0.28195 -0.74409 -0.27871 C -0.74583 -0.27662 -0.74652 -0.27338 -0.74826 -0.2713 C -0.7526 -0.26644 -0.77343 -0.26412 -0.77465 -0.26389 C -0.7908 -0.26111 -0.80711 -0.25926 -0.82326 -0.25648 C -0.82274 -0.19422 -0.82257 -0.13172 -0.82187 -0.06945 C -0.8217 -0.05023 -0.82083 -0.03125 -0.82048 -0.01204 C -0.82014 0.00949 -0.82361 0.10231 -0.81632 0.14166 C -0.80868 0.23287 -0.81371 0.16643 -0.81632 0.38611 C -0.81649 0.40069 -0.81996 0.41805 -0.82187 0.4324 C -0.82309 0.4412 -0.82604 0.45833 -0.82604 0.45856 C -0.82656 0.46875 -0.82743 0.4794 -0.82743 0.48981 C -0.82743 0.50463 -0.82899 0.5199 -0.82604 0.53426 C -0.82534 0.53796 -0.82066 0.53796 -0.8177 0.53796 C -0.78073 0.53865 -0.74357 0.53935 -0.70659 0.53981 C -0.5217 0.54236 -0.49583 0.54213 -0.27465 0.54352 C -0.26475 0.54676 -0.25555 0.55092 -0.24548 0.55278 C -0.23333 0.55833 -0.22083 0.56666 -0.20833 0.56944 C 0.12917 0.56643 -0.01441 0.66134 0.01007 0.53055 C 0.01025 0.5162 0.01233 0.35115 0.01285 0.3287 C 0.0132 0.31412 0.01268 0.3169 0.01702 0.30833 C 0.01927 0.29004 0.02014 0.2699 0.02535 0.25278 C 0.02726 0.23773 0.02726 0.22129 0.03368 0.20833 C 0.0382 0.17199 0.03629 0.15092 0.03507 0.10648 C 0.03455 0.0875 0.03664 0.0919 0.03091 0.08426 E">
                                      <p:cBhvr>
                                        <p:cTn id="375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autoRev="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12 0.1537 C -0.02864 0.17083 -0.0276 0.1956 -0.0309 0.21481 C -0.03298 0.22708 -0.0408 0.24166 -0.04618 0.25185 C -0.05798 0.27384 -0.06753 0.2949 -0.08229 0.31481 C -0.08767 0.32176 -0.08975 0.33102 -0.09618 0.33703 C -0.1033 0.35092 -0.09357 0.33379 -0.10451 0.34629 C -0.10902 0.35162 -0.1125 0.35926 -0.11701 0.36481 C -0.11857 0.36666 -0.12083 0.3669 -0.12257 0.36852 C -0.13854 0.38356 -0.11319 0.36365 -0.13229 0.37963 C -0.13402 0.38078 -0.13611 0.38148 -0.13784 0.3831 C -0.14496 0.39004 -0.15 0.39953 -0.15868 0.40347 C -0.16753 0.41944 -0.18576 0.42986 -0.20034 0.4331 C -0.2158 0.44653 -0.23159 0.46134 -0.25034 0.46458 C -0.25746 0.47199 -0.26145 0.46898 -0.2684 0.47361 C -0.28507 0.48495 -0.28559 0.4831 -0.30729 0.48495 C -0.31527 0.48703 -0.32066 0.49028 -0.32812 0.49421 C -0.36041 0.49282 -0.39218 0.49259 -0.42395 0.48495 C -0.43854 0.48125 -0.45069 0.47268 -0.46423 0.46643 C -0.46979 0.45555 -0.4809 0.4544 -0.48923 0.44791 C -0.5026 0.43796 -0.48246 0.45278 -0.49757 0.43703 C -0.5 0.43449 -0.50312 0.4331 -0.5059 0.43148 C -0.51093 0.42153 -0.51944 0.41296 -0.52812 0.40926 C -0.53715 0.39421 -0.55347 0.38102 -0.56562 0.37014 C -0.57135 0.36504 -0.5783 0.35486 -0.58507 0.35162 C -0.59114 0.34583 -0.59461 0.34097 -0.60173 0.33703 C -0.60642 0.32453 -0.60642 0.33148 -0.61423 0.32384 C -0.62239 0.31597 -0.6309 0.30254 -0.64062 0.29815 C -0.65277 0.28194 -0.63732 0.30185 -0.64895 0.28889 C -0.65364 0.28333 -0.65416 0.27824 -0.66007 0.27569 C -0.66597 0.26435 -0.67343 0.25254 -0.6809 0.24259 C -0.68472 0.22731 -0.69305 0.21389 -0.69895 0.2 C -0.70434 0.1875 -0.70659 0.17338 -0.71284 0.16111 C -0.71736 0.13703 -0.71441 0.15555 -0.71284 0.10185 C -0.71267 0.09606 -0.71319 0.05694 -0.70868 0.04259 C -0.70364 0.02639 -0.6875 -0.00047 -0.67812 -0.01297 C -0.67482 -0.02616 -0.66458 -0.0301 -0.65729 -0.03889 C -0.64548 -0.05301 -0.63732 -0.06412 -0.62395 -0.07593 C -0.61875 -0.08635 -0.59774 -0.10672 -0.58784 -0.11111 C -0.57708 -0.12547 -0.59097 -0.1081 -0.57812 -0.12037 C -0.57361 -0.12454 -0.56996 -0.13079 -0.56562 -0.13519 C -0.56302 -0.13797 -0.56007 -0.14005 -0.55729 -0.1426 C -0.5559 -0.14375 -0.55312 -0.1463 -0.55312 -0.14607 C -0.5493 -0.15394 -0.54166 -0.15996 -0.53507 -0.16297 C -0.53316 -0.16482 -0.53159 -0.16713 -0.52951 -0.16852 C -0.52691 -0.17037 -0.52361 -0.17014 -0.52118 -0.17222 C -0.50798 -0.18403 -0.49375 -0.18542 -0.47812 -0.18704 C -0.40607 -0.20625 -0.46892 -0.19074 -0.28645 -0.18889 C -0.27673 -0.1801 -0.28906 -0.19028 -0.27534 -0.18334 C -0.26909 -0.18033 -0.26562 -0.17593 -0.25868 -0.17408 C -0.25225 -0.16991 -0.24583 -0.16806 -0.23923 -0.16482 C -0.23264 -0.16158 -0.22777 -0.15486 -0.22118 -0.15185 C -0.21666 -0.14306 -0.20955 -0.13912 -0.20312 -0.13334 C -0.196 -0.11898 -0.18159 -0.11181 -0.17118 -0.10185 C -0.16493 -0.09584 -0.1618 -0.09097 -0.15451 -0.08704 C -0.14705 -0.07709 -0.13854 -0.06644 -0.12812 -0.06297 C -0.11996 -0.05463 -0.11458 -0.04398 -0.1059 -0.03704 C -0.09965 -0.02593 -0.09114 -0.02292 -0.08368 -0.01297 C -0.07777 -0.0051 -0.07309 0.00301 -0.06701 0.01111 C -0.06458 0.01435 -0.06336 0.01852 -0.06145 0.02222 C -0.0592 0.02662 -0.05538 0.02893 -0.05312 0.0331 C -0.05104 0.0375 -0.04982 0.04213 -0.04757 0.04629 C -0.046 0.04884 -0.04357 0.05092 -0.04201 0.0537 C -0.03732 0.06203 -0.03524 0.0699 -0.02951 0.07731 C -0.02621 0.09097 -0.01892 0.10046 -0.01423 0.11296 C -0.01076 0.14467 -0.01597 0.11111 -0.00868 0.13333 C -0.00711 0.13796 -0.00711 0.14328 -0.0059 0.14815 C -0.00642 0.15856 -0.00607 0.16921 -0.00729 0.17963 C -0.00833 0.18889 -0.02222 0.20416 -0.02812 0.20926 C -0.02899 0.21111 -0.0309 0.21481 -0.0309 0.21504 E">
                                      <p:cBhvr>
                                        <p:cTn id="379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1787 C 0.00608 0.17801 0.00469 0.17778 0.0033 0.17685 C 0.00174 0.17592 0.0007 0.17384 -0.00086 0.17315 C -0.00972 0.16875 -0.02743 0.16574 -0.03698 0.16389 C -0.04861 0.15879 -0.03593 0.16389 -0.06198 0.16018 C -0.07257 0.15879 -0.08333 0.1537 -0.09392 0.15092 C -0.26458 0.15208 -0.26666 0.15463 -0.35503 0.15463 E">
                                      <p:cBhvr>
                                        <p:cTn id="383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autoRev="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503 0.15463 C -0.36476 0.15555 -0.37552 0.15254 -0.3842 0.15833 C -0.3875 0.16041 -0.38958 0.16481 -0.39253 0.16759 C -0.39687 0.17893 -0.3941 0.17268 -0.40087 0.18611 C -0.40173 0.18773 -0.40382 0.18703 -0.40503 0.18796 C -0.40798 0.19004 -0.41059 0.19282 -0.41337 0.19537 C -0.41875 0.2 -0.4191 0.20717 -0.42448 0.21203 C -0.42778 0.21852 -0.43194 0.22083 -0.43559 0.22685 C -0.44062 0.23495 -0.44444 0.24259 -0.45087 0.24907 C -0.4618 0.27801 -0.47569 0.28356 -0.49809 0.29352 C -0.50347 0.29583 -0.50712 0.30139 -0.51198 0.30463 C -0.51302 0.30648 -0.51354 0.30856 -0.51476 0.31018 C -0.51614 0.3118 -0.51788 0.31227 -0.5191 0.31389 C -0.52778 0.32801 -0.51597 0.31597 -0.52587 0.325 C -0.53316 0.33935 -0.54479 0.34213 -0.55521 0.35092 C -0.56146 0.35625 -0.56597 0.3662 -0.57309 0.36944 C -0.57951 0.37222 -0.58385 0.37847 -0.58976 0.3824 C -0.60226 0.39074 -0.61302 0.40162 -0.62448 0.41203 C -0.63212 0.42754 -0.64531 0.42963 -0.65642 0.43796 C -0.66076 0.4412 -0.66545 0.44444 -0.6691 0.44907 C -0.67153 0.45231 -0.67396 0.45602 -0.67726 0.45833 C -0.68507 0.46296 -0.68802 0.4625 -0.6967 0.46389 C -0.70312 0.46828 -0.70573 0.46898 -0.71076 0.4787 C -0.71146 0.48055 -0.71198 0.48287 -0.71337 0.48426 C -0.7158 0.4868 -0.7191 0.4875 -0.7217 0.48981 C -0.72864 0.5037 -0.71979 0.48657 -0.72864 0.50092 C -0.73107 0.50486 -0.73177 0.50995 -0.7342 0.51365 C -0.73524 0.51551 -0.73715 0.51597 -0.73837 0.51736 C -0.74045 0.52014 -0.74722 0.53426 -0.74809 0.53611 C -0.7533 0.54652 -0.75191 0.53773 -0.76059 0.54537 C -0.76337 0.54791 -0.76892 0.55277 -0.76892 0.55277 C -0.78212 0.57916 -0.79635 0.58541 -0.81892 0.58796 C -0.81979 0.58981 -0.82048 0.59189 -0.8217 0.59352 C -0.82292 0.59514 -0.82482 0.59537 -0.82587 0.59722 C -0.82778 0.60046 -0.8283 0.60486 -0.83003 0.60833 C -0.82864 0.60902 -0.82726 0.61088 -0.82587 0.61018 C -0.81979 0.6074 -0.81545 0.6 -0.8092 0.59722 C -0.8033 0.58541 -0.79271 0.58055 -0.7842 0.57314 C -0.77969 0.56435 -0.775 0.56273 -0.76771 0.56018 C -0.75903 0.55277 -0.74809 0.54977 -0.73837 0.54537 C -0.73542 0.54398 -0.73298 0.5412 -0.73003 0.53981 C -0.72361 0.53333 -0.71701 0.52754 -0.7092 0.525 C -0.69861 0.51551 -0.68837 0.50463 -0.67864 0.49352 C -0.67083 0.48449 -0.66371 0.47384 -0.65364 0.46944 C -0.65243 0.46481 -0.64427 0.45185 -0.64114 0.44907 C -0.63298 0.44143 -0.63785 0.45 -0.63142 0.43981 C -0.63038 0.43819 -0.63003 0.43541 -0.62864 0.43426 C -0.62621 0.43217 -0.62031 0.43055 -0.62031 0.43055 C -0.61528 0.42384 -0.60903 0.4206 -0.60226 0.41759 C -0.59687 0.41227 -0.59201 0.40926 -0.58559 0.40648 C -0.57951 0.40023 -0.57448 0.3993 -0.56771 0.39514 C -0.56059 0.3912 -0.55382 0.38564 -0.5467 0.3824 C -0.53663 0.36898 -0.5243 0.35787 -0.51337 0.34537 C -0.50868 0.33981 -0.50087 0.32685 -0.50087 0.32685 C -0.49965 0.3199 -0.4967 0.31319 -0.49253 0.30833 C -0.4901 0.30532 -0.4842 0.30092 -0.4842 0.30092 C -0.48212 0.29236 -0.48003 0.29467 -0.47448 0.28981 C -0.46892 0.27847 -0.45555 0.26736 -0.44531 0.26389 C -0.44045 0.2574 -0.43368 0.25254 -0.42726 0.24907 C -0.42326 0.24676 -0.41476 0.24352 -0.41476 0.24352 C -0.41285 0.24166 -0.41128 0.23935 -0.4092 0.23796 C -0.4066 0.23611 -0.4033 0.23634 -0.40087 0.23426 C -0.39496 0.22939 -0.39253 0.22222 -0.38559 0.21944 C -0.38038 0.21412 -0.37569 0.20787 -0.37031 0.20277 C -0.36736 0.2 -0.36371 0.19814 -0.36059 0.19537 C -0.35694 0.18564 -0.35104 0.1787 -0.3467 0.16944 C -0.34167 0.15856 -0.33785 0.15139 -0.33021 0.14352 C -0.32708 0.13518 -0.32153 0.12801 -0.31476 0.125 C -0.31024 0.1206 -0.3059 0.11319 -0.30087 0.11018 C -0.29826 0.10856 -0.29271 0.10648 -0.29271 0.10648 C -0.28576 0.09745 -0.27795 0.09328 -0.27048 0.08611 C -0.26302 0.07916 -0.25729 0.0699 -0.24948 0.06389 C -0.23819 0.05532 -0.22656 0.04768 -0.21476 0.03981 C -0.20833 0.02685 -0.19531 0.02106 -0.18698 0.01018 C -0.1842 0.00648 -0.18194 0.00208 -0.17864 -0.00093 C -0.17257 -0.00625 -0.16667 -0.01227 -0.16076 -0.0176 C -0.1592 -0.01875 -0.15642 -0.0213 -0.15642 -0.0213 C -0.15278 -0.02871 -0.14583 -0.03195 -0.13976 -0.03611 C -0.13819 -0.04283 -0.13489 -0.04468 -0.13003 -0.04723 C -0.12743 -0.04885 -0.1217 -0.05093 -0.1217 -0.05093 C -0.11545 -0.05718 -0.11007 -0.06528 -0.10364 -0.0713 C -0.09548 -0.07894 -0.0868 -0.08565 -0.07864 -0.09352 C -0.07326 -0.09861 -0.06962 -0.10556 -0.06337 -0.10834 C -0.05903 -0.11644 -0.05521 -0.1176 -0.04948 -0.12315 C -0.04601 -0.12639 -0.04323 -0.13102 -0.03976 -0.13426 C -0.0316 -0.1419 -0.02239 -0.14931 -0.01476 -0.15834 C -0.01042 -0.16366 -0.00642 -0.16945 -0.00226 -0.17523 C 0.00347 -0.18264 0.01285 -0.18588 0.01858 -0.19352 C 0.02518 -0.20232 0.0217 -0.19977 0.0283 -0.20278 C 0.03646 -0.21366 0.04653 -0.22385 0.05608 -0.23241 C 0.0592 -0.23889 0.06719 -0.24908 0.07136 -0.25278 C 0.07413 -0.25533 0.07969 -0.26019 0.07969 -0.26019 C 0.08524 -0.2713 0.09531 -0.27709 0.1033 -0.28426 C 0.1066 -0.29098 0.10955 -0.29098 0.11441 -0.29537 C 0.11719 -0.30672 0.11181 -0.30278 0.10608 -0.30093 C 0.09809 -0.28496 0.10868 -0.30371 0.09913 -0.29352 C 0.09774 -0.29213 0.09757 -0.28936 0.09636 -0.28797 C 0.09167 -0.28241 0.08577 -0.27778 0.07969 -0.275 C 0.07708 -0.27153 0.07396 -0.26922 0.07136 -0.26574 C 0.07014 -0.26412 0.07014 -0.26111 0.06858 -0.26019 C 0.06511 -0.25787 0.06111 -0.25764 0.05747 -0.25648 C 0.05469 -0.25556 0.05018 -0.25139 0.04774 -0.24908 C 0.04011 -0.2338 0.05018 -0.25139 0.0408 -0.24167 C 0.03611 -0.23681 0.03299 -0.22963 0.0283 -0.225 C 0.02379 -0.22061 0.01893 -0.21436 0.01441 -0.21019 C 0.01181 -0.20787 0.00868 -0.20695 0.00608 -0.20463 C 0.00417 -0.19723 0.00261 -0.19422 -0.00226 -0.18982 C -0.00642 -0.18148 -0.01163 -0.1794 -0.01753 -0.17523 C -0.02048 -0.17292 -0.02587 -0.1676 -0.02587 -0.1676 C -0.03281 -0.15371 -0.02344 -0.16968 -0.0342 -0.16019 C -0.03559 -0.15903 -0.03576 -0.15602 -0.03698 -0.15463 C -0.03854 -0.15278 -0.0408 -0.15255 -0.04253 -0.15093 C -0.05607 -0.13889 -0.06667 -0.12176 -0.08142 -0.11204 C -0.08576 -0.10348 -0.09427 -0.09931 -0.10087 -0.09352 C -0.11076 -0.08473 -0.11962 -0.07408 -0.12864 -0.06389 C -0.13246 -0.05973 -0.13698 -0.05834 -0.14114 -0.05463 C -0.14705 -0.04306 -0.13976 -0.05463 -0.15087 -0.04723 C -0.1526 -0.04607 -0.15347 -0.04352 -0.15503 -0.0419 C -0.15781 -0.03889 -0.16128 -0.03773 -0.16337 -0.03426 C -0.16632 -0.02894 -0.17187 -0.01829 -0.17587 -0.01574 C -0.1816 -0.01204 -0.18194 -0.01227 -0.18698 -0.00648 C -0.20208 0.01088 -0.22031 0.02268 -0.23559 0.03981 C -0.24305 0.04814 -0.2493 0.05509 -0.25798 0.06203 C -0.26962 0.07176 -0.25521 0.06458 -0.26614 0.06944 C -0.28055 0.08865 -0.29792 0.10277 -0.31476 0.11759 C -0.31562 0.11944 -0.31614 0.12199 -0.31771 0.12314 C -0.31996 0.12523 -0.32587 0.12685 -0.32587 0.12685 C -0.3309 0.13356 -0.33594 0.13865 -0.34271 0.14166 C -0.34392 0.14352 -0.34479 0.14676 -0.3467 0.14722 C -0.35712 0.15023 -0.36024 0.13727 -0.36614 0.13032 C -0.36857 0.12754 -0.3717 0.12569 -0.37448 0.12314 C -0.37587 0.12199 -0.37864 0.11944 -0.37864 0.11944 C -0.38298 0.11064 -0.3901 0.09953 -0.3967 0.09352 C -0.40243 0.08217 -0.39601 0.09328 -0.40364 0.08426 C -0.41094 0.07546 -0.41753 0.06574 -0.42448 0.05648 C -0.42587 0.05463 -0.42726 0.05277 -0.42864 0.05092 C -0.43107 0.04768 -0.43698 0.04352 -0.43698 0.04352 C -0.44114 0.03518 -0.44271 0.03842 -0.44809 0.0324 C -0.45885 0.0206 -0.44601 0.0324 -0.45642 0.02314 C -0.46146 0.01319 -0.46962 0.00926 -0.47587 0.00092 C -0.48403 -0.00996 -0.49184 -0.0213 -0.50087 -0.03056 C -0.50798 -0.03773 -0.51649 -0.04028 -0.52309 -0.04723 C -0.52691 -0.05116 -0.53646 -0.06227 -0.53976 -0.0676 C -0.54097 -0.06922 -0.54114 -0.07176 -0.54271 -0.07315 C -0.55382 -0.08519 -0.53941 -0.0632 -0.55087 -0.07871 C -0.55243 -0.08079 -0.55347 -0.08403 -0.55521 -0.08611 C -0.5592 -0.09121 -0.56788 -0.09792 -0.57309 -0.10093 C -0.58351 -0.10695 -0.57882 -0.10186 -0.58698 -0.10834 C -0.59774 -0.11713 -0.6066 -0.12986 -0.61753 -0.13797 C -0.62847 -0.1463 -0.64028 -0.15301 -0.65226 -0.15834 C -0.66232 -0.16273 -0.67396 -0.17778 -0.6842 -0.18241 C -0.68732 -0.18565 -0.69114 -0.18797 -0.69392 -0.19167 C -0.69514 -0.19329 -0.69548 -0.19584 -0.6967 -0.19723 C -0.69826 -0.19908 -0.70069 -0.19931 -0.70226 -0.20093 C -0.70538 -0.20417 -0.70712 -0.20973 -0.71076 -0.21204 C -0.71753 -0.21667 -0.72448 -0.225 -0.73003 -0.23241 C -0.74062 -0.24653 -0.75243 -0.26829 -0.76771 -0.275 C -0.775 -0.28496 -0.78281 -0.29514 -0.79253 -0.30093 C -0.79514 -0.30255 -0.79809 -0.30348 -0.80087 -0.30463 C -0.80226 -0.30533 -0.80503 -0.30648 -0.80503 -0.30648 C -0.80208 -0.29491 -0.79045 -0.27061 -0.78281 -0.26204 C -0.7816 -0.26065 -0.78003 -0.25973 -0.77864 -0.25834 C -0.77673 -0.25648 -0.77482 -0.25486 -0.77309 -0.25278 C -0.76684 -0.24561 -0.76337 -0.23681 -0.75642 -0.23056 C -0.74878 -0.21528 -0.73923 -0.20162 -0.72864 -0.18982 C -0.72743 -0.18843 -0.72587 -0.18727 -0.72448 -0.18611 C -0.72274 -0.18473 -0.72048 -0.18403 -0.71892 -0.18241 C -0.7158 -0.17917 -0.71389 -0.17454 -0.71076 -0.1713 C -0.7092 -0.17014 -0.70781 -0.16875 -0.70642 -0.1676 C -0.70069 -0.15602 -0.6908 -0.1463 -0.68142 -0.13982 C -0.67778 -0.13241 -0.67239 -0.1301 -0.66614 -0.12686 C -0.66337 -0.12547 -0.65781 -0.12315 -0.65781 -0.12315 C -0.65087 -0.11389 -0.64253 -0.10648 -0.63559 -0.09723 C -0.62899 -0.08843 -0.63767 -0.08843 -0.62309 -0.07871 C -0.61597 -0.07385 -0.61163 -0.06644 -0.60503 -0.06019 C -0.59167 -0.04746 -0.57864 -0.03519 -0.56614 -0.0213 C -0.55937 -0.01366 -0.56476 -0.01713 -0.5566 -0.01019 C -0.55104 -0.00556 -0.55121 -0.00787 -0.5467 -0.00278 C -0.54514 -0.00116 -0.54427 0.00139 -0.54271 0.00277 C -0.53021 0.01365 -0.54739 -0.00625 -0.5342 0.00833 C -0.53264 0.00995 -0.53177 0.0125 -0.53021 0.01365 C -0.52656 0.01666 -0.5191 0.02129 -0.5191 0.02129 C -0.51337 0.0324 -0.50521 0.04027 -0.4967 0.04722 C -0.4934 0.05 -0.49149 0.05509 -0.48837 0.05833 C -0.48351 0.06319 -0.47951 0.06875 -0.47448 0.07291 C -0.4651 0.09189 -0.45191 0.09629 -0.43837 0.10648 C -0.43177 0.11134 -0.42344 0.11689 -0.41614 0.11944 C -0.40364 0.13611 -0.42101 0.11412 -0.40642 0.1287 C -0.39896 0.13634 -0.3993 0.13912 -0.38976 0.14166 C -0.38611 0.14421 -0.38212 0.14606 -0.37864 0.14907 C -0.37587 0.15162 -0.37031 0.15648 -0.37031 0.15648 C -0.36354 0.1699 -0.35555 0.18264 -0.34531 0.19166 C -0.33646 0.20972 -0.35069 0.18217 -0.33698 0.20277 C -0.33212 0.21018 -0.32969 0.21805 -0.32448 0.225 C -0.32101 0.23912 -0.30607 0.2574 -0.2967 0.26574 C -0.29132 0.27615 -0.28177 0.27986 -0.27448 0.28796 C -0.26076 0.30324 -0.27847 0.28449 -0.26771 0.29907 C -0.2651 0.30231 -0.26076 0.30555 -0.25798 0.30833 C -0.24844 0.31759 -0.23976 0.32731 -0.23021 0.33611 C -0.22153 0.34352 -0.21805 0.3537 -0.20798 0.35833 C -0.20312 0.36759 -0.19444 0.36944 -0.18976 0.3787 C -0.18611 0.38634 -0.18854 0.38379 -0.18142 0.38611 C -0.17465 0.39282 -0.16753 0.40208 -0.1592 0.40648 C -0.15642 0.40787 -0.15347 0.40833 -0.15087 0.41018 C -0.14792 0.41227 -0.14253 0.41759 -0.14253 0.41759 C -0.1375 0.42777 -0.13125 0.4375 -0.12448 0.44537 C -0.11319 0.45879 -0.12048 0.45463 -0.11198 0.45833 C -0.10156 0.47222 -0.09062 0.47453 -0.07726 0.48055 C -0.07569 0.48125 -0.07465 0.48356 -0.07309 0.48426 C -0.07083 0.48541 -0.0684 0.48541 -0.06614 0.48611 C -0.06476 0.48727 -0.06354 0.48889 -0.06198 0.48981 C -0.05972 0.4912 -0.05712 0.49166 -0.05503 0.49352 C -0.04948 0.49814 -0.04514 0.50694 -0.03976 0.5118 C -0.03073 0.5206 -0.02135 0.52963 -0.01198 0.53796 C -0.00642 0.54907 0.00417 0.56088 0.01302 0.56759 C 0.01667 0.57037 0.02066 0.57176 0.02413 0.575 C 0.03333 0.5831 0.03715 0.58703 0.04774 0.58981 C 0.05486 0.59467 0.05382 0.59838 0.06163 0.60092 C 0.06302 0.60347 0.06389 0.60671 0.0658 0.60833 C 0.06788 0.60995 0.07049 0.60902 0.07274 0.61018 C 0.07431 0.61088 0.07535 0.61296 0.07691 0.61389 C 0.0849 0.61852 0.09479 0.61967 0.1033 0.62129 C 0.10886 0.6206 0.11511 0.62291 0.11997 0.61944 C 0.12274 0.61736 0.11667 0.60602 0.1158 0.60463 C 0.10816 0.59236 0.09809 0.58379 0.08663 0.5787 C 0.07934 0.56898 0.08611 0.57685 0.07691 0.56944 C 0.07413 0.56713 0.06858 0.56203 0.06858 0.56203 C 0.06493 0.55463 0.06059 0.55486 0.05469 0.55092 C 0.05035 0.54328 0.04497 0.53541 0.03802 0.5324 C 0.03108 0.52314 0.0224 0.51597 0.01441 0.5081 C 0.00903 0.50324 0.00538 0.49629 -0.00087 0.49352 C -0.01753 0.47685 -0.03333 0.45972 -0.05087 0.44537 C -0.05642 0.44074 -0.05746 0.43495 -0.06337 0.4324 C -0.07413 0.41805 -0.06024 0.43541 -0.07309 0.42314 C -0.07934 0.41713 -0.08489 0.40879 -0.09114 0.40254 C -0.09288 0.40115 -0.09496 0.40069 -0.0967 0.39884 C -0.10798 0.38819 -0.11701 0.3743 -0.12864 0.36389 C -0.13646 0.35694 -0.14132 0.34606 -0.14826 0.33796 C -0.15052 0.33472 -0.15642 0.33055 -0.15642 0.33055 C -0.16423 0.30532 -0.15191 0.34259 -0.16892 0.30833 C -0.17587 0.29444 -0.18194 0.28264 -0.19114 0.27129 C -0.19444 0.26713 -0.19844 0.26342 -0.20087 0.25833 C -0.20191 0.25648 -0.20243 0.25439 -0.20364 0.25277 C -0.21128 0.24282 -0.22048 0.23518 -0.22864 0.22685 C -0.2375 0.21759 -0.24566 0.20509 -0.25521 0.19722 C -0.25712 0.19537 -0.25972 0.1949 -0.26198 0.19352 C -0.26701 0.19004 -0.27101 0.18426 -0.27587 0.18055 C -0.28194 0.17592 -0.28923 0.17361 -0.29548 0.16944 C -0.3066 0.1618 -0.31857 0.15602 -0.33021 0.14907 C -0.33385 0.14676 -0.3375 0.14421 -0.34114 0.14166 C -0.34722 0.13773 -0.34323 0.13796 -0.3467 0.13796 E">
                                      <p:cBhvr>
                                        <p:cTn id="387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41:13Z</dcterms:created>
  <dc:creator>Admin</dc:creator>
  <dc:description/>
  <dc:language>en-US</dc:language>
  <cp:lastModifiedBy>Михаил</cp:lastModifiedBy>
  <dcterms:modified xsi:type="dcterms:W3CDTF">2020-04-08T03:58:44Z</dcterms:modified>
  <cp:revision>71</cp:revision>
  <dc:subject/>
  <dc:title>Слайд 1</dc:title>
</cp:coreProperties>
</file>