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756-A707-4F5B-8C7D-D24C99B9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170-C638-4A2F-8222-2BE48DD4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67E-197D-4CE5-9DEA-9A0A0206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34A-B5AC-43B3-845E-71009407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D5FE-2EAA-401B-B8D8-50A6D4D5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E9E-2B81-48ED-B2FC-DE26CD04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196-2B4B-491D-B10A-8103E575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DEB7-65EB-4B6D-8A44-328B4339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700D-0E17-4FBE-AAC5-0450951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4DAC-4D95-4531-B5B8-C92A5AF5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950D-C33F-4A03-8457-551F548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ACD-20F0-4B11-B8B2-77755DE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14D3-AF2D-4E3C-9E29-0C3B814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BE0C-16C2-40A2-ACE8-AB5F5791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631A-78DC-460A-9EE6-D59CBB8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779B-FFF3-4F27-BB1D-B21CD60B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4E75-02C8-44ED-94DE-3F9BAF76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0B4-CABB-4CED-9AEA-16E5B14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6C6-7BD7-4387-9404-22483D8F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A85-14A9-4C5C-906D-C99A5EB6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BF9-FD9C-4358-8752-E67312F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F51-7427-41A9-9FD1-9B2096E4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4F0-BD98-4337-A405-6C2CB3D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353-C9C8-4D35-B70C-F32B7F9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18BB-F41E-42A4-B240-619FAD8CA49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2BA8-9937-4FED-BC8B-6C0C44299E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: Общение и коммуникац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сновные теории общения. Интерактивная, коммуникативная, перцептивная стороны общения. Общение и коммуникация: сходства и различ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268880" y="189000"/>
            <a:ext cx="4875120" cy="11430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ЛЕКТРОННАЯ 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езентация (приложение к практикуму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0" y="342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чебная дисциплина «Психология личности и профессиональное самоопределение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ля студентов группы 305-пв/17 , профессия«Повар, кондитер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4449600" y="5141880"/>
            <a:ext cx="468180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Составитель: Ушакова Ольга Александровна, преподаватель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ГАПОУ  СО «Ревдинский многопрофильный техникум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Дата учебного занятия: 0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9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.04.2020, городской округ Ревд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мволический интеракционизм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торы Дж. Мид и Г.Блумер. Согласно этой теории поведение людей по отношению друг к другу и к предметам окружающего мира определяется значениями, которые они им придают. Дж. Мид выделил два типа действи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начимый жест (автоматический рефлекс типа моргания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чимый жест (связан с осмыслением поступков и намерений другого человека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ория управления впечатле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втор Э.Гофман. Согласно этой теории социальные ситуации взаимодействия подобны драматическим спектаклям, в которых актеры стремятся создавать и поддерживать благоприятные впечатления. Люди ведут себя подобно актерам на сцене, используя “декорации” и “окружающую обстановку” для создания определенного впечатления о себе и друг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терактивная сторона (взаимодействие) характериз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стностью принятых управленческих решени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тким распределением обязанностей среди сотрудников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лым разрешением 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цепц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ерцепц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процесс восприятия, способствующий взаимопониманию участников об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осознает себя через другого человека посредством определенных механизмов межличностной перцепции. К ним относя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и понимание людьми друг друга ( идентификация, эмпатия, аттракц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знание самого себя в процессе общения (рефлекс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нозирование поведения партнера по общению (каузальная атрибуци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Коммуникативная сторон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обмен информацией) характеризуетс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м устанавливать психологический контакт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том особенностей коммуникативного воздейств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ргументированностью, логичностью и адекватностью ситуации общения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ффективностью использования вербальных и невербальных средств общ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зучить самостоятельно материал – презентацию «Общение и коммуникация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конспектировать основные понятия те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ыполнить практическое упражнение «Коммуникации»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ля проверки своих знаний по тем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ложный многоплановый процесс установления и развития контактов между людьми, порождаемый потребностями совместной деятельности и включающий в себя обмен информацией, выработку единой стратегии взаимодействия, восприятие и понимание другого челове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ение – это сложный процесс, в который входят три составляющие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Коммуника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щения (обмен информацией между людь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Интерак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рганизация взаимодействия между индивидами)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ерцептивная сторо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оцесс восприятия друг друга партнерами по общению и установление взаимопонима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ербальная коммуникац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щения осуществляется посредством речи. Под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речью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нимается естественный звуковой язык, т.е. система фонетических знаков, включающих два принципа – лексический и синтаксический. Речь является универсальным средством коммуникации, так как при передаче информации с ее помощью передается смысл сообщения. Благодаря речи осуществляется кодирование и декодирование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6080" y="774360"/>
            <a:ext cx="7760520" cy="113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вербальная коммуникац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8459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изуальные виды общения – это жесты, мимика, позы, кожные реакции, пространственно-временная организация общения, контакт глаз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устическая система, включающая в себя следующие аспекты: паралингвистическую систему (тембр голоса, диапазон, тональность) и экстралингвистическую систему (это включение в речь пауз и других средств, таких как покашливание, смех, плач и др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тильная система (такесика) ( прикосновения, пожатие руки, объятия, поцелуи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льфакторная система (приятные и неприятные запахи окружающей среды; искусственные и естественные запахи человека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взаимодействия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рупповая интеграция (совместная трудовая деятельность, кооперация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енция (соперничество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ликт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, для того чтобы общение было эффективны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психологических позиций социальных субъектов независимо от их социального статус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в признании активной коммуникативной роли друг друг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енство в психологической взаимоподдержк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бмен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2362320"/>
            <a:ext cx="82087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глас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теории обмена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Дж.Хоманс), каждый из нас стремится уравновесить вознаграждение и затраты, чтобы сделать наше взаимодействие устойчивым и приятным, при этом в основе лежит свой прежний опыт. В основе теории лежат четыре принцип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ем больше вознаграждается определенный тип поведения, тем чаще он будет повторятьс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вознаграждение за определенный тип поведения зависит от условий, то человек будет стремиться их воссоздать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вознаграждение велико, то человек готов затратить больше усилий для его получения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гда потребности человека близки к насыщению, он в меньшей мере готов прилагать усилия для их удовлетвор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9:33Z</dcterms:created>
  <dc:creator>Liza</dc:creator>
  <dc:description/>
  <dc:language>en-US</dc:language>
  <cp:lastModifiedBy>Сергей Ушаков</cp:lastModifiedBy>
  <dcterms:modified xsi:type="dcterms:W3CDTF">2020-04-08T16:24:21Z</dcterms:modified>
  <cp:revision>7</cp:revision>
  <dc:subject/>
  <dc:title>Общение и коммуникация</dc:title>
</cp:coreProperties>
</file>