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404-6C81-4FD5-8769-645C8C41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004-2BEA-4FDD-98ED-BC0A68A7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384-E13A-4E18-8B82-158E86CD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B05-8324-4948-B608-EB1B6B79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338B-D530-4E22-943D-3FB45BD0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E4EA-494E-4D78-8E5A-92D285D5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84CA-C1E6-4126-9EF3-D39A0370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228A-0DCA-46E9-9F52-740C1467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253A-26A6-401B-AFB5-62876953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DC95-B625-4DAF-A0F3-DEF4912F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B787-5BAD-4033-86CF-DE8BEB5B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3DB-B309-4FA7-92E8-8A6FD1D2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B44E-5AD8-4161-8377-CD1D2B71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8EF1-B4CE-470D-B298-72584989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FCC-46C8-4085-B86E-9836F126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C264-478E-47B0-874A-E9855DE8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C7CC-0FE0-4490-AE3D-B4C49FAD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279-FE6E-46BD-8ADB-8101026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20B-1A89-408B-9E1B-AC1EB3D7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444-C843-4249-A955-29BB30B6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E2A-FD94-4FD7-A71B-BBB02A3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8C5-F23B-458D-A2E6-AFB0EF25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31D-B893-4B0D-A4DC-723BD0E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6B1-7A44-42C5-8A54-61776EE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0FC1-8B2E-480E-87B9-EDA8A2AE2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3895-1D06-43FC-B508-B7D021F3A4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969840" y="476280"/>
            <a:ext cx="78393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4788000" y="1484280"/>
            <a:ext cx="410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.Н.Толстой – великий русский писатель. Он родился более 180 лет назад. За 82 года своей жизни он написал много интересных книг для взрослых и детей. Он был графом-богатым человеком, у которого есть слуги. Но Лев Николаевич не хотел, чтобы на него работали люди  и сам шил себе рубашки, сапоги, на свои деньги он создал школу для крестьянских ребят из бедных сем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img0.liveinternet.ru/images/attach/c/3/77/849/77849422_tolstoi.jpg"/>
          <p:cNvPicPr/>
          <p:nvPr/>
        </p:nvPicPr>
        <p:blipFill>
          <a:blip r:embed="rId1"/>
          <a:stretch/>
        </p:blipFill>
        <p:spPr>
          <a:xfrm>
            <a:off x="539640" y="2565360"/>
            <a:ext cx="3888000" cy="37940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3"/>
          <p:cNvSpPr/>
          <p:nvPr/>
        </p:nvSpPr>
        <p:spPr>
          <a:xfrm>
            <a:off x="1611000" y="33336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Лев Николаевич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84360" y="189000"/>
            <a:ext cx="804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н хорошо ездил на лошади, много ходил пешком, занимался гимнастикой, не смотря на свои 82 года.  Свое первое произведение он написал в 7 лет для своих маленьких братьев и сестр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depo.ua/static/img/i/l/ilya_efimovich_repin__1844_1930____portrait_of_leo_tolstoy__1887__600x385.jpg"/>
          <p:cNvPicPr/>
          <p:nvPr/>
        </p:nvPicPr>
        <p:blipFill>
          <a:blip r:embed="rId1"/>
          <a:stretch/>
        </p:blipFill>
        <p:spPr>
          <a:xfrm>
            <a:off x="720720" y="1700280"/>
            <a:ext cx="7405560" cy="47530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611280" y="1484280"/>
            <a:ext cx="79214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е «Гусь и журавль» это бас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е произведения мы называем басней?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611280" y="4797360"/>
            <a:ext cx="806436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Бас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– небольшое произведение, написанное  стихами или прозой. В ней высмеиваются пороки и недостатки людей – хитрость, ложь, лесть, жадность, глупость, гордыня и другие. В баснях обычно действуют животные, а подразумеваются люди. Басня начинается или заканчивается моралью – выводом, поучением, где объясняется смысл бас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611280" y="189000"/>
            <a:ext cx="84247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накомство с басней К. Д. Ушинского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Гусь и журав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audioskazki.net/wp-content/gallery/ushinskiy/detyam/p0019.jpg"/>
          <p:cNvPicPr/>
          <p:nvPr/>
        </p:nvPicPr>
        <p:blipFill>
          <a:blip r:embed="rId1"/>
          <a:stretch/>
        </p:blipFill>
        <p:spPr>
          <a:xfrm>
            <a:off x="2987640" y="2349360"/>
            <a:ext cx="31687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692360" y="249228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ебник с. 58 чита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539640" y="189000"/>
            <a:ext cx="842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журавль называет гу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журавль доказал, что гусь напрасно себя восхваля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рочитай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ята, вы согласны с такими словами журавля или 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какими бы словами вы рассказали о журав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Какой о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читайте этот отрывок еще раз и покажите голосом, что журавль стыдит гуся и поуч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 чём эта басня? Чему уч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332000" y="227664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чебник с. 59 чита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755640" y="40464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чему зайцы жаловались на свою жизнь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они решили сделать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очему зайцы передумали топиться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му учит сказка Л. Толстого «Зайцы и лягушк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naslediepredkov.info/images/thumbs/381_500_300_1.jpg"/>
          <p:cNvPicPr/>
          <p:nvPr/>
        </p:nvPicPr>
        <p:blipFill>
          <a:blip r:embed="rId1"/>
          <a:stretch/>
        </p:blipFill>
        <p:spPr>
          <a:xfrm>
            <a:off x="1116000" y="3284640"/>
            <a:ext cx="6431040" cy="333216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95280" y="1557360"/>
            <a:ext cx="84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Парус наш на совес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ши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нас и шторм не устраши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2189160" y="390600"/>
            <a:ext cx="4552920" cy="950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www.zdravosil.ru/uploads/posts/2015-01/47-227.jpg"/>
          <p:cNvPicPr/>
          <p:nvPr/>
        </p:nvPicPr>
        <p:blipFill>
          <a:blip r:embed="rId2"/>
          <a:stretch/>
        </p:blipFill>
        <p:spPr>
          <a:xfrm>
            <a:off x="2225520" y="3933720"/>
            <a:ext cx="39992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611280" y="184464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 Прошки с плошкой Выш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плошка 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ошку Прошка Переверн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www.zdravosil.ru/uploads/posts/2015-01/47-228.jpg"/>
          <p:cNvPicPr/>
          <p:nvPr/>
        </p:nvPicPr>
        <p:blipFill>
          <a:blip r:embed="rId1"/>
          <a:stretch/>
        </p:blipFill>
        <p:spPr>
          <a:xfrm>
            <a:off x="1547640" y="3789360"/>
            <a:ext cx="6021720" cy="24033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2"/>
          <a:stretch/>
        </p:blipFill>
        <p:spPr>
          <a:xfrm>
            <a:off x="2189160" y="390600"/>
            <a:ext cx="4552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5717160" y="333360"/>
            <a:ext cx="30200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счита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2" descr=""/>
          <p:cNvPicPr/>
          <p:nvPr/>
        </p:nvPicPr>
        <p:blipFill>
          <a:blip r:embed="rId1"/>
          <a:stretch/>
        </p:blipFill>
        <p:spPr>
          <a:xfrm>
            <a:off x="530280" y="324000"/>
            <a:ext cx="3614760" cy="944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539640" y="1413000"/>
            <a:ext cx="56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лнуются волнуш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быть нам без кадушк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се грибы в кадуш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были о волнуш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ищи волнушк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чень вкусные гри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zdravosil.ru/uploads/posts/2015-01/47-234.jpg"/>
          <p:cNvPicPr/>
          <p:nvPr/>
        </p:nvPicPr>
        <p:blipFill>
          <a:blip r:embed="rId2"/>
          <a:stretch/>
        </p:blipFill>
        <p:spPr>
          <a:xfrm>
            <a:off x="5219640" y="4156200"/>
            <a:ext cx="3651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611280" y="189000"/>
            <a:ext cx="8208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изображено на этих фотографи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cdn01.ru/files/users/images/97/b2/97b2088423b0176f93eab041326e9870.gif"/>
          <p:cNvPicPr/>
          <p:nvPr/>
        </p:nvPicPr>
        <p:blipFill>
          <a:blip r:embed="rId1"/>
          <a:stretch/>
        </p:blipFill>
        <p:spPr>
          <a:xfrm>
            <a:off x="324000" y="620640"/>
            <a:ext cx="4248000" cy="6069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go2.imgsmail.ru/imgpreview?key=35953113a584f312&amp;mb=imgdb_preview_1446"/>
          <p:cNvPicPr/>
          <p:nvPr/>
        </p:nvPicPr>
        <p:blipFill>
          <a:blip r:embed="rId2"/>
          <a:stretch/>
        </p:blipFill>
        <p:spPr>
          <a:xfrm>
            <a:off x="4646520" y="2708280"/>
            <a:ext cx="4057920" cy="37828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6" name="Прямоугольник 4"/>
          <p:cNvSpPr/>
          <p:nvPr/>
        </p:nvSpPr>
        <p:spPr>
          <a:xfrm>
            <a:off x="4427640" y="83664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ак вы думаете, какие книги называются старин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84360" y="40464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тарину буквы в книгах тщательно выписывались, особенно заглавие и первые строки в книге. Они выписывались красной краской, а иногда и золотились. Отсюда и пошло название-красная строка. Книги в разные времена и в разных странах писали на различных материалах. Первые книги были рукописные,их писали в ручную, знающие грамоту люди – писцы. Долгий и трудный путь прошла книга, прежде чем попасть к вам в руки. За сотни лет изменился и способ печатания. Ведь раньше он был тоже длительным и трудоемким. Сейчас уже книги печатают с помощью компьютеров и количество их – насчитывает тысячи экземпляров. Книги всегда, всю жизнь будут вашими помощниками, советчиками и верными друзьями. Каждая книга – это кусочек истории. О том, что было раньше, мы можем узнать не только из старинных вещей, но и из кни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scientology-books.ru/wp-content/uploads/2012/08/%D0%BA%D0%BD%D0%B8%D0%B3%D0%B8-%D0%BE-%D1%84%D0%B8%D0%BB%D0%BE%D1%81%D0%BE%D1%84%D0%B8%D0%B8.png"/>
          <p:cNvPicPr/>
          <p:nvPr/>
        </p:nvPicPr>
        <p:blipFill>
          <a:blip r:embed="rId1"/>
          <a:stretch/>
        </p:blipFill>
        <p:spPr>
          <a:xfrm>
            <a:off x="3492360" y="4991040"/>
            <a:ext cx="2374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4427640" y="1916280"/>
            <a:ext cx="45180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годня мы познакомимся с произведением писателя К.Д. Ушинского . Константин Дмитриевич родился более 180 лет назад. Он был не только писателем, но и педагогом. В те времена не было таких школ, как сейчас, не было учеб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. Д. составил для учеников начальной школы учебники: “Детский мир” и “Родное слово”. Написал много рассказов, сказок и посвятил их детям. 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orthedu.ru/uploads/posts/2013-09/thumbs/1378021731_10.jpg"/>
          <p:cNvPicPr/>
          <p:nvPr/>
        </p:nvPicPr>
        <p:blipFill>
          <a:blip r:embed="rId1"/>
          <a:stretch/>
        </p:blipFill>
        <p:spPr>
          <a:xfrm>
            <a:off x="611280" y="1628640"/>
            <a:ext cx="3552840" cy="47628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TextBox 3"/>
          <p:cNvSpPr/>
          <p:nvPr/>
        </p:nvSpPr>
        <p:spPr>
          <a:xfrm>
            <a:off x="921240" y="404640"/>
            <a:ext cx="725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онстантин Дмитриевич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260280"/>
            <a:ext cx="82612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т человек очень любил детей и в своих произведениях старался познакомить их с окружающим миром, с миром животных, растений, с красотой природы. Книги Константина Дмитриевича мудрые и поучительные. Читая их, узнаешь много нового и познавательного. Становишься мудрее и добрее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i47.fastpic.ru/big/2013/0714/d6/aa4b8aaf9a6c8d3d704a074438458ad6.jpg"/>
          <p:cNvPicPr/>
          <p:nvPr/>
        </p:nvPicPr>
        <p:blipFill>
          <a:blip r:embed="rId1"/>
          <a:stretch/>
        </p:blipFill>
        <p:spPr>
          <a:xfrm>
            <a:off x="755640" y="2421000"/>
            <a:ext cx="3227400" cy="41497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4" name="Picture 4" descr="http://donkniga.com.ua/img/big/2896.jpg"/>
          <p:cNvPicPr/>
          <p:nvPr/>
        </p:nvPicPr>
        <p:blipFill>
          <a:blip r:embed="rId2"/>
          <a:stretch/>
        </p:blipFill>
        <p:spPr>
          <a:xfrm>
            <a:off x="4716360" y="2276640"/>
            <a:ext cx="2664000" cy="42764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9:15:11Z</dcterms:created>
  <dc:creator>Samsung</dc:creator>
  <dc:description/>
  <dc:language>en-US</dc:language>
  <cp:lastModifiedBy>Мария Шувалова</cp:lastModifiedBy>
  <dcterms:modified xsi:type="dcterms:W3CDTF">2020-04-08T19:35:36Z</dcterms:modified>
  <cp:revision>8</cp:revision>
  <dc:subject/>
  <dc:title>Слайд 1</dc:title>
</cp:coreProperties>
</file>