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974-01B4-41AB-BE72-897897232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ABF-A337-441B-AB5E-522206714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165-9CAE-4D18-9B68-07180388C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9B5-0236-4040-90CF-8AD2BFACB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120F-0F89-4993-AD61-0A41FD446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C47E-F25A-45A2-AF64-68E61B972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7B9-3DC9-4BFA-8F9C-67E5CAE32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E45-87DE-4E76-BCCE-434BFD269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997-8CF0-4BDD-A3B5-61FA42EBB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7F1-067C-492E-ACED-809A6FEF2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A27-2D6B-4FE3-93C4-0B1892DD1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7B7-7216-4883-8455-7DAAE678A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CC7-B2AA-4E14-94DD-B75BB0ECE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A807-9170-4213-ACC2-1BCDCC54D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F1F1-6BE9-4494-862A-1EFE61791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8F0B-E274-4A4C-B2BF-A7E83E8EA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1B44-1638-4DEC-9F43-EAE22614A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A4C-3A38-4466-8F2F-9685CD48D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F2EC-A0A7-4F83-A39B-2BCC2DB49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B1B-FBAD-4140-BE45-ECEC32638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2C2-3EDD-4EEE-AAE3-9C271A46E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871-DFC3-4B07-830C-1853084B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625-1493-430D-BE45-1C263DC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88A-E98B-4941-9D10-262BC9C0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5B3-44B6-4F0B-8B13-3CB927C6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7D5-DFC0-495E-913B-D910B66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4A2-4623-4579-B134-2EDBA102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808-1B43-4BA0-8F6D-EDE77D5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D90-A00C-4D39-AB39-1C7358AC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7AB-FAB4-40DC-BC79-CB80014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13A-0A01-419D-819C-5F5B1BF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5F8-214A-4E55-9511-5DFF707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31B-93BF-4BB6-87DA-44CDF9D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39F-6D7D-4B4A-BE87-C6B375DD5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9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3581280" y="312408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533520" y="563868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  Геометрия 7-9    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380880" y="304920"/>
            <a:ext cx="849816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</a:rPr>
              <a:t> 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257dff"/>
              </a:solidFill>
              <a:latin typeface="Arial"/>
              <a:ea typeface="Arial"/>
            </a:endParaRPr>
          </a:p>
        </p:txBody>
      </p:sp>
      <p:sp>
        <p:nvSpPr>
          <p:cNvPr id="60" name="WordArt 22"/>
          <p:cNvSpPr txBox="1"/>
          <p:nvPr/>
        </p:nvSpPr>
        <p:spPr>
          <a:xfrm>
            <a:off x="76212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3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Центральные 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24"/>
          <p:cNvSpPr txBox="1"/>
          <p:nvPr/>
        </p:nvSpPr>
        <p:spPr>
          <a:xfrm>
            <a:off x="380880" y="3429000"/>
            <a:ext cx="8382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 вписанные углы</a:t>
            </a:r>
            <a:endParaRPr b="1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8288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828800" y="18288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72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"/>
          <p:cNvSpPr/>
          <p:nvPr/>
        </p:nvSpPr>
        <p:spPr>
          <a:xfrm>
            <a:off x="1600200" y="3340080"/>
            <a:ext cx="1689120" cy="1155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064" h="728">
                <a:moveTo>
                  <a:pt x="0" y="584"/>
                </a:moveTo>
                <a:lnTo>
                  <a:pt x="400" y="0"/>
                </a:lnTo>
                <a:lnTo>
                  <a:pt x="1064" y="464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6232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88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333440" y="3324240"/>
            <a:ext cx="2210040" cy="1413000"/>
          </a:xfrm>
          <a:custGeom>
            <a:avLst/>
            <a:gdLst/>
            <a:ahLst/>
            <a:rect l="l" t="t" r="r" b="b"/>
            <a:pathLst>
              <a:path w="1392" h="890">
                <a:moveTo>
                  <a:pt x="0" y="890"/>
                </a:moveTo>
                <a:lnTo>
                  <a:pt x="564" y="0"/>
                </a:lnTo>
                <a:lnTo>
                  <a:pt x="1392" y="5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505320" y="41911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88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97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23"/>
          <p:cNvSpPr/>
          <p:nvPr/>
        </p:nvSpPr>
        <p:spPr>
          <a:xfrm>
            <a:off x="14479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2" name="Text Box 26"/>
          <p:cNvSpPr/>
          <p:nvPr/>
        </p:nvSpPr>
        <p:spPr>
          <a:xfrm>
            <a:off x="20574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1"/>
          <p:cNvSpPr/>
          <p:nvPr/>
        </p:nvSpPr>
        <p:spPr>
          <a:xfrm flipV="1" rot="16753800">
            <a:off x="722520" y="1762920"/>
            <a:ext cx="3003480" cy="3177720"/>
          </a:xfrm>
          <a:custGeom>
            <a:avLst/>
            <a:gdLst>
              <a:gd name="textAreaLeft" fmla="*/ 0 w 3003480"/>
              <a:gd name="textAreaRight" fmla="*/ 3003840 w 3003480"/>
              <a:gd name="textAreaTop" fmla="*/ -360 h 3177720"/>
              <a:gd name="textAreaBottom" fmla="*/ 3177720 h 3177720"/>
            </a:gdLst>
            <a:ahLst/>
            <a:rect l="textAreaLeft" t="textAreaTop" r="textAreaRight" b="textAreaBottom"/>
            <a:pathLst>
              <a:path fill="none" w="41452" h="43200">
                <a:moveTo>
                  <a:pt x="10909" y="1938"/>
                </a:moveTo>
                <a:cubicBezTo>
                  <a:pt x="13717" y="660"/>
                  <a:pt x="16766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</a:path>
              <a:path stroke="0" w="41452" h="43200">
                <a:moveTo>
                  <a:pt x="10909" y="1938"/>
                </a:moveTo>
                <a:cubicBezTo>
                  <a:pt x="13717" y="660"/>
                  <a:pt x="16766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  <a:lnTo>
                  <a:pt x="19852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36232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88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03333 -0.21783 E">
                                      <p:cBhvr>
                                        <p:cTn id="391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34"/>
          <p:cNvSpPr/>
          <p:nvPr/>
        </p:nvSpPr>
        <p:spPr>
          <a:xfrm>
            <a:off x="1349280" y="3352680"/>
            <a:ext cx="860400" cy="139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542" h="878">
                <a:moveTo>
                  <a:pt x="542" y="0"/>
                </a:moveTo>
                <a:lnTo>
                  <a:pt x="0" y="8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09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8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318" name="Oval 19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rc 22"/>
          <p:cNvSpPr/>
          <p:nvPr/>
        </p:nvSpPr>
        <p:spPr>
          <a:xfrm rot="4846200">
            <a:off x="1440000" y="3453840"/>
            <a:ext cx="1392480" cy="17398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739880"/>
              <a:gd name="textAreaBottom" fmla="*/ 1740240 h 1739880"/>
            </a:gdLst>
            <a:ahLst/>
            <a:rect l="textAreaLeft" t="textAreaTop" r="textAreaRight" b="textAreaBottom"/>
            <a:pathLst>
              <a:path fill="none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</a:path>
              <a:path stroke="0" w="21600" h="24179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4649"/>
                  <a:pt x="19335" y="20130"/>
                  <a:pt x="15302" y="24178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144792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А до радиуса ОВ.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5"/>
          <p:cNvSpPr/>
          <p:nvPr/>
        </p:nvSpPr>
        <p:spPr>
          <a:xfrm rot="21185400">
            <a:off x="347760" y="3987720"/>
            <a:ext cx="4376520" cy="2108160"/>
          </a:xfrm>
          <a:custGeom>
            <a:avLst/>
            <a:gdLst>
              <a:gd name="textAreaLeft" fmla="*/ 0 w 4376520"/>
              <a:gd name="textAreaRight" fmla="*/ 4376880 w 437652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757" h="1328">
                <a:moveTo>
                  <a:pt x="2749" y="1326"/>
                </a:moveTo>
                <a:lnTo>
                  <a:pt x="999" y="6"/>
                </a:lnTo>
                <a:lnTo>
                  <a:pt x="1049" y="264"/>
                </a:lnTo>
                <a:lnTo>
                  <a:pt x="458" y="1056"/>
                </a:lnTo>
                <a:lnTo>
                  <a:pt x="0" y="1280"/>
                </a:lnTo>
                <a:lnTo>
                  <a:pt x="447" y="1058"/>
                </a:lnTo>
                <a:lnTo>
                  <a:pt x="2166" y="1123"/>
                </a:lnTo>
                <a:lnTo>
                  <a:pt x="2757" y="1328"/>
                </a:lnTo>
                <a:lnTo>
                  <a:pt x="2166" y="1113"/>
                </a:lnTo>
                <a:lnTo>
                  <a:pt x="1040" y="268"/>
                </a:lnTo>
                <a:lnTo>
                  <a:pt x="1006" y="6"/>
                </a:lnTo>
                <a:lnTo>
                  <a:pt x="992" y="0"/>
                </a:lnTo>
                <a:lnTo>
                  <a:pt x="32" y="1264"/>
                </a:lnTo>
                <a:lnTo>
                  <a:pt x="77" y="1219"/>
                </a:lnTo>
                <a:lnTo>
                  <a:pt x="55" y="1265"/>
                </a:lnTo>
                <a:lnTo>
                  <a:pt x="37" y="1237"/>
                </a:lnTo>
                <a:lnTo>
                  <a:pt x="70" y="1223"/>
                </a:lnTo>
                <a:lnTo>
                  <a:pt x="64" y="1246"/>
                </a:lnTo>
                <a:lnTo>
                  <a:pt x="2749" y="13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6"/>
          <p:cNvGrpSpPr/>
          <p:nvPr/>
        </p:nvGrpSpPr>
        <p:grpSpPr>
          <a:xfrm>
            <a:off x="3083040" y="2756160"/>
            <a:ext cx="1773000" cy="2340000"/>
            <a:chOff x="3083040" y="2756160"/>
            <a:chExt cx="1773000" cy="2340000"/>
          </a:xfrm>
        </p:grpSpPr>
        <p:sp>
          <p:nvSpPr>
            <p:cNvPr id="327" name="Freeform 37"/>
            <p:cNvSpPr/>
            <p:nvPr/>
          </p:nvSpPr>
          <p:spPr>
            <a:xfrm flipV="1" rot="12253800">
              <a:off x="3506760" y="2857320"/>
              <a:ext cx="952560" cy="213732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-360 h 2137320"/>
                <a:gd name="textAreaBottom" fmla="*/ 2137320 h 2137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 flipV="1" rot="12253800">
              <a:off x="3157200" y="4376160"/>
              <a:ext cx="240480" cy="4150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-360 h 415080"/>
                <a:gd name="textAreaBottom" fmla="*/ 415080 h 41508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9"/>
            <p:cNvSpPr/>
            <p:nvPr/>
          </p:nvSpPr>
          <p:spPr>
            <a:xfrm flipV="1" rot="12253800">
              <a:off x="3121200" y="4583880"/>
              <a:ext cx="91440" cy="15732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-36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40"/>
            <p:cNvGrpSpPr/>
            <p:nvPr/>
          </p:nvGrpSpPr>
          <p:grpSpPr>
            <a:xfrm>
              <a:off x="3287880" y="2796480"/>
              <a:ext cx="1544040" cy="1969560"/>
              <a:chOff x="3287880" y="2796480"/>
              <a:chExt cx="1544040" cy="1969560"/>
            </a:xfrm>
          </p:grpSpPr>
          <p:sp>
            <p:nvSpPr>
              <p:cNvPr id="331" name="Freeform 41"/>
              <p:cNvSpPr/>
              <p:nvPr/>
            </p:nvSpPr>
            <p:spPr>
              <a:xfrm flipV="1" rot="12253800">
                <a:off x="3617640" y="2887920"/>
                <a:ext cx="831600" cy="1785600"/>
              </a:xfrm>
              <a:custGeom>
                <a:avLst/>
                <a:gdLst>
                  <a:gd name="textAreaLeft" fmla="*/ 0 w 831600"/>
                  <a:gd name="textAreaRight" fmla="*/ 831960 w 831600"/>
                  <a:gd name="textAreaTop" fmla="*/ 360 h 1785600"/>
                  <a:gd name="textAreaBottom" fmla="*/ 1786320 h 1785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2"/>
              <p:cNvSpPr/>
              <p:nvPr/>
            </p:nvSpPr>
            <p:spPr>
              <a:xfrm flipV="1" rot="8936400">
                <a:off x="4743360" y="3049200"/>
                <a:ext cx="46800" cy="1731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-360 h 173160"/>
                  <a:gd name="textAreaBottom" fmla="*/ 173160 h 17316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Freeform 43"/>
          <p:cNvSpPr/>
          <p:nvPr/>
        </p:nvSpPr>
        <p:spPr>
          <a:xfrm>
            <a:off x="1781280" y="4035600"/>
            <a:ext cx="1279440" cy="726840"/>
          </a:xfrm>
          <a:custGeom>
            <a:avLst/>
            <a:gdLst>
              <a:gd name="textAreaLeft" fmla="*/ 0 w 1279440"/>
              <a:gd name="textAreaRight" fmla="*/ 1279440 w 127944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806" h="458">
                <a:moveTo>
                  <a:pt x="806" y="45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4"/>
          <p:cNvSpPr/>
          <p:nvPr/>
        </p:nvSpPr>
        <p:spPr>
          <a:xfrm>
            <a:off x="1876320" y="3909960"/>
            <a:ext cx="133560" cy="19044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4" h="120">
                <a:moveTo>
                  <a:pt x="0" y="0"/>
                </a:moveTo>
                <a:lnTo>
                  <a:pt x="84" y="48"/>
                </a:lnTo>
                <a:lnTo>
                  <a:pt x="36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5"/>
              <p:cNvSpPr txBox="1"/>
              <p:nvPr/>
            </p:nvSpPr>
            <p:spPr>
              <a:xfrm>
                <a:off x="4876920" y="762120"/>
                <a:ext cx="1752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Freeform 46"/>
          <p:cNvSpPr/>
          <p:nvPr/>
        </p:nvSpPr>
        <p:spPr>
          <a:xfrm>
            <a:off x="1333440" y="3352680"/>
            <a:ext cx="1743120" cy="14144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1098" h="891">
                <a:moveTo>
                  <a:pt x="0" y="888"/>
                </a:moveTo>
                <a:lnTo>
                  <a:pt x="1098" y="891"/>
                </a:lnTo>
                <a:lnTo>
                  <a:pt x="5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4296240" y="83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371600" y="3733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L -0.14027 -0.10555 E">
                                      <p:cBhvr>
                                        <p:cTn id="411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8056 0.42222 E">
                                      <p:cBhvr>
                                        <p:cTn id="456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-0.025 -0.20672 E">
                                      <p:cBhvr>
                                        <p:cTn id="460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87"/>
          <p:cNvGrpSpPr/>
          <p:nvPr/>
        </p:nvGrpSpPr>
        <p:grpSpPr>
          <a:xfrm>
            <a:off x="3924360" y="3429000"/>
            <a:ext cx="2371680" cy="1863720"/>
            <a:chOff x="3924360" y="3429000"/>
            <a:chExt cx="2371680" cy="1863720"/>
          </a:xfrm>
        </p:grpSpPr>
        <p:sp>
          <p:nvSpPr>
            <p:cNvPr id="341" name="Freeform 3"/>
            <p:cNvSpPr/>
            <p:nvPr/>
          </p:nvSpPr>
          <p:spPr>
            <a:xfrm>
              <a:off x="3924360" y="3429000"/>
              <a:ext cx="2371680" cy="186372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1494" h="1174">
                  <a:moveTo>
                    <a:pt x="0" y="256"/>
                  </a:moveTo>
                  <a:lnTo>
                    <a:pt x="390" y="0"/>
                  </a:lnTo>
                  <a:lnTo>
                    <a:pt x="1075" y="161"/>
                  </a:lnTo>
                  <a:lnTo>
                    <a:pt x="1380" y="555"/>
                  </a:lnTo>
                  <a:lnTo>
                    <a:pt x="1406" y="926"/>
                  </a:lnTo>
                  <a:lnTo>
                    <a:pt x="1494" y="1174"/>
                  </a:lnTo>
                  <a:lnTo>
                    <a:pt x="371" y="1174"/>
                  </a:lnTo>
                  <a:lnTo>
                    <a:pt x="0" y="256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4361040" y="4863960"/>
              <a:ext cx="580680" cy="4082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141">
                  <a:moveTo>
                    <a:pt x="0" y="1"/>
                  </a:moveTo>
                  <a:cubicBezTo>
                    <a:pt x="14" y="2"/>
                    <a:pt x="58" y="0"/>
                    <a:pt x="84" y="9"/>
                  </a:cubicBezTo>
                  <a:cubicBezTo>
                    <a:pt x="110" y="18"/>
                    <a:pt x="138" y="35"/>
                    <a:pt x="156" y="57"/>
                  </a:cubicBezTo>
                  <a:cubicBezTo>
                    <a:pt x="174" y="79"/>
                    <a:pt x="184" y="123"/>
                    <a:pt x="192" y="141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7"/>
          <p:cNvSpPr/>
          <p:nvPr/>
        </p:nvSpPr>
        <p:spPr>
          <a:xfrm>
            <a:off x="2425680" y="2414520"/>
            <a:ext cx="1486080" cy="16765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36" h="1056">
                <a:moveTo>
                  <a:pt x="592" y="0"/>
                </a:moveTo>
                <a:lnTo>
                  <a:pt x="936" y="840"/>
                </a:lnTo>
                <a:lnTo>
                  <a:pt x="744" y="1056"/>
                </a:lnTo>
                <a:lnTo>
                  <a:pt x="616" y="1056"/>
                </a:lnTo>
                <a:lnTo>
                  <a:pt x="360" y="1008"/>
                </a:lnTo>
                <a:lnTo>
                  <a:pt x="208" y="896"/>
                </a:lnTo>
                <a:lnTo>
                  <a:pt x="0" y="66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>
            <a:off x="747720" y="4192560"/>
            <a:ext cx="1728720" cy="10969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89" h="691">
                <a:moveTo>
                  <a:pt x="0" y="691"/>
                </a:moveTo>
                <a:lnTo>
                  <a:pt x="641" y="0"/>
                </a:lnTo>
                <a:lnTo>
                  <a:pt x="873" y="88"/>
                </a:lnTo>
                <a:lnTo>
                  <a:pt x="1057" y="248"/>
                </a:lnTo>
                <a:lnTo>
                  <a:pt x="1065" y="368"/>
                </a:lnTo>
                <a:lnTo>
                  <a:pt x="1089" y="504"/>
                </a:lnTo>
                <a:lnTo>
                  <a:pt x="1073" y="672"/>
                </a:lnTo>
                <a:lnTo>
                  <a:pt x="0" y="69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1371600" y="9144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нешний угол треугольника равен сум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вух углов треугольника, не смежных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47720" y="2409840"/>
            <a:ext cx="3745080" cy="2879640"/>
          </a:xfrm>
          <a:prstGeom prst="triangle">
            <a:avLst>
              <a:gd name="adj" fmla="val 7068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4" descr="anim073"/>
          <p:cNvPicPr/>
          <p:nvPr/>
        </p:nvPicPr>
        <p:blipFill>
          <a:blip r:embed="rId4"/>
          <a:stretch/>
        </p:blipFill>
        <p:spPr>
          <a:xfrm rot="16570200">
            <a:off x="2863800" y="3030120"/>
            <a:ext cx="757440" cy="379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anim073"/>
          <p:cNvPicPr/>
          <p:nvPr/>
        </p:nvPicPr>
        <p:blipFill>
          <a:blip r:embed="rId5"/>
          <a:stretch/>
        </p:blipFill>
        <p:spPr>
          <a:xfrm rot="8838600">
            <a:off x="1179000" y="4713120"/>
            <a:ext cx="830520" cy="4161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6"/>
          <p:cNvSpPr/>
          <p:nvPr/>
        </p:nvSpPr>
        <p:spPr>
          <a:xfrm>
            <a:off x="38808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4277160" y="529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326880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492800" y="5289480"/>
            <a:ext cx="32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0" descr="witch1"/>
          <p:cNvPicPr/>
          <p:nvPr/>
        </p:nvPicPr>
        <p:blipFill>
          <a:blip r:embed="rId6"/>
          <a:stretch/>
        </p:blipFill>
        <p:spPr>
          <a:xfrm>
            <a:off x="746280" y="4497480"/>
            <a:ext cx="2552400" cy="9619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1"/>
          <p:cNvSpPr/>
          <p:nvPr/>
        </p:nvSpPr>
        <p:spPr>
          <a:xfrm>
            <a:off x="7223040" y="5265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892440" y="490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49640" y="248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4"/>
          <p:cNvGrpSpPr/>
          <p:nvPr/>
        </p:nvGrpSpPr>
        <p:grpSpPr>
          <a:xfrm>
            <a:off x="4975200" y="2624040"/>
            <a:ext cx="1024200" cy="459720"/>
            <a:chOff x="4975200" y="2624040"/>
            <a:chExt cx="1024200" cy="459720"/>
          </a:xfrm>
        </p:grpSpPr>
        <mc:AlternateContent>
          <mc:Choice xmlns:a14="http://schemas.microsoft.com/office/drawing/2010/main" Requires="a14">
            <p:sp>
              <p:nvSpPr>
                <p:cNvPr id="358" name="Object 25"/>
                <p:cNvSpPr txBox="1"/>
                <p:nvPr/>
              </p:nvSpPr>
              <p:spPr>
                <a:xfrm>
                  <a:off x="4975200" y="269856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Text Box 26"/>
            <p:cNvSpPr/>
            <p:nvPr/>
          </p:nvSpPr>
          <p:spPr>
            <a:xfrm>
              <a:off x="5193720" y="26240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В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0"/>
          <p:cNvGrpSpPr/>
          <p:nvPr/>
        </p:nvGrpSpPr>
        <p:grpSpPr>
          <a:xfrm>
            <a:off x="6940440" y="2625840"/>
            <a:ext cx="550800" cy="459720"/>
            <a:chOff x="6940440" y="2625840"/>
            <a:chExt cx="550800" cy="459720"/>
          </a:xfrm>
        </p:grpSpPr>
        <mc:AlternateContent>
          <mc:Choice xmlns:a14="http://schemas.microsoft.com/office/drawing/2010/main" Requires="a14">
            <p:sp>
              <p:nvSpPr>
                <p:cNvPr id="361" name="Object 31"/>
                <p:cNvSpPr txBox="1"/>
                <p:nvPr/>
              </p:nvSpPr>
              <p:spPr>
                <a:xfrm>
                  <a:off x="6940440" y="2697120"/>
                  <a:ext cx="360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Text Box 32"/>
            <p:cNvSpPr/>
            <p:nvPr/>
          </p:nvSpPr>
          <p:spPr>
            <a:xfrm>
              <a:off x="7158240" y="26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3"/>
          <p:cNvGrpSpPr/>
          <p:nvPr/>
        </p:nvGrpSpPr>
        <p:grpSpPr>
          <a:xfrm>
            <a:off x="6148440" y="2625840"/>
            <a:ext cx="550080" cy="459720"/>
            <a:chOff x="6148440" y="2625840"/>
            <a:chExt cx="550080" cy="459720"/>
          </a:xfrm>
        </p:grpSpPr>
        <p:sp>
          <p:nvSpPr>
            <p:cNvPr id="364" name="Text Box 34"/>
            <p:cNvSpPr/>
            <p:nvPr/>
          </p:nvSpPr>
          <p:spPr>
            <a:xfrm>
              <a:off x="6365520" y="26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35"/>
                <p:cNvSpPr txBox="1"/>
                <p:nvPr/>
              </p:nvSpPr>
              <p:spPr>
                <a:xfrm>
                  <a:off x="6148440" y="2652840"/>
                  <a:ext cx="360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36"/>
          <p:cNvSpPr/>
          <p:nvPr/>
        </p:nvSpPr>
        <p:spPr>
          <a:xfrm>
            <a:off x="5885280" y="262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7"/>
          <p:cNvSpPr/>
          <p:nvPr/>
        </p:nvSpPr>
        <p:spPr>
          <a:xfrm>
            <a:off x="6606000" y="262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8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вторение</a:t>
            </a: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8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70" name="Freeform 79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0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1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2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3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4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5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6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95486 0.00347 E">
                                      <p:cBhvr>
                                        <p:cTn id="472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880920" y="1508040"/>
            <a:ext cx="685800" cy="1862280"/>
            <a:chOff x="880920" y="1508040"/>
            <a:chExt cx="685800" cy="1862280"/>
          </a:xfrm>
        </p:grpSpPr>
        <p:sp>
          <p:nvSpPr>
            <p:cNvPr id="379" name="Text Box 3"/>
            <p:cNvSpPr/>
            <p:nvPr/>
          </p:nvSpPr>
          <p:spPr>
            <a:xfrm>
              <a:off x="1109520" y="1508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"/>
            <p:cNvSpPr/>
            <p:nvPr/>
          </p:nvSpPr>
          <p:spPr>
            <a:xfrm>
              <a:off x="880920" y="26668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5"/>
          <p:cNvSpPr/>
          <p:nvPr/>
        </p:nvSpPr>
        <p:spPr>
          <a:xfrm>
            <a:off x="1697400" y="2292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"/>
          <p:cNvSpPr/>
          <p:nvPr/>
        </p:nvSpPr>
        <p:spPr>
          <a:xfrm>
            <a:off x="754200" y="2666880"/>
            <a:ext cx="1269720" cy="101628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800" h="640">
                <a:moveTo>
                  <a:pt x="0" y="640"/>
                </a:moveTo>
                <a:lnTo>
                  <a:pt x="8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7"/>
          <p:cNvGrpSpPr/>
          <p:nvPr/>
        </p:nvGrpSpPr>
        <p:grpSpPr>
          <a:xfrm>
            <a:off x="380880" y="838080"/>
            <a:ext cx="2932200" cy="3584160"/>
            <a:chOff x="380880" y="838080"/>
            <a:chExt cx="2932200" cy="3584160"/>
          </a:xfrm>
        </p:grpSpPr>
        <p:sp>
          <p:nvSpPr>
            <p:cNvPr id="384" name="Freeform 8"/>
            <p:cNvSpPr/>
            <p:nvPr/>
          </p:nvSpPr>
          <p:spPr>
            <a:xfrm>
              <a:off x="1249200" y="1346040"/>
              <a:ext cx="1641600" cy="273528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735280"/>
                <a:gd name="textAreaBottom" fmla="*/ 2735640 h 2735280"/>
              </a:gdLst>
              <a:ahLst/>
              <a:rect l="textAreaLeft" t="textAreaTop" r="textAreaRight" b="textAreaBottom"/>
              <a:pathLst>
                <a:path w="1034" h="1723">
                  <a:moveTo>
                    <a:pt x="1032" y="1712"/>
                  </a:moveTo>
                  <a:lnTo>
                    <a:pt x="1034" y="172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"/>
            <p:cNvSpPr/>
            <p:nvPr/>
          </p:nvSpPr>
          <p:spPr>
            <a:xfrm>
              <a:off x="741240" y="1346040"/>
              <a:ext cx="482760" cy="23623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362320"/>
                <a:gd name="textAreaBottom" fmla="*/ 2362320 h 2362320"/>
              </a:gdLst>
              <a:ahLst/>
              <a:rect l="textAreaLeft" t="textAreaTop" r="textAreaRight" b="textAreaBottom"/>
              <a:pathLst>
                <a:path w="304" h="1488">
                  <a:moveTo>
                    <a:pt x="304" y="0"/>
                  </a:moveTo>
                  <a:lnTo>
                    <a:pt x="0" y="14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380880" y="3657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2862360" y="396252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880920" y="8380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90" name="Freeform 1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Oval 22"/>
          <p:cNvSpPr/>
          <p:nvPr/>
        </p:nvSpPr>
        <p:spPr>
          <a:xfrm>
            <a:off x="423720" y="1143000"/>
            <a:ext cx="321624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982880" y="2625840"/>
            <a:ext cx="9828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24"/>
          <p:cNvSpPr/>
          <p:nvPr/>
        </p:nvSpPr>
        <p:spPr>
          <a:xfrm rot="4846200">
            <a:off x="1097640" y="2634480"/>
            <a:ext cx="1392480" cy="2070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fill="none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</a:path>
              <a:path stroke="0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685800" y="38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писанный угол измеряется полов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и, 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1261800" y="1981080"/>
            <a:ext cx="533160" cy="1295280"/>
            <a:chOff x="1261800" y="1981080"/>
            <a:chExt cx="533160" cy="1295280"/>
          </a:xfrm>
        </p:grpSpPr>
        <p:sp>
          <p:nvSpPr>
            <p:cNvPr id="403" name="Line 27"/>
            <p:cNvSpPr/>
            <p:nvPr/>
          </p:nvSpPr>
          <p:spPr>
            <a:xfrm flipH="1">
              <a:off x="1566360" y="1981080"/>
              <a:ext cx="2286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8"/>
            <p:cNvSpPr/>
            <p:nvPr/>
          </p:nvSpPr>
          <p:spPr>
            <a:xfrm flipH="1" flipV="1">
              <a:off x="1261800" y="30477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9"/>
          <p:cNvGrpSpPr/>
          <p:nvPr/>
        </p:nvGrpSpPr>
        <p:grpSpPr>
          <a:xfrm>
            <a:off x="831240" y="1676520"/>
            <a:ext cx="616680" cy="1763280"/>
            <a:chOff x="831240" y="1676520"/>
            <a:chExt cx="616680" cy="1763280"/>
          </a:xfrm>
        </p:grpSpPr>
        <p:sp>
          <p:nvSpPr>
            <p:cNvPr id="406" name="Freeform 30"/>
            <p:cNvSpPr/>
            <p:nvPr/>
          </p:nvSpPr>
          <p:spPr>
            <a:xfrm>
              <a:off x="1162080" y="1676520"/>
              <a:ext cx="285840" cy="81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 flipH="1" flipV="1" rot="2406600">
              <a:off x="823680" y="3275640"/>
              <a:ext cx="285480" cy="81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-36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2"/>
          <p:cNvGrpSpPr/>
          <p:nvPr/>
        </p:nvGrpSpPr>
        <p:grpSpPr>
          <a:xfrm>
            <a:off x="1790640" y="2809800"/>
            <a:ext cx="399960" cy="166680"/>
            <a:chOff x="1790640" y="2809800"/>
            <a:chExt cx="399960" cy="166680"/>
          </a:xfrm>
        </p:grpSpPr>
        <p:sp>
          <p:nvSpPr>
            <p:cNvPr id="409" name="Freeform 33"/>
            <p:cNvSpPr/>
            <p:nvPr/>
          </p:nvSpPr>
          <p:spPr>
            <a:xfrm>
              <a:off x="1838160" y="2809800"/>
              <a:ext cx="324000" cy="106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04" h="67">
                  <a:moveTo>
                    <a:pt x="0" y="0"/>
                  </a:moveTo>
                  <a:cubicBezTo>
                    <a:pt x="16" y="10"/>
                    <a:pt x="62" y="53"/>
                    <a:pt x="96" y="60"/>
                  </a:cubicBezTo>
                  <a:cubicBezTo>
                    <a:pt x="130" y="67"/>
                    <a:pt x="182" y="46"/>
                    <a:pt x="204" y="4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"/>
            <p:cNvSpPr/>
            <p:nvPr/>
          </p:nvSpPr>
          <p:spPr>
            <a:xfrm>
              <a:off x="1790640" y="2847960"/>
              <a:ext cx="399960" cy="1285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52" h="81">
                  <a:moveTo>
                    <a:pt x="0" y="0"/>
                  </a:moveTo>
                  <a:cubicBezTo>
                    <a:pt x="21" y="12"/>
                    <a:pt x="84" y="63"/>
                    <a:pt x="126" y="72"/>
                  </a:cubicBezTo>
                  <a:cubicBezTo>
                    <a:pt x="168" y="81"/>
                    <a:pt x="226" y="58"/>
                    <a:pt x="252" y="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35"/>
          <p:cNvSpPr/>
          <p:nvPr/>
        </p:nvSpPr>
        <p:spPr>
          <a:xfrm>
            <a:off x="1566720" y="2743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1566720" y="2743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4419720" y="1219320"/>
            <a:ext cx="4572000" cy="459720"/>
            <a:chOff x="4419720" y="1219320"/>
            <a:chExt cx="4572000" cy="459720"/>
          </a:xfrm>
        </p:grpSpPr>
        <p:sp>
          <p:nvSpPr>
            <p:cNvPr id="414" name="Text Box 38"/>
            <p:cNvSpPr/>
            <p:nvPr/>
          </p:nvSpPr>
          <p:spPr>
            <a:xfrm>
              <a:off x="4419720" y="1219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   АВС – вписа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39"/>
                <p:cNvSpPr txBox="1"/>
                <p:nvPr/>
              </p:nvSpPr>
              <p:spPr>
                <a:xfrm>
                  <a:off x="5334120" y="124308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6" name="Group 40"/>
          <p:cNvGrpSpPr/>
          <p:nvPr/>
        </p:nvGrpSpPr>
        <p:grpSpPr>
          <a:xfrm>
            <a:off x="4419720" y="1523880"/>
            <a:ext cx="4127400" cy="966960"/>
            <a:chOff x="4419720" y="1523880"/>
            <a:chExt cx="4127400" cy="966960"/>
          </a:xfrm>
        </p:grpSpPr>
        <p:sp>
          <p:nvSpPr>
            <p:cNvPr id="417" name="Text Box 41"/>
            <p:cNvSpPr/>
            <p:nvPr/>
          </p:nvSpPr>
          <p:spPr>
            <a:xfrm>
              <a:off x="4419720" y="1752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Object 42"/>
                <p:cNvSpPr txBox="1"/>
                <p:nvPr/>
              </p:nvSpPr>
              <p:spPr>
                <a:xfrm>
                  <a:off x="5867640" y="1523880"/>
                  <a:ext cx="2679480" cy="9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Group 43"/>
          <p:cNvGrpSpPr/>
          <p:nvPr/>
        </p:nvGrpSpPr>
        <p:grpSpPr>
          <a:xfrm>
            <a:off x="4419720" y="2590920"/>
            <a:ext cx="3200400" cy="459720"/>
            <a:chOff x="4419720" y="2590920"/>
            <a:chExt cx="3200400" cy="459720"/>
          </a:xfrm>
        </p:grpSpPr>
        <p:sp>
          <p:nvSpPr>
            <p:cNvPr id="420" name="Text Box 44"/>
            <p:cNvSpPr/>
            <p:nvPr/>
          </p:nvSpPr>
          <p:spPr>
            <a:xfrm>
              <a:off x="4419720" y="2590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1 случай (О     ВС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Object 45"/>
                <p:cNvSpPr txBox="1"/>
                <p:nvPr/>
              </p:nvSpPr>
              <p:spPr>
                <a:xfrm>
                  <a:off x="6248520" y="2629080"/>
                  <a:ext cx="3682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2" name="Group 46"/>
          <p:cNvGrpSpPr/>
          <p:nvPr/>
        </p:nvGrpSpPr>
        <p:grpSpPr>
          <a:xfrm>
            <a:off x="4038480" y="3276720"/>
            <a:ext cx="4724640" cy="535680"/>
            <a:chOff x="4038480" y="3276720"/>
            <a:chExt cx="4724640" cy="535680"/>
          </a:xfrm>
        </p:grpSpPr>
        <p:grpSp>
          <p:nvGrpSpPr>
            <p:cNvPr id="423" name="Group 47"/>
            <p:cNvGrpSpPr/>
            <p:nvPr/>
          </p:nvGrpSpPr>
          <p:grpSpPr>
            <a:xfrm>
              <a:off x="4038480" y="3429000"/>
              <a:ext cx="1828800" cy="317520"/>
              <a:chOff x="4038480" y="3429000"/>
              <a:chExt cx="1828800" cy="317520"/>
            </a:xfrm>
          </p:grpSpPr>
          <mc:AlternateContent>
            <mc:Choice xmlns:a14="http://schemas.microsoft.com/office/drawing/2010/main" Requires="a14">
              <p:sp>
                <p:nvSpPr>
                  <p:cNvPr id="424" name="Object 48"/>
                  <p:cNvSpPr txBox="1"/>
                  <p:nvPr/>
                </p:nvSpPr>
                <p:spPr>
                  <a:xfrm>
                    <a:off x="4633920" y="3473280"/>
                    <a:ext cx="11412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5" name="Object 49"/>
                  <p:cNvSpPr txBox="1"/>
                  <p:nvPr/>
                </p:nvSpPr>
                <p:spPr>
                  <a:xfrm>
                    <a:off x="4038480" y="3429000"/>
                    <a:ext cx="25740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Object 50"/>
                  <p:cNvSpPr txBox="1"/>
                  <p:nvPr/>
                </p:nvSpPr>
                <p:spPr>
                  <a:xfrm>
                    <a:off x="5486400" y="3441600"/>
                    <a:ext cx="38088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7" name="Group 51"/>
            <p:cNvGrpSpPr/>
            <p:nvPr/>
          </p:nvGrpSpPr>
          <p:grpSpPr>
            <a:xfrm>
              <a:off x="4191120" y="3276720"/>
              <a:ext cx="4572000" cy="535680"/>
              <a:chOff x="4191120" y="3276720"/>
              <a:chExt cx="4572000" cy="535680"/>
            </a:xfrm>
          </p:grpSpPr>
          <p:sp>
            <p:nvSpPr>
              <p:cNvPr id="428" name="Text Box 52"/>
              <p:cNvSpPr/>
              <p:nvPr/>
            </p:nvSpPr>
            <p:spPr>
              <a:xfrm>
                <a:off x="4191120" y="335268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 р/б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9" name="Object 53"/>
                  <p:cNvSpPr txBox="1"/>
                  <p:nvPr/>
                </p:nvSpPr>
                <p:spPr>
                  <a:xfrm>
                    <a:off x="5867280" y="3276720"/>
                    <a:ext cx="175284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30" name="Text Box 54"/>
          <p:cNvSpPr/>
          <p:nvPr/>
        </p:nvSpPr>
        <p:spPr>
          <a:xfrm>
            <a:off x="76201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5"/>
          <p:cNvSpPr/>
          <p:nvPr/>
        </p:nvSpPr>
        <p:spPr>
          <a:xfrm>
            <a:off x="8077320" y="387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6"/>
          <p:cNvSpPr/>
          <p:nvPr/>
        </p:nvSpPr>
        <p:spPr>
          <a:xfrm>
            <a:off x="419112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внешний угол АОС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57"/>
          <p:cNvGrpSpPr/>
          <p:nvPr/>
        </p:nvGrpSpPr>
        <p:grpSpPr>
          <a:xfrm>
            <a:off x="4191120" y="4495680"/>
            <a:ext cx="2590560" cy="703440"/>
            <a:chOff x="4191120" y="4495680"/>
            <a:chExt cx="2590560" cy="703440"/>
          </a:xfrm>
        </p:grpSpPr>
        <mc:AlternateContent>
          <mc:Choice xmlns:a14="http://schemas.microsoft.com/office/drawing/2010/main" Requires="a14">
            <p:sp>
              <p:nvSpPr>
                <p:cNvPr id="434" name="Object 58"/>
                <p:cNvSpPr txBox="1"/>
                <p:nvPr/>
              </p:nvSpPr>
              <p:spPr>
                <a:xfrm>
                  <a:off x="4191120" y="4648320"/>
                  <a:ext cx="160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5" name="Text Box 59"/>
            <p:cNvSpPr/>
            <p:nvPr/>
          </p:nvSpPr>
          <p:spPr>
            <a:xfrm>
              <a:off x="57150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0"/>
          <p:cNvGrpSpPr/>
          <p:nvPr/>
        </p:nvGrpSpPr>
        <p:grpSpPr>
          <a:xfrm>
            <a:off x="1371600" y="5181480"/>
            <a:ext cx="1601280" cy="703440"/>
            <a:chOff x="1371600" y="5181480"/>
            <a:chExt cx="1601280" cy="703440"/>
          </a:xfrm>
        </p:grpSpPr>
        <mc:AlternateContent>
          <mc:Choice xmlns:a14="http://schemas.microsoft.com/office/drawing/2010/main" Requires="a14">
            <p:sp>
              <p:nvSpPr>
                <p:cNvPr id="437" name="Object 61"/>
                <p:cNvSpPr txBox="1"/>
                <p:nvPr/>
              </p:nvSpPr>
              <p:spPr>
                <a:xfrm>
                  <a:off x="1371600" y="5295600"/>
                  <a:ext cx="7142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Text Box 62"/>
            <p:cNvSpPr/>
            <p:nvPr/>
          </p:nvSpPr>
          <p:spPr>
            <a:xfrm>
              <a:off x="1982520" y="51814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63"/>
          <p:cNvGrpSpPr/>
          <p:nvPr/>
        </p:nvGrpSpPr>
        <p:grpSpPr>
          <a:xfrm>
            <a:off x="762120" y="5791320"/>
            <a:ext cx="2590560" cy="703440"/>
            <a:chOff x="762120" y="5791320"/>
            <a:chExt cx="2590560" cy="703440"/>
          </a:xfrm>
        </p:grpSpPr>
        <mc:AlternateContent>
          <mc:Choice xmlns:a14="http://schemas.microsoft.com/office/drawing/2010/main" Requires="a14">
            <p:sp>
              <p:nvSpPr>
                <p:cNvPr id="440" name="Object 64"/>
                <p:cNvSpPr txBox="1"/>
                <p:nvPr/>
              </p:nvSpPr>
              <p:spPr>
                <a:xfrm>
                  <a:off x="762120" y="5943960"/>
                  <a:ext cx="160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 Box 65"/>
            <p:cNvSpPr/>
            <p:nvPr/>
          </p:nvSpPr>
          <p:spPr>
            <a:xfrm>
              <a:off x="2286000" y="579132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AutoShape 66"/>
          <p:cNvSpPr/>
          <p:nvPr/>
        </p:nvSpPr>
        <p:spPr>
          <a:xfrm>
            <a:off x="3048120" y="533412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67"/>
              <p:cNvSpPr txBox="1"/>
              <p:nvPr/>
            </p:nvSpPr>
            <p:spPr>
              <a:xfrm>
                <a:off x="3638520" y="5334120"/>
                <a:ext cx="25002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0.21111 E">
                                      <p:cBhvr>
                                        <p:cTn id="739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7"/>
          <p:cNvSpPr/>
          <p:nvPr/>
        </p:nvSpPr>
        <p:spPr>
          <a:xfrm>
            <a:off x="2002320" y="31305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40"/>
          <p:cNvSpPr/>
          <p:nvPr/>
        </p:nvSpPr>
        <p:spPr>
          <a:xfrm>
            <a:off x="1058760" y="3505320"/>
            <a:ext cx="1270080" cy="101592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800" h="640">
                <a:moveTo>
                  <a:pt x="0" y="640"/>
                </a:moveTo>
                <a:lnTo>
                  <a:pt x="80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3"/>
          <p:cNvGrpSpPr/>
          <p:nvPr/>
        </p:nvGrpSpPr>
        <p:grpSpPr>
          <a:xfrm>
            <a:off x="685800" y="1676520"/>
            <a:ext cx="2932200" cy="3583800"/>
            <a:chOff x="685800" y="1676520"/>
            <a:chExt cx="2932200" cy="3583800"/>
          </a:xfrm>
        </p:grpSpPr>
        <p:sp>
          <p:nvSpPr>
            <p:cNvPr id="447" name="Freeform 33"/>
            <p:cNvSpPr/>
            <p:nvPr/>
          </p:nvSpPr>
          <p:spPr>
            <a:xfrm>
              <a:off x="1554120" y="2184120"/>
              <a:ext cx="1641600" cy="2734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734920"/>
                <a:gd name="textAreaBottom" fmla="*/ 2735280 h 2734920"/>
              </a:gdLst>
              <a:ahLst/>
              <a:rect l="textAreaLeft" t="textAreaTop" r="textAreaRight" b="textAreaBottom"/>
              <a:pathLst>
                <a:path w="1034" h="1723">
                  <a:moveTo>
                    <a:pt x="1032" y="1712"/>
                  </a:moveTo>
                  <a:lnTo>
                    <a:pt x="1034" y="172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"/>
            <p:cNvSpPr/>
            <p:nvPr/>
          </p:nvSpPr>
          <p:spPr>
            <a:xfrm>
              <a:off x="1046160" y="2184120"/>
              <a:ext cx="482760" cy="23619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304" h="1488">
                  <a:moveTo>
                    <a:pt x="304" y="0"/>
                  </a:moveTo>
                  <a:lnTo>
                    <a:pt x="0" y="14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"/>
            <p:cNvSpPr/>
            <p:nvPr/>
          </p:nvSpPr>
          <p:spPr>
            <a:xfrm>
              <a:off x="685800" y="44956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"/>
            <p:cNvSpPr/>
            <p:nvPr/>
          </p:nvSpPr>
          <p:spPr>
            <a:xfrm>
              <a:off x="3167280" y="480060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1185840" y="1676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53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Oval 15"/>
          <p:cNvSpPr/>
          <p:nvPr/>
        </p:nvSpPr>
        <p:spPr>
          <a:xfrm>
            <a:off x="728640" y="19810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2287440" y="34639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18"/>
          <p:cNvSpPr/>
          <p:nvPr/>
        </p:nvSpPr>
        <p:spPr>
          <a:xfrm rot="4846200">
            <a:off x="1402560" y="3472560"/>
            <a:ext cx="1392120" cy="207000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fill="none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</a:path>
              <a:path stroke="0" w="21600" h="28760">
                <a:moveTo>
                  <a:pt x="19665" y="-1"/>
                </a:moveTo>
                <a:cubicBezTo>
                  <a:pt x="20940" y="2806"/>
                  <a:pt x="21600" y="5852"/>
                  <a:pt x="21600" y="8935"/>
                </a:cubicBezTo>
                <a:cubicBezTo>
                  <a:pt x="21600" y="17549"/>
                  <a:pt x="16481" y="25340"/>
                  <a:pt x="8574" y="28760"/>
                </a:cubicBezTo>
                <a:lnTo>
                  <a:pt x="0" y="893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685800" y="38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 измеряется половиной дуги, на которую он опир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0"/>
              <p:cNvSpPr txBox="1"/>
              <p:nvPr/>
            </p:nvSpPr>
            <p:spPr>
              <a:xfrm>
                <a:off x="4633920" y="3473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6" name="Text Box 38"/>
          <p:cNvSpPr/>
          <p:nvPr/>
        </p:nvSpPr>
        <p:spPr>
          <a:xfrm>
            <a:off x="57150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4"/>
          <p:cNvGrpSpPr/>
          <p:nvPr/>
        </p:nvGrpSpPr>
        <p:grpSpPr>
          <a:xfrm>
            <a:off x="1566360" y="2819520"/>
            <a:ext cx="533160" cy="1294920"/>
            <a:chOff x="1566360" y="2819520"/>
            <a:chExt cx="533160" cy="1294920"/>
          </a:xfrm>
        </p:grpSpPr>
        <p:sp>
          <p:nvSpPr>
            <p:cNvPr id="468" name="Line 41"/>
            <p:cNvSpPr/>
            <p:nvPr/>
          </p:nvSpPr>
          <p:spPr>
            <a:xfrm flipH="1">
              <a:off x="1870920" y="2819520"/>
              <a:ext cx="22860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2"/>
            <p:cNvSpPr/>
            <p:nvPr/>
          </p:nvSpPr>
          <p:spPr>
            <a:xfrm flipH="1" flipV="1">
              <a:off x="1566360" y="3886200"/>
              <a:ext cx="2286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47"/>
          <p:cNvGrpSpPr/>
          <p:nvPr/>
        </p:nvGrpSpPr>
        <p:grpSpPr>
          <a:xfrm>
            <a:off x="1135800" y="2514600"/>
            <a:ext cx="616680" cy="1763280"/>
            <a:chOff x="1135800" y="2514600"/>
            <a:chExt cx="616680" cy="1763280"/>
          </a:xfrm>
        </p:grpSpPr>
        <p:sp>
          <p:nvSpPr>
            <p:cNvPr id="471" name="Freeform 45"/>
            <p:cNvSpPr/>
            <p:nvPr/>
          </p:nvSpPr>
          <p:spPr>
            <a:xfrm>
              <a:off x="1466640" y="2514600"/>
              <a:ext cx="285840" cy="81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 flipV="1" rot="2406600">
              <a:off x="1128240" y="4113720"/>
              <a:ext cx="285480" cy="8100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-36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80" h="51">
                  <a:moveTo>
                    <a:pt x="0" y="18"/>
                  </a:moveTo>
                  <a:cubicBezTo>
                    <a:pt x="15" y="23"/>
                    <a:pt x="60" y="51"/>
                    <a:pt x="90" y="48"/>
                  </a:cubicBezTo>
                  <a:cubicBezTo>
                    <a:pt x="120" y="45"/>
                    <a:pt x="161" y="10"/>
                    <a:pt x="18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50"/>
          <p:cNvGrpSpPr/>
          <p:nvPr/>
        </p:nvGrpSpPr>
        <p:grpSpPr>
          <a:xfrm>
            <a:off x="2095560" y="3648240"/>
            <a:ext cx="399960" cy="166680"/>
            <a:chOff x="2095560" y="3648240"/>
            <a:chExt cx="399960" cy="166680"/>
          </a:xfrm>
        </p:grpSpPr>
        <p:sp>
          <p:nvSpPr>
            <p:cNvPr id="474" name="Freeform 48"/>
            <p:cNvSpPr/>
            <p:nvPr/>
          </p:nvSpPr>
          <p:spPr>
            <a:xfrm>
              <a:off x="2143080" y="3648240"/>
              <a:ext cx="324000" cy="106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04" h="67">
                  <a:moveTo>
                    <a:pt x="0" y="0"/>
                  </a:moveTo>
                  <a:cubicBezTo>
                    <a:pt x="16" y="10"/>
                    <a:pt x="62" y="53"/>
                    <a:pt x="96" y="60"/>
                  </a:cubicBezTo>
                  <a:cubicBezTo>
                    <a:pt x="130" y="67"/>
                    <a:pt x="182" y="46"/>
                    <a:pt x="204" y="4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9"/>
            <p:cNvSpPr/>
            <p:nvPr/>
          </p:nvSpPr>
          <p:spPr>
            <a:xfrm>
              <a:off x="2095560" y="3686400"/>
              <a:ext cx="399960" cy="1285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52" h="81">
                  <a:moveTo>
                    <a:pt x="0" y="0"/>
                  </a:moveTo>
                  <a:cubicBezTo>
                    <a:pt x="21" y="12"/>
                    <a:pt x="84" y="63"/>
                    <a:pt x="126" y="72"/>
                  </a:cubicBezTo>
                  <a:cubicBezTo>
                    <a:pt x="168" y="81"/>
                    <a:pt x="226" y="58"/>
                    <a:pt x="252" y="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54"/>
          <p:cNvGrpSpPr/>
          <p:nvPr/>
        </p:nvGrpSpPr>
        <p:grpSpPr>
          <a:xfrm>
            <a:off x="1185840" y="2346480"/>
            <a:ext cx="685800" cy="1862280"/>
            <a:chOff x="1185840" y="2346480"/>
            <a:chExt cx="685800" cy="1862280"/>
          </a:xfrm>
        </p:grpSpPr>
        <p:sp>
          <p:nvSpPr>
            <p:cNvPr id="477" name="Text Box 34"/>
            <p:cNvSpPr/>
            <p:nvPr/>
          </p:nvSpPr>
          <p:spPr>
            <a:xfrm>
              <a:off x="1414440" y="2346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1"/>
            <p:cNvSpPr/>
            <p:nvPr/>
          </p:nvSpPr>
          <p:spPr>
            <a:xfrm>
              <a:off x="1185840" y="35053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52"/>
          <p:cNvSpPr/>
          <p:nvPr/>
        </p:nvSpPr>
        <p:spPr>
          <a:xfrm>
            <a:off x="1871640" y="3581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1871640" y="3581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9"/>
          <p:cNvGrpSpPr/>
          <p:nvPr/>
        </p:nvGrpSpPr>
        <p:grpSpPr>
          <a:xfrm>
            <a:off x="3657600" y="1219320"/>
            <a:ext cx="4572000" cy="459720"/>
            <a:chOff x="3657600" y="1219320"/>
            <a:chExt cx="4572000" cy="459720"/>
          </a:xfrm>
        </p:grpSpPr>
        <p:sp>
          <p:nvSpPr>
            <p:cNvPr id="482" name="Text Box 57"/>
            <p:cNvSpPr/>
            <p:nvPr/>
          </p:nvSpPr>
          <p:spPr>
            <a:xfrm>
              <a:off x="3657600" y="1219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    АВС – вписа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58"/>
                <p:cNvSpPr txBox="1"/>
                <p:nvPr/>
              </p:nvSpPr>
              <p:spPr>
                <a:xfrm>
                  <a:off x="4572000" y="1243080"/>
                  <a:ext cx="387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Group 64"/>
          <p:cNvGrpSpPr/>
          <p:nvPr/>
        </p:nvGrpSpPr>
        <p:grpSpPr>
          <a:xfrm>
            <a:off x="3657600" y="1523880"/>
            <a:ext cx="4127400" cy="966960"/>
            <a:chOff x="3657600" y="1523880"/>
            <a:chExt cx="4127400" cy="966960"/>
          </a:xfrm>
        </p:grpSpPr>
        <p:sp>
          <p:nvSpPr>
            <p:cNvPr id="485" name="Text Box 61"/>
            <p:cNvSpPr/>
            <p:nvPr/>
          </p:nvSpPr>
          <p:spPr>
            <a:xfrm>
              <a:off x="3657600" y="1752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63"/>
                <p:cNvSpPr txBox="1"/>
                <p:nvPr/>
              </p:nvSpPr>
              <p:spPr>
                <a:xfrm>
                  <a:off x="5105520" y="1523880"/>
                  <a:ext cx="2679480" cy="9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0.21111 E">
                                      <p:cBhvr>
                                        <p:cTn id="907" dur="1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2002320" y="313056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"/>
          <p:cNvSpPr/>
          <p:nvPr/>
        </p:nvSpPr>
        <p:spPr>
          <a:xfrm>
            <a:off x="1523880" y="2171880"/>
            <a:ext cx="1676520" cy="27176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717640"/>
              <a:gd name="textAreaBottom" fmla="*/ 2717640 h 2717640"/>
            </a:gdLst>
            <a:ahLst/>
            <a:rect l="textAreaLeft" t="textAreaTop" r="textAreaRight" b="textAreaBottom"/>
            <a:pathLst>
              <a:path w="1056" h="1712">
                <a:moveTo>
                  <a:pt x="0" y="0"/>
                </a:moveTo>
                <a:lnTo>
                  <a:pt x="1056" y="17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1554120" y="2184480"/>
            <a:ext cx="2281320" cy="201924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1437" h="1272">
                <a:moveTo>
                  <a:pt x="1437" y="1272"/>
                </a:moveTo>
                <a:lnTo>
                  <a:pt x="1437" y="125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046160" y="2184480"/>
            <a:ext cx="482760" cy="2361960"/>
          </a:xfrm>
          <a:custGeom>
            <a:avLst/>
            <a:gdLst>
              <a:gd name="textAreaLeft" fmla="*/ 0 w 482760"/>
              <a:gd name="textAreaRight" fmla="*/ 483120 w 48276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304" h="1488">
                <a:moveTo>
                  <a:pt x="304" y="0"/>
                </a:moveTo>
                <a:lnTo>
                  <a:pt x="0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85800" y="4495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3886200" y="39625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8584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0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495" name="Freeform 11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2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3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4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6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Oval 19"/>
          <p:cNvSpPr/>
          <p:nvPr/>
        </p:nvSpPr>
        <p:spPr>
          <a:xfrm>
            <a:off x="728640" y="19810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0"/>
          <p:cNvSpPr/>
          <p:nvPr/>
        </p:nvSpPr>
        <p:spPr>
          <a:xfrm>
            <a:off x="2287440" y="34639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rc 21"/>
          <p:cNvSpPr/>
          <p:nvPr/>
        </p:nvSpPr>
        <p:spPr>
          <a:xfrm rot="4846200">
            <a:off x="1765800" y="3048840"/>
            <a:ext cx="1392120" cy="28033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803320"/>
              <a:gd name="textAreaBottom" fmla="*/ 2803680 h 2803320"/>
            </a:gdLst>
            <a:ahLst/>
            <a:rect l="textAreaLeft" t="textAreaTop" r="textAreaRight" b="textAreaBottom"/>
            <a:pathLst>
              <a:path fill="none" w="21600" h="38951">
                <a:moveTo>
                  <a:pt x="10037" y="0"/>
                </a:moveTo>
                <a:cubicBezTo>
                  <a:pt x="17146" y="3731"/>
                  <a:pt x="21600" y="11097"/>
                  <a:pt x="21600" y="19126"/>
                </a:cubicBezTo>
                <a:cubicBezTo>
                  <a:pt x="21600" y="27740"/>
                  <a:pt x="16481" y="-30005"/>
                  <a:pt x="8574" y="-26585"/>
                </a:cubicBezTo>
              </a:path>
              <a:path stroke="0" w="21600" h="38951">
                <a:moveTo>
                  <a:pt x="10037" y="0"/>
                </a:moveTo>
                <a:cubicBezTo>
                  <a:pt x="17146" y="3731"/>
                  <a:pt x="21600" y="11097"/>
                  <a:pt x="21600" y="19126"/>
                </a:cubicBezTo>
                <a:cubicBezTo>
                  <a:pt x="21600" y="27740"/>
                  <a:pt x="16481" y="-30005"/>
                  <a:pt x="8574" y="-26585"/>
                </a:cubicBezTo>
                <a:lnTo>
                  <a:pt x="0" y="1912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3"/>
              <p:cNvSpPr txBox="1"/>
              <p:nvPr/>
            </p:nvSpPr>
            <p:spPr>
              <a:xfrm>
                <a:off x="4633920" y="3473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7" name="Text Box 24"/>
          <p:cNvSpPr/>
          <p:nvPr/>
        </p:nvSpPr>
        <p:spPr>
          <a:xfrm>
            <a:off x="114300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3200400" y="48769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8"/>
              <p:cNvSpPr txBox="1"/>
              <p:nvPr/>
            </p:nvSpPr>
            <p:spPr>
              <a:xfrm>
                <a:off x="4800600" y="1143000"/>
                <a:ext cx="26798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0"/>
              <p:cNvSpPr txBox="1"/>
              <p:nvPr/>
            </p:nvSpPr>
            <p:spPr>
              <a:xfrm>
                <a:off x="4876920" y="2209680"/>
                <a:ext cx="27414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DС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1" name="Group 57"/>
          <p:cNvGrpSpPr/>
          <p:nvPr/>
        </p:nvGrpSpPr>
        <p:grpSpPr>
          <a:xfrm>
            <a:off x="975960" y="2567160"/>
            <a:ext cx="2259000" cy="2778840"/>
            <a:chOff x="975960" y="2567160"/>
            <a:chExt cx="2259000" cy="2778840"/>
          </a:xfrm>
        </p:grpSpPr>
        <p:sp>
          <p:nvSpPr>
            <p:cNvPr id="512" name="Arc 51"/>
            <p:cNvSpPr/>
            <p:nvPr/>
          </p:nvSpPr>
          <p:spPr>
            <a:xfrm rot="4846200">
              <a:off x="1409400" y="3462120"/>
              <a:ext cx="1392120" cy="206244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2062440"/>
                <a:gd name="textAreaBottom" fmla="*/ 2062800 h 2062440"/>
              </a:gdLst>
              <a:ahLst/>
              <a:rect l="textAreaLeft" t="textAreaTop" r="textAreaRight" b="textAreaBottom"/>
              <a:pathLst>
                <a:path fill="none" w="21600" h="28652">
                  <a:moveTo>
                    <a:pt x="19714" y="-1"/>
                  </a:moveTo>
                  <a:cubicBezTo>
                    <a:pt x="20957" y="2776"/>
                    <a:pt x="21600" y="5784"/>
                    <a:pt x="21600" y="8827"/>
                  </a:cubicBezTo>
                  <a:cubicBezTo>
                    <a:pt x="21600" y="17441"/>
                    <a:pt x="16481" y="25232"/>
                    <a:pt x="8574" y="28652"/>
                  </a:cubicBezTo>
                </a:path>
                <a:path stroke="0" w="21600" h="28652">
                  <a:moveTo>
                    <a:pt x="19714" y="-1"/>
                  </a:moveTo>
                  <a:cubicBezTo>
                    <a:pt x="20957" y="2776"/>
                    <a:pt x="21600" y="5784"/>
                    <a:pt x="21600" y="8827"/>
                  </a:cubicBezTo>
                  <a:cubicBezTo>
                    <a:pt x="21600" y="17441"/>
                    <a:pt x="16481" y="25232"/>
                    <a:pt x="8574" y="28652"/>
                  </a:cubicBezTo>
                  <a:lnTo>
                    <a:pt x="0" y="8827"/>
                  </a:lnTo>
                  <a:close/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3"/>
            <p:cNvSpPr/>
            <p:nvPr/>
          </p:nvSpPr>
          <p:spPr>
            <a:xfrm>
              <a:off x="1447920" y="2567160"/>
              <a:ext cx="309600" cy="6012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5" h="38">
                  <a:moveTo>
                    <a:pt x="0" y="15"/>
                  </a:moveTo>
                  <a:cubicBezTo>
                    <a:pt x="17" y="18"/>
                    <a:pt x="73" y="38"/>
                    <a:pt x="105" y="36"/>
                  </a:cubicBezTo>
                  <a:cubicBezTo>
                    <a:pt x="137" y="34"/>
                    <a:pt x="176" y="7"/>
                    <a:pt x="195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58"/>
          <p:cNvGrpSpPr/>
          <p:nvPr/>
        </p:nvGrpSpPr>
        <p:grpSpPr>
          <a:xfrm>
            <a:off x="1824120" y="2519280"/>
            <a:ext cx="2124000" cy="2471040"/>
            <a:chOff x="1824120" y="2519280"/>
            <a:chExt cx="2124000" cy="2471040"/>
          </a:xfrm>
        </p:grpSpPr>
        <p:sp>
          <p:nvSpPr>
            <p:cNvPr id="515" name="Arc 52"/>
            <p:cNvSpPr/>
            <p:nvPr/>
          </p:nvSpPr>
          <p:spPr>
            <a:xfrm rot="4846200">
              <a:off x="2535480" y="3567600"/>
              <a:ext cx="1263960" cy="137628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fill="none" w="19617" h="19126">
                  <a:moveTo>
                    <a:pt x="10037" y="0"/>
                  </a:moveTo>
                  <a:cubicBezTo>
                    <a:pt x="14255" y="2213"/>
                    <a:pt x="17623" y="5759"/>
                    <a:pt x="19616" y="10085"/>
                  </a:cubicBezTo>
                </a:path>
                <a:path stroke="0" w="19617" h="19126">
                  <a:moveTo>
                    <a:pt x="10037" y="0"/>
                  </a:moveTo>
                  <a:cubicBezTo>
                    <a:pt x="14255" y="2213"/>
                    <a:pt x="17623" y="5759"/>
                    <a:pt x="19616" y="10085"/>
                  </a:cubicBezTo>
                  <a:lnTo>
                    <a:pt x="0" y="19126"/>
                  </a:lnTo>
                  <a:close/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56"/>
            <p:cNvGrpSpPr/>
            <p:nvPr/>
          </p:nvGrpSpPr>
          <p:grpSpPr>
            <a:xfrm>
              <a:off x="1824120" y="2519280"/>
              <a:ext cx="156960" cy="169920"/>
              <a:chOff x="1824120" y="2519280"/>
              <a:chExt cx="156960" cy="169920"/>
            </a:xfrm>
          </p:grpSpPr>
          <p:sp>
            <p:nvSpPr>
              <p:cNvPr id="517" name="Freeform 54"/>
              <p:cNvSpPr/>
              <p:nvPr/>
            </p:nvSpPr>
            <p:spPr>
              <a:xfrm>
                <a:off x="1849320" y="2552760"/>
                <a:ext cx="131760" cy="1364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83" h="86">
                    <a:moveTo>
                      <a:pt x="0" y="86"/>
                    </a:moveTo>
                    <a:cubicBezTo>
                      <a:pt x="11" y="82"/>
                      <a:pt x="53" y="78"/>
                      <a:pt x="67" y="64"/>
                    </a:cubicBezTo>
                    <a:cubicBezTo>
                      <a:pt x="81" y="50"/>
                      <a:pt x="80" y="13"/>
                      <a:pt x="83" y="0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55"/>
              <p:cNvSpPr/>
              <p:nvPr/>
            </p:nvSpPr>
            <p:spPr>
              <a:xfrm>
                <a:off x="1824120" y="2519280"/>
                <a:ext cx="114120" cy="1144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0" y="72"/>
                    </a:moveTo>
                    <a:cubicBezTo>
                      <a:pt x="8" y="69"/>
                      <a:pt x="36" y="66"/>
                      <a:pt x="48" y="54"/>
                    </a:cubicBezTo>
                    <a:cubicBezTo>
                      <a:pt x="60" y="42"/>
                      <a:pt x="67" y="11"/>
                      <a:pt x="72" y="0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1"/>
          <p:cNvGrpSpPr/>
          <p:nvPr/>
        </p:nvGrpSpPr>
        <p:grpSpPr>
          <a:xfrm>
            <a:off x="4421880" y="1828800"/>
            <a:ext cx="3655440" cy="1600200"/>
            <a:chOff x="4421880" y="1828800"/>
            <a:chExt cx="3655440" cy="1600200"/>
          </a:xfrm>
        </p:grpSpPr>
        <p:sp>
          <p:nvSpPr>
            <p:cNvPr id="520" name="Text Box 59"/>
            <p:cNvSpPr/>
            <p:nvPr/>
          </p:nvSpPr>
          <p:spPr>
            <a:xfrm>
              <a:off x="4421880" y="182880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0"/>
            <p:cNvSpPr/>
            <p:nvPr/>
          </p:nvSpPr>
          <p:spPr>
            <a:xfrm>
              <a:off x="4495680" y="3429000"/>
              <a:ext cx="358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2" name="Object 62"/>
              <p:cNvSpPr txBox="1"/>
              <p:nvPr/>
            </p:nvSpPr>
            <p:spPr>
              <a:xfrm>
                <a:off x="4952880" y="3657600"/>
                <a:ext cx="26798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35" repeatCount="8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0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25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Oval 18"/>
          <p:cNvSpPr/>
          <p:nvPr/>
        </p:nvSpPr>
        <p:spPr>
          <a:xfrm>
            <a:off x="1143000" y="22096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9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1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6" name="Rectangle 38"/>
          <p:cNvSpPr/>
          <p:nvPr/>
        </p:nvSpPr>
        <p:spPr>
          <a:xfrm>
            <a:off x="1905120" y="838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е уг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ирающиеся на одну и ту же дугу,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9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41"/>
          <p:cNvSpPr/>
          <p:nvPr/>
        </p:nvSpPr>
        <p:spPr>
          <a:xfrm>
            <a:off x="1844640" y="2286000"/>
            <a:ext cx="1930320" cy="281952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1216" h="1776">
                <a:moveTo>
                  <a:pt x="0" y="1776"/>
                </a:moveTo>
                <a:lnTo>
                  <a:pt x="288" y="0"/>
                </a:lnTo>
                <a:lnTo>
                  <a:pt x="1216" y="1736"/>
                </a:ln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1844640" y="2590920"/>
            <a:ext cx="1981080" cy="2514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248" h="1584">
                <a:moveTo>
                  <a:pt x="0" y="1584"/>
                </a:moveTo>
                <a:lnTo>
                  <a:pt x="1248" y="0"/>
                </a:lnTo>
                <a:lnTo>
                  <a:pt x="1200" y="1536"/>
                </a:ln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3"/>
          <p:cNvSpPr/>
          <p:nvPr/>
        </p:nvSpPr>
        <p:spPr>
          <a:xfrm>
            <a:off x="1854360" y="3962520"/>
            <a:ext cx="2504880" cy="111744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578" h="704">
                <a:moveTo>
                  <a:pt x="0" y="704"/>
                </a:moveTo>
                <a:lnTo>
                  <a:pt x="1578" y="0"/>
                </a:lnTo>
                <a:lnTo>
                  <a:pt x="1194" y="67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4343400" y="3733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3809880" y="213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8"/>
          <p:cNvSpPr/>
          <p:nvPr/>
        </p:nvSpPr>
        <p:spPr>
          <a:xfrm>
            <a:off x="1981080" y="1752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0"/>
          <p:cNvGrpSpPr/>
          <p:nvPr/>
        </p:nvGrpSpPr>
        <p:grpSpPr>
          <a:xfrm>
            <a:off x="1066680" y="2514600"/>
            <a:ext cx="3167280" cy="2974320"/>
            <a:chOff x="1066680" y="2514600"/>
            <a:chExt cx="3167280" cy="2974320"/>
          </a:xfrm>
        </p:grpSpPr>
        <p:sp>
          <p:nvSpPr>
            <p:cNvPr id="545" name="Freeform 40"/>
            <p:cNvSpPr/>
            <p:nvPr/>
          </p:nvSpPr>
          <p:spPr>
            <a:xfrm>
              <a:off x="1457280" y="2841480"/>
              <a:ext cx="2311560" cy="2254320"/>
            </a:xfrm>
            <a:custGeom>
              <a:avLst/>
              <a:gdLst>
                <a:gd name="textAreaLeft" fmla="*/ 0 w 2311560"/>
                <a:gd name="textAreaRight" fmla="*/ 2311920 w 231156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456" h="1420">
                  <a:moveTo>
                    <a:pt x="240" y="1420"/>
                  </a:moveTo>
                  <a:lnTo>
                    <a:pt x="0" y="0"/>
                  </a:lnTo>
                  <a:lnTo>
                    <a:pt x="1456" y="1368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44"/>
            <p:cNvSpPr/>
            <p:nvPr/>
          </p:nvSpPr>
          <p:spPr>
            <a:xfrm>
              <a:off x="1295280" y="5029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45"/>
            <p:cNvSpPr/>
            <p:nvPr/>
          </p:nvSpPr>
          <p:spPr>
            <a:xfrm>
              <a:off x="3733920" y="50292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9"/>
            <p:cNvSpPr/>
            <p:nvPr/>
          </p:nvSpPr>
          <p:spPr>
            <a:xfrm>
              <a:off x="1066680" y="2514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rc 20"/>
          <p:cNvSpPr/>
          <p:nvPr/>
        </p:nvSpPr>
        <p:spPr>
          <a:xfrm rot="4777200">
            <a:off x="1926360" y="3630960"/>
            <a:ext cx="1586160" cy="1905120"/>
          </a:xfrm>
          <a:custGeom>
            <a:avLst/>
            <a:gdLst>
              <a:gd name="textAreaLeft" fmla="*/ 0 w 1586160"/>
              <a:gd name="textAreaRight" fmla="*/ 1586520 w 158616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5696">
                <a:moveTo>
                  <a:pt x="18975" y="0"/>
                </a:moveTo>
                <a:cubicBezTo>
                  <a:pt x="20697" y="3166"/>
                  <a:pt x="21600" y="6714"/>
                  <a:pt x="21600" y="10319"/>
                </a:cubicBezTo>
                <a:cubicBezTo>
                  <a:pt x="21600" y="16098"/>
                  <a:pt x="19283" y="21637"/>
                  <a:pt x="15169" y="25696"/>
                </a:cubicBezTo>
              </a:path>
              <a:path stroke="0" w="21600" h="25696">
                <a:moveTo>
                  <a:pt x="18975" y="0"/>
                </a:moveTo>
                <a:cubicBezTo>
                  <a:pt x="20697" y="3166"/>
                  <a:pt x="21600" y="6714"/>
                  <a:pt x="21600" y="10319"/>
                </a:cubicBezTo>
                <a:cubicBezTo>
                  <a:pt x="21600" y="16098"/>
                  <a:pt x="19283" y="21637"/>
                  <a:pt x="15169" y="25696"/>
                </a:cubicBezTo>
                <a:lnTo>
                  <a:pt x="0" y="1031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29"/>
          <p:cNvSpPr/>
          <p:nvPr/>
        </p:nvSpPr>
        <p:spPr>
          <a:xfrm>
            <a:off x="1166760" y="3538440"/>
            <a:ext cx="3181320" cy="40032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53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Oval 12"/>
          <p:cNvSpPr/>
          <p:nvPr/>
        </p:nvSpPr>
        <p:spPr>
          <a:xfrm>
            <a:off x="1143000" y="2209680"/>
            <a:ext cx="3216240" cy="316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3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14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4" name="Rectangle 15"/>
          <p:cNvSpPr/>
          <p:nvPr/>
        </p:nvSpPr>
        <p:spPr>
          <a:xfrm>
            <a:off x="3276720" y="838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, опирающийся на полуокружность –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60948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ств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343400" y="3276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6"/>
          <p:cNvGrpSpPr/>
          <p:nvPr/>
        </p:nvGrpSpPr>
        <p:grpSpPr>
          <a:xfrm>
            <a:off x="1176480" y="2133720"/>
            <a:ext cx="3152520" cy="1785960"/>
            <a:chOff x="1176480" y="2133720"/>
            <a:chExt cx="3152520" cy="1785960"/>
          </a:xfrm>
        </p:grpSpPr>
        <p:sp>
          <p:nvSpPr>
            <p:cNvPr id="568" name="Freeform 18"/>
            <p:cNvSpPr/>
            <p:nvPr/>
          </p:nvSpPr>
          <p:spPr>
            <a:xfrm>
              <a:off x="1176480" y="2604960"/>
              <a:ext cx="3152520" cy="1314720"/>
            </a:xfrm>
            <a:custGeom>
              <a:avLst/>
              <a:gdLst>
                <a:gd name="textAreaLeft" fmla="*/ 0 w 3152520"/>
                <a:gd name="textAreaRight" fmla="*/ 3152880 w 315252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1986" h="828">
                  <a:moveTo>
                    <a:pt x="0" y="828"/>
                  </a:moveTo>
                  <a:lnTo>
                    <a:pt x="1662" y="0"/>
                  </a:lnTo>
                  <a:lnTo>
                    <a:pt x="1986" y="57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3809880" y="21337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35"/>
          <p:cNvGrpSpPr/>
          <p:nvPr/>
        </p:nvGrpSpPr>
        <p:grpSpPr>
          <a:xfrm>
            <a:off x="1157400" y="1752480"/>
            <a:ext cx="3181320" cy="2195640"/>
            <a:chOff x="1157400" y="1752480"/>
            <a:chExt cx="3181320" cy="2195640"/>
          </a:xfrm>
        </p:grpSpPr>
        <p:sp>
          <p:nvSpPr>
            <p:cNvPr id="571" name="Freeform 17"/>
            <p:cNvSpPr/>
            <p:nvPr/>
          </p:nvSpPr>
          <p:spPr>
            <a:xfrm>
              <a:off x="1157400" y="2286000"/>
              <a:ext cx="3181320" cy="1662120"/>
            </a:xfrm>
            <a:custGeom>
              <a:avLst/>
              <a:gdLst>
                <a:gd name="textAreaLeft" fmla="*/ 0 w 3181320"/>
                <a:gd name="textAreaRight" fmla="*/ 3181680 w 318132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2004" h="1047">
                  <a:moveTo>
                    <a:pt x="0" y="1047"/>
                  </a:moveTo>
                  <a:lnTo>
                    <a:pt x="721" y="0"/>
                  </a:lnTo>
                  <a:lnTo>
                    <a:pt x="2004" y="789"/>
                  </a:lnTo>
                </a:path>
              </a:pathLst>
            </a:custGeom>
            <a:noFill/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2"/>
            <p:cNvSpPr/>
            <p:nvPr/>
          </p:nvSpPr>
          <p:spPr>
            <a:xfrm>
              <a:off x="2133720" y="17524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 Box 25"/>
          <p:cNvSpPr/>
          <p:nvPr/>
        </p:nvSpPr>
        <p:spPr>
          <a:xfrm>
            <a:off x="609480" y="36576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7"/>
          <p:cNvGrpSpPr/>
          <p:nvPr/>
        </p:nvGrpSpPr>
        <p:grpSpPr>
          <a:xfrm>
            <a:off x="1195560" y="3557520"/>
            <a:ext cx="3162240" cy="2083680"/>
            <a:chOff x="1195560" y="3557520"/>
            <a:chExt cx="3162240" cy="2083680"/>
          </a:xfrm>
        </p:grpSpPr>
        <p:sp>
          <p:nvSpPr>
            <p:cNvPr id="575" name="Freeform 19"/>
            <p:cNvSpPr/>
            <p:nvPr/>
          </p:nvSpPr>
          <p:spPr>
            <a:xfrm>
              <a:off x="1195560" y="3557520"/>
              <a:ext cx="3162240" cy="1590840"/>
            </a:xfrm>
            <a:custGeom>
              <a:avLst/>
              <a:gdLst>
                <a:gd name="textAreaLeft" fmla="*/ 0 w 3162240"/>
                <a:gd name="textAreaRight" fmla="*/ 3162600 w 3162240"/>
                <a:gd name="textAreaTop" fmla="*/ 0 h 1590840"/>
                <a:gd name="textAreaBottom" fmla="*/ 1591200 h 1590840"/>
              </a:gdLst>
              <a:ahLst/>
              <a:rect l="textAreaLeft" t="textAreaTop" r="textAreaRight" b="textAreaBottom"/>
              <a:pathLst>
                <a:path w="1992" h="1002">
                  <a:moveTo>
                    <a:pt x="0" y="258"/>
                  </a:moveTo>
                  <a:lnTo>
                    <a:pt x="486" y="1002"/>
                  </a:lnTo>
                  <a:lnTo>
                    <a:pt x="1992" y="0"/>
                  </a:lnTo>
                  <a:lnTo>
                    <a:pt x="1986" y="6"/>
                  </a:lnTo>
                </a:path>
              </a:pathLst>
            </a:custGeom>
            <a:noFill/>
            <a:ln w="190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26"/>
            <p:cNvSpPr/>
            <p:nvPr/>
          </p:nvSpPr>
          <p:spPr>
            <a:xfrm>
              <a:off x="1600200" y="51814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34"/>
          <p:cNvGrpSpPr/>
          <p:nvPr/>
        </p:nvGrpSpPr>
        <p:grpSpPr>
          <a:xfrm>
            <a:off x="1066680" y="2514600"/>
            <a:ext cx="3252960" cy="1414440"/>
            <a:chOff x="1066680" y="2514600"/>
            <a:chExt cx="3252960" cy="1414440"/>
          </a:xfrm>
        </p:grpSpPr>
        <p:sp>
          <p:nvSpPr>
            <p:cNvPr id="578" name="Freeform 24"/>
            <p:cNvSpPr/>
            <p:nvPr/>
          </p:nvSpPr>
          <p:spPr>
            <a:xfrm>
              <a:off x="1166760" y="2841480"/>
              <a:ext cx="3152880" cy="1087560"/>
            </a:xfrm>
            <a:custGeom>
              <a:avLst/>
              <a:gdLst>
                <a:gd name="textAreaLeft" fmla="*/ 0 w 3152880"/>
                <a:gd name="textAreaRight" fmla="*/ 3153240 w 31528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986" h="685">
                  <a:moveTo>
                    <a:pt x="0" y="685"/>
                  </a:moveTo>
                  <a:lnTo>
                    <a:pt x="183" y="0"/>
                  </a:lnTo>
                  <a:lnTo>
                    <a:pt x="1986" y="439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7"/>
            <p:cNvSpPr/>
            <p:nvPr/>
          </p:nvSpPr>
          <p:spPr>
            <a:xfrm>
              <a:off x="1066680" y="251460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Arc 28"/>
          <p:cNvSpPr/>
          <p:nvPr/>
        </p:nvSpPr>
        <p:spPr>
          <a:xfrm rot="4777200">
            <a:off x="2046240" y="2894400"/>
            <a:ext cx="1698840" cy="320220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3202200"/>
              <a:gd name="textAreaBottom" fmla="*/ 3202560 h 3202200"/>
            </a:gdLst>
            <a:ahLst/>
            <a:rect l="textAreaLeft" t="textAreaTop" r="textAreaRight" b="textAreaBottom"/>
            <a:pathLst>
              <a:path fill="none" w="23128" h="43179">
                <a:moveTo>
                  <a:pt x="2489" y="0"/>
                </a:moveTo>
                <a:cubicBezTo>
                  <a:pt x="14033" y="515"/>
                  <a:pt x="23128" y="10023"/>
                  <a:pt x="23128" y="21579"/>
                </a:cubicBezTo>
                <a:cubicBezTo>
                  <a:pt x="23128" y="-32028"/>
                  <a:pt x="13457" y="-22357"/>
                  <a:pt x="1528" y="-22357"/>
                </a:cubicBezTo>
                <a:cubicBezTo>
                  <a:pt x="1018" y="-22357"/>
                  <a:pt x="508" y="-22376"/>
                  <a:pt x="0" y="-22412"/>
                </a:cubicBezTo>
              </a:path>
              <a:path stroke="0" w="23128" h="43179">
                <a:moveTo>
                  <a:pt x="2489" y="0"/>
                </a:moveTo>
                <a:cubicBezTo>
                  <a:pt x="14033" y="515"/>
                  <a:pt x="23128" y="10023"/>
                  <a:pt x="23128" y="21579"/>
                </a:cubicBezTo>
                <a:cubicBezTo>
                  <a:pt x="23128" y="-32028"/>
                  <a:pt x="13457" y="-22357"/>
                  <a:pt x="1528" y="-22357"/>
                </a:cubicBezTo>
                <a:cubicBezTo>
                  <a:pt x="1018" y="-22357"/>
                  <a:pt x="508" y="-22376"/>
                  <a:pt x="0" y="-22412"/>
                </a:cubicBezTo>
                <a:lnTo>
                  <a:pt x="1528" y="2157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8"/>
          <p:cNvGrpSpPr/>
          <p:nvPr/>
        </p:nvGrpSpPr>
        <p:grpSpPr>
          <a:xfrm>
            <a:off x="1424160" y="2376360"/>
            <a:ext cx="2457360" cy="648000"/>
            <a:chOff x="1424160" y="2376360"/>
            <a:chExt cx="2457360" cy="648000"/>
          </a:xfrm>
        </p:grpSpPr>
        <p:sp>
          <p:nvSpPr>
            <p:cNvPr id="582" name="Freeform 30"/>
            <p:cNvSpPr/>
            <p:nvPr/>
          </p:nvSpPr>
          <p:spPr>
            <a:xfrm>
              <a:off x="1424160" y="2871720"/>
              <a:ext cx="190440" cy="152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20" h="96">
                  <a:moveTo>
                    <a:pt x="0" y="78"/>
                  </a:moveTo>
                  <a:lnTo>
                    <a:pt x="102" y="96"/>
                  </a:lnTo>
                  <a:lnTo>
                    <a:pt x="1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1"/>
            <p:cNvSpPr/>
            <p:nvPr/>
          </p:nvSpPr>
          <p:spPr>
            <a:xfrm>
              <a:off x="2214720" y="2376360"/>
              <a:ext cx="228600" cy="13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44" h="87">
                  <a:moveTo>
                    <a:pt x="0" y="30"/>
                  </a:moveTo>
                  <a:lnTo>
                    <a:pt x="93" y="87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2"/>
            <p:cNvSpPr/>
            <p:nvPr/>
          </p:nvSpPr>
          <p:spPr>
            <a:xfrm>
              <a:off x="3710160" y="2662200"/>
              <a:ext cx="171360" cy="1335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8" h="84">
                  <a:moveTo>
                    <a:pt x="0" y="0"/>
                  </a:moveTo>
                  <a:lnTo>
                    <a:pt x="42" y="84"/>
                  </a:lnTo>
                  <a:lnTo>
                    <a:pt x="1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reeform 33"/>
          <p:cNvSpPr/>
          <p:nvPr/>
        </p:nvSpPr>
        <p:spPr>
          <a:xfrm>
            <a:off x="1881360" y="4890960"/>
            <a:ext cx="247320" cy="152640"/>
          </a:xfrm>
          <a:custGeom>
            <a:avLst/>
            <a:gdLst>
              <a:gd name="textAreaLeft" fmla="*/ 0 w 247320"/>
              <a:gd name="textAreaRight" fmla="*/ 247680 w 247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6" h="96">
                <a:moveTo>
                  <a:pt x="0" y="72"/>
                </a:moveTo>
                <a:lnTo>
                  <a:pt x="102" y="0"/>
                </a:lnTo>
                <a:lnTo>
                  <a:pt x="15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39"/>
          <p:cNvSpPr/>
          <p:nvPr/>
        </p:nvSpPr>
        <p:spPr>
          <a:xfrm flipV="1" rot="16961400">
            <a:off x="1774800" y="1698480"/>
            <a:ext cx="2076480" cy="3083040"/>
          </a:xfrm>
          <a:custGeom>
            <a:avLst/>
            <a:gdLst>
              <a:gd name="textAreaLeft" fmla="*/ 0 w 2076480"/>
              <a:gd name="textAreaRight" fmla="*/ 2076840 w 2076480"/>
              <a:gd name="textAreaTop" fmla="*/ 360 h 3083040"/>
              <a:gd name="textAreaBottom" fmla="*/ 3083760 h 3083040"/>
            </a:gdLst>
            <a:ahLst/>
            <a:rect l="textAreaLeft" t="textAreaTop" r="textAreaRight" b="textAreaBottom"/>
            <a:pathLst>
              <a:path fill="none" w="28276" h="41577">
                <a:moveTo>
                  <a:pt x="14890" y="-1"/>
                </a:moveTo>
                <a:cubicBezTo>
                  <a:pt x="22989" y="3329"/>
                  <a:pt x="28276" y="11220"/>
                  <a:pt x="28276" y="19977"/>
                </a:cubicBezTo>
                <a:cubicBezTo>
                  <a:pt x="28276" y="31906"/>
                  <a:pt x="18605" y="41577"/>
                  <a:pt x="6676" y="41577"/>
                </a:cubicBezTo>
                <a:cubicBezTo>
                  <a:pt x="4408" y="41577"/>
                  <a:pt x="2155" y="41220"/>
                  <a:pt x="-1" y="40519"/>
                </a:cubicBezTo>
              </a:path>
              <a:path stroke="0" w="28276" h="41577">
                <a:moveTo>
                  <a:pt x="14890" y="-1"/>
                </a:moveTo>
                <a:cubicBezTo>
                  <a:pt x="22989" y="3329"/>
                  <a:pt x="28276" y="11220"/>
                  <a:pt x="28276" y="19977"/>
                </a:cubicBezTo>
                <a:cubicBezTo>
                  <a:pt x="28276" y="31906"/>
                  <a:pt x="18605" y="41577"/>
                  <a:pt x="6676" y="41577"/>
                </a:cubicBezTo>
                <a:cubicBezTo>
                  <a:pt x="4408" y="41577"/>
                  <a:pt x="2155" y="41220"/>
                  <a:pt x="-1" y="40519"/>
                </a:cubicBezTo>
                <a:lnTo>
                  <a:pt x="6676" y="19977"/>
                </a:lnTo>
                <a:close/>
              </a:path>
            </a:pathLst>
          </a:custGeom>
          <a:noFill/>
          <a:ln w="38160">
            <a:solidFill>
              <a:srgbClr val="00bcb8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9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88" name="Freeform 10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2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1674720" y="1789200"/>
            <a:ext cx="2557440" cy="2189160"/>
          </a:xfrm>
          <a:custGeom>
            <a:avLst/>
            <a:gdLst>
              <a:gd name="textAreaLeft" fmla="*/ 0 w 2557440"/>
              <a:gd name="textAreaRight" fmla="*/ 2557800 w 2557440"/>
              <a:gd name="textAreaTop" fmla="*/ 0 h 2189160"/>
              <a:gd name="textAreaBottom" fmla="*/ 2189520 h 2189160"/>
            </a:gdLst>
            <a:ahLst/>
            <a:rect l="textAreaLeft" t="textAreaTop" r="textAreaRight" b="textAreaBottom"/>
            <a:pathLst>
              <a:path w="1611" h="1379">
                <a:moveTo>
                  <a:pt x="0" y="0"/>
                </a:moveTo>
                <a:lnTo>
                  <a:pt x="1611" y="13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"/>
          <p:cNvSpPr/>
          <p:nvPr/>
        </p:nvSpPr>
        <p:spPr>
          <a:xfrm>
            <a:off x="990720" y="1785960"/>
            <a:ext cx="677880" cy="2417760"/>
          </a:xfrm>
          <a:custGeom>
            <a:avLst/>
            <a:gdLst>
              <a:gd name="textAreaLeft" fmla="*/ 0 w 677880"/>
              <a:gd name="textAreaRight" fmla="*/ 677880 w 67788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427" h="1523">
                <a:moveTo>
                  <a:pt x="427" y="0"/>
                </a:moveTo>
                <a:lnTo>
                  <a:pt x="0" y="15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09480" y="40384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4267080" y="388620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1371600" y="13716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21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4" name="Freeform 31"/>
          <p:cNvSpPr/>
          <p:nvPr/>
        </p:nvSpPr>
        <p:spPr>
          <a:xfrm>
            <a:off x="1595520" y="1967040"/>
            <a:ext cx="285840" cy="83880"/>
          </a:xfrm>
          <a:custGeom>
            <a:avLst/>
            <a:gdLst>
              <a:gd name="textAreaLeft" fmla="*/ 0 w 285840"/>
              <a:gd name="textAreaRight" fmla="*/ 286200 w 2858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180" h="53">
                <a:moveTo>
                  <a:pt x="0" y="42"/>
                </a:moveTo>
                <a:cubicBezTo>
                  <a:pt x="11" y="45"/>
                  <a:pt x="43" y="53"/>
                  <a:pt x="65" y="53"/>
                </a:cubicBezTo>
                <a:cubicBezTo>
                  <a:pt x="87" y="53"/>
                  <a:pt x="113" y="51"/>
                  <a:pt x="132" y="42"/>
                </a:cubicBezTo>
                <a:cubicBezTo>
                  <a:pt x="151" y="33"/>
                  <a:pt x="170" y="9"/>
                  <a:pt x="1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32"/>
          <p:cNvSpPr/>
          <p:nvPr/>
        </p:nvSpPr>
        <p:spPr>
          <a:xfrm rot="4651200">
            <a:off x="1762200" y="2621520"/>
            <a:ext cx="1757520" cy="318780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fill="none" w="21600" h="38614">
                <a:moveTo>
                  <a:pt x="12190" y="0"/>
                </a:moveTo>
                <a:cubicBezTo>
                  <a:pt x="18078" y="4025"/>
                  <a:pt x="21600" y="10698"/>
                  <a:pt x="21600" y="17831"/>
                </a:cubicBezTo>
                <a:cubicBezTo>
                  <a:pt x="21600" y="27494"/>
                  <a:pt x="15181" y="-29555"/>
                  <a:pt x="5884" y="-26922"/>
                </a:cubicBezTo>
              </a:path>
              <a:path stroke="0" w="21600" h="38614">
                <a:moveTo>
                  <a:pt x="12190" y="0"/>
                </a:moveTo>
                <a:cubicBezTo>
                  <a:pt x="18078" y="4025"/>
                  <a:pt x="21600" y="10698"/>
                  <a:pt x="21600" y="17831"/>
                </a:cubicBezTo>
                <a:cubicBezTo>
                  <a:pt x="21600" y="27494"/>
                  <a:pt x="15181" y="-29555"/>
                  <a:pt x="5884" y="-26922"/>
                </a:cubicBezTo>
                <a:lnTo>
                  <a:pt x="0" y="17831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2286000" y="3352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1"/>
          <p:cNvSpPr/>
          <p:nvPr/>
        </p:nvSpPr>
        <p:spPr>
          <a:xfrm>
            <a:off x="990720" y="3276720"/>
            <a:ext cx="3200400" cy="8762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016" h="552">
                <a:moveTo>
                  <a:pt x="0" y="552"/>
                </a:moveTo>
                <a:lnTo>
                  <a:pt x="1008" y="0"/>
                </a:lnTo>
                <a:lnTo>
                  <a:pt x="201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2197440" y="28414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2"/>
          <p:cNvSpPr/>
          <p:nvPr/>
        </p:nvSpPr>
        <p:spPr>
          <a:xfrm>
            <a:off x="2286000" y="3352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24382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85185E-006 L 0.00834 0.24445 E">
                                      <p:cBhvr>
                                        <p:cTn id="1177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01111 L -0.09167 -0.44005 E">
                                      <p:cBhvr>
                                        <p:cTn id="118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14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1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509760" y="243828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3657600" y="16002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1371600" y="14479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7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8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8" name="Freeform 19"/>
          <p:cNvSpPr/>
          <p:nvPr/>
        </p:nvSpPr>
        <p:spPr>
          <a:xfrm>
            <a:off x="1581120" y="1806480"/>
            <a:ext cx="330120" cy="147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208" h="93">
                <a:moveTo>
                  <a:pt x="0" y="76"/>
                </a:moveTo>
                <a:cubicBezTo>
                  <a:pt x="13" y="79"/>
                  <a:pt x="50" y="93"/>
                  <a:pt x="76" y="92"/>
                </a:cubicBezTo>
                <a:cubicBezTo>
                  <a:pt x="102" y="91"/>
                  <a:pt x="134" y="87"/>
                  <a:pt x="156" y="72"/>
                </a:cubicBezTo>
                <a:cubicBezTo>
                  <a:pt x="178" y="57"/>
                  <a:pt x="197" y="15"/>
                  <a:pt x="20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2133720" y="2819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23"/>
          <p:cNvSpPr/>
          <p:nvPr/>
        </p:nvSpPr>
        <p:spPr>
          <a:xfrm>
            <a:off x="863640" y="2006640"/>
            <a:ext cx="2844720" cy="127008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792" h="800">
                <a:moveTo>
                  <a:pt x="0" y="480"/>
                </a:moveTo>
                <a:lnTo>
                  <a:pt x="1088" y="800"/>
                </a:lnTo>
                <a:lnTo>
                  <a:pt x="1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2208600" y="3276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2133720" y="2819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2666880" y="5105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rc 20"/>
          <p:cNvSpPr/>
          <p:nvPr/>
        </p:nvSpPr>
        <p:spPr>
          <a:xfrm rot="4651200">
            <a:off x="1226880" y="1879560"/>
            <a:ext cx="2838600" cy="3565440"/>
          </a:xfrm>
          <a:custGeom>
            <a:avLst/>
            <a:gdLst>
              <a:gd name="textAreaLeft" fmla="*/ 0 w 2838600"/>
              <a:gd name="textAreaRight" fmla="*/ 2838960 w 283860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fill="none" w="34883" h="43200">
                <a:moveTo>
                  <a:pt x="0" y="4567"/>
                </a:moveTo>
                <a:cubicBezTo>
                  <a:pt x="3795" y="1607"/>
                  <a:pt x="8470" y="-1"/>
                  <a:pt x="13283" y="0"/>
                </a:cubicBezTo>
                <a:cubicBezTo>
                  <a:pt x="25212" y="0"/>
                  <a:pt x="34883" y="9670"/>
                  <a:pt x="34883" y="21600"/>
                </a:cubicBezTo>
                <a:cubicBezTo>
                  <a:pt x="34883" y="33529"/>
                  <a:pt x="25212" y="43200"/>
                  <a:pt x="13283" y="43200"/>
                </a:cubicBezTo>
                <a:cubicBezTo>
                  <a:pt x="9490" y="43200"/>
                  <a:pt x="5764" y="42201"/>
                  <a:pt x="2480" y="40304"/>
                </a:cubicBezTo>
              </a:path>
              <a:path stroke="0" w="34883" h="43200">
                <a:moveTo>
                  <a:pt x="0" y="4567"/>
                </a:moveTo>
                <a:cubicBezTo>
                  <a:pt x="3795" y="1607"/>
                  <a:pt x="8470" y="-1"/>
                  <a:pt x="13283" y="0"/>
                </a:cubicBezTo>
                <a:cubicBezTo>
                  <a:pt x="25212" y="0"/>
                  <a:pt x="34883" y="9670"/>
                  <a:pt x="34883" y="21600"/>
                </a:cubicBezTo>
                <a:cubicBezTo>
                  <a:pt x="34883" y="33529"/>
                  <a:pt x="25212" y="43200"/>
                  <a:pt x="13283" y="43200"/>
                </a:cubicBezTo>
                <a:cubicBezTo>
                  <a:pt x="9490" y="43200"/>
                  <a:pt x="5764" y="42201"/>
                  <a:pt x="2480" y="40304"/>
                </a:cubicBezTo>
                <a:lnTo>
                  <a:pt x="13283" y="216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28"/>
          <p:cNvSpPr/>
          <p:nvPr/>
        </p:nvSpPr>
        <p:spPr>
          <a:xfrm rot="4638000">
            <a:off x="1450440" y="998280"/>
            <a:ext cx="1757520" cy="296064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2960640"/>
              <a:gd name="textAreaBottom" fmla="*/ 2961000 h 2960640"/>
            </a:gdLst>
            <a:ahLst/>
            <a:rect l="textAreaLeft" t="textAreaTop" r="textAreaRight" b="textAreaBottom"/>
            <a:pathLst>
              <a:path fill="none" w="21600" h="35877">
                <a:moveTo>
                  <a:pt x="10478" y="35877"/>
                </a:moveTo>
                <a:cubicBezTo>
                  <a:pt x="3977" y="31972"/>
                  <a:pt x="0" y="24943"/>
                  <a:pt x="0" y="17360"/>
                </a:cubicBezTo>
                <a:cubicBezTo>
                  <a:pt x="-1" y="10514"/>
                  <a:pt x="3245" y="4073"/>
                  <a:pt x="8747" y="0"/>
                </a:cubicBezTo>
              </a:path>
              <a:path stroke="0" w="21600" h="35877">
                <a:moveTo>
                  <a:pt x="10478" y="35877"/>
                </a:moveTo>
                <a:cubicBezTo>
                  <a:pt x="3977" y="31972"/>
                  <a:pt x="0" y="24943"/>
                  <a:pt x="0" y="17360"/>
                </a:cubicBezTo>
                <a:cubicBezTo>
                  <a:pt x="-1" y="10514"/>
                  <a:pt x="3245" y="4073"/>
                  <a:pt x="8747" y="0"/>
                </a:cubicBezTo>
                <a:lnTo>
                  <a:pt x="21600" y="1736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3"/>
          <p:cNvSpPr/>
          <p:nvPr/>
        </p:nvSpPr>
        <p:spPr>
          <a:xfrm>
            <a:off x="914400" y="1803240"/>
            <a:ext cx="762120" cy="965520"/>
          </a:xfrm>
          <a:custGeom>
            <a:avLst/>
            <a:gdLst>
              <a:gd name="textAreaLeft" fmla="*/ 0 w 762120"/>
              <a:gd name="textAreaRight" fmla="*/ 762480 w 762120"/>
              <a:gd name="textAreaTop" fmla="*/ 0 h 965520"/>
              <a:gd name="textAreaBottom" fmla="*/ 965880 h 965520"/>
            </a:gdLst>
            <a:ahLst/>
            <a:rect l="textAreaLeft" t="textAreaTop" r="textAreaRight" b="textAreaBottom"/>
            <a:pathLst>
              <a:path w="480" h="608">
                <a:moveTo>
                  <a:pt x="480" y="0"/>
                </a:moveTo>
                <a:lnTo>
                  <a:pt x="0" y="6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2"/>
          <p:cNvSpPr/>
          <p:nvPr/>
        </p:nvSpPr>
        <p:spPr>
          <a:xfrm>
            <a:off x="1674720" y="1789200"/>
            <a:ext cx="2059200" cy="19188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297" h="121">
                <a:moveTo>
                  <a:pt x="0" y="0"/>
                </a:moveTo>
                <a:lnTo>
                  <a:pt x="1297" y="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9"/>
          <p:cNvSpPr/>
          <p:nvPr/>
        </p:nvSpPr>
        <p:spPr>
          <a:xfrm>
            <a:off x="2590920" y="5105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05833 -0.25116 E">
                                      <p:cBhvr>
                                        <p:cTn id="1194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7037E-007 L -0.11667 -0.47338 E">
                                      <p:cBhvr>
                                        <p:cTn id="121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2"/>
          <p:cNvSpPr/>
          <p:nvPr/>
        </p:nvSpPr>
        <p:spPr>
          <a:xfrm>
            <a:off x="2974320" y="38088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а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4" name="Freeform 2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9"/>
          <p:cNvGrpSpPr/>
          <p:nvPr/>
        </p:nvGrpSpPr>
        <p:grpSpPr>
          <a:xfrm>
            <a:off x="822240" y="1523880"/>
            <a:ext cx="4267080" cy="4190760"/>
            <a:chOff x="822240" y="1523880"/>
            <a:chExt cx="4267080" cy="4190760"/>
          </a:xfrm>
        </p:grpSpPr>
        <p:sp>
          <p:nvSpPr>
            <p:cNvPr id="73" name="Oval 36"/>
            <p:cNvSpPr/>
            <p:nvPr/>
          </p:nvSpPr>
          <p:spPr>
            <a:xfrm>
              <a:off x="822240" y="1523880"/>
              <a:ext cx="426708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7"/>
            <p:cNvSpPr/>
            <p:nvPr/>
          </p:nvSpPr>
          <p:spPr>
            <a:xfrm>
              <a:off x="2891160" y="34884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2307240" y="348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66"/>
          <p:cNvGrpSpPr/>
          <p:nvPr/>
        </p:nvGrpSpPr>
        <p:grpSpPr>
          <a:xfrm>
            <a:off x="2727360" y="1066680"/>
            <a:ext cx="1996920" cy="4650840"/>
            <a:chOff x="2727360" y="1066680"/>
            <a:chExt cx="1996920" cy="4650840"/>
          </a:xfrm>
        </p:grpSpPr>
        <p:sp>
          <p:nvSpPr>
            <p:cNvPr id="77" name="Text Box 57"/>
            <p:cNvSpPr/>
            <p:nvPr/>
          </p:nvSpPr>
          <p:spPr>
            <a:xfrm>
              <a:off x="2727360" y="1066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8"/>
            <p:cNvSpPr/>
            <p:nvPr/>
          </p:nvSpPr>
          <p:spPr>
            <a:xfrm>
              <a:off x="4327560" y="52578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" name="Object 59"/>
              <p:cNvSpPr txBox="1"/>
              <p:nvPr/>
            </p:nvSpPr>
            <p:spPr>
              <a:xfrm>
                <a:off x="5867280" y="1066680"/>
                <a:ext cx="15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60"/>
          <p:cNvSpPr/>
          <p:nvPr/>
        </p:nvSpPr>
        <p:spPr>
          <a:xfrm>
            <a:off x="4937040" y="2514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61"/>
              <p:cNvSpPr txBox="1"/>
              <p:nvPr/>
            </p:nvSpPr>
            <p:spPr>
              <a:xfrm>
                <a:off x="5722920" y="2057400"/>
                <a:ext cx="1967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63"/>
              <p:cNvSpPr txBox="1"/>
              <p:nvPr/>
            </p:nvSpPr>
            <p:spPr>
              <a:xfrm>
                <a:off x="5891040" y="3328920"/>
                <a:ext cx="1917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Group 65"/>
          <p:cNvGrpSpPr/>
          <p:nvPr/>
        </p:nvGrpSpPr>
        <p:grpSpPr>
          <a:xfrm>
            <a:off x="281520" y="1027800"/>
            <a:ext cx="4934160" cy="5106600"/>
            <a:chOff x="281520" y="1027800"/>
            <a:chExt cx="4934160" cy="5106600"/>
          </a:xfrm>
        </p:grpSpPr>
        <p:sp>
          <p:nvSpPr>
            <p:cNvPr id="84" name="Text Box 62"/>
            <p:cNvSpPr/>
            <p:nvPr/>
          </p:nvSpPr>
          <p:spPr>
            <a:xfrm>
              <a:off x="304920" y="35053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64"/>
            <p:cNvSpPr/>
            <p:nvPr/>
          </p:nvSpPr>
          <p:spPr>
            <a:xfrm rot="11919000">
              <a:off x="836280" y="1531440"/>
              <a:ext cx="3824280" cy="4098960"/>
            </a:xfrm>
            <a:custGeom>
              <a:avLst/>
              <a:gdLst>
                <a:gd name="textAreaLeft" fmla="*/ 0 w 3824280"/>
                <a:gd name="textAreaRight" fmla="*/ 3824640 w 3824280"/>
                <a:gd name="textAreaTop" fmla="*/ 0 h 4098960"/>
                <a:gd name="textAreaBottom" fmla="*/ 4099320 h 4098960"/>
              </a:gdLst>
              <a:ahLst/>
              <a:rect l="textAreaLeft" t="textAreaTop" r="textAreaRight" b="textAreaBottom"/>
              <a:pathLst>
                <a:path fill="none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</a:path>
                <a:path stroke="0" w="39189" h="42096">
                  <a:moveTo>
                    <a:pt x="0" y="9062"/>
                  </a:moveTo>
                  <a:cubicBezTo>
                    <a:pt x="4053" y="3375"/>
                    <a:pt x="10605" y="-1"/>
                    <a:pt x="17589" y="0"/>
                  </a:cubicBezTo>
                  <a:cubicBezTo>
                    <a:pt x="29518" y="0"/>
                    <a:pt x="39189" y="9670"/>
                    <a:pt x="39189" y="21600"/>
                  </a:cubicBezTo>
                  <a:cubicBezTo>
                    <a:pt x="39189" y="30902"/>
                    <a:pt x="33232" y="39160"/>
                    <a:pt x="24405" y="42096"/>
                  </a:cubicBezTo>
                  <a:lnTo>
                    <a:pt x="17589" y="21600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6"/>
          <p:cNvGrpSpPr/>
          <p:nvPr/>
        </p:nvGrpSpPr>
        <p:grpSpPr>
          <a:xfrm>
            <a:off x="2879640" y="1447920"/>
            <a:ext cx="2209680" cy="3886200"/>
            <a:chOff x="2879640" y="1447920"/>
            <a:chExt cx="2209680" cy="3886200"/>
          </a:xfrm>
        </p:grpSpPr>
        <p:sp>
          <p:nvSpPr>
            <p:cNvPr id="87" name="Arc 53"/>
            <p:cNvSpPr/>
            <p:nvPr/>
          </p:nvSpPr>
          <p:spPr>
            <a:xfrm>
              <a:off x="2955960" y="1524240"/>
              <a:ext cx="2133360" cy="374184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3741840"/>
                <a:gd name="textAreaBottom" fmla="*/ 3741840 h 3741840"/>
              </a:gdLst>
              <a:ahLst/>
              <a:rect l="textAreaLeft" t="textAreaTop" r="textAreaRight" b="textAreaBottom"/>
              <a:pathLst>
                <a:path fill="none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</a:path>
                <a:path stroke="0" w="21600" h="3856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8217"/>
                    <a:pt x="18566" y="34469"/>
                    <a:pt x="13369" y="3856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4"/>
            <p:cNvSpPr/>
            <p:nvPr/>
          </p:nvSpPr>
          <p:spPr>
            <a:xfrm>
              <a:off x="2879640" y="144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5"/>
            <p:cNvSpPr/>
            <p:nvPr/>
          </p:nvSpPr>
          <p:spPr>
            <a:xfrm>
              <a:off x="4174920" y="51818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42" name="Freeform 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6"/>
          <p:cNvSpPr/>
          <p:nvPr/>
        </p:nvSpPr>
        <p:spPr>
          <a:xfrm>
            <a:off x="35053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"/>
          <p:cNvSpPr/>
          <p:nvPr/>
        </p:nvSpPr>
        <p:spPr>
          <a:xfrm rot="6300000">
            <a:off x="1166400" y="3538080"/>
            <a:ext cx="3181320" cy="3999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004" h="252">
                <a:moveTo>
                  <a:pt x="0" y="252"/>
                </a:moveTo>
                <a:lnTo>
                  <a:pt x="20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2418840" y="3359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1143000" y="213372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2701800" y="3692520"/>
            <a:ext cx="98640" cy="9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15"/>
              <p:cNvSpPr txBox="1"/>
              <p:nvPr/>
            </p:nvSpPr>
            <p:spPr>
              <a:xfrm>
                <a:off x="4497480" y="3244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6" name="Text Box 18"/>
          <p:cNvSpPr/>
          <p:nvPr/>
        </p:nvSpPr>
        <p:spPr>
          <a:xfrm>
            <a:off x="4267080" y="2895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5"/>
          <p:cNvSpPr/>
          <p:nvPr/>
        </p:nvSpPr>
        <p:spPr>
          <a:xfrm>
            <a:off x="2895480" y="16765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30"/>
          <p:cNvSpPr/>
          <p:nvPr/>
        </p:nvSpPr>
        <p:spPr>
          <a:xfrm>
            <a:off x="2540160" y="2158920"/>
            <a:ext cx="1726920" cy="320040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088" h="2016">
                <a:moveTo>
                  <a:pt x="272" y="0"/>
                </a:moveTo>
                <a:lnTo>
                  <a:pt x="1088" y="672"/>
                </a:lnTo>
                <a:lnTo>
                  <a:pt x="0" y="20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rc 32"/>
          <p:cNvSpPr/>
          <p:nvPr/>
        </p:nvSpPr>
        <p:spPr>
          <a:xfrm rot="12332400">
            <a:off x="1180800" y="1991880"/>
            <a:ext cx="2112840" cy="3125880"/>
          </a:xfrm>
          <a:custGeom>
            <a:avLst/>
            <a:gdLst>
              <a:gd name="textAreaLeft" fmla="*/ 0 w 2112840"/>
              <a:gd name="textAreaRight" fmla="*/ 2113200 w 2112840"/>
              <a:gd name="textAreaTop" fmla="*/ 0 h 3125880"/>
              <a:gd name="textAreaBottom" fmla="*/ 3126240 h 3125880"/>
            </a:gdLst>
            <a:ahLst/>
            <a:rect l="textAreaLeft" t="textAreaTop" r="textAreaRight" b="textAreaBottom"/>
            <a:pathLst>
              <a:path fill="none" w="28779" h="42166">
                <a:moveTo>
                  <a:pt x="-1" y="1227"/>
                </a:moveTo>
                <a:cubicBezTo>
                  <a:pt x="2306" y="415"/>
                  <a:pt x="4733" y="-1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</a:path>
              <a:path stroke="0" w="28779" h="42166">
                <a:moveTo>
                  <a:pt x="-1" y="1227"/>
                </a:moveTo>
                <a:cubicBezTo>
                  <a:pt x="2306" y="415"/>
                  <a:pt x="4733" y="-1"/>
                  <a:pt x="7179" y="0"/>
                </a:cubicBezTo>
                <a:cubicBezTo>
                  <a:pt x="19108" y="0"/>
                  <a:pt x="28779" y="9670"/>
                  <a:pt x="28779" y="21600"/>
                </a:cubicBezTo>
                <a:cubicBezTo>
                  <a:pt x="28779" y="30985"/>
                  <a:pt x="22718" y="39296"/>
                  <a:pt x="13782" y="42165"/>
                </a:cubicBezTo>
                <a:lnTo>
                  <a:pt x="7179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0"/>
          <p:cNvSpPr/>
          <p:nvPr/>
        </p:nvSpPr>
        <p:spPr>
          <a:xfrm>
            <a:off x="2286000" y="5410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41"/>
          <p:cNvSpPr/>
          <p:nvPr/>
        </p:nvSpPr>
        <p:spPr>
          <a:xfrm>
            <a:off x="4006800" y="3105000"/>
            <a:ext cx="146160" cy="260640"/>
          </a:xfrm>
          <a:custGeom>
            <a:avLst/>
            <a:gdLst>
              <a:gd name="textAreaLeft" fmla="*/ 0 w 146160"/>
              <a:gd name="textAreaRight" fmla="*/ 146520 w 1461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92" h="164">
                <a:moveTo>
                  <a:pt x="92" y="164"/>
                </a:moveTo>
                <a:lnTo>
                  <a:pt x="0" y="92"/>
                </a:lnTo>
                <a:lnTo>
                  <a:pt x="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2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664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 Box 11"/>
          <p:cNvSpPr/>
          <p:nvPr/>
        </p:nvSpPr>
        <p:spPr>
          <a:xfrm>
            <a:off x="7621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лиц-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762120" y="434340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3809880" y="175248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2514600" y="51055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5"/>
          <p:cNvSpPr/>
          <p:nvPr/>
        </p:nvSpPr>
        <p:spPr>
          <a:xfrm>
            <a:off x="777960" y="155880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16"/>
              <p:cNvSpPr txBox="1"/>
              <p:nvPr/>
            </p:nvSpPr>
            <p:spPr>
              <a:xfrm>
                <a:off x="5130720" y="3224160"/>
                <a:ext cx="127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8" name="Freeform 17"/>
          <p:cNvSpPr/>
          <p:nvPr/>
        </p:nvSpPr>
        <p:spPr>
          <a:xfrm>
            <a:off x="2514600" y="4875120"/>
            <a:ext cx="457200" cy="111240"/>
          </a:xfrm>
          <a:custGeom>
            <a:avLst/>
            <a:gdLst>
              <a:gd name="textAreaLeft" fmla="*/ 0 w 457200"/>
              <a:gd name="textAreaRight" fmla="*/ 457560 w 457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88" h="70">
                <a:moveTo>
                  <a:pt x="288" y="70"/>
                </a:moveTo>
                <a:cubicBezTo>
                  <a:pt x="272" y="61"/>
                  <a:pt x="224" y="27"/>
                  <a:pt x="192" y="16"/>
                </a:cubicBezTo>
                <a:cubicBezTo>
                  <a:pt x="160" y="5"/>
                  <a:pt x="130" y="0"/>
                  <a:pt x="98" y="7"/>
                </a:cubicBezTo>
                <a:cubicBezTo>
                  <a:pt x="66" y="14"/>
                  <a:pt x="20" y="47"/>
                  <a:pt x="0" y="5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8"/>
          <p:cNvSpPr/>
          <p:nvPr/>
        </p:nvSpPr>
        <p:spPr>
          <a:xfrm>
            <a:off x="3581280" y="838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градусную меру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9"/>
          <p:cNvSpPr/>
          <p:nvPr/>
        </p:nvSpPr>
        <p:spPr>
          <a:xfrm>
            <a:off x="3352680" y="2346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3"/>
          <p:cNvSpPr/>
          <p:nvPr/>
        </p:nvSpPr>
        <p:spPr>
          <a:xfrm>
            <a:off x="3200400" y="2362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rc 25"/>
          <p:cNvSpPr/>
          <p:nvPr/>
        </p:nvSpPr>
        <p:spPr>
          <a:xfrm rot="4651200">
            <a:off x="1540080" y="3061440"/>
            <a:ext cx="1757160" cy="2419560"/>
          </a:xfrm>
          <a:custGeom>
            <a:avLst/>
            <a:gdLst>
              <a:gd name="textAreaLeft" fmla="*/ 0 w 1757160"/>
              <a:gd name="textAreaRight" fmla="*/ 1757520 w 1757160"/>
              <a:gd name="textAreaTop" fmla="*/ 0 h 2419560"/>
              <a:gd name="textAreaBottom" fmla="*/ 2419920 h 2419560"/>
            </a:gdLst>
            <a:ahLst/>
            <a:rect l="textAreaLeft" t="textAreaTop" r="textAreaRight" b="textAreaBottom"/>
            <a:pathLst>
              <a:path fill="none" w="21600" h="29302">
                <a:moveTo>
                  <a:pt x="18955" y="-1"/>
                </a:moveTo>
                <a:cubicBezTo>
                  <a:pt x="20690" y="3175"/>
                  <a:pt x="21600" y="6736"/>
                  <a:pt x="21600" y="10356"/>
                </a:cubicBezTo>
                <a:cubicBezTo>
                  <a:pt x="21600" y="18248"/>
                  <a:pt x="17295" y="25512"/>
                  <a:pt x="10373" y="29302"/>
                </a:cubicBezTo>
              </a:path>
              <a:path stroke="0" w="21600" h="29302">
                <a:moveTo>
                  <a:pt x="18955" y="-1"/>
                </a:moveTo>
                <a:cubicBezTo>
                  <a:pt x="20690" y="3175"/>
                  <a:pt x="21600" y="6736"/>
                  <a:pt x="21600" y="10356"/>
                </a:cubicBezTo>
                <a:cubicBezTo>
                  <a:pt x="21600" y="18248"/>
                  <a:pt x="17295" y="25512"/>
                  <a:pt x="10373" y="29302"/>
                </a:cubicBezTo>
                <a:lnTo>
                  <a:pt x="0" y="10356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30"/>
          <p:cNvSpPr/>
          <p:nvPr/>
        </p:nvSpPr>
        <p:spPr>
          <a:xfrm>
            <a:off x="1219320" y="2082960"/>
            <a:ext cx="2641320" cy="2997000"/>
          </a:xfrm>
          <a:custGeom>
            <a:avLst/>
            <a:gdLst>
              <a:gd name="textAreaLeft" fmla="*/ 0 w 2641320"/>
              <a:gd name="textAreaRight" fmla="*/ 2641680 w 2641320"/>
              <a:gd name="textAreaTop" fmla="*/ 0 h 2997000"/>
              <a:gd name="textAreaBottom" fmla="*/ 2997360 h 2997000"/>
            </a:gdLst>
            <a:ahLst/>
            <a:rect l="textAreaLeft" t="textAreaTop" r="textAreaRight" b="textAreaBottom"/>
            <a:pathLst>
              <a:path w="1664" h="1888">
                <a:moveTo>
                  <a:pt x="0" y="1520"/>
                </a:moveTo>
                <a:lnTo>
                  <a:pt x="1664" y="0"/>
                </a:lnTo>
                <a:lnTo>
                  <a:pt x="1584" y="1616"/>
                </a:lnTo>
                <a:lnTo>
                  <a:pt x="976" y="1888"/>
                </a:lnTo>
                <a:lnTo>
                  <a:pt x="0" y="152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3733920" y="464832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rc 26"/>
          <p:cNvSpPr/>
          <p:nvPr/>
        </p:nvSpPr>
        <p:spPr>
          <a:xfrm rot="4638000">
            <a:off x="906480" y="1439640"/>
            <a:ext cx="3290760" cy="3564000"/>
          </a:xfrm>
          <a:custGeom>
            <a:avLst/>
            <a:gdLst>
              <a:gd name="textAreaLeft" fmla="*/ 0 w 3290760"/>
              <a:gd name="textAreaRight" fmla="*/ 3291120 w 3290760"/>
              <a:gd name="textAreaTop" fmla="*/ 0 h 3564000"/>
              <a:gd name="textAreaBottom" fmla="*/ 3564360 h 3564000"/>
            </a:gdLst>
            <a:ahLst/>
            <a:rect l="textAreaLeft" t="textAreaTop" r="textAreaRight" b="textAreaBottom"/>
            <a:pathLst>
              <a:path fill="none" w="40455" h="43200">
                <a:moveTo>
                  <a:pt x="31545" y="40774"/>
                </a:moveTo>
                <a:cubicBezTo>
                  <a:pt x="28472" y="42368"/>
                  <a:pt x="2506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9424" y="-1"/>
                  <a:pt x="36637" y="4231"/>
                  <a:pt x="40454" y="11061"/>
                </a:cubicBezTo>
              </a:path>
              <a:path stroke="0" w="40455" h="43200">
                <a:moveTo>
                  <a:pt x="31545" y="40774"/>
                </a:moveTo>
                <a:cubicBezTo>
                  <a:pt x="28472" y="42368"/>
                  <a:pt x="2506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9424" y="-1"/>
                  <a:pt x="36637" y="4231"/>
                  <a:pt x="40454" y="11061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2"/>
          <p:cNvSpPr/>
          <p:nvPr/>
        </p:nvSpPr>
        <p:spPr>
          <a:xfrm>
            <a:off x="1981080" y="5181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3"/>
          <p:cNvSpPr/>
          <p:nvPr/>
        </p:nvSpPr>
        <p:spPr>
          <a:xfrm>
            <a:off x="2057400" y="1066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2208600" y="327672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22"/>
          <p:cNvSpPr/>
          <p:nvPr/>
        </p:nvSpPr>
        <p:spPr>
          <a:xfrm>
            <a:off x="2514600" y="3213000"/>
            <a:ext cx="10944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13334 0.41551 E">
                                      <p:cBhvr>
                                        <p:cTn id="1250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44 L -3.33333E-006 -0.5912 E">
                                      <p:cBhvr>
                                        <p:cTn id="1262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04166 0.5044 E">
                                      <p:cBhvr>
                                        <p:cTn id="1274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0948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окружностью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если отрез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единяющий ее концы, является диаметром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92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457200" y="1752480"/>
            <a:ext cx="4266720" cy="4190760"/>
            <a:chOff x="457200" y="1752480"/>
            <a:chExt cx="4266720" cy="4190760"/>
          </a:xfrm>
        </p:grpSpPr>
        <p:sp>
          <p:nvSpPr>
            <p:cNvPr id="101" name="Oval 13"/>
            <p:cNvSpPr/>
            <p:nvPr/>
          </p:nvSpPr>
          <p:spPr>
            <a:xfrm>
              <a:off x="457200" y="1752480"/>
              <a:ext cx="426672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2526120" y="3717000"/>
              <a:ext cx="128880" cy="131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940760" y="371700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16"/>
          <p:cNvSpPr/>
          <p:nvPr/>
        </p:nvSpPr>
        <p:spPr>
          <a:xfrm>
            <a:off x="2577960" y="1752480"/>
            <a:ext cx="25560" cy="4191120"/>
          </a:xfrm>
          <a:custGeom>
            <a:avLst/>
            <a:gdLst>
              <a:gd name="textAreaLeft" fmla="*/ 0 w 25560"/>
              <a:gd name="textAreaRight" fmla="*/ 25920 w 255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16" h="2640">
                <a:moveTo>
                  <a:pt x="16" y="0"/>
                </a:moveTo>
                <a:lnTo>
                  <a:pt x="0" y="2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3"/>
          <p:cNvGrpSpPr/>
          <p:nvPr/>
        </p:nvGrpSpPr>
        <p:grpSpPr>
          <a:xfrm>
            <a:off x="2450520" y="1265400"/>
            <a:ext cx="2275560" cy="5122440"/>
            <a:chOff x="2450520" y="1265400"/>
            <a:chExt cx="2275560" cy="5122440"/>
          </a:xfrm>
        </p:grpSpPr>
        <p:sp>
          <p:nvSpPr>
            <p:cNvPr id="106" name="Arc 18"/>
            <p:cNvSpPr/>
            <p:nvPr/>
          </p:nvSpPr>
          <p:spPr>
            <a:xfrm>
              <a:off x="2567160" y="1752480"/>
              <a:ext cx="2158920" cy="419112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4191120"/>
                <a:gd name="textAreaBottom" fmla="*/ 4191480 h 4191120"/>
              </a:gdLst>
              <a:ahLst/>
              <a:rect l="textAreaLeft" t="textAreaTop" r="textAreaRight" b="textAreaBottom"/>
              <a:pathLst>
                <a:path fill="none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</a:path>
                <a:path stroke="0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  <a:lnTo>
                    <a:pt x="256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2516760" y="1265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2450520" y="5867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1677960" y="1752480"/>
            <a:ext cx="836640" cy="4114800"/>
            <a:chOff x="1677960" y="1752480"/>
            <a:chExt cx="836640" cy="4114800"/>
          </a:xfrm>
        </p:grpSpPr>
        <p:sp>
          <p:nvSpPr>
            <p:cNvPr id="110" name="Text Box 17"/>
            <p:cNvSpPr/>
            <p:nvPr/>
          </p:nvSpPr>
          <p:spPr>
            <a:xfrm>
              <a:off x="1677960" y="3352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2197080" y="1752480"/>
              <a:ext cx="317520" cy="41148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200" h="2592">
                  <a:moveTo>
                    <a:pt x="200" y="0"/>
                  </a:moveTo>
                  <a:cubicBezTo>
                    <a:pt x="108" y="456"/>
                    <a:pt x="16" y="912"/>
                    <a:pt x="8" y="1344"/>
                  </a:cubicBezTo>
                  <a:cubicBezTo>
                    <a:pt x="0" y="1776"/>
                    <a:pt x="76" y="2184"/>
                    <a:pt x="152" y="25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rc 25"/>
          <p:cNvSpPr/>
          <p:nvPr/>
        </p:nvSpPr>
        <p:spPr>
          <a:xfrm flipH="1">
            <a:off x="456480" y="1752480"/>
            <a:ext cx="2158920" cy="4191120"/>
          </a:xfrm>
          <a:custGeom>
            <a:avLst/>
            <a:gdLst>
              <a:gd name="textAreaLeft" fmla="*/ -360 w 2158920"/>
              <a:gd name="textAreaRight" fmla="*/ 2158920 w 215892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fill="none" w="21856" h="43200">
                <a:moveTo>
                  <a:pt x="255" y="0"/>
                </a:moveTo>
                <a:cubicBezTo>
                  <a:pt x="12185" y="0"/>
                  <a:pt x="21856" y="9670"/>
                  <a:pt x="21856" y="21600"/>
                </a:cubicBezTo>
                <a:cubicBezTo>
                  <a:pt x="21856" y="33529"/>
                  <a:pt x="12185" y="43200"/>
                  <a:pt x="256" y="43200"/>
                </a:cubicBezTo>
                <a:cubicBezTo>
                  <a:pt x="170" y="43200"/>
                  <a:pt x="85" y="43199"/>
                  <a:pt x="-1" y="43198"/>
                </a:cubicBezTo>
              </a:path>
              <a:path stroke="0" w="21856" h="43200">
                <a:moveTo>
                  <a:pt x="255" y="0"/>
                </a:moveTo>
                <a:cubicBezTo>
                  <a:pt x="12185" y="0"/>
                  <a:pt x="21856" y="9670"/>
                  <a:pt x="21856" y="21600"/>
                </a:cubicBezTo>
                <a:cubicBezTo>
                  <a:pt x="21856" y="33529"/>
                  <a:pt x="12185" y="43200"/>
                  <a:pt x="256" y="43200"/>
                </a:cubicBezTo>
                <a:cubicBezTo>
                  <a:pt x="170" y="43200"/>
                  <a:pt x="85" y="43199"/>
                  <a:pt x="-1" y="43198"/>
                </a:cubicBezTo>
                <a:lnTo>
                  <a:pt x="256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51"/>
          <p:cNvGrpSpPr/>
          <p:nvPr/>
        </p:nvGrpSpPr>
        <p:grpSpPr>
          <a:xfrm>
            <a:off x="5519880" y="1676520"/>
            <a:ext cx="2711160" cy="3848760"/>
            <a:chOff x="5519880" y="1676520"/>
            <a:chExt cx="2711160" cy="3848760"/>
          </a:xfrm>
        </p:grpSpPr>
        <p:sp>
          <p:nvSpPr>
            <p:cNvPr id="114" name="Freeform 47"/>
            <p:cNvSpPr/>
            <p:nvPr/>
          </p:nvSpPr>
          <p:spPr>
            <a:xfrm>
              <a:off x="6426360" y="2133360"/>
              <a:ext cx="990360" cy="13334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624" h="840">
                  <a:moveTo>
                    <a:pt x="64" y="632"/>
                  </a:moveTo>
                  <a:lnTo>
                    <a:pt x="336" y="0"/>
                  </a:lnTo>
                  <a:lnTo>
                    <a:pt x="624" y="760"/>
                  </a:lnTo>
                  <a:lnTo>
                    <a:pt x="624" y="744"/>
                  </a:lnTo>
                  <a:lnTo>
                    <a:pt x="416" y="728"/>
                  </a:lnTo>
                  <a:lnTo>
                    <a:pt x="320" y="840"/>
                  </a:lnTo>
                  <a:lnTo>
                    <a:pt x="192" y="824"/>
                  </a:lnTo>
                  <a:lnTo>
                    <a:pt x="16" y="776"/>
                  </a:lnTo>
                  <a:lnTo>
                    <a:pt x="0" y="808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>
              <a:off x="5826240" y="2120760"/>
              <a:ext cx="2162160" cy="28872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2887200"/>
                <a:gd name="textAreaBottom" fmla="*/ 2887560 h 2887200"/>
              </a:gdLst>
              <a:ahLst/>
              <a:rect l="textAreaLeft" t="textAreaTop" r="textAreaRight" b="textAreaBottom"/>
              <a:pathLst>
                <a:path w="1362" h="1819">
                  <a:moveTo>
                    <a:pt x="0" y="1819"/>
                  </a:moveTo>
                  <a:lnTo>
                    <a:pt x="698" y="0"/>
                  </a:lnTo>
                  <a:lnTo>
                    <a:pt x="1362" y="16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3"/>
            <p:cNvSpPr/>
            <p:nvPr/>
          </p:nvSpPr>
          <p:spPr>
            <a:xfrm>
              <a:off x="5519880" y="506556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4"/>
            <p:cNvSpPr/>
            <p:nvPr/>
          </p:nvSpPr>
          <p:spPr>
            <a:xfrm>
              <a:off x="7931160" y="471960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6781680" y="16765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9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120" name="Freeform 46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"/>
          <p:cNvSpPr/>
          <p:nvPr/>
        </p:nvSpPr>
        <p:spPr>
          <a:xfrm>
            <a:off x="76212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похожи и чем  различаются углы АОВ и АС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26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35" name="Oval 13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1884960" y="2978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5105520" y="2133720"/>
            <a:ext cx="3276360" cy="3162240"/>
            <a:chOff x="5105520" y="2133720"/>
            <a:chExt cx="3276360" cy="3162240"/>
          </a:xfrm>
        </p:grpSpPr>
        <p:sp>
          <p:nvSpPr>
            <p:cNvPr id="139" name="Oval 40"/>
            <p:cNvSpPr/>
            <p:nvPr/>
          </p:nvSpPr>
          <p:spPr>
            <a:xfrm>
              <a:off x="5105520" y="2133720"/>
              <a:ext cx="327636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1"/>
            <p:cNvSpPr/>
            <p:nvPr/>
          </p:nvSpPr>
          <p:spPr>
            <a:xfrm>
              <a:off x="6693480" y="3616560"/>
              <a:ext cx="997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6404400" y="3283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Oval 45"/>
          <p:cNvSpPr/>
          <p:nvPr/>
        </p:nvSpPr>
        <p:spPr>
          <a:xfrm>
            <a:off x="685800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2133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3"/>
          <p:cNvSpPr/>
          <p:nvPr/>
        </p:nvSpPr>
        <p:spPr>
          <a:xfrm>
            <a:off x="68580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нтраль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4"/>
          <p:cNvSpPr/>
          <p:nvPr/>
        </p:nvSpPr>
        <p:spPr>
          <a:xfrm>
            <a:off x="533412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писан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5"/>
          <p:cNvSpPr/>
          <p:nvPr/>
        </p:nvSpPr>
        <p:spPr>
          <a:xfrm>
            <a:off x="1905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определение этих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гол с вершиной в центре окружности называется централь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7"/>
          <p:cNvSpPr/>
          <p:nvPr/>
        </p:nvSpPr>
        <p:spPr>
          <a:xfrm>
            <a:off x="152280" y="542592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8"/>
          <p:cNvGrpSpPr/>
          <p:nvPr/>
        </p:nvGrpSpPr>
        <p:grpSpPr>
          <a:xfrm>
            <a:off x="1023840" y="3324240"/>
            <a:ext cx="2711520" cy="1896480"/>
            <a:chOff x="1023840" y="3324240"/>
            <a:chExt cx="2711520" cy="1896480"/>
          </a:xfrm>
        </p:grpSpPr>
        <p:sp>
          <p:nvSpPr>
            <p:cNvPr id="150" name="Freeform 9"/>
            <p:cNvSpPr/>
            <p:nvPr/>
          </p:nvSpPr>
          <p:spPr>
            <a:xfrm>
              <a:off x="1600200" y="3340080"/>
              <a:ext cx="1447920" cy="11556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912" h="728">
                  <a:moveTo>
                    <a:pt x="0" y="584"/>
                  </a:moveTo>
                  <a:lnTo>
                    <a:pt x="400" y="0"/>
                  </a:lnTo>
                  <a:lnTo>
                    <a:pt x="912" y="440"/>
                  </a:lnTo>
                  <a:lnTo>
                    <a:pt x="768" y="584"/>
                  </a:lnTo>
                  <a:lnTo>
                    <a:pt x="480" y="728"/>
                  </a:lnTo>
                  <a:lnTo>
                    <a:pt x="192" y="728"/>
                  </a:lnTo>
                  <a:lnTo>
                    <a:pt x="96" y="632"/>
                  </a:lnTo>
                  <a:lnTo>
                    <a:pt x="0" y="63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1330200" y="3324240"/>
              <a:ext cx="2162160" cy="137952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1808" h="1152">
                  <a:moveTo>
                    <a:pt x="0" y="1152"/>
                  </a:moveTo>
                  <a:lnTo>
                    <a:pt x="752" y="0"/>
                  </a:lnTo>
                  <a:lnTo>
                    <a:pt x="1808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1023840" y="476100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435480" y="441468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4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55" name="Freeform 15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164" name="Oval 24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33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угу окружности можно измерять в град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37"/>
          <p:cNvSpPr/>
          <p:nvPr/>
        </p:nvSpPr>
        <p:spPr>
          <a:xfrm rot="4846200">
            <a:off x="1653120" y="3185280"/>
            <a:ext cx="1392120" cy="21877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187720"/>
              <a:gd name="textAreaBottom" fmla="*/ 2188080 h 2187720"/>
            </a:gdLst>
            <a:ahLst/>
            <a:rect l="textAreaLeft" t="textAreaTop" r="textAreaRight" b="textAreaBottom"/>
            <a:pathLst>
              <a:path fill="none" w="21600" h="30395">
                <a:moveTo>
                  <a:pt x="15395" y="-1"/>
                </a:moveTo>
                <a:cubicBezTo>
                  <a:pt x="19371" y="4040"/>
                  <a:pt x="21600" y="9482"/>
                  <a:pt x="21600" y="15151"/>
                </a:cubicBezTo>
                <a:cubicBezTo>
                  <a:pt x="21600" y="20865"/>
                  <a:pt x="19335" y="26346"/>
                  <a:pt x="15302" y="30394"/>
                </a:cubicBezTo>
              </a:path>
              <a:path stroke="0" w="21600" h="30395">
                <a:moveTo>
                  <a:pt x="15395" y="-1"/>
                </a:moveTo>
                <a:cubicBezTo>
                  <a:pt x="19371" y="4040"/>
                  <a:pt x="21600" y="9482"/>
                  <a:pt x="21600" y="15151"/>
                </a:cubicBezTo>
                <a:cubicBezTo>
                  <a:pt x="21600" y="20865"/>
                  <a:pt x="19335" y="26346"/>
                  <a:pt x="15302" y="30394"/>
                </a:cubicBezTo>
                <a:lnTo>
                  <a:pt x="0" y="1515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3886200" y="106668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уга АВ окружности с центром О меньше полуокружности или является полуокружностью, то ее градусная мера считается равной градусной мере центрального угла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1"/>
              <p:cNvSpPr txBox="1"/>
              <p:nvPr/>
            </p:nvSpPr>
            <p:spPr>
              <a:xfrm>
                <a:off x="4191120" y="4038480"/>
                <a:ext cx="4343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Text Box 43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21112 E">
                                      <p:cBhvr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75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57200" y="1581120"/>
            <a:ext cx="2817360" cy="2720520"/>
            <a:chOff x="457200" y="1581120"/>
            <a:chExt cx="2817360" cy="2720520"/>
          </a:xfrm>
        </p:grpSpPr>
        <p:sp>
          <p:nvSpPr>
            <p:cNvPr id="184" name="Oval 13"/>
            <p:cNvSpPr/>
            <p:nvPr/>
          </p:nvSpPr>
          <p:spPr>
            <a:xfrm>
              <a:off x="457200" y="1581120"/>
              <a:ext cx="2817360" cy="2720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1823400" y="2856240"/>
              <a:ext cx="84960" cy="84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1436040" y="285624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Freeform 16"/>
          <p:cNvSpPr/>
          <p:nvPr/>
        </p:nvSpPr>
        <p:spPr>
          <a:xfrm>
            <a:off x="1857240" y="1581120"/>
            <a:ext cx="17640" cy="2720880"/>
          </a:xfrm>
          <a:custGeom>
            <a:avLst/>
            <a:gdLst>
              <a:gd name="textAreaLeft" fmla="*/ 0 w 17640"/>
              <a:gd name="textAreaRight" fmla="*/ 18000 w 1764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w="16" h="2640">
                <a:moveTo>
                  <a:pt x="16" y="0"/>
                </a:moveTo>
                <a:lnTo>
                  <a:pt x="0" y="2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7"/>
          <p:cNvGrpSpPr/>
          <p:nvPr/>
        </p:nvGrpSpPr>
        <p:grpSpPr>
          <a:xfrm>
            <a:off x="1602360" y="914400"/>
            <a:ext cx="1674360" cy="3859200"/>
            <a:chOff x="1602360" y="914400"/>
            <a:chExt cx="1674360" cy="3859200"/>
          </a:xfrm>
        </p:grpSpPr>
        <p:sp>
          <p:nvSpPr>
            <p:cNvPr id="189" name="Arc 18"/>
            <p:cNvSpPr/>
            <p:nvPr/>
          </p:nvSpPr>
          <p:spPr>
            <a:xfrm>
              <a:off x="1851120" y="1581120"/>
              <a:ext cx="1425600" cy="272088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2720880"/>
                <a:gd name="textAreaBottom" fmla="*/ 2721240 h 2720880"/>
              </a:gdLst>
              <a:ahLst/>
              <a:rect l="textAreaLeft" t="textAreaTop" r="textAreaRight" b="textAreaBottom"/>
              <a:pathLst>
                <a:path fill="none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</a:path>
                <a:path stroke="0" w="21856" h="43200">
                  <a:moveTo>
                    <a:pt x="255" y="0"/>
                  </a:moveTo>
                  <a:cubicBezTo>
                    <a:pt x="12185" y="0"/>
                    <a:pt x="21856" y="9670"/>
                    <a:pt x="21856" y="21600"/>
                  </a:cubicBezTo>
                  <a:cubicBezTo>
                    <a:pt x="21856" y="33529"/>
                    <a:pt x="12185" y="43200"/>
                    <a:pt x="256" y="43200"/>
                  </a:cubicBezTo>
                  <a:cubicBezTo>
                    <a:pt x="170" y="43200"/>
                    <a:pt x="85" y="43199"/>
                    <a:pt x="-1" y="43198"/>
                  </a:cubicBezTo>
                  <a:lnTo>
                    <a:pt x="256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602360" y="914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1777680" y="4253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Object 25"/>
              <p:cNvSpPr txBox="1"/>
              <p:nvPr/>
            </p:nvSpPr>
            <p:spPr>
              <a:xfrm>
                <a:off x="4038480" y="762120"/>
                <a:ext cx="4554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3"/>
          <p:cNvSpPr/>
          <p:nvPr/>
        </p:nvSpPr>
        <p:spPr>
          <a:xfrm>
            <a:off x="1600200" y="3340080"/>
            <a:ext cx="1447920" cy="1155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912" h="728">
                <a:moveTo>
                  <a:pt x="0" y="584"/>
                </a:moveTo>
                <a:lnTo>
                  <a:pt x="400" y="0"/>
                </a:lnTo>
                <a:lnTo>
                  <a:pt x="912" y="440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4"/>
          <p:cNvSpPr/>
          <p:nvPr/>
        </p:nvSpPr>
        <p:spPr>
          <a:xfrm>
            <a:off x="1371600" y="3324240"/>
            <a:ext cx="2120760" cy="14382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336" h="906">
                <a:moveTo>
                  <a:pt x="0" y="906"/>
                </a:moveTo>
                <a:lnTo>
                  <a:pt x="540" y="0"/>
                </a:lnTo>
                <a:lnTo>
                  <a:pt x="1336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435480" y="441468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198" name="Freeform 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07" name="Oval 17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rc 22"/>
          <p:cNvSpPr/>
          <p:nvPr/>
        </p:nvSpPr>
        <p:spPr>
          <a:xfrm flipV="1" rot="16014600">
            <a:off x="756360" y="1686600"/>
            <a:ext cx="2916360" cy="3200400"/>
          </a:xfrm>
          <a:custGeom>
            <a:avLst/>
            <a:gdLst>
              <a:gd name="textAreaLeft" fmla="*/ 0 w 2916360"/>
              <a:gd name="textAreaRight" fmla="*/ 2916720 w 2916360"/>
              <a:gd name="textAreaTop" fmla="*/ 360 h 3200400"/>
              <a:gd name="textAreaBottom" fmla="*/ 3201120 h 3200400"/>
            </a:gdLst>
            <a:ahLst/>
            <a:rect l="textAreaLeft" t="textAreaTop" r="textAreaRight" b="textAreaBottom"/>
            <a:pathLst>
              <a:path fill="none" w="39190" h="43200">
                <a:moveTo>
                  <a:pt x="3576" y="5163"/>
                </a:moveTo>
                <a:cubicBezTo>
                  <a:pt x="7484" y="1830"/>
                  <a:pt x="12453" y="-1"/>
                  <a:pt x="17590" y="0"/>
                </a:cubicBezTo>
                <a:cubicBezTo>
                  <a:pt x="29519" y="0"/>
                  <a:pt x="39190" y="9670"/>
                  <a:pt x="39190" y="21600"/>
                </a:cubicBezTo>
                <a:cubicBezTo>
                  <a:pt x="39190" y="33529"/>
                  <a:pt x="29519" y="43200"/>
                  <a:pt x="17590" y="43200"/>
                </a:cubicBezTo>
                <a:cubicBezTo>
                  <a:pt x="10606" y="43200"/>
                  <a:pt x="4053" y="39823"/>
                  <a:pt x="-1" y="34136"/>
                </a:cubicBezTo>
              </a:path>
              <a:path stroke="0" w="39190" h="43200">
                <a:moveTo>
                  <a:pt x="3576" y="5163"/>
                </a:moveTo>
                <a:cubicBezTo>
                  <a:pt x="7484" y="1830"/>
                  <a:pt x="12453" y="-1"/>
                  <a:pt x="17590" y="0"/>
                </a:cubicBezTo>
                <a:cubicBezTo>
                  <a:pt x="29519" y="0"/>
                  <a:pt x="39190" y="9670"/>
                  <a:pt x="39190" y="21600"/>
                </a:cubicBezTo>
                <a:cubicBezTo>
                  <a:pt x="39190" y="33529"/>
                  <a:pt x="29519" y="43200"/>
                  <a:pt x="17590" y="43200"/>
                </a:cubicBezTo>
                <a:cubicBezTo>
                  <a:pt x="10606" y="43200"/>
                  <a:pt x="4053" y="39823"/>
                  <a:pt x="-1" y="34136"/>
                </a:cubicBezTo>
                <a:lnTo>
                  <a:pt x="1759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3809880" y="6094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уга АВ окружности с центром О больше полуокружности, то ее градусная мера считается ра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4"/>
              <p:cNvSpPr txBox="1"/>
              <p:nvPr/>
            </p:nvSpPr>
            <p:spPr>
              <a:xfrm>
                <a:off x="380880" y="5486400"/>
                <a:ext cx="86029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26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2133720" y="4876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9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8"/>
              <p:cNvSpPr txBox="1"/>
              <p:nvPr/>
            </p:nvSpPr>
            <p:spPr>
              <a:xfrm>
                <a:off x="4495680" y="25146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29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025 0.21783 E">
                                      <p:cBhvr>
                                        <p:cTn id="28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3.7037E-006 L -0.09166 -0.50672 E">
                                      <p:cBhvr>
                                        <p:cTn id="28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19" name="Freeform 3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15"/>
          <p:cNvSpPr/>
          <p:nvPr/>
        </p:nvSpPr>
        <p:spPr>
          <a:xfrm>
            <a:off x="879480" y="2451240"/>
            <a:ext cx="2895480" cy="1267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824" h="80">
                <a:moveTo>
                  <a:pt x="0" y="0"/>
                </a:moveTo>
                <a:lnTo>
                  <a:pt x="1824" y="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 rot="21444000">
            <a:off x="1541880" y="76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376200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0"/>
              <p:cNvSpPr txBox="1"/>
              <p:nvPr/>
            </p:nvSpPr>
            <p:spPr>
              <a:xfrm>
                <a:off x="3809880" y="609480"/>
                <a:ext cx="48499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А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С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Freeform 21"/>
          <p:cNvSpPr/>
          <p:nvPr/>
        </p:nvSpPr>
        <p:spPr>
          <a:xfrm>
            <a:off x="1133640" y="1714680"/>
            <a:ext cx="1168200" cy="79992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736" h="504">
                <a:moveTo>
                  <a:pt x="736" y="50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 flipH="1" flipV="1">
            <a:off x="1768320" y="1219320"/>
            <a:ext cx="53352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 rot="21444000">
            <a:off x="703800" y="1295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 rot="21444000">
            <a:off x="32292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853920" y="1143000"/>
            <a:ext cx="2895480" cy="2819160"/>
            <a:chOff x="853920" y="1143000"/>
            <a:chExt cx="2895480" cy="2819160"/>
          </a:xfrm>
        </p:grpSpPr>
        <p:sp>
          <p:nvSpPr>
            <p:cNvPr id="236" name="Oval 12"/>
            <p:cNvSpPr/>
            <p:nvPr/>
          </p:nvSpPr>
          <p:spPr>
            <a:xfrm>
              <a:off x="853920" y="1143000"/>
              <a:ext cx="2895480" cy="28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3"/>
            <p:cNvSpPr/>
            <p:nvPr/>
          </p:nvSpPr>
          <p:spPr>
            <a:xfrm>
              <a:off x="2257920" y="2464560"/>
              <a:ext cx="87120" cy="88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4"/>
            <p:cNvSpPr/>
            <p:nvPr/>
          </p:nvSpPr>
          <p:spPr>
            <a:xfrm>
              <a:off x="1860480" y="2464560"/>
              <a:ext cx="6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rc 17"/>
          <p:cNvSpPr/>
          <p:nvPr/>
        </p:nvSpPr>
        <p:spPr>
          <a:xfrm rot="16474200">
            <a:off x="1765800" y="541440"/>
            <a:ext cx="1407960" cy="2679480"/>
          </a:xfrm>
          <a:custGeom>
            <a:avLst/>
            <a:gdLst>
              <a:gd name="textAreaLeft" fmla="*/ 0 w 1407960"/>
              <a:gd name="textAreaRight" fmla="*/ 1408320 w 1407960"/>
              <a:gd name="textAreaTop" fmla="*/ 0 h 2679480"/>
              <a:gd name="textAreaBottom" fmla="*/ 2679840 h 2679480"/>
            </a:gdLst>
            <a:ahLst/>
            <a:rect l="textAreaLeft" t="textAreaTop" r="textAreaRight" b="textAreaBottom"/>
            <a:pathLst>
              <a:path fill="none" w="21600" h="39951">
                <a:moveTo>
                  <a:pt x="11344" y="0"/>
                </a:moveTo>
                <a:cubicBezTo>
                  <a:pt x="17719" y="3934"/>
                  <a:pt x="21600" y="10890"/>
                  <a:pt x="21600" y="18381"/>
                </a:cubicBezTo>
                <a:cubicBezTo>
                  <a:pt x="21600" y="29868"/>
                  <a:pt x="12607" y="-26190"/>
                  <a:pt x="1136" y="-25585"/>
                </a:cubicBezTo>
              </a:path>
              <a:path stroke="0" w="21600" h="39951">
                <a:moveTo>
                  <a:pt x="11344" y="0"/>
                </a:moveTo>
                <a:cubicBezTo>
                  <a:pt x="17719" y="3934"/>
                  <a:pt x="21600" y="10890"/>
                  <a:pt x="21600" y="18381"/>
                </a:cubicBezTo>
                <a:cubicBezTo>
                  <a:pt x="21600" y="29868"/>
                  <a:pt x="12607" y="-26190"/>
                  <a:pt x="1136" y="-25585"/>
                </a:cubicBezTo>
                <a:lnTo>
                  <a:pt x="0" y="1838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220968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160020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27"/>
          <p:cNvSpPr/>
          <p:nvPr/>
        </p:nvSpPr>
        <p:spPr>
          <a:xfrm rot="6669000">
            <a:off x="985680" y="1247760"/>
            <a:ext cx="2496960" cy="289728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2897280"/>
              <a:gd name="textAreaBottom" fmla="*/ 2897640 h 2897280"/>
            </a:gdLst>
            <a:ahLst/>
            <a:rect l="textAreaLeft" t="textAreaTop" r="textAreaRight" b="textAreaBottom"/>
            <a:pathLst>
              <a:path fill="none" w="38320" h="43200">
                <a:moveTo>
                  <a:pt x="8485" y="1630"/>
                </a:moveTo>
                <a:cubicBezTo>
                  <a:pt x="11097" y="554"/>
                  <a:pt x="13895" y="-1"/>
                  <a:pt x="16720" y="0"/>
                </a:cubicBezTo>
                <a:cubicBezTo>
                  <a:pt x="28649" y="0"/>
                  <a:pt x="38320" y="9670"/>
                  <a:pt x="38320" y="21600"/>
                </a:cubicBezTo>
                <a:cubicBezTo>
                  <a:pt x="38320" y="33529"/>
                  <a:pt x="28649" y="43200"/>
                  <a:pt x="16720" y="43200"/>
                </a:cubicBezTo>
                <a:cubicBezTo>
                  <a:pt x="10240" y="43200"/>
                  <a:pt x="4102" y="40290"/>
                  <a:pt x="0" y="35274"/>
                </a:cubicBezTo>
              </a:path>
              <a:path stroke="0" w="38320" h="43200">
                <a:moveTo>
                  <a:pt x="8485" y="1630"/>
                </a:moveTo>
                <a:cubicBezTo>
                  <a:pt x="11097" y="554"/>
                  <a:pt x="13895" y="-1"/>
                  <a:pt x="16720" y="0"/>
                </a:cubicBezTo>
                <a:cubicBezTo>
                  <a:pt x="28649" y="0"/>
                  <a:pt x="38320" y="9670"/>
                  <a:pt x="38320" y="21600"/>
                </a:cubicBezTo>
                <a:cubicBezTo>
                  <a:pt x="38320" y="33529"/>
                  <a:pt x="28649" y="43200"/>
                  <a:pt x="16720" y="43200"/>
                </a:cubicBezTo>
                <a:cubicBezTo>
                  <a:pt x="10240" y="43200"/>
                  <a:pt x="4102" y="40290"/>
                  <a:pt x="0" y="35274"/>
                </a:cubicBezTo>
                <a:lnTo>
                  <a:pt x="1672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8"/>
              <p:cNvSpPr txBox="1"/>
              <p:nvPr/>
            </p:nvSpPr>
            <p:spPr>
              <a:xfrm>
                <a:off x="2057400" y="4419720"/>
                <a:ext cx="5904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Arc 30"/>
          <p:cNvSpPr/>
          <p:nvPr/>
        </p:nvSpPr>
        <p:spPr>
          <a:xfrm rot="6736800">
            <a:off x="1158840" y="1504440"/>
            <a:ext cx="1944720" cy="2897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897280"/>
              <a:gd name="textAreaBottom" fmla="*/ 2897640 h 2897280"/>
            </a:gdLst>
            <a:ahLst/>
            <a:rect l="textAreaLeft" t="textAreaTop" r="textAreaRight" b="textAreaBottom"/>
            <a:pathLst>
              <a:path fill="none" w="29834" h="43200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3529"/>
                  <a:pt x="20163" y="43200"/>
                  <a:pt x="8234" y="43200"/>
                </a:cubicBezTo>
                <a:cubicBezTo>
                  <a:pt x="6638" y="43200"/>
                  <a:pt x="5048" y="43023"/>
                  <a:pt x="3491" y="42673"/>
                </a:cubicBezTo>
              </a:path>
              <a:path stroke="0" w="29834" h="43200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3529"/>
                  <a:pt x="20163" y="43200"/>
                  <a:pt x="8234" y="43200"/>
                </a:cubicBezTo>
                <a:cubicBezTo>
                  <a:pt x="6638" y="43200"/>
                  <a:pt x="5048" y="43023"/>
                  <a:pt x="3491" y="42673"/>
                </a:cubicBezTo>
                <a:lnTo>
                  <a:pt x="8234" y="21600"/>
                </a:lnTo>
                <a:close/>
              </a:path>
            </a:pathLst>
          </a:custGeom>
          <a:noFill/>
          <a:ln w="381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1"/>
              <p:cNvSpPr txBox="1"/>
              <p:nvPr/>
            </p:nvSpPr>
            <p:spPr>
              <a:xfrm>
                <a:off x="2057400" y="5181480"/>
                <a:ext cx="5861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Arc 32"/>
          <p:cNvSpPr/>
          <p:nvPr/>
        </p:nvSpPr>
        <p:spPr>
          <a:xfrm rot="6736800">
            <a:off x="1200600" y="1561320"/>
            <a:ext cx="1944720" cy="28224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fill="none" w="29834" h="42074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0876"/>
                  <a:pt x="23910" y="39117"/>
                  <a:pt x="15116" y="42073"/>
                </a:cubicBezTo>
              </a:path>
              <a:path stroke="0" w="29834" h="42074">
                <a:moveTo>
                  <a:pt x="-1" y="1630"/>
                </a:moveTo>
                <a:cubicBezTo>
                  <a:pt x="2611" y="554"/>
                  <a:pt x="5409" y="-1"/>
                  <a:pt x="8234" y="0"/>
                </a:cubicBezTo>
                <a:cubicBezTo>
                  <a:pt x="20163" y="0"/>
                  <a:pt x="29834" y="9670"/>
                  <a:pt x="29834" y="21600"/>
                </a:cubicBezTo>
                <a:cubicBezTo>
                  <a:pt x="29834" y="30876"/>
                  <a:pt x="23910" y="39117"/>
                  <a:pt x="15116" y="42073"/>
                </a:cubicBezTo>
                <a:lnTo>
                  <a:pt x="8234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2114640" y="5867280"/>
                <a:ext cx="2698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1"/>
          <p:cNvSpPr/>
          <p:nvPr/>
        </p:nvSpPr>
        <p:spPr>
          <a:xfrm>
            <a:off x="18288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1828800" y="18288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00</a:t>
            </a:r>
            <a:r>
              <a:rPr b="1" lang="en-US" sz="2400" spc="-1" strike="noStrike" baseline="30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600200" y="3340080"/>
            <a:ext cx="1308240" cy="115560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824" h="728">
                <a:moveTo>
                  <a:pt x="0" y="584"/>
                </a:moveTo>
                <a:lnTo>
                  <a:pt x="400" y="0"/>
                </a:lnTo>
                <a:lnTo>
                  <a:pt x="824" y="560"/>
                </a:lnTo>
                <a:lnTo>
                  <a:pt x="768" y="584"/>
                </a:lnTo>
                <a:lnTo>
                  <a:pt x="480" y="728"/>
                </a:lnTo>
                <a:lnTo>
                  <a:pt x="192" y="728"/>
                </a:lnTo>
                <a:lnTo>
                  <a:pt x="96" y="632"/>
                </a:lnTo>
                <a:lnTo>
                  <a:pt x="0" y="63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"/>
          <p:cNvSpPr/>
          <p:nvPr/>
        </p:nvSpPr>
        <p:spPr>
          <a:xfrm>
            <a:off x="1333440" y="3324240"/>
            <a:ext cx="1905120" cy="14130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13000"/>
              <a:gd name="textAreaBottom" fmla="*/ 1413000 h 1413000"/>
            </a:gdLst>
            <a:ahLst/>
            <a:rect l="textAreaLeft" t="textAreaTop" r="textAreaRight" b="textAreaBottom"/>
            <a:pathLst>
              <a:path w="1200" h="890">
                <a:moveTo>
                  <a:pt x="0" y="890"/>
                </a:moveTo>
                <a:lnTo>
                  <a:pt x="564" y="0"/>
                </a:lnTo>
                <a:lnTo>
                  <a:pt x="1200" y="8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23840" y="476100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200400" y="4648320"/>
            <a:ext cx="4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256" name="Freeform 8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6"/>
          <p:cNvGrpSpPr/>
          <p:nvPr/>
        </p:nvGrpSpPr>
        <p:grpSpPr>
          <a:xfrm>
            <a:off x="609480" y="1828800"/>
            <a:ext cx="3216240" cy="3162240"/>
            <a:chOff x="609480" y="1828800"/>
            <a:chExt cx="3216240" cy="3162240"/>
          </a:xfrm>
        </p:grpSpPr>
        <p:sp>
          <p:nvSpPr>
            <p:cNvPr id="265" name="Oval 17"/>
            <p:cNvSpPr/>
            <p:nvPr/>
          </p:nvSpPr>
          <p:spPr>
            <a:xfrm>
              <a:off x="609480" y="1828800"/>
              <a:ext cx="3216240" cy="316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"/>
            <p:cNvSpPr/>
            <p:nvPr/>
          </p:nvSpPr>
          <p:spPr>
            <a:xfrm>
              <a:off x="2168280" y="3311640"/>
              <a:ext cx="97920" cy="9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9"/>
            <p:cNvSpPr/>
            <p:nvPr/>
          </p:nvSpPr>
          <p:spPr>
            <a:xfrm>
              <a:off x="1882800" y="2978640"/>
              <a:ext cx="7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Arc 21"/>
          <p:cNvSpPr/>
          <p:nvPr/>
        </p:nvSpPr>
        <p:spPr>
          <a:xfrm rot="4846200">
            <a:off x="1510200" y="3362760"/>
            <a:ext cx="1392120" cy="188892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fill="none" w="21600" h="26242">
                <a:moveTo>
                  <a:pt x="18590" y="-1"/>
                </a:moveTo>
                <a:cubicBezTo>
                  <a:pt x="20560" y="3330"/>
                  <a:pt x="21600" y="7128"/>
                  <a:pt x="21600" y="10998"/>
                </a:cubicBezTo>
                <a:cubicBezTo>
                  <a:pt x="21600" y="16712"/>
                  <a:pt x="19335" y="22193"/>
                  <a:pt x="15302" y="26241"/>
                </a:cubicBezTo>
              </a:path>
              <a:path stroke="0" w="21600" h="26242">
                <a:moveTo>
                  <a:pt x="18590" y="-1"/>
                </a:moveTo>
                <a:cubicBezTo>
                  <a:pt x="20560" y="3330"/>
                  <a:pt x="21600" y="7128"/>
                  <a:pt x="21600" y="10998"/>
                </a:cubicBezTo>
                <a:cubicBezTo>
                  <a:pt x="21600" y="16712"/>
                  <a:pt x="19335" y="22193"/>
                  <a:pt x="15302" y="26241"/>
                </a:cubicBezTo>
                <a:lnTo>
                  <a:pt x="0" y="1099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14479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,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2895480" y="5562720"/>
                <a:ext cx="5737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M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Text Box 25"/>
          <p:cNvSpPr/>
          <p:nvPr/>
        </p:nvSpPr>
        <p:spPr>
          <a:xfrm>
            <a:off x="1981080" y="348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7"/>
          <p:cNvSpPr/>
          <p:nvPr/>
        </p:nvSpPr>
        <p:spPr>
          <a:xfrm>
            <a:off x="1371600" y="4635360"/>
            <a:ext cx="1841400" cy="889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60" h="56">
                <a:moveTo>
                  <a:pt x="0" y="56"/>
                </a:moveTo>
                <a:lnTo>
                  <a:pt x="11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2590920" y="457200"/>
                <a:ext cx="1268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9"/>
              <p:cNvSpPr txBox="1"/>
              <p:nvPr/>
            </p:nvSpPr>
            <p:spPr>
              <a:xfrm>
                <a:off x="4108320" y="457200"/>
                <a:ext cx="1301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М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 Box 30"/>
          <p:cNvSpPr/>
          <p:nvPr/>
        </p:nvSpPr>
        <p:spPr>
          <a:xfrm>
            <a:off x="2362320" y="495288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32"/>
          <p:cNvSpPr/>
          <p:nvPr/>
        </p:nvSpPr>
        <p:spPr>
          <a:xfrm flipV="1" rot="16753800">
            <a:off x="722520" y="1762920"/>
            <a:ext cx="3003480" cy="3177720"/>
          </a:xfrm>
          <a:custGeom>
            <a:avLst/>
            <a:gdLst>
              <a:gd name="textAreaLeft" fmla="*/ 0 w 3003480"/>
              <a:gd name="textAreaRight" fmla="*/ 3003840 w 3003480"/>
              <a:gd name="textAreaTop" fmla="*/ -360 h 3177720"/>
              <a:gd name="textAreaBottom" fmla="*/ 3177720 h 3177720"/>
            </a:gdLst>
            <a:ahLst/>
            <a:rect l="textAreaLeft" t="textAreaTop" r="textAreaRight" b="textAreaBottom"/>
            <a:pathLst>
              <a:path fill="none" w="41452" h="43200">
                <a:moveTo>
                  <a:pt x="6067" y="4969"/>
                </a:moveTo>
                <a:cubicBezTo>
                  <a:pt x="9943" y="1757"/>
                  <a:pt x="14818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</a:path>
              <a:path stroke="0" w="41452" h="43200">
                <a:moveTo>
                  <a:pt x="6067" y="4969"/>
                </a:moveTo>
                <a:cubicBezTo>
                  <a:pt x="9943" y="1757"/>
                  <a:pt x="14818" y="-1"/>
                  <a:pt x="19852" y="0"/>
                </a:cubicBezTo>
                <a:cubicBezTo>
                  <a:pt x="31781" y="0"/>
                  <a:pt x="41452" y="9670"/>
                  <a:pt x="41452" y="21600"/>
                </a:cubicBezTo>
                <a:cubicBezTo>
                  <a:pt x="41452" y="33529"/>
                  <a:pt x="31781" y="43200"/>
                  <a:pt x="19852" y="43200"/>
                </a:cubicBezTo>
                <a:cubicBezTo>
                  <a:pt x="11213" y="43200"/>
                  <a:pt x="3405" y="38052"/>
                  <a:pt x="0" y="30112"/>
                </a:cubicBezTo>
                <a:lnTo>
                  <a:pt x="19852" y="21600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3"/>
          <p:cNvSpPr/>
          <p:nvPr/>
        </p:nvSpPr>
        <p:spPr>
          <a:xfrm>
            <a:off x="2666880" y="3733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3962520" y="4343400"/>
                <a:ext cx="4681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N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00834 0.24005 E">
                                      <p:cBhvr>
                                        <p:cTn id="360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Жалыбина</cp:lastModifiedBy>
  <dcterms:modified xsi:type="dcterms:W3CDTF">2020-04-08T05:45:48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