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D40-9515-47A0-98B8-34D5668A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90EC-7469-469A-A9AF-B299A347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61696-01ED-41E4-9101-0CEC2DBF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9C6E1-0554-425B-9210-7BD27D67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26C53-B005-4FB2-BCC2-EEA8ECC8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CBD8C-D225-4D13-B9BC-BB66E747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2047E-BF33-4F6E-B132-2080965F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F29A5-E152-4624-A4E9-2D13996A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092AD-0625-47AD-BCC1-334C5BE1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55697-251C-4BE7-8021-29AEFDBD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07116-DC87-40A1-803E-4CF1E5E7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F2A83-CA41-4509-93D3-0950FE4E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BF8B-69EA-4BE3-9DFD-44D9EA40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AE73A-B974-4CF8-BF6B-5F31E6F6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1CDD2-8C45-42CA-B521-FAF4CD1E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EDD35-5AC7-4E22-B669-BFBE52F9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64E12-A2C7-4019-883A-A4023685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17DDE-AE62-4CDD-BADE-4D1E29EE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DB430-7B56-4282-81B1-D12F99C3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09E93-297D-4947-BE1C-F24F4E76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2D6FB-0A21-446B-A7D2-3C53888F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61347-5668-43D4-8E14-B276B5A3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80CE1-F1B3-4B93-8176-DA8DF414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197-EAF9-476E-A8AB-24E777FC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C1705-0BDF-46F5-A3C5-A538C38A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5077C-38B8-40FA-BD2F-ECDFB15F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34040-E628-4848-889F-90F2127D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DA52C-801E-43AA-924C-AC21E0A7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5B591-BFCE-4174-B90E-497B0729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415F4-B330-4823-A3EE-1F02D814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44715-906A-44C9-96C4-F219D607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D15C4-21D0-4457-A385-FD5D6ED7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6B74C-4F02-4F1F-AEF5-07BDDD73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28C8F-1F48-4EA3-A8B5-550BA37E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7F56-1ED5-4287-9842-9CB985D8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B9E37-EB52-4C8F-B56D-71EBCAE0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FBFD9-A31A-4D8A-89B4-61A04E24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6AEE1-0E24-4D85-9ADD-AA7C081F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7B70C-B9E8-4BC5-9DDC-124CA362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172E4-3E8C-495C-915D-A39D761F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6BF1E-DA83-451F-A67B-C19B358C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70155-268C-4E09-B909-134DDD75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AAC8B-E064-403B-B284-0600BE59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A1F8F-D4ED-451B-8ADF-D4D9595D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6ADAF-9D04-41B8-905B-1012CE96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EF53-8FEE-4F30-A0F2-BE6255A1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45816-4AAC-4BA9-A44D-8379136D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6BECA-F932-4E2B-9CF5-C225524E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2E83E-6709-45CD-A97D-3DC58B3E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87235-53A3-4B4A-AE2E-E8E06AC4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81B51-3BBC-45C6-ABD6-4953FC11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B004-3B8F-401C-87B3-3136BAAE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4DC4-624F-4E93-86EB-A85F3CB5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00CE-6832-41A1-AF0C-3550F86D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2962-7087-4636-BFC4-BCC0B842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24D5-4162-4716-A03B-F487D212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525-FFDB-404B-BD12-84715DB9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ADDA-B5C8-4995-B6FE-4D48FD9F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E476-4754-41CC-A2EA-25CE3D66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C342-B8D8-42DE-A539-7456A2E4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8892-B547-4911-8255-AF96624C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5EAB-4A2D-4F3E-810F-6B9D4D4D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0A459-E96A-4288-9949-730537A4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DAF2F-BEB5-46FE-9BFD-FAB3E5AF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57F9B-8A15-4E67-A642-BD95B0A2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F4876-DA8C-44E1-888C-82FAE445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21C3-BB16-4C66-992C-CCA72FE6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546-018B-4554-80FB-8FCF8389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1CC96-32CD-4DC8-AF54-D7EE208F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9D7BA-6FC1-4C62-A68F-1895452A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DA9B3-0CCB-4484-9F31-FCEDDFDB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C7D3F-FA78-49FB-A006-5CF8A2BA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923ED-E446-48EC-9F3B-0C37F30D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9AA85-B467-41A5-B139-B3421E2A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C993B-62C8-454A-B3D1-783E1C10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FEFFE-124F-4EDE-BFDE-53A6F404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52B6C-836A-4B0A-A2D7-DC923CAD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6DBDA-98C2-449A-B187-A1FA403E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107A-F7AB-4E3A-919B-A19F9B40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CF3A5-7599-4DF9-A960-D497BC63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B838E-23D3-40F4-A899-96846AF0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423CD-D3E0-4428-B933-691D7B28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2DCEF-5E95-4EF9-8C3D-9B7B4BAA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98DBC-5794-4904-8500-89CA3ACA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18A0A-8BDC-4C4E-9912-01DD3B16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77591-80C0-4742-8D98-15B5EE8B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476E0-6902-410F-882D-AE165F8E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FF242-87C2-4C59-BD07-DEBF2A11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CEBF3-4744-434E-881C-DF8B5A7C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1A9D-508E-4FB7-8C9E-43662759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101FB-1204-4B62-9CDA-D0AE4D35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1E54D-CD65-4877-BE76-FD8A1270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109E0-F93B-43A6-B3E1-DB465738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E37A9-3679-4431-9371-587B0506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3AFAB-0C7A-4404-8181-C51738E5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11CC6-1A49-4A12-AE42-F63ACFCA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EE4DF-A18F-4BDB-8BB8-C1EB6987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9F76D-A7D1-4C9E-B39C-96411FC1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CD734-4CB2-462F-ACF1-A813EF2E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57009-2080-4DDC-93FD-9DAEB5B1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D9F-A789-4494-B01B-E8C70227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D6F94-3001-4D9F-9F60-F071F32E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C64A1-BB8A-4F27-9961-989250BE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2B386-55AA-452D-9ED2-B5FC9780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DF640-6ABE-4DC4-BB09-40D0BE8F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1C262-ABA1-49BD-A3AF-20744DDF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11C80-854B-4A31-ABAC-8319FE1D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60191-7000-40E8-A93D-175C646D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4667D-F9DD-4EC8-83F3-6BBA49D4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656DE-F7DE-49FE-967F-E1F3263F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CC1EB-106C-41D6-B9CE-30AEC71D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1521-32C0-4E60-BCA9-325E09F0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9455B-F646-45EA-ACDB-AB837B82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29223-BBC7-4E7B-8643-D7876E0A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66CB5-15D5-42CE-BC65-6D3DEAD4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B8B2F-BFBE-48C6-ACD6-485A4895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DCCA5-B4D3-450A-B9E2-C612D153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C18B0-D7F7-4AA1-AE5C-00FD7584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17E6A-F6D4-4B15-8621-6F60E512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0ECD1-ED67-4616-A2BB-1485FECC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D0CBE-4AD0-44DF-8F4F-84199AD3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DB3B4-D799-4220-B0D4-CA551DA0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2E8-5677-42CA-B015-FBCE7580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1E9FE-909C-4C2D-9A06-39316A37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67AA2-04B2-4619-AD76-F46E95F9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92B72-9588-4EAF-A8F6-5F3193AB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9A931-1BA7-4361-87E9-EB42CE05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2D3A4-E90B-4019-A2CC-6192A314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BCE9D-D8B5-4456-A239-E9D2C693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25AE1-3FA2-4EC1-A26F-2B86DB13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3CE40-8C52-4AF2-9836-234F1687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D0CE9-FC50-46D6-B248-AAF4F136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25233-A98E-4D7C-9E88-14DE1F88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4347-79B8-4177-B041-E1EAF485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9DC47-B870-496C-B8E9-FA9E81ED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5245D-AA6B-4B83-A889-4670CA51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88566-3932-4864-88AA-C1551775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03B6E-0D77-4E1F-8EA3-BDE5186B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CBBA5-330F-4FE0-9C3D-2F5C7377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3D65C-9B76-4ADA-AE61-8DE8E711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F23C2-9BF8-49B8-AB29-02476D71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5DA39-28EA-4F8C-B3BC-5C3FFF9E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03701-3D5A-4351-865B-18B73133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79959-79C3-4A7F-AC19-D24F4DA1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2D41-2F93-4100-90F3-06F342BE9E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8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9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22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119C-395E-4AD4-A5E8-58DA9FEFF922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6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BAE7-D827-4A0A-9715-87E5D862FA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1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2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A927-4396-463B-8AB0-17151364F5A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E0FE-FE76-4265-A7EF-377692A5D9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AD17-4A3C-4144-9D92-7D976114500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0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34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35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36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37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9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5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3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54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3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ABA3-1B94-415A-A910-49FECC0055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EDBD-AEB7-440F-B83C-B4EC1A082F7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74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5459-71E4-4228-9150-366CC27AC9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DA96-962C-4EC0-AFCA-435DD3BB305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72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74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78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4AF3-AFB0-4233-A84C-546EE62274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2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2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2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29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3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4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6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D841-EFF7-44AF-A958-575F25AFAEF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«Однородные члены предложения. Знаки препинания при однородных членах предложения»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371600" y="42922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должите предложен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родные члены предложения отвечают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родные члены предложения являются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родные члены предложения выражены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родные члены предложения относятся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родные члены предложения произносятся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верьте себя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родные члены предложения отвечают  на один и тот же вопро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родные члены предложения являются одним и тем же членом предло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родные члены предложения выражены одной и той же частью ре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родные члены предложения относятся к одному члену предло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родные члены предложения произносятся с перечислительной интонац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Осторожно ветер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Из калитки выше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Постучал в окошк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Пробежал по крыш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Поиграл немног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Ветками черёму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Пожурил за что-т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Воробьёв знакомы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И расправил бодр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Молодые крыль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Полетел  куда-т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Вперегонки с пылью.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Михаил Исаковски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6" name="Picture 4" descr="деревня"/>
          <p:cNvPicPr/>
          <p:nvPr/>
        </p:nvPicPr>
        <p:blipFill>
          <a:blip r:embed="rId1"/>
          <a:stretch/>
        </p:blipFill>
        <p:spPr>
          <a:xfrm>
            <a:off x="3924360" y="1125360"/>
            <a:ext cx="4968720" cy="3726000"/>
          </a:xfrm>
          <a:prstGeom prst="rect">
            <a:avLst/>
          </a:prstGeom>
          <a:ln w="0">
            <a:noFill/>
          </a:ln>
        </p:spPr>
      </p:pic>
      <p:sp>
        <p:nvSpPr>
          <p:cNvPr id="667" name="Прямоугольник 7"/>
          <p:cNvSpPr/>
          <p:nvPr/>
        </p:nvSpPr>
        <p:spPr>
          <a:xfrm>
            <a:off x="395280" y="404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шите стихотворение, расставив знаки препинания при однородных чле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верьте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Осторожно ветер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Из калитки выше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Постучал в окошк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Пробежал по крыш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Поиграл нем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Ветками черёмух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Пожурил за что-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Воробьёв знаком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И расправил бод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Молодые крыль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Полетел  куда-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Вперегонки с пылью.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Михаил Исаковск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дание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аким вы себе представили образ ветра? Кого он напоминает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то необычного в этом стихотворении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колько в этом предложении сказуемых и сколько подлежащих они поясняют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а какой вопрос они отвечают 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 какой интонацией они читаются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ак называются подобные члены предложения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1115640" y="259920"/>
            <a:ext cx="75819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9900cc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Ветер  вышел,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постучал, пробежал,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поиграл, пожурил и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расправил, полетел</a:t>
            </a:r>
            <a:r>
              <a:rPr b="1" i="1" lang="ru-RU" sz="4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2484360" y="333360"/>
            <a:ext cx="1081080" cy="216000"/>
          </a:xfrm>
          <a:prstGeom prst="rect">
            <a:avLst/>
          </a:prstGeom>
          <a:noFill/>
          <a:ln w="9360">
            <a:solidFill>
              <a:srgbClr val="ffcc66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у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4427640" y="333360"/>
            <a:ext cx="1224000" cy="333360"/>
          </a:xfrm>
          <a:prstGeom prst="rect">
            <a:avLst/>
          </a:prstGeom>
          <a:noFill/>
          <a:ln w="9360">
            <a:solidFill>
              <a:srgbClr val="ffcc9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гла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5"/>
          <p:cNvSpPr/>
          <p:nvPr/>
        </p:nvSpPr>
        <p:spPr>
          <a:xfrm>
            <a:off x="1908000" y="1916280"/>
            <a:ext cx="1224000" cy="333360"/>
          </a:xfrm>
          <a:prstGeom prst="rect">
            <a:avLst/>
          </a:prstGeom>
          <a:noFill/>
          <a:ln w="9360">
            <a:solidFill>
              <a:srgbClr val="ffcc9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гла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4716360" y="1916280"/>
            <a:ext cx="1224000" cy="333360"/>
          </a:xfrm>
          <a:prstGeom prst="rect">
            <a:avLst/>
          </a:prstGeom>
          <a:noFill/>
          <a:ln w="9360">
            <a:solidFill>
              <a:srgbClr val="ffcc9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гла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7"/>
          <p:cNvSpPr/>
          <p:nvPr/>
        </p:nvSpPr>
        <p:spPr>
          <a:xfrm>
            <a:off x="1835280" y="3573360"/>
            <a:ext cx="1224000" cy="333360"/>
          </a:xfrm>
          <a:prstGeom prst="rect">
            <a:avLst/>
          </a:prstGeom>
          <a:noFill/>
          <a:ln w="9360">
            <a:solidFill>
              <a:srgbClr val="ffcc9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гла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8"/>
          <p:cNvSpPr/>
          <p:nvPr/>
        </p:nvSpPr>
        <p:spPr>
          <a:xfrm>
            <a:off x="4500720" y="3645000"/>
            <a:ext cx="1223640" cy="333360"/>
          </a:xfrm>
          <a:prstGeom prst="rect">
            <a:avLst/>
          </a:prstGeom>
          <a:noFill/>
          <a:ln w="9360">
            <a:solidFill>
              <a:srgbClr val="ffcc9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гла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195640" y="5157720"/>
            <a:ext cx="1224000" cy="333360"/>
          </a:xfrm>
          <a:prstGeom prst="rect">
            <a:avLst/>
          </a:prstGeom>
          <a:noFill/>
          <a:ln w="9360">
            <a:solidFill>
              <a:srgbClr val="ffcc9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гла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"/>
          <p:cNvSpPr/>
          <p:nvPr/>
        </p:nvSpPr>
        <p:spPr>
          <a:xfrm>
            <a:off x="5003640" y="5157720"/>
            <a:ext cx="1224000" cy="333360"/>
          </a:xfrm>
          <a:prstGeom prst="rect">
            <a:avLst/>
          </a:prstGeom>
          <a:noFill/>
          <a:ln w="9360">
            <a:solidFill>
              <a:srgbClr val="ffcc9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гла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1"/>
          <p:cNvSpPr/>
          <p:nvPr/>
        </p:nvSpPr>
        <p:spPr>
          <a:xfrm>
            <a:off x="2124000" y="1268280"/>
            <a:ext cx="165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2"/>
          <p:cNvSpPr/>
          <p:nvPr/>
        </p:nvSpPr>
        <p:spPr>
          <a:xfrm>
            <a:off x="4140360" y="1268280"/>
            <a:ext cx="187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3"/>
          <p:cNvSpPr/>
          <p:nvPr/>
        </p:nvSpPr>
        <p:spPr>
          <a:xfrm>
            <a:off x="4140360" y="1413000"/>
            <a:ext cx="187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4"/>
          <p:cNvSpPr/>
          <p:nvPr/>
        </p:nvSpPr>
        <p:spPr>
          <a:xfrm>
            <a:off x="1258920" y="285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5"/>
          <p:cNvSpPr/>
          <p:nvPr/>
        </p:nvSpPr>
        <p:spPr>
          <a:xfrm>
            <a:off x="1258920" y="299736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6"/>
          <p:cNvSpPr/>
          <p:nvPr/>
        </p:nvSpPr>
        <p:spPr>
          <a:xfrm>
            <a:off x="4140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7"/>
          <p:cNvSpPr/>
          <p:nvPr/>
        </p:nvSpPr>
        <p:spPr>
          <a:xfrm>
            <a:off x="4140360" y="2997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8"/>
          <p:cNvSpPr/>
          <p:nvPr/>
        </p:nvSpPr>
        <p:spPr>
          <a:xfrm>
            <a:off x="1258920" y="4508640"/>
            <a:ext cx="216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19"/>
          <p:cNvSpPr/>
          <p:nvPr/>
        </p:nvSpPr>
        <p:spPr>
          <a:xfrm>
            <a:off x="1258920" y="4653000"/>
            <a:ext cx="216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0"/>
          <p:cNvSpPr/>
          <p:nvPr/>
        </p:nvSpPr>
        <p:spPr>
          <a:xfrm>
            <a:off x="3851280" y="4508640"/>
            <a:ext cx="230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1"/>
          <p:cNvSpPr/>
          <p:nvPr/>
        </p:nvSpPr>
        <p:spPr>
          <a:xfrm>
            <a:off x="3851280" y="4653000"/>
            <a:ext cx="23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2"/>
          <p:cNvSpPr/>
          <p:nvPr/>
        </p:nvSpPr>
        <p:spPr>
          <a:xfrm>
            <a:off x="1332000" y="6165720"/>
            <a:ext cx="280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1332000" y="6308640"/>
            <a:ext cx="280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24"/>
          <p:cNvSpPr/>
          <p:nvPr/>
        </p:nvSpPr>
        <p:spPr>
          <a:xfrm>
            <a:off x="4572000" y="6093000"/>
            <a:ext cx="22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25"/>
          <p:cNvSpPr/>
          <p:nvPr/>
        </p:nvSpPr>
        <p:spPr>
          <a:xfrm>
            <a:off x="4572000" y="6237360"/>
            <a:ext cx="22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          </a:t>
            </a:r>
            <a:r>
              <a:rPr b="1" lang="ru-RU" sz="4400" spc="-1" strike="noStrike">
                <a:solidFill>
                  <a:srgbClr val="ffffb7"/>
                </a:solidFill>
                <a:latin typeface="Monotype Corsiva"/>
              </a:rPr>
              <a:t>Признаки однородных членов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Oval 4"/>
          <p:cNvSpPr/>
          <p:nvPr/>
        </p:nvSpPr>
        <p:spPr>
          <a:xfrm>
            <a:off x="3059280" y="1125360"/>
            <a:ext cx="3095280" cy="1727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008000"/>
              </a:gs>
              <a:gs pos="100000">
                <a:srgbClr val="ff6600"/>
              </a:gs>
            </a:gsLst>
            <a:lin ang="54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Однород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чл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5"/>
          <p:cNvSpPr/>
          <p:nvPr/>
        </p:nvSpPr>
        <p:spPr>
          <a:xfrm>
            <a:off x="250920" y="2565360"/>
            <a:ext cx="3058920" cy="144000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50000">
                <a:srgbClr val="008000"/>
              </a:gs>
              <a:gs pos="100000">
                <a:srgbClr val="ffcc99"/>
              </a:gs>
            </a:gsLst>
            <a:lin ang="5400000"/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Отвечают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один и тот 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6"/>
          <p:cNvSpPr/>
          <p:nvPr/>
        </p:nvSpPr>
        <p:spPr>
          <a:xfrm>
            <a:off x="179280" y="4508640"/>
            <a:ext cx="3059280" cy="16570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50000">
                <a:srgbClr val="008000"/>
              </a:gs>
              <a:gs pos="100000">
                <a:srgbClr val="ffcc99"/>
              </a:gs>
            </a:gsLst>
            <a:lin ang="5400000"/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Явля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одним чле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7"/>
          <p:cNvSpPr/>
          <p:nvPr/>
        </p:nvSpPr>
        <p:spPr>
          <a:xfrm>
            <a:off x="5867280" y="2637000"/>
            <a:ext cx="3059280" cy="151272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50000">
                <a:srgbClr val="008000"/>
              </a:gs>
              <a:gs pos="100000">
                <a:srgbClr val="ffcc99"/>
              </a:gs>
            </a:gsLst>
            <a:lin ang="5400000"/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Обычно выраж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одной и той 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частью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8"/>
          <p:cNvSpPr/>
          <p:nvPr/>
        </p:nvSpPr>
        <p:spPr>
          <a:xfrm>
            <a:off x="2987640" y="5373720"/>
            <a:ext cx="3059280" cy="1187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50000">
                <a:srgbClr val="008000"/>
              </a:gs>
              <a:gs pos="100000">
                <a:srgbClr val="ffcc99"/>
              </a:gs>
            </a:gsLst>
            <a:lin ang="5400000"/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Произносятся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перечислите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интона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9"/>
          <p:cNvSpPr/>
          <p:nvPr/>
        </p:nvSpPr>
        <p:spPr>
          <a:xfrm>
            <a:off x="6081840" y="4437000"/>
            <a:ext cx="3062160" cy="180036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50000">
                <a:srgbClr val="008000"/>
              </a:gs>
              <a:gs pos="100000">
                <a:srgbClr val="ffcc99"/>
              </a:gs>
            </a:gsLst>
            <a:lin ang="5400000"/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Относятся к од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чл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0"/>
          <p:cNvSpPr/>
          <p:nvPr/>
        </p:nvSpPr>
        <p:spPr>
          <a:xfrm flipH="1">
            <a:off x="2700360" y="2349360"/>
            <a:ext cx="503280" cy="3589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1"/>
          <p:cNvSpPr/>
          <p:nvPr/>
        </p:nvSpPr>
        <p:spPr>
          <a:xfrm flipH="1">
            <a:off x="2700000" y="2708280"/>
            <a:ext cx="934920" cy="19461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2"/>
          <p:cNvSpPr/>
          <p:nvPr/>
        </p:nvSpPr>
        <p:spPr>
          <a:xfrm>
            <a:off x="4643280" y="2924280"/>
            <a:ext cx="0" cy="2376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3"/>
          <p:cNvSpPr/>
          <p:nvPr/>
        </p:nvSpPr>
        <p:spPr>
          <a:xfrm>
            <a:off x="5508720" y="2781360"/>
            <a:ext cx="934920" cy="201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4"/>
          <p:cNvSpPr/>
          <p:nvPr/>
        </p:nvSpPr>
        <p:spPr>
          <a:xfrm>
            <a:off x="6084720" y="2276640"/>
            <a:ext cx="574920" cy="504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698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98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3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1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9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3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7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500"/>
                            </p:stCondLst>
                            <p:childTnLst>
                              <p:par>
                                <p:cTn id="14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5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сставьте  знаки  в  схемах 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днородных  членов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  О  О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  и  О   О и О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 и О  и О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 а О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 но 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802800" y="2749320"/>
            <a:ext cx="7842600" cy="56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Вспомните постановку знаков препинания при однородных членах предложения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6932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,  О,  О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  и  О,   О и О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  и О,  и О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, а О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, но 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гадайте  загадку 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714" name="Picture 4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2808000" cy="277488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3419280" y="2361960"/>
            <a:ext cx="5724360" cy="372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  деревьями  куста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мелькнуло  быстро плам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мелькнуло  пробежал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т  ни  дыма  ни  пожара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черкните  все однородные                           члены  в  загадке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тавьте  знаки  препина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2:59:29Z</dcterms:created>
  <dc:creator>user3000</dc:creator>
  <dc:description/>
  <dc:language>en-US</dc:language>
  <cp:lastModifiedBy>Светлана</cp:lastModifiedBy>
  <dcterms:modified xsi:type="dcterms:W3CDTF">2020-04-08T15:14:23Z</dcterms:modified>
  <cp:revision>14</cp:revision>
  <dc:subject/>
  <dc:title>Седьмое декабря</dc:title>
</cp:coreProperties>
</file>