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DF9-B8CE-44CD-B2CD-7EBBB583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10D-C06F-4A1A-BD6B-992338D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20088-FF0C-4A62-9944-C08888C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462DE-DFA1-4DA1-B0EB-2D56DDD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3E5FA-A748-4BA0-93A3-DFC113E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DFCA-065B-40F4-A7FF-0FA0B24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462DA-C531-46E6-802C-7A712D8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7004D-D3C4-4598-9F17-668A18A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96E9B-7225-4D40-85C9-A9C8CC61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CB0F-B4C8-43BC-B921-185DA126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EDBD9-54DC-491E-BDD1-AA30002F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6AFA5-2E42-4262-B2C6-36738CC7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305-3D9A-4FB7-8743-3A804DAC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53D15-889F-4B47-94D7-EFD3369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F1E4-4ED2-4C1A-803A-A7A9F2C8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2D11F-577E-4136-9457-A8CBC7E3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4E650-DB83-4251-9840-FFDBF08C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A69DF-9DC0-48D1-A2C3-A6C8BE78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CED5-D49F-4B35-B29E-B0D1388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CD67F-AA97-443C-9F30-02BA739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9E1F9-16B4-44F8-9CE0-F061833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A04C8-F472-407E-9045-356B1D1E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2AE50-6ABF-4935-B935-9A386D12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F15-B97A-4DAA-8AC2-80ECF1E0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F9675-A4BB-4817-AB1A-491DB8ED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C391-13C7-4618-89F4-32B55F3D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1E99B-7256-45F5-9919-F4CB534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F814-E8EF-4B91-BE30-3B8781D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CECF2-4F4C-4EEC-B15C-64903A6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9F7A-39C5-439F-A4B0-129D112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0AA29-24A9-4DA3-8D88-AC4025A1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3B754-9687-405B-AAE9-8A1FF88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E6FF1-3178-452F-A687-E398356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9E0BF-1A3F-4599-8778-C0E9CBA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D60-B732-4E85-B927-D7D94EA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05B0-2793-4A44-A19C-C813CF0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8887F-1396-4EBD-8F1E-6B189614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2F88-CA31-45E8-ADBA-4C89B53D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014D3-C861-4C3F-9F24-087FE59A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80BAC-33B6-4D32-B8B4-AC9BCC72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02437-5DFC-479A-90EA-52E9BB1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67C96-1A32-4C7A-83A1-61A4921E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03C1-AB06-4A65-95FD-6355F318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2A329-A358-4906-B3DB-7B170E8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4C51D-066B-42FC-A7C9-AA747A2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4600-CDE3-4609-B329-DBE3B8B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A0F5D-8283-4D4F-B24E-207BEDE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D5849-AACD-492E-BA75-496EE4C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47358-E354-441D-88EE-58D4379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3AD9-B2CC-4C76-997C-404F172C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2A320-EAD0-44AE-B38D-DF398207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416-A042-4EF5-9C83-95655E9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2DF-4FB4-4087-B6F7-5E053772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F235-61C0-4C6F-8B9C-3BCDB277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FF00-CDEE-4496-8379-C90368DA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7A73-FDC3-45E8-AC02-A68CB61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43D-4F29-4DE7-8921-A3A1DEA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2E83-1C5F-4B64-A4D6-E16743B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647-77BB-4DB1-A9A0-19887F6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B61-31EC-40CA-A22D-5F1B382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88D-7285-4DD1-ABFA-59475DB2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51B-F341-4A66-9236-28918CE8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73B3-5ACE-45BB-ABAE-3AC351C1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3D9C-20D8-4C08-92D1-19DFCFD1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5C72-6C61-4CEF-9F3F-106319A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14E0-ABBB-47FE-9551-69B0651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B04B-1465-4CFE-A823-6F2D750B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8F3-2441-4A5A-B07C-C1F0FEE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4719-59C8-4095-BD8D-06D9B51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4F16-F223-4034-A28C-A635B92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72BB-C367-46F9-A2A0-7CF07AF8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FD54-D211-4BD1-9292-26310702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973A-61E9-4240-AFD8-E5B71C2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35A7-010D-459E-96AF-22916210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BEFA-5FC1-40B8-AE35-FDCE933A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2B57-AE5C-41DA-B5D0-58EB2CAE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4439-71AF-463F-BFE9-E0458F9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F0E3-BE06-472D-B8F6-F60591F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AE6-85E1-4FF3-8AA2-BF9C461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01EDE-17AD-4511-992B-3F5872A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EC2B-858B-406F-8C59-83EFC73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33BB-48E9-4520-BE88-95D60A8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C13C-60CC-4F40-A2B1-A6E17B2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3D7C-5AE1-4D00-974A-C48023DC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B90C-AF50-4153-806A-D81E665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93C4-C8BF-4980-9DDB-955EB888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A355-B446-4308-A99C-183C9D12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B7EE-D9C6-4593-A27E-3BD63D05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99EF-F059-4888-A5A4-AB24E24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55E-FA26-46D2-9C53-20CE413C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9848-5110-4062-8A51-EA36937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199C-387F-4D67-A363-E5A7B4E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BB2D-AA4D-4A67-BA2A-5EB8772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E780-EED9-4329-9322-3EF39A1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A939E-99E1-4724-895D-9FE17FBE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7813-E0EB-4BF5-967A-B8FB2D7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95B5-A9D4-49D7-BAC4-DD7C0A6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F9C5-7E5D-4A0C-AD3F-259FF5C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F01B-88E8-40D6-831B-056A02F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F2D3-1F5C-4041-B713-6EABFB6F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E87-67C9-47E6-A967-6B04E28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0CAB-543E-4476-9313-AF3FBB4F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CDB1-A977-4659-99E2-A9805B1E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51B1-ACFF-4EB0-931C-3BEEA13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C59B-F836-4A06-8720-9BB81D47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E521-8933-4F76-AEF8-C38A9D1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E557-ADDB-42E9-9153-F8D3215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0F07-6574-4AA9-B9A5-04633CE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AED5E-58C6-47C1-80B5-CAA0386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DCC0-9C70-479F-B437-1C6BA12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F4B9B-203C-4429-A82F-1C18899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72D-8A87-492B-82BE-D5C8ADC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485EF-092E-4647-A144-7547E33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010C-7D48-400C-888B-DF21E76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6CD1-422D-41EC-9D04-A7EB310C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F1CD-2BDA-4549-AFD8-1E695231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9AD60-7A1C-4FDA-A2BD-6E170CC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5EA2-EFFE-45E4-B48B-A865C24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4DD4-BB51-4FE0-8223-B5FFAE4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EAAB0-4AEF-4EB6-B3A7-4CD723EA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94AA-56EB-48E8-80D8-06C7B58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4BF7F-42B9-4A1D-8144-60C4E45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E91-9FC1-499C-9925-7182572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9C3D2-2BBE-452A-9C06-0C753BC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342F-AC57-41D7-B9AC-80CA165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E148-9D67-47B2-9D7C-CF20B5C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64E3-BE40-4734-860D-D648FDE0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82EE-04E6-468C-80EC-ADC460D9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302C-A27E-4BC9-B2A4-EDA2A43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FAF64-B6A9-4E1E-AC43-2917B6E2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1E3C-5C22-4ABA-8BDC-289B5316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B6BB-4B08-43D3-A701-98CFC8B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DEBD-AEC8-4A51-91ED-A3AC128E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13E-2222-4253-AE78-0F57411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3378-20DA-4D8C-AA9B-939B0888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4BF6-2BFA-4B60-BF50-E2E77F9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92FD-1F43-4C3E-9B72-E006FBF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914D-00CC-4AB7-9FBD-CF055EF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D7F61-1A24-4229-8953-69353D21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6BDF9-CD4B-4C8E-ABAC-2F18B389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0F25B-5716-4325-8CD9-19D2FCA4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C72A-D83E-4C38-B518-C374328C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2CF93-CD20-4630-921F-BA4F889C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7428E-8F7A-4E38-92EB-1B77413D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440-37B1-456D-B2A7-7D762A4D7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2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382F-BCEB-48EC-94C1-8640EA9CD36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6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9B2-2A2D-4940-A65B-1229C64FC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1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ACA-CBDF-4C35-8F5B-14E33493D22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309-19A9-4578-8EEE-0263108C3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ACC-0B95-4599-AD8E-656375A614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864-7EC0-4050-930E-516592B578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9579-6419-4DE7-A581-74BD23B1B4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7B46-BF77-4294-B775-68E90C74B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C17-D16D-4A18-BA3D-6220A62CD2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547-D2AB-49A6-9FCE-7C25A6EC80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2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2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376C-1906-4C04-9CD9-17D3950F03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Однородные члены предложения. Знаки препинания при однородных членах предложения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должите предлож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вечаю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являю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выражены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нося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произнося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те себ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вечают  на один и тот же вопр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являются одним и тем же членом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выражены одной и той же частью ре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носятся к одному члену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произносятся с перечислительной интон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Осторожно ветер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з калитки выш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стучал в окош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обежал по крыш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играл немног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етками черёму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журил за что-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оробьёв знаком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 расправил бод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олодые крыль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летел  куда-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перегонки с пылью.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ихаил Исаков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4" descr="деревня"/>
          <p:cNvPicPr/>
          <p:nvPr/>
        </p:nvPicPr>
        <p:blipFill>
          <a:blip r:embed="rId1"/>
          <a:stretch/>
        </p:blipFill>
        <p:spPr>
          <a:xfrm>
            <a:off x="3924360" y="112536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7"/>
          <p:cNvSpPr/>
          <p:nvPr/>
        </p:nvSpPr>
        <p:spPr>
          <a:xfrm>
            <a:off x="395280" y="40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стихотворение, расставив знаки препинания при однородных чле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Осторожно ветер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з калитки выше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стучал в окошк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обежал по крыш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играл нем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етками черёму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журил за что-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оробьёв знаком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 расправил бо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олодые крыль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летел  куда-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перегонки с пылью.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ихаил Исако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им вы себе представили образ ветра? Кого он напоминает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то необычного в этом стихотворении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лько в этом предложении сказуемых и сколько подлежащих они поясняют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какой вопрос они отвечают 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какой интонацией они читаютс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 называются подобные члены предложени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1115640" y="259920"/>
            <a:ext cx="7581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9900cc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етер  вышел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стучал, пробежал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играл, пожурил 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расправил, полетел</a:t>
            </a:r>
            <a:r>
              <a:rPr b="1" i="1" lang="ru-RU" sz="4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2484360" y="333360"/>
            <a:ext cx="1081080" cy="216000"/>
          </a:xfrm>
          <a:prstGeom prst="rect">
            <a:avLst/>
          </a:prstGeom>
          <a:noFill/>
          <a:ln w="9360">
            <a:solidFill>
              <a:srgbClr val="ffcc66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4427640" y="33336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1908000" y="191628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4716360" y="191628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835280" y="357336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4500720" y="3645000"/>
            <a:ext cx="122364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195640" y="515772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5003640" y="515772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2124000" y="1268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4140360" y="1268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4140360" y="141300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1258920" y="285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1258920" y="299736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4140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4140360" y="2997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1258920" y="450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1258920" y="465300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0"/>
          <p:cNvSpPr/>
          <p:nvPr/>
        </p:nvSpPr>
        <p:spPr>
          <a:xfrm>
            <a:off x="3851280" y="4508640"/>
            <a:ext cx="230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1"/>
          <p:cNvSpPr/>
          <p:nvPr/>
        </p:nvSpPr>
        <p:spPr>
          <a:xfrm>
            <a:off x="3851280" y="4653000"/>
            <a:ext cx="23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1332000" y="616572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1332000" y="630864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4572000" y="609300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>
            <a:off x="4572000" y="623736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Признаки однородных члено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Oval 4"/>
          <p:cNvSpPr/>
          <p:nvPr/>
        </p:nvSpPr>
        <p:spPr>
          <a:xfrm>
            <a:off x="3059280" y="1125360"/>
            <a:ext cx="3095280" cy="1727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008000"/>
              </a:gs>
              <a:gs pos="100000">
                <a:srgbClr val="ff6600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Одно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ч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250920" y="2565360"/>
            <a:ext cx="3058920" cy="144000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твечаю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ин и тот 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6"/>
          <p:cNvSpPr/>
          <p:nvPr/>
        </p:nvSpPr>
        <p:spPr>
          <a:xfrm>
            <a:off x="179280" y="4508640"/>
            <a:ext cx="3059280" cy="1657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ни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7"/>
          <p:cNvSpPr/>
          <p:nvPr/>
        </p:nvSpPr>
        <p:spPr>
          <a:xfrm>
            <a:off x="5867280" y="2637000"/>
            <a:ext cx="3059280" cy="151272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бычно выра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ной и той 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частью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"/>
          <p:cNvSpPr/>
          <p:nvPr/>
        </p:nvSpPr>
        <p:spPr>
          <a:xfrm>
            <a:off x="2987640" y="5373720"/>
            <a:ext cx="3059280" cy="1187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оизносятс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еречисли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интон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9"/>
          <p:cNvSpPr/>
          <p:nvPr/>
        </p:nvSpPr>
        <p:spPr>
          <a:xfrm>
            <a:off x="6081840" y="4437000"/>
            <a:ext cx="3062160" cy="18003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тносятся к од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ч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2700360" y="2349360"/>
            <a:ext cx="503280" cy="358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1"/>
          <p:cNvSpPr/>
          <p:nvPr/>
        </p:nvSpPr>
        <p:spPr>
          <a:xfrm flipH="1">
            <a:off x="2700000" y="2708280"/>
            <a:ext cx="934920" cy="19461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2"/>
          <p:cNvSpPr/>
          <p:nvPr/>
        </p:nvSpPr>
        <p:spPr>
          <a:xfrm>
            <a:off x="4643280" y="2924280"/>
            <a:ext cx="0" cy="2376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3"/>
          <p:cNvSpPr/>
          <p:nvPr/>
        </p:nvSpPr>
        <p:spPr>
          <a:xfrm>
            <a:off x="5508720" y="2781360"/>
            <a:ext cx="934920" cy="201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4"/>
          <p:cNvSpPr/>
          <p:nvPr/>
        </p:nvSpPr>
        <p:spPr>
          <a:xfrm>
            <a:off x="6084720" y="2276640"/>
            <a:ext cx="574920" cy="504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сставьте  знаки  в  схемах 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днородных  членов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О  О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 О   О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и О 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а О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но 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802800" y="2749320"/>
            <a:ext cx="7842600" cy="56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спомните постановку знаков препинания при однородных членах предложени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 О,  О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 О,   О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О, 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а О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но 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гадайте  загадку 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808000" cy="27748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419280" y="2361960"/>
            <a:ext cx="572436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  деревьями  куст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мелькнуло  быстро плам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мелькнуло  пробежал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  ни  дыма  ни  пожара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еркните  все однородные                           члены  в  загадке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тавьте  знаки  препин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2:59:29Z</dcterms:created>
  <dc:creator>user3000</dc:creator>
  <dc:description/>
  <dc:language>en-US</dc:language>
  <cp:lastModifiedBy>Светлана</cp:lastModifiedBy>
  <dcterms:modified xsi:type="dcterms:W3CDTF">2020-04-08T15:14:23Z</dcterms:modified>
  <cp:revision>14</cp:revision>
  <dc:subject/>
  <dc:title>Седьмое декабря</dc:title>
</cp:coreProperties>
</file>