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93F-BF93-4ECB-947D-5800ACAF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442-F9C2-4611-9248-168B1BC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B4E-4148-4FC6-B188-BE99944A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FCE-983B-4A64-A02B-041AC529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7B7-E02A-4307-A57B-37F5EF7B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F6D-7730-449E-8D1F-DB2537D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D4E-374C-4912-8258-77AF898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088-F64B-47C7-BF9A-48BB92E6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9BF-F10E-4C45-BE25-698ADEF9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1AB-8AE2-4520-ADB3-5C46AAD5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9CE-0EA0-4935-9A01-983237C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904-C33C-4D83-8019-927E91C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D68-F983-4B7E-9FB6-72AE66725E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351000">
            <a:off x="323640" y="1773360"/>
            <a:ext cx="81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892000"/>
                </a:gradFill>
                <a:latin typeface="Impact"/>
              </a:rPr>
              <a:t>аминокисл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892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. 37 выучить наизус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упр 10-13 стр.15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- 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14240" y="857160"/>
            <a:ext cx="7643880" cy="1524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57160" y="838080"/>
            <a:ext cx="7358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ческие соединения, в молекулах которых содержатся карбоксильная группа   СООН  и   аминогруппа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вязанные углеводородным радикалом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352680" y="2514600"/>
            <a:ext cx="5105520" cy="190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962520" y="2666880"/>
            <a:ext cx="396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ные карбоновых кислот, у которых атом Н в радикале замещен на аминогрупп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895480" y="4343400"/>
            <a:ext cx="62485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Н     уксусная кислот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 - СООН  аминоуксусная кисло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72120" y="5500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drop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Амино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риродн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Синтети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в живых организмах)         (синтезированы) протеиногенны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го около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незаменимые</a:t>
            </a: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около половины из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ют с пищ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интезируются в организ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92360" y="76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372360" y="76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692360" y="765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>
            <a:off x="1619280" y="1413000"/>
            <a:ext cx="2095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66294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547640" y="2492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2895120" y="2971800"/>
            <a:ext cx="297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590920" y="914400"/>
            <a:ext cx="4647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4876560" y="3213000"/>
            <a:ext cx="235908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H="1" flipV="1">
            <a:off x="228600" y="5028840"/>
            <a:ext cx="4648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04920" y="9144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102855512"/>
          <p:cNvPicPr/>
          <p:nvPr/>
        </p:nvPicPr>
        <p:blipFill>
          <a:blip r:embed="rId2"/>
          <a:stretch/>
        </p:blipFill>
        <p:spPr>
          <a:xfrm>
            <a:off x="971640" y="5373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Б/ц кристаллические вещества, температура плавления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200</a:t>
            </a:r>
            <a:r>
              <a:rPr b="1" lang="ru-RU" sz="2800" spc="-1" strike="noStrike" baseline="46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, растворимы, сладкие, горькие, безвкусные (от состава радика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2897280"/>
            <a:ext cx="8534160" cy="39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Аминокислоты – амфот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ак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 основа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евая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35600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editnews"/>
          <p:cNvPicPr/>
          <p:nvPr/>
        </p:nvPicPr>
        <p:blipFill>
          <a:blip r:embed="rId1"/>
          <a:stretch/>
        </p:blipFill>
        <p:spPr>
          <a:xfrm>
            <a:off x="2195640" y="4869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221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о спи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С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эфи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) Как осн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 кисло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 COOH +HCl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 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 COOH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водородная сол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34340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26672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34340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еакция поликонденс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– N – CH – C – 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H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N – CH – C –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 –  N – CH – C – … + H</a:t>
            </a:r>
            <a:r>
              <a:rPr b="1" lang="de-D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|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de-D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de-DE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ипепт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75438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6" descr="Рисунок2"/>
          <p:cNvPicPr/>
          <p:nvPr/>
        </p:nvPicPr>
        <p:blipFill>
          <a:blip r:embed="rId2"/>
          <a:stretch/>
        </p:blipFill>
        <p:spPr>
          <a:xfrm>
            <a:off x="7451640" y="3284640"/>
            <a:ext cx="1308240" cy="2952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7"/>
          <p:cNvSpPr/>
          <p:nvPr/>
        </p:nvSpPr>
        <p:spPr>
          <a:xfrm>
            <a:off x="395280" y="1628640"/>
            <a:ext cx="289080" cy="432000"/>
          </a:xfrm>
          <a:custGeom>
            <a:avLst/>
            <a:gdLst>
              <a:gd name="textAreaLeft" fmla="*/ 0 w 289080"/>
              <a:gd name="textAreaRight" fmla="*/ 202680 w 289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/>
          <p:cNvSpPr/>
          <p:nvPr/>
        </p:nvSpPr>
        <p:spPr>
          <a:xfrm flipH="1">
            <a:off x="6948360" y="1628640"/>
            <a:ext cx="503280" cy="432000"/>
          </a:xfrm>
          <a:custGeom>
            <a:avLst/>
            <a:gdLst>
              <a:gd name="textAreaLeft" fmla="*/ 360 w 503280"/>
              <a:gd name="textAreaRight" fmla="*/ 353520 w 50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3132000" y="1628640"/>
            <a:ext cx="1656000" cy="431640"/>
            <a:chOff x="3132000" y="1628640"/>
            <a:chExt cx="1656000" cy="431640"/>
          </a:xfrm>
        </p:grpSpPr>
        <p:sp>
          <p:nvSpPr>
            <p:cNvPr id="81" name="AutoShape 19"/>
            <p:cNvSpPr/>
            <p:nvPr/>
          </p:nvSpPr>
          <p:spPr>
            <a:xfrm>
              <a:off x="3132000" y="1628640"/>
              <a:ext cx="1656000" cy="431640"/>
            </a:xfrm>
            <a:prstGeom prst="bracketPair">
              <a:avLst>
                <a:gd name="adj" fmla="val 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 rot="5400000">
              <a:off x="3744000" y="1016280"/>
              <a:ext cx="431640" cy="1656000"/>
            </a:xfrm>
            <a:prstGeom prst="bracketPair">
              <a:avLst>
                <a:gd name="adj" fmla="val 28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║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 N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ептидная связ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менение аминокисл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пищев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а (глиц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б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304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362320" y="2286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4572000" y="2286000"/>
            <a:ext cx="2743200" cy="36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0" y="1773000"/>
            <a:ext cx="5364000" cy="20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 flipH="1">
            <a:off x="5364000" y="304920"/>
            <a:ext cx="1944720" cy="14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50920" y="5229360"/>
            <a:ext cx="4321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0" y="228600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0" y="2565360"/>
            <a:ext cx="2509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Рисунок1"/>
          <p:cNvPicPr/>
          <p:nvPr/>
        </p:nvPicPr>
        <p:blipFill>
          <a:blip r:embed="rId2"/>
          <a:stretch/>
        </p:blipFill>
        <p:spPr>
          <a:xfrm>
            <a:off x="250920" y="5400720"/>
            <a:ext cx="1452600" cy="14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Рисунок"/>
          <p:cNvPicPr/>
          <p:nvPr/>
        </p:nvPicPr>
        <p:blipFill>
          <a:blip r:embed="rId3"/>
          <a:stretch/>
        </p:blipFill>
        <p:spPr>
          <a:xfrm>
            <a:off x="7236000" y="3284640"/>
            <a:ext cx="1368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06г. Луи Воклен и Пьер Роб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 спаржи        выделили белое кристаллическое вещество – аспарагин (первая аминокислота, выделенная химиками из природных объект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48г. Рафаэль Пири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олиз аспарагина         аспарагин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-С-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-СО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43828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038480" y="396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>
            <a:off x="228600" y="304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28600" y="2209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228600" y="3200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286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228600" y="4038480"/>
            <a:ext cx="86104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962520" y="3200400"/>
            <a:ext cx="4800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3" descr="848558486"/>
          <p:cNvPicPr/>
          <p:nvPr/>
        </p:nvPicPr>
        <p:blipFill>
          <a:blip r:embed="rId2"/>
          <a:stretch/>
        </p:blipFill>
        <p:spPr>
          <a:xfrm>
            <a:off x="6732720" y="23493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817755643"/>
          <p:cNvPicPr/>
          <p:nvPr/>
        </p:nvPicPr>
        <p:blipFill>
          <a:blip r:embed="rId3"/>
          <a:stretch/>
        </p:blipFill>
        <p:spPr>
          <a:xfrm>
            <a:off x="5219640" y="551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909г. К. Ике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еные водоросли – усиливают аромат и вкус пищи – пищевые добав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621, Е 620, Е 622-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звать кислоту, записать уравнения реакций взаимодействия данной аминокислоты с кислотой, основанием, спир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 СН - СООН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С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 СООН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1722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ан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304560" y="404640"/>
            <a:ext cx="19080" cy="195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304920" y="2057040"/>
            <a:ext cx="8001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324000" y="380880"/>
            <a:ext cx="56196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8305920" y="692280"/>
            <a:ext cx="298440" cy="13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943600" y="380880"/>
            <a:ext cx="2666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три ученика"/>
          <p:cNvPicPr/>
          <p:nvPr/>
        </p:nvPicPr>
        <p:blipFill>
          <a:blip r:embed="rId2"/>
          <a:stretch/>
        </p:blipFill>
        <p:spPr>
          <a:xfrm>
            <a:off x="5651640" y="3933720"/>
            <a:ext cx="2233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4:36:45Z</dcterms:created>
  <dc:creator>Елена</dc:creator>
  <dc:description/>
  <dc:language>en-US</dc:language>
  <cp:lastModifiedBy>Lenovo</cp:lastModifiedBy>
  <dcterms:modified xsi:type="dcterms:W3CDTF">2020-04-08T11:30:29Z</dcterms:modified>
  <cp:revision>32</cp:revision>
  <dc:subject/>
  <dc:title>             АМИНОКИСЛОТЫ</dc:title>
</cp:coreProperties>
</file>