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E3C-C8EE-490E-8264-51990021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343-5123-4838-A329-074C8880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8F4-1C35-44EA-A357-50B19FC6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315-3F3D-40E4-ADC0-2D356BB6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82C-7635-418C-852B-25EC3643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CCD-46BF-4A25-AA6E-E1DE5615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BE0-C114-4585-927A-1000043F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B79-836F-4611-875E-246D9F31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FCF-6F49-4620-9567-ED9C9D1B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D14-F3E7-4946-B183-BD6ED618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640-BDA3-406E-9F65-412C4057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6C4-F12C-4A51-AB71-C30DD10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7F24-1A61-489D-AC20-B9E2787EFB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21351000">
            <a:off x="323640" y="1773360"/>
            <a:ext cx="81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9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892000"/>
                </a:gradFill>
                <a:latin typeface="Impact"/>
              </a:rPr>
              <a:t>аминокисло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892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. 37 выучить наизус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упр 10-13 стр.15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- 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714240" y="857160"/>
            <a:ext cx="7643880" cy="15242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857160" y="838080"/>
            <a:ext cx="73580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ческие соединения, в молекулах которых содержатся карбоксильная группа   СООН  и   аминогруппа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вязанные углеводородным радикалом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352680" y="2514600"/>
            <a:ext cx="5105520" cy="1905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962520" y="2666880"/>
            <a:ext cx="3962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зводные карбоновых кислот, у которых атом Н в радикале замещен на аминогрупп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2895480" y="4343400"/>
            <a:ext cx="624852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Н     уксусная кислота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 - СООН  аминоуксусная кисло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72120" y="5500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drop"/>
          <p:cNvPicPr/>
          <p:nvPr/>
        </p:nvPicPr>
        <p:blipFill>
          <a:blip r:embed="rId2"/>
          <a:stretch/>
        </p:blipFill>
        <p:spPr>
          <a:xfrm>
            <a:off x="324000" y="44370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Амино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Природны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Синтетическ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в живых организмах)         (синтезированы) протеиногенные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его около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незаменимые</a:t>
            </a: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около половины из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ают с пищ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синтезируются в организ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1692360" y="76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6372360" y="76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692360" y="7650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>
            <a:off x="1619280" y="1413000"/>
            <a:ext cx="2095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662940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1547640" y="2492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 flipH="1" flipV="1">
            <a:off x="2895120" y="2971800"/>
            <a:ext cx="297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2590920" y="914400"/>
            <a:ext cx="4647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4876560" y="3213000"/>
            <a:ext cx="235908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 flipH="1" flipV="1">
            <a:off x="228600" y="5028840"/>
            <a:ext cx="4648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304920" y="9144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102855512"/>
          <p:cNvPicPr/>
          <p:nvPr/>
        </p:nvPicPr>
        <p:blipFill>
          <a:blip r:embed="rId2"/>
          <a:stretch/>
        </p:blipFill>
        <p:spPr>
          <a:xfrm>
            <a:off x="971640" y="537372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Б/ц кристаллические вещества, температура плавления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&gt;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200</a:t>
            </a:r>
            <a:r>
              <a:rPr b="1" lang="ru-RU" sz="2800" spc="-1" strike="noStrike" baseline="46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, растворимы, сладкие, горькие, безвкусные (от состава радика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2897280"/>
            <a:ext cx="8534160" cy="3960720"/>
          </a:xfrm>
          <a:prstGeom prst="rect">
            <a:avLst/>
          </a:prstGeom>
          <a:solidFill>
            <a:srgbClr val="b2b2b2"/>
          </a:solidFill>
          <a:ln w="9360">
            <a:solidFill>
              <a:srgbClr val="ccffff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Аминокислоты – амфот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ак 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 основа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евая 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356000" y="45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editnews"/>
          <p:cNvPicPr/>
          <p:nvPr/>
        </p:nvPicPr>
        <p:blipFill>
          <a:blip r:embed="rId1"/>
          <a:stretch/>
        </p:blipFill>
        <p:spPr>
          <a:xfrm>
            <a:off x="2195640" y="486900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Физические св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2214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Химические св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со спир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С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овый эфи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) Как осн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 кисло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 COOH +HCl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 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H – COOH]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водородная сол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34340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4266720" y="99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434340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7200" y="30481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еакция поликонденс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– N – CH – C – 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H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N – CH – C –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 – C –  N – CH – C – … + H</a:t>
            </a:r>
            <a:r>
              <a:rPr b="1" lang="de-D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|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de-DE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de-DE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липепт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75438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6" descr="Рисунок2"/>
          <p:cNvPicPr/>
          <p:nvPr/>
        </p:nvPicPr>
        <p:blipFill>
          <a:blip r:embed="rId2"/>
          <a:stretch/>
        </p:blipFill>
        <p:spPr>
          <a:xfrm>
            <a:off x="7451640" y="3284640"/>
            <a:ext cx="1308240" cy="2952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7"/>
          <p:cNvSpPr/>
          <p:nvPr/>
        </p:nvSpPr>
        <p:spPr>
          <a:xfrm>
            <a:off x="395280" y="1628640"/>
            <a:ext cx="289080" cy="432000"/>
          </a:xfrm>
          <a:custGeom>
            <a:avLst/>
            <a:gdLst>
              <a:gd name="textAreaLeft" fmla="*/ 0 w 289080"/>
              <a:gd name="textAreaRight" fmla="*/ 202680 w 289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8"/>
          <p:cNvSpPr/>
          <p:nvPr/>
        </p:nvSpPr>
        <p:spPr>
          <a:xfrm flipH="1">
            <a:off x="6948360" y="1628640"/>
            <a:ext cx="503280" cy="432000"/>
          </a:xfrm>
          <a:custGeom>
            <a:avLst/>
            <a:gdLst>
              <a:gd name="textAreaLeft" fmla="*/ 360 w 503280"/>
              <a:gd name="textAreaRight" fmla="*/ 353520 w 503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21"/>
          <p:cNvGrpSpPr/>
          <p:nvPr/>
        </p:nvGrpSpPr>
        <p:grpSpPr>
          <a:xfrm>
            <a:off x="3132000" y="1628640"/>
            <a:ext cx="1656000" cy="431640"/>
            <a:chOff x="3132000" y="1628640"/>
            <a:chExt cx="1656000" cy="431640"/>
          </a:xfrm>
        </p:grpSpPr>
        <p:sp>
          <p:nvSpPr>
            <p:cNvPr id="81" name="AutoShape 19"/>
            <p:cNvSpPr/>
            <p:nvPr/>
          </p:nvSpPr>
          <p:spPr>
            <a:xfrm>
              <a:off x="3132000" y="1628640"/>
              <a:ext cx="1656000" cy="431640"/>
            </a:xfrm>
            <a:prstGeom prst="bracketPair">
              <a:avLst>
                <a:gd name="adj" fmla="val 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 rot="5400000">
              <a:off x="3744000" y="1016280"/>
              <a:ext cx="431640" cy="1656000"/>
            </a:xfrm>
            <a:prstGeom prst="bracketPair">
              <a:avLst>
                <a:gd name="adj" fmla="val 283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║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 N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ептидная связ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менение аминокисл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пищевая промышл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а (глиц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б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ая промышл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304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7"/>
          <p:cNvSpPr/>
          <p:nvPr/>
        </p:nvSpPr>
        <p:spPr>
          <a:xfrm>
            <a:off x="2362320" y="2286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4572000" y="2286000"/>
            <a:ext cx="2743200" cy="36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 flipV="1">
            <a:off x="0" y="1773000"/>
            <a:ext cx="5364000" cy="20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 flipH="1">
            <a:off x="5364000" y="304920"/>
            <a:ext cx="1944720" cy="14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250920" y="5229360"/>
            <a:ext cx="4321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0" y="2286000"/>
            <a:ext cx="2362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0" y="2565360"/>
            <a:ext cx="2509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Рисунок1"/>
          <p:cNvPicPr/>
          <p:nvPr/>
        </p:nvPicPr>
        <p:blipFill>
          <a:blip r:embed="rId2"/>
          <a:stretch/>
        </p:blipFill>
        <p:spPr>
          <a:xfrm>
            <a:off x="250920" y="5400720"/>
            <a:ext cx="1452600" cy="145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Рисунок"/>
          <p:cNvPicPr/>
          <p:nvPr/>
        </p:nvPicPr>
        <p:blipFill>
          <a:blip r:embed="rId3"/>
          <a:stretch/>
        </p:blipFill>
        <p:spPr>
          <a:xfrm>
            <a:off x="7236000" y="3284640"/>
            <a:ext cx="1368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06г. Луи Воклен и Пьер Роб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к спаржи        выделили белое кристаллическое вещество – аспарагин (первая аминокислота, выделенная химиками из природных объект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48г. Рафаэль Пири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дролиз аспарагина         аспарагинов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-С-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-СО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2438280" y="1066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038480" y="396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>
            <a:off x="228600" y="304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228600" y="2209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228600" y="3200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228600" y="32004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228600" y="4038480"/>
            <a:ext cx="86104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962520" y="3200400"/>
            <a:ext cx="4800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3" descr="848558486"/>
          <p:cNvPicPr/>
          <p:nvPr/>
        </p:nvPicPr>
        <p:blipFill>
          <a:blip r:embed="rId2"/>
          <a:stretch/>
        </p:blipFill>
        <p:spPr>
          <a:xfrm>
            <a:off x="6732720" y="234936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817755643"/>
          <p:cNvPicPr/>
          <p:nvPr/>
        </p:nvPicPr>
        <p:blipFill>
          <a:blip r:embed="rId3"/>
          <a:stretch/>
        </p:blipFill>
        <p:spPr>
          <a:xfrm>
            <a:off x="5219640" y="5516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909г. К. Ике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шеные водоросли – усиливают аромат и вкус пищи – пищевые добав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 621, Е 620, Е 622-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звать кислоту, записать уравнения реакций взаимодействия данной аминокислоты с кислотой, основанием, спирт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3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– СН - СООН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H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H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– С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-  СООН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172200" y="6019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ан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304560" y="404640"/>
            <a:ext cx="19080" cy="195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304920" y="2057040"/>
            <a:ext cx="8001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324000" y="380880"/>
            <a:ext cx="56196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8305920" y="692280"/>
            <a:ext cx="298440" cy="13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943600" y="380880"/>
            <a:ext cx="2666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три ученика"/>
          <p:cNvPicPr/>
          <p:nvPr/>
        </p:nvPicPr>
        <p:blipFill>
          <a:blip r:embed="rId2"/>
          <a:stretch/>
        </p:blipFill>
        <p:spPr>
          <a:xfrm>
            <a:off x="5651640" y="3933720"/>
            <a:ext cx="22334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04:36:45Z</dcterms:created>
  <dc:creator>Елена</dc:creator>
  <dc:description/>
  <dc:language>en-US</dc:language>
  <cp:lastModifiedBy>Lenovo</cp:lastModifiedBy>
  <dcterms:modified xsi:type="dcterms:W3CDTF">2020-04-08T11:30:29Z</dcterms:modified>
  <cp:revision>32</cp:revision>
  <dc:subject/>
  <dc:title>             АМИНОКИСЛОТЫ</dc:title>
</cp:coreProperties>
</file>