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185-A60F-4BFD-8EC7-A29479F4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524-ACFB-4A22-8748-787F4116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162-F70B-402F-BCC8-9EE0F9CD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34F-CA24-456C-A05E-496E906D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A8FA-30D4-4E75-AEA8-5E3590E8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E8DD-010B-4031-AC81-171C8325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BC19-DEAD-478E-AED9-2EAEAA98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0F3A-E930-458A-A0A0-D3D86357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24F2-BDC8-4CB9-B1EE-81D3B63A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03CE-3C17-4A2E-AA02-DF2ECC30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DC2C-207E-4DCE-9209-D8DBDAA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52D-91AE-44A3-8F83-F445BD54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D831-6384-4830-9E55-FAEB649C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2060-9B8E-4420-B304-268E75BB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4B7E-2B18-422C-8ADF-B1BBF1C2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7271-1C1D-4997-AD8B-9E1AF268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828D-8B77-4B3C-95B0-7F1A3615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94B3-BFA2-433C-AD82-969047F9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121E-79EC-4FE0-B99F-3BA5AC5A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1AF1-2768-4C47-8949-AAF55D3C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F893-C61F-4DE0-8F26-4F3FAC61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9506-246A-4EAA-8F91-219457E3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B5E-ECBA-4CD1-93AE-75F8CEA2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8C90-7111-4204-B8CE-891D8B7F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6860-6213-42D9-8247-27EC5D51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1FFF-FA5C-4234-9201-DC833309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948E-FBA1-4E45-8F5D-ABF6FF3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1815-E0DD-4E6F-BE68-47B39956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9066-4FD3-4D96-8240-D7211148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979A-1D5C-44B1-A085-41B49530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9059-AC27-4500-8FED-F56705BE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BD41-84AD-4F98-92E6-68C1615C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268B-EDB2-4177-8540-A1D24E79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84D-FA3B-47D4-AA55-08AB1751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D70D-ADFD-4541-9BAB-2C94984E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D8E3-6F06-41F7-81C9-9A88B2B4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9011-C7B5-4EBA-A8E1-37EFE8C1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6EF64-D28F-46DA-9F71-86E7C04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002C-D16A-4C54-AA80-8972AD81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4BFBA-0F14-4865-BFCF-E2F00D06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2E8E0-4DA0-4024-B3E7-9A348672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EDA1-F8D3-442D-B125-25562290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BCA2-D83D-4D3A-BB06-9EB544A4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C4494-254B-401E-91E6-29804EEAA7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317-B6E5-44F6-8D49-593D4FFF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54C3C-08AA-4244-87EF-3D778EDD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68698-2085-4884-8715-E50AD67F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DD160-D1A5-42E1-BCF6-DC632B80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7B42F-1F3C-40C8-A5EC-D3BC3747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35C49-C9EE-4179-93F4-E44FCEC8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23C9B-54BF-48EF-8432-F387F50E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E38C1-01F0-47C9-80E3-4E3CEABD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9901D-19F5-43EF-A198-E87DC22C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1A75E-6EDF-4B2F-A3BF-FF114B22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DD308-3430-4DC8-AC1D-37A3A957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697-2CC7-40C8-B6E7-8D23CDD1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92146-63D1-4C17-8BC1-BCFAAFA370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CF2-0C6D-40ED-81A7-8E675431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098-FA01-4888-A2C4-B56F978B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AA2-3F4D-4D43-B310-F533FE66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1" name="Oval 7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2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8580960" y="6312240"/>
                <a:ext cx="274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4" name="Oval 8"/>
            <p:cNvSpPr/>
            <p:nvPr/>
          </p:nvSpPr>
          <p:spPr>
            <a:xfrm>
              <a:off x="8560440" y="6291000"/>
              <a:ext cx="315720" cy="31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9240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9240c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8544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3A4B3-DF37-49EF-AD3C-5F593FDD133F}" type="slidenum">
              <a:rPr b="1" lang="ru-RU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Rectangle 6"/>
          <p:cNvGrpSpPr/>
          <p:nvPr/>
        </p:nvGrpSpPr>
        <p:grpSpPr>
          <a:xfrm>
            <a:off x="689040" y="1347840"/>
            <a:ext cx="7772040" cy="79200"/>
            <a:chOff x="689040" y="1347840"/>
            <a:chExt cx="7772040" cy="792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691920" y="1349280"/>
              <a:ext cx="776916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89040" y="1347840"/>
              <a:ext cx="77691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49" name="Rectangle 7"/>
          <p:cNvGrpSpPr/>
          <p:nvPr/>
        </p:nvGrpSpPr>
        <p:grpSpPr>
          <a:xfrm>
            <a:off x="689040" y="4286160"/>
            <a:ext cx="7772040" cy="77760"/>
            <a:chOff x="689040" y="4286160"/>
            <a:chExt cx="7772040" cy="77760"/>
          </a:xfrm>
        </p:grpSpPr>
        <p:pic>
          <p:nvPicPr>
            <p:cNvPr id="50" name="Rectangle 7" descr=""/>
            <p:cNvPicPr/>
            <p:nvPr/>
          </p:nvPicPr>
          <p:blipFill>
            <a:blip r:embed="rId3"/>
            <a:stretch/>
          </p:blipFill>
          <p:spPr>
            <a:xfrm>
              <a:off x="691920" y="4289040"/>
              <a:ext cx="7769160" cy="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9040" y="4286160"/>
              <a:ext cx="776916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2" name="Rectangle 8"/>
          <p:cNvGrpSpPr/>
          <p:nvPr/>
        </p:nvGrpSpPr>
        <p:grpSpPr>
          <a:xfrm>
            <a:off x="689040" y="1487520"/>
            <a:ext cx="7772040" cy="2742840"/>
            <a:chOff x="689040" y="1487520"/>
            <a:chExt cx="7772040" cy="2742840"/>
          </a:xfrm>
        </p:grpSpPr>
        <p:pic>
          <p:nvPicPr>
            <p:cNvPr id="53" name="Rectangle 8" descr=""/>
            <p:cNvPicPr/>
            <p:nvPr/>
          </p:nvPicPr>
          <p:blipFill>
            <a:blip r:embed="rId4"/>
            <a:stretch/>
          </p:blipFill>
          <p:spPr>
            <a:xfrm>
              <a:off x="691920" y="1490400"/>
              <a:ext cx="776916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89040" y="1487520"/>
              <a:ext cx="77691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7234200" y="4106880"/>
            <a:ext cx="914400" cy="914400"/>
            <a:chOff x="7234200" y="4106880"/>
            <a:chExt cx="914400" cy="914400"/>
          </a:xfrm>
        </p:grpSpPr>
        <p:grpSp>
          <p:nvGrpSpPr>
            <p:cNvPr id="56" name="Oval 10"/>
            <p:cNvGrpSpPr/>
            <p:nvPr/>
          </p:nvGrpSpPr>
          <p:grpSpPr>
            <a:xfrm>
              <a:off x="7234200" y="4106880"/>
              <a:ext cx="914400" cy="914400"/>
              <a:chOff x="7234200" y="4106880"/>
              <a:chExt cx="914400" cy="914400"/>
            </a:xfrm>
          </p:grpSpPr>
          <p:pic>
            <p:nvPicPr>
              <p:cNvPr id="57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4200" y="41068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7366320" y="4239000"/>
                <a:ext cx="64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59" name="Oval 11"/>
            <p:cNvSpPr/>
            <p:nvPr/>
          </p:nvSpPr>
          <p:spPr>
            <a:xfrm>
              <a:off x="7323840" y="4196160"/>
              <a:ext cx="731520" cy="731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9240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9240c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812880" y="6272280"/>
            <a:ext cx="474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243560" y="4227120"/>
            <a:ext cx="895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8F531-DC32-4FC9-96EF-C2CAE84F475B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Rectangle 6"/>
          <p:cNvGrpSpPr/>
          <p:nvPr/>
        </p:nvGrpSpPr>
        <p:grpSpPr>
          <a:xfrm>
            <a:off x="0" y="4919760"/>
            <a:ext cx="9144000" cy="1938240"/>
            <a:chOff x="0" y="4919760"/>
            <a:chExt cx="9144000" cy="1938240"/>
          </a:xfrm>
        </p:grpSpPr>
        <p:pic>
          <p:nvPicPr>
            <p:cNvPr id="10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914400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919760"/>
              <a:ext cx="91440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633240" y="2430360"/>
            <a:ext cx="914400" cy="914400"/>
            <a:chOff x="633240" y="2430360"/>
            <a:chExt cx="914400" cy="914400"/>
          </a:xfrm>
        </p:grpSpPr>
        <p:grpSp>
          <p:nvGrpSpPr>
            <p:cNvPr id="105" name="Oval 8"/>
            <p:cNvGrpSpPr/>
            <p:nvPr/>
          </p:nvGrpSpPr>
          <p:grpSpPr>
            <a:xfrm>
              <a:off x="633240" y="2430360"/>
              <a:ext cx="914400" cy="914400"/>
              <a:chOff x="633240" y="2430360"/>
              <a:chExt cx="914400" cy="914400"/>
            </a:xfrm>
          </p:grpSpPr>
          <p:pic>
            <p:nvPicPr>
              <p:cNvPr id="106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33240" y="243036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766440" y="2562480"/>
                <a:ext cx="64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8" name="Oval 9"/>
            <p:cNvSpPr/>
            <p:nvPr/>
          </p:nvSpPr>
          <p:spPr>
            <a:xfrm>
              <a:off x="723960" y="2519640"/>
              <a:ext cx="731520" cy="731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45080" y="6272280"/>
            <a:ext cx="198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9240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9240c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63620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6200" y="2508120"/>
            <a:ext cx="890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D60B0-CA52-48E6-BDDB-FBE373CD6401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7"/>
          <p:cNvGrpSpPr/>
          <p:nvPr/>
        </p:nvGrpSpPr>
        <p:grpSpPr>
          <a:xfrm>
            <a:off x="6229440" y="0"/>
            <a:ext cx="2914560" cy="6858000"/>
            <a:chOff x="6229440" y="0"/>
            <a:chExt cx="2914560" cy="6858000"/>
          </a:xfrm>
        </p:grpSpPr>
        <p:pic>
          <p:nvPicPr>
            <p:cNvPr id="151" name="Rectangle 7" descr=""/>
            <p:cNvPicPr/>
            <p:nvPr/>
          </p:nvPicPr>
          <p:blipFill>
            <a:blip r:embed="rId2"/>
            <a:stretch/>
          </p:blipFill>
          <p:spPr>
            <a:xfrm>
              <a:off x="6230880" y="0"/>
              <a:ext cx="2912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229440" y="0"/>
              <a:ext cx="29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154" name="Oval 12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155" name="Oval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8580960" y="6312240"/>
                <a:ext cx="274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>
              <a:off x="8560440" y="6291000"/>
              <a:ext cx="315720" cy="31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9240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9240c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8544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62A51-0139-434F-B50F-237B3EE6C2EE}" type="slidenum">
              <a:rPr b="1" lang="ru-RU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10"/>
          <p:cNvGrpSpPr/>
          <p:nvPr/>
        </p:nvGrpSpPr>
        <p:grpSpPr>
          <a:xfrm>
            <a:off x="6229440" y="0"/>
            <a:ext cx="2914560" cy="6858000"/>
            <a:chOff x="6229440" y="0"/>
            <a:chExt cx="2914560" cy="6858000"/>
          </a:xfrm>
        </p:grpSpPr>
        <p:pic>
          <p:nvPicPr>
            <p:cNvPr id="200" name="Rectangle 10" descr=""/>
            <p:cNvPicPr/>
            <p:nvPr/>
          </p:nvPicPr>
          <p:blipFill>
            <a:blip r:embed="rId2"/>
            <a:stretch/>
          </p:blipFill>
          <p:spPr>
            <a:xfrm>
              <a:off x="6230880" y="0"/>
              <a:ext cx="2912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229440" y="0"/>
              <a:ext cx="29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203" name="Oval 12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204" name="Oval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8580960" y="6312240"/>
                <a:ext cx="274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6" name="Oval 13"/>
            <p:cNvSpPr/>
            <p:nvPr/>
          </p:nvSpPr>
          <p:spPr>
            <a:xfrm>
              <a:off x="8560440" y="6291000"/>
              <a:ext cx="315720" cy="31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9240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9240c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C6F85-C59D-41E1-9A3C-3AC005E903AB}" type="slidenum">
              <a:rPr b="1" lang="ru-RU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рямоугольник 3" descr=""/>
          <p:cNvPicPr/>
          <p:nvPr/>
        </p:nvPicPr>
        <p:blipFill>
          <a:blip r:embed="rId1"/>
          <a:stretch/>
        </p:blipFill>
        <p:spPr>
          <a:xfrm>
            <a:off x="281160" y="189000"/>
            <a:ext cx="8581680" cy="10904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" descr=""/>
          <p:cNvPicPr/>
          <p:nvPr/>
        </p:nvPicPr>
        <p:blipFill>
          <a:blip r:embed="rId2"/>
          <a:srcRect l="11728" t="6225" r="8787" b="12744"/>
          <a:stretch/>
        </p:blipFill>
        <p:spPr>
          <a:xfrm>
            <a:off x="1477800" y="1341360"/>
            <a:ext cx="6461280" cy="4938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12600"/>
            <a:ext cx="8217000" cy="1219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ав-то-бус –  автобус верб-люд –  верблюд гип-по-по-там – гиппопотам дель-фин –  дельфин вполз-ти –  вползти на-воз-ный –  навозный про-вор-ча-ла –  проворчала за-спо-ри-ла –  заспорила пос-со-рил-ся –  поссорился про-жуж-жал – прожужжал  "/>
          <p:cNvPicPr/>
          <p:nvPr/>
        </p:nvPicPr>
        <p:blipFill>
          <a:blip r:embed="rId2"/>
          <a:srcRect l="2398" t="2748" r="11020" b="9055"/>
          <a:stretch/>
        </p:blipFill>
        <p:spPr>
          <a:xfrm>
            <a:off x="1692360" y="1268280"/>
            <a:ext cx="6048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  Прочтите чистоговорку:  Ро-ро-ро – на полу стоит ведро. Ор-ор-ор – подмели мы двор. Арь-арь-арь – на стене висит фонарь.  – Прочтите слоги на одном выдохе:  на-ня-ла-ля са-ся-за-зя ба – бя – да – дя "/>
          <p:cNvPicPr/>
          <p:nvPr/>
        </p:nvPicPr>
        <p:blipFill>
          <a:blip r:embed="rId1"/>
          <a:srcRect l="2752" t="0" r="9839" b="48425"/>
          <a:stretch/>
        </p:blipFill>
        <p:spPr>
          <a:xfrm>
            <a:off x="1042920" y="981000"/>
            <a:ext cx="6956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g_1" descr="95642654"/>
          <p:cNvPicPr/>
          <p:nvPr/>
        </p:nvPicPr>
        <p:blipFill>
          <a:blip r:embed="rId1"/>
          <a:stretch/>
        </p:blipFill>
        <p:spPr>
          <a:xfrm>
            <a:off x="330120" y="115920"/>
            <a:ext cx="2381400" cy="3313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3780000" y="404640"/>
            <a:ext cx="49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  <a:ea typeface="Arial"/>
              </a:rPr>
              <a:t>Самуил Яковлевич Маршак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1046160" y="4221000"/>
            <a:ext cx="74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октября (3 ноября н.с.) 1887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Воронеже в семье заводского техника,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антливого изобретателя.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4356000" y="2070000"/>
            <a:ext cx="46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усский советский поэт, редактор, переводчик, драматург, литературный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итик.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rcRect l="7159" t="0" r="0" b="0"/>
          <a:stretch/>
        </p:blipFill>
        <p:spPr>
          <a:xfrm>
            <a:off x="179280" y="135000"/>
            <a:ext cx="4434120" cy="65530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"/>
          <p:cNvPicPr/>
          <p:nvPr/>
        </p:nvPicPr>
        <p:blipFill>
          <a:blip r:embed="rId2"/>
          <a:srcRect l="8455" t="0" r="0" b="0"/>
          <a:stretch/>
        </p:blipFill>
        <p:spPr>
          <a:xfrm>
            <a:off x="4613400" y="109440"/>
            <a:ext cx="434016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Cambria"/>
              </a:rPr>
              <a:t>ПРИДУМАЙТЕ АЗБУКУ ЦВЕТОВ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А- астра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 –бегония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- васильки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Г-…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-…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На какие буквы нельзя придумать названия цветов?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60" name="Picture 2" descr="C:\Users\user\Downloads\easy-flowers-to-draw-how-to-draw-easy-flowers-step-step-flowers-pop-culture-free-1-768x704.jpg"/>
          <p:cNvPicPr/>
          <p:nvPr/>
        </p:nvPicPr>
        <p:blipFill>
          <a:blip r:embed="rId1"/>
          <a:srcRect l="0" t="0" r="0" b="4998"/>
          <a:stretch/>
        </p:blipFill>
        <p:spPr>
          <a:xfrm>
            <a:off x="4572000" y="1857240"/>
            <a:ext cx="3117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2" descr=""/>
          <p:cNvPicPr/>
          <p:nvPr/>
        </p:nvPicPr>
        <p:blipFill>
          <a:blip r:embed="rId1"/>
          <a:srcRect l="12643" t="21105" r="0" b="46226"/>
          <a:stretch/>
        </p:blipFill>
        <p:spPr>
          <a:xfrm>
            <a:off x="571680" y="1500120"/>
            <a:ext cx="7868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258920" y="1197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4:22:51Z</dcterms:created>
  <dc:creator>Синецкая Г.Г.</dc:creator>
  <dc:description/>
  <dc:language>en-US</dc:language>
  <cp:lastModifiedBy>АРСЕНТЬЕВЫ</cp:lastModifiedBy>
  <dcterms:modified xsi:type="dcterms:W3CDTF">2020-04-08T17:22:30Z</dcterms:modified>
  <cp:revision>33</cp:revision>
  <dc:subject/>
  <dc:title>Презентация PowerPoint</dc:title>
</cp:coreProperties>
</file>