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6F65-F84E-42ED-8952-6BF532AF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9E3C-24A8-40AA-9ACB-F9F5C28C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00BD-AB81-47FD-BDA5-DA176DEB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B6A-2719-4410-A105-E14BAA8B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3595-27C1-43DB-BF93-6404EB72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A82A-7581-4114-914B-CFFA022D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D89A-4A4D-459B-A5DC-17206630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F4EC-727A-4B13-B644-65F95F68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E84F-B295-4620-91A5-52080C0F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83840"/>
            <a:ext cx="7772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4467-FF6E-476D-BC8E-915E17A1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D804-4485-4705-A6C1-A8845D8A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B96F-0184-419D-B1B8-3BB2ECDE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BDB2-C1E4-4BDB-A72F-32933AD4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337B-557D-4C9C-8E3D-66496893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B08E-21FC-4AD4-8841-54D0F4B6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39FC-889C-4A86-BB36-4EA5D678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F24E-4585-4D70-A26E-2AE74565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5F3C3-337B-4625-A0DD-E525CF04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F6898-CD38-490B-8EEC-31EFABDF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EEA1F-B2EC-4255-9641-5ED5DD6B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7753F-0869-447B-9EB5-729B7E73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0ECCE-B296-41A1-BD79-782491AC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E1D5-661B-46DA-808D-98A1B157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800" y="483840"/>
            <a:ext cx="7772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2C978-F516-4EE2-89B3-ED3D3047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F7641-5EBD-4B52-9EFE-1DBA616D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DBA27-CBA1-4906-856C-66166BBB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A6B29-7299-46EA-8D15-481303C2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B5BE8-E51D-4A20-B6EC-ADA569B2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398B7-16B6-429F-B14E-FBABA5EE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13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4144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13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4144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E2D09-B62D-43B4-A61C-A27A657F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F8C06-4194-4370-9642-CECDFB55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DC919-9BBD-44F6-8557-FA68D64E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75F52-BC57-41D7-9CE0-AF77F040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2A52-699C-47A2-87B7-E08E31E4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9FB4C-6909-4D3F-B092-FBDA34D4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48CC8-8F4F-41EE-B381-49C47056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483840"/>
            <a:ext cx="7772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BB746-A64B-41FA-AEDB-69C76160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2288E-93E2-4EA2-AADF-F595DB8C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27AA6-1FF3-447E-9C5C-6A0683E5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E9E87-FC09-478A-B3F0-33F5753A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791B2-4049-4AB1-93CA-44F3203A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4F371-8825-4C2B-A67D-C2861141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75C52-BD24-4367-B3BB-EA18950B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C83CA4-F662-4ADF-AAB0-37CCDB1743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9B0A-D118-40F7-9FF4-C52A15BD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369DA1-65AC-4D24-88DA-151F90DF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168360-1DEC-44E2-9B71-FA6CF02C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FF9EBA-FB4D-4921-B8CE-4C084AE5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03F103-DA31-4F42-A620-B1991FC7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483840"/>
            <a:ext cx="7772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1FF670-0636-4D1E-BCD7-E2324E22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76B06F-11DB-41C1-97E7-8FACF372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9FAA2D-7D8D-43FA-91F4-369235AE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25459-34B2-46A0-8930-914C8758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1A9E16-58D0-417A-99DB-F624DB7D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E5998B-91C1-4A64-ACE2-00D22953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483840"/>
            <a:ext cx="7772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2AA0-6C8E-4A2D-8367-E72D7119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D73A3F-CAAE-4BA3-864E-14F9272663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B404-5928-4E97-8FFB-5650B6B7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99D1-D324-460F-AE1E-69A62849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543A-56D5-4F84-AEC7-ED978BC1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8523360" y="6254640"/>
            <a:ext cx="392040" cy="393840"/>
            <a:chOff x="8523360" y="6254640"/>
            <a:chExt cx="392040" cy="393840"/>
          </a:xfrm>
        </p:grpSpPr>
        <p:grpSp>
          <p:nvGrpSpPr>
            <p:cNvPr id="1" name="Oval 7"/>
            <p:cNvGrpSpPr/>
            <p:nvPr/>
          </p:nvGrpSpPr>
          <p:grpSpPr>
            <a:xfrm>
              <a:off x="8523360" y="6254640"/>
              <a:ext cx="392040" cy="393840"/>
              <a:chOff x="8523360" y="6254640"/>
              <a:chExt cx="392040" cy="393840"/>
            </a:xfrm>
          </p:grpSpPr>
          <p:pic>
            <p:nvPicPr>
              <p:cNvPr id="2" name="Oval 7" descr=""/>
              <p:cNvPicPr/>
              <p:nvPr/>
            </p:nvPicPr>
            <p:blipFill>
              <a:blip r:embed="rId2"/>
              <a:stretch/>
            </p:blipFill>
            <p:spPr>
              <a:xfrm>
                <a:off x="8523360" y="6254640"/>
                <a:ext cx="39204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8580960" y="6312240"/>
                <a:ext cx="27432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4" name="Oval 8"/>
            <p:cNvSpPr/>
            <p:nvPr/>
          </p:nvSpPr>
          <p:spPr>
            <a:xfrm>
              <a:off x="8560440" y="6291000"/>
              <a:ext cx="315720" cy="318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5992560" y="6272280"/>
            <a:ext cx="245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69240c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69240c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685440" y="6272280"/>
            <a:ext cx="474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48340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1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C8E836-E632-46C8-B0C2-2444F2EE8B56}" type="slidenum">
              <a:rPr b="1" lang="ru-RU" sz="11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Rectangle 6"/>
          <p:cNvGrpSpPr/>
          <p:nvPr/>
        </p:nvGrpSpPr>
        <p:grpSpPr>
          <a:xfrm>
            <a:off x="689040" y="1347840"/>
            <a:ext cx="7772040" cy="79200"/>
            <a:chOff x="689040" y="1347840"/>
            <a:chExt cx="7772040" cy="79200"/>
          </a:xfrm>
        </p:grpSpPr>
        <p:pic>
          <p:nvPicPr>
            <p:cNvPr id="47" name="Rectangle 6" descr=""/>
            <p:cNvPicPr/>
            <p:nvPr/>
          </p:nvPicPr>
          <p:blipFill>
            <a:blip r:embed="rId2"/>
            <a:stretch/>
          </p:blipFill>
          <p:spPr>
            <a:xfrm>
              <a:off x="691920" y="1349280"/>
              <a:ext cx="7769160" cy="7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689040" y="1347840"/>
              <a:ext cx="776916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49" name="Rectangle 7"/>
          <p:cNvGrpSpPr/>
          <p:nvPr/>
        </p:nvGrpSpPr>
        <p:grpSpPr>
          <a:xfrm>
            <a:off x="689040" y="4286160"/>
            <a:ext cx="7772040" cy="77760"/>
            <a:chOff x="689040" y="4286160"/>
            <a:chExt cx="7772040" cy="77760"/>
          </a:xfrm>
        </p:grpSpPr>
        <p:pic>
          <p:nvPicPr>
            <p:cNvPr id="50" name="Rectangle 7" descr=""/>
            <p:cNvPicPr/>
            <p:nvPr/>
          </p:nvPicPr>
          <p:blipFill>
            <a:blip r:embed="rId3"/>
            <a:stretch/>
          </p:blipFill>
          <p:spPr>
            <a:xfrm>
              <a:off x="691920" y="4289040"/>
              <a:ext cx="7769160" cy="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89040" y="4286160"/>
              <a:ext cx="776916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52" name="Rectangle 8"/>
          <p:cNvGrpSpPr/>
          <p:nvPr/>
        </p:nvGrpSpPr>
        <p:grpSpPr>
          <a:xfrm>
            <a:off x="689040" y="1487520"/>
            <a:ext cx="7772040" cy="2742840"/>
            <a:chOff x="689040" y="1487520"/>
            <a:chExt cx="7772040" cy="2742840"/>
          </a:xfrm>
        </p:grpSpPr>
        <p:pic>
          <p:nvPicPr>
            <p:cNvPr id="53" name="Rectangle 8" descr=""/>
            <p:cNvPicPr/>
            <p:nvPr/>
          </p:nvPicPr>
          <p:blipFill>
            <a:blip r:embed="rId4"/>
            <a:stretch/>
          </p:blipFill>
          <p:spPr>
            <a:xfrm>
              <a:off x="691920" y="1490400"/>
              <a:ext cx="7769160" cy="27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89040" y="1487520"/>
              <a:ext cx="7769160" cy="27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55" name="Group 9"/>
          <p:cNvGrpSpPr/>
          <p:nvPr/>
        </p:nvGrpSpPr>
        <p:grpSpPr>
          <a:xfrm>
            <a:off x="7234200" y="4106880"/>
            <a:ext cx="914400" cy="914400"/>
            <a:chOff x="7234200" y="4106880"/>
            <a:chExt cx="914400" cy="914400"/>
          </a:xfrm>
        </p:grpSpPr>
        <p:grpSp>
          <p:nvGrpSpPr>
            <p:cNvPr id="56" name="Oval 10"/>
            <p:cNvGrpSpPr/>
            <p:nvPr/>
          </p:nvGrpSpPr>
          <p:grpSpPr>
            <a:xfrm>
              <a:off x="7234200" y="4106880"/>
              <a:ext cx="914400" cy="914400"/>
              <a:chOff x="7234200" y="4106880"/>
              <a:chExt cx="914400" cy="914400"/>
            </a:xfrm>
          </p:grpSpPr>
          <p:pic>
            <p:nvPicPr>
              <p:cNvPr id="57" name="Oval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7234200" y="41068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7366320" y="4239000"/>
                <a:ext cx="646560" cy="64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59" name="Oval 11"/>
            <p:cNvSpPr/>
            <p:nvPr/>
          </p:nvSpPr>
          <p:spPr>
            <a:xfrm>
              <a:off x="7323840" y="4196160"/>
              <a:ext cx="731520" cy="7315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5992560" y="6272280"/>
            <a:ext cx="245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69240c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69240c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812880" y="6272280"/>
            <a:ext cx="474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243560" y="4227120"/>
            <a:ext cx="895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28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275B38-F478-4FF7-A5BA-91C7932187AE}" type="slidenum">
              <a:rPr b="1" lang="ru-RU" sz="28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Rectangle 6"/>
          <p:cNvGrpSpPr/>
          <p:nvPr/>
        </p:nvGrpSpPr>
        <p:grpSpPr>
          <a:xfrm>
            <a:off x="0" y="4919760"/>
            <a:ext cx="9144000" cy="1938240"/>
            <a:chOff x="0" y="4919760"/>
            <a:chExt cx="9144000" cy="1938240"/>
          </a:xfrm>
        </p:grpSpPr>
        <p:pic>
          <p:nvPicPr>
            <p:cNvPr id="102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4921200"/>
              <a:ext cx="9144000" cy="19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4919760"/>
              <a:ext cx="914400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104" name="Group 7"/>
          <p:cNvGrpSpPr/>
          <p:nvPr/>
        </p:nvGrpSpPr>
        <p:grpSpPr>
          <a:xfrm>
            <a:off x="633240" y="2430360"/>
            <a:ext cx="914400" cy="914400"/>
            <a:chOff x="633240" y="2430360"/>
            <a:chExt cx="914400" cy="914400"/>
          </a:xfrm>
        </p:grpSpPr>
        <p:grpSp>
          <p:nvGrpSpPr>
            <p:cNvPr id="105" name="Oval 8"/>
            <p:cNvGrpSpPr/>
            <p:nvPr/>
          </p:nvGrpSpPr>
          <p:grpSpPr>
            <a:xfrm>
              <a:off x="633240" y="2430360"/>
              <a:ext cx="914400" cy="914400"/>
              <a:chOff x="633240" y="2430360"/>
              <a:chExt cx="914400" cy="914400"/>
            </a:xfrm>
          </p:grpSpPr>
          <p:pic>
            <p:nvPicPr>
              <p:cNvPr id="106" name="Oval 8" descr=""/>
              <p:cNvPicPr/>
              <p:nvPr/>
            </p:nvPicPr>
            <p:blipFill>
              <a:blip r:embed="rId3"/>
              <a:stretch/>
            </p:blipFill>
            <p:spPr>
              <a:xfrm>
                <a:off x="633240" y="243036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766440" y="2562480"/>
                <a:ext cx="646560" cy="64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108" name="Oval 9"/>
            <p:cNvSpPr/>
            <p:nvPr/>
          </p:nvSpPr>
          <p:spPr>
            <a:xfrm>
              <a:off x="723960" y="2519640"/>
              <a:ext cx="731520" cy="7315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445080" y="6272280"/>
            <a:ext cx="198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69240c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69240c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636200" y="6272280"/>
            <a:ext cx="474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46200" y="2508120"/>
            <a:ext cx="890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28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16893-961A-49DE-B3CE-3F28C34F3825}" type="slidenum">
              <a:rPr b="1" lang="ru-RU" sz="28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Rectangle 7"/>
          <p:cNvGrpSpPr/>
          <p:nvPr/>
        </p:nvGrpSpPr>
        <p:grpSpPr>
          <a:xfrm>
            <a:off x="6229440" y="0"/>
            <a:ext cx="2914560" cy="6858000"/>
            <a:chOff x="6229440" y="0"/>
            <a:chExt cx="2914560" cy="6858000"/>
          </a:xfrm>
        </p:grpSpPr>
        <p:pic>
          <p:nvPicPr>
            <p:cNvPr id="151" name="Rectangle 7" descr=""/>
            <p:cNvPicPr/>
            <p:nvPr/>
          </p:nvPicPr>
          <p:blipFill>
            <a:blip r:embed="rId2"/>
            <a:stretch/>
          </p:blipFill>
          <p:spPr>
            <a:xfrm>
              <a:off x="6230880" y="0"/>
              <a:ext cx="29127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229440" y="0"/>
              <a:ext cx="2914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8523360" y="6254640"/>
            <a:ext cx="392040" cy="393840"/>
            <a:chOff x="8523360" y="6254640"/>
            <a:chExt cx="392040" cy="393840"/>
          </a:xfrm>
        </p:grpSpPr>
        <p:grpSp>
          <p:nvGrpSpPr>
            <p:cNvPr id="154" name="Oval 12"/>
            <p:cNvGrpSpPr/>
            <p:nvPr/>
          </p:nvGrpSpPr>
          <p:grpSpPr>
            <a:xfrm>
              <a:off x="8523360" y="6254640"/>
              <a:ext cx="392040" cy="393840"/>
              <a:chOff x="8523360" y="6254640"/>
              <a:chExt cx="392040" cy="393840"/>
            </a:xfrm>
          </p:grpSpPr>
          <p:pic>
            <p:nvPicPr>
              <p:cNvPr id="155" name="Oval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8523360" y="6254640"/>
                <a:ext cx="39204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"/>
              <p:cNvSpPr/>
              <p:nvPr/>
            </p:nvSpPr>
            <p:spPr>
              <a:xfrm>
                <a:off x="8580960" y="6312240"/>
                <a:ext cx="27432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157" name="Oval 13"/>
            <p:cNvSpPr/>
            <p:nvPr/>
          </p:nvSpPr>
          <p:spPr>
            <a:xfrm>
              <a:off x="8560440" y="6291000"/>
              <a:ext cx="315720" cy="318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5992560" y="6272280"/>
            <a:ext cx="245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69240c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69240c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685440" y="6272280"/>
            <a:ext cx="474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848340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1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BA19C-BF48-44B5-8EE0-FC84F2E85DEA}" type="slidenum">
              <a:rPr b="1" lang="ru-RU" sz="11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Rectangle 10"/>
          <p:cNvGrpSpPr/>
          <p:nvPr/>
        </p:nvGrpSpPr>
        <p:grpSpPr>
          <a:xfrm>
            <a:off x="6229440" y="0"/>
            <a:ext cx="2914560" cy="6858000"/>
            <a:chOff x="6229440" y="0"/>
            <a:chExt cx="2914560" cy="6858000"/>
          </a:xfrm>
        </p:grpSpPr>
        <p:pic>
          <p:nvPicPr>
            <p:cNvPr id="200" name="Rectangle 10" descr=""/>
            <p:cNvPicPr/>
            <p:nvPr/>
          </p:nvPicPr>
          <p:blipFill>
            <a:blip r:embed="rId2"/>
            <a:stretch/>
          </p:blipFill>
          <p:spPr>
            <a:xfrm>
              <a:off x="6230880" y="0"/>
              <a:ext cx="29127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229440" y="0"/>
              <a:ext cx="2914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202" name="Group 11"/>
          <p:cNvGrpSpPr/>
          <p:nvPr/>
        </p:nvGrpSpPr>
        <p:grpSpPr>
          <a:xfrm>
            <a:off x="8523360" y="6254640"/>
            <a:ext cx="392040" cy="393840"/>
            <a:chOff x="8523360" y="6254640"/>
            <a:chExt cx="392040" cy="393840"/>
          </a:xfrm>
        </p:grpSpPr>
        <p:grpSp>
          <p:nvGrpSpPr>
            <p:cNvPr id="203" name="Oval 12"/>
            <p:cNvGrpSpPr/>
            <p:nvPr/>
          </p:nvGrpSpPr>
          <p:grpSpPr>
            <a:xfrm>
              <a:off x="8523360" y="6254640"/>
              <a:ext cx="392040" cy="393840"/>
              <a:chOff x="8523360" y="6254640"/>
              <a:chExt cx="392040" cy="393840"/>
            </a:xfrm>
          </p:grpSpPr>
          <p:pic>
            <p:nvPicPr>
              <p:cNvPr id="204" name="Oval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8523360" y="6254640"/>
                <a:ext cx="39204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8580960" y="6312240"/>
                <a:ext cx="27432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206" name="Oval 13"/>
            <p:cNvSpPr/>
            <p:nvPr/>
          </p:nvSpPr>
          <p:spPr>
            <a:xfrm>
              <a:off x="8560440" y="6291000"/>
              <a:ext cx="315720" cy="318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5992560" y="6272280"/>
            <a:ext cx="245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69240c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69240c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4"/>
          </p:nvPr>
        </p:nvSpPr>
        <p:spPr>
          <a:xfrm>
            <a:off x="848340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1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FB13C-8413-4312-80CA-1E798FBBC8A5}" type="slidenum">
              <a:rPr b="1" lang="ru-RU" sz="11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Прямоугольник 3" descr=""/>
          <p:cNvPicPr/>
          <p:nvPr/>
        </p:nvPicPr>
        <p:blipFill>
          <a:blip r:embed="rId1"/>
          <a:stretch/>
        </p:blipFill>
        <p:spPr>
          <a:xfrm>
            <a:off x="281160" y="189000"/>
            <a:ext cx="8581680" cy="10904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2" descr=""/>
          <p:cNvPicPr/>
          <p:nvPr/>
        </p:nvPicPr>
        <p:blipFill>
          <a:blip r:embed="rId2"/>
          <a:srcRect l="11728" t="6225" r="8787" b="12744"/>
          <a:stretch/>
        </p:blipFill>
        <p:spPr>
          <a:xfrm>
            <a:off x="1477800" y="1341360"/>
            <a:ext cx="6461280" cy="4938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Прямоугольник 1" descr=""/>
          <p:cNvPicPr/>
          <p:nvPr/>
        </p:nvPicPr>
        <p:blipFill>
          <a:blip r:embed="rId1"/>
          <a:stretch/>
        </p:blipFill>
        <p:spPr>
          <a:xfrm>
            <a:off x="500040" y="12600"/>
            <a:ext cx="8217000" cy="1219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ав-то-бус –  автобус верб-люд –  верблюд гип-по-по-там – гиппопотам дель-фин –  дельфин вполз-ти –  вползти на-воз-ный –  навозный про-вор-ча-ла –  проворчала за-спо-ри-ла –  заспорила пос-со-рил-ся –  поссорился про-жуж-жал – прожужжал  "/>
          <p:cNvPicPr/>
          <p:nvPr/>
        </p:nvPicPr>
        <p:blipFill>
          <a:blip r:embed="rId2"/>
          <a:srcRect l="2398" t="2748" r="11020" b="9055"/>
          <a:stretch/>
        </p:blipFill>
        <p:spPr>
          <a:xfrm>
            <a:off x="1692360" y="1268280"/>
            <a:ext cx="60483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  Прочтите чистоговорку:  Ро-ро-ро – на полу стоит ведро. Ор-ор-ор – подмели мы двор. Арь-арь-арь – на стене висит фонарь.  – Прочтите слоги на одном выдохе:  на-ня-ла-ля са-ся-за-зя ба – бя – да – дя "/>
          <p:cNvPicPr/>
          <p:nvPr/>
        </p:nvPicPr>
        <p:blipFill>
          <a:blip r:embed="rId1"/>
          <a:srcRect l="2752" t="0" r="9839" b="48425"/>
          <a:stretch/>
        </p:blipFill>
        <p:spPr>
          <a:xfrm>
            <a:off x="1042920" y="981000"/>
            <a:ext cx="69566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img_1" descr="95642654"/>
          <p:cNvPicPr/>
          <p:nvPr/>
        </p:nvPicPr>
        <p:blipFill>
          <a:blip r:embed="rId1"/>
          <a:stretch/>
        </p:blipFill>
        <p:spPr>
          <a:xfrm>
            <a:off x="330120" y="115920"/>
            <a:ext cx="2381400" cy="33130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5"/>
          <p:cNvSpPr/>
          <p:nvPr/>
        </p:nvSpPr>
        <p:spPr>
          <a:xfrm>
            <a:off x="3780000" y="404640"/>
            <a:ext cx="49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  <a:ea typeface="Arial"/>
              </a:rPr>
              <a:t>Самуил Яковлевич Маршак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1046160" y="4221000"/>
            <a:ext cx="741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октября (3 ноября н.с.) 1887г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Воронеже в семье заводского техника,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антливого изобретателя.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5" name="Прямоугольник 7"/>
          <p:cNvSpPr/>
          <p:nvPr/>
        </p:nvSpPr>
        <p:spPr>
          <a:xfrm>
            <a:off x="4356000" y="2070000"/>
            <a:ext cx="46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Русский советский поэт, редактор, переводчик, драматург, литературный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ритик.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"/>
          <p:cNvPicPr/>
          <p:nvPr/>
        </p:nvPicPr>
        <p:blipFill>
          <a:blip r:embed="rId1"/>
          <a:srcRect l="7159" t="0" r="0" b="0"/>
          <a:stretch/>
        </p:blipFill>
        <p:spPr>
          <a:xfrm>
            <a:off x="179280" y="135000"/>
            <a:ext cx="4434120" cy="65530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2" descr=""/>
          <p:cNvPicPr/>
          <p:nvPr/>
        </p:nvPicPr>
        <p:blipFill>
          <a:blip r:embed="rId2"/>
          <a:srcRect l="8455" t="0" r="0" b="0"/>
          <a:stretch/>
        </p:blipFill>
        <p:spPr>
          <a:xfrm>
            <a:off x="4613400" y="109440"/>
            <a:ext cx="434016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Cambria"/>
              </a:rPr>
              <a:t>ПРИДУМАЙТЕ АЗБУКУ ЦВЕТОВ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А- астра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Б –бегония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- васильки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Г-…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Д-…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На какие буквы нельзя придумать названия цветов?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260" name="Picture 2" descr="C:\Users\user\Downloads\easy-flowers-to-draw-how-to-draw-easy-flowers-step-step-flowers-pop-culture-free-1-768x704.jpg"/>
          <p:cNvPicPr/>
          <p:nvPr/>
        </p:nvPicPr>
        <p:blipFill>
          <a:blip r:embed="rId1"/>
          <a:srcRect l="0" t="0" r="0" b="4998"/>
          <a:stretch/>
        </p:blipFill>
        <p:spPr>
          <a:xfrm>
            <a:off x="4572000" y="1857240"/>
            <a:ext cx="3117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Рисунок 2" descr=""/>
          <p:cNvPicPr/>
          <p:nvPr/>
        </p:nvPicPr>
        <p:blipFill>
          <a:blip r:embed="rId1"/>
          <a:srcRect l="12643" t="21105" r="0" b="46226"/>
          <a:stretch/>
        </p:blipFill>
        <p:spPr>
          <a:xfrm>
            <a:off x="571680" y="1500120"/>
            <a:ext cx="7868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1258920" y="1197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04:22:51Z</dcterms:created>
  <dc:creator>Синецкая Г.Г.</dc:creator>
  <dc:description/>
  <dc:language>en-US</dc:language>
  <cp:lastModifiedBy>АРСЕНТЬЕВЫ</cp:lastModifiedBy>
  <dcterms:modified xsi:type="dcterms:W3CDTF">2020-04-08T17:22:30Z</dcterms:modified>
  <cp:revision>33</cp:revision>
  <dc:subject/>
  <dc:title>Презентация PowerPoint</dc:title>
</cp:coreProperties>
</file>