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56F8-DD48-487A-A545-23D909BEC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ACB0-5219-486C-8825-905D968A2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C65-62A7-4582-80B6-0F5013BF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2A8-7812-4B1A-B530-C39CB928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95E-8008-4AFB-9008-1882525C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7DF-8E13-43A7-A7DA-D9E5BD9F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1C93-DABB-4D06-881A-DAEE2E92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05B8-9771-47A0-A400-6F8716C3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5F05-5712-45A3-84A2-313FAF40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6D98-817C-4FD1-A61F-EA593F3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BF2D-8889-4F0D-B4B8-8FD9C43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17BE-996C-4A52-A1B2-0840432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3E3A-01A5-45EA-96E4-28403A6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63C-7C40-48F3-ADEC-5EE98075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DDF1-4E69-4D56-BC8B-E2A159E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7497-0A72-43E4-8AF9-42890DE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7618-A531-44D8-B9CB-D4D09312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CF7F-3596-4F79-BFE2-F4D9B949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8539-51C1-4B84-AE67-8143C1B7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94A-1F5A-478E-B20B-4B642CE3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74D-9732-4F0E-B23E-7A9F1635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566-348A-4E4D-A00B-36A9AD9E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913-15BB-466B-85C5-2D9E7A4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EDE-A531-4FCD-8439-3BD4707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F81-71C1-4037-8F02-D6E8926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4D5-1C7E-44E3-9AFA-0A698F5D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FF58-939D-4691-85E7-B1DAE9770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03C6-19F1-4D6D-B8B9-435B1BB3B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547280" y="836280"/>
            <a:ext cx="613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заимодействие с родителями в процессе ознакомления младших дошкольников с основами безопасности жизнедеятельност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ЦРР детский сад №19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марева О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03280" y="1413000"/>
            <a:ext cx="66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сознанного выполнения правил поведения, обеспечивающих сохранность их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здоровья в современных условиях улицы, транспорта, природы, б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1332000" y="907920"/>
            <a:ext cx="669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ить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ставления о причинах и последствиях неосторожного обращения с ог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ить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правилами дорожного движения и правилам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 поведения на улиц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правила общения с живот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ьно вести себя в таких опасных ситуациях, как контакты с чуж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гащать представлени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о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 них элементарные представления о человеческом организ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ать уходу за своим телом, навыками личной гиги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116000" y="620640"/>
            <a:ext cx="69120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дошкольного детства одна из наиболее важных задач для ребёнка - научиться правилам жизни во взрослом мире. И именно взрослые должны помочь ребёнку войти в этот мир с максимальными приобретениями и минимальным рис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детей, укрепление и сохранение их здоровья было и остаётся приоритетом в работе каждого учреждения дошкольного образования.  Очень важно осуществлять планомерную, целенаправленную работу по формированию у дошкольников основ безопасного пове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создаёт безопасные и безвредные условия для развития, воспитания и обучения детей; формирует у них гигиенические навыки и способы здорового образа жизни, нормы безопасного пове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1187280" y="14191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дним из основных условий достижения высоких результатов обуче­ния дошкольников ОБЖ является тесное взаимодействие дошкольного уч­реждения с семьей.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185840" y="3357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ля того, чтобы привлечь родителей к совместному сотрудничеству, мы стараемся использовать разнообразные формы, чтобы встречи были полезными и интересными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4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187280" y="1330200"/>
            <a:ext cx="339264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4614840" y="1311120"/>
            <a:ext cx="3403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174840" cy="4368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4572000" y="1023840"/>
            <a:ext cx="3440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3687840" cy="4773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3354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1322280" y="987480"/>
            <a:ext cx="64994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Пользователь Windows</cp:lastModifiedBy>
  <dcterms:modified xsi:type="dcterms:W3CDTF">2020-04-08T14:58:45Z</dcterms:modified>
  <cp:revision>27</cp:revision>
  <dc:subject/>
  <dc:title>Слайд 1</dc:title>
</cp:coreProperties>
</file>