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D1EC-D8C2-4B73-9FF1-9254988A4F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155C-F977-4F96-815E-B66AE83FA1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BA0-7E18-4DFC-A1D0-BDFEC964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811-3BE7-4911-A263-9421FCD6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EF66-8EE3-44F1-A6FC-3FA02140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1108-4F3E-4D40-ABE3-95526B90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7139-9108-4C11-8862-553CEECF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AF08-B8EB-42D5-BCAD-BBAC5D34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615D-2A4A-4FA7-BC5F-539B945B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C1B5-0629-4EBF-A221-F1EC9833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CD57-904E-452D-9398-D4130BF6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2AE4-5455-4D13-8F64-41367B9F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D823-C8E2-4599-80B8-787E0743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84D9-7C89-4362-A675-812785D7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55FA-3309-4BBC-9E25-B560652B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C729-107F-492F-8CC2-98041356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EBC0-1597-4C86-88B2-3E7EC7F6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0109-ED58-49B0-AFE4-DC799217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3AE7-FE43-410C-99F7-BE58E097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1ED7-1BF5-4F8F-8023-545C0DA6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6133-6DFF-4E23-8BE1-9400745F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1C20-8424-4A6A-903A-8F168E3F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848E-AEC2-4346-A1FC-63DDAA29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CFE-F9D5-4EAA-A82A-A8A89538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AF6C-179A-4CDF-9CB8-33549733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69E-6267-4A0A-993C-5E38E5FA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0128-066B-4C4D-9E0A-3AEF4477CF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svetofor4pq.gif"/>
          <p:cNvPicPr/>
          <p:nvPr/>
        </p:nvPicPr>
        <p:blipFill>
          <a:blip r:embed="rId3"/>
          <a:stretch/>
        </p:blipFill>
        <p:spPr>
          <a:xfrm>
            <a:off x="184320" y="214200"/>
            <a:ext cx="8799480" cy="642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E312-4631-45C7-9A27-7E2E14ABFB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547280" y="836280"/>
            <a:ext cx="6131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заимодействие с родителями в процессе ознакомления младших дошкольников с основами безопасности жизнедеятельност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ЦРР детский сад №19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омарева О.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403280" y="1413000"/>
            <a:ext cx="66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сознанного выполнения правил поведения, обеспечивающих сохранность их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здоровья в современных условиях улицы, транспорта, природы, б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"/>
          <p:cNvSpPr/>
          <p:nvPr/>
        </p:nvSpPr>
        <p:spPr>
          <a:xfrm>
            <a:off x="1332000" y="907920"/>
            <a:ext cx="669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комить и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едставления о причинах и последствиях неосторожного обращения с огн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комить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 правилами дорожного движения и правилами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го поведения на улиц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ять правила общения с животны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ь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авильно вести себя в таких опасных ситуациях, как контакты с чужими люд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огащать представление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о здоровь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 них элементарные представления о человеческом организ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учать уходу за своим телом, навыками личной гиги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116000" y="620640"/>
            <a:ext cx="69120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 дошкольного детства одна из наиболее важных задач для ребёнка - научиться правилам жизни во взрослом мире. И именно взрослые должны помочь ребёнку войти в этот мир с максимальными приобретениями и минимальным риск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 детей, укрепление и сохранение их здоровья было и остаётся приоритетом в работе каждого учреждения дошкольного образования.  Очень важно осуществлять планомерную, целенаправленную работу по формированию у дошкольников основ безопасного повед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создаёт безопасные и безвредные условия для развития, воспитания и обучения детей; формирует у них гигиенические навыки и способы здорового образа жизни, нормы безопасного повед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1187280" y="1419120"/>
            <a:ext cx="67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дним из основных условий достижения высоких результатов обуче­ния дошкольников ОБЖ является тесное взаимодействие дошкольного уч­реждения с семьей.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1185840" y="3357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ля того, чтобы привлечь родителей к совместному сотрудничеству, мы стараемся использовать разнообразные формы, чтобы встречи были полезными и интересными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47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стер-клас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1187280" y="1330200"/>
            <a:ext cx="3392640" cy="45259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"/>
          <p:cNvPicPr/>
          <p:nvPr/>
        </p:nvPicPr>
        <p:blipFill>
          <a:blip r:embed="rId2"/>
          <a:stretch/>
        </p:blipFill>
        <p:spPr>
          <a:xfrm>
            <a:off x="4614840" y="1311120"/>
            <a:ext cx="3403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3174840" cy="43689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"/>
          <p:cNvPicPr/>
          <p:nvPr/>
        </p:nvPicPr>
        <p:blipFill>
          <a:blip r:embed="rId2"/>
          <a:stretch/>
        </p:blipFill>
        <p:spPr>
          <a:xfrm>
            <a:off x="4572000" y="1023840"/>
            <a:ext cx="3440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3687840" cy="47736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333540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1322280" y="987480"/>
            <a:ext cx="649944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5:55:50Z</dcterms:created>
  <dc:creator>Admin</dc:creator>
  <dc:description/>
  <dc:language>en-US</dc:language>
  <cp:lastModifiedBy>Пользователь Windows</cp:lastModifiedBy>
  <dcterms:modified xsi:type="dcterms:W3CDTF">2020-04-08T14:58:45Z</dcterms:modified>
  <cp:revision>27</cp:revision>
  <dc:subject/>
  <dc:title>Слайд 1</dc:title>
</cp:coreProperties>
</file>