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5.gif" ContentType="image/gif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E22C5-F17C-46B8-B532-075D469E23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26720"/>
            <a:ext cx="82249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5D106-AC10-4BEA-912C-48E9CC9A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2672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72672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AC38A-608E-420F-ACE2-9A8FEE64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26720"/>
            <a:ext cx="26481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726720"/>
            <a:ext cx="26481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726720"/>
            <a:ext cx="26481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E719-C079-452A-882F-08E6C2A14D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CB40E-E1DD-4483-9856-57CF67D58B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3CD30-B75F-4A18-812C-FCE4B173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1803E-84C4-483B-95ED-91C9780D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BCE47-FF27-4771-820B-BECF4463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2B18C-CEA2-4BEC-B34B-C843288F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2C99E-D94C-445F-B374-F22F4A9A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2672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6288A-DF1D-4388-95F7-4DFCAD69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C156D-F7D6-4AA6-8824-56D68C40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372672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C8F5E-1E50-4848-8CBB-577DBE80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26720"/>
            <a:ext cx="82249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70E75-196F-4121-B8DB-F224C7D6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26720"/>
            <a:ext cx="82249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5C5E4-E075-4C53-89B1-2F24565F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2672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372672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B3B0F-8A58-4F0A-929B-B3ECE918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26720"/>
            <a:ext cx="26481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3726720"/>
            <a:ext cx="26481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3726720"/>
            <a:ext cx="264816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0B99D-07B8-4F82-A050-147F9C9F2C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3A35-BAA8-4762-AF7F-3905E90E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18124-650A-45E5-979E-D8EB3B3C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CEB1-3606-43C4-8ED5-9E77614F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4A37-4855-469A-9051-A0EF6B80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2672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282C9-1271-4B36-BE7E-FDC8F952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72672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AFA0-ABC5-4A25-A2DC-461E98A6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26720"/>
            <a:ext cx="82249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359C-0889-4341-929C-7AA2EA20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2680" indent="-285480">
              <a:spcBef>
                <a:spcPts val="69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9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04480"/>
                <a:tab algn="l" pos="653760"/>
                <a:tab algn="l" pos="1103040"/>
                <a:tab algn="l" pos="1552320"/>
                <a:tab algn="l" pos="2001600"/>
                <a:tab algn="l" pos="2450880"/>
                <a:tab algn="l" pos="2900160"/>
                <a:tab algn="l" pos="334944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160"/>
                <a:tab algn="l" pos="87404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96560"/>
                <a:tab algn="l" pos="645840"/>
                <a:tab algn="l" pos="1095120"/>
                <a:tab algn="l" pos="1544400"/>
                <a:tab algn="l" pos="1993680"/>
                <a:tab algn="l" pos="2442960"/>
                <a:tab algn="l" pos="2892240"/>
                <a:tab algn="l" pos="3341520"/>
                <a:tab algn="l" pos="3790800"/>
                <a:tab algn="l" pos="4240080"/>
                <a:tab algn="l" pos="4689360"/>
                <a:tab algn="l" pos="5138640"/>
                <a:tab algn="l" pos="5587920"/>
                <a:tab algn="l" pos="6037200"/>
                <a:tab algn="l" pos="6486480"/>
                <a:tab algn="l" pos="6935760"/>
                <a:tab algn="l" pos="7385040"/>
                <a:tab algn="l" pos="7833960"/>
                <a:tab algn="l" pos="8283240"/>
                <a:tab algn="l" pos="8732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143BFB-D20F-4D50-A125-F144EAE0E57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184320" y="214200"/>
            <a:ext cx="8799480" cy="642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2680" indent="-285480">
              <a:spcBef>
                <a:spcPts val="69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9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04480"/>
                <a:tab algn="l" pos="653760"/>
                <a:tab algn="l" pos="1103040"/>
                <a:tab algn="l" pos="1552320"/>
                <a:tab algn="l" pos="2001600"/>
                <a:tab algn="l" pos="2450880"/>
                <a:tab algn="l" pos="2900160"/>
                <a:tab algn="l" pos="334944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160"/>
                <a:tab algn="l" pos="87404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96560"/>
                <a:tab algn="l" pos="645840"/>
                <a:tab algn="l" pos="1095120"/>
                <a:tab algn="l" pos="1544400"/>
                <a:tab algn="l" pos="1993680"/>
                <a:tab algn="l" pos="2442960"/>
                <a:tab algn="l" pos="2892240"/>
                <a:tab algn="l" pos="3341520"/>
                <a:tab algn="l" pos="3790800"/>
                <a:tab algn="l" pos="4240080"/>
                <a:tab algn="l" pos="4689360"/>
                <a:tab algn="l" pos="5138640"/>
                <a:tab algn="l" pos="5587920"/>
                <a:tab algn="l" pos="6037200"/>
                <a:tab algn="l" pos="6486480"/>
                <a:tab algn="l" pos="6935760"/>
                <a:tab algn="l" pos="7385040"/>
                <a:tab algn="l" pos="7833960"/>
                <a:tab algn="l" pos="8283240"/>
                <a:tab algn="l" pos="8732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FE4C69-C069-45BA-85EB-A47BAFA36CAA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4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slide" Target="slide7.xml"/><Relationship Id="rId10" Type="http://schemas.openxmlformats.org/officeDocument/2006/relationships/image" Target="../media/image4.png"/><Relationship Id="rId11" Type="http://schemas.openxmlformats.org/officeDocument/2006/relationships/slide" Target="slide8.xml"/><Relationship Id="rId12" Type="http://schemas.openxmlformats.org/officeDocument/2006/relationships/image" Target="../media/image4.png"/><Relationship Id="rId13" Type="http://schemas.openxmlformats.org/officeDocument/2006/relationships/slide" Target="slide9.xml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" Target="slide2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" Target="slide2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" Target="slide2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" Target="slide2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57200" y="274680"/>
            <a:ext cx="822816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272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икторина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272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«Азбука безопасности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272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на дороге»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360360" y="216000"/>
            <a:ext cx="84232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468320"/>
            <a:ext cx="82263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6840" y="3013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619280" y="728640"/>
            <a:ext cx="5616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mbria"/>
              </a:rPr>
              <a:t>Молодцы!</a:t>
            </a: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Рисунок 2" descr=""/>
          <p:cNvPicPr/>
          <p:nvPr/>
        </p:nvPicPr>
        <p:blipFill>
          <a:blip r:embed="rId2"/>
          <a:stretch/>
        </p:blipFill>
        <p:spPr>
          <a:xfrm>
            <a:off x="2806560" y="2205000"/>
            <a:ext cx="3527640" cy="3370320"/>
          </a:xfrm>
          <a:prstGeom prst="rect">
            <a:avLst/>
          </a:prstGeom>
          <a:ln w="0">
            <a:noFill/>
          </a:ln>
        </p:spPr>
      </p:pic>
      <p:pic>
        <p:nvPicPr>
          <p:cNvPr id="145" name="aplodismenty_v_shkolnom_sportzale.mp3" descr=""/>
          <p:cNvPicPr/>
          <p:nvPr/>
        </p:nvPicPr>
        <p:blipFill>
          <a:blip r:embed="rId3"/>
          <a:stretch/>
        </p:blipFill>
        <p:spPr>
          <a:xfrm>
            <a:off x="5724360" y="52704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51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1000" y="-169920"/>
            <a:ext cx="8928000" cy="664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511960" y="4371840"/>
            <a:ext cx="1087200" cy="1087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21160" y="4103640"/>
            <a:ext cx="1087200" cy="1087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360440" y="3456000"/>
            <a:ext cx="1087560" cy="1087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050920" y="649440"/>
            <a:ext cx="1087560" cy="108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71880" y="1133640"/>
            <a:ext cx="1087560" cy="108720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: влево 2"/>
          <p:cNvSpPr/>
          <p:nvPr/>
        </p:nvSpPr>
        <p:spPr>
          <a:xfrm rot="1123200">
            <a:off x="5439960" y="5508720"/>
            <a:ext cx="955800" cy="431640"/>
          </a:xfrm>
          <a:prstGeom prst="leftArrow">
            <a:avLst>
              <a:gd name="adj1" fmla="val 50000"/>
              <a:gd name="adj2" fmla="val 50028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Стрелка: влево 11"/>
          <p:cNvSpPr/>
          <p:nvPr/>
        </p:nvSpPr>
        <p:spPr>
          <a:xfrm rot="1123200">
            <a:off x="3476160" y="5087880"/>
            <a:ext cx="938160" cy="432000"/>
          </a:xfrm>
          <a:prstGeom prst="leftArrow">
            <a:avLst>
              <a:gd name="adj1" fmla="val 50000"/>
              <a:gd name="adj2" fmla="val 50069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8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227640" y="2220840"/>
            <a:ext cx="1087560" cy="1087560"/>
          </a:xfrm>
          <a:prstGeom prst="rect">
            <a:avLst/>
          </a:prstGeom>
          <a:ln w="0">
            <a:noFill/>
          </a:ln>
        </p:spPr>
      </p:pic>
      <p:sp>
        <p:nvSpPr>
          <p:cNvPr id="97" name="Стрелка: вверх 3"/>
          <p:cNvSpPr/>
          <p:nvPr/>
        </p:nvSpPr>
        <p:spPr>
          <a:xfrm rot="898800">
            <a:off x="1154160" y="3322440"/>
            <a:ext cx="479520" cy="958680"/>
          </a:xfrm>
          <a:prstGeom prst="upArrow">
            <a:avLst>
              <a:gd name="adj1" fmla="val 50000"/>
              <a:gd name="adj2" fmla="val 49907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Стрелка: влево 14"/>
          <p:cNvSpPr/>
          <p:nvPr/>
        </p:nvSpPr>
        <p:spPr>
          <a:xfrm rot="11711400">
            <a:off x="2468520" y="482040"/>
            <a:ext cx="789120" cy="431640"/>
          </a:xfrm>
          <a:prstGeom prst="leftArrow">
            <a:avLst>
              <a:gd name="adj1" fmla="val 50000"/>
              <a:gd name="adj2" fmla="val 50081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Стрелка: влево 15"/>
          <p:cNvSpPr/>
          <p:nvPr/>
        </p:nvSpPr>
        <p:spPr>
          <a:xfrm rot="12423600">
            <a:off x="4227120" y="928440"/>
            <a:ext cx="841320" cy="43164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533520" y="565200"/>
            <a:ext cx="822960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Загадки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лезные звери 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чат и гудят.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за, как у кошек,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чами - горят. 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е животное помогает нам 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ходить улицу? 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м знакомые полос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Знают дети, знает взрослый.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ту сторону вед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Пешеходный…… 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Я глазищами моргаю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устанно день и ночь.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машинам помогаю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тебе хочу помочь.       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928800" y="1600200"/>
            <a:ext cx="7286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3878280" y="3135240"/>
            <a:ext cx="1809720" cy="158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5324400" y="3672000"/>
            <a:ext cx="2811600" cy="2522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4"/>
          <a:stretch/>
        </p:blipFill>
        <p:spPr>
          <a:xfrm>
            <a:off x="5327640" y="360360"/>
            <a:ext cx="3230640" cy="2278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5"/>
          <a:stretch/>
        </p:blipFill>
        <p:spPr>
          <a:xfrm>
            <a:off x="4176720" y="1368360"/>
            <a:ext cx="251928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867800" y="5681520"/>
            <a:ext cx="10872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1120" y="153720"/>
            <a:ext cx="82296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Кто нарушает правила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360360" y="1071720"/>
            <a:ext cx="8532720" cy="552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4335480" y="4394160"/>
            <a:ext cx="1087560" cy="1087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1895400" y="3592440"/>
            <a:ext cx="1087560" cy="1087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5"/>
          <a:stretch/>
        </p:blipFill>
        <p:spPr>
          <a:xfrm>
            <a:off x="7354800" y="2139840"/>
            <a:ext cx="1087560" cy="108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6"/>
          <a:stretch/>
        </p:blipFill>
        <p:spPr>
          <a:xfrm>
            <a:off x="3009960" y="1071720"/>
            <a:ext cx="1087200" cy="1087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42120" y="5853240"/>
            <a:ext cx="108756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-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-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туац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Выбери правильно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1008000" y="1600200"/>
            <a:ext cx="3816360" cy="4303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4824360" y="1600200"/>
            <a:ext cx="360036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100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4608360" y="647640"/>
            <a:ext cx="3384720" cy="273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1425600" y="825480"/>
            <a:ext cx="2967120" cy="2559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3384360" cy="302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5"/>
          <a:stretch/>
        </p:blipFill>
        <p:spPr>
          <a:xfrm>
            <a:off x="4680000" y="3527280"/>
            <a:ext cx="3332160" cy="2791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885080" y="5773680"/>
            <a:ext cx="10875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100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009800" y="1295280"/>
            <a:ext cx="7270560" cy="60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mbria"/>
              </a:rPr>
              <a:t>Прямоугольник с тремя цветами? (Светофор)</a:t>
            </a:r>
            <a:endParaRPr b="0" lang="ru-RU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mbria"/>
              </a:rPr>
              <a:t>Что означает красный кружок с белым кирпичом?(знак стоп).</a:t>
            </a:r>
            <a:endParaRPr b="0" lang="ru-RU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mbria"/>
              </a:rPr>
              <a:t>Дорожка, по которой должны идти пешеходы? (Тротуар)</a:t>
            </a:r>
            <a:endParaRPr b="0" lang="ru-RU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mbria"/>
              </a:rPr>
              <a:t>Кто с помощью руки или жезла подает сигнал пешеходам, машинам? (Регулировщик)</a:t>
            </a:r>
            <a:endParaRPr b="0" lang="ru-RU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mbria"/>
              </a:rPr>
              <a:t>На какой цвет нельзя переходить улицу?(Красный)</a:t>
            </a:r>
            <a:endParaRPr b="0" lang="ru-RU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mbria"/>
              </a:rPr>
              <a:t>С помощью чего мы можем безопасно перейти улицу? (Мост)</a:t>
            </a:r>
            <a:endParaRPr b="0" lang="ru-RU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mbria"/>
              </a:rPr>
              <a:t>Пешеходная дорога на какого зверя похожа? (Зебра)</a:t>
            </a:r>
            <a:endParaRPr b="0" lang="ru-RU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mbria"/>
              </a:rPr>
              <a:t>Вот полосатый переход, кто же по нему идет? (Пешеход)</a:t>
            </a:r>
            <a:endParaRPr b="0" lang="ru-RU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mbria"/>
              </a:rPr>
              <a:t>На остановку подъезжает и людей сажает? (Автобус)</a:t>
            </a:r>
            <a:endParaRPr b="0" lang="ru-RU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mbria"/>
              </a:rPr>
              <a:t>Как зовут самого высокого милиционера? (дядя Степа)</a:t>
            </a:r>
            <a:endParaRPr b="0" lang="ru-RU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mbria"/>
              </a:rPr>
              <a:t>Без чего нельзя ездить в общественном транспорте? (Билет)</a:t>
            </a:r>
            <a:endParaRPr b="0" lang="ru-RU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Вопрос-ответ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8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36040" y="5560920"/>
            <a:ext cx="1089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81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Угадай зна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457200" y="1584360"/>
            <a:ext cx="2735280" cy="3168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3130560" y="1774800"/>
            <a:ext cx="3060720" cy="2832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4"/>
          <a:stretch/>
        </p:blipFill>
        <p:spPr>
          <a:xfrm>
            <a:off x="6119640" y="4195800"/>
            <a:ext cx="249732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5"/>
          <a:stretch/>
        </p:blipFill>
        <p:spPr>
          <a:xfrm>
            <a:off x="6119640" y="1655640"/>
            <a:ext cx="2565720" cy="295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597800" y="5580000"/>
            <a:ext cx="108756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1914480" y="1600200"/>
            <a:ext cx="2190960" cy="2187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твертый лишн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4870440" y="1600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1914480" y="3718080"/>
            <a:ext cx="2193840" cy="2185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5"/>
          <a:stretch/>
        </p:blipFill>
        <p:spPr>
          <a:xfrm>
            <a:off x="4967280" y="3645000"/>
            <a:ext cx="21956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100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8:55:50Z</dcterms:created>
  <dc:creator>Admin</dc:creator>
  <dc:description/>
  <dc:language>en-US</dc:language>
  <cp:lastModifiedBy/>
  <dcterms:modified xsi:type="dcterms:W3CDTF">2020-04-08T21:10:44Z</dcterms:modified>
  <cp:revision>8</cp:revision>
  <dc:subject/>
  <dc:title>Слайд 1</dc:title>
</cp:coreProperties>
</file>