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9B27-E05D-47BA-B790-B9336B6D6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8982-1001-4784-B85D-9A6367ED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ADBE-FEE6-41C6-9C89-FD10D656B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2AE0-D628-4B3F-9934-4BB2CB578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23F7-5C09-48BA-9A91-BB96A0309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C13B-8980-41FE-A341-7AF86420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A20D-578C-4B1A-9FC9-85BC5A0F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19DB-5D41-4C29-8FF1-470D1AC3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214C-CFFB-456C-939E-E7083B54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6B77-AB15-4295-BD46-89086C43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7010-CD47-4785-8770-644F87A3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15F2-23EE-4EA7-BF23-5ACB225A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1258-5C9A-45B9-97D1-F3CEA563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6E65-2DBF-41F0-8A2A-73F5EAFE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9084-CF76-4451-A8CC-73B7B286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1C1B-D30D-4344-A4F6-75492A8D8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AE9A-6DA3-4B82-9E66-9FA6149E0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A6FE-A5D1-4DDF-B4D0-31B1B577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A84D-CF9E-4CC6-AF22-D8794E0B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CE11-618F-48B6-9647-51D637EF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0A1D-B4BF-49F2-B26E-B59E18D8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CDC9-C97F-4881-8CDA-BB18EA21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12EE-959A-452D-BB72-FB20C02D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101B-3346-4245-8152-A7F2CC5F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84DF-0703-4DEC-AD1C-8F0FA2607C4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6D83-479C-409C-ADF0-C6E0C7BBC51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964720" cy="2521080"/>
          </a:xfrm>
          <a:prstGeom prst="rect">
            <a:avLst/>
          </a:prstGeom>
          <a:solidFill>
            <a:srgbClr val="c58bf9">
              <a:alpha val="50000"/>
            </a:srgbClr>
          </a:solidFill>
          <a:ln w="7632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1c03d5"/>
                </a:solidFill>
                <a:latin typeface="Arial"/>
              </a:rPr>
              <a:t>Метод БОС в образовательной организации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780000" y="5516280"/>
            <a:ext cx="5040000" cy="1081080"/>
          </a:xfrm>
          <a:prstGeom prst="rect">
            <a:avLst/>
          </a:prstGeom>
          <a:solidFill>
            <a:srgbClr val="a7ddb8">
              <a:alpha val="50000"/>
            </a:srgbClr>
          </a:solidFill>
          <a:ln w="76320">
            <a:solidFill>
              <a:srgbClr val="e4005c"/>
            </a:solidFill>
            <a:miter/>
          </a:ln>
        </p:spPr>
        <p:txBody>
          <a:bodyPr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c03d5"/>
                </a:solidFill>
                <a:latin typeface="Arial"/>
              </a:rPr>
              <a:t>Мыльникова Н.В., </a:t>
            </a:r>
            <a:r>
              <a:rPr b="0" i="1" lang="ru-RU" sz="2800" spc="-1" strike="noStrike">
                <a:solidFill>
                  <a:srgbClr val="1c03d5"/>
                </a:solidFill>
                <a:latin typeface="Arial"/>
              </a:rPr>
              <a:t>учитель - логоп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39640" y="333000"/>
            <a:ext cx="647388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Реализация технологии «БОС-Здоровье»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84360" y="1916280"/>
            <a:ext cx="635472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В состав комплексов «БОС-Здоровье» входят электронные приборы для регистрации частоты сердечных сокращений (ЧСС). Приборы соединены с компьютерами, на котор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установлено  программное  обеспечение  биологической обратной связи. Комплекс обеспечивает непрерыв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мультимедийное информирование ребенка о изменениях текущей величины ДАС (увеличение ЧСС на вдохе и уменьшение ЧСС на выдох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Длительность 1 занятия  9-12 мин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39640" y="333000"/>
            <a:ext cx="647388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39"/>
                </a:solidFill>
                <a:latin typeface="Arial"/>
              </a:rPr>
              <a:t>Оборудование БОС и программное обеспечение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6048360" cy="3546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Documents and Settings\Лежнякова М Л\Рабочий стол\фото спартакиада 2014\DSC04393.JPG"/>
          <p:cNvPicPr/>
          <p:nvPr/>
        </p:nvPicPr>
        <p:blipFill>
          <a:blip r:embed="rId2"/>
          <a:stretch/>
        </p:blipFill>
        <p:spPr>
          <a:xfrm>
            <a:off x="6692760" y="1590840"/>
            <a:ext cx="243864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39640" y="333000"/>
            <a:ext cx="647388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Цель занятий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Развитие,  сохранение  и  укреп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здоровья  путем  выработки  нав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гармоничной работы сердечно-сосудис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системы  через  постанов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диафрагмально-релаксационного дых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с максимальной ДАС, а так же монитор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и  контроль  состояния  здоровья 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функциональных  резервов  орга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каждого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39640" y="333000"/>
            <a:ext cx="647388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Медико-психолого-педагогические показа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общее оздоровление в образовательной орган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оздоровление группы часто и длите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болеющих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коррекция поведения (гиперактивность, дефицит вниман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улучшение концентрации внимания, памя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уменьшение последствий стрессовых воздейств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адаптация к трудностям школьного обу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формирование навыков здорового образа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39640" y="333000"/>
            <a:ext cx="647388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Что дает технология «БОС-Здоровье»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повышает  успеваемость  детей  и  эффективность образовательного процес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улучшает повед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делает внимательным, активизирует памя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учит правильно и красиво говори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нормализует функциональное состоя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корректирует психоэмоциональное состоя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снижает уровень заболеваемости ОРЗ и гриппом в три раза и боле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снимает информационный стр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339640" y="189000"/>
            <a:ext cx="64738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Противопоказания к проведению занятий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11280" y="1268280"/>
            <a:ext cx="673272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возраст минимальный 4,5-5 л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расстройства интеллекта, ограничивающие возможность БОС-трениров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тяжелые сопутствующие заболев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острые инфекционные, неинфекционные, хронические в стадии обострения, т.е. все патологические процессы, которые сопровождаются ухудшением  общего самочувствия  пациента  и  делают  невозможным применение метода БО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тяжелые нарушения возбудимости и проводимости сердца – выраженн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брадикардия или экстросистолия,  затрудняющие применение метода БОС по ЧС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повышенная судорожная готовность головного мозга, ограничивающую применение  электронно-оптических  приборов  (монитор компьютера, телевизо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39640" y="333000"/>
            <a:ext cx="647388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Структура оздоровительного кур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10920" y="1916280"/>
            <a:ext cx="64278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1 этап – освоение принципа диафрагмальн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релаксационного дыхания без сигналов обрат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связи -1 занят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2  этап  –  приобретение  навыка  работы 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компьютерной программой – 1 занят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3 этап – формирование навыка диафрагмально-релаксационного дыхания под контролем ДАС –БОС – 9 занят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4 этап – закрепление полученного навыка –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за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39640" y="333000"/>
            <a:ext cx="647388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Теоретические занят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Что такое сердце и для чего оно необходим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Что такое легкие, как происходит процесс дыхания. Как правильно дыш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Что такое кислород, для чего о нуж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Что такое здоровый образ жизни. Что надо делать, чтобы быть здоров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3492360" y="3933720"/>
            <a:ext cx="4248360" cy="26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39640" y="333000"/>
            <a:ext cx="647388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Индивидуальный отчёт обучающегос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410920" y="1916280"/>
            <a:ext cx="64278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c0039"/>
                </a:solidFill>
                <a:latin typeface="Franklin Gothic Heavy"/>
              </a:rPr>
              <a:t>Динамика формирования навыка правильного дых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SDC15457"/>
          <p:cNvPicPr/>
          <p:nvPr/>
        </p:nvPicPr>
        <p:blipFill>
          <a:blip r:embed="rId1"/>
          <a:stretch/>
        </p:blipFill>
        <p:spPr>
          <a:xfrm>
            <a:off x="2484360" y="2637000"/>
            <a:ext cx="3024360" cy="1523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SDC15454"/>
          <p:cNvPicPr/>
          <p:nvPr/>
        </p:nvPicPr>
        <p:blipFill>
          <a:blip r:embed="rId2"/>
          <a:stretch/>
        </p:blipFill>
        <p:spPr>
          <a:xfrm>
            <a:off x="5867280" y="2637000"/>
            <a:ext cx="2952720" cy="156672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5"/>
          <p:cNvSpPr/>
          <p:nvPr/>
        </p:nvSpPr>
        <p:spPr>
          <a:xfrm>
            <a:off x="3348000" y="422100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c0039"/>
                </a:solidFill>
                <a:latin typeface="Franklin Gothic Heavy"/>
              </a:rPr>
              <a:t>1 урок                                              12 у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6"/>
          <p:cNvSpPr/>
          <p:nvPr/>
        </p:nvSpPr>
        <p:spPr>
          <a:xfrm>
            <a:off x="2556000" y="465300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c0039"/>
                </a:solidFill>
                <a:latin typeface="Arial"/>
              </a:rPr>
              <a:t>1-й урок – ученик начинает формировать навык правильного дых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2627280" y="5373720"/>
            <a:ext cx="58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c0039"/>
                </a:solidFill>
                <a:latin typeface="Arial"/>
              </a:rPr>
              <a:t>12-й урок – график позволяет оценить, как сформировался навык правильного дыхания с помощью БО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39640" y="333000"/>
            <a:ext cx="647388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Практические занят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Формируем и закрепляем навык диафрагмально-релаксационного дых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Во время занятий просматриваем, запоминаем материал по теме «Окружающ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мир» ( тематические слайды: времена года, явления природы, деревья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кустарники, домашние и дикие животные, подводный мир, овощи и фрукты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14_1"/>
          <p:cNvPicPr/>
          <p:nvPr/>
        </p:nvPicPr>
        <p:blipFill>
          <a:blip r:embed="rId1"/>
          <a:stretch/>
        </p:blipFill>
        <p:spPr>
          <a:xfrm>
            <a:off x="3419640" y="4365720"/>
            <a:ext cx="2844720" cy="213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39640" y="333000"/>
            <a:ext cx="647388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16360" y="4221000"/>
            <a:ext cx="5922720" cy="18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Оздоровительная дыхате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гимнастика с применением мет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биологической обратной связ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включена в систему здоровьесберегающих технолог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358920" y="115920"/>
            <a:ext cx="853416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10440" cy="572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c0039"/>
                </a:solidFill>
                <a:latin typeface="Arial"/>
              </a:rPr>
              <a:t>ПРАВИЛЬНОЕ ДЫХАНИЕ НЕОБХОДИМО ВСЕМ!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84720" y="6453000"/>
            <a:ext cx="107964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3348000" y="260280"/>
            <a:ext cx="51116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39640" y="333000"/>
            <a:ext cx="647388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БОС - это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Arial"/>
              </a:rPr>
              <a:t>Уникальная технология, основанная на применении электронной и компьютерной аппара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Arial"/>
              </a:rPr>
              <a:t>Современный высокоэффективный немедикаментозный метод реабилит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Arial"/>
              </a:rPr>
              <a:t>Метод, обеспечивающий совершенную работу организма и защищающий от болез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Arial"/>
              </a:rPr>
              <a:t>Избавление от чувства тревожности, нервозности, эмоциональной нестабильности, стресса и депре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Arial"/>
              </a:rPr>
              <a:t>Овладение навыками саморегуля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Метод БОС – это Ваш шанс изменить жиз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к лучшему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39640" y="333000"/>
            <a:ext cx="647388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Основные понят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339640" y="1844280"/>
            <a:ext cx="649908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Биологическая обратная связь (БОС) – это метод реабилитации, при котором человеку с помощью электро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приборов мгновенно и непрерывно предоставляется информация 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физиологических  показателях  деятельности  его  внутрен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органов посредством световых или звуковых сигналов обратной свя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39640" y="333000"/>
            <a:ext cx="647388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Основные понят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Основа лечебно-оздоровительной методики – диафрагмально- релаксационный тип дыхания с максимальной дыхатель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аритмией сердца (ДАС), вырабатываемый по методу биологической обратной связи (БОС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2556000" y="3429000"/>
            <a:ext cx="619272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39640" y="333000"/>
            <a:ext cx="647388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Основные понят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84360" y="1844280"/>
            <a:ext cx="635472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Количественным  показателем  гармонии  работы кардиореспираторной системы является разница пульса на вдохе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выдохе. Чем больше эта разница, тем лучше здоровье человека. Э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величина получила название дыхательной аритмии сердца (ДАС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В системе образования эта величина ДАС преобразуется в отмет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за здоровье по 5-бальной шка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39640" y="333000"/>
            <a:ext cx="647388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Здоровьеразвивающий комплекс «БОС-Здоровье»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84360" y="1989000"/>
            <a:ext cx="635472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Здоровье во многом зависит от правильной взаимосвязанной работы дыхательной и сердечно-сосудистой систем. Имен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гармоничное  взаимодействие  дыхания  сердца  является Паспортом здоровья каждого человека. Значит, чтобы ребе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был здоровым он должен обладать нормальным физиологически оптимальным дыханием, обеспечивающим эту гармо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39640" y="333000"/>
            <a:ext cx="647388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Здоровьеразвивающий комплекс «БОС-Здоровье»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По одной оценке мы получаем достоверную информацию 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взаимодействии сердечно-сосудистой и дыхательной систем. Э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оценка состояния здоровья ребенка. А дальше технология «БОС-Здоровье» позволяет эффективно корректировать нару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функционального состоя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Documents and Settings\Лежнякова М Л\Рабочий стол\фото спартакиада 2014\DSC04387.JPG"/>
          <p:cNvPicPr/>
          <p:nvPr/>
        </p:nvPicPr>
        <p:blipFill>
          <a:blip r:embed="rId1"/>
          <a:stretch/>
        </p:blipFill>
        <p:spPr>
          <a:xfrm>
            <a:off x="3851280" y="4292640"/>
            <a:ext cx="3024360" cy="22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339640" y="333000"/>
            <a:ext cx="647388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Реализация технологии «БОС-Здоровье»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Для реализации технологии используются соврем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возможности мультимедийной техники, оборудование Б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и программное обеспеч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Занятия  по  технологии  «БОС-Здоровье»  проходят 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оборудованном на 4 посадочных места кабин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D:\Изображения, музыка\фото 29.11.14\DSC04684.JPG"/>
          <p:cNvPicPr/>
          <p:nvPr/>
        </p:nvPicPr>
        <p:blipFill>
          <a:blip r:embed="rId1"/>
          <a:stretch/>
        </p:blipFill>
        <p:spPr>
          <a:xfrm>
            <a:off x="3995640" y="4292640"/>
            <a:ext cx="3600720" cy="2295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06:48:30Z</dcterms:created>
  <dc:creator>user</dc:creator>
  <dc:description/>
  <dc:language>en-US</dc:language>
  <cp:lastModifiedBy>User</cp:lastModifiedBy>
  <dcterms:modified xsi:type="dcterms:W3CDTF">2020-04-08T06:41:02Z</dcterms:modified>
  <cp:revision>22</cp:revision>
  <dc:subject/>
  <dc:title>Педагогический совет</dc:title>
</cp:coreProperties>
</file>