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24D-0A68-4DBB-ADA7-A78C221E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0A0-0611-48DA-A6A7-E3C0182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527-397A-48EA-BEE8-A545CCA6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D55-2049-43CC-9CC9-DF9ABB27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B566-5102-4E58-9D21-9412AEE5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AC29-401A-488C-A377-EC6EBD5D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5FB9-74F2-40A6-9E69-E444BFE1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3C6-710E-42FE-A293-BBDA0C32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4D8B-25BC-488A-A960-3C25966B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A82E-6B99-45D7-AA26-F04D8DA1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24CD-85DD-43D8-A0FC-6DE2431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FAC-B88B-4A01-ABF6-ADEC0297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EA07-E446-41B0-AD0D-4F4EE9E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9A29-8D7B-468F-8A90-5FF49F8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0474-F560-40F1-A378-46328B09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96FF-3685-4693-8B2E-96EE7AE0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B037-A934-4604-9A28-316E8647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5FF-51D3-4C41-ACA8-E1DB547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9A1-CBDE-4270-86C8-07C8D6B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565-2463-4392-94EA-D2D9C507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F22-8F91-4FFB-AA25-001B761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169-4004-4414-B4B5-ACF3106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339-8BBE-43D3-BE38-CD97705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668-3E81-4059-8837-768295E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F760-2EB2-40D2-BB2A-18367B4CD7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9B12-7E8A-46F2-8C43-8A8A2D22B9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2521080"/>
          </a:xfrm>
          <a:prstGeom prst="rect">
            <a:avLst/>
          </a:prstGeom>
          <a:solidFill>
            <a:srgbClr val="c58bf9">
              <a:alpha val="50000"/>
            </a:srgbClr>
          </a:soli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1c03d5"/>
                </a:solidFill>
                <a:latin typeface="Arial"/>
              </a:rPr>
              <a:t>Метод БОС в образовательной организац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80000" y="5516280"/>
            <a:ext cx="5040000" cy="1081080"/>
          </a:xfrm>
          <a:prstGeom prst="rect">
            <a:avLst/>
          </a:prstGeom>
          <a:solidFill>
            <a:srgbClr val="a7ddb8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c03d5"/>
                </a:solidFill>
                <a:latin typeface="Arial"/>
              </a:rPr>
              <a:t>Мыльникова Н.В., </a:t>
            </a:r>
            <a:r>
              <a:rPr b="0" i="1" lang="ru-RU" sz="2800" spc="-1" strike="noStrike">
                <a:solidFill>
                  <a:srgbClr val="1c03d5"/>
                </a:solidFill>
                <a:latin typeface="Arial"/>
              </a:rPr>
              <a:t>учитель -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Реализация технологии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84360" y="1916280"/>
            <a:ext cx="635472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 состав комплексов «БОС-Здоровье» входят электронные приборы для регистрации частоты сердечных сокращений (ЧСС). Приборы соединены с компьютерами, на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становлено  программное  обеспечение  биологической обратной связи. Комплекс обеспечивает непреры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ультимедийное информирование ребенка о изменениях текущей величины ДАС (увеличение ЧСС на вдохе и уменьшение ЧСС на выдох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лительность 1 занятия  9-12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Оборудование БОС и программное обеспечение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6048360" cy="354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Лежнякова М Л\Рабочий стол\фото спартакиада 2014\DSC04393.JPG"/>
          <p:cNvPicPr/>
          <p:nvPr/>
        </p:nvPicPr>
        <p:blipFill>
          <a:blip r:embed="rId2"/>
          <a:stretch/>
        </p:blipFill>
        <p:spPr>
          <a:xfrm>
            <a:off x="6692760" y="1590840"/>
            <a:ext cx="24386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Цель занят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Развитие,  сохранение  и  у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доровья  путем  выработки 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гармоничной работы сердечно-сосуди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истемы  через  постанов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иафрагмально-релаксационного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 максимальной ДАС, а так же мони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и  контроль  состояния  здоровья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ункциональных  резервов 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аждо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Медико-психолого-педагогические показ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бщее оздоровление в образовательно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здоровление группы часто и дл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олеющ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ррекция поведения (гиперактивность, дефицит вним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лучшение концентрации внимания,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меньшение последствий стрессовых воз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адаптация к трудностям школьного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ормирование навыков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Что дает технология «БОС-Здоровье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овышает  успеваемость  детей  и  эффективность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лучшает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елает внимательным, активизирует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учит правильно и красиво говор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нормализует функцион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рректирует психоэмоцион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нижает уровень заболеваемости ОРЗ и гриппом в три раза и бол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нимает информационный ст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647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Противопоказания к проведению занятий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11280" y="1268280"/>
            <a:ext cx="6732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озраст минимальный 4,5-5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расстройства интеллекта, ограничивающие возможность БОС-тренир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тяжелые сопутствующие заболе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стрые инфекционные, неинфекционные, хронические в стадии обострения, т.е. все патологические процессы, которые сопровождаются ухудшением  общего самочувствия  пациента  и  делают  невозможным применение метода Б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тяжелые нарушения возбудимости и проводимости сердца – выражен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радикардия или экстросистолия,  затрудняющие применение метода БОС по Ч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овышенная судорожная готовность головного мозга, ограничивающую применение  электронно-оптических  приборов  (монитор компьютера, телевиз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руктура оздоровительного кур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1916280"/>
            <a:ext cx="6427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1 этап – освоение принципа диафрагма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релаксационного дыхания без сигналов обр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связи -1 заня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2  этап  –  приобретение  навыка  работы 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мпьютерной программой – 1 заня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3 этап – формирование навыка диафрагмально-релаксационного дыхания под контролем ДАС –БОС – 9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4 этап – закрепление полученного навыка –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Теоретические за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сердце и для чего оно необход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легкие, как происходит процесс дыхания. Как правильно д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кислород, для чего о ну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Что такое здоровый образ жизни. Что надо делать, чтобы быть здор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42483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Индивидуальный отчёт обучающегос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10920" y="1916280"/>
            <a:ext cx="6427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Franklin Gothic Heavy"/>
              </a:rPr>
              <a:t>Динамика формирования навыка правильного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DC15457"/>
          <p:cNvPicPr/>
          <p:nvPr/>
        </p:nvPicPr>
        <p:blipFill>
          <a:blip r:embed="rId1"/>
          <a:stretch/>
        </p:blipFill>
        <p:spPr>
          <a:xfrm>
            <a:off x="2484360" y="2637000"/>
            <a:ext cx="3024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DC15454"/>
          <p:cNvPicPr/>
          <p:nvPr/>
        </p:nvPicPr>
        <p:blipFill>
          <a:blip r:embed="rId2"/>
          <a:stretch/>
        </p:blipFill>
        <p:spPr>
          <a:xfrm>
            <a:off x="5867280" y="2637000"/>
            <a:ext cx="2952720" cy="1566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3348000" y="4221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c0039"/>
                </a:solidFill>
                <a:latin typeface="Franklin Gothic Heavy"/>
              </a:rPr>
              <a:t>1 урок                                              12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556000" y="4653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1-й урок – ученик начинает формировать навык правильного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2627280" y="537372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12-й урок – график позволяет оценить, как сформировался навык правильного дыхания с помощью Б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рактические за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ормируем и закрепляем навык диафрагмально-релаксацио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о время занятий просматриваем, запоминаем материал по теме «Окруж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ир» ( тематические слайды: времена года, явления природы, деревь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устарники, домашние и дикие животные, подводный мир, овощи и фрук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4_1"/>
          <p:cNvPicPr/>
          <p:nvPr/>
        </p:nvPicPr>
        <p:blipFill>
          <a:blip r:embed="rId1"/>
          <a:stretch/>
        </p:blipFill>
        <p:spPr>
          <a:xfrm>
            <a:off x="3419640" y="436572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16360" y="4221000"/>
            <a:ext cx="592272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здоровительная дых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гимнастика с применением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иологической обрат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ключена в систему здоровьесберег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58920" y="115920"/>
            <a:ext cx="85341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10440" cy="572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c0039"/>
                </a:solidFill>
                <a:latin typeface="Arial"/>
              </a:rPr>
              <a:t>ПРАВИЛЬНОЕ ДЫХАНИЕ НЕОБХОДИМО ВСЕМ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84720" y="6453000"/>
            <a:ext cx="1079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348000" y="260280"/>
            <a:ext cx="5111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БОС - это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Уникальная технология, основанная на применении электронной и компьютерной аппа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Современный высокоэффективный немедикаментозный метод реабили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Метод, обеспечивающий совершенную работу организма и защищающий от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Избавление от чувства тревожности, нервозности, эмоциональной нестабильности, стресса и деп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Arial"/>
              </a:rPr>
              <a:t>Овладение навыками саморег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Метод БОС – это Ваш шанс изменить жиз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 лучшем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39640" y="1844280"/>
            <a:ext cx="64990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иологическая обратная связь (БОС) – это метод реабилитации, при котором человеку с помощью электро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риборов мгновенно и непрерывно предоставляется информация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изиологических  показателях  деятельности  его  внутре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рганов посредством световых или звуковых сигналов обратной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снова лечебно-оздоровительной методики – диафрагмально- релаксационный тип дыхания с максимальной дых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аритмией сердца (ДАС), вырабатываемый по методу биологической обратной связи (БО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6192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84360" y="1844280"/>
            <a:ext cx="6354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Количественным  показателем  гармонии  работы кардиореспираторной системы является разница пульса на вдох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ыдохе. Чем больше эта разница, тем лучше здоровье человека. Э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еличина получила название дыхательной аритмии сердца (Д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 системе образования эта величина ДАС преобразуется в отм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а здоровье по 5-бальной ш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Здоровьеразвивающий комплекс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84360" y="1989000"/>
            <a:ext cx="635472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доровье во многом зависит от правильной взаимосвязанной работы дыхательной и сердечно-сосудистой систем.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гармоничное  взаимодействие  дыхания  сердца  является Паспортом здоровья каждого человека. Значит, чтобы реб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был здоровым он должен обладать нормальным физиологически оптимальным дыханием, обеспечивающим эту гармо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Здоровьеразвивающий комплекс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По одной оценке мы получаем достоверную информацию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заимодействии сердечно-сосудистой и дыхательной систем. Э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ценка состояния здоровья ребенка. А дальше технология «БОС-Здоровье» позволяет эффективно корректировать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функционально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Лежнякова М Л\Рабочий стол\фото спартакиада 2014\DSC04387.JPG"/>
          <p:cNvPicPr/>
          <p:nvPr/>
        </p:nvPicPr>
        <p:blipFill>
          <a:blip r:embed="rId1"/>
          <a:stretch/>
        </p:blipFill>
        <p:spPr>
          <a:xfrm>
            <a:off x="3851280" y="4292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4738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Реализация технологии «БОС-Здоровье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Для реализации технологии используются сов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возможности мультимедийной техники, оборудование Б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и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Занятия  по  технологии  «БОС-Здоровье»  проходят 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c0039"/>
                </a:solidFill>
                <a:latin typeface="Arial"/>
              </a:rPr>
              <a:t>оборудованном на 4 посадочных места каби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:\Изображения, музыка\фото 29.11.14\DSC04684.JPG"/>
          <p:cNvPicPr/>
          <p:nvPr/>
        </p:nvPicPr>
        <p:blipFill>
          <a:blip r:embed="rId1"/>
          <a:stretch/>
        </p:blipFill>
        <p:spPr>
          <a:xfrm>
            <a:off x="3995640" y="4292640"/>
            <a:ext cx="36007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6:48:30Z</dcterms:created>
  <dc:creator>user</dc:creator>
  <dc:description/>
  <dc:language>en-US</dc:language>
  <cp:lastModifiedBy>User</cp:lastModifiedBy>
  <dcterms:modified xsi:type="dcterms:W3CDTF">2020-04-08T06:41:02Z</dcterms:modified>
  <cp:revision>22</cp:revision>
  <dc:subject/>
  <dc:title>Педагогический совет</dc:title>
</cp:coreProperties>
</file>