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BDC-C9E8-4ACD-AFAF-D7B82844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511-3208-4510-AEAD-FF6E04E6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135F-F9F9-4E80-958F-29D97F7B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B0C-60CF-42DB-A508-EB95499B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CE1-0D7D-4D63-9A9F-FE39E66D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98E-9551-4CBD-8132-CF5B5095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390-CB32-4048-976E-15114F6B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4E4-A36D-44A9-9CE8-B142CB63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442-F8A4-4AA7-9262-5562FBDA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969-A57D-4D5C-8AA5-ABFCF2F4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393-8606-481D-B2FC-831050C4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D92-DEF4-4881-90D4-BC535CA6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709C-6F3B-4ECF-AF73-EF12F074FD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0"/>
            <a:ext cx="9144000" cy="862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0" y="2858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ражнение стр. 1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1071720"/>
          <a:ext cx="9144000" cy="2773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льные электрол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лабые электрол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электрол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MgS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CaCl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OH  K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Mg(OH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4" name="TextBox 8"/>
          <p:cNvSpPr/>
          <p:nvPr/>
        </p:nvSpPr>
        <p:spPr>
          <a:xfrm>
            <a:off x="3071880" y="928800"/>
            <a:ext cx="3000240" cy="1373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абые электролиты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электрол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  к «Теории  электролитической диссоци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571680"/>
          <a:ext cx="9144000" cy="64306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  </a:t>
                      </a:r>
                      <a:br>
                        <a:rPr sz="4400"/>
                      </a:b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  </a:t>
                      </a:r>
                      <a:br>
                        <a:rPr sz="44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  </a:t>
                      </a:r>
                      <a:br>
                        <a:rPr sz="4400"/>
                      </a:b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   </a:t>
                      </a:r>
                      <a:br>
                        <a:rPr sz="44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    </a:t>
                      </a:r>
                      <a:br>
                        <a:rPr sz="40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    </a:t>
                      </a:r>
                      <a:br>
                        <a:rPr sz="40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  </a:t>
                      </a:r>
                      <a:br>
                        <a:rPr sz="40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br>
                        <a:rPr sz="44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   </a:t>
                      </a:r>
                      <a:br>
                        <a:rPr sz="40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 </a:t>
                      </a:r>
                      <a:br>
                        <a:rPr sz="40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    </a:t>
                      </a:r>
                      <a:br>
                        <a:rPr sz="40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br>
                        <a:rPr sz="44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оугольник 16"/>
          <p:cNvSpPr/>
          <p:nvPr/>
        </p:nvSpPr>
        <p:spPr>
          <a:xfrm>
            <a:off x="0" y="1428840"/>
            <a:ext cx="8786880" cy="6429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0" y="2714760"/>
            <a:ext cx="8858160" cy="6429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0"/>
          <p:cNvSpPr/>
          <p:nvPr/>
        </p:nvSpPr>
        <p:spPr>
          <a:xfrm>
            <a:off x="0" y="4143240"/>
            <a:ext cx="91440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1"/>
          <p:cNvSpPr/>
          <p:nvPr/>
        </p:nvSpPr>
        <p:spPr>
          <a:xfrm>
            <a:off x="928800" y="6500880"/>
            <a:ext cx="785880" cy="3571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2"/>
          <p:cNvSpPr/>
          <p:nvPr/>
        </p:nvSpPr>
        <p:spPr>
          <a:xfrm>
            <a:off x="0" y="5572080"/>
            <a:ext cx="91440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3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3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0" y="214200"/>
            <a:ext cx="9144000" cy="9052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ассификация неорганических соеди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928800"/>
          <a:ext cx="9144000" cy="27144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571840"/>
                <a:gridCol w="2000160"/>
              </a:tblGrid>
              <a:tr h="123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си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слот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а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Э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х</a:t>
                      </a:r>
                      <a:r>
                        <a:rPr b="1" lang="ru-RU" sz="44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</a:t>
                      </a:r>
                      <a:r>
                        <a:rPr b="1" lang="ru-RU" sz="4400" spc="-1" strike="noStrike" baseline="30000">
                          <a:solidFill>
                            <a:srgbClr val="7030a0"/>
                          </a:solidFill>
                          <a:latin typeface="Calibri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r>
                        <a:rPr b="1" lang="ru-RU" sz="4000" spc="-1" strike="noStrike" baseline="-25000">
                          <a:solidFill>
                            <a:srgbClr val="ff0000"/>
                          </a:solidFill>
                          <a:latin typeface="Calibri"/>
                        </a:rPr>
                        <a:t>х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А</a:t>
                      </a:r>
                      <a:r>
                        <a:rPr b="1" lang="ru-RU" sz="4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х-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(</a:t>
                      </a: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Н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4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r>
                        <a:rPr b="1" lang="ru-RU" sz="4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r>
                        <a:rPr b="1" lang="ru-RU" sz="4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7" name="TextBox 4"/>
          <p:cNvSpPr/>
          <p:nvPr/>
        </p:nvSpPr>
        <p:spPr>
          <a:xfrm>
            <a:off x="0" y="857160"/>
            <a:ext cx="2500200" cy="2561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еэл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троли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214200" y="357120"/>
            <a:ext cx="8715600" cy="581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ислоты, основания, соли в свете ТЭ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0" y="0"/>
            <a:ext cx="91440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ссоциация кисл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857160"/>
          <a:ext cx="8929800" cy="2378160"/>
        </p:xfrm>
        <a:graphic>
          <a:graphicData uri="http://schemas.openxmlformats.org/drawingml/2006/table">
            <a:tbl>
              <a:tblPr/>
              <a:tblGrid>
                <a:gridCol w="4465800"/>
                <a:gridCol w="4464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 Н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 Br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51" name="TextBox 3"/>
          <p:cNvGrpSpPr/>
          <p:nvPr/>
        </p:nvGrpSpPr>
        <p:grpSpPr>
          <a:xfrm>
            <a:off x="-6480" y="993600"/>
            <a:ext cx="3724560" cy="938520"/>
            <a:chOff x="-6480" y="993600"/>
            <a:chExt cx="3724560" cy="938520"/>
          </a:xfrm>
        </p:grpSpPr>
        <p:pic>
          <p:nvPicPr>
            <p:cNvPr id="52" name="TextBox 3" descr=""/>
            <p:cNvPicPr/>
            <p:nvPr/>
          </p:nvPicPr>
          <p:blipFill>
            <a:blip r:embed="rId1"/>
            <a:stretch/>
          </p:blipFill>
          <p:spPr>
            <a:xfrm>
              <a:off x="-6480" y="993600"/>
              <a:ext cx="372456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1000080"/>
              <a:ext cx="3714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4"/>
          <p:cNvSpPr/>
          <p:nvPr/>
        </p:nvSpPr>
        <p:spPr>
          <a:xfrm>
            <a:off x="0" y="2214720"/>
            <a:ext cx="4071960" cy="9169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TextBox 5"/>
          <p:cNvGrpSpPr/>
          <p:nvPr/>
        </p:nvGrpSpPr>
        <p:grpSpPr>
          <a:xfrm>
            <a:off x="4492800" y="993600"/>
            <a:ext cx="4297320" cy="938520"/>
            <a:chOff x="4492800" y="993600"/>
            <a:chExt cx="4297320" cy="938520"/>
          </a:xfrm>
        </p:grpSpPr>
        <p:pic>
          <p:nvPicPr>
            <p:cNvPr id="56" name="TextBox 5" descr=""/>
            <p:cNvPicPr/>
            <p:nvPr/>
          </p:nvPicPr>
          <p:blipFill>
            <a:blip r:embed="rId2"/>
            <a:stretch/>
          </p:blipFill>
          <p:spPr>
            <a:xfrm>
              <a:off x="4492800" y="993600"/>
              <a:ext cx="429732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00720" y="1000080"/>
              <a:ext cx="4286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>
            <a:off x="4714920" y="2286000"/>
            <a:ext cx="2428920" cy="9169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0" y="38577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ислоты – это электролиты, состоящие из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тионов водорода (Н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анионов кислотного оста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е для всех кислот -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тионы вод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.1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0" y="0"/>
            <a:ext cx="91440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ссоциация осн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857160"/>
          <a:ext cx="8929800" cy="2378160"/>
        </p:xfrm>
        <a:graphic>
          <a:graphicData uri="http://schemas.openxmlformats.org/drawingml/2006/table">
            <a:tbl>
              <a:tblPr/>
              <a:tblGrid>
                <a:gridCol w="4465800"/>
                <a:gridCol w="4464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OH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 OH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(OH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(OH)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+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(OH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62" name="TextBox 3"/>
          <p:cNvGrpSpPr/>
          <p:nvPr/>
        </p:nvGrpSpPr>
        <p:grpSpPr>
          <a:xfrm>
            <a:off x="-6480" y="2279520"/>
            <a:ext cx="4297320" cy="933480"/>
            <a:chOff x="-6480" y="2279520"/>
            <a:chExt cx="4297320" cy="933480"/>
          </a:xfrm>
        </p:grpSpPr>
        <p:pic>
          <p:nvPicPr>
            <p:cNvPr id="63" name="TextBox 3" descr=""/>
            <p:cNvPicPr/>
            <p:nvPr/>
          </p:nvPicPr>
          <p:blipFill>
            <a:blip r:embed="rId1"/>
            <a:stretch/>
          </p:blipFill>
          <p:spPr>
            <a:xfrm>
              <a:off x="-6480" y="2279520"/>
              <a:ext cx="42973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0" y="2286000"/>
              <a:ext cx="4286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4"/>
          <p:cNvSpPr/>
          <p:nvPr/>
        </p:nvSpPr>
        <p:spPr>
          <a:xfrm>
            <a:off x="0" y="1071720"/>
            <a:ext cx="4286160" cy="9169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TextBox 5"/>
          <p:cNvGrpSpPr/>
          <p:nvPr/>
        </p:nvGrpSpPr>
        <p:grpSpPr>
          <a:xfrm>
            <a:off x="4565520" y="2139840"/>
            <a:ext cx="4297320" cy="932040"/>
            <a:chOff x="4565520" y="2139840"/>
            <a:chExt cx="4297320" cy="932040"/>
          </a:xfrm>
        </p:grpSpPr>
        <p:pic>
          <p:nvPicPr>
            <p:cNvPr id="67" name="TextBox 5" descr=""/>
            <p:cNvPicPr/>
            <p:nvPr/>
          </p:nvPicPr>
          <p:blipFill>
            <a:blip r:embed="rId2"/>
            <a:stretch/>
          </p:blipFill>
          <p:spPr>
            <a:xfrm>
              <a:off x="4565520" y="2139840"/>
              <a:ext cx="42973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572000" y="2143080"/>
              <a:ext cx="4286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6"/>
          <p:cNvSpPr/>
          <p:nvPr/>
        </p:nvSpPr>
        <p:spPr>
          <a:xfrm>
            <a:off x="4572000" y="1000080"/>
            <a:ext cx="2428920" cy="9169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0" y="36432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ания – это электролиты (10), состоящие из катионов металлов и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идроксид- ионов (ОН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е для всех оснований(щелочей!) -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идроксид- 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.1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0" y="0"/>
            <a:ext cx="91440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ссоциация с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857160"/>
          <a:ext cx="8929800" cy="2378160"/>
        </p:xfrm>
        <a:graphic>
          <a:graphicData uri="http://schemas.openxmlformats.org/drawingml/2006/table">
            <a:tbl>
              <a:tblPr/>
              <a:tblGrid>
                <a:gridCol w="4465800"/>
                <a:gridCol w="4464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 N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C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73" name="TextBox 3"/>
          <p:cNvGrpSpPr/>
          <p:nvPr/>
        </p:nvGrpSpPr>
        <p:grpSpPr>
          <a:xfrm>
            <a:off x="-6480" y="993600"/>
            <a:ext cx="4157640" cy="938520"/>
            <a:chOff x="-6480" y="993600"/>
            <a:chExt cx="4157640" cy="938520"/>
          </a:xfrm>
        </p:grpSpPr>
        <p:pic>
          <p:nvPicPr>
            <p:cNvPr id="74" name="TextBox 3" descr=""/>
            <p:cNvPicPr/>
            <p:nvPr/>
          </p:nvPicPr>
          <p:blipFill>
            <a:blip r:embed="rId1"/>
            <a:stretch/>
          </p:blipFill>
          <p:spPr>
            <a:xfrm>
              <a:off x="-6480" y="993600"/>
              <a:ext cx="415764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0" y="1000080"/>
              <a:ext cx="4143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4"/>
          <p:cNvSpPr/>
          <p:nvPr/>
        </p:nvSpPr>
        <p:spPr>
          <a:xfrm>
            <a:off x="0" y="2214720"/>
            <a:ext cx="4286160" cy="9169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TextBox 5"/>
          <p:cNvGrpSpPr/>
          <p:nvPr/>
        </p:nvGrpSpPr>
        <p:grpSpPr>
          <a:xfrm>
            <a:off x="4492800" y="2139840"/>
            <a:ext cx="4297320" cy="932040"/>
            <a:chOff x="4492800" y="2139840"/>
            <a:chExt cx="4297320" cy="932040"/>
          </a:xfrm>
        </p:grpSpPr>
        <p:pic>
          <p:nvPicPr>
            <p:cNvPr id="78" name="TextBox 5" descr=""/>
            <p:cNvPicPr/>
            <p:nvPr/>
          </p:nvPicPr>
          <p:blipFill>
            <a:blip r:embed="rId2"/>
            <a:stretch/>
          </p:blipFill>
          <p:spPr>
            <a:xfrm>
              <a:off x="4492800" y="2139840"/>
              <a:ext cx="42973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500720" y="2143080"/>
              <a:ext cx="4286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Box 6"/>
          <p:cNvSpPr/>
          <p:nvPr/>
        </p:nvSpPr>
        <p:spPr>
          <a:xfrm>
            <a:off x="4572000" y="1000080"/>
            <a:ext cx="2214720" cy="9169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0" y="44290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ли – это электролиты, состоящие из катионов металлов и   анионов кислотных остат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их ионов у солей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.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0" y="214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§ 40, упр 1 (сильные электролиты и       неэлектролит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§ 41 упр 1 (средние соли , кислые – по желанию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0" y="0"/>
            <a:ext cx="9144000" cy="5087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HSO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4       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baseline="-25000">
                <a:solidFill>
                  <a:srgbClr val="000000"/>
                </a:solidFill>
                <a:latin typeface="Calibri"/>
              </a:rPr>
              <a:t>К      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baseline="-25000">
                <a:solidFill>
                  <a:srgbClr val="000000"/>
                </a:solidFill>
                <a:latin typeface="Calibri"/>
              </a:rPr>
              <a:t>Н      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HSO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=К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"/>
          <p:cNvSpPr/>
          <p:nvPr/>
        </p:nvSpPr>
        <p:spPr>
          <a:xfrm>
            <a:off x="428760" y="1143000"/>
            <a:ext cx="285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4"/>
          <p:cNvSpPr/>
          <p:nvPr/>
        </p:nvSpPr>
        <p:spPr>
          <a:xfrm>
            <a:off x="500040" y="2214720"/>
            <a:ext cx="285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6"/>
          <p:cNvSpPr/>
          <p:nvPr/>
        </p:nvSpPr>
        <p:spPr>
          <a:xfrm>
            <a:off x="1285920" y="1214280"/>
            <a:ext cx="28584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7"/>
          <p:cNvSpPr/>
          <p:nvPr/>
        </p:nvSpPr>
        <p:spPr>
          <a:xfrm flipV="1">
            <a:off x="1214280" y="1928520"/>
            <a:ext cx="28584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643040" y="15001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0"/>
          <p:cNvSpPr/>
          <p:nvPr/>
        </p:nvSpPr>
        <p:spPr>
          <a:xfrm>
            <a:off x="2071800" y="1928880"/>
            <a:ext cx="28548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2143080" y="1857240"/>
            <a:ext cx="28584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3"/>
          <p:cNvSpPr/>
          <p:nvPr/>
        </p:nvSpPr>
        <p:spPr>
          <a:xfrm flipV="1">
            <a:off x="2143080" y="1357200"/>
            <a:ext cx="28584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4"/>
          <p:cNvSpPr/>
          <p:nvPr/>
        </p:nvSpPr>
        <p:spPr>
          <a:xfrm flipV="1">
            <a:off x="2214720" y="1428480"/>
            <a:ext cx="28548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2571840" y="85716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2571840" y="17859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8"/>
          <p:cNvSpPr/>
          <p:nvPr/>
        </p:nvSpPr>
        <p:spPr>
          <a:xfrm>
            <a:off x="2286000" y="285768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"/>
          <p:cNvSpPr/>
          <p:nvPr/>
        </p:nvSpPr>
        <p:spPr>
          <a:xfrm>
            <a:off x="2643120" y="2643120"/>
            <a:ext cx="1500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HSO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 flipV="1">
            <a:off x="1928880" y="2571120"/>
            <a:ext cx="1928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22"/>
          <p:cNvSpPr/>
          <p:nvPr/>
        </p:nvSpPr>
        <p:spPr>
          <a:xfrm flipH="1">
            <a:off x="569520" y="928800"/>
            <a:ext cx="1800" cy="50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24"/>
          <p:cNvSpPr/>
          <p:nvPr/>
        </p:nvSpPr>
        <p:spPr>
          <a:xfrm flipH="1">
            <a:off x="641520" y="2071800"/>
            <a:ext cx="1440" cy="285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5"/>
          <p:cNvSpPr/>
          <p:nvPr/>
        </p:nvSpPr>
        <p:spPr>
          <a:xfrm flipH="1">
            <a:off x="785880" y="2071800"/>
            <a:ext cx="1440" cy="285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9"/>
          <p:cNvSpPr/>
          <p:nvPr/>
        </p:nvSpPr>
        <p:spPr>
          <a:xfrm>
            <a:off x="2357280" y="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иссоциация кислых со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1"/>
          <p:cNvSpPr/>
          <p:nvPr/>
        </p:nvSpPr>
        <p:spPr>
          <a:xfrm>
            <a:off x="3500280" y="2786040"/>
            <a:ext cx="21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2"/>
          <p:cNvSpPr/>
          <p:nvPr/>
        </p:nvSpPr>
        <p:spPr>
          <a:xfrm>
            <a:off x="0" y="2142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142920"/>
          <a:ext cx="9144000" cy="6983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9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 40,   упр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льные электролит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 Н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 N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 P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 Н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 Cl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OH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ru-RU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 OH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(OH)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+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электролит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(OH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6269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 4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  упр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е сол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Cl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+</a:t>
                      </a:r>
                      <a:r>
                        <a:rPr b="1" lang="ru-RU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+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ые сол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S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HS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8:13:41Z</dcterms:created>
  <dc:creator>Павел</dc:creator>
  <dc:description/>
  <dc:language>en-US</dc:language>
  <cp:lastModifiedBy>Ирина</cp:lastModifiedBy>
  <dcterms:modified xsi:type="dcterms:W3CDTF">2016-02-29T21:21:56Z</dcterms:modified>
  <cp:revision>25</cp:revision>
  <dc:subject/>
  <dc:title>Слайд 1</dc:title>
</cp:coreProperties>
</file>