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E94-7EDF-4B34-B0B5-04AF38F1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001-DBE3-4BCB-AF39-3CC2BC2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549-3E9C-46BC-AE58-6D7B0408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AC9-67E3-43E7-941B-9E0B81ED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5C5-8AF6-4F07-9DFC-A9FE4C4C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C34-81F4-4CEB-95AB-6D810C33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F86-061F-4E6E-BA33-D327522E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881-2D35-4113-8114-FD5B9CC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8FB-03F3-4C25-918A-9FEDF8EA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339-788A-4F1F-8674-2725A06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0FA-A404-4D80-A85C-F1E3062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82B-9788-4DBD-A62D-E82B95A2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C20-9F9B-4B4D-AF0A-767C45FBF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жнение стр. 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071720"/>
          <a:ext cx="9144000" cy="2773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аб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Mg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CaC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  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Mg(OH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TextBox 8"/>
          <p:cNvSpPr/>
          <p:nvPr/>
        </p:nvSpPr>
        <p:spPr>
          <a:xfrm>
            <a:off x="3071880" y="928800"/>
            <a:ext cx="3000240" cy="1373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абые электролиты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электро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  к «Теории  электролитической диссоци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571680"/>
          <a:ext cx="9144000" cy="6430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</a:t>
                      </a:r>
                      <a:br>
                        <a:rPr sz="4400"/>
                      </a:b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  </a:t>
                      </a:r>
                      <a:br>
                        <a:rPr sz="4400"/>
                      </a:b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 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16"/>
          <p:cNvSpPr/>
          <p:nvPr/>
        </p:nvSpPr>
        <p:spPr>
          <a:xfrm>
            <a:off x="0" y="1428840"/>
            <a:ext cx="8786880" cy="6429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0" y="2714760"/>
            <a:ext cx="8858160" cy="6429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0"/>
          <p:cNvSpPr/>
          <p:nvPr/>
        </p:nvSpPr>
        <p:spPr>
          <a:xfrm>
            <a:off x="0" y="4143240"/>
            <a:ext cx="9144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"/>
          <p:cNvSpPr/>
          <p:nvPr/>
        </p:nvSpPr>
        <p:spPr>
          <a:xfrm>
            <a:off x="928800" y="6500880"/>
            <a:ext cx="785880" cy="3571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214200"/>
            <a:ext cx="9144000" cy="9052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неорганически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928800"/>
          <a:ext cx="9144000" cy="2714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571840"/>
                <a:gridCol w="2000160"/>
              </a:tblGrid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с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</a:t>
                      </a:r>
                      <a:r>
                        <a:rPr b="1" lang="ru-RU" sz="4400" spc="-1" strike="noStrike" baseline="30000">
                          <a:solidFill>
                            <a:srgbClr val="7030a0"/>
                          </a:solidFill>
                          <a:latin typeface="Calibri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4000" spc="-1" strike="noStrike" baseline="-25000">
                          <a:solidFill>
                            <a:srgbClr val="ff000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А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х-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(</a:t>
                      </a: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Н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4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7" name="TextBox 4"/>
          <p:cNvSpPr/>
          <p:nvPr/>
        </p:nvSpPr>
        <p:spPr>
          <a:xfrm>
            <a:off x="0" y="857160"/>
            <a:ext cx="2500200" cy="2561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эл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роли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14200" y="357120"/>
            <a:ext cx="871560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слоты, основания, соли в свете ТЭ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кис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Br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51" name="TextBox 3"/>
          <p:cNvGrpSpPr/>
          <p:nvPr/>
        </p:nvGrpSpPr>
        <p:grpSpPr>
          <a:xfrm>
            <a:off x="-6480" y="993600"/>
            <a:ext cx="3724560" cy="938520"/>
            <a:chOff x="-6480" y="993600"/>
            <a:chExt cx="3724560" cy="938520"/>
          </a:xfrm>
        </p:grpSpPr>
        <p:pic>
          <p:nvPicPr>
            <p:cNvPr id="52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993600"/>
              <a:ext cx="37245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1000080"/>
              <a:ext cx="3714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4"/>
          <p:cNvSpPr/>
          <p:nvPr/>
        </p:nvSpPr>
        <p:spPr>
          <a:xfrm>
            <a:off x="0" y="2214720"/>
            <a:ext cx="40719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TextBox 5"/>
          <p:cNvGrpSpPr/>
          <p:nvPr/>
        </p:nvGrpSpPr>
        <p:grpSpPr>
          <a:xfrm>
            <a:off x="4492800" y="993600"/>
            <a:ext cx="4297320" cy="938520"/>
            <a:chOff x="4492800" y="993600"/>
            <a:chExt cx="4297320" cy="938520"/>
          </a:xfrm>
        </p:grpSpPr>
        <p:pic>
          <p:nvPicPr>
            <p:cNvPr id="56" name="TextBox 5" descr=""/>
            <p:cNvPicPr/>
            <p:nvPr/>
          </p:nvPicPr>
          <p:blipFill>
            <a:blip r:embed="rId2"/>
            <a:stretch/>
          </p:blipFill>
          <p:spPr>
            <a:xfrm>
              <a:off x="4492800" y="993600"/>
              <a:ext cx="42973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00720" y="1000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>
            <a:off x="4714920" y="2286000"/>
            <a:ext cx="24289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3857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слоты – это электролиты, состоящие из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тионов водорода (Н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анионов кислотного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для всех кислот -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тионы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осн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OH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OH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(OH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(OH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(OH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62" name="TextBox 3"/>
          <p:cNvGrpSpPr/>
          <p:nvPr/>
        </p:nvGrpSpPr>
        <p:grpSpPr>
          <a:xfrm>
            <a:off x="-6480" y="2279520"/>
            <a:ext cx="4297320" cy="933480"/>
            <a:chOff x="-6480" y="2279520"/>
            <a:chExt cx="4297320" cy="933480"/>
          </a:xfrm>
        </p:grpSpPr>
        <p:pic>
          <p:nvPicPr>
            <p:cNvPr id="63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2279520"/>
              <a:ext cx="42973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228600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4"/>
          <p:cNvSpPr/>
          <p:nvPr/>
        </p:nvSpPr>
        <p:spPr>
          <a:xfrm>
            <a:off x="0" y="1071720"/>
            <a:ext cx="42861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TextBox 5"/>
          <p:cNvGrpSpPr/>
          <p:nvPr/>
        </p:nvGrpSpPr>
        <p:grpSpPr>
          <a:xfrm>
            <a:off x="4565520" y="2139840"/>
            <a:ext cx="4297320" cy="932040"/>
            <a:chOff x="4565520" y="2139840"/>
            <a:chExt cx="4297320" cy="932040"/>
          </a:xfrm>
        </p:grpSpPr>
        <p:pic>
          <p:nvPicPr>
            <p:cNvPr id="67" name="TextBox 5" descr=""/>
            <p:cNvPicPr/>
            <p:nvPr/>
          </p:nvPicPr>
          <p:blipFill>
            <a:blip r:embed="rId2"/>
            <a:stretch/>
          </p:blipFill>
          <p:spPr>
            <a:xfrm>
              <a:off x="4565520" y="2139840"/>
              <a:ext cx="42973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0" y="2143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6"/>
          <p:cNvSpPr/>
          <p:nvPr/>
        </p:nvSpPr>
        <p:spPr>
          <a:xfrm>
            <a:off x="4572000" y="1000080"/>
            <a:ext cx="24289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36432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я – это электролиты (10), состоящие из катионов металлов и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дроксид- ионов (ОН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для всех оснований(щелочей!) -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дроксид- 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с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73" name="TextBox 3"/>
          <p:cNvGrpSpPr/>
          <p:nvPr/>
        </p:nvGrpSpPr>
        <p:grpSpPr>
          <a:xfrm>
            <a:off x="-6480" y="993600"/>
            <a:ext cx="4157640" cy="938520"/>
            <a:chOff x="-6480" y="993600"/>
            <a:chExt cx="4157640" cy="938520"/>
          </a:xfrm>
        </p:grpSpPr>
        <p:pic>
          <p:nvPicPr>
            <p:cNvPr id="74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993600"/>
              <a:ext cx="415764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1000080"/>
              <a:ext cx="414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4"/>
          <p:cNvSpPr/>
          <p:nvPr/>
        </p:nvSpPr>
        <p:spPr>
          <a:xfrm>
            <a:off x="0" y="2214720"/>
            <a:ext cx="42861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TextBox 5"/>
          <p:cNvGrpSpPr/>
          <p:nvPr/>
        </p:nvGrpSpPr>
        <p:grpSpPr>
          <a:xfrm>
            <a:off x="4492800" y="2139840"/>
            <a:ext cx="4297320" cy="932040"/>
            <a:chOff x="4492800" y="2139840"/>
            <a:chExt cx="4297320" cy="932040"/>
          </a:xfrm>
        </p:grpSpPr>
        <p:pic>
          <p:nvPicPr>
            <p:cNvPr id="78" name="TextBox 5" descr=""/>
            <p:cNvPicPr/>
            <p:nvPr/>
          </p:nvPicPr>
          <p:blipFill>
            <a:blip r:embed="rId2"/>
            <a:stretch/>
          </p:blipFill>
          <p:spPr>
            <a:xfrm>
              <a:off x="4492800" y="2139840"/>
              <a:ext cx="42973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00720" y="2143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6"/>
          <p:cNvSpPr/>
          <p:nvPr/>
        </p:nvSpPr>
        <p:spPr>
          <a:xfrm>
            <a:off x="4572000" y="1000080"/>
            <a:ext cx="22147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0" y="4429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ли – это электролиты, состоящие из катионов металлов и   анионов кислотных оста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их ионов у солей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214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§ 40, упр 1 (сильные электролиты и       неэлектроли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§ 41 упр 1 (средние соли , кислые – по желанию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0"/>
            <a:ext cx="9144000" cy="5087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H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4       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К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Н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HS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=К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"/>
          <p:cNvSpPr/>
          <p:nvPr/>
        </p:nvSpPr>
        <p:spPr>
          <a:xfrm>
            <a:off x="428760" y="1143000"/>
            <a:ext cx="285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"/>
          <p:cNvSpPr/>
          <p:nvPr/>
        </p:nvSpPr>
        <p:spPr>
          <a:xfrm>
            <a:off x="500040" y="221472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1285920" y="121428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7"/>
          <p:cNvSpPr/>
          <p:nvPr/>
        </p:nvSpPr>
        <p:spPr>
          <a:xfrm flipV="1">
            <a:off x="1214280" y="1928520"/>
            <a:ext cx="28584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643040" y="15001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>
            <a:off x="2071800" y="1928880"/>
            <a:ext cx="2854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2143080" y="185724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3"/>
          <p:cNvSpPr/>
          <p:nvPr/>
        </p:nvSpPr>
        <p:spPr>
          <a:xfrm flipV="1">
            <a:off x="2143080" y="135720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2214720" y="1428480"/>
            <a:ext cx="2854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2571840" y="85716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2571840" y="1785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2286000" y="28576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2643120" y="2643120"/>
            <a:ext cx="150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H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 flipV="1">
            <a:off x="1928880" y="257112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2"/>
          <p:cNvSpPr/>
          <p:nvPr/>
        </p:nvSpPr>
        <p:spPr>
          <a:xfrm flipH="1">
            <a:off x="569520" y="928800"/>
            <a:ext cx="1800" cy="50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4"/>
          <p:cNvSpPr/>
          <p:nvPr/>
        </p:nvSpPr>
        <p:spPr>
          <a:xfrm flipH="1">
            <a:off x="641520" y="2071800"/>
            <a:ext cx="144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5"/>
          <p:cNvSpPr/>
          <p:nvPr/>
        </p:nvSpPr>
        <p:spPr>
          <a:xfrm flipH="1">
            <a:off x="785880" y="2071800"/>
            <a:ext cx="144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2357280" y="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иссоциация кислых со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3500280" y="2786040"/>
            <a:ext cx="21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214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42920"/>
          <a:ext cx="9144000" cy="698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9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 40,   упр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ые электролит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C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OH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(OH)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электроли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(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 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  упр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е со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Cl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ые со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S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H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13:41Z</dcterms:created>
  <dc:creator>Павел</dc:creator>
  <dc:description/>
  <dc:language>en-US</dc:language>
  <cp:lastModifiedBy>Ирина</cp:lastModifiedBy>
  <dcterms:modified xsi:type="dcterms:W3CDTF">2016-02-29T21:21:56Z</dcterms:modified>
  <cp:revision>25</cp:revision>
  <dc:subject/>
  <dc:title>Слайд 1</dc:title>
</cp:coreProperties>
</file>