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D73-B3E0-4D4B-9C4A-70063184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AE3-B226-4C86-8CBA-EC8A617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A71-DA85-4BF9-8EA6-BC8823F6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703-C944-4356-A46C-3163854A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FC4-3F7C-402C-917D-EB0C13F9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80E-F59A-49B1-AB79-0D501A0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E3B-200C-4DEE-B1BD-3CC967A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D27-555D-4ED4-BC51-C0494B29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0F7-BE10-47F5-94AE-7D5FF94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CBC-8619-40A6-B5F7-0CE0CA6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6DA-CB76-46C2-AD64-9949E1D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1E1-ACA8-4A5F-90E6-1EDB893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1628-FE9A-4722-8D97-4CB06A8D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97000"/>
            <a:ext cx="784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строение логической функ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таблице истин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843280" y="18900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пр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конъюнкци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конъюнкци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924280"/>
            <a:ext cx="8207280" cy="9169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лементарной дизъюнкцие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называется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дизъюнкц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нескольких переменных, взятых с отрицанием или без отрицания, причем среди переменных могут быть одина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221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диз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онъюнкций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дизъюнктивной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445000"/>
            <a:ext cx="820728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сякую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конъюнкц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элементарных дизъюнкций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зовем конъюнктивной  нормальной формой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4936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ци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645000"/>
            <a:ext cx="8569440" cy="22885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вершенн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онъюнктивно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нормальной формой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в которой нет одинаковых элементарных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и вс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состоят из одного и того же набора переменных, в который каждая переменная входит только один раз (возможно, с отрица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47640" y="981000"/>
          <a:ext cx="6793200" cy="4856400"/>
        </p:xfrm>
        <a:graphic>
          <a:graphicData uri="http://schemas.openxmlformats.org/drawingml/2006/table">
            <a:tbl>
              <a:tblPr/>
              <a:tblGrid>
                <a:gridCol w="2032200"/>
                <a:gridCol w="2455920"/>
                <a:gridCol w="2305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звание формулы в опреде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ормула, не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ответствующая опред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диз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Элементарная конъю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¬X &amp; Y &amp;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Д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&amp;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СК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&amp;(¬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\/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Z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ую функцию, кроме констан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можно представить как в виде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так и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СКН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989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Теорема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781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КНФ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14972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нстант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может быть представлена только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ДНФ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\/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413000"/>
            <a:ext cx="432000" cy="503280"/>
          </a:xfrm>
          <a:prstGeom prst="upArrow">
            <a:avLst>
              <a:gd name="adj1" fmla="val 50000"/>
              <a:gd name="adj2" fmla="val 2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Д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060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1557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конъюнкцию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конъюнкцию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amp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3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26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Алгоритм получения СКНФ по таблице исти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836640"/>
          <a:ext cx="2158920" cy="1976400"/>
        </p:xfrm>
        <a:graphic>
          <a:graphicData uri="http://schemas.openxmlformats.org/drawingml/2006/table">
            <a:tbl>
              <a:tblPr/>
              <a:tblGrid>
                <a:gridCol w="574560"/>
                <a:gridCol w="576360"/>
                <a:gridCol w="10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,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203640" y="83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метить те строки таблицы истинности, в последнем столбце которых сто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421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1268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Выписать для каждой отмеченной строки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всех переменных следующим образом: если значение некоторой переменной в данной строке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ю включать саму эту переменну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если равн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то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ее отриц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\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1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\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¬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дл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й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292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Все полученные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дизъюнкци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связать в </a:t>
            </a:r>
            <a:r>
              <a:rPr b="1" i="1" lang="en-US" sz="1800" spc="-1" strike="noStrike">
                <a:solidFill>
                  <a:srgbClr val="6600ff"/>
                </a:solidFill>
                <a:latin typeface="Arial"/>
              </a:rPr>
              <a:t>конъюн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724280"/>
            <a:ext cx="2664000" cy="459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(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¬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4000" y="189000"/>
            <a:ext cx="1761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24360" y="260280"/>
          <a:ext cx="2376360" cy="367200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647640"/>
                <a:gridCol w="504720"/>
              </a:tblGrid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46836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ff"/>
                </a:solidFill>
                <a:latin typeface="Arial"/>
              </a:rPr>
              <a:t>Примечани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Для нахождения формулы по таблице истинности рекомендуется использовать тот из алгоритмов, в котором в таблице отмеч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еньш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рок. Если количество строк одинаковое, то выбрать люб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 таблице истинности написать логическую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0:30:24Z</dcterms:created>
  <dc:creator>Ирина</dc:creator>
  <dc:description/>
  <dc:language>en-US</dc:language>
  <cp:lastModifiedBy>Ирина</cp:lastModifiedBy>
  <dcterms:modified xsi:type="dcterms:W3CDTF">2020-04-08T08:21:44Z</dcterms:modified>
  <cp:revision>15</cp:revision>
  <dc:subject/>
  <dc:title>Слайд 1</dc:title>
</cp:coreProperties>
</file>