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68A-86E1-49B8-A335-E8DCDCF7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F3C6-94E3-40EF-816A-4EC8E698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85BD-F0CA-409E-95BE-EA354992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663-CFA1-4210-B615-95A08DE4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034-8DAB-4519-BC84-02084ABC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3963-8574-444A-91A6-61398A73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873-D3DB-4F8A-8711-D19DC5D1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24BE-13F7-4C05-A6D7-8E68E9D6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DC45-1885-4B98-BA35-4AD79FED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8044-FA89-4EF6-9A0E-3F173BE6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3E6F-DFA2-4389-9CA7-C57B9775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B0A5-8FEA-43C1-A889-D60E8F82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4573-052E-4B34-B4DE-C43BDCE66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197000"/>
            <a:ext cx="784872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строение логической функ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 таблице истиннос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843280" y="189000"/>
            <a:ext cx="3673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пред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8207280" cy="9169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Элементарной конъюнкцией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называется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конъюнкция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ескольких переменных, взятых с отрицанием или без отрицания, причем среди переменных могут быть одинак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924280"/>
            <a:ext cx="8207280" cy="9169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Элементарной дизъюнкцией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называется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дизъюнкци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нескольких переменных, взятых с отрицанием или без отрицания, причем среди переменных могут быть одинак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221000"/>
            <a:ext cx="8207280" cy="6426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сякую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дизъюнкцию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элементарных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конъюнкций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зовем дизъюнктивной нормальной формой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НФ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445000"/>
            <a:ext cx="8207280" cy="6426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сякую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конъюнкцию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элементарных дизъюнкций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зовем конъюнктивной  нормальной формой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НФ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549360"/>
            <a:ext cx="8569440" cy="22885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вершенной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дизъюнктивной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нормальной формой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ДН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 называется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Н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в которой нет одинаковых элементарных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конъюнкций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и все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конъюнкции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стоят из одного и того же набора переменных, в который каждая переменная входит только один раз (возможно, с отрицание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3645000"/>
            <a:ext cx="8569440" cy="22885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вершенной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конъюнктивной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нормальной формой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Н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 называется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Н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в которой нет одинаковых элементарных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дизъюнкций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и все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дизъюнкции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состоят из одного и того же набора переменных, в который каждая переменная входит только один раз (возможно, с отрицание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547640" y="981000"/>
          <a:ext cx="6793200" cy="4856400"/>
        </p:xfrm>
        <a:graphic>
          <a:graphicData uri="http://schemas.openxmlformats.org/drawingml/2006/table">
            <a:tbl>
              <a:tblPr/>
              <a:tblGrid>
                <a:gridCol w="2032200"/>
                <a:gridCol w="2455920"/>
                <a:gridCol w="2305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звание формулы в определ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ормула, соответствующая определ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ормула, не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оответствующая определ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Элементарная дизъю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Элементарная конъю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¬X &amp; Y &amp;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ДН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КН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&amp;(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(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&amp;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СДН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СКН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&amp;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&amp;(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549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юбую функцию, кроме констант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можно представить как в виде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СДН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так и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СКН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198900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Теорема алгебры лог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278136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нстант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может быть представлена только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КНФ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&amp;¬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414972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нстант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может быть представлена только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ДНФ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\/¬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95640" y="1413000"/>
            <a:ext cx="432000" cy="503280"/>
          </a:xfrm>
          <a:prstGeom prst="upArrow">
            <a:avLst>
              <a:gd name="adj1" fmla="val 50000"/>
              <a:gd name="adj2" fmla="val 29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5640" y="2602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Алгоритм получения СДНФ по таблице исти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4360" y="836640"/>
          <a:ext cx="2158920" cy="1976400"/>
        </p:xfrm>
        <a:graphic>
          <a:graphicData uri="http://schemas.openxmlformats.org/drawingml/2006/table">
            <a:tbl>
              <a:tblPr/>
              <a:tblGrid>
                <a:gridCol w="574560"/>
                <a:gridCol w="576360"/>
                <a:gridCol w="1008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,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203640" y="836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метить те строки таблицы истинности, в последнем столбце которых стоя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87640" y="206064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87640" y="155736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916280"/>
            <a:ext cx="56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Выписать для каждой отмеченной строки конъюнкцию всех переменных следующим образом: если значение некоторой переменной в данной строке равн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то в конъюнкцию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включать саму эту переменную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если равн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то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ее отрицани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3213000"/>
            <a:ext cx="302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¬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amp;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Y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для 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-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й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amp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¬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для 3-й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4292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Все полученные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конъюнкци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связать в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дизъюнк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4724280"/>
            <a:ext cx="2664000" cy="4597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¬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\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&amp;¬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55640" y="2602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Алгоритм получения СКНФ по таблице исти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4360" y="836640"/>
          <a:ext cx="2158920" cy="1976400"/>
        </p:xfrm>
        <a:graphic>
          <a:graphicData uri="http://schemas.openxmlformats.org/drawingml/2006/table">
            <a:tbl>
              <a:tblPr/>
              <a:tblGrid>
                <a:gridCol w="574560"/>
                <a:gridCol w="576360"/>
                <a:gridCol w="1008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,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3203640" y="836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метить те строки таблицы истинности, в последнем столбце которых стоя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242100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6360" y="12682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1916280"/>
            <a:ext cx="56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Выписать для каждой отмеченной строки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дизъюнкцию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всех переменных следующим образом: если значение некоторой переменной в данной строке равн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то в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дизъюнкцию включать саму эту переменную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если равн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то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ее отрицани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3213000"/>
            <a:ext cx="302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\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/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Y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для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1-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й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¬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\/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¬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для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-й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292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Все полученные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дизъюнкци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связать в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конъюнк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724280"/>
            <a:ext cx="2664000" cy="4597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\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&amp;(¬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\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¬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24000" y="189000"/>
            <a:ext cx="1761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724360" y="260280"/>
          <a:ext cx="2376360" cy="3672000"/>
        </p:xfrm>
        <a:graphic>
          <a:graphicData uri="http://schemas.openxmlformats.org/drawingml/2006/table">
            <a:tbl>
              <a:tblPr/>
              <a:tblGrid>
                <a:gridCol w="576000"/>
                <a:gridCol w="648000"/>
                <a:gridCol w="647640"/>
                <a:gridCol w="504720"/>
              </a:tblGrid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468360" y="5013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ff"/>
                </a:solidFill>
                <a:latin typeface="Arial"/>
              </a:rPr>
              <a:t>Примечание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. Для нахождения формулы по таблице истинности рекомендуется использовать тот из алгоритмов, в котором в таблице отмечается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еньше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трок. Если количество строк одинаковое, то выбрать люб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268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 таблице истинности написать логическую форму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10:30:24Z</dcterms:created>
  <dc:creator>Ирина</dc:creator>
  <dc:description/>
  <dc:language>en-US</dc:language>
  <cp:lastModifiedBy>Ирина</cp:lastModifiedBy>
  <dcterms:modified xsi:type="dcterms:W3CDTF">2020-04-08T08:21:44Z</dcterms:modified>
  <cp:revision>15</cp:revision>
  <dc:subject/>
  <dc:title>Слайд 1</dc:title>
</cp:coreProperties>
</file>