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107-61B6-4D5E-AB7B-4869D5E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12-E114-4B35-889F-8D5CED2A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723-F283-4CB7-9B50-9493AB71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8DB-0F27-4B06-B248-15E1E6FB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477-D9AD-4AE6-8B64-FF4D78B3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95B-8A2B-468D-A4F5-99113534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36B-773E-4C0A-AA08-C4A3932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ACC-FC9B-49AC-861B-67AEF7B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CDE-C3DF-49E8-8C60-90092BB2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C26-C6D3-4A62-881C-4ABD41F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CC3-99B9-4F6B-A5F9-2842E35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17F-2014-4DE2-8483-E91EF81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4D0-E764-490F-9E48-87A66853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97000"/>
            <a:ext cx="784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строение логической функ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таблице истин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843280" y="18900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конъюнкци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конъюнкци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92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дизъюнкцие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изъюнкц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221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диз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онъюнкци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дизъюнктивной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445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кон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дизъюнкций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конъюнктивной 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4936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64500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47640" y="981000"/>
          <a:ext cx="6793200" cy="4856400"/>
        </p:xfrm>
        <a:graphic>
          <a:graphicData uri="http://schemas.openxmlformats.org/drawingml/2006/table">
            <a:tbl>
              <a:tblPr/>
              <a:tblGrid>
                <a:gridCol w="2032200"/>
                <a:gridCol w="2455920"/>
                <a:gridCol w="2305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формулы в опреде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не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диз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кон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¬X &amp; Y &amp;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ую функцию, кроме констан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можно представить как в вид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так и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КН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989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Теорема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781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КНФ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14972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\/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413000"/>
            <a:ext cx="432000" cy="503280"/>
          </a:xfrm>
          <a:prstGeom prst="upArrow">
            <a:avLst>
              <a:gd name="adj1" fmla="val 50000"/>
              <a:gd name="adj2" fmla="val 2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Д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060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1557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конъюнкцию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конъюнкцию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3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К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421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1268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 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\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1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\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(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4000" y="189000"/>
            <a:ext cx="1761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24360" y="260280"/>
          <a:ext cx="2376360" cy="367200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647640"/>
                <a:gridCol w="50472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6836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ff"/>
                </a:solidFill>
                <a:latin typeface="Arial"/>
              </a:rPr>
              <a:t>Примечани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Для нахождения формулы по таблице истинности рекомендуется использовать тот из алгоритмов, в котором в таблице отмеч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еньш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рок. Если количество строк одинаковое, то выбрать люб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 таблице истинности написать логическую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0:30:24Z</dcterms:created>
  <dc:creator>Ирина</dc:creator>
  <dc:description/>
  <dc:language>en-US</dc:language>
  <cp:lastModifiedBy>Ирина</cp:lastModifiedBy>
  <dcterms:modified xsi:type="dcterms:W3CDTF">2020-04-08T08:21:44Z</dcterms:modified>
  <cp:revision>15</cp:revision>
  <dc:subject/>
  <dc:title>Слайд 1</dc:title>
</cp:coreProperties>
</file>