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58F-DF12-4FFF-9CDA-1AE9A6E1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51C-02FD-4906-A267-73ABA107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B0A-99D3-4535-9CE7-7A11485B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5FE-EA9F-488D-85A6-4CAA83C9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78B-2DE7-41D8-ADE3-AB74297D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91F-11AA-49F9-8EA0-BCF84B22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A6C-72D0-471A-8E2E-D2D183D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EA4-8917-447B-9B28-F9EA9AC2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64F-FB65-4CE1-A138-5DC6BA8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436-5C9E-4C5F-933A-41F5A3B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BB4-9018-42B3-8D5C-F5EAFBA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550-3D72-4EAF-960C-EADC330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7A8-6D9E-478D-9217-DDCDA669C3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000" y="242064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LES VERBES</a:t>
            </a:r>
            <a:br>
              <a:rPr sz="9600"/>
            </a:b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FRANÇAIS</a:t>
            </a:r>
            <a:endParaRPr b="0" lang="en-US" sz="9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arler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Picture 5" descr="https://ainteres.ru/wp-content/uploads/2017/03/secret.jpg"/>
          <p:cNvPicPr/>
          <p:nvPr/>
        </p:nvPicPr>
        <p:blipFill>
          <a:blip r:embed="rId1"/>
          <a:stretch/>
        </p:blipFill>
        <p:spPr>
          <a:xfrm>
            <a:off x="968400" y="333360"/>
            <a:ext cx="7207200" cy="4869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Aimer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2" descr="http://eti.ru/uploads/posts/old/1171373574_serdce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Ecouter la musique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3" name="Picture 2" descr="http://www.dou1787.ru/pics/74759378_3518263_mr2.jpg"/>
          <p:cNvPicPr/>
          <p:nvPr/>
        </p:nvPicPr>
        <p:blipFill>
          <a:blip r:embed="rId1"/>
          <a:stretch/>
        </p:blipFill>
        <p:spPr>
          <a:xfrm>
            <a:off x="2286000" y="42876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Etudier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4" descr="http://school38nov.narod.ru/malo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Demander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7" name="Picture 2" descr="http://cs9897.userapi.com/u122607022/-5/x_0575247f.jpg"/>
          <p:cNvPicPr/>
          <p:nvPr/>
        </p:nvPicPr>
        <p:blipFill>
          <a:blip r:embed="rId1"/>
          <a:srcRect l="0" t="15273" r="0" b="5326"/>
          <a:stretch/>
        </p:blipFill>
        <p:spPr>
          <a:xfrm>
            <a:off x="0" y="0"/>
            <a:ext cx="9144000" cy="53611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3000240" y="2643120"/>
            <a:ext cx="1857600" cy="2286000"/>
          </a:xfrm>
          <a:prstGeom prst="rect">
            <a:avLst/>
          </a:prstGeom>
          <a:solidFill>
            <a:srgbClr val="66ff33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Marcher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2" descr="http://www.siver-info.com/_nw/17/39265302.jpg"/>
          <p:cNvPicPr/>
          <p:nvPr/>
        </p:nvPicPr>
        <p:blipFill>
          <a:blip r:embed="rId1"/>
          <a:srcRect l="0" t="0" r="0" b="14998"/>
          <a:stretch/>
        </p:blipFill>
        <p:spPr>
          <a:xfrm>
            <a:off x="785880" y="50004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hercher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2" name="Picture 2" descr="http://www.showboatentertainment.com/images/portfolio/illustration/children_big/Lost_Ball_Children_Illustration.jpg"/>
          <p:cNvPicPr/>
          <p:nvPr/>
        </p:nvPicPr>
        <p:blipFill>
          <a:blip r:embed="rId1"/>
          <a:srcRect l="0" t="0" r="0" b="4347"/>
          <a:stretch/>
        </p:blipFill>
        <p:spPr>
          <a:xfrm>
            <a:off x="1357200" y="142920"/>
            <a:ext cx="657252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Trouver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2" descr="http://hollyweb.ru/wp-content/uploads/2012/05/205.jpg"/>
          <p:cNvPicPr/>
          <p:nvPr/>
        </p:nvPicPr>
        <p:blipFill>
          <a:blip r:embed="rId1"/>
          <a:stretch/>
        </p:blipFill>
        <p:spPr>
          <a:xfrm>
            <a:off x="1285920" y="0"/>
            <a:ext cx="6684840" cy="5286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fld id="{FF3881DE-9847-4A86-98C7-6926FADA0E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Présent Simple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28800" y="2143080"/>
            <a:ext cx="7715160" cy="3994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en-US" sz="4400" spc="-1" strike="noStrike">
                <a:solidFill>
                  <a:srgbClr val="ffc000"/>
                </a:solidFill>
                <a:latin typeface="Times New Roman"/>
              </a:rPr>
              <a:t>e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             1.   - </a:t>
            </a:r>
            <a:r>
              <a:rPr b="1" i="1" lang="en-US" sz="4400" spc="-1" strike="noStrike">
                <a:solidFill>
                  <a:srgbClr val="ffc000"/>
                </a:solidFill>
                <a:latin typeface="Times New Roman"/>
              </a:rPr>
              <a:t>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en-US" sz="4400" spc="-1" strike="noStrike">
                <a:solidFill>
                  <a:srgbClr val="ffc000"/>
                </a:solidFill>
                <a:latin typeface="Times New Roman"/>
              </a:rPr>
              <a:t>es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           2.    - </a:t>
            </a:r>
            <a:r>
              <a:rPr b="1" i="1" lang="en-US" sz="4400" spc="-1" strike="noStrike">
                <a:solidFill>
                  <a:srgbClr val="ffc000"/>
                </a:solidFill>
                <a:latin typeface="Times New Roman"/>
              </a:rPr>
              <a:t>ez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en-US" sz="4400" spc="-1" strike="noStrike">
                <a:solidFill>
                  <a:srgbClr val="ffc000"/>
                </a:solidFill>
                <a:latin typeface="Times New Roman"/>
              </a:rPr>
              <a:t>e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            3.   - </a:t>
            </a:r>
            <a:r>
              <a:rPr b="1" i="1" lang="en-US" sz="4400" spc="-1" strike="noStrike">
                <a:solidFill>
                  <a:srgbClr val="ffc000"/>
                </a:solidFill>
                <a:latin typeface="Times New Roman"/>
              </a:rPr>
              <a:t>ent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928800" y="2714760"/>
            <a:ext cx="7358040" cy="2786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2571840" y="164304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оконч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hercher     Trouver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3840" y="1428840"/>
            <a:ext cx="4286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herc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herc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 /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Ell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erc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us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erc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Vous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erch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s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herc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0" y="1428480"/>
            <a:ext cx="45720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ouv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ouv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 /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l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ouv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ous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ouv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Vous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ouv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s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rouv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Chanter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Picture 2" descr="http://server.audiopedia.su:8888/staroeradio/images/pics/002057.jpg"/>
          <p:cNvPicPr/>
          <p:nvPr/>
        </p:nvPicPr>
        <p:blipFill>
          <a:blip r:embed="rId1"/>
          <a:stretch/>
        </p:blipFill>
        <p:spPr>
          <a:xfrm>
            <a:off x="2214720" y="0"/>
            <a:ext cx="4609800" cy="56674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fld id="{AAE9AB02-8AC0-4663-B152-B07D9796DF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2000160"/>
            <a:ext cx="4572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e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vai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 (It)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va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 (Elle)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14560" y="1999800"/>
            <a:ext cx="4429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ous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llon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Vous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lle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z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s (Elles)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von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Ходить –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ll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fld id="{409BF7C4-D52F-4DAB-9E9D-3572D4A535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000160"/>
            <a:ext cx="4572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e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ai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 (It)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ai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 (Elle)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ai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14560" y="1999800"/>
            <a:ext cx="4429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ous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aison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Vous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ait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ls (Elles)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on</a:t>
            </a:r>
            <a:r>
              <a:rPr b="1" lang="en-US" sz="4800" spc="-1" strike="noStrike" u="sng">
                <a:solidFill>
                  <a:srgbClr val="ffc000"/>
                </a:solidFill>
                <a:uFillTx/>
                <a:latin typeface="Arial"/>
              </a:rPr>
              <a:t>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Делать –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ai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000" y="242064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Blackadder ITC"/>
              </a:rPr>
              <a:t>Thank you for your attention</a:t>
            </a:r>
            <a:endParaRPr b="0" lang="en-US" sz="7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anser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Picture 2" descr="http://www.sbor.ru/news/img/5315-full.jpg"/>
          <p:cNvPicPr/>
          <p:nvPr/>
        </p:nvPicPr>
        <p:blipFill>
          <a:blip r:embed="rId1"/>
          <a:stretch/>
        </p:blipFill>
        <p:spPr>
          <a:xfrm>
            <a:off x="1857240" y="571680"/>
            <a:ext cx="5715000" cy="4390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Regarder la télé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Picture 2" descr="http://cipr516.ru/wp-content/uploads/2011/03/0_1c23a_c3233727_XL.jpg"/>
          <p:cNvPicPr/>
          <p:nvPr/>
        </p:nvPicPr>
        <p:blipFill>
          <a:blip r:embed="rId1"/>
          <a:stretch/>
        </p:blipFill>
        <p:spPr>
          <a:xfrm>
            <a:off x="1285920" y="35712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Jouer à l’ordinateur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Picture 5" descr="http://cs11453.userapi.com/u8620368/-14/x_1425e3e6.jpg"/>
          <p:cNvPicPr/>
          <p:nvPr/>
        </p:nvPicPr>
        <p:blipFill>
          <a:blip r:embed="rId1"/>
          <a:stretch/>
        </p:blipFill>
        <p:spPr>
          <a:xfrm>
            <a:off x="1643040" y="0"/>
            <a:ext cx="57531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Rester à la maison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1" name="Picture 2" descr="http://www.moosbeere.ru/wp-content/uploads/2012/08/chem-lechit-korj.jpg"/>
          <p:cNvPicPr/>
          <p:nvPr/>
        </p:nvPicPr>
        <p:blipFill>
          <a:blip r:embed="rId1"/>
          <a:stretch/>
        </p:blipFill>
        <p:spPr>
          <a:xfrm>
            <a:off x="1571760" y="428760"/>
            <a:ext cx="6070320" cy="4929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ssiner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3" name="Picture 2" descr="http://pgbelosnezhka.ru/wp-content/uploads/2012/09/9c3c580441fe7146c1988845cc0afcd6.jpg"/>
          <p:cNvPicPr/>
          <p:nvPr/>
        </p:nvPicPr>
        <p:blipFill>
          <a:blip r:embed="rId1"/>
          <a:stretch/>
        </p:blipFill>
        <p:spPr>
          <a:xfrm>
            <a:off x="1571760" y="285840"/>
            <a:ext cx="6292800" cy="47196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Nager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2" descr="http://www.educatoarea.com/wp-content/uploads/2009/10/Imagine-copii-inot.jpg"/>
          <p:cNvPicPr/>
          <p:nvPr/>
        </p:nvPicPr>
        <p:blipFill>
          <a:blip r:embed="rId1"/>
          <a:stretch/>
        </p:blipFill>
        <p:spPr>
          <a:xfrm>
            <a:off x="1571760" y="0"/>
            <a:ext cx="5897520" cy="478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éléphoner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2" descr="http://eco-driving.ru/data/upload/66038_npadvhover.jpg"/>
          <p:cNvPicPr/>
          <p:nvPr/>
        </p:nvPicPr>
        <p:blipFill>
          <a:blip r:embed="rId1"/>
          <a:stretch/>
        </p:blipFill>
        <p:spPr>
          <a:xfrm>
            <a:off x="1357200" y="357120"/>
            <a:ext cx="6400800" cy="4000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0:52:22Z</dcterms:created>
  <dc:creator>Maxima</dc:creator>
  <dc:description/>
  <dc:language>en-US</dc:language>
  <cp:lastModifiedBy>айгуль</cp:lastModifiedBy>
  <dcterms:modified xsi:type="dcterms:W3CDTF">2020-04-04T20:50:38Z</dcterms:modified>
  <cp:revision>95</cp:revision>
  <dc:subject/>
  <dc:title>ЕДА</dc:title>
</cp:coreProperties>
</file>