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C9F-A41B-4AF9-B605-F68D7994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58E-8DE9-4082-999D-D9974D31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C04-C604-4817-8B30-0614A284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195-5B0E-4C50-9E5E-773F3996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1F6E-106C-4CB8-9C88-B4152EB9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5ED4-0BEC-447C-9520-1BF43D7C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4E67-0D27-42C5-B03B-BF29A5A9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0828-CF2E-4B6F-AE1D-98F6E502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3C84-9588-4AD8-B872-6147F6B5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C6CA-78D7-4B4D-98E4-C0312533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CC02-D52D-4A37-988F-621CA3E2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3A0-06E3-42BC-81A0-6F863F03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D387-ADB2-49EA-A4D9-7986DD9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9EA7-2FBC-4CF8-9885-1034B132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BD3F-D895-49E2-9DE8-0A7CD157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8C54-0521-49D7-BBD0-E1746F1A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F752-9382-4AE8-9B86-4B1AC127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533-B379-417A-9384-C28F0BD8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10B-3125-4B02-BAF9-AB5D626B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363-1902-42FF-9184-388EC8E2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21B-CE7E-43BC-9564-269C3FAA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DD7-205B-4549-B9F3-2F881CCE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CEE-1F1F-4A1B-BFC6-908545E1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78B-676C-47B4-966B-65AF2BDF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6808-FB7F-4BCD-931E-9908BB7684D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6BEC-B4EC-4BF8-A171-E270855DF0A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2771640" y="189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Arial"/>
              </a:rPr>
              <a:t>География 1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00000" y="335772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Arial"/>
              </a:rPr>
              <a:t>Понятие о глобальных проблем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Arial"/>
              </a:rPr>
              <a:t>Причины возникнов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Arial"/>
              </a:rPr>
              <a:t>Классификация пробл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Arial"/>
              </a:rPr>
              <a:t>Взаимосвязь глобальных пробл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Arial"/>
              </a:rPr>
              <a:t>Пути решения пробл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5" descr=""/>
          <p:cNvPicPr/>
          <p:nvPr/>
        </p:nvPicPr>
        <p:blipFill>
          <a:blip r:embed="rId1"/>
          <a:stretch/>
        </p:blipFill>
        <p:spPr>
          <a:xfrm>
            <a:off x="-133200" y="701640"/>
            <a:ext cx="963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актическа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ч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се глобальные проблемы тесно связаны друг с другом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ведите пять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нкретных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римеров взаимодействия глобальных пробле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глобальные проблемы требуют первостепенного решения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решении каких глобальных проблем можете принять участие лично вы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ути решения глобальных 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"/>
                <a:ea typeface="Arial"/>
              </a:rPr>
              <a:t>Выявление глобальных проблем, придание им статуса мировых, планирование решений и контроль за их исполнением со стороны специально для этого созданных международных организац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"/>
                <a:ea typeface="Arial"/>
              </a:rPr>
              <a:t>Изучение причин, приводящих к возникновению проблем, стремление избежать 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"/>
                <a:ea typeface="Arial"/>
              </a:rPr>
              <a:t>Создание чёткой международной системы прогнозирования глобальных пробл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"/>
                <a:ea typeface="Arial"/>
              </a:rPr>
              <a:t>Формирование нового планетарного мышления, чтобы каждый человек осознавал себя не только гражданином своей страны, но и всего мира, был неравнодушен к проблемам человечества</a:t>
            </a:r>
            <a:r>
              <a:rPr b="0" lang="ru-RU" sz="2200" spc="-1" strike="noStrike">
                <a:solidFill>
                  <a:srgbClr val="632523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омашне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§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лобальны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 возникли во второй половине 20 века, от их решения зависит судьба всего челове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ово «глобальный»  иноязычного происхождения, с фр. — «всеобщий», с лат. — «земной шар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GP"/>
          <p:cNvPicPr/>
          <p:nvPr/>
        </p:nvPicPr>
        <p:blipFill>
          <a:blip r:embed="rId1"/>
          <a:stretch/>
        </p:blipFill>
        <p:spPr>
          <a:xfrm>
            <a:off x="5556240" y="4149720"/>
            <a:ext cx="35622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чины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зникновения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лобальных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155736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Целостность современного мира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всемирная общность людей, которая проявляется в тесных связях стран в различных сферах общества. Отсюда и появление проблем, так как всегда есть несогласие по каким-то вопросам, стремление занять первенство в чём-либо, диктовать условия друг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Возросшая экономическая мощь человечества, 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развитие технологий, что, к сожалению, имеет и отрицательную сторону: нерациональное использование открытий человеческого разума, негативное влияние на природу. Человечество созидает и разрушает одноврем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Неравномерность развития стран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которая приводит к конфликтам между ними (между развитыми и развивающимися стран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евращение противоречий, конфликтов, проблем </a:t>
            </a: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из локальных в общемировые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лобальных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Масштаб проявлени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. Они выходят за рамки отельного государства и даже региона плане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Острота проявлени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необходимость решать их как можно скор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Комплексный характер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то есть все проблемы тесно взаимосвязаны, взаимодействуют друг на друга, одна проблема тянет за собой ряд друг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Возможность решения проблем только совместными усилиями</a:t>
            </a:r>
            <a:r>
              <a:rPr b="0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всех стран и нар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Влияние на ход развития человеческой цивил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00360" y="142560"/>
            <a:ext cx="27558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Arial"/>
                <a:ea typeface="Arial"/>
              </a:rPr>
              <a:t>Один из вариантов классифика-ции глобальных проб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Группа 50"/>
          <p:cNvGrpSpPr/>
          <p:nvPr/>
        </p:nvGrpSpPr>
        <p:grpSpPr>
          <a:xfrm>
            <a:off x="379440" y="152280"/>
            <a:ext cx="5667480" cy="6553440"/>
            <a:chOff x="379440" y="152280"/>
            <a:chExt cx="5667480" cy="6553440"/>
          </a:xfrm>
        </p:grpSpPr>
        <p:sp>
          <p:nvSpPr>
            <p:cNvPr id="95" name="Поле 16"/>
            <p:cNvSpPr/>
            <p:nvPr/>
          </p:nvSpPr>
          <p:spPr>
            <a:xfrm>
              <a:off x="379440" y="6229440"/>
              <a:ext cx="1542960" cy="237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тихийных бедств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Группа 52"/>
            <p:cNvGrpSpPr/>
            <p:nvPr/>
          </p:nvGrpSpPr>
          <p:grpSpPr>
            <a:xfrm>
              <a:off x="379440" y="152280"/>
              <a:ext cx="5667480" cy="6553440"/>
              <a:chOff x="379440" y="152280"/>
              <a:chExt cx="5667480" cy="6553440"/>
            </a:xfrm>
          </p:grpSpPr>
          <p:grpSp>
            <p:nvGrpSpPr>
              <p:cNvPr id="97" name="Группа 53"/>
              <p:cNvGrpSpPr/>
              <p:nvPr/>
            </p:nvGrpSpPr>
            <p:grpSpPr>
              <a:xfrm>
                <a:off x="379440" y="4762800"/>
                <a:ext cx="5658120" cy="1942920"/>
                <a:chOff x="379440" y="4762800"/>
                <a:chExt cx="5658120" cy="1942920"/>
              </a:xfrm>
            </p:grpSpPr>
            <p:sp>
              <p:nvSpPr>
                <p:cNvPr id="98" name="Поле 6"/>
                <p:cNvSpPr/>
                <p:nvPr/>
              </p:nvSpPr>
              <p:spPr>
                <a:xfrm>
                  <a:off x="379440" y="4762800"/>
                  <a:ext cx="1542960" cy="733320"/>
                </a:xfrm>
                <a:prstGeom prst="rect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Проблемы смешанного характера, нерешенность которых нередко приводит к массовой гибели людей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Поле 12"/>
                <p:cNvSpPr/>
                <p:nvPr/>
              </p:nvSpPr>
              <p:spPr>
                <a:xfrm>
                  <a:off x="379440" y="646776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суицид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Поле 13"/>
                <p:cNvSpPr/>
                <p:nvPr/>
              </p:nvSpPr>
              <p:spPr>
                <a:xfrm>
                  <a:off x="379440" y="550548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региональных конфликтов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Поле 14"/>
                <p:cNvSpPr/>
                <p:nvPr/>
              </p:nvSpPr>
              <p:spPr>
                <a:xfrm>
                  <a:off x="379440" y="574380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терроризма, преступности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Поле 15"/>
                <p:cNvSpPr/>
                <p:nvPr/>
              </p:nvSpPr>
              <p:spPr>
                <a:xfrm>
                  <a:off x="379440" y="598176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технологических аварий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Поле 36"/>
                <p:cNvSpPr/>
                <p:nvPr/>
              </p:nvSpPr>
              <p:spPr>
                <a:xfrm>
                  <a:off x="2475000" y="4772160"/>
                  <a:ext cx="1542960" cy="733320"/>
                </a:xfrm>
                <a:prstGeom prst="rect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«Малые» глобальные проблемы смешанного характера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Поле 37"/>
                <p:cNvSpPr/>
                <p:nvPr/>
              </p:nvSpPr>
              <p:spPr>
                <a:xfrm>
                  <a:off x="2475000" y="550548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бюрократизм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Поле 38"/>
                <p:cNvSpPr/>
                <p:nvPr/>
              </p:nvSpPr>
              <p:spPr>
                <a:xfrm>
                  <a:off x="2475000" y="5743800"/>
                  <a:ext cx="1542960" cy="3711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индивидуализма, эгоизма и др.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Поле 39"/>
                <p:cNvSpPr/>
                <p:nvPr/>
              </p:nvSpPr>
              <p:spPr>
                <a:xfrm>
                  <a:off x="2475000" y="611532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организации досуг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Поле 40"/>
                <p:cNvSpPr/>
                <p:nvPr/>
              </p:nvSpPr>
              <p:spPr>
                <a:xfrm>
                  <a:off x="4494600" y="4772160"/>
                  <a:ext cx="1542960" cy="847800"/>
                </a:xfrm>
                <a:prstGeom prst="rect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Проблемы научного характера, нерешенность которых не создает непосредственную угрозу для будущего человечеств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оле 41"/>
                <p:cNvSpPr/>
                <p:nvPr/>
              </p:nvSpPr>
              <p:spPr>
                <a:xfrm>
                  <a:off x="4494600" y="561996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освоение космос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оле 42"/>
                <p:cNvSpPr/>
                <p:nvPr/>
              </p:nvSpPr>
              <p:spPr>
                <a:xfrm>
                  <a:off x="4494600" y="5848560"/>
                  <a:ext cx="1542960" cy="3711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исследования внутреннего строения Земли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оле 43"/>
                <p:cNvSpPr/>
                <p:nvPr/>
              </p:nvSpPr>
              <p:spPr>
                <a:xfrm>
                  <a:off x="4494600" y="6220080"/>
                  <a:ext cx="1542960" cy="3333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долгосрочного прогнозирования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Группа 54"/>
              <p:cNvGrpSpPr/>
              <p:nvPr/>
            </p:nvGrpSpPr>
            <p:grpSpPr>
              <a:xfrm>
                <a:off x="379440" y="152280"/>
                <a:ext cx="5667480" cy="4619880"/>
                <a:chOff x="379440" y="152280"/>
                <a:chExt cx="5667480" cy="4619880"/>
              </a:xfrm>
            </p:grpSpPr>
            <p:grpSp>
              <p:nvGrpSpPr>
                <p:cNvPr id="112" name="Группа 55"/>
                <p:cNvGrpSpPr/>
                <p:nvPr/>
              </p:nvGrpSpPr>
              <p:grpSpPr>
                <a:xfrm>
                  <a:off x="2284560" y="152280"/>
                  <a:ext cx="1809720" cy="1809720"/>
                  <a:chOff x="2284560" y="152280"/>
                  <a:chExt cx="1809720" cy="1809720"/>
                </a:xfrm>
              </p:grpSpPr>
              <p:pic>
                <p:nvPicPr>
                  <p:cNvPr id="113" name="Рисунок 81" descr="https://yt3.ggpht.com/a/AGF-l79J7Ti-2Jpu8J9xhqUPxoggTaGxkrJVFZ6EtQ=s900-c-k-c0xffffffff-no-rj-mo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284560" y="152280"/>
                    <a:ext cx="18097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4" name="Поле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9680" y="499680"/>
                    <a:ext cx="16279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15" name="Группа 56"/>
                <p:cNvGrpSpPr/>
                <p:nvPr/>
              </p:nvGrpSpPr>
              <p:grpSpPr>
                <a:xfrm>
                  <a:off x="379440" y="1495440"/>
                  <a:ext cx="1542960" cy="2495880"/>
                  <a:chOff x="379440" y="1495440"/>
                  <a:chExt cx="1542960" cy="2495880"/>
                </a:xfrm>
              </p:grpSpPr>
              <p:sp>
                <p:nvSpPr>
                  <p:cNvPr id="116" name="Поле 3"/>
                  <p:cNvSpPr/>
                  <p:nvPr/>
                </p:nvSpPr>
                <p:spPr>
                  <a:xfrm>
                    <a:off x="379440" y="1495440"/>
                    <a:ext cx="1542960" cy="704880"/>
                  </a:xfrm>
                  <a:prstGeom prst="rect">
                    <a:avLst/>
                  </a:prstGeom>
                  <a:solidFill>
                    <a:srgbClr val="bfbfb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Наиболее «универсальные» проблемы политического и социально-экономического характера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Поле 7"/>
                  <p:cNvSpPr/>
                  <p:nvPr/>
                </p:nvSpPr>
                <p:spPr>
                  <a:xfrm>
                    <a:off x="379440" y="2200320"/>
                    <a:ext cx="154296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Предотвращение ядерной войны и сохранение мира на Земле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Поле 8"/>
                  <p:cNvSpPr/>
                  <p:nvPr/>
                </p:nvSpPr>
                <p:spPr>
                  <a:xfrm>
                    <a:off x="379440" y="2648160"/>
                    <a:ext cx="154296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Устойчивого развития  мира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Поле 9"/>
                  <p:cNvSpPr/>
                  <p:nvPr/>
                </p:nvSpPr>
                <p:spPr>
                  <a:xfrm>
                    <a:off x="379440" y="3096000"/>
                    <a:ext cx="154296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Преодоление отсталости слаборазвитыми странами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Поле 10"/>
                  <p:cNvSpPr/>
                  <p:nvPr/>
                </p:nvSpPr>
                <p:spPr>
                  <a:xfrm>
                    <a:off x="379440" y="3543840"/>
                    <a:ext cx="154296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Управляемости мировым сообществом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Группа 57"/>
                <p:cNvGrpSpPr/>
                <p:nvPr/>
              </p:nvGrpSpPr>
              <p:grpSpPr>
                <a:xfrm>
                  <a:off x="4503960" y="1495440"/>
                  <a:ext cx="1542960" cy="2409840"/>
                  <a:chOff x="4503960" y="1495440"/>
                  <a:chExt cx="1542960" cy="2409840"/>
                </a:xfrm>
              </p:grpSpPr>
              <p:sp>
                <p:nvSpPr>
                  <p:cNvPr id="122" name="Поле 4"/>
                  <p:cNvSpPr/>
                  <p:nvPr/>
                </p:nvSpPr>
                <p:spPr>
                  <a:xfrm>
                    <a:off x="4503960" y="1495440"/>
                    <a:ext cx="1542960" cy="704880"/>
                  </a:xfrm>
                  <a:prstGeom prst="rect">
                    <a:avLst/>
                  </a:prstGeom>
                  <a:solidFill>
                    <a:srgbClr val="bfbfb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Проблемы преимущественно  социального характера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Поле 17"/>
                  <p:cNvSpPr/>
                  <p:nvPr/>
                </p:nvSpPr>
                <p:spPr>
                  <a:xfrm>
                    <a:off x="4503960" y="2200320"/>
                    <a:ext cx="154296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демографическая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Поле 20"/>
                  <p:cNvSpPr/>
                  <p:nvPr/>
                </p:nvSpPr>
                <p:spPr>
                  <a:xfrm>
                    <a:off x="4503960" y="2800440"/>
                    <a:ext cx="1542960" cy="34272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кризис культуры, нравственности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Поле 21"/>
                  <p:cNvSpPr/>
                  <p:nvPr/>
                </p:nvSpPr>
                <p:spPr>
                  <a:xfrm>
                    <a:off x="4503960" y="2438280"/>
                    <a:ext cx="1542960" cy="36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межнациональных отношений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Поле 22"/>
                  <p:cNvSpPr/>
                  <p:nvPr/>
                </p:nvSpPr>
                <p:spPr>
                  <a:xfrm>
                    <a:off x="4503960" y="3143520"/>
                    <a:ext cx="1542960" cy="2476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дефицита демократии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Поле 23"/>
                  <p:cNvSpPr/>
                  <p:nvPr/>
                </p:nvSpPr>
                <p:spPr>
                  <a:xfrm>
                    <a:off x="4503960" y="3400560"/>
                    <a:ext cx="1542960" cy="2476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урбанизации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Поле 24"/>
                  <p:cNvSpPr/>
                  <p:nvPr/>
                </p:nvSpPr>
                <p:spPr>
                  <a:xfrm>
                    <a:off x="4503960" y="3657600"/>
                    <a:ext cx="1542960" cy="2476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охраны здоровья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Прямая соединительная линия 58"/>
                <p:cNvSpPr/>
                <p:nvPr/>
              </p:nvSpPr>
              <p:spPr>
                <a:xfrm>
                  <a:off x="3208320" y="1962000"/>
                  <a:ext cx="18720" cy="39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Прямая соединительная линия 59"/>
                <p:cNvSpPr/>
                <p:nvPr/>
              </p:nvSpPr>
              <p:spPr>
                <a:xfrm flipV="1">
                  <a:off x="1170000" y="942840"/>
                  <a:ext cx="1218960" cy="55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Прямая соединительная линия 60"/>
                <p:cNvSpPr/>
                <p:nvPr/>
              </p:nvSpPr>
              <p:spPr>
                <a:xfrm>
                  <a:off x="4094280" y="942840"/>
                  <a:ext cx="1314360" cy="49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Прямая соединительная линия 61"/>
                <p:cNvSpPr/>
                <p:nvPr/>
              </p:nvSpPr>
              <p:spPr>
                <a:xfrm flipH="1">
                  <a:off x="2198160" y="1600200"/>
                  <a:ext cx="2761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Прямая соединительная линия 62"/>
                <p:cNvSpPr/>
                <p:nvPr/>
              </p:nvSpPr>
              <p:spPr>
                <a:xfrm>
                  <a:off x="2198520" y="2057400"/>
                  <a:ext cx="0" cy="234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Прямая соединительная линия 63"/>
                <p:cNvSpPr/>
                <p:nvPr/>
              </p:nvSpPr>
              <p:spPr>
                <a:xfrm>
                  <a:off x="4237200" y="2114640"/>
                  <a:ext cx="0" cy="2314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Прямая соединительная линия 64"/>
                <p:cNvSpPr/>
                <p:nvPr/>
              </p:nvSpPr>
              <p:spPr>
                <a:xfrm>
                  <a:off x="3894120" y="1600200"/>
                  <a:ext cx="342720" cy="514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Прямая соединительная линия 65"/>
                <p:cNvSpPr/>
                <p:nvPr/>
              </p:nvSpPr>
              <p:spPr>
                <a:xfrm>
                  <a:off x="988920" y="4400640"/>
                  <a:ext cx="4276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Прямая соединительная линия 66"/>
                <p:cNvSpPr/>
                <p:nvPr/>
              </p:nvSpPr>
              <p:spPr>
                <a:xfrm>
                  <a:off x="988920" y="4429440"/>
                  <a:ext cx="0" cy="34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Прямая соединительная линия 67"/>
                <p:cNvSpPr/>
                <p:nvPr/>
              </p:nvSpPr>
              <p:spPr>
                <a:xfrm>
                  <a:off x="3294000" y="4429440"/>
                  <a:ext cx="0" cy="34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Прямая соединительная линия 68"/>
                <p:cNvSpPr/>
                <p:nvPr/>
              </p:nvSpPr>
              <p:spPr>
                <a:xfrm>
                  <a:off x="5275440" y="4400640"/>
                  <a:ext cx="0" cy="34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ипы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лобальных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1. Проблемы между государств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Угроза третьей мировой войны 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(предотвращение угрозы термоядерной войны, создание благоприятных условий для развития стран и народ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Угроза локальных войн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которые могут перерасти в миров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блема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«Север-Юг»,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то есть между развитыми и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( преодоление экономической отсталости развивающихся стран, установление нового международного поряд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блема международного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террор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ипы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лобальных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2. Проблемы взаимодействия человечества и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Экологическа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проблема (предотвращение загрязнения окружающей среды, бережное отношение к природ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Сырьева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проблема (обеспечение человечества сырьём, необходимым для развития экономики): истощение ресурсов, животного и растительного ми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довольственна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проблема (обеспечение продовольствием, борьба с голод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Рациональное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использование мирового океана и космоса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Негативные последствия НТР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непредсказуемость их внедрения на жизнь общества и прир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ипы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лобальных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3. Проблемы взаимоотношений людей в обще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Демографическа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проблема, то есть народонаселения ( быстрые темпы рождаемости, высокая смертность, в некоторых странах превышающая рождаемост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блема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сохранения и укрепления здоровь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людей (борьба с наркоманией, СПИДом, эпидемиями, профилактическая рабо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блема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образовани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(соответствие его требованиям времени, борьба с неграмотностью в развивающихся страна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блема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культурного роста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(сохранение исторических памятников культурного наследия мира — деятельность ЮНЕСКО; деградация  «массовой культуры», размывание нравственных ценностей, уход в мир иллюз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s://cf.ppt-online.org/files/slide/2/2oKAqdBSZmclIQGErs7tx5Vyhba31fD4YP0FO9/slide-7.jpg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Татьяна</cp:lastModifiedBy>
  <dcterms:modified xsi:type="dcterms:W3CDTF">2020-04-07T12:31:36Z</dcterms:modified>
  <cp:revision>43</cp:revision>
  <dc:subject/>
  <dc:title>Название  презентации</dc:title>
</cp:coreProperties>
</file>