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D5F-581B-4817-9920-6FF6E177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3D0-F42D-4975-9F6C-218883A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15D-AF08-44A7-9995-B24230BA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925-A85E-4D2F-A038-599C5086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642-9CE3-4474-9756-64258654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4A66-90B7-4A0D-BCD1-2F79428F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7E68-465E-4226-8928-3443DE2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170-7EEE-44B5-A8A7-C766B811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3A71-F329-4A4D-8975-211BAF3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4E43-DEB7-4B31-8F32-D53592C0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19E-943F-442D-8FF5-864F843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064-7A9C-442C-8ADB-5D03A6A7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2F03-E5B2-4FB7-A734-8B23909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12E-D7E1-4B18-A892-611CF55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9348-937A-4F3F-B9AB-F4C31A5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056-B91F-489E-978E-89D3926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ADDA-7843-4065-93D8-EE75432F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86C-FE18-4412-9D1B-57292FD7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9E1-AC48-4EAF-A330-097235B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539-258F-46D0-8013-45A51F7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A1C-C85C-46D0-9E47-CE1B4DC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88A-4A1B-462F-BE23-6926742D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438-2D39-4A3C-B86E-64E6A48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98F-3455-4E85-934B-07A7CFC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E8A-8187-4475-B7D4-B527D92BF56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9FB-0827-4310-B084-FB650E449D8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771640" y="18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География 1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00000" y="335772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онятие о глобальных проблем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ричины возникнов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Классификация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Взаимосвязь глобальных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Arial"/>
              </a:rPr>
              <a:t>Пути решения пробл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1"/>
          <a:stretch/>
        </p:blipFill>
        <p:spPr>
          <a:xfrm>
            <a:off x="-133200" y="701640"/>
            <a:ext cx="963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актическ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глобальные проблемы тесно связаны друг с другом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ведите пять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нкретных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меров взаимодействия глобальных пробле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глобальные проблемы требуют первостепенного решения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решении каких глобальных проблем можете принять участие лично вы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ути решения глобальных 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Выявление глобальных проблем, придание им статуса мировых, планирование решений и контроль за их исполнением со стороны специально для этого созданных международных организа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Изучение причин, приводящих к возникновению проблем, стремление избежать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Создание чёткой международной системы прогнозирования глобальных проб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"/>
                <a:ea typeface="Arial"/>
              </a:rPr>
              <a:t>Формирование нового планетарного мышления, чтобы каждый человек осознавал себя не только гражданином своей страны, но и всего мира, был неравнодушен к проблемам человечества</a:t>
            </a:r>
            <a:r>
              <a:rPr b="0" lang="ru-RU" sz="2200" spc="-1" strike="noStrike">
                <a:solidFill>
                  <a:srgbClr val="632523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омашне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§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лобальны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 возникли во второй половине 20 века, от их решения зависит судьба всего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во «глобальный»  иноязычного происхождения, с фр. — «всеобщий», с лат. — «земной шар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GP"/>
          <p:cNvPicPr/>
          <p:nvPr/>
        </p:nvPicPr>
        <p:blipFill>
          <a:blip r:embed="rId1"/>
          <a:stretch/>
        </p:blipFill>
        <p:spPr>
          <a:xfrm>
            <a:off x="5556240" y="4149720"/>
            <a:ext cx="35622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чин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зникновения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557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Целостность современного мир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всемирная общность людей, которая проявляется в тесных связях стран в различных сферах общества. Отсюда и появление проблем, так как всегда есть несогласие по каким-то вопросам, стремление занять первенство в чём-либо, диктовать условия друг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озросшая экономическая мощь человечества, 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развитие технологий, что, к сожалению, имеет и отрицательную сторону: нерациональное использование открытий человеческого разума, негативное влияние на природу. Человечество созидает и разрушает одноврем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Неравномерность развития стран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которая приводит к конфликтам между ними (между развитыми и развивающимися стран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евращение противоречий, конфликтов, проблем </a:t>
            </a: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из локальных в общемировые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Масштаб проявле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 Они выходят за рамки отельного государства и даже региона плане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Острота проявле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необходимость решать их как можно скор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Комплексный характер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то есть все проблемы тесно взаимосвязаны, взаимодействуют друг на друга, одна проблема тянет за собой ряд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озможность решения проблем только совместными усилиями</a:t>
            </a:r>
            <a:r>
              <a:rPr b="0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всех стран и на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Влияние на ход развития человеческой циви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00360" y="142560"/>
            <a:ext cx="27558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Arial"/>
                <a:ea typeface="Arial"/>
              </a:rPr>
              <a:t>Один из вариантов классифика-ции глобальных проб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Группа 50"/>
          <p:cNvGrpSpPr/>
          <p:nvPr/>
        </p:nvGrpSpPr>
        <p:grpSpPr>
          <a:xfrm>
            <a:off x="379440" y="152280"/>
            <a:ext cx="5667480" cy="6553440"/>
            <a:chOff x="379440" y="152280"/>
            <a:chExt cx="5667480" cy="6553440"/>
          </a:xfrm>
        </p:grpSpPr>
        <p:sp>
          <p:nvSpPr>
            <p:cNvPr id="95" name="Поле 16"/>
            <p:cNvSpPr/>
            <p:nvPr/>
          </p:nvSpPr>
          <p:spPr>
            <a:xfrm>
              <a:off x="379440" y="6229440"/>
              <a:ext cx="1542960" cy="237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тихийных бедств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Группа 52"/>
            <p:cNvGrpSpPr/>
            <p:nvPr/>
          </p:nvGrpSpPr>
          <p:grpSpPr>
            <a:xfrm>
              <a:off x="379440" y="152280"/>
              <a:ext cx="5667480" cy="6553440"/>
              <a:chOff x="379440" y="152280"/>
              <a:chExt cx="5667480" cy="6553440"/>
            </a:xfrm>
          </p:grpSpPr>
          <p:grpSp>
            <p:nvGrpSpPr>
              <p:cNvPr id="97" name="Группа 53"/>
              <p:cNvGrpSpPr/>
              <p:nvPr/>
            </p:nvGrpSpPr>
            <p:grpSpPr>
              <a:xfrm>
                <a:off x="379440" y="4762800"/>
                <a:ext cx="5658120" cy="1942920"/>
                <a:chOff x="379440" y="4762800"/>
                <a:chExt cx="5658120" cy="1942920"/>
              </a:xfrm>
            </p:grpSpPr>
            <p:sp>
              <p:nvSpPr>
                <p:cNvPr id="98" name="Поле 6"/>
                <p:cNvSpPr/>
                <p:nvPr/>
              </p:nvSpPr>
              <p:spPr>
                <a:xfrm>
                  <a:off x="379440" y="4762800"/>
                  <a:ext cx="1542960" cy="73332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Проблемы смешанного характера, нерешенность которых нередко приводит к массовой гибели люде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Поле 12"/>
                <p:cNvSpPr/>
                <p:nvPr/>
              </p:nvSpPr>
              <p:spPr>
                <a:xfrm>
                  <a:off x="379440" y="64677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суицид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Поле 13"/>
                <p:cNvSpPr/>
                <p:nvPr/>
              </p:nvSpPr>
              <p:spPr>
                <a:xfrm>
                  <a:off x="379440" y="550548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региональных конфликтов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Поле 14"/>
                <p:cNvSpPr/>
                <p:nvPr/>
              </p:nvSpPr>
              <p:spPr>
                <a:xfrm>
                  <a:off x="379440" y="574380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терроризма, преступност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Поле 15"/>
                <p:cNvSpPr/>
                <p:nvPr/>
              </p:nvSpPr>
              <p:spPr>
                <a:xfrm>
                  <a:off x="379440" y="59817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технологических авари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Поле 36"/>
                <p:cNvSpPr/>
                <p:nvPr/>
              </p:nvSpPr>
              <p:spPr>
                <a:xfrm>
                  <a:off x="2475000" y="4772160"/>
                  <a:ext cx="1542960" cy="73332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«Малые» глобальные проблемы смешанного характера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Поле 37"/>
                <p:cNvSpPr/>
                <p:nvPr/>
              </p:nvSpPr>
              <p:spPr>
                <a:xfrm>
                  <a:off x="2475000" y="550548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бюрократизм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Поле 38"/>
                <p:cNvSpPr/>
                <p:nvPr/>
              </p:nvSpPr>
              <p:spPr>
                <a:xfrm>
                  <a:off x="2475000" y="5743800"/>
                  <a:ext cx="1542960" cy="3711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индивидуализма, эгоизма и др.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Поле 39"/>
                <p:cNvSpPr/>
                <p:nvPr/>
              </p:nvSpPr>
              <p:spPr>
                <a:xfrm>
                  <a:off x="2475000" y="611532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организации досуг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Поле 40"/>
                <p:cNvSpPr/>
                <p:nvPr/>
              </p:nvSpPr>
              <p:spPr>
                <a:xfrm>
                  <a:off x="4494600" y="4772160"/>
                  <a:ext cx="1542960" cy="847800"/>
                </a:xfrm>
                <a:prstGeom prst="rect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Проблемы научного характера, нерешенность которых не создает непосредственную угрозу для будущего человечеств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оле 41"/>
                <p:cNvSpPr/>
                <p:nvPr/>
              </p:nvSpPr>
              <p:spPr>
                <a:xfrm>
                  <a:off x="4494600" y="5619960"/>
                  <a:ext cx="1542960" cy="2379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освоение космос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оле 42"/>
                <p:cNvSpPr/>
                <p:nvPr/>
              </p:nvSpPr>
              <p:spPr>
                <a:xfrm>
                  <a:off x="4494600" y="5848560"/>
                  <a:ext cx="1542960" cy="3711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исследования внутреннего строения Земл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оле 43"/>
                <p:cNvSpPr/>
                <p:nvPr/>
              </p:nvSpPr>
              <p:spPr>
                <a:xfrm>
                  <a:off x="4494600" y="6220080"/>
                  <a:ext cx="1542960" cy="3333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900" spc="-1" strike="noStrike">
                      <a:solidFill>
                        <a:srgbClr val="000000"/>
                      </a:solidFill>
                      <a:latin typeface="Calibri"/>
                      <a:ea typeface="Calibri"/>
                    </a:rPr>
                    <a:t>долгосрочного прогнозирован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Группа 54"/>
              <p:cNvGrpSpPr/>
              <p:nvPr/>
            </p:nvGrpSpPr>
            <p:grpSpPr>
              <a:xfrm>
                <a:off x="379440" y="152280"/>
                <a:ext cx="5667480" cy="4619880"/>
                <a:chOff x="379440" y="152280"/>
                <a:chExt cx="5667480" cy="4619880"/>
              </a:xfrm>
            </p:grpSpPr>
            <p:grpSp>
              <p:nvGrpSpPr>
                <p:cNvPr id="112" name="Группа 55"/>
                <p:cNvGrpSpPr/>
                <p:nvPr/>
              </p:nvGrpSpPr>
              <p:grpSpPr>
                <a:xfrm>
                  <a:off x="2284560" y="152280"/>
                  <a:ext cx="1809720" cy="1809720"/>
                  <a:chOff x="2284560" y="152280"/>
                  <a:chExt cx="1809720" cy="1809720"/>
                </a:xfrm>
              </p:grpSpPr>
              <p:pic>
                <p:nvPicPr>
                  <p:cNvPr id="113" name="Рисунок 81" descr="https://yt3.ggpht.com/a/AGF-l79J7Ti-2Jpu8J9xhqUPxoggTaGxkrJVFZ6EtQ=s900-c-k-c0xffffffff-no-rj-mo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284560" y="152280"/>
                    <a:ext cx="1809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4" name="Пол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9680" y="499680"/>
                    <a:ext cx="16279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15" name="Группа 56"/>
                <p:cNvGrpSpPr/>
                <p:nvPr/>
              </p:nvGrpSpPr>
              <p:grpSpPr>
                <a:xfrm>
                  <a:off x="379440" y="1495440"/>
                  <a:ext cx="1542960" cy="2495880"/>
                  <a:chOff x="379440" y="1495440"/>
                  <a:chExt cx="1542960" cy="2495880"/>
                </a:xfrm>
              </p:grpSpPr>
              <p:sp>
                <p:nvSpPr>
                  <p:cNvPr id="116" name="Поле 3"/>
                  <p:cNvSpPr/>
                  <p:nvPr/>
                </p:nvSpPr>
                <p:spPr>
                  <a:xfrm>
                    <a:off x="379440" y="1495440"/>
                    <a:ext cx="1542960" cy="704880"/>
                  </a:xfrm>
                  <a:prstGeom prst="rect">
                    <a:avLst/>
                  </a:prstGeom>
                  <a:solidFill>
                    <a:srgbClr val="bfb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Наиболее «универсальные» проблемы политического и социально-экономического характер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Поле 7"/>
                  <p:cNvSpPr/>
                  <p:nvPr/>
                </p:nvSpPr>
                <p:spPr>
                  <a:xfrm>
                    <a:off x="379440" y="220032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едотвращение ядерной войны и сохранение мира на Земле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Поле 8"/>
                  <p:cNvSpPr/>
                  <p:nvPr/>
                </p:nvSpPr>
                <p:spPr>
                  <a:xfrm>
                    <a:off x="379440" y="264816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стойчивого развития  мира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Поле 9"/>
                  <p:cNvSpPr/>
                  <p:nvPr/>
                </p:nvSpPr>
                <p:spPr>
                  <a:xfrm>
                    <a:off x="379440" y="309600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еодоление отсталости слаборазвитыми странами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Поле 10"/>
                  <p:cNvSpPr/>
                  <p:nvPr/>
                </p:nvSpPr>
                <p:spPr>
                  <a:xfrm>
                    <a:off x="379440" y="3543840"/>
                    <a:ext cx="1542960" cy="4474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правляемости мировым сообществом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Группа 57"/>
                <p:cNvGrpSpPr/>
                <p:nvPr/>
              </p:nvGrpSpPr>
              <p:grpSpPr>
                <a:xfrm>
                  <a:off x="4503960" y="1495440"/>
                  <a:ext cx="1542960" cy="2409840"/>
                  <a:chOff x="4503960" y="1495440"/>
                  <a:chExt cx="1542960" cy="2409840"/>
                </a:xfrm>
              </p:grpSpPr>
              <p:sp>
                <p:nvSpPr>
                  <p:cNvPr id="122" name="Поле 4"/>
                  <p:cNvSpPr/>
                  <p:nvPr/>
                </p:nvSpPr>
                <p:spPr>
                  <a:xfrm>
                    <a:off x="4503960" y="1495440"/>
                    <a:ext cx="1542960" cy="704880"/>
                  </a:xfrm>
                  <a:prstGeom prst="rect">
                    <a:avLst/>
                  </a:prstGeom>
                  <a:solidFill>
                    <a:srgbClr val="bfb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Проблемы преимущественно  социального характера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Поле 17"/>
                  <p:cNvSpPr/>
                  <p:nvPr/>
                </p:nvSpPr>
                <p:spPr>
                  <a:xfrm>
                    <a:off x="4503960" y="2200320"/>
                    <a:ext cx="154296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демографическая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Поле 20"/>
                  <p:cNvSpPr/>
                  <p:nvPr/>
                </p:nvSpPr>
                <p:spPr>
                  <a:xfrm>
                    <a:off x="4503960" y="2800440"/>
                    <a:ext cx="154296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кризис культуры, нравственност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Поле 21"/>
                  <p:cNvSpPr/>
                  <p:nvPr/>
                </p:nvSpPr>
                <p:spPr>
                  <a:xfrm>
                    <a:off x="4503960" y="2438280"/>
                    <a:ext cx="1542960" cy="36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межнациональных отношений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Поле 22"/>
                  <p:cNvSpPr/>
                  <p:nvPr/>
                </p:nvSpPr>
                <p:spPr>
                  <a:xfrm>
                    <a:off x="4503960" y="314352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дефицита демократи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Поле 23"/>
                  <p:cNvSpPr/>
                  <p:nvPr/>
                </p:nvSpPr>
                <p:spPr>
                  <a:xfrm>
                    <a:off x="4503960" y="340056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урбанизации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оле 24"/>
                  <p:cNvSpPr/>
                  <p:nvPr/>
                </p:nvSpPr>
                <p:spPr>
                  <a:xfrm>
                    <a:off x="4503960" y="3657600"/>
                    <a:ext cx="1542960" cy="2476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9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rPr>
                      <a:t>охраны здоровья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Прямая соединительная линия 58"/>
                <p:cNvSpPr/>
                <p:nvPr/>
              </p:nvSpPr>
              <p:spPr>
                <a:xfrm>
                  <a:off x="3208320" y="1962000"/>
                  <a:ext cx="18720" cy="39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рямая соединительная линия 59"/>
                <p:cNvSpPr/>
                <p:nvPr/>
              </p:nvSpPr>
              <p:spPr>
                <a:xfrm flipV="1">
                  <a:off x="1170000" y="942840"/>
                  <a:ext cx="1218960" cy="55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Прямая соединительная линия 60"/>
                <p:cNvSpPr/>
                <p:nvPr/>
              </p:nvSpPr>
              <p:spPr>
                <a:xfrm>
                  <a:off x="4094280" y="942840"/>
                  <a:ext cx="1314360" cy="49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Прямая соединительная линия 61"/>
                <p:cNvSpPr/>
                <p:nvPr/>
              </p:nvSpPr>
              <p:spPr>
                <a:xfrm flipH="1">
                  <a:off x="2198160" y="1600200"/>
                  <a:ext cx="2761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рямая соединительная линия 62"/>
                <p:cNvSpPr/>
                <p:nvPr/>
              </p:nvSpPr>
              <p:spPr>
                <a:xfrm>
                  <a:off x="2198520" y="2057400"/>
                  <a:ext cx="0" cy="234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Прямая соединительная линия 63"/>
                <p:cNvSpPr/>
                <p:nvPr/>
              </p:nvSpPr>
              <p:spPr>
                <a:xfrm>
                  <a:off x="4237200" y="2114640"/>
                  <a:ext cx="0" cy="2314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Прямая соединительная линия 64"/>
                <p:cNvSpPr/>
                <p:nvPr/>
              </p:nvSpPr>
              <p:spPr>
                <a:xfrm>
                  <a:off x="3894120" y="1600200"/>
                  <a:ext cx="342720" cy="51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Прямая соединительная линия 65"/>
                <p:cNvSpPr/>
                <p:nvPr/>
              </p:nvSpPr>
              <p:spPr>
                <a:xfrm>
                  <a:off x="988920" y="4400640"/>
                  <a:ext cx="4276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рямая соединительная линия 66"/>
                <p:cNvSpPr/>
                <p:nvPr/>
              </p:nvSpPr>
              <p:spPr>
                <a:xfrm>
                  <a:off x="988920" y="44294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рямая соединительная линия 67"/>
                <p:cNvSpPr/>
                <p:nvPr/>
              </p:nvSpPr>
              <p:spPr>
                <a:xfrm>
                  <a:off x="3294000" y="44294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рямая соединительная линия 68"/>
                <p:cNvSpPr/>
                <p:nvPr/>
              </p:nvSpPr>
              <p:spPr>
                <a:xfrm>
                  <a:off x="5275440" y="4400640"/>
                  <a:ext cx="0" cy="34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1. Проблемы между государст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Угроза третьей мировой войны 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(предотвращение угрозы термоядерной войны, создание благоприятных условий для развития стран и народ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Угроза локальных войн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которые могут перерасти в миров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«Север-Юг»,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то есть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( преодоление экономической отсталости развивающихся стран, установление нового международного поряд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 международного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террор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2. Проблемы взаимодействия человечества и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Экологическ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предотвращение загрязнения окружающей среды, бережное отношение к природ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Сырьев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обеспечение человечества сырьём, необходимым для развития экономики): истощение ресурсов,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довольственн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 (обеспечение продовольствием, борьба с голод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Рациональное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использование мирового океана и космос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Негативные последствия НТР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, непредсказуемость их внедрения на жизнь общества и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ипы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лобальных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об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3. Проблемы взаимоотношений людей в общ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Демографическа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проблема, то есть народонаселения ( быстрые темпы рождаемости, высокая смертность, в некоторых странах превышающая рождаемост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сохранения и укрепления здоровь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людей (борьба с наркоманией, СПИДом, эпидемиями, профилактическая раб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образования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(соответствие его требованиям времени, борьба с неграмотностью в развивающихся страна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Проблема 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культурного роста</a:t>
            </a:r>
            <a:r>
              <a:rPr b="0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 (сохранение исторических памятников культурного наследия мира — деятельность ЮНЕСКО; деградация  «массовой культуры», размывание нравственных ценностей, уход в мир иллюз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s://cf.ppt-online.org/files/slide/2/2oKAqdBSZmclIQGErs7tx5Vyhba31fD4YP0FO9/slide-7.jpg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Татьяна</cp:lastModifiedBy>
  <dcterms:modified xsi:type="dcterms:W3CDTF">2020-04-07T12:31:36Z</dcterms:modified>
  <cp:revision>43</cp:revision>
  <dc:subject/>
  <dc:title>Название  презентации</dc:title>
</cp:coreProperties>
</file>