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9271-4B1D-4AF9-946F-9F293C4A8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CD7-8AFC-4A1A-933A-CD7BA75F03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5FB-2744-47AE-8810-5982CCEE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D23-7E2F-4685-8EF2-15EA54DA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6BC-29F9-4C3E-809F-F336CA22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37E-D214-4728-A3EA-F52809A3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B6C-FA3C-47F3-A3B7-76CAC7E1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FDB-D79E-4DFC-9387-48223D6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0460-C5D0-4382-AD68-8B0F26D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4CF2-5100-4D24-B259-F01D315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C62-6C2C-4D0F-9895-9C9D2BC1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E8F3-6631-44A4-A7CC-E89E6D77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F154-3FD6-48DA-997D-046B843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0A1-5D4D-4158-9C19-D5174E40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C6A3-5149-488C-B243-00A2790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557A-B7A5-4306-BDFB-55FF3E3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D10C-ECF1-4651-9E90-C9004BC5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FCB-5D7C-4C16-9EE5-B3FE73FD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EC07-F9CB-466C-B838-97883768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A37-C8E0-47D8-B1E4-11735796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66F-D19C-4638-B6D3-81FD9C57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940-FCB9-4181-954F-F48AD70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CA8-6346-487F-80E4-24CD609D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ACB-EFBB-4125-AEC8-F4C4401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AF5-7671-43D3-B0DD-17B0893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6BB-EA67-42A5-B60F-6440FD6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303C-1988-4F1A-949A-7FE8F5120C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55C-CCA8-4B29-80A1-DFCFA1461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itova64@inbox.ru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98108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я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ие практической работы в виде презентации «Характеристика Центрального экономического района по пла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br>
              <a:rPr sz="4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сле выполнения направить на электронную почту </a:t>
            </a:r>
            <a:r>
              <a:rPr b="1" lang="en-US" sz="1400" spc="-1" strike="noStrike" u="sng">
                <a:solidFill>
                  <a:srgbClr val="556731"/>
                </a:solidFill>
                <a:uFillTx/>
                <a:latin typeface="Arial"/>
                <a:hlinkClick r:id="rId1"/>
              </a:rPr>
              <a:t>titova64@inbox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до 17.00 09.04.20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40" y="1676160"/>
            <a:ext cx="888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олните пропуски, используя текст учебн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остав Западного экономического района входят ……  экономических районов, а именно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рритория Западного макрорегиона составляет ….. % от площади Росс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проживает ….. % населения Росс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производится более 85% …… продукции России и ведется ….. % научных исследов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городах проживает ….. % нас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европейской части России ….. городов – миллионер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ую роль играют ….. производ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перспективе на действующих предприятиях произойдет ….., закроются предприятия 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ко возрастает ….. сфера, особенно сфера услу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территории Западного макрорегиона образовано ….. федеральных округа, а именно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олните пропуски, используя  атласы и статистический материа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ую площадь имеет …..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ая площадь у …… райо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ий по численности населения ……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ий по численности населения …… рай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доля городского населения в …… район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доля сельского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вязи с этим, какие районы будут иметь промышленную, а какие сельскохозяйственную специализацию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ьшая плотность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меньшая плотность населения в …… рай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факторы оказывают влияние на расселение населени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ветьте на вопросы, используя карту «Экономическое районирование» в атла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кажите на карте районы, имеющие выход к морям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каким типам относятся районы Западной экономической зон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отрасли хозяйственной специализации развиты во многих районах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219320" y="228600"/>
            <a:ext cx="7772400" cy="798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сказки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6" descr="Картинка 8 из 1460"/>
          <p:cNvPicPr/>
          <p:nvPr/>
        </p:nvPicPr>
        <p:blipFill>
          <a:blip r:embed="rId1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i?id=95522092-07"/>
          <p:cNvPicPr/>
          <p:nvPr/>
        </p:nvPicPr>
        <p:blipFill>
          <a:blip r:embed="rId2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i?id=23187549-01"/>
          <p:cNvPicPr/>
          <p:nvPr/>
        </p:nvPicPr>
        <p:blipFill>
          <a:blip r:embed="rId3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Ульт-Ягунская СОШПК9</cp:lastModifiedBy>
  <dcterms:modified xsi:type="dcterms:W3CDTF">2020-04-08T07:40:34Z</dcterms:modified>
  <cp:revision>151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