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514-122B-44F2-81E7-589734B045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09B4-DBF1-47C9-9D96-EAAC740E38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826-5C50-4890-90E3-5C0F08E3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8D0-78E6-46FA-B89C-A121258D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5C7-01CF-40F2-B051-86B4F4B7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2BC-0F10-4282-8E09-1C0F3CDC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31E-72ED-4B36-8A30-AD8412E6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60DA-63C1-4423-90C8-9A36F85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C6F-4C7C-4680-89F6-FE16CC30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641E-87EE-4560-8881-3F4FCC2D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7F6-3894-4DE5-A381-0F9994B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CAB-6E3B-4D92-BB9C-32BCB7E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570-A0E2-4257-A0C7-D9A2F59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42C-BDB8-4F13-974C-3C91DEA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08B-D270-4C36-8039-F961121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5BD1-7025-4DAC-B37A-F8F5B95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BA1-9DD7-4EA9-B37C-2DF9F10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2C3F-1273-447C-9554-6B7AFF30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55B-ADEE-47EA-8C32-402F7555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98-A269-4883-8284-3007A7E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C01-87E3-4670-8282-17DFA4F4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544-B26B-457D-A1E9-5DEE46A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079-2627-498F-A322-E3E12BC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9DA-71BF-45F3-BCFD-524610C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DB4-E5EF-4DAC-B583-8A43A95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C18-5A48-436F-A984-475ADF5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68A-6559-4820-ADA7-DAC523E14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C8A-FE3E-4151-955C-74CD0C777A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itova64@inbox.ru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98108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я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ие практической работы в виде презентации «Характеристика Центрального экономического района по пла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br>
              <a:rPr sz="4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сле выполнения направить на электронную почту </a:t>
            </a:r>
            <a:r>
              <a:rPr b="1" lang="en-US" sz="1400" spc="-1" strike="noStrike" u="sng">
                <a:solidFill>
                  <a:srgbClr val="556731"/>
                </a:solidFill>
                <a:uFillTx/>
                <a:latin typeface="Arial"/>
                <a:hlinkClick r:id="rId1"/>
              </a:rPr>
              <a:t>titova64@inbox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до 17.00 09.04.20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40" y="1676160"/>
            <a:ext cx="888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олните пропуски, используя текст учебн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остав Западного экономического района входят ……  экономических районов, а именно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рритория Западного макрорегиона составляет ….. % от площади Росс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проживает ….. % населения Росс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производится более 85% …… продукции России и ведется ….. % научных исследов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городах проживает ….. % нас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европейской части России ….. городов – миллионер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ую роль играют ….. производ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перспективе на действующих предприятиях произойдет ….., закроются предприятия 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ко возрастает ….. сфера, особенно сфера услу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территории Западного макрорегиона образовано ….. федеральных округа, а именно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олните пропуски, используя  атласы и статистический материа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ую площадь имеет …..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ая площадь у …… райо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ий по численности населения ……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ий по численности населения ……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доля городского населения в …… район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доля сельского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вязи с этим, какие районы будут иметь промышленную, а какие сельскохозяйственную специализацию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плотность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ая плотность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факторы оказывают влияние на расселение населени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ветьте на вопросы, используя карту «Экономическое районирование» в атла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кажите на карте районы, имеющие выход к морям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каким типам относятся районы Западной экономической зон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отрасли хозяйственной специализации развиты во многих районах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228600"/>
            <a:ext cx="7772400" cy="798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сказки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6" descr="Картинка 8 из 1460"/>
          <p:cNvPicPr/>
          <p:nvPr/>
        </p:nvPicPr>
        <p:blipFill>
          <a:blip r:embed="rId1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i?id=95522092-07"/>
          <p:cNvPicPr/>
          <p:nvPr/>
        </p:nvPicPr>
        <p:blipFill>
          <a:blip r:embed="rId2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3187549-01"/>
          <p:cNvPicPr/>
          <p:nvPr/>
        </p:nvPicPr>
        <p:blipFill>
          <a:blip r:embed="rId3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Ульт-Ягунская СОШПК9</cp:lastModifiedBy>
  <dcterms:modified xsi:type="dcterms:W3CDTF">2020-04-08T07:40:34Z</dcterms:modified>
  <cp:revision>151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