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6C7-35F5-4B3A-A6C7-6C1E4F6C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362-9F7A-4F28-9E7D-04BC1E61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95C-BA75-499D-8614-21DD24C7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BD0-1FF1-4E5B-B021-08CFAE46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4B9-535D-4258-9704-3D5DCEF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90B-35E5-4EFC-8E67-D1E2325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D84-169B-4E28-8DA5-F1EB41C7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ADF-4366-455B-9A91-C20A070C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B76-E916-40C6-A92C-AB4F290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369-2E7A-4AA8-A897-6C96507D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E44-AC9B-4C88-9139-A1DEE54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995-36DC-49A2-B5FC-89CEAB0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2387-89D9-40FC-AD79-703452FB7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интерактив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«Я повар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днс\Desktop\download.jpg"/>
          <p:cNvPicPr/>
          <p:nvPr/>
        </p:nvPicPr>
        <p:blipFill>
          <a:blip r:embed="rId1"/>
          <a:stretch/>
        </p:blipFill>
        <p:spPr>
          <a:xfrm>
            <a:off x="2627280" y="2637000"/>
            <a:ext cx="40006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341360"/>
            <a:ext cx="84582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Здравствуй, дружок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Умеешь  ли ты готов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Я предлагаю тебе, мой дру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приготовить борщ и комп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Для этого тебе нужно выбрать продук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213840"/>
            <a:ext cx="84582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Выбери продукты для борщ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Кастрюли PNG коллекцию изображений можно скачать бесплатно ..."/>
          <p:cNvPicPr/>
          <p:nvPr/>
        </p:nvPicPr>
        <p:blipFill>
          <a:blip r:embed="rId1"/>
          <a:stretch/>
        </p:blipFill>
        <p:spPr>
          <a:xfrm>
            <a:off x="2771640" y="112536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185760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500040" y="5715000"/>
            <a:ext cx="1143000" cy="695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7143840" y="342900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357120" y="3214800"/>
            <a:ext cx="2286000" cy="207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6"/>
          <a:stretch/>
        </p:blipFill>
        <p:spPr>
          <a:xfrm>
            <a:off x="2714760" y="4770360"/>
            <a:ext cx="2263680" cy="180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7"/>
          <a:stretch/>
        </p:blipFill>
        <p:spPr>
          <a:xfrm>
            <a:off x="6072120" y="785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8"/>
          <a:stretch/>
        </p:blipFill>
        <p:spPr>
          <a:xfrm>
            <a:off x="7358040" y="1643040"/>
            <a:ext cx="178596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9"/>
          <a:stretch/>
        </p:blipFill>
        <p:spPr>
          <a:xfrm>
            <a:off x="7072200" y="5006880"/>
            <a:ext cx="2071800" cy="185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10"/>
          <a:stretch/>
        </p:blipFill>
        <p:spPr>
          <a:xfrm>
            <a:off x="5214960" y="5286240"/>
            <a:ext cx="1500120" cy="135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11"/>
          <a:stretch/>
        </p:blipFill>
        <p:spPr>
          <a:xfrm>
            <a:off x="7572240" y="0"/>
            <a:ext cx="157176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7" descr="Оранжевый PNG изображения можно загрузить бесплатно - CrazyPNG-PNG ..."/>
          <p:cNvPicPr/>
          <p:nvPr/>
        </p:nvPicPr>
        <p:blipFill>
          <a:blip r:embed="rId12"/>
          <a:stretch/>
        </p:blipFill>
        <p:spPr>
          <a:xfrm>
            <a:off x="1714680" y="1000080"/>
            <a:ext cx="78552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8" descr="Картинки на прозрачном фоне овощи"/>
          <p:cNvPicPr/>
          <p:nvPr/>
        </p:nvPicPr>
        <p:blipFill>
          <a:blip r:embed="rId13"/>
          <a:stretch/>
        </p:blipFill>
        <p:spPr>
          <a:xfrm>
            <a:off x="357120" y="28584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60315E-007 L -0.3316 0.27035 E"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92 0.03006 L -0.34792 0.0488 E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 -0.07654 L -0.33229 -0.23403 E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1536E-006 L -0.10504 -0.50578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0.10846 L 0.13368 -0.46508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1138E-006 L 0.38594 -0.49306 E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88 -0.01179 L 0.38281 -0.04348 E">
                                      <p:cBhvr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2137E-006 L 0.42517 0.20976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2405 L -0.15156 0.11841 E">
                                      <p:cBhvr>
                                        <p:cTn id="6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Выбери продукты для ком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28960" y="1643040"/>
            <a:ext cx="385776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1714680" cy="1442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0" y="321480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7358040" y="5214960"/>
            <a:ext cx="157176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Груша PNG изображения можно загрузить бесплатно - CrazyPNG-PNG ..."/>
          <p:cNvPicPr/>
          <p:nvPr/>
        </p:nvPicPr>
        <p:blipFill>
          <a:blip r:embed="rId5"/>
          <a:stretch/>
        </p:blipFill>
        <p:spPr>
          <a:xfrm>
            <a:off x="1785960" y="3500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6"/>
          <a:stretch/>
        </p:blipFill>
        <p:spPr>
          <a:xfrm>
            <a:off x="571680" y="428760"/>
            <a:ext cx="928440" cy="78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7"/>
          <a:stretch/>
        </p:blipFill>
        <p:spPr>
          <a:xfrm>
            <a:off x="2214720" y="785880"/>
            <a:ext cx="1428480" cy="1214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Шоколад - Еда, продукты питания - клипарт на прозрачном фоне ..."/>
          <p:cNvPicPr/>
          <p:nvPr/>
        </p:nvPicPr>
        <p:blipFill>
          <a:blip r:embed="rId8"/>
          <a:stretch/>
        </p:blipFill>
        <p:spPr>
          <a:xfrm>
            <a:off x="2571840" y="5342040"/>
            <a:ext cx="2143080" cy="1230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Фрукты и орехи PNG фото скачать бесплатно"/>
          <p:cNvPicPr/>
          <p:nvPr/>
        </p:nvPicPr>
        <p:blipFill>
          <a:blip r:embed="rId9"/>
          <a:stretch/>
        </p:blipFill>
        <p:spPr>
          <a:xfrm>
            <a:off x="5572080" y="71424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Вишня PNG картинки скачать бесплатно - CrazyPNG-PNG изображение ..."/>
          <p:cNvPicPr/>
          <p:nvPr/>
        </p:nvPicPr>
        <p:blipFill>
          <a:blip r:embed="rId10"/>
          <a:stretch/>
        </p:blipFill>
        <p:spPr>
          <a:xfrm>
            <a:off x="785880" y="5357880"/>
            <a:ext cx="1071360" cy="1028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Оранжевый PNG изображения можно загрузить бесплатно - CrazyPNG-PNG ..."/>
          <p:cNvPicPr/>
          <p:nvPr/>
        </p:nvPicPr>
        <p:blipFill>
          <a:blip r:embed="rId11"/>
          <a:stretch/>
        </p:blipFill>
        <p:spPr>
          <a:xfrm>
            <a:off x="7286760" y="342900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клипарт еда - Самое интересное в блогах"/>
          <p:cNvPicPr/>
          <p:nvPr/>
        </p:nvPicPr>
        <p:blipFill>
          <a:blip r:embed="rId12"/>
          <a:stretch/>
        </p:blipFill>
        <p:spPr>
          <a:xfrm>
            <a:off x="5286240" y="5429160"/>
            <a:ext cx="1751040" cy="1214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Редька PNG скачать коллекцию изображений бесплатно - CrazyPNG-PNG ..."/>
          <p:cNvPicPr/>
          <p:nvPr/>
        </p:nvPicPr>
        <p:blipFill>
          <a:blip r:embed="rId13"/>
          <a:stretch/>
        </p:blipFill>
        <p:spPr>
          <a:xfrm>
            <a:off x="7143840" y="1285920"/>
            <a:ext cx="1706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0301 L -0.14028 0.21046 E">
                                      <p:cBhvr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9112E-006 L -0.26494 -0.19334 E">
                                      <p:cBhvr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4 -0.06499 L -0.09496 -0.44265 E">
                                      <p:cBhvr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5 -0.03608 L 0.44566 -0.42438 E">
                                      <p:cBhvr>
                                        <p:cTn id="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0.00093 L 0.32865 -0.19842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-0.02567 L 0.45746 -0.1200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08 0.06521 L 0.48907 0.27497 E">
                                      <p:cBhvr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6161E-006 L 0.25052 0.18132 E">
                                      <p:cBhvr>
                                        <p:cTn id="12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Молодец , дружок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9:09:59Z</dcterms:created>
  <dc:creator>днс</dc:creator>
  <dc:description/>
  <dc:language>en-US</dc:language>
  <cp:lastModifiedBy>user</cp:lastModifiedBy>
  <dcterms:modified xsi:type="dcterms:W3CDTF">2020-04-08T13:31:45Z</dcterms:modified>
  <cp:revision>12</cp:revision>
  <dc:subject/>
  <dc:title>Слайд 1</dc:title>
</cp:coreProperties>
</file>