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6C33-1255-42A7-B30E-C13A714F0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E1B4-A263-46FF-8EB3-32289E7DA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FB93-994B-4B9F-AED6-52677AE1D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5282-F919-44A8-9234-2B0C53E42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FF30-88AA-48AB-9E1C-B02D3303B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879D-7B27-4398-8F21-7CA28ED77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8556-AAE4-4CF1-BC5A-9FC58B12D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C89A-212C-44A1-AD34-BC9E1D97F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DB71-FE43-41F9-AC5F-271D19915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486D-9327-4CDA-B030-D030ED1F7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7D38-8D95-4255-ABD2-C07B60629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186C-98FC-4DC5-B3B5-DEC49B5DC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852F1-4581-418C-B796-5856D77038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13.png"/><Relationship Id="rId12" Type="http://schemas.openxmlformats.org/officeDocument/2006/relationships/image" Target="../media/image25.png"/><Relationship Id="rId13" Type="http://schemas.openxmlformats.org/officeDocument/2006/relationships/image" Target="../media/image26.pn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интерактивная иг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«Я повар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C:\Users\днс\Desktop\download.jpg"/>
          <p:cNvPicPr/>
          <p:nvPr/>
        </p:nvPicPr>
        <p:blipFill>
          <a:blip r:embed="rId1"/>
          <a:stretch/>
        </p:blipFill>
        <p:spPr>
          <a:xfrm>
            <a:off x="2627280" y="2637000"/>
            <a:ext cx="4000680" cy="32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440" y="1341360"/>
            <a:ext cx="845820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Здравствуй, дружок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Умеешь  ли ты готовит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Я предлагаю тебе, мой друг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приготовить борщ и компо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Для этого тебе нужно выбрать продукт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520" y="213840"/>
            <a:ext cx="845820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Выбери продукты для борщ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4" descr="Кастрюли PNG коллекцию изображений можно скачать бесплатно ..."/>
          <p:cNvPicPr/>
          <p:nvPr/>
        </p:nvPicPr>
        <p:blipFill>
          <a:blip r:embed="rId1"/>
          <a:stretch/>
        </p:blipFill>
        <p:spPr>
          <a:xfrm>
            <a:off x="2771640" y="1125360"/>
            <a:ext cx="3571920" cy="3500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214200" y="2071800"/>
            <a:ext cx="1857600" cy="1150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3"/>
          <a:stretch/>
        </p:blipFill>
        <p:spPr>
          <a:xfrm>
            <a:off x="500040" y="5715000"/>
            <a:ext cx="1143000" cy="695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4"/>
          <a:stretch/>
        </p:blipFill>
        <p:spPr>
          <a:xfrm>
            <a:off x="7143840" y="3429000"/>
            <a:ext cx="1785960" cy="1357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"/>
          <p:cNvPicPr/>
          <p:nvPr/>
        </p:nvPicPr>
        <p:blipFill>
          <a:blip r:embed="rId5"/>
          <a:stretch/>
        </p:blipFill>
        <p:spPr>
          <a:xfrm>
            <a:off x="357120" y="3214800"/>
            <a:ext cx="2286000" cy="2071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"/>
          <p:cNvPicPr/>
          <p:nvPr/>
        </p:nvPicPr>
        <p:blipFill>
          <a:blip r:embed="rId6"/>
          <a:stretch/>
        </p:blipFill>
        <p:spPr>
          <a:xfrm>
            <a:off x="2714760" y="4770360"/>
            <a:ext cx="2263680" cy="1801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"/>
          <p:cNvPicPr/>
          <p:nvPr/>
        </p:nvPicPr>
        <p:blipFill>
          <a:blip r:embed="rId7"/>
          <a:stretch/>
        </p:blipFill>
        <p:spPr>
          <a:xfrm>
            <a:off x="6072120" y="785880"/>
            <a:ext cx="1357560" cy="1357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"/>
          <p:cNvPicPr/>
          <p:nvPr/>
        </p:nvPicPr>
        <p:blipFill>
          <a:blip r:embed="rId8"/>
          <a:stretch/>
        </p:blipFill>
        <p:spPr>
          <a:xfrm>
            <a:off x="7358040" y="1643040"/>
            <a:ext cx="1785960" cy="1285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"/>
          <p:cNvPicPr/>
          <p:nvPr/>
        </p:nvPicPr>
        <p:blipFill>
          <a:blip r:embed="rId9"/>
          <a:stretch/>
        </p:blipFill>
        <p:spPr>
          <a:xfrm>
            <a:off x="7072200" y="5006880"/>
            <a:ext cx="2071800" cy="1851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" descr=""/>
          <p:cNvPicPr/>
          <p:nvPr/>
        </p:nvPicPr>
        <p:blipFill>
          <a:blip r:embed="rId10"/>
          <a:stretch/>
        </p:blipFill>
        <p:spPr>
          <a:xfrm>
            <a:off x="5214960" y="5286240"/>
            <a:ext cx="1500120" cy="1357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" descr=""/>
          <p:cNvPicPr/>
          <p:nvPr/>
        </p:nvPicPr>
        <p:blipFill>
          <a:blip r:embed="rId11"/>
          <a:stretch/>
        </p:blipFill>
        <p:spPr>
          <a:xfrm>
            <a:off x="7572240" y="0"/>
            <a:ext cx="1571760" cy="142884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17" descr="Оранжевый PNG изображения можно загрузить бесплатно - CrazyPNG-PNG ..."/>
          <p:cNvPicPr/>
          <p:nvPr/>
        </p:nvPicPr>
        <p:blipFill>
          <a:blip r:embed="rId12"/>
          <a:stretch/>
        </p:blipFill>
        <p:spPr>
          <a:xfrm>
            <a:off x="1714680" y="1000080"/>
            <a:ext cx="785520" cy="92880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18" descr="Картинки на прозрачном фоне овощи"/>
          <p:cNvPicPr/>
          <p:nvPr/>
        </p:nvPicPr>
        <p:blipFill>
          <a:blip r:embed="rId13"/>
          <a:stretch/>
        </p:blipFill>
        <p:spPr>
          <a:xfrm>
            <a:off x="357120" y="285840"/>
            <a:ext cx="1357560" cy="10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8.60315E-007 L -0.3316 0.27035 E">
                                      <p:cBhvr>
                                        <p:cTn id="6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92 0.03006 L -0.34792 0.0488 E">
                                      <p:cBhvr>
                                        <p:cTn id="11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6 -0.07654 L -0.33229 -0.23403 E">
                                      <p:cBhvr>
                                        <p:cTn id="16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" dur="2000" fill="hold"/>
                                        <p:tgtEl>
                                          <p:spTgt spid="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41536E-006 L -0.10504 -0.50578 E">
                                      <p:cBhvr>
                                        <p:cTn id="26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545 -0.10846 L 0.13368 -0.46508 E">
                                      <p:cBhvr>
                                        <p:cTn id="31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1.71138E-006 L 0.38594 -0.49306 E">
                                      <p:cBhvr>
                                        <p:cTn id="36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" dur="2000" fill="hold"/>
                                        <p:tgtEl>
                                          <p:spTgt spid="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788 -0.01179 L 0.38281 -0.04348 E">
                                      <p:cBhvr>
                                        <p:cTn id="46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92137E-006 L 0.42517 0.20976 E">
                                      <p:cBhvr>
                                        <p:cTn id="51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" dur="2000" fill="hold"/>
                                        <p:tgtEl>
                                          <p:spTgt spid="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91 0.02405 L -0.15156 0.11841 E">
                                      <p:cBhvr>
                                        <p:cTn id="61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429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Выбери продукты для компо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2928960" y="1643040"/>
            <a:ext cx="3857760" cy="3571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214200" y="1571760"/>
            <a:ext cx="1714680" cy="1442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"/>
          <p:cNvPicPr/>
          <p:nvPr/>
        </p:nvPicPr>
        <p:blipFill>
          <a:blip r:embed="rId3"/>
          <a:stretch/>
        </p:blipFill>
        <p:spPr>
          <a:xfrm>
            <a:off x="0" y="3214800"/>
            <a:ext cx="1785960" cy="1214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"/>
          <p:cNvPicPr/>
          <p:nvPr/>
        </p:nvPicPr>
        <p:blipFill>
          <a:blip r:embed="rId4"/>
          <a:stretch/>
        </p:blipFill>
        <p:spPr>
          <a:xfrm>
            <a:off x="7358040" y="5214960"/>
            <a:ext cx="1571760" cy="142884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7" descr="Груша PNG изображения можно загрузить бесплатно - CrazyPNG-PNG ..."/>
          <p:cNvPicPr/>
          <p:nvPr/>
        </p:nvPicPr>
        <p:blipFill>
          <a:blip r:embed="rId5"/>
          <a:stretch/>
        </p:blipFill>
        <p:spPr>
          <a:xfrm>
            <a:off x="1785960" y="3500280"/>
            <a:ext cx="1143000" cy="1428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"/>
          <p:cNvPicPr/>
          <p:nvPr/>
        </p:nvPicPr>
        <p:blipFill>
          <a:blip r:embed="rId6"/>
          <a:stretch/>
        </p:blipFill>
        <p:spPr>
          <a:xfrm>
            <a:off x="571680" y="428760"/>
            <a:ext cx="928440" cy="7855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"/>
          <p:cNvPicPr/>
          <p:nvPr/>
        </p:nvPicPr>
        <p:blipFill>
          <a:blip r:embed="rId7"/>
          <a:stretch/>
        </p:blipFill>
        <p:spPr>
          <a:xfrm>
            <a:off x="2214720" y="785880"/>
            <a:ext cx="1428480" cy="121428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10" descr="Шоколад - Еда, продукты питания - клипарт на прозрачном фоне ..."/>
          <p:cNvPicPr/>
          <p:nvPr/>
        </p:nvPicPr>
        <p:blipFill>
          <a:blip r:embed="rId8"/>
          <a:stretch/>
        </p:blipFill>
        <p:spPr>
          <a:xfrm>
            <a:off x="2571840" y="5342040"/>
            <a:ext cx="2143080" cy="123012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11" descr="Фрукты и орехи PNG фото скачать бесплатно"/>
          <p:cNvPicPr/>
          <p:nvPr/>
        </p:nvPicPr>
        <p:blipFill>
          <a:blip r:embed="rId9"/>
          <a:stretch/>
        </p:blipFill>
        <p:spPr>
          <a:xfrm>
            <a:off x="5572080" y="714240"/>
            <a:ext cx="1428840" cy="121464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12" descr="Вишня PNG картинки скачать бесплатно - CrazyPNG-PNG изображение ..."/>
          <p:cNvPicPr/>
          <p:nvPr/>
        </p:nvPicPr>
        <p:blipFill>
          <a:blip r:embed="rId10"/>
          <a:stretch/>
        </p:blipFill>
        <p:spPr>
          <a:xfrm>
            <a:off x="785880" y="5357880"/>
            <a:ext cx="1071360" cy="102852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13" descr="Оранжевый PNG изображения можно загрузить бесплатно - CrazyPNG-PNG ..."/>
          <p:cNvPicPr/>
          <p:nvPr/>
        </p:nvPicPr>
        <p:blipFill>
          <a:blip r:embed="rId11"/>
          <a:stretch/>
        </p:blipFill>
        <p:spPr>
          <a:xfrm>
            <a:off x="7286760" y="3429000"/>
            <a:ext cx="1143000" cy="121428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14" descr="клипарт еда - Самое интересное в блогах"/>
          <p:cNvPicPr/>
          <p:nvPr/>
        </p:nvPicPr>
        <p:blipFill>
          <a:blip r:embed="rId12"/>
          <a:stretch/>
        </p:blipFill>
        <p:spPr>
          <a:xfrm>
            <a:off x="5286240" y="5429160"/>
            <a:ext cx="1751040" cy="121464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15" descr="Редька PNG скачать коллекцию изображений бесплатно - CrazyPNG-PNG ..."/>
          <p:cNvPicPr/>
          <p:nvPr/>
        </p:nvPicPr>
        <p:blipFill>
          <a:blip r:embed="rId13"/>
          <a:stretch/>
        </p:blipFill>
        <p:spPr>
          <a:xfrm>
            <a:off x="7143840" y="1285920"/>
            <a:ext cx="17064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389 0.00301 L -0.14028 0.21046 E">
                                      <p:cBhvr>
                                        <p:cTn id="67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2" dur="2000" fill="hold"/>
                                        <p:tgtEl>
                                          <p:spTgt spid="7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1.59112E-006 L -0.26494 -0.19334 E">
                                      <p:cBhvr>
                                        <p:cTn id="77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2" dur="2000" fill="hold"/>
                                        <p:tgtEl>
                                          <p:spTgt spid="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614 -0.06499 L -0.09496 -0.44265 E">
                                      <p:cBhvr>
                                        <p:cTn id="87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" dur="2000" fill="hold"/>
                                        <p:tgtEl>
                                          <p:spTgt spid="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94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35 -0.03608 L 0.44566 -0.42438 E">
                                      <p:cBhvr>
                                        <p:cTn id="97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313 0.00093 L 0.32865 -0.19842 E">
                                      <p:cBhvr>
                                        <p:cTn id="102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12 -0.02567 L 0.45746 -0.12003 E">
                                      <p:cBhvr>
                                        <p:cTn id="107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2" dur="2000" fill="hold"/>
                                        <p:tgtEl>
                                          <p:spTgt spid="6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608 0.06521 L 0.48907 0.27497 E">
                                      <p:cBhvr>
                                        <p:cTn id="117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19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1.46161E-006 L 0.25052 0.18132 E">
                                      <p:cBhvr>
                                        <p:cTn id="122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Молодец , дружок!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03T09:09:59Z</dcterms:created>
  <dc:creator>днс</dc:creator>
  <dc:description/>
  <dc:language>en-US</dc:language>
  <cp:lastModifiedBy>user</cp:lastModifiedBy>
  <dcterms:modified xsi:type="dcterms:W3CDTF">2020-04-08T13:31:45Z</dcterms:modified>
  <cp:revision>12</cp:revision>
  <dc:subject/>
  <dc:title>Слайд 1</dc:title>
</cp:coreProperties>
</file>