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29E-9BA2-4F9C-9212-9195F7FD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115-2AD4-460A-AF1B-C01B86D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128-CFF4-403F-80C3-4C93C4B9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CF1-998D-4BCF-91D9-163EDF5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48C-D152-4E04-A0AE-33D74D8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4F4-EEF8-4BEC-99BB-89EC4D0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6CB-AEF0-47CE-B266-67F0F8E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DAF-FA66-4580-9214-AC1920D5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ED0-06D9-4511-9237-0A81465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1D9-C7A1-49AF-B25B-FAE290F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B6B-A852-4759-9228-D064E39E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A1B-21AE-4F19-8951-4596CEF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B60-A534-4E23-A7AA-168A266D4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26920" y="0"/>
            <a:ext cx="59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, науки и молодежной поли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ский филиал ГБПОУ ВО «ГП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285920" y="271476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обряды и традиции в русской куль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643200" y="6488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ск 202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3"/>
          <p:cNvSpPr/>
          <p:nvPr/>
        </p:nvSpPr>
        <p:spPr>
          <a:xfrm>
            <a:off x="1571760" y="357120"/>
            <a:ext cx="674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 нынешнему поколению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1544760" y="2449440"/>
            <a:ext cx="662436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763640" y="17604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чно-обрядовая культу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60640" y="712800"/>
            <a:ext cx="81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 , обязательным элементом святок было ря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648180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190520" y="214200"/>
            <a:ext cx="777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Рождество Христ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428840" y="928800"/>
            <a:ext cx="692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вшись кто во что горазд, дети отправляются по домам. Они стучат в двери, поют песенки, произносят небольшие стишки – колядки. Хозяева угощают их за это конфетами, дарят маленькие подарки. Считалось, что тот, кто не пожелает угощать колядующих, обрекает себя на несчастлив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s://www.culture.ru/storage/images/cd6483b70ec3574ddfbb128f334d3050/62ea91bfccadd76d15c03b1889616541.jpg"/>
          <p:cNvPicPr/>
          <p:nvPr/>
        </p:nvPicPr>
        <p:blipFill>
          <a:blip r:embed="rId2"/>
          <a:stretch/>
        </p:blipFill>
        <p:spPr>
          <a:xfrm>
            <a:off x="2909880" y="3957480"/>
            <a:ext cx="3976560" cy="265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071720" y="2142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Маслениц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971640" y="857160"/>
            <a:ext cx="81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ус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на масленичных гуляньях устраивалась игра «Карусель». Для этого на площади устанавливался высокий шест, к которому прикреплялись разноцветные длинные ленты. Ребятишки хватались за них и бегали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Взрослый держит шест с привязанными лентами"/>
          <p:cNvPicPr/>
          <p:nvPr/>
        </p:nvPicPr>
        <p:blipFill>
          <a:blip r:embed="rId2"/>
          <a:stretch/>
        </p:blipFill>
        <p:spPr>
          <a:xfrm>
            <a:off x="2857680" y="350028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366920" y="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Пасх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60640" y="712800"/>
            <a:ext cx="81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чение я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игры в том, что игроки одновременно закручивают яйца и смотрят, чьё прокрутилось дольше. Как именно ставить яйцо перед запуском, значения не имеет. Выигравший — забирает себе остановившиеся раньш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nikajel.cerkov.ru/files/2016/06/IMG_7242_%D0%BD%D0%BE%D0%B2%D1%8B%D0%B9-%D1%80%D0%B0%D0%B7%D0%BC%D0%B5%D1%80.jpg"/>
          <p:cNvPicPr/>
          <p:nvPr/>
        </p:nvPicPr>
        <p:blipFill>
          <a:blip r:embed="rId2"/>
          <a:stretch/>
        </p:blipFill>
        <p:spPr>
          <a:xfrm>
            <a:off x="2786040" y="3571920"/>
            <a:ext cx="461484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366920" y="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Ивана Купа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966960" y="762120"/>
            <a:ext cx="8172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ыжки через «ого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главных особенностей этой ночи — очищающие костры, через которые прыгали: кто удачнее и выше прыгнет, тот будет счастливее. Для детей, конечно, эта забава опасна, поэтому  предлагается заменить костер палочкой, которую постепенно будет подниматься выше и выше. Кто смог перепрыгнуть палку в самом верхнем положении, тот и победил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loveopium.ru/content/2018/07/kupala/14s.jpg"/>
          <p:cNvPicPr/>
          <p:nvPr/>
        </p:nvPicPr>
        <p:blipFill>
          <a:blip r:embed="rId2"/>
          <a:stretch/>
        </p:blipFill>
        <p:spPr>
          <a:xfrm>
            <a:off x="2643120" y="3429000"/>
            <a:ext cx="4656240" cy="310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9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116000" y="15120"/>
            <a:ext cx="46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к и Троиц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праздновали на седьмой неделе после Пасхи (Семик - в четверг, а Троицу - в воскресенье), В Семик девушки ходили в лес, плели венки из березовых ветвей, пели троичные песни и бросали венки в реку. Если венок тонул, это считалось плохой приметой, если же приставал к берегу, это означало, что девушка должна скоро выйти заму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214960" y="4071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у было приня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внутреннюю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березовыми ветвями. Традиционной пищей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, яичница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а из я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5753160" y="709560"/>
            <a:ext cx="3208320" cy="2059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1116000" y="3605040"/>
            <a:ext cx="4751280" cy="293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187280" y="189000"/>
            <a:ext cx="7056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ёрк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.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ёрку парни присматривали невест, шутили, развлекали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813280" cy="38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Алексей</cp:lastModifiedBy>
  <dcterms:modified xsi:type="dcterms:W3CDTF">2020-04-08T11:33:23Z</dcterms:modified>
  <cp:revision>165</cp:revision>
  <dc:subject/>
  <dc:title>Слайд 1</dc:title>
</cp:coreProperties>
</file>