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1039-9009-4B00-B2C8-B80767AD5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A77F-BDDD-4F66-AA52-0382ED2F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A3F1-6758-4CC0-95EF-048246B5F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95FD-65BF-4A78-918F-738171275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0985-459A-4B5A-976C-FEEC2AB2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7584-FBAD-46AF-A9C9-E18AF2BA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FD16-2A31-428F-BB9D-4B4790F4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0B61-EB3B-44CF-9562-4CEBA14C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B5C4-CFA5-426D-B1E6-BD621864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6F4F-6B8D-4AC6-B162-227A39B1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3076-DF77-4128-A832-0666C932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D748-3F4D-49D9-AA97-79122B24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37B1-76D7-416B-B64B-6D14484E6F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4"/>
          <p:cNvSpPr/>
          <p:nvPr/>
        </p:nvSpPr>
        <p:spPr>
          <a:xfrm>
            <a:off x="1726920" y="0"/>
            <a:ext cx="590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артамент образования, науки и молодежной поли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нежской 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вловский филиал ГБПОУ ВО «ГП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285920" y="2714760"/>
            <a:ext cx="750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ые обряды и традиции в русской культу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3643200" y="64882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вловск 2020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6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13"/>
          <p:cNvSpPr/>
          <p:nvPr/>
        </p:nvSpPr>
        <p:spPr>
          <a:xfrm>
            <a:off x="1571760" y="357120"/>
            <a:ext cx="6745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ади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передача от предшествующих поколений обычаев и обрядов нынешнему поколению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 русское гостеприимство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1" descr=""/>
          <p:cNvPicPr/>
          <p:nvPr/>
        </p:nvPicPr>
        <p:blipFill>
          <a:blip r:embed="rId2"/>
          <a:stretch/>
        </p:blipFill>
        <p:spPr>
          <a:xfrm>
            <a:off x="1544760" y="2449440"/>
            <a:ext cx="6624360" cy="3467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1763640" y="176040"/>
            <a:ext cx="7777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зднично-обрядовая культур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1160640" y="712800"/>
            <a:ext cx="817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имние праздники –  две святочные недели (святки):   Рождество, Новый год и Крещение. В праздники затевали магические игры, производили символические действия с зерном, хлебом, соломой ("чтобы был урожай"),  ходили по домам колядовать,  девушки гадали , обязательным элементом святок было ря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1" descr=""/>
          <p:cNvPicPr/>
          <p:nvPr/>
        </p:nvPicPr>
        <p:blipFill>
          <a:blip r:embed="rId2"/>
          <a:stretch/>
        </p:blipFill>
        <p:spPr>
          <a:xfrm>
            <a:off x="1619280" y="2492280"/>
            <a:ext cx="6481800" cy="4176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4"/>
          <p:cNvSpPr/>
          <p:nvPr/>
        </p:nvSpPr>
        <p:spPr>
          <a:xfrm>
            <a:off x="1190520" y="214200"/>
            <a:ext cx="777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ая народная игра на Рождество Христо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1428840" y="928800"/>
            <a:ext cx="6929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ля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ядившись кто во что горазд, дети отправляются по домам. Они стучат в двери, поют песенки, произносят небольшие стишки – колядки. Хозяева угощают их за это конфетами, дарят маленькие подарки. Считалось, что тот, кто не пожелает угощать колядующих, обрекает себя на несчастливый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s://www.culture.ru/storage/images/cd6483b70ec3574ddfbb128f334d3050/62ea91bfccadd76d15c03b1889616541.jpg"/>
          <p:cNvPicPr/>
          <p:nvPr/>
        </p:nvPicPr>
        <p:blipFill>
          <a:blip r:embed="rId2"/>
          <a:stretch/>
        </p:blipFill>
        <p:spPr>
          <a:xfrm>
            <a:off x="2909880" y="3957480"/>
            <a:ext cx="3976560" cy="2651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1071720" y="21420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ая народная игра на Маслениц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5"/>
          <p:cNvSpPr/>
          <p:nvPr/>
        </p:nvSpPr>
        <p:spPr>
          <a:xfrm>
            <a:off x="971640" y="857160"/>
            <a:ext cx="8172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рус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о на масленичных гуляньях устраивалась игра «Карусель». Для этого на площади устанавливался высокий шест, к которому прикреплялись разноцветные длинные ленты. Ребятишки хватались за них и бегали вокру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Взрослый держит шест с привязанными лентами"/>
          <p:cNvPicPr/>
          <p:nvPr/>
        </p:nvPicPr>
        <p:blipFill>
          <a:blip r:embed="rId2"/>
          <a:stretch/>
        </p:blipFill>
        <p:spPr>
          <a:xfrm>
            <a:off x="2857680" y="3500280"/>
            <a:ext cx="4643280" cy="3095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4"/>
          <p:cNvSpPr/>
          <p:nvPr/>
        </p:nvSpPr>
        <p:spPr>
          <a:xfrm>
            <a:off x="1366920" y="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ая народная игра на Пасху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1160640" y="712800"/>
            <a:ext cx="817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учение я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ысл игры в том, что игроки одновременно закручивают яйца и смотрят, чьё прокрутилось дольше. Как именно ставить яйцо перед запуском, значения не имеет. Выигравший — забирает себе остановившиеся раньше яй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://nikajel.cerkov.ru/files/2016/06/IMG_7242_%D0%BD%D0%BE%D0%B2%D1%8B%D0%B9-%D1%80%D0%B0%D0%B7%D0%BC%D0%B5%D1%80.jpg"/>
          <p:cNvPicPr/>
          <p:nvPr/>
        </p:nvPicPr>
        <p:blipFill>
          <a:blip r:embed="rId2"/>
          <a:stretch/>
        </p:blipFill>
        <p:spPr>
          <a:xfrm>
            <a:off x="2786040" y="3571920"/>
            <a:ext cx="4614840" cy="3075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1366920" y="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ая народная игра на Ивана Купал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5"/>
          <p:cNvSpPr/>
          <p:nvPr/>
        </p:nvSpPr>
        <p:spPr>
          <a:xfrm>
            <a:off x="966960" y="762120"/>
            <a:ext cx="817236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ыжки через «огон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из главных особенностей этой ночи — очищающие костры, через которые прыгали: кто удачнее и выше прыгнет, тот будет счастливее. Для детей, конечно, эта забава опасна, поэтому  предлагается заменить костер палочкой, которую постепенно будет подниматься выше и выше. Кто смог перепрыгнуть палку в самом верхнем положении, тот и победил.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://loveopium.ru/content/2018/07/kupala/14s.jpg"/>
          <p:cNvPicPr/>
          <p:nvPr/>
        </p:nvPicPr>
        <p:blipFill>
          <a:blip r:embed="rId2"/>
          <a:stretch/>
        </p:blipFill>
        <p:spPr>
          <a:xfrm>
            <a:off x="2643120" y="3429000"/>
            <a:ext cx="4656240" cy="3103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9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169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1116000" y="15120"/>
            <a:ext cx="4643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мик и Троица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х праздновали на седьмой неделе после Пасхи (Семик - в четверг, а Троицу - в воскресенье), В Семик девушки ходили в лес, плели венки из березовых ветвей, пели троичные песни и бросали венки в реку. Если венок тонул, это считалось плохой приметой, если же приставал к берегу, это означало, что девушка должна скоро выйти замуж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6"/>
          <p:cNvSpPr/>
          <p:nvPr/>
        </p:nvSpPr>
        <p:spPr>
          <a:xfrm>
            <a:off x="5214960" y="4071960"/>
            <a:ext cx="45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оицу было приня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шать внутреннюю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 березовыми ветвями. Традиционной пищей бы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йца, яичница и друг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а из я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1" descr=""/>
          <p:cNvPicPr/>
          <p:nvPr/>
        </p:nvPicPr>
        <p:blipFill>
          <a:blip r:embed="rId2"/>
          <a:stretch/>
        </p:blipFill>
        <p:spPr>
          <a:xfrm>
            <a:off x="5753160" y="709560"/>
            <a:ext cx="3208320" cy="20592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" descr=""/>
          <p:cNvPicPr/>
          <p:nvPr/>
        </p:nvPicPr>
        <p:blipFill>
          <a:blip r:embed="rId3"/>
          <a:stretch/>
        </p:blipFill>
        <p:spPr>
          <a:xfrm>
            <a:off x="1116000" y="3605040"/>
            <a:ext cx="4751280" cy="2934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3"/>
          <p:cNvSpPr/>
          <p:nvPr/>
        </p:nvSpPr>
        <p:spPr>
          <a:xfrm>
            <a:off x="1187280" y="189000"/>
            <a:ext cx="705672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чёрки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аивались в осенне-зимний период. Вечерами молодежь собиралась у одинокой пожилой женщины, девушки и молодые женщины приносили кудель и другую работу - пряли, вышивали, вязали. Здесь обсуждали всякие сельские дела, рассказывали истории и сказки, пели песни. Пришедшие на вечёрку парни присматривали невест, шутили, развлекалис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2" descr=""/>
          <p:cNvPicPr/>
          <p:nvPr/>
        </p:nvPicPr>
        <p:blipFill>
          <a:blip r:embed="rId2"/>
          <a:stretch/>
        </p:blipFill>
        <p:spPr>
          <a:xfrm>
            <a:off x="1979640" y="2349360"/>
            <a:ext cx="5813280" cy="3862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5:48:04Z</dcterms:created>
  <dc:creator>DESIGN</dc:creator>
  <dc:description/>
  <dc:language>en-US</dc:language>
  <cp:lastModifiedBy>Алексей</cp:lastModifiedBy>
  <dcterms:modified xsi:type="dcterms:W3CDTF">2020-04-08T11:33:23Z</dcterms:modified>
  <cp:revision>165</cp:revision>
  <dc:subject/>
  <dc:title>Слайд 1</dc:title>
</cp:coreProperties>
</file>