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6.gif" ContentType="image/gif"/>
  <Override PartName="/ppt/media/image7.wmf" ContentType="image/x-wmf"/>
  <Override PartName="/ppt/media/image8.png" ContentType="image/png"/>
  <Override PartName="/ppt/media/image12.wmf" ContentType="image/x-wmf"/>
  <Override PartName="/ppt/media/image10.wmf" ContentType="image/x-wmf"/>
  <Override PartName="/ppt/media/image1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78656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808E-603B-40F4-881D-29F595B88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D16C-2165-4588-8B38-4CD27866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17C5-33BF-47DA-A3DA-75B33A275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0B31-8448-49FE-AA53-D60D1D933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7869-A173-4CF7-915D-C548A5B69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D1C2-6DD9-4796-9145-B2F1D0CE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1BC5-DA18-4C7E-A492-29C3054F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23BA7-402C-41DC-9F9A-18D3FBD1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E28BA-3AC8-4177-A357-A0671FCD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A1B1-3BBD-4B89-A14F-94E150E7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CF1C-4EBF-4625-9F1D-68BE9184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2E36-25B3-499E-A0B4-7046D877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F5F3-E889-401B-9405-FF92B201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232A0-ACBE-4B91-A512-DCA7B957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F622-5A08-404F-A5B9-90A34EEA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5E69-31A3-4AE1-A27D-4400BE74B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DA04-BC8A-4EDF-B7CE-F32295632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CCFE3-D6B6-4CA0-B6F8-73FA8F02A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11657-E7DA-48F6-92EB-35D438E4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FEB4F-0E5A-46B2-A0AC-4BE0B89E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AF0AC-B7DF-4472-8B81-F3A41089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4C93A-308A-4B2A-9C7B-49731ACF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7CCF-2E48-462E-B56E-110645EF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687F0-D127-4528-BFC2-7BEEFF0A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0274B-1E5A-4B6F-8310-39949E12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EAE30-391A-4E65-83C2-DCE9EE82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13D11-A7BB-4533-A341-5E1CEF7E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140B2-93C8-4EB2-906E-864F19D8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19009-8ED2-48DF-B04A-62CD8E64C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550BF-F9BE-4A36-A193-5F8B2E474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10DBA-2AFE-49B0-9BC4-7D611E84D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7D08B-3BB3-4BE6-9FA6-AB4C8582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C89A2-0832-47B3-8BB5-E11B27D8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7044-ED96-40C0-B5B2-42C12A0D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1C2A7-D107-4616-8008-EAAB75D9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27FA5-9ED3-4092-A11C-D7DB63D1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562F8-232D-4B60-85D2-C8D949A6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9169A-E8FE-47E4-9D7E-EE854AA1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9F971-27AC-4024-8793-03FB9124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0651D-F104-4ECF-A4EE-6A5BB1BB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64299-3936-49EB-8659-FC1610F4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13234-762A-4153-9B34-CCE7CCB9F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1DD88-C7A4-4F12-A172-BC50C0A1B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88588-6BE0-409E-8566-248AB4BF7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C277-5CDE-48A4-89FC-D8FE5480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0B63B-6739-4D7E-AD8F-D137DD9E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CB05B-BFDC-4506-870B-AB26C640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301B3-36A4-4509-8E12-227E8C10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AA7B4-83FD-4A4D-BF66-DE4BEC2F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D135E-50E4-422F-ADF6-BC629109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FF2F5-EEA5-43BE-894D-3DFDB959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97D61-BDF7-434D-94CD-F74F1D92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FC564-FBE6-47D5-93F5-266EE017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626D9-10DB-4E0F-A93A-D068C2AC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CB094-82D5-4F09-BF96-95F3875F3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1E88-25AB-410E-862C-3D94E193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10E30-C1E6-4A66-8C12-15B9D1D5A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7678B-7898-422A-95B8-3F321640E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1BC2B-F908-4242-9856-A4EA6633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BCE1A-989E-471A-8DA3-661240A6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24AD8-AD7D-4454-B5EB-D98A2CF6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7EDC2-383D-44D1-A625-7FC93600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790E6-22BF-4EB1-B6B7-F55D5907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A1BE8-8D71-4386-9F68-D1D29AE3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8150A-FFC1-4269-BAA4-DB044F4D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8EA32-2E81-4DBB-8ECE-F7372BBD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6101-8D27-458E-B1BB-8ADF81E5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3215D-A29A-4D8F-9661-8F73AA3D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AE900-8730-4865-8595-17D58C89F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24E66-D8C3-409A-B7F7-5354731BA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904BB-07DD-4BB0-AF70-60D9D57EA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1B2FC-32E2-4A19-B80B-0120FFAD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56990-A211-4E29-9CA6-092C1AFB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B90EB-13E5-4D55-83DA-34EFF819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C9DE8-DE30-49A0-8369-12F2810A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602FC-143A-4EC1-8293-E29070CC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DA649-7A17-4214-8694-2892F032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00CC-3111-4798-B9B6-E8546A65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836DB-C1BA-4A2E-9186-E99540B0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9F23B-B211-458E-846F-F876E8C6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2AEF1-8A0B-4283-A779-8672ADCC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22650-7AD8-43E2-821D-2295A3868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A7DBC-C39B-4C9A-A1D6-03AE1B853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48C2-AE0B-4B9F-AFB2-06D58A97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39AA-357E-475F-8610-25DD0C20DA0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EADF-F5C3-4945-9E5A-C8920CDEFFD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7A6D-27F5-489C-B8B4-806F79F6B38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07D0-04C7-488E-8F66-CF935F07916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78D1-3BF7-4DDF-8B87-4AB95220B83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800C-22C1-419D-BD14-F095B7817D5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CE8F-1E14-4B2F-A5F9-7558EF40237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71280" y="83628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2314"/>
                </a:solidFill>
                <a:latin typeface="Arial Black"/>
              </a:rPr>
              <a:t>ИНФОРМАТИКА и ИКТ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5003640" y="3068640"/>
            <a:ext cx="3778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cript MT Bold"/>
              </a:rPr>
              <a:t>Раздел: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и создания и преобразования информационных объект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9"/>
          <p:cNvSpPr/>
          <p:nvPr/>
        </p:nvSpPr>
        <p:spPr>
          <a:xfrm>
            <a:off x="1053360" y="658188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30F4-E036-4B39-92FB-44A96FE3E43F}" type="datetime">
              <a:rPr b="0" lang="ru-RU" sz="1200" spc="-1" strike="noStrike">
                <a:solidFill>
                  <a:srgbClr val="67011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2"/>
          <p:cNvSpPr/>
          <p:nvPr/>
        </p:nvSpPr>
        <p:spPr>
          <a:xfrm>
            <a:off x="1116000" y="1125360"/>
            <a:ext cx="67816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f271c"/>
                </a:solidFill>
                <a:latin typeface="Times New Roman"/>
              </a:rPr>
              <a:t>Криптология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наука, разрабатывающая способы защиты информации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2920" y="1267920"/>
            <a:ext cx="7772400" cy="20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Обработка (преобразование) информации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– </a:t>
            </a:r>
            <a:r>
              <a:rPr b="0" lang="ru-RU" sz="2900" spc="-1" strike="noStrike">
                <a:solidFill>
                  <a:srgbClr val="572314"/>
                </a:solidFill>
                <a:latin typeface="Corbel"/>
              </a:rPr>
              <a:t>процесс изменения вида (формы), смысла (содержания), объема (количества) информации.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360" name="Group 18"/>
          <p:cNvGrpSpPr/>
          <p:nvPr/>
        </p:nvGrpSpPr>
        <p:grpSpPr>
          <a:xfrm>
            <a:off x="1042920" y="4005360"/>
            <a:ext cx="7543800" cy="2364480"/>
            <a:chOff x="1042920" y="4005360"/>
            <a:chExt cx="7543800" cy="2364480"/>
          </a:xfrm>
        </p:grpSpPr>
        <p:sp>
          <p:nvSpPr>
            <p:cNvPr id="361" name="AutoShape 4"/>
            <p:cNvSpPr/>
            <p:nvPr/>
          </p:nvSpPr>
          <p:spPr>
            <a:xfrm>
              <a:off x="1042920" y="4005360"/>
              <a:ext cx="2210040" cy="1523520"/>
            </a:xfrm>
            <a:prstGeom prst="flowChartPunchedCard">
              <a:avLst/>
            </a:prstGeom>
            <a:solidFill>
              <a:srgbClr val="ffe39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AutoShape 5"/>
            <p:cNvSpPr/>
            <p:nvPr/>
          </p:nvSpPr>
          <p:spPr>
            <a:xfrm>
              <a:off x="3481560" y="4005360"/>
              <a:ext cx="2743200" cy="1523520"/>
            </a:xfrm>
            <a:prstGeom prst="flowChartProcess">
              <a:avLst/>
            </a:prstGeom>
            <a:solidFill>
              <a:srgbClr val="ffe39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AutoShape 6"/>
            <p:cNvSpPr/>
            <p:nvPr/>
          </p:nvSpPr>
          <p:spPr>
            <a:xfrm>
              <a:off x="6453360" y="4005360"/>
              <a:ext cx="2133360" cy="1523520"/>
            </a:xfrm>
            <a:prstGeom prst="flowChartAlternateProcess">
              <a:avLst/>
            </a:prstGeom>
            <a:solidFill>
              <a:srgbClr val="ffe39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4" name="AutoShape 7"/>
            <p:cNvCxnSpPr>
              <a:stCxn id="361" idx="3"/>
              <a:endCxn id="362" idx="1"/>
            </p:cNvCxnSpPr>
            <p:nvPr/>
          </p:nvCxnSpPr>
          <p:spPr>
            <a:xfrm>
              <a:off x="3252600" y="476676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5" name="AutoShape 8"/>
            <p:cNvCxnSpPr>
              <a:stCxn id="362" idx="3"/>
              <a:endCxn id="363" idx="1"/>
            </p:cNvCxnSpPr>
            <p:nvPr/>
          </p:nvCxnSpPr>
          <p:spPr>
            <a:xfrm>
              <a:off x="6224400" y="476676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6" name="Text Box 9"/>
            <p:cNvSpPr/>
            <p:nvPr/>
          </p:nvSpPr>
          <p:spPr>
            <a:xfrm>
              <a:off x="1042920" y="4309920"/>
              <a:ext cx="2133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ходная информ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Text Box 10"/>
            <p:cNvSpPr/>
            <p:nvPr/>
          </p:nvSpPr>
          <p:spPr>
            <a:xfrm>
              <a:off x="3557520" y="4309920"/>
              <a:ext cx="259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еобразователь</a:t>
              </a:r>
              <a:br>
                <a:rPr sz="2400"/>
              </a:b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нформаци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Text Box 12"/>
            <p:cNvSpPr/>
            <p:nvPr/>
          </p:nvSpPr>
          <p:spPr>
            <a:xfrm>
              <a:off x="6453360" y="430992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ыходная информ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Text Box 16"/>
            <p:cNvSpPr/>
            <p:nvPr/>
          </p:nvSpPr>
          <p:spPr>
            <a:xfrm>
              <a:off x="2185920" y="5910120"/>
              <a:ext cx="525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Общая схема обработки информаци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newsflash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Схема преобразования информации по принципу «черного ящика»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371" name="Group 17"/>
          <p:cNvGrpSpPr/>
          <p:nvPr/>
        </p:nvGrpSpPr>
        <p:grpSpPr>
          <a:xfrm>
            <a:off x="990720" y="3809880"/>
            <a:ext cx="7619760" cy="2364840"/>
            <a:chOff x="990720" y="3809880"/>
            <a:chExt cx="7619760" cy="2364840"/>
          </a:xfrm>
        </p:grpSpPr>
        <p:sp>
          <p:nvSpPr>
            <p:cNvPr id="372" name="AutoShape 4"/>
            <p:cNvSpPr/>
            <p:nvPr/>
          </p:nvSpPr>
          <p:spPr>
            <a:xfrm>
              <a:off x="990720" y="3809880"/>
              <a:ext cx="2209680" cy="1524240"/>
            </a:xfrm>
            <a:prstGeom prst="flowChartPunchedCard">
              <a:avLst/>
            </a:prstGeom>
            <a:solidFill>
              <a:srgbClr val="ffe39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AutoShape 5"/>
            <p:cNvSpPr/>
            <p:nvPr/>
          </p:nvSpPr>
          <p:spPr>
            <a:xfrm>
              <a:off x="3505320" y="3809880"/>
              <a:ext cx="2743200" cy="1524240"/>
            </a:xfrm>
            <a:prstGeom prst="flowChartProcess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AutoShape 6"/>
            <p:cNvSpPr/>
            <p:nvPr/>
          </p:nvSpPr>
          <p:spPr>
            <a:xfrm>
              <a:off x="6477120" y="3809880"/>
              <a:ext cx="2133360" cy="1524240"/>
            </a:xfrm>
            <a:prstGeom prst="flowChartAlternateProcess">
              <a:avLst/>
            </a:prstGeom>
            <a:solidFill>
              <a:srgbClr val="ffe39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5" name="AutoShape 7"/>
            <p:cNvCxnSpPr>
              <a:stCxn id="372" idx="3"/>
              <a:endCxn id="373" idx="1"/>
            </p:cNvCxnSpPr>
            <p:nvPr/>
          </p:nvCxnSpPr>
          <p:spPr>
            <a:xfrm>
              <a:off x="3200040" y="4571640"/>
              <a:ext cx="305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6" name="AutoShape 8"/>
            <p:cNvCxnSpPr>
              <a:stCxn id="373" idx="3"/>
              <a:endCxn id="374" idx="1"/>
            </p:cNvCxnSpPr>
            <p:nvPr/>
          </p:nvCxnSpPr>
          <p:spPr>
            <a:xfrm>
              <a:off x="6248160" y="457164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7" name="Text Box 9"/>
            <p:cNvSpPr/>
            <p:nvPr/>
          </p:nvSpPr>
          <p:spPr>
            <a:xfrm>
              <a:off x="990720" y="3962520"/>
              <a:ext cx="213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ходная информ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Text Box 10"/>
            <p:cNvSpPr/>
            <p:nvPr/>
          </p:nvSpPr>
          <p:spPr>
            <a:xfrm>
              <a:off x="3429000" y="403848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70110"/>
                  </a:solidFill>
                  <a:latin typeface="Times New Roman"/>
                </a:rPr>
                <a:t>«Черный ящик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Text Box 11"/>
            <p:cNvSpPr/>
            <p:nvPr/>
          </p:nvSpPr>
          <p:spPr>
            <a:xfrm>
              <a:off x="6477120" y="403848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ыходная информ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Text Box 13"/>
            <p:cNvSpPr/>
            <p:nvPr/>
          </p:nvSpPr>
          <p:spPr>
            <a:xfrm>
              <a:off x="2743200" y="571500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Доступно наблюдател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14"/>
            <p:cNvSpPr/>
            <p:nvPr/>
          </p:nvSpPr>
          <p:spPr>
            <a:xfrm flipH="1" flipV="1">
              <a:off x="2514600" y="5333760"/>
              <a:ext cx="9907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15"/>
            <p:cNvSpPr/>
            <p:nvPr/>
          </p:nvSpPr>
          <p:spPr>
            <a:xfrm flipV="1">
              <a:off x="6019920" y="5333760"/>
              <a:ext cx="9144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newsflash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2"/>
          <p:cNvSpPr/>
          <p:nvPr/>
        </p:nvSpPr>
        <p:spPr>
          <a:xfrm>
            <a:off x="1187280" y="404640"/>
            <a:ext cx="7315200" cy="60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dc765"/>
                </a:solidFill>
                <a:latin typeface="Times New Roman"/>
              </a:rPr>
              <a:t>Задани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ведите примеры способов передачи информации по схемам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точник (человек)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иемник (человек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точник (устройство)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иемник (человек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точник (человек)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иемник (устройств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точник (предмет)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иемник (человек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точник (человек)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иемник (предме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71280" y="1483920"/>
            <a:ext cx="8172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72314"/>
                </a:solidFill>
                <a:latin typeface="Arial Black"/>
              </a:rPr>
              <a:t>Информационные процессы</a:t>
            </a:r>
            <a:endParaRPr b="0" lang="en-US" sz="60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2" name="Picture 8" descr="boygo"/>
          <p:cNvPicPr/>
          <p:nvPr/>
        </p:nvPicPr>
        <p:blipFill>
          <a:blip r:embed="rId1"/>
          <a:stretch/>
        </p:blipFill>
        <p:spPr>
          <a:xfrm>
            <a:off x="7667640" y="4581360"/>
            <a:ext cx="1162080" cy="2057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Информационные процессы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-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066680" y="2101320"/>
            <a:ext cx="7772400" cy="22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1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то действия (последовательность операций), совершаемые над информацией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5" name="Picture 4" descr="Копия (2) comp3"/>
          <p:cNvPicPr/>
          <p:nvPr/>
        </p:nvPicPr>
        <p:blipFill>
          <a:blip r:embed="rId1"/>
          <a:stretch/>
        </p:blipFill>
        <p:spPr>
          <a:xfrm>
            <a:off x="6324480" y="3809880"/>
            <a:ext cx="2590920" cy="23749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В информатике к информационным процессам относят: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066680" y="2468160"/>
            <a:ext cx="7772400" cy="37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иск информации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бор информации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Хранение информации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ередача информации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дирование информации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работка информации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ащита информации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8" name="Picture 5" descr="BS00580_"/>
          <p:cNvPicPr/>
          <p:nvPr/>
        </p:nvPicPr>
        <p:blipFill>
          <a:blip r:embed="rId1"/>
          <a:stretch/>
        </p:blipFill>
        <p:spPr>
          <a:xfrm>
            <a:off x="6248520" y="3048120"/>
            <a:ext cx="2438280" cy="2209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5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5" dur="5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0" dur="500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5" dur="500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71640" y="1125000"/>
            <a:ext cx="777240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Сбор информации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– </a:t>
            </a:r>
            <a:br>
              <a:rPr sz="3900"/>
            </a:br>
            <a:r>
              <a:rPr b="0" lang="ru-RU" sz="2900" spc="-1" strike="noStrike">
                <a:solidFill>
                  <a:srgbClr val="572314"/>
                </a:solidFill>
                <a:latin typeface="Corbel"/>
              </a:rPr>
              <a:t>это целенаправленный процесс, который сводится к поиску, отбору, получению и накоплению нужной для дальнейшего использования информации.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0" name="Picture 8" descr="art_1_2_002"/>
          <p:cNvPicPr/>
          <p:nvPr/>
        </p:nvPicPr>
        <p:blipFill>
          <a:blip r:embed="rId1"/>
          <a:stretch/>
        </p:blipFill>
        <p:spPr>
          <a:xfrm>
            <a:off x="6048360" y="3573360"/>
            <a:ext cx="3095640" cy="2781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4"/>
          <p:cNvSpPr/>
          <p:nvPr/>
        </p:nvSpPr>
        <p:spPr>
          <a:xfrm>
            <a:off x="1042920" y="549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f0313"/>
                </a:solidFill>
                <a:latin typeface="Times New Roman"/>
              </a:rPr>
              <a:t>Методы поиска информации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971640" y="1916280"/>
            <a:ext cx="763272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блюдени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ение со специалистами по интересующему вопросу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ение соответствующей литератур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смотр теле- и видеопрограм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слушивание аудиозаписей и радиопередач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та в библиотеках и архивах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 к информационным системам, банкам и базам данны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4" descr="art_1_2_003"/>
          <p:cNvPicPr/>
          <p:nvPr/>
        </p:nvPicPr>
        <p:blipFill>
          <a:blip r:embed="rId1"/>
          <a:stretch/>
        </p:blipFill>
        <p:spPr>
          <a:xfrm>
            <a:off x="6496200" y="3916440"/>
            <a:ext cx="2647800" cy="294156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71280" y="907560"/>
            <a:ext cx="799308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Хранение информации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 – </a:t>
            </a:r>
            <a:r>
              <a:rPr b="0" lang="ru-RU" sz="2900" spc="-1" strike="noStrike">
                <a:solidFill>
                  <a:srgbClr val="572314"/>
                </a:solidFill>
                <a:latin typeface="Corbel"/>
              </a:rPr>
              <a:t>это процесс помещения информации в определенное хранилище с целью извлечения ее оттуда через некоторое время для дальнейшего использования.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900000" y="3212640"/>
            <a:ext cx="7772400" cy="28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0f18"/>
                </a:solidFill>
                <a:latin typeface="Corbel"/>
              </a:rPr>
              <a:t>Различная информация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0f18"/>
                </a:solidFill>
                <a:latin typeface="Corbel"/>
              </a:rPr>
              <a:t>требует разного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ремени хранени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0f18"/>
                </a:solidFill>
                <a:latin typeface="Corbel"/>
              </a:rPr>
              <a:t>Хранилище информации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0f18"/>
                </a:solidFill>
                <a:latin typeface="Corbel"/>
              </a:rPr>
              <a:t>зависит от ее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осител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newsflash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2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7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2"/>
          <p:cNvSpPr/>
          <p:nvPr/>
        </p:nvSpPr>
        <p:spPr>
          <a:xfrm>
            <a:off x="914400" y="1066680"/>
            <a:ext cx="746748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Носитель информаци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– материальный объект, предназначенный для хранения и передачи информаци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Picture 3" descr="BS00554_"/>
          <p:cNvPicPr/>
          <p:nvPr/>
        </p:nvPicPr>
        <p:blipFill>
          <a:blip r:embed="rId1"/>
          <a:stretch/>
        </p:blipFill>
        <p:spPr>
          <a:xfrm>
            <a:off x="6659640" y="4581360"/>
            <a:ext cx="2292120" cy="20005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54524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Передача информации – </a:t>
            </a:r>
            <a:r>
              <a:rPr b="0" lang="ru-RU" sz="2900" spc="-1" strike="noStrike">
                <a:solidFill>
                  <a:srgbClr val="572314"/>
                </a:solidFill>
                <a:latin typeface="Corbel"/>
              </a:rPr>
              <a:t>это целенаправленный процесс, в результате которого информация передается от одного объекта к другому.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339" name="Group 26"/>
          <p:cNvGrpSpPr/>
          <p:nvPr/>
        </p:nvGrpSpPr>
        <p:grpSpPr>
          <a:xfrm>
            <a:off x="539640" y="2565360"/>
            <a:ext cx="8305920" cy="3202920"/>
            <a:chOff x="539640" y="2565360"/>
            <a:chExt cx="8305920" cy="3202920"/>
          </a:xfrm>
        </p:grpSpPr>
        <p:sp>
          <p:nvSpPr>
            <p:cNvPr id="340" name="Text Box 5"/>
            <p:cNvSpPr/>
            <p:nvPr/>
          </p:nvSpPr>
          <p:spPr>
            <a:xfrm>
              <a:off x="539640" y="4012920"/>
              <a:ext cx="1371600" cy="337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4f0313"/>
                  </a:solidFill>
                  <a:latin typeface="Georgia"/>
                </a:rPr>
                <a:t>Источник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6"/>
            <p:cNvSpPr/>
            <p:nvPr/>
          </p:nvSpPr>
          <p:spPr>
            <a:xfrm>
              <a:off x="2216160" y="3936960"/>
              <a:ext cx="1676160" cy="580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4f0313"/>
                  </a:solidFill>
                  <a:latin typeface="Georgia"/>
                </a:rPr>
                <a:t>Кодирующее устройство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7"/>
            <p:cNvSpPr/>
            <p:nvPr/>
          </p:nvSpPr>
          <p:spPr>
            <a:xfrm>
              <a:off x="4959360" y="3936960"/>
              <a:ext cx="1981080" cy="580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4f0313"/>
                  </a:solidFill>
                  <a:latin typeface="Georgia"/>
                </a:rPr>
                <a:t>Декодирующее устройство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8"/>
            <p:cNvSpPr/>
            <p:nvPr/>
          </p:nvSpPr>
          <p:spPr>
            <a:xfrm>
              <a:off x="7321320" y="4012920"/>
              <a:ext cx="1524240" cy="337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4f0313"/>
                  </a:solidFill>
                  <a:latin typeface="Georgia"/>
                </a:rPr>
                <a:t>Приемни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"/>
            <p:cNvSpPr/>
            <p:nvPr/>
          </p:nvSpPr>
          <p:spPr>
            <a:xfrm>
              <a:off x="1911240" y="42415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0"/>
            <p:cNvSpPr/>
            <p:nvPr/>
          </p:nvSpPr>
          <p:spPr>
            <a:xfrm>
              <a:off x="3892320" y="4241520"/>
              <a:ext cx="1067040" cy="0"/>
            </a:xfrm>
            <a:prstGeom prst="line">
              <a:avLst/>
            </a:prstGeom>
            <a:ln w="38160">
              <a:solidFill>
                <a:srgbClr val="4f271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11"/>
            <p:cNvSpPr/>
            <p:nvPr/>
          </p:nvSpPr>
          <p:spPr>
            <a:xfrm>
              <a:off x="6940440" y="42415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WordArt 12"/>
            <p:cNvSpPr txBox="1"/>
            <p:nvPr/>
          </p:nvSpPr>
          <p:spPr>
            <a:xfrm>
              <a:off x="3816360" y="3632040"/>
              <a:ext cx="1218960" cy="25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1" strike="noStrike">
                  <a:ln w="9360">
                    <a:solidFill>
                      <a:srgbClr val="4f271c"/>
                    </a:solidFill>
                    <a:miter/>
                  </a:ln>
                  <a:solidFill>
                    <a:srgbClr val="4f271c"/>
                  </a:solidFill>
                  <a:latin typeface="Arial"/>
                </a:rPr>
                <a:t>Канал связи</a:t>
              </a:r>
              <a:endParaRPr b="1" lang="en-US" sz="1200" spc="1" strike="noStrike">
                <a:ln w="9360">
                  <a:solidFill>
                    <a:srgbClr val="4f271c"/>
                  </a:solidFill>
                  <a:miter/>
                </a:ln>
                <a:solidFill>
                  <a:srgbClr val="4f271c"/>
                </a:solidFill>
                <a:latin typeface="Arial"/>
                <a:ea typeface="Arial"/>
              </a:endParaRPr>
            </a:p>
          </p:txBody>
        </p:sp>
        <p:sp>
          <p:nvSpPr>
            <p:cNvPr id="348" name="Line 14"/>
            <p:cNvSpPr/>
            <p:nvPr/>
          </p:nvSpPr>
          <p:spPr>
            <a:xfrm flipH="1">
              <a:off x="2825280" y="3098520"/>
              <a:ext cx="1523880" cy="83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15"/>
            <p:cNvSpPr/>
            <p:nvPr/>
          </p:nvSpPr>
          <p:spPr>
            <a:xfrm>
              <a:off x="4349520" y="309852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16"/>
            <p:cNvSpPr/>
            <p:nvPr/>
          </p:nvSpPr>
          <p:spPr>
            <a:xfrm>
              <a:off x="4349520" y="3098520"/>
              <a:ext cx="1600200" cy="83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Text Box 17"/>
            <p:cNvSpPr/>
            <p:nvPr/>
          </p:nvSpPr>
          <p:spPr>
            <a:xfrm>
              <a:off x="3359160" y="256536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f0313"/>
                  </a:solidFill>
                  <a:latin typeface="Times New Roman"/>
                </a:rPr>
                <a:t>Помехи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9"/>
            <p:cNvSpPr/>
            <p:nvPr/>
          </p:nvSpPr>
          <p:spPr>
            <a:xfrm flipH="1" flipV="1">
              <a:off x="2825280" y="4546080"/>
              <a:ext cx="152388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Line 20"/>
            <p:cNvSpPr/>
            <p:nvPr/>
          </p:nvSpPr>
          <p:spPr>
            <a:xfrm flipV="1">
              <a:off x="4349520" y="4469760"/>
              <a:ext cx="0" cy="76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21"/>
            <p:cNvSpPr/>
            <p:nvPr/>
          </p:nvSpPr>
          <p:spPr>
            <a:xfrm flipV="1">
              <a:off x="4349520" y="4546080"/>
              <a:ext cx="152424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22"/>
            <p:cNvSpPr/>
            <p:nvPr/>
          </p:nvSpPr>
          <p:spPr>
            <a:xfrm>
              <a:off x="3206520" y="5308560"/>
              <a:ext cx="24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f0313"/>
                  </a:solidFill>
                  <a:latin typeface="Times New Roman"/>
                </a:rPr>
                <a:t>Защита от поме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09.MP3" descr=""/>
          <p:cNvPicPr/>
          <p:nvPr/>
        </p:nvPicPr>
        <p:blipFill>
          <a:blip r:embed="rId1"/>
          <a:stretch/>
        </p:blipFill>
        <p:spPr>
          <a:xfrm>
            <a:off x="7543800" y="5410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7" descr="j0343461"/>
          <p:cNvPicPr/>
          <p:nvPr/>
        </p:nvPicPr>
        <p:blipFill>
          <a:blip r:embed="rId2"/>
          <a:stretch/>
        </p:blipFill>
        <p:spPr>
          <a:xfrm>
            <a:off x="6705720" y="4800600"/>
            <a:ext cx="200016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32681" fill="hold"/>
                                        <p:tgtEl>
                                          <p:spTgt spid="3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6T07:52:29Z</dcterms:created>
  <dc:creator>Усольцева Э.</dc:creator>
  <dc:description/>
  <dc:language>en-US</dc:language>
  <cp:lastModifiedBy>Elena Dantsig</cp:lastModifiedBy>
  <dcterms:modified xsi:type="dcterms:W3CDTF">2015-08-23T16:59:55Z</dcterms:modified>
  <cp:revision>34</cp:revision>
  <dc:subject/>
  <dc:title>Информационные процессы</dc:title>
</cp:coreProperties>
</file>