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wmf" ContentType="image/x-wmf"/>
  <Override PartName="/ppt/media/image8.png" ContentType="image/png"/>
  <Override PartName="/ppt/media/image12.wmf" ContentType="image/x-wmf"/>
  <Override PartName="/ppt/media/image10.wmf" ContentType="image/x-wmf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8EA-F7AB-49A2-9B08-28BD96B5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95E-447D-49E1-8725-DC725D40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7D1-67A0-4796-A275-1122945A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809-91F8-495F-B77D-E4022D05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5FAD-27E4-4640-951F-60062B28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B0B3-70A4-4E2E-A0CB-7FDD9C49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6B87-7148-44CE-A1F7-933E38C0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8018-6532-48D7-952A-47C08987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DBFF-268C-429C-894C-82F7DEAC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3915-93CD-4E21-B3CF-DA1E0AB2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7D1C-55A6-49D5-91A0-7841A9C8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469-6F77-452E-81DD-6183A400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431E-AAB5-445F-8BCF-FB67E496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19B2-EB87-4462-9082-ABDDA9B8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B2BE-CABD-449E-A66E-C568BC86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7815-85D9-4B21-AAA9-B2078FA8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B6FF-6EC9-46C8-B3C6-B76C97FF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C0A8-4C29-49E9-8892-98C65D93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3336-1265-4E9F-A55F-62F03D48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102E0-6FA5-4B0B-8E53-D7E5C828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0B342-C77C-43E0-B42A-AE72F376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F2CA2-FDCE-4CE6-A4E0-EF7C74E4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375-6530-424D-AB5A-35EEDD39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A322-7391-4AAC-B02B-864CD45A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00F86-3CAD-4942-B447-B51F3EA8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9ED28-C901-4C7E-8372-8C98D9AC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B143-7CE0-460F-B90A-827CBDBE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911F6-1546-4503-A213-1C6D4C32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9A8F-0FFD-425B-964C-0CABBAA2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97F23-090A-4CD2-B021-F7131857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BD553-3C27-4B27-BE2F-A373DFE0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32288-4D7E-4D8D-B648-17A43ADE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68D3-C595-4833-9864-E8D80EC9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693-2BB8-4D9B-901F-40759B09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00695-4183-4CFB-AFE3-FCE2F22D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DF352-DCDE-4555-813D-D0224A2E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DAFE4-6B1A-4E64-88FF-F771AD97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CE3FF-0968-4291-83FA-39BA7EFA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28FC-4C04-4EFB-B456-088BEB05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271DA-4E49-4DB4-A0F4-82729D84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0AD36-5A76-43DE-B8E0-B558D27D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0025F-5B4D-4C92-B811-BACDD446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56C4F-63FF-40DD-B32D-944A8278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B3B15-970D-4E03-A113-EDF5E41B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6B5-524B-4B18-AE1D-A4E4DA8E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9388B-7976-47E1-A3D2-3F810E08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75F4A-E352-4DFD-8241-2423606E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77FB4-91E4-48AF-8AF6-47523DB4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6925B-F084-4B4A-971A-12FC23B6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0140-27C5-405B-BFA5-D39A6648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9C87F-C381-4C9A-A3D5-A3865080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3458-BB84-4C66-AA8A-68598308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964E8-CF9E-4F11-8478-77D5DC11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982A-C94F-4206-948D-71B9EA8A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2D455-72AB-429C-8694-A00040D3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7E4-0390-4199-BF2B-F2206B5A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1C611-66BE-4112-89E2-EA727F5D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F924C-3D3F-49AF-8D5D-C3535AED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CD83F-5D2B-4DC1-B411-EC8F0B68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C8E3F-6EA3-4FBC-B203-255685CF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EE198-8B2A-4AA1-BBF6-CA05ECA7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0AF76-7BBB-45DC-B249-0BD0E171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41129-1681-47E3-A04E-49F0CE34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14C60-BC3F-40B6-BE72-4E7EBD43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68C2C-0E8A-45AC-B435-BF2F839C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9B224-24E6-414D-B8A2-5519CA4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4EE-C0B5-410A-9D6C-5ED6823C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427D1-E3D9-4BDB-8D0B-3006169A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DB3A7-1C4F-4955-9FD0-E6AB2481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81798-0E16-467E-958E-A6C7A1DD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AA154-6BDB-412C-B449-1FDE26E6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74815-D459-4F87-B6B0-B3CEAF8C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A857A-4485-4BCF-8B3F-C19C0245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C3144-EE48-47EC-8DD7-8642D575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3E36-E30B-432F-9684-3D69B11F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FF9D6-4FEB-4315-B723-AD9C615E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39693-6BF4-4CF9-8981-D3269A7F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CEA-C28D-4370-A477-9E99A5B7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C208C-EB00-4C63-9A89-09826B8D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B0538-EFD9-4FBF-975A-26BC245F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2CA5A-2F88-4E8E-9133-F5F5B880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9FC35-1B8E-4DEC-83B7-1255630C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77E5F-1066-4F67-A9DA-E5D0DCD6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842-C575-41E2-B8D9-6C74CFF2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A680-0153-4BFA-9F57-099CD229D39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B68B-0A3A-42E2-A886-A30C1A385C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BC21-36FF-4F7E-89CA-D93D93D8891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D701-525B-4A4D-83D7-98D36D7F477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E948-8108-4EC6-9FC5-03142A4C124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234D-6C76-4327-86E0-CDE87FE59F4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D830-5D04-4CD6-990F-96076A87B70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Arial Black"/>
              </a:rPr>
              <a:t>ИНФОРМАТИКА и ИКТ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5003640" y="3068640"/>
            <a:ext cx="377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cript MT Bold"/>
              </a:rPr>
              <a:t>Раздел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создания и преобразования информационных объек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1053360" y="658188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8FA8-CFF8-4FA3-B213-8BBBAD466388}" type="datetime">
              <a:rPr b="0" lang="ru-RU" sz="1200" spc="-1" strike="noStrike">
                <a:solidFill>
                  <a:srgbClr val="67011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116000" y="1125360"/>
            <a:ext cx="6781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271c"/>
                </a:solidFill>
                <a:latin typeface="Times New Roman"/>
              </a:rPr>
              <a:t>Криптология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аука, разрабатывающая способы защиты информа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920" y="1267920"/>
            <a:ext cx="7772400" cy="20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бработка (преобразование) информаци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– 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процесс изменения вида (формы), смысла (содержания), объема (количества) информации.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60" name="Group 18"/>
          <p:cNvGrpSpPr/>
          <p:nvPr/>
        </p:nvGrpSpPr>
        <p:grpSpPr>
          <a:xfrm>
            <a:off x="1042920" y="4005360"/>
            <a:ext cx="7543800" cy="2364480"/>
            <a:chOff x="1042920" y="4005360"/>
            <a:chExt cx="7543800" cy="2364480"/>
          </a:xfrm>
        </p:grpSpPr>
        <p:sp>
          <p:nvSpPr>
            <p:cNvPr id="361" name="AutoShape 4"/>
            <p:cNvSpPr/>
            <p:nvPr/>
          </p:nvSpPr>
          <p:spPr>
            <a:xfrm>
              <a:off x="1042920" y="4005360"/>
              <a:ext cx="2210040" cy="1523520"/>
            </a:xfrm>
            <a:prstGeom prst="flowChartPunchedCard">
              <a:avLst/>
            </a:prstGeom>
            <a:solidFill>
              <a:srgbClr val="ff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3481560" y="4005360"/>
              <a:ext cx="2743200" cy="1523520"/>
            </a:xfrm>
            <a:prstGeom prst="flowChartProcess">
              <a:avLst/>
            </a:prstGeom>
            <a:solidFill>
              <a:srgbClr val="ff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6453360" y="4005360"/>
              <a:ext cx="2133360" cy="1523520"/>
            </a:xfrm>
            <a:prstGeom prst="flowChartAlternateProcess">
              <a:avLst/>
            </a:prstGeom>
            <a:solidFill>
              <a:srgbClr val="ff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" name="AutoShape 7"/>
            <p:cNvCxnSpPr>
              <a:stCxn id="361" idx="3"/>
              <a:endCxn id="362" idx="1"/>
            </p:cNvCxnSpPr>
            <p:nvPr/>
          </p:nvCxnSpPr>
          <p:spPr>
            <a:xfrm>
              <a:off x="3252600" y="476676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5" name="AutoShape 8"/>
            <p:cNvCxnSpPr>
              <a:stCxn id="362" idx="3"/>
              <a:endCxn id="363" idx="1"/>
            </p:cNvCxnSpPr>
            <p:nvPr/>
          </p:nvCxnSpPr>
          <p:spPr>
            <a:xfrm>
              <a:off x="6224400" y="476676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6" name="Text Box 9"/>
            <p:cNvSpPr/>
            <p:nvPr/>
          </p:nvSpPr>
          <p:spPr>
            <a:xfrm>
              <a:off x="1042920" y="4309920"/>
              <a:ext cx="213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ход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0"/>
            <p:cNvSpPr/>
            <p:nvPr/>
          </p:nvSpPr>
          <p:spPr>
            <a:xfrm>
              <a:off x="3557520" y="430992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образователь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форма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2"/>
            <p:cNvSpPr/>
            <p:nvPr/>
          </p:nvSpPr>
          <p:spPr>
            <a:xfrm>
              <a:off x="6453360" y="43099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ход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16"/>
            <p:cNvSpPr/>
            <p:nvPr/>
          </p:nvSpPr>
          <p:spPr>
            <a:xfrm>
              <a:off x="2185920" y="5910120"/>
              <a:ext cx="525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Общая схема обработки информа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Схема преобразования информации по принципу «черного ящика»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71" name="Group 17"/>
          <p:cNvGrpSpPr/>
          <p:nvPr/>
        </p:nvGrpSpPr>
        <p:grpSpPr>
          <a:xfrm>
            <a:off x="990720" y="3809880"/>
            <a:ext cx="7619760" cy="2364840"/>
            <a:chOff x="990720" y="3809880"/>
            <a:chExt cx="7619760" cy="2364840"/>
          </a:xfrm>
        </p:grpSpPr>
        <p:sp>
          <p:nvSpPr>
            <p:cNvPr id="372" name="AutoShape 4"/>
            <p:cNvSpPr/>
            <p:nvPr/>
          </p:nvSpPr>
          <p:spPr>
            <a:xfrm>
              <a:off x="990720" y="3809880"/>
              <a:ext cx="2209680" cy="1524240"/>
            </a:xfrm>
            <a:prstGeom prst="flowChartPunchedCard">
              <a:avLst/>
            </a:prstGeom>
            <a:solidFill>
              <a:srgbClr val="ff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AutoShape 5"/>
            <p:cNvSpPr/>
            <p:nvPr/>
          </p:nvSpPr>
          <p:spPr>
            <a:xfrm>
              <a:off x="3505320" y="3809880"/>
              <a:ext cx="2743200" cy="1524240"/>
            </a:xfrm>
            <a:prstGeom prst="flowChartProcess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AutoShape 6"/>
            <p:cNvSpPr/>
            <p:nvPr/>
          </p:nvSpPr>
          <p:spPr>
            <a:xfrm>
              <a:off x="6477120" y="3809880"/>
              <a:ext cx="2133360" cy="1524240"/>
            </a:xfrm>
            <a:prstGeom prst="flowChartAlternateProcess">
              <a:avLst/>
            </a:prstGeom>
            <a:solidFill>
              <a:srgbClr val="ff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5" name="AutoShape 7"/>
            <p:cNvCxnSpPr>
              <a:stCxn id="372" idx="3"/>
              <a:endCxn id="373" idx="1"/>
            </p:cNvCxnSpPr>
            <p:nvPr/>
          </p:nvCxnSpPr>
          <p:spPr>
            <a:xfrm>
              <a:off x="3200040" y="457164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AutoShape 8"/>
            <p:cNvCxnSpPr>
              <a:stCxn id="373" idx="3"/>
              <a:endCxn id="374" idx="1"/>
            </p:cNvCxnSpPr>
            <p:nvPr/>
          </p:nvCxnSpPr>
          <p:spPr>
            <a:xfrm>
              <a:off x="6248160" y="457164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7" name="Text Box 9"/>
            <p:cNvSpPr/>
            <p:nvPr/>
          </p:nvSpPr>
          <p:spPr>
            <a:xfrm>
              <a:off x="990720" y="396252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ход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3429000" y="40384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70110"/>
                  </a:solidFill>
                  <a:latin typeface="Times New Roman"/>
                </a:rPr>
                <a:t>«Черный ящик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647712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ход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13"/>
            <p:cNvSpPr/>
            <p:nvPr/>
          </p:nvSpPr>
          <p:spPr>
            <a:xfrm>
              <a:off x="2743200" y="57150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ступно наблюдате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H="1" flipV="1">
              <a:off x="2514600" y="5333760"/>
              <a:ext cx="990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5"/>
            <p:cNvSpPr/>
            <p:nvPr/>
          </p:nvSpPr>
          <p:spPr>
            <a:xfrm flipV="1">
              <a:off x="6019920" y="533376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newsflash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1187280" y="404640"/>
            <a:ext cx="731520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c765"/>
                </a:solidFill>
                <a:latin typeface="Times New Roman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дите примеры способов передачи информации по схема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(челов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емник (челове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(устройство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емник (челове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(челов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емник (устройств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(предмет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емник (челове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(челов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емник (предме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71280" y="1483920"/>
            <a:ext cx="8172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Arial Black"/>
              </a:rPr>
              <a:t>Информационные процессы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2" name="Picture 8" descr="boygo"/>
          <p:cNvPicPr/>
          <p:nvPr/>
        </p:nvPicPr>
        <p:blipFill>
          <a:blip r:embed="rId1"/>
          <a:stretch/>
        </p:blipFill>
        <p:spPr>
          <a:xfrm>
            <a:off x="7667640" y="4581360"/>
            <a:ext cx="116208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Информационные процессы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66680" y="2101320"/>
            <a:ext cx="7772400" cy="22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1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действия (последовательность операций), совершаемые над информаци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Picture 4" descr="Копия (2) comp3"/>
          <p:cNvPicPr/>
          <p:nvPr/>
        </p:nvPicPr>
        <p:blipFill>
          <a:blip r:embed="rId1"/>
          <a:stretch/>
        </p:blipFill>
        <p:spPr>
          <a:xfrm>
            <a:off x="6324480" y="3809880"/>
            <a:ext cx="259092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 информатике к информационным процессам относят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66680" y="246816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иск информац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бор информац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ранение информац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едача информац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дирование информац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ботка информац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щита информаци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5" descr="BS00580_"/>
          <p:cNvPicPr/>
          <p:nvPr/>
        </p:nvPicPr>
        <p:blipFill>
          <a:blip r:embed="rId1"/>
          <a:stretch/>
        </p:blipFill>
        <p:spPr>
          <a:xfrm>
            <a:off x="6248520" y="304812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1640" y="112500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бор информаци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– </a:t>
            </a:r>
            <a:br>
              <a:rPr sz="3900"/>
            </a:b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это целенаправленный процесс, который сводится к поиску, отбору, получению и накоплению нужной для дальнейшего использования информации.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0" name="Picture 8" descr="art_1_2_002"/>
          <p:cNvPicPr/>
          <p:nvPr/>
        </p:nvPicPr>
        <p:blipFill>
          <a:blip r:embed="rId1"/>
          <a:stretch/>
        </p:blipFill>
        <p:spPr>
          <a:xfrm>
            <a:off x="6048360" y="3573360"/>
            <a:ext cx="30956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1042920" y="549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0313"/>
                </a:solidFill>
                <a:latin typeface="Times New Roman"/>
              </a:rPr>
              <a:t>Методы поиска информаци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971640" y="1916280"/>
            <a:ext cx="76327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ние со специалистами по интересующему вопрос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ение соответствующей литерату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мотр теле- и видеопрограм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лушивание аудиозаписей и радиопередач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в библиотеках и архива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к информационным системам, банкам и базам дан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art_1_2_003"/>
          <p:cNvPicPr/>
          <p:nvPr/>
        </p:nvPicPr>
        <p:blipFill>
          <a:blip r:embed="rId1"/>
          <a:stretch/>
        </p:blipFill>
        <p:spPr>
          <a:xfrm>
            <a:off x="6496200" y="3916440"/>
            <a:ext cx="2647800" cy="29415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79930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Хранение информации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– 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это процесс помещения информации в определенное хранилище с целью извлечения ее оттуда через некоторое время для дальнейшего использования.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00000" y="3212640"/>
            <a:ext cx="77724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f18"/>
                </a:solidFill>
                <a:latin typeface="Corbel"/>
              </a:rPr>
              <a:t>Различная информация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f18"/>
                </a:solidFill>
                <a:latin typeface="Corbel"/>
              </a:rPr>
              <a:t>требует разног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ремени хране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f18"/>
                </a:solidFill>
                <a:latin typeface="Corbel"/>
              </a:rPr>
              <a:t>Хранилище информации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f18"/>
                </a:solidFill>
                <a:latin typeface="Corbel"/>
              </a:rPr>
              <a:t>зависит от е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сител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newsflash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914400" y="1066680"/>
            <a:ext cx="746748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ситель информац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 материальный объект, предназначенный для хранения и передачи информац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3" descr="BS00554_"/>
          <p:cNvPicPr/>
          <p:nvPr/>
        </p:nvPicPr>
        <p:blipFill>
          <a:blip r:embed="rId1"/>
          <a:stretch/>
        </p:blipFill>
        <p:spPr>
          <a:xfrm>
            <a:off x="6659640" y="4581360"/>
            <a:ext cx="2292120" cy="2000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5452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ередача информации – 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это целенаправленный процесс, в результате которого информация передается от одного объекта к другому.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39" name="Group 26"/>
          <p:cNvGrpSpPr/>
          <p:nvPr/>
        </p:nvGrpSpPr>
        <p:grpSpPr>
          <a:xfrm>
            <a:off x="539640" y="2565360"/>
            <a:ext cx="8305920" cy="3202920"/>
            <a:chOff x="539640" y="2565360"/>
            <a:chExt cx="8305920" cy="3202920"/>
          </a:xfrm>
        </p:grpSpPr>
        <p:sp>
          <p:nvSpPr>
            <p:cNvPr id="340" name="Text Box 5"/>
            <p:cNvSpPr/>
            <p:nvPr/>
          </p:nvSpPr>
          <p:spPr>
            <a:xfrm>
              <a:off x="539640" y="4012920"/>
              <a:ext cx="1371600" cy="337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f0313"/>
                  </a:solidFill>
                  <a:latin typeface="Georgia"/>
                </a:rPr>
                <a:t>Источник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6"/>
            <p:cNvSpPr/>
            <p:nvPr/>
          </p:nvSpPr>
          <p:spPr>
            <a:xfrm>
              <a:off x="2216160" y="3936960"/>
              <a:ext cx="1676160" cy="580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f0313"/>
                  </a:solidFill>
                  <a:latin typeface="Georgia"/>
                </a:rPr>
                <a:t>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4959360" y="3936960"/>
              <a:ext cx="1981080" cy="580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f0313"/>
                  </a:solidFill>
                  <a:latin typeface="Georgia"/>
                </a:rPr>
                <a:t>Де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7321320" y="4012920"/>
              <a:ext cx="1524240" cy="337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f0313"/>
                  </a:solidFill>
                  <a:latin typeface="Georgia"/>
                </a:rPr>
                <a:t>Приемни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"/>
            <p:cNvSpPr/>
            <p:nvPr/>
          </p:nvSpPr>
          <p:spPr>
            <a:xfrm>
              <a:off x="1911240" y="4241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"/>
            <p:cNvSpPr/>
            <p:nvPr/>
          </p:nvSpPr>
          <p:spPr>
            <a:xfrm>
              <a:off x="3892320" y="4241520"/>
              <a:ext cx="106704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1"/>
            <p:cNvSpPr/>
            <p:nvPr/>
          </p:nvSpPr>
          <p:spPr>
            <a:xfrm>
              <a:off x="6940440" y="4241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WordArt 12"/>
            <p:cNvSpPr txBox="1"/>
            <p:nvPr/>
          </p:nvSpPr>
          <p:spPr>
            <a:xfrm>
              <a:off x="3816360" y="3632040"/>
              <a:ext cx="1218960" cy="25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4f271c"/>
                    </a:solidFill>
                    <a:miter/>
                  </a:ln>
                  <a:solidFill>
                    <a:srgbClr val="4f271c"/>
                  </a:solidFill>
                  <a:latin typeface="Arial"/>
                </a:rPr>
                <a:t>Канал связи</a:t>
              </a:r>
              <a:endParaRPr b="1" lang="en-US" sz="1200" spc="1" strike="noStrike">
                <a:ln w="9360">
                  <a:solidFill>
                    <a:srgbClr val="4f271c"/>
                  </a:solidFill>
                  <a:miter/>
                </a:ln>
                <a:solidFill>
                  <a:srgbClr val="4f271c"/>
                </a:solidFill>
                <a:latin typeface="Arial"/>
                <a:ea typeface="Arial"/>
              </a:endParaRPr>
            </a:p>
          </p:txBody>
        </p:sp>
        <p:sp>
          <p:nvSpPr>
            <p:cNvPr id="348" name="Line 14"/>
            <p:cNvSpPr/>
            <p:nvPr/>
          </p:nvSpPr>
          <p:spPr>
            <a:xfrm flipH="1">
              <a:off x="2825280" y="3098520"/>
              <a:ext cx="152388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>
              <a:off x="4349520" y="309852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>
              <a:off x="4349520" y="3098520"/>
              <a:ext cx="160020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7"/>
            <p:cNvSpPr/>
            <p:nvPr/>
          </p:nvSpPr>
          <p:spPr>
            <a:xfrm>
              <a:off x="3359160" y="2565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f0313"/>
                  </a:solidFill>
                  <a:latin typeface="Times New Roman"/>
                </a:rPr>
                <a:t>Помех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9"/>
            <p:cNvSpPr/>
            <p:nvPr/>
          </p:nvSpPr>
          <p:spPr>
            <a:xfrm flipH="1" flipV="1">
              <a:off x="2825280" y="4546080"/>
              <a:ext cx="152388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0"/>
            <p:cNvSpPr/>
            <p:nvPr/>
          </p:nvSpPr>
          <p:spPr>
            <a:xfrm flipV="1">
              <a:off x="4349520" y="4469760"/>
              <a:ext cx="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V="1">
              <a:off x="4349520" y="4546080"/>
              <a:ext cx="15242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2"/>
            <p:cNvSpPr/>
            <p:nvPr/>
          </p:nvSpPr>
          <p:spPr>
            <a:xfrm>
              <a:off x="3206520" y="530856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f0313"/>
                  </a:solidFill>
                  <a:latin typeface="Times New Roman"/>
                </a:rPr>
                <a:t>Защита от поме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09.MP3" descr=""/>
          <p:cNvPicPr/>
          <p:nvPr/>
        </p:nvPicPr>
        <p:blipFill>
          <a:blip r:embed="rId1"/>
          <a:stretch/>
        </p:blipFill>
        <p:spPr>
          <a:xfrm>
            <a:off x="75438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7" descr="j0343461"/>
          <p:cNvPicPr/>
          <p:nvPr/>
        </p:nvPicPr>
        <p:blipFill>
          <a:blip r:embed="rId2"/>
          <a:stretch/>
        </p:blipFill>
        <p:spPr>
          <a:xfrm>
            <a:off x="6705720" y="4800600"/>
            <a:ext cx="20001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3268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7:52:29Z</dcterms:created>
  <dc:creator>Усольцева Э.</dc:creator>
  <dc:description/>
  <dc:language>en-US</dc:language>
  <cp:lastModifiedBy>Elena Dantsig</cp:lastModifiedBy>
  <dcterms:modified xsi:type="dcterms:W3CDTF">2015-08-23T16:59:55Z</dcterms:modified>
  <cp:revision>34</cp:revision>
  <dc:subject/>
  <dc:title>Информационные процессы</dc:title>
</cp:coreProperties>
</file>