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BA15-7E44-4738-9C58-3C2EDA2314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CEEA-3C32-4FF9-B16C-7EBFD9BC98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7320-FA53-4221-A92D-83B46D95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E571-B850-44FE-B3CA-6C4ED68A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5B06-E1FC-40BE-94FC-95754DDA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29E3-522C-4BA8-A49C-CDB8583F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5FD7-F2EA-4FD7-8A9B-5BC793E8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3559-729D-4BE0-836B-172AD188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52C3-BB19-44CD-8F89-294FE742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0313-4CE4-4326-88CC-57CCCBB0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0E8F-35C2-4131-86DD-E57B1327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6B3-0523-4D21-A5D8-4F47DFFB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4220-B0C2-4B5A-9368-5B9FAD8E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29FC-B4BB-4A05-957C-1A9BB4C3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DE30-A5E1-47CF-A8B9-F9131BE09D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ursinfo.ru/files/Data/1174167042_3052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rgumenti.ru/images/big/5677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otki.yandex.ru/users/favor/view/45453/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Georgia"/>
              </a:rPr>
              <a:t>Кана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33"/>
                </a:solidFill>
                <a:latin typeface="Times New Roman"/>
              </a:rPr>
              <a:t>Урбаниз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оурбанизированное госуд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родское население составляет 77,9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иболее крупные город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– Торонто, Монреаль, Ванкувер, Оттава, Эдмон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Картинка 15 из 5092"/>
          <p:cNvPicPr/>
          <p:nvPr/>
        </p:nvPicPr>
        <p:blipFill>
          <a:blip r:embed="rId1"/>
          <a:stretch/>
        </p:blipFill>
        <p:spPr>
          <a:xfrm>
            <a:off x="395280" y="31417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Картинка 1 из 106"/>
          <p:cNvPicPr/>
          <p:nvPr/>
        </p:nvPicPr>
        <p:blipFill>
          <a:blip r:embed="rId2"/>
          <a:stretch/>
        </p:blipFill>
        <p:spPr>
          <a:xfrm>
            <a:off x="4643280" y="3164040"/>
            <a:ext cx="4176720" cy="2798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1116000" y="6093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Торон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5724360" y="6093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Монре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Картинка 38 из 3088"/>
          <p:cNvPicPr/>
          <p:nvPr/>
        </p:nvPicPr>
        <p:blipFill>
          <a:blip r:embed="rId1"/>
          <a:stretch/>
        </p:blipFill>
        <p:spPr>
          <a:xfrm>
            <a:off x="285840" y="1285920"/>
            <a:ext cx="4392360" cy="3468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Картинка 88 из 1629"/>
          <p:cNvPicPr/>
          <p:nvPr/>
        </p:nvPicPr>
        <p:blipFill>
          <a:blip r:embed="rId2"/>
          <a:stretch/>
        </p:blipFill>
        <p:spPr>
          <a:xfrm>
            <a:off x="4356000" y="3213000"/>
            <a:ext cx="4429080" cy="33577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2714760" y="6000840"/>
            <a:ext cx="15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Отт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95280" y="4869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Ванку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Picture of edmonton"/>
          <p:cNvPicPr/>
          <p:nvPr/>
        </p:nvPicPr>
        <p:blipFill>
          <a:blip r:embed="rId3"/>
          <a:stretch/>
        </p:blipFill>
        <p:spPr>
          <a:xfrm>
            <a:off x="4932360" y="333360"/>
            <a:ext cx="3827520" cy="2730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2"/>
          <p:cNvSpPr/>
          <p:nvPr/>
        </p:nvSpPr>
        <p:spPr>
          <a:xfrm>
            <a:off x="3143160" y="2142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Эдмон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</a:rPr>
              <a:t>Хозяйство Кан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нергетика и горнодобывающая промышлен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ветная металлург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рная металлург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ревообрабатывающая и целлюлозно-бумаж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фтеперерабатывающая и нефтехимическая промышл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имическая промышлен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ство минеральных удобрений и синтетического каучу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мобилестроение (базируется на основе зарубежных филиалов и дочерних компаний американских и японских компани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.-х. машиностро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ктрон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иационная промышлен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Сельское хозяй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ий уровень механизации, товарности и производительности тру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Основа аграрного производства — крупные фермерские хозяй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ая зерновая культура — пшеница, (экспорт третье место в мир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плодоводстве преобладают яблок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о животноводство (молочное, мясо-шерстное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тицев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утся крупные лесозаготов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ыболовство (треска, сельдь, лососевые, палтус, крабы),ведущих мест по экспорту мороженой рыб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Внешние экономические связ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мериканские ТНК контролируют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й канадской индус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порт ориентирован на вывоз сырья, полуфабрикатов (72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надском экспорте 70% - автомоб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импорте преобладают готовые изделия (6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ные внешнеторговые партнеры -  США, Великобритания, Ф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Канада – член международных организ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С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рганизация по безопасности и сотрудничеству в Европ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в состав которой входят 56 государст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ЭСР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организация экономического сотрудничества и развития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оставе 24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ТО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оставе 28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Ф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составе 3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F:\Элктронные учебники\Geo6-10\RES\Class7\Политическая карта Канады.jpg"/>
          <p:cNvPicPr/>
          <p:nvPr/>
        </p:nvPicPr>
        <p:blipFill>
          <a:blip r:embed="rId1"/>
          <a:stretch/>
        </p:blipFill>
        <p:spPr>
          <a:xfrm>
            <a:off x="214200" y="214200"/>
            <a:ext cx="87519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Карта Канады"/>
          <p:cNvPicPr/>
          <p:nvPr/>
        </p:nvPicPr>
        <p:blipFill>
          <a:blip r:embed="rId1"/>
          <a:stretch/>
        </p:blipFill>
        <p:spPr>
          <a:xfrm>
            <a:off x="324000" y="492120"/>
            <a:ext cx="849600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Картинка 2 из 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197000"/>
            <a:ext cx="3806640" cy="5081400"/>
          </a:xfrm>
          <a:prstGeom prst="rect">
            <a:avLst/>
          </a:prstGeom>
          <a:ln w="19080">
            <a:solidFill>
              <a:srgbClr val="c0c0c0"/>
            </a:solidFill>
            <a:miter/>
          </a:ln>
        </p:spPr>
      </p:pic>
      <p:pic>
        <p:nvPicPr>
          <p:cNvPr id="52" name="Picture 7" descr="canflagb"/>
          <p:cNvPicPr/>
          <p:nvPr/>
        </p:nvPicPr>
        <p:blipFill>
          <a:blip r:embed="rId3"/>
          <a:stretch/>
        </p:blipFill>
        <p:spPr>
          <a:xfrm>
            <a:off x="4500720" y="1700280"/>
            <a:ext cx="4419360" cy="2224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мволика Кан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canada.mid" descr=""/>
          <p:cNvPicPr/>
          <p:nvPr/>
        </p:nvPicPr>
        <p:blipFill>
          <a:blip r:embed="rId4"/>
          <a:stretch/>
        </p:blipFill>
        <p:spPr>
          <a:xfrm>
            <a:off x="7812000" y="5445000"/>
            <a:ext cx="80964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Общая характеристи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щадь – 9,97 млн.к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8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енность населения – 32,9 млн.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8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няя плотность – 3,2 чел./к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8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ушу населения -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4.273 $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8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ходит в Содруж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8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а государства — британская королева, представленная генерал-губернатором. - Мишаель Жа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8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провинций и 2 территор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Особенности ЭГ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ходит к трем океа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е протяженной сухопутной границы с 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ничит с Россией по Приполяр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Население Кан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7858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населения — потомки европейских переселенц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% населения — англо-канадц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% — франко-канад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европейцы составляют 20% - немцы, поляки, украин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5% - выходцы из Аз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% - американские индейц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кимосов около 33 тыс. челов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3 прироста населения – иммигра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продолжительность жизни мужчин 76 лет, женщин 83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Картинка 10 из 9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1357200"/>
            <a:ext cx="2879640" cy="288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9062356"/>
          <p:cNvPicPr/>
          <p:nvPr/>
        </p:nvPicPr>
        <p:blipFill>
          <a:blip r:embed="rId3"/>
          <a:stretch/>
        </p:blipFill>
        <p:spPr>
          <a:xfrm>
            <a:off x="4143240" y="3357720"/>
            <a:ext cx="4608720" cy="2832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5940360" y="2852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Эскимосы Кан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826920" y="4292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Американские индей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40232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оренное насе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00031951"/>
          <p:cNvPicPr/>
          <p:nvPr/>
        </p:nvPicPr>
        <p:blipFill>
          <a:blip r:embed="rId1"/>
          <a:stretch/>
        </p:blipFill>
        <p:spPr>
          <a:xfrm>
            <a:off x="395280" y="3068640"/>
            <a:ext cx="4608360" cy="3403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00031485"/>
          <p:cNvPicPr/>
          <p:nvPr/>
        </p:nvPicPr>
        <p:blipFill>
          <a:blip r:embed="rId2"/>
          <a:stretch/>
        </p:blipFill>
        <p:spPr>
          <a:xfrm>
            <a:off x="5148360" y="1268280"/>
            <a:ext cx="3771720" cy="38181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4"/>
          <p:cNvSpPr/>
          <p:nvPr/>
        </p:nvSpPr>
        <p:spPr>
          <a:xfrm>
            <a:off x="2124000" y="314172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bbe0e3"/>
                </a:solidFill>
                <a:latin typeface="Georgia"/>
              </a:rPr>
              <a:t>эскимосы, индейцы и алеу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571680" y="1071720"/>
            <a:ext cx="385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Script MT Bold"/>
              </a:rPr>
              <a:t>КАНАДА – большая деревня ( в переводе с языка ирокезов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8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285480"/>
            <a:ext cx="86421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0% населения проживает в пределах полосы шириной 300 км вдоль границы с СШ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/5 всей территории – Север, слабозаселенный и слабоосво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ероисповед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католики - 46%,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естанты - 41%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славные - 2%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сульмане - 1%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Католическая церковь в Торонто">
            <a:hlinkClick r:id="rId1"/>
          </p:cNvPr>
          <p:cNvPicPr/>
          <p:nvPr/>
        </p:nvPicPr>
        <p:blipFill>
          <a:blip r:embed="rId2"/>
          <a:srcRect l="31680" t="0" r="0" b="5783"/>
          <a:stretch/>
        </p:blipFill>
        <p:spPr>
          <a:xfrm>
            <a:off x="826920" y="3284640"/>
            <a:ext cx="315936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5:29:36Z</dcterms:created>
  <dc:creator>ТАТЬЯНА</dc:creator>
  <dc:description/>
  <dc:language>en-US</dc:language>
  <cp:lastModifiedBy>школа</cp:lastModifiedBy>
  <dcterms:modified xsi:type="dcterms:W3CDTF">2020-04-08T10:09:34Z</dcterms:modified>
  <cp:revision>19</cp:revision>
  <dc:subject/>
  <dc:title>Слайд 1</dc:title>
</cp:coreProperties>
</file>