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BE5E-C06B-4F63-ACFE-E47D8C95D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37D-400F-44A7-942D-705615E6B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B47-13F6-4918-86CD-A7C1910E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644-03B1-4FD6-A0A8-8A1B7F6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137-882F-4930-8773-239687F2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A0A-8C33-48A9-8700-01B6A173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076-AAEF-4FBB-9500-DDFA6707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332-D492-4FDF-AD37-690DD6B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4EB-61D7-4B8A-AAE2-1F7A2EE0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A25-98F3-49A8-83A5-DE5A7A99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DBA-5100-4DBA-A008-50CE7C5C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E6D-5153-4306-BC2A-270283E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09F-32CB-4DF1-8175-BD96511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C8D-A6F2-4E00-841E-0CC6BDD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5C23-BF46-4886-9D50-1C1734741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rsinfo.ru/files/Data/1174167042_3052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gumenti.ru/images/big/567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favor/view/45453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Georgia"/>
              </a:rPr>
              <a:t>Кана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Урба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урбанизированное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ское население составляет 77,9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крупные горо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Торонто, Монреаль, Ванкувер, Оттава, Эдмон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5 из 5092"/>
          <p:cNvPicPr/>
          <p:nvPr/>
        </p:nvPicPr>
        <p:blipFill>
          <a:blip r:embed="rId1"/>
          <a:stretch/>
        </p:blipFill>
        <p:spPr>
          <a:xfrm>
            <a:off x="395280" y="3141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Картинка 1 из 106"/>
          <p:cNvPicPr/>
          <p:nvPr/>
        </p:nvPicPr>
        <p:blipFill>
          <a:blip r:embed="rId2"/>
          <a:stretch/>
        </p:blipFill>
        <p:spPr>
          <a:xfrm>
            <a:off x="4643280" y="316404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1116000" y="609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Торон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72436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Монре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Картинка 38 из 3088"/>
          <p:cNvPicPr/>
          <p:nvPr/>
        </p:nvPicPr>
        <p:blipFill>
          <a:blip r:embed="rId1"/>
          <a:stretch/>
        </p:blipFill>
        <p:spPr>
          <a:xfrm>
            <a:off x="285840" y="1285920"/>
            <a:ext cx="4392360" cy="346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Картинка 88 из 1629"/>
          <p:cNvPicPr/>
          <p:nvPr/>
        </p:nvPicPr>
        <p:blipFill>
          <a:blip r:embed="rId2"/>
          <a:stretch/>
        </p:blipFill>
        <p:spPr>
          <a:xfrm>
            <a:off x="4356000" y="3213000"/>
            <a:ext cx="4429080" cy="3357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714760" y="600084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95280" y="486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анку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Picture of edmonton"/>
          <p:cNvPicPr/>
          <p:nvPr/>
        </p:nvPicPr>
        <p:blipFill>
          <a:blip r:embed="rId3"/>
          <a:stretch/>
        </p:blipFill>
        <p:spPr>
          <a:xfrm>
            <a:off x="4932360" y="333360"/>
            <a:ext cx="3827520" cy="273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43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Эдмон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Хозяйство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етика и горнодобывающ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ая металлур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ая металлург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обрабатывающая и целлюлозно-бума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фтеперерабатывающая и нефтехимическая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о минеральных удобрений и синтетического кауч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естроение (базируется на основе зарубежных филиалов и дочерних компаний американских и японских компа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-х. машиностро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Сельск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механизации, товарности и производительности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нова аграрного производства — крупные фермерские хозя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ерновая культура — пшеница, (экспорт третье место в мир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плодоводстве преобладают ябло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о животноводство (молочное, мясо-шерстно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тице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ся крупные лесозаго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ыболовство (треска, сельдь, лососевые, палтус, крабы),ведущих мест по экспорту мороженой ры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Внешние экономически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ериканские ТНК контролируют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й канадской инду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рт ориентирован на вывоз сырья, полуфабрикатов (7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адском экспорте 70% - автомоб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мпорте преобладают готовые изделия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внешнеторговые партнеры -  США, Великобритания, Ф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Канада – член международных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по безопасности и сотрудничеству в Евро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состав которой входят 56 государ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ЭС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организация экономического сотрудничества и развития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4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ТО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8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Ф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оставе 3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Элктронные учебники\Geo6-10\RES\Class7\Политическая карта Канад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51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арта Канады"/>
          <p:cNvPicPr/>
          <p:nvPr/>
        </p:nvPicPr>
        <p:blipFill>
          <a:blip r:embed="rId1"/>
          <a:stretch/>
        </p:blipFill>
        <p:spPr>
          <a:xfrm>
            <a:off x="324000" y="492120"/>
            <a:ext cx="8496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2 из 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97000"/>
            <a:ext cx="3806640" cy="508140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2" name="Picture 7" descr="canflagb"/>
          <p:cNvPicPr/>
          <p:nvPr/>
        </p:nvPicPr>
        <p:blipFill>
          <a:blip r:embed="rId3"/>
          <a:stretch/>
        </p:blipFill>
        <p:spPr>
          <a:xfrm>
            <a:off x="4500720" y="1700280"/>
            <a:ext cx="4419360" cy="22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ика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anada.mid" descr=""/>
          <p:cNvPicPr/>
          <p:nvPr/>
        </p:nvPicPr>
        <p:blipFill>
          <a:blip r:embed="rId4"/>
          <a:stretch/>
        </p:blipFill>
        <p:spPr>
          <a:xfrm>
            <a:off x="7812000" y="54450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щая характер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– 9,97 млн.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населения – 32,9 млн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плотность – 3,2 чел./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ушу населения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4.273 $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т в Со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а государства — британская королева, представленная генерал-губернатором. - Мишаель Ж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провинций и 2 терри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Особенности Э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ит к трем оке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ротяженной сухопутной границы с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чит с Россией по Приполяр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селение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населения — потомки европейских переселен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населения — англо-канад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— франко-канад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европейцы составляют 20% - немцы, поляки, украин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% - выходцы из 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% - американские индей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мосов около 33 тыс.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 прироста населения – иммигр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продолжительность жизни мужчин 76 лет, женщин 8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10 из 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3572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9062356"/>
          <p:cNvPicPr/>
          <p:nvPr/>
        </p:nvPicPr>
        <p:blipFill>
          <a:blip r:embed="rId3"/>
          <a:stretch/>
        </p:blipFill>
        <p:spPr>
          <a:xfrm>
            <a:off x="4143240" y="3357720"/>
            <a:ext cx="4608720" cy="283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94036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Эскимосы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4292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Американские инде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402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ренное 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00031951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00031485"/>
          <p:cNvPicPr/>
          <p:nvPr/>
        </p:nvPicPr>
        <p:blipFill>
          <a:blip r:embed="rId2"/>
          <a:stretch/>
        </p:blipFill>
        <p:spPr>
          <a:xfrm>
            <a:off x="5148360" y="1268280"/>
            <a:ext cx="3771720" cy="3818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2124000" y="31417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bbe0e3"/>
                </a:solidFill>
                <a:latin typeface="Georgia"/>
              </a:rPr>
              <a:t>эскимосы, индейцы и алеу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571680" y="1071720"/>
            <a:ext cx="38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Script MT Bold"/>
              </a:rPr>
              <a:t>КАНАДА – большая деревня ( в переводе с языка ирокез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285480"/>
            <a:ext cx="8642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% населения проживает в пределах полосы шириной 300 км вдоль границы с СШ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/5 всей территории – Север, слабозаселенный и слабоосво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оиспове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атолики - 46%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естанты - 41%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ые - 2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сульмане - 1%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Католическая церковь в Торонто">
            <a:hlinkClick r:id="rId1"/>
          </p:cNvPr>
          <p:cNvPicPr/>
          <p:nvPr/>
        </p:nvPicPr>
        <p:blipFill>
          <a:blip r:embed="rId2"/>
          <a:srcRect l="31680" t="0" r="0" b="5783"/>
          <a:stretch/>
        </p:blipFill>
        <p:spPr>
          <a:xfrm>
            <a:off x="826920" y="3284640"/>
            <a:ext cx="3159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5:29:36Z</dcterms:created>
  <dc:creator>ТАТЬЯНА</dc:creator>
  <dc:description/>
  <dc:language>en-US</dc:language>
  <cp:lastModifiedBy>школа</cp:lastModifiedBy>
  <dcterms:modified xsi:type="dcterms:W3CDTF">2020-04-08T10:09:34Z</dcterms:modified>
  <cp:revision>19</cp:revision>
  <dc:subject/>
  <dc:title>Слайд 1</dc:title>
</cp:coreProperties>
</file>