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D1E8-9B67-49C9-A578-092713956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2FD-B640-4512-AEFE-B67D9062E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ёгочное дыхание осуществляется через ноздри, защищённые от проникновения воды особыми клапанами. Пониженное давление, необходимое для вдоха, создаётся, в отличие от высших позвоночных, движением горла. Важную роль играет кожное дыхание, необходимая для дыхания влажность кожи поддерживается слизистыми желез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C84-CA3C-408B-8D00-0A3C359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7AF-73AA-4638-B86C-21234E5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A2B-26A5-4E7A-8064-84A921C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A4A-9CF6-4A3F-B89D-BF9EE1DA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E45-30D0-4934-96D1-826DBE6C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838-1351-4A44-B7B3-2E56412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FDF-DEDB-45C4-AD92-DF45CFB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931-D024-4CF5-8252-AA2EF96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701-A89A-4013-8E2E-FAFBC7B3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D6A-3760-4790-8100-01A7E51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FFA-F5FF-4FF1-9CF3-DE089BC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58E-2AC5-4C2C-A029-91F3E26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9A1F-DEC8-40A9-B532-9F4226594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9.jpe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971800" y="1447920"/>
            <a:ext cx="4495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КЛАС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ЗЕМНОВОДНЫЕ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пищеварительная лягушки"/>
          <p:cNvPicPr/>
          <p:nvPr/>
        </p:nvPicPr>
        <p:blipFill>
          <a:blip r:embed="rId1"/>
          <a:stretch/>
        </p:blipFill>
        <p:spPr>
          <a:xfrm>
            <a:off x="457200" y="1752480"/>
            <a:ext cx="4800600" cy="465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WordArt 8"/>
          <p:cNvSpPr txBox="1"/>
          <p:nvPr/>
        </p:nvSpPr>
        <p:spPr>
          <a:xfrm>
            <a:off x="4191120" y="762120"/>
            <a:ext cx="4438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Пищевари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ая коробка маленькая. Головной мозг земноводных включ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авнительно хорошо развитый передний мозг и недоразвитый мозже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чувств представлены органами зрения (у пещерных земноводных глаза недоразвиты), слуха, осязания, обоняния, вкуса; у головастиков имеется боковая ли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WordArt 4"/>
          <p:cNvSpPr txBox="1"/>
          <p:nvPr/>
        </p:nvSpPr>
        <p:spPr>
          <a:xfrm>
            <a:off x="1295280" y="304920"/>
            <a:ext cx="728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Нервная система и органы чувст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80880" y="152280"/>
            <a:ext cx="8534520" cy="40579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 с веками и слезными железами,  аккомодация глаза осуществляется перемещением хрусталика — орган зр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здри — орган обоня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и полость рта — орган вкус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ухо с барабанной перепонкой — орган слух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 равновесия — внутреннее ухо. Расположе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стях череп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язание — всей ко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80880" y="609480"/>
            <a:ext cx="84362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мфибии или земновод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первые наземные позвоночные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мфибии – представляют собой промежуточное звено между типично водными организмами – рыбами и подлинно сухопутными формами – рептил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533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ми примитивными амфибиями были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хтиостег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сохранившие многие  типичные черты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Безымянный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3489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2879640" y="310788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е строение  лягуш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06040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33920" y="533520"/>
            <a:ext cx="3892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сех земноводных характерна гладкая (реже шершавая) богатая железами кожа, лишённая волос, перьев и чеш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которых безног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же имеются костные чешу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52280" y="56386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овременных бесхвостых скелет простой и легкий, рёбра редуцированы, грудная клетка отсутствует. Земноводные отличаются от рыб наличием шейного позвонка, костей таза и костей конечностей. В передней части туловища под ребрами виден брюшной щ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286000" y="304920"/>
            <a:ext cx="460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келет Земновод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  <p:pic>
        <p:nvPicPr>
          <p:cNvPr id="57" name="Picture 6" descr="Безымянный"/>
          <p:cNvPicPr/>
          <p:nvPr/>
        </p:nvPicPr>
        <p:blipFill>
          <a:blip r:embed="rId1"/>
          <a:stretch/>
        </p:blipFill>
        <p:spPr>
          <a:xfrm>
            <a:off x="1371600" y="957240"/>
            <a:ext cx="6400800" cy="459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ровеносная у лягушки"/>
          <p:cNvPicPr/>
          <p:nvPr/>
        </p:nvPicPr>
        <p:blipFill>
          <a:blip r:embed="rId1"/>
          <a:stretch/>
        </p:blipFill>
        <p:spPr>
          <a:xfrm>
            <a:off x="4038480" y="1905120"/>
            <a:ext cx="4724640" cy="454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WordArt 7"/>
          <p:cNvSpPr txBox="1"/>
          <p:nvPr/>
        </p:nvSpPr>
        <p:spPr>
          <a:xfrm>
            <a:off x="609480" y="533520"/>
            <a:ext cx="39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Кровено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ердце"/>
          <p:cNvPicPr/>
          <p:nvPr/>
        </p:nvPicPr>
        <p:blipFill>
          <a:blip r:embed="rId1"/>
          <a:stretch/>
        </p:blipFill>
        <p:spPr>
          <a:xfrm>
            <a:off x="228600" y="228600"/>
            <a:ext cx="1623960" cy="2133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61" name="Text Box 3"/>
          <p:cNvSpPr/>
          <p:nvPr/>
        </p:nvSpPr>
        <p:spPr>
          <a:xfrm>
            <a:off x="2133720" y="272880"/>
            <a:ext cx="683100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дце трехкамерное: два предсердия и один желудочек с неполной перегородо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развитием легких у земноводных появляется второй – малый (легочный) круг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ого разделения потоков артериальной и венозной крови у них не   происхо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этим у них низкий уровень обмена веществ, вырабатывается  небольшое количество энергии и температура тела непостоянная, то есть зависит от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50x112"/>
          <p:cNvPicPr/>
          <p:nvPr/>
        </p:nvPicPr>
        <p:blipFill>
          <a:blip r:embed="rId1"/>
          <a:stretch/>
        </p:blipFill>
        <p:spPr>
          <a:xfrm>
            <a:off x="0" y="1341360"/>
            <a:ext cx="1835280" cy="137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3" descr="1123219151_i_7085"/>
          <p:cNvPicPr/>
          <p:nvPr/>
        </p:nvPicPr>
        <p:blipFill>
          <a:blip r:embed="rId2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Picture 4" descr="prikolis-1122978564_i_3752"/>
          <p:cNvPicPr/>
          <p:nvPr/>
        </p:nvPicPr>
        <p:blipFill>
          <a:blip r:embed="rId3"/>
          <a:stretch/>
        </p:blipFill>
        <p:spPr>
          <a:xfrm>
            <a:off x="0" y="407664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Picture 5" descr="prikolis-1122978657_i_3453"/>
          <p:cNvPicPr/>
          <p:nvPr/>
        </p:nvPicPr>
        <p:blipFill>
          <a:blip r:embed="rId4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Picture 6" descr="add_18703_215_ArtFile_ru"/>
          <p:cNvPicPr/>
          <p:nvPr/>
        </p:nvPicPr>
        <p:blipFill>
          <a:blip r:embed="rId5"/>
          <a:stretch/>
        </p:blipFill>
        <p:spPr>
          <a:xfrm>
            <a:off x="0" y="2708280"/>
            <a:ext cx="183528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Picture 7" descr="1123219151_i_7085"/>
          <p:cNvPicPr/>
          <p:nvPr/>
        </p:nvPicPr>
        <p:blipFill>
          <a:blip r:embed="rId6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8" name="Picture 8" descr="150x112"/>
          <p:cNvPicPr/>
          <p:nvPr/>
        </p:nvPicPr>
        <p:blipFill>
          <a:blip r:embed="rId7"/>
          <a:stretch/>
        </p:blipFill>
        <p:spPr>
          <a:xfrm>
            <a:off x="0" y="1341360"/>
            <a:ext cx="1835280" cy="137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9" descr="prikolis-1122978564_i_3752"/>
          <p:cNvPicPr/>
          <p:nvPr/>
        </p:nvPicPr>
        <p:blipFill>
          <a:blip r:embed="rId8"/>
          <a:stretch/>
        </p:blipFill>
        <p:spPr>
          <a:xfrm>
            <a:off x="0" y="407664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10" descr="prikolis-1122978657_i_3453"/>
          <p:cNvPicPr/>
          <p:nvPr/>
        </p:nvPicPr>
        <p:blipFill>
          <a:blip r:embed="rId9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Picture 11" descr="add_18703_215_ArtFile_ru"/>
          <p:cNvPicPr/>
          <p:nvPr/>
        </p:nvPicPr>
        <p:blipFill>
          <a:blip r:embed="rId10"/>
          <a:stretch/>
        </p:blipFill>
        <p:spPr>
          <a:xfrm>
            <a:off x="0" y="2708280"/>
            <a:ext cx="183528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Picture 12" descr="1123219151_i_7085"/>
          <p:cNvPicPr/>
          <p:nvPr/>
        </p:nvPicPr>
        <p:blipFill>
          <a:blip r:embed="rId11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Text Box 14"/>
          <p:cNvSpPr/>
          <p:nvPr/>
        </p:nvSpPr>
        <p:spPr>
          <a:xfrm>
            <a:off x="1981080" y="1214280"/>
            <a:ext cx="69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водной среде амфибии дышат через кож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в наземно–воздушной среде амфибии дышат легк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у всех земноводных в личиночной стадии имеются жаб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, во взрослом состоянии сохраняются у водных хвостатых амфи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pero_l"/>
          <p:cNvPicPr/>
          <p:nvPr/>
        </p:nvPicPr>
        <p:blipFill>
          <a:blip r:embed="rId17"/>
          <a:stretch/>
        </p:blipFill>
        <p:spPr>
          <a:xfrm>
            <a:off x="7236000" y="5276880"/>
            <a:ext cx="1361880" cy="961920"/>
          </a:xfrm>
          <a:prstGeom prst="rect">
            <a:avLst/>
          </a:prstGeom>
          <a:ln w="0">
            <a:noFill/>
          </a:ln>
        </p:spPr>
      </p:pic>
      <p:sp>
        <p:nvSpPr>
          <p:cNvPr id="75" name="WordArt 16"/>
          <p:cNvSpPr txBox="1"/>
          <p:nvPr/>
        </p:nvSpPr>
        <p:spPr>
          <a:xfrm>
            <a:off x="3505320" y="380880"/>
            <a:ext cx="3962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Дыха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04-08T14:25:3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