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08D-8503-4F28-8038-CBD7B614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EEE0-716A-4F6B-93A1-48135665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1AA-E443-42ED-A3A9-22EB2C79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CB39-4A26-4259-92DB-CF098632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53CC-22BE-49B4-A3EC-D2810FDE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611C-68DF-4E88-B972-5265C0F7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8A9B-E756-4CC6-88E7-F5DC952C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4F0C-DE6A-45FD-B096-E5340AD0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2D59-A90E-44CE-B183-89CBD651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FAF0-1D14-40B4-B186-89A1863C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CC0B-8B91-4CB7-9D82-6A51DA1C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9D1-1796-4CDF-AF88-40E363A4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8F0D-CE39-4E4B-BEB2-EAE118D6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FD6B-CCCD-4FFB-B368-4E62F0F9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6622-5B03-47B7-8F95-D3DF958E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FF6D-20AD-47AF-A010-4C2F114A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ED1B-47F4-49E0-BAAE-451CF696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279F-C281-4F7C-8E5B-E848F434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CD17-CE00-4D64-B2AB-9F124547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A31-D222-4AB4-A3FF-6C305FE6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3A1-64A5-493C-9BF6-DCF9E68B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7591-D9E1-4200-BDF3-9A379AEE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164-D365-4723-837A-0D9C5913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F39-66B9-4A0A-B904-FC9F25E6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49B8E8-2550-47F4-A046-5FDA0192DF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64BEF5-8E61-4639-BB96-9EEB2CE185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ма урока 8 класс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3640" cy="5500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Классификация химических элементов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5" descr="http://www.by-time.ru/upload/iblock/599/123624402421a6.jpg"/>
          <p:cNvPicPr/>
          <p:nvPr/>
        </p:nvPicPr>
        <p:blipFill>
          <a:blip r:embed="rId1"/>
          <a:stretch/>
        </p:blipFill>
        <p:spPr>
          <a:xfrm>
            <a:off x="7715160" y="2928960"/>
            <a:ext cx="1213920" cy="1571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85" name="Рисунок 6" descr="http://www.sil.si.edu/digitalcollections/hst/scientific-identity/thumbnails/TNSIL14-D4-10.jpg"/>
          <p:cNvPicPr/>
          <p:nvPr/>
        </p:nvPicPr>
        <p:blipFill>
          <a:blip r:embed="rId2"/>
          <a:stretch/>
        </p:blipFill>
        <p:spPr>
          <a:xfrm>
            <a:off x="3643200" y="4643280"/>
            <a:ext cx="1356840" cy="1714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86" name="Рисунок 7" descr="http://0.tqn.com/d/chemistry/1/0/J/7/1/AEB_deChancourtois.jpg"/>
          <p:cNvPicPr/>
          <p:nvPr/>
        </p:nvPicPr>
        <p:blipFill>
          <a:blip r:embed="rId3"/>
          <a:stretch/>
        </p:blipFill>
        <p:spPr>
          <a:xfrm>
            <a:off x="357120" y="214200"/>
            <a:ext cx="1142640" cy="1642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87" name="Рисунок 8" descr="http://img0.liveinternet.ru/images/attach/c/0/51/686/51686648_newlands.jpg"/>
          <p:cNvPicPr/>
          <p:nvPr/>
        </p:nvPicPr>
        <p:blipFill>
          <a:blip r:embed="rId4"/>
          <a:stretch/>
        </p:blipFill>
        <p:spPr>
          <a:xfrm flipH="1">
            <a:off x="7644240" y="214200"/>
            <a:ext cx="1229400" cy="1499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88" name="Рисунок 9" descr="http://content.foto.mail.ru/inbox/groos/_answers/i-454.jpg"/>
          <p:cNvPicPr/>
          <p:nvPr/>
        </p:nvPicPr>
        <p:blipFill>
          <a:blip r:embed="rId5"/>
          <a:srcRect l="0" t="0" r="64198" b="17015"/>
          <a:stretch/>
        </p:blipFill>
        <p:spPr>
          <a:xfrm>
            <a:off x="357120" y="2928960"/>
            <a:ext cx="1213920" cy="1571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89" name="TextBox 10"/>
          <p:cNvSpPr/>
          <p:nvPr/>
        </p:nvSpPr>
        <p:spPr>
          <a:xfrm>
            <a:off x="3000240" y="45007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Вывод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68640"/>
            <a:ext cx="91436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Классификация химических элементов до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Д. И. Менделеева  была не точной, не научной, не совершенной, так как за основу классификации брался не главный признак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7120" y="42876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пределите по группам следующие оксиды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n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пределите по группам следующие оксиды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Таблица 1"/>
          <p:cNvGraphicFramePr/>
          <p:nvPr/>
        </p:nvGraphicFramePr>
        <p:xfrm>
          <a:off x="142920" y="2571840"/>
          <a:ext cx="959760" cy="1512000"/>
        </p:xfrm>
        <a:graphic>
          <a:graphicData uri="http://schemas.openxmlformats.org/drawingml/2006/table">
            <a:tbl>
              <a:tblPr/>
              <a:tblGrid>
                <a:gridCol w="959760"/>
              </a:tblGrid>
              <a:tr h="50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>
                        <a:lumMod val="60000"/>
                        <a:lumOff val="40000"/>
                      </a:schemeClr>
                    </a:solidFill>
                  </a:tcPr>
                </a:tc>
              </a:tr>
              <a:tr h="50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3">
                        <a:lumMod val="60000"/>
                        <a:lumOff val="40000"/>
                      </a:schemeClr>
                    </a:solidFill>
                  </a:tcPr>
                </a:tc>
              </a:tr>
              <a:tr h="50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3">
                        <a:lumMod val="60000"/>
                        <a:lumOff val="4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28" name="TextBox 3"/>
          <p:cNvSpPr/>
          <p:nvPr/>
        </p:nvSpPr>
        <p:spPr>
          <a:xfrm>
            <a:off x="323640" y="260640"/>
            <a:ext cx="82486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Monotype Corsiva"/>
              </a:rPr>
              <a:t>Соедините прямой линией по горизонтали,   вертикали или диагонали три клетки,               которые   содержат форму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Управляющая кнопка: домой 9">
            <a:hlinkClick r:id="rId1" action="ppaction://hlinksldjump"/>
          </p:cNvPr>
          <p:cNvSpPr/>
          <p:nvPr/>
        </p:nvSpPr>
        <p:spPr>
          <a:xfrm>
            <a:off x="8731080" y="6463800"/>
            <a:ext cx="393840" cy="393840"/>
          </a:xfrm>
          <a:prstGeom prst="actionButtonHome">
            <a:avLst/>
          </a:prstGeom>
          <a:solidFill>
            <a:schemeClr val="accent3">
              <a:lumMod val="50000"/>
            </a:schemeClr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1293120" y="2214720"/>
            <a:ext cx="122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5079240" y="2143080"/>
            <a:ext cx="122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Таблица 10"/>
          <p:cNvGraphicFramePr/>
          <p:nvPr/>
        </p:nvGraphicFramePr>
        <p:xfrm>
          <a:off x="71280" y="2714760"/>
          <a:ext cx="3857400" cy="1644480"/>
        </p:xfrm>
        <a:graphic>
          <a:graphicData uri="http://schemas.openxmlformats.org/drawingml/2006/table">
            <a:tbl>
              <a:tblPr/>
              <a:tblGrid>
                <a:gridCol w="1245960"/>
                <a:gridCol w="1396080"/>
                <a:gridCol w="1215000"/>
              </a:tblGrid>
              <a:tr h="500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Таблица 11"/>
          <p:cNvGraphicFramePr/>
          <p:nvPr/>
        </p:nvGraphicFramePr>
        <p:xfrm>
          <a:off x="4286160" y="2786040"/>
          <a:ext cx="4142880" cy="1285560"/>
        </p:xfrm>
        <a:graphic>
          <a:graphicData uri="http://schemas.openxmlformats.org/drawingml/2006/table">
            <a:tbl>
              <a:tblPr/>
              <a:tblGrid>
                <a:gridCol w="1334880"/>
                <a:gridCol w="1586880"/>
                <a:gridCol w="1221480"/>
              </a:tblGrid>
              <a:tr h="500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1"/>
          <p:cNvSpPr/>
          <p:nvPr/>
        </p:nvSpPr>
        <p:spPr>
          <a:xfrm>
            <a:off x="33120" y="4430880"/>
            <a:ext cx="8014320" cy="39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и кислородсодержащих кислот           Кислородсодержащие 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Таблица 1"/>
          <p:cNvGraphicFramePr/>
          <p:nvPr/>
        </p:nvGraphicFramePr>
        <p:xfrm>
          <a:off x="0" y="849600"/>
          <a:ext cx="9143640" cy="2043720"/>
        </p:xfrm>
        <a:graphic>
          <a:graphicData uri="http://schemas.openxmlformats.org/drawingml/2006/table">
            <a:tbl>
              <a:tblPr/>
              <a:tblGrid>
                <a:gridCol w="374040"/>
                <a:gridCol w="3281400"/>
                <a:gridCol w="779040"/>
                <a:gridCol w="544320"/>
                <a:gridCol w="4164120"/>
              </a:tblGrid>
              <a:tr h="414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щ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+NaN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HN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a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из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+CuC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Cu+FeC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еди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+KOH = KCL+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Mg+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2M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Rectangle 1"/>
          <p:cNvSpPr/>
          <p:nvPr/>
        </p:nvSpPr>
        <p:spPr>
          <a:xfrm>
            <a:off x="41400" y="3960"/>
            <a:ext cx="838764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е соответ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реакций                                                     Уравнени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Таблица 3"/>
          <p:cNvGraphicFramePr/>
          <p:nvPr/>
        </p:nvGraphicFramePr>
        <p:xfrm>
          <a:off x="0" y="3786120"/>
          <a:ext cx="9143640" cy="2104200"/>
        </p:xfrm>
        <a:graphic>
          <a:graphicData uri="http://schemas.openxmlformats.org/drawingml/2006/table">
            <a:tbl>
              <a:tblPr/>
              <a:tblGrid>
                <a:gridCol w="374040"/>
                <a:gridCol w="3281400"/>
                <a:gridCol w="779040"/>
                <a:gridCol w="544320"/>
                <a:gridCol w="4164120"/>
              </a:tblGrid>
              <a:tr h="385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Cl, CuS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H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(OH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K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ые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2"/>
          <p:cNvSpPr/>
          <p:nvPr/>
        </p:nvSpPr>
        <p:spPr>
          <a:xfrm>
            <a:off x="33840" y="3216960"/>
            <a:ext cx="682992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оединений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Фор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7"/>
          <p:cNvSpPr/>
          <p:nvPr/>
        </p:nvSpPr>
        <p:spPr>
          <a:xfrm>
            <a:off x="0" y="357120"/>
            <a:ext cx="9572400" cy="61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ретий лишний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еобходимо найти на каждой строке лишнюю формулу вещества и объяснить, почему именно эта формула лишня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 Найти лишнюю формулу, вычеркнуть ее и назвать класс веще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) Н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0, К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SO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 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. . 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) ВаSО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НС1, СuС1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 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. . 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) NaОН, СuО, Сu(ОН)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- . . 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) Н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О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НС1, КNO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-. .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  Найти лишнюю формулу, вычеркнуть ее и назвать класс веще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) Н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LiNO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Н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-. . 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) NаОН, Ва(ОН)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Н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 - . . . ;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) Nа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O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Р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МgO -. . 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)А1РО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СuSО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Zn(ОН)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- . .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/з 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пр. 1-3 стр. 122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едшественники   Д. И. Менделеев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6000480" cy="500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Й. Я. Берцелиус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( шведский учё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лассифицировал все элементы на металл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металлы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определил, чт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аллам чаще всего соответствуют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оксид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еметаллам – кислотные оксид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ислоты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a→Na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→NaOH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 →SO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→H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http://www.by-time.ru/upload/iblock/599/123624402421a6.jpg"/>
          <p:cNvPicPr/>
          <p:nvPr/>
        </p:nvPicPr>
        <p:blipFill>
          <a:blip r:embed="rId1"/>
          <a:stretch/>
        </p:blipFill>
        <p:spPr>
          <a:xfrm>
            <a:off x="6000840" y="2714760"/>
            <a:ext cx="2856960" cy="3642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93" name="Рисунок 4" descr="http://www.by-time.ru/upload/iblock/599/123624402421a6.jpg"/>
          <p:cNvPicPr/>
          <p:nvPr/>
        </p:nvPicPr>
        <p:blipFill>
          <a:blip r:embed="rId2"/>
          <a:stretch/>
        </p:blipFill>
        <p:spPr>
          <a:xfrm>
            <a:off x="6286680" y="2786040"/>
            <a:ext cx="2856960" cy="3642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7640" y="-2433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войства гидроксида цин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0" y="656280"/>
            <a:ext cx="8892000" cy="1518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гидроксида цинка с соляной кислот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Cl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0" y="2829240"/>
            <a:ext cx="8892000" cy="198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заимодействие гидроксида цинка с гидроксидом натр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NaOH =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Zn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323640" y="2205000"/>
            <a:ext cx="77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ывод: гидроксид цинка – ос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51640" y="4437000"/>
            <a:ext cx="77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ывод: гидроксид цинка –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0" y="5301360"/>
            <a:ext cx="8820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Итоговый вывод: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гидроксид цинка – амфотерное соеди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едшественники  Д. И. Менделеев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640" y="1268640"/>
            <a:ext cx="5214600" cy="2928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. В. Дёберейн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( немецкий химик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829 г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едпринял первую значимую попытку систематизации элементов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. Он заметил, что некоторые сходные по своим свойствам элементы можно объединить по три в группы, которые он назва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риадами. Триады Дёберейнера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3" descr="http://www.sil.si.edu/digitalcollections/hst/scientific-identity/thumbnails/TNSIL14-D4-10.jpg"/>
          <p:cNvPicPr/>
          <p:nvPr/>
        </p:nvPicPr>
        <p:blipFill>
          <a:blip r:embed="rId1"/>
          <a:stretch/>
        </p:blipFill>
        <p:spPr>
          <a:xfrm>
            <a:off x="6215040" y="1785960"/>
            <a:ext cx="2642760" cy="3357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graphicFrame>
        <p:nvGraphicFramePr>
          <p:cNvPr id="103" name="Таблица 4"/>
          <p:cNvGraphicFramePr/>
          <p:nvPr/>
        </p:nvGraphicFramePr>
        <p:xfrm>
          <a:off x="642960" y="4929120"/>
          <a:ext cx="3428640" cy="16426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5475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5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5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4" name="TextBox 5"/>
          <p:cNvSpPr/>
          <p:nvPr/>
        </p:nvSpPr>
        <p:spPr>
          <a:xfrm>
            <a:off x="4872600" y="5805360"/>
            <a:ext cx="3892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) = ( 7 + 39  ) / 2 =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едшественники Д. И. Менделеев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5214600" cy="3400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. Бегье де Шанкурту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(профессор Парижской высшей школы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862 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Предложил располагат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элементы по спирал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рядке возрастания их атомных масс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пираль Шанкуртуа: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http://0.tqn.com/d/chemistry/1/0/J/7/1/AEB_deChancourtois.jpg"/>
          <p:cNvPicPr/>
          <p:nvPr/>
        </p:nvPicPr>
        <p:blipFill>
          <a:blip r:embed="rId1"/>
          <a:stretch/>
        </p:blipFill>
        <p:spPr>
          <a:xfrm>
            <a:off x="6588360" y="1124640"/>
            <a:ext cx="1854000" cy="2592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8" name="Рисунок 4" descr="C:\Documents and Settings\User\Local Settings\Temporary Internet Files\Content.Word\Изображение 004.jpg"/>
          <p:cNvPicPr/>
          <p:nvPr/>
        </p:nvPicPr>
        <p:blipFill>
          <a:blip r:embed="rId2"/>
          <a:stretch/>
        </p:blipFill>
        <p:spPr>
          <a:xfrm>
            <a:off x="6839640" y="4769640"/>
            <a:ext cx="2304000" cy="2088000"/>
          </a:xfrm>
          <a:prstGeom prst="rect">
            <a:avLst/>
          </a:prstGeom>
          <a:ln>
            <a:noFill/>
          </a:ln>
          <a:effectLst>
            <a:softEdge rad="112680"/>
          </a:effectLst>
        </p:spPr>
      </p:pic>
      <p:pic>
        <p:nvPicPr>
          <p:cNvPr id="109" name="Содержимое 3" descr="Vis_tellurique_de_Chancourtois.gif"/>
          <p:cNvPicPr/>
          <p:nvPr/>
        </p:nvPicPr>
        <p:blipFill>
          <a:blip r:embed="rId3"/>
          <a:stretch/>
        </p:blipFill>
        <p:spPr>
          <a:xfrm>
            <a:off x="4212000" y="3368520"/>
            <a:ext cx="2520000" cy="3489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едшественники  Д. И. Менделеев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5285880" cy="3614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. Ньюленд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нглийский учёный)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865 г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сположил элементы в порядке возрастания их атомных масс. Заметил, что сходство в свойствах проявляется между каждым восьмым элементом. Такую закономерность Ньюлендс назва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коном окта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аналогии с семью интервалами музыкальной гаммы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ктава Ньюлендса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4" descr="http://img0.liveinternet.ru/images/attach/c/0/51/686/51686648_newlands.jpg"/>
          <p:cNvPicPr/>
          <p:nvPr/>
        </p:nvPicPr>
        <p:blipFill>
          <a:blip r:embed="rId1"/>
          <a:stretch/>
        </p:blipFill>
        <p:spPr>
          <a:xfrm flipH="1">
            <a:off x="6516720" y="1196640"/>
            <a:ext cx="2285640" cy="2785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graphicFrame>
        <p:nvGraphicFramePr>
          <p:cNvPr id="113" name="Таблица 5"/>
          <p:cNvGraphicFramePr/>
          <p:nvPr/>
        </p:nvGraphicFramePr>
        <p:xfrm>
          <a:off x="4643280" y="4261680"/>
          <a:ext cx="4500360" cy="2546640"/>
        </p:xfrm>
        <a:graphic>
          <a:graphicData uri="http://schemas.openxmlformats.org/drawingml/2006/table">
            <a:tbl>
              <a:tblPr/>
              <a:tblGrid>
                <a:gridCol w="794160"/>
                <a:gridCol w="491400"/>
                <a:gridCol w="642600"/>
                <a:gridCol w="642600"/>
                <a:gridCol w="693360"/>
                <a:gridCol w="592200"/>
                <a:gridCol w="642600"/>
              </a:tblGrid>
              <a:tr h="571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д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ф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98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4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98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6786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14" name="Рисунок 7" descr=""/>
          <p:cNvPicPr/>
          <p:nvPr/>
        </p:nvPicPr>
        <p:blipFill>
          <a:blip r:embed="rId2"/>
          <a:srcRect l="18007" t="46486" r="71772" b="32889"/>
          <a:stretch/>
        </p:blipFill>
        <p:spPr>
          <a:xfrm>
            <a:off x="2267640" y="5013000"/>
            <a:ext cx="1635120" cy="1844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едшественники  Д. И. Менделеев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14760" y="1052640"/>
            <a:ext cx="6428880" cy="192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. Л. Мей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немецкий химик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864 г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оложил химические элементы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порядке увеличения атомных масс и по валентност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аблица Мей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ла только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8 элементов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3" descr="http://content.foto.mail.ru/inbox/groos/_answers/i-454.jpg"/>
          <p:cNvPicPr/>
          <p:nvPr/>
        </p:nvPicPr>
        <p:blipFill>
          <a:blip r:embed="rId1"/>
          <a:srcRect l="0" t="0" r="64198" b="17015"/>
          <a:stretch/>
        </p:blipFill>
        <p:spPr>
          <a:xfrm>
            <a:off x="251640" y="1484640"/>
            <a:ext cx="2356920" cy="302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graphicFrame>
        <p:nvGraphicFramePr>
          <p:cNvPr id="118" name="Таблица 4"/>
          <p:cNvGraphicFramePr/>
          <p:nvPr/>
        </p:nvGraphicFramePr>
        <p:xfrm>
          <a:off x="3060000" y="3351960"/>
          <a:ext cx="5832360" cy="3314880"/>
        </p:xfrm>
        <a:graphic>
          <a:graphicData uri="http://schemas.openxmlformats.org/drawingml/2006/table">
            <a:tbl>
              <a:tblPr/>
              <a:tblGrid>
                <a:gridCol w="833040"/>
                <a:gridCol w="833040"/>
                <a:gridCol w="833040"/>
                <a:gridCol w="833040"/>
                <a:gridCol w="807120"/>
                <a:gridCol w="858960"/>
                <a:gridCol w="833040"/>
              </a:tblGrid>
              <a:tr h="96408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80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80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80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80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80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2000"/>
          </a:bodyPr>
          <a:p>
            <a:pPr marL="330840" indent="-330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возрастанием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томного вес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ru-RU" sz="3200" spc="-1" strike="noStrike">
                <a:solidFill>
                  <a:srgbClr val="0070c0"/>
                </a:solidFill>
                <a:latin typeface="Arial"/>
              </a:rPr>
              <a:t>металлические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 постепенно </a:t>
            </a:r>
            <a:r>
              <a:rPr b="0" i="1" lang="ru-RU" sz="3200" spc="-1" strike="noStrike">
                <a:solidFill>
                  <a:srgbClr val="0070c0"/>
                </a:solidFill>
                <a:latin typeface="Arial"/>
              </a:rPr>
              <a:t>ослабеваю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Mg Al Si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еметаллическ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усиливаю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обрываются у инертного га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r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алент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сших оксида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зраст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 1-го до 7-и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алент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тучих водородных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единениях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меньш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 4-х до 1-го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свойства химических элементов повторяю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иодичес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через 7 на 8-ой)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у периодического закона Д. И. Менделеев взял коренное свойство химического элемента- его атомный вес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640" y="476640"/>
            <a:ext cx="82292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емейства химических элементов со сходными свойствами 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Таблица 9"/>
          <p:cNvGraphicFramePr/>
          <p:nvPr/>
        </p:nvGraphicFramePr>
        <p:xfrm>
          <a:off x="0" y="914400"/>
          <a:ext cx="9143640" cy="5805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695240"/>
                <a:gridCol w="1962000"/>
              </a:tblGrid>
              <a:tr h="127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стественные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мические эле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шая вален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ула высшего окс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е сво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161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Щелочные метал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, Na, K, Rb, 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05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воде образу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ёл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51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Щелочноземельные метал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, Sr, 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х оксиды – «земли» сообщают  в воде щелочную реак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41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Хальког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, Se, 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r>
                        <a:rPr b="1" lang="en-US" sz="105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Рождающие руды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03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алог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Cl, Br,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металлами образуют с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1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1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Тема1</Template>
  <TotalTime>371</TotalTime>
  <Application>LibreOffice/7.4.7.2$Linux_X86_64 LibreOffice_project/40$Build-2</Application>
  <AppVersion>15.0000</AppVersion>
  <Words>887</Words>
  <Paragraphs>2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20-04-08T12:14:09Z</dcterms:modified>
  <cp:revision>58</cp:revision>
  <dc:subject/>
  <dc:title>Тем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