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DCC-A3FC-476A-8CE9-196BB016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42E-3267-435E-AD8F-F4341BD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D63-BA61-465D-9D27-A67EF26F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B6F-3EEA-4D8D-8489-00A4E03F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8BDB-13FF-4475-84F2-4BE460F1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892-D46C-4211-AA5B-87912B8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233F-569A-478F-8C54-C568646F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5CB-5EE3-427C-ACF3-6AC042F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AA75-F22E-492A-ADAB-5749748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E22F-12F7-491E-9D28-A696796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B90-B543-44B9-A257-7B1C287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68B-584F-46E0-B293-3B1CC793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766-2C5C-48CB-8144-AB4566B9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F826-F551-453B-826C-2EE3278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637C-CF34-456B-9547-D5F4D23A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5632-298C-45A7-BAF2-5B8C474D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6B4E-C979-43B4-8DBD-9EDDE2FC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499-52A6-40BC-A4AA-7D8DEBF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5E2-592F-43DB-81EB-7C1B353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F07-3F56-4892-B52A-2B1C76A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A11-8694-43AF-954F-D651C9F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813-7E00-42F9-9109-F74CF8B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1AB-64BB-493A-B620-3AAE846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242-0A6F-40B0-B7A2-9AF1639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CF1D6-0FCC-4519-8EAF-73F5D48A7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19B013-0BED-4268-9DB0-BA446ECE4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 урока 8 класс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55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Классификация химических элементов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7715160" y="2928960"/>
            <a:ext cx="1213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5" name="Рисунок 6" descr="http://www.sil.si.edu/digitalcollections/hst/scientific-identity/thumbnails/TNSIL14-D4-10.jpg"/>
          <p:cNvPicPr/>
          <p:nvPr/>
        </p:nvPicPr>
        <p:blipFill>
          <a:blip r:embed="rId2"/>
          <a:stretch/>
        </p:blipFill>
        <p:spPr>
          <a:xfrm>
            <a:off x="3643200" y="4643280"/>
            <a:ext cx="1356840" cy="171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6" name="Рисунок 7" descr="http://0.tqn.com/d/chemistry/1/0/J/7/1/AEB_deChancourtois.jpg"/>
          <p:cNvPicPr/>
          <p:nvPr/>
        </p:nvPicPr>
        <p:blipFill>
          <a:blip r:embed="rId3"/>
          <a:stretch/>
        </p:blipFill>
        <p:spPr>
          <a:xfrm>
            <a:off x="357120" y="214200"/>
            <a:ext cx="1142640" cy="1642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7" name="Рисунок 8" descr="http://img0.liveinternet.ru/images/attach/c/0/51/686/51686648_newlands.jpg"/>
          <p:cNvPicPr/>
          <p:nvPr/>
        </p:nvPicPr>
        <p:blipFill>
          <a:blip r:embed="rId4"/>
          <a:stretch/>
        </p:blipFill>
        <p:spPr>
          <a:xfrm flipH="1">
            <a:off x="7644240" y="214200"/>
            <a:ext cx="12294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88" name="Рисунок 9" descr="http://content.foto.mail.ru/inbox/groos/_answers/i-454.jpg"/>
          <p:cNvPicPr/>
          <p:nvPr/>
        </p:nvPicPr>
        <p:blipFill>
          <a:blip r:embed="rId5"/>
          <a:srcRect l="0" t="0" r="64198" b="17015"/>
          <a:stretch/>
        </p:blipFill>
        <p:spPr>
          <a:xfrm>
            <a:off x="357120" y="2928960"/>
            <a:ext cx="1213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9" name="TextBox 10"/>
          <p:cNvSpPr/>
          <p:nvPr/>
        </p:nvSpPr>
        <p:spPr>
          <a:xfrm>
            <a:off x="3000240" y="45007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ывод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68640"/>
            <a:ext cx="9143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Классификация химических элементов д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Д. И. Менделеева  была не точной, не научной, не совершенной, так как за основу классификации брался не главный призна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ределите по группам следующие оксиды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ределите по группам следующие оксиды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Таблица 1"/>
          <p:cNvGraphicFramePr/>
          <p:nvPr/>
        </p:nvGraphicFramePr>
        <p:xfrm>
          <a:off x="142920" y="2571840"/>
          <a:ext cx="959760" cy="1512000"/>
        </p:xfrm>
        <a:graphic>
          <a:graphicData uri="http://schemas.openxmlformats.org/drawingml/2006/table">
            <a:tbl>
              <a:tblPr/>
              <a:tblGrid>
                <a:gridCol w="959760"/>
              </a:tblGrid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3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28" name="TextBox 3"/>
          <p:cNvSpPr/>
          <p:nvPr/>
        </p:nvSpPr>
        <p:spPr>
          <a:xfrm>
            <a:off x="323640" y="260640"/>
            <a:ext cx="8248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Monotype Corsiva"/>
              </a:rPr>
              <a:t>Соедините прямой линией по горизонтали,   вертикали или диагонали три клетки,               которые   содержат форм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мой 9">
            <a:hlinkClick r:id="rId1" action="ppaction://hlinksldjump"/>
          </p:cNvPr>
          <p:cNvSpPr/>
          <p:nvPr/>
        </p:nvSpPr>
        <p:spPr>
          <a:xfrm>
            <a:off x="8731080" y="6463800"/>
            <a:ext cx="393840" cy="393840"/>
          </a:xfrm>
          <a:prstGeom prst="actionButtonHome">
            <a:avLst/>
          </a:prstGeom>
          <a:solidFill>
            <a:schemeClr val="accent3">
              <a:lumMod val="50000"/>
            </a:schemeClr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1293120" y="2214720"/>
            <a:ext cx="122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5079240" y="2143080"/>
            <a:ext cx="122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Таблица 10"/>
          <p:cNvGraphicFramePr/>
          <p:nvPr/>
        </p:nvGraphicFramePr>
        <p:xfrm>
          <a:off x="71280" y="2714760"/>
          <a:ext cx="3857400" cy="1644480"/>
        </p:xfrm>
        <a:graphic>
          <a:graphicData uri="http://schemas.openxmlformats.org/drawingml/2006/table">
            <a:tbl>
              <a:tblPr/>
              <a:tblGrid>
                <a:gridCol w="1245960"/>
                <a:gridCol w="1396080"/>
                <a:gridCol w="1215000"/>
              </a:tblGrid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Таблица 11"/>
          <p:cNvGraphicFramePr/>
          <p:nvPr/>
        </p:nvGraphicFramePr>
        <p:xfrm>
          <a:off x="4286160" y="2786040"/>
          <a:ext cx="4142880" cy="1285560"/>
        </p:xfrm>
        <a:graphic>
          <a:graphicData uri="http://schemas.openxmlformats.org/drawingml/2006/table">
            <a:tbl>
              <a:tblPr/>
              <a:tblGrid>
                <a:gridCol w="1334880"/>
                <a:gridCol w="1586880"/>
                <a:gridCol w="1221480"/>
              </a:tblGrid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"/>
          <p:cNvSpPr/>
          <p:nvPr/>
        </p:nvSpPr>
        <p:spPr>
          <a:xfrm>
            <a:off x="33120" y="4430880"/>
            <a:ext cx="8014320" cy="39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кислородсодержащих кислот           Кислородсодержащи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Таблица 1"/>
          <p:cNvGraphicFramePr/>
          <p:nvPr/>
        </p:nvGraphicFramePr>
        <p:xfrm>
          <a:off x="0" y="849600"/>
          <a:ext cx="9143640" cy="2043720"/>
        </p:xfrm>
        <a:graphic>
          <a:graphicData uri="http://schemas.openxmlformats.org/drawingml/2006/table">
            <a:tbl>
              <a:tblPr/>
              <a:tblGrid>
                <a:gridCol w="374040"/>
                <a:gridCol w="3281400"/>
                <a:gridCol w="779040"/>
                <a:gridCol w="544320"/>
                <a:gridCol w="4164120"/>
              </a:tblGrid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+NaN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N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a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+Cu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Cu+Fe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+KOH = KCL+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Mg+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M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"/>
          <p:cNvSpPr/>
          <p:nvPr/>
        </p:nvSpPr>
        <p:spPr>
          <a:xfrm>
            <a:off x="41400" y="3960"/>
            <a:ext cx="83876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                                                    Уравнени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Таблица 3"/>
          <p:cNvGraphicFramePr/>
          <p:nvPr/>
        </p:nvGraphicFramePr>
        <p:xfrm>
          <a:off x="0" y="3786120"/>
          <a:ext cx="9143640" cy="2104200"/>
        </p:xfrm>
        <a:graphic>
          <a:graphicData uri="http://schemas.openxmlformats.org/drawingml/2006/table">
            <a:tbl>
              <a:tblPr/>
              <a:tblGrid>
                <a:gridCol w="374040"/>
                <a:gridCol w="3281400"/>
                <a:gridCol w="779040"/>
                <a:gridCol w="544320"/>
                <a:gridCol w="4164120"/>
              </a:tblGrid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l, Cu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K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"/>
          <p:cNvSpPr/>
          <p:nvPr/>
        </p:nvSpPr>
        <p:spPr>
          <a:xfrm>
            <a:off x="33840" y="3216960"/>
            <a:ext cx="68299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оединений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7"/>
          <p:cNvSpPr/>
          <p:nvPr/>
        </p:nvSpPr>
        <p:spPr>
          <a:xfrm>
            <a:off x="0" y="357120"/>
            <a:ext cx="9572400" cy="61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ретий лишни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обходимо найти на каждой строке лишнюю формулу вещества и объяснить, почему именно эта формула лишня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 Найти лишнюю формулу, вычеркнуть ее и назвать класс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0, К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) Ва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С1, СuС1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) NaОН, СuО, Сu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 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С1, КN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. 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 Найти лишнюю формулу, вычеркнуть ее и назвать класс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LiN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) NаОН, Ва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 - . . . ;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) Nа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Р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МgO -. . 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)А1Р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СuSО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Zn(ОН)</a:t>
            </a:r>
            <a:r>
              <a:rPr b="0" lang="ru-RU" sz="24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- . 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/з 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пр. 1-3 стр. 122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00048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Й. Я. Берцелиу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 шведский учё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цировал все элементы на металл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металл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определил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ллам чаще всего соответствуют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металлам – кислот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→N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→NaOH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 →SO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→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6000840" y="2714760"/>
            <a:ext cx="2856960" cy="3642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3" name="Рисунок 4" descr="http://www.by-time.ru/upload/iblock/599/123624402421a6.jpg"/>
          <p:cNvPicPr/>
          <p:nvPr/>
        </p:nvPicPr>
        <p:blipFill>
          <a:blip r:embed="rId2"/>
          <a:stretch/>
        </p:blipFill>
        <p:spPr>
          <a:xfrm>
            <a:off x="6286680" y="2786040"/>
            <a:ext cx="2856960" cy="3642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7640" y="-24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йства гидроксида цин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0" y="656280"/>
            <a:ext cx="8892000" cy="1518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гидроксида цинка с соляной кисло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Cl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0" y="2829240"/>
            <a:ext cx="8892000" cy="198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заимодействие гидроксида цинка с гидроксидом натр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NaOH =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23640" y="2205000"/>
            <a:ext cx="77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вод: гидроксид цинка –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51640" y="4437000"/>
            <a:ext cx="77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вод: гидроксид цинка –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0" y="5301360"/>
            <a:ext cx="8820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Итоговый вывод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дроксид цинка – амфотер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640" y="1268640"/>
            <a:ext cx="5214600" cy="2928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. В. Дёберейн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немецкий химик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29 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принял первую значимую попытку систематизации элемент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Он заметил, что некоторые сходные по своим свойствам элементы можно объединить по три в группы, которые он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иадами. Триады Дёберейнера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http://www.sil.si.edu/digitalcollections/hst/scientific-identity/thumbnails/TNSIL14-D4-10.jpg"/>
          <p:cNvPicPr/>
          <p:nvPr/>
        </p:nvPicPr>
        <p:blipFill>
          <a:blip r:embed="rId1"/>
          <a:stretch/>
        </p:blipFill>
        <p:spPr>
          <a:xfrm>
            <a:off x="6215040" y="1785960"/>
            <a:ext cx="2642760" cy="3357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03" name="Таблица 4"/>
          <p:cNvGraphicFramePr/>
          <p:nvPr/>
        </p:nvGraphicFramePr>
        <p:xfrm>
          <a:off x="642960" y="4929120"/>
          <a:ext cx="3428640" cy="1642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4" name="TextBox 5"/>
          <p:cNvSpPr/>
          <p:nvPr/>
        </p:nvSpPr>
        <p:spPr>
          <a:xfrm>
            <a:off x="4872600" y="5805360"/>
            <a:ext cx="3892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) = ( 7 + 39  ) / 2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214600" cy="3400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. Бегье де Шанкурту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профессор Парижской высшей школы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862 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едложил располаг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лементы по спира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рядке возрастания их атомных мас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ираль Шанкуртуа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http://0.tqn.com/d/chemistry/1/0/J/7/1/AEB_deChancourtois.jpg"/>
          <p:cNvPicPr/>
          <p:nvPr/>
        </p:nvPicPr>
        <p:blipFill>
          <a:blip r:embed="rId1"/>
          <a:stretch/>
        </p:blipFill>
        <p:spPr>
          <a:xfrm>
            <a:off x="6588360" y="1124640"/>
            <a:ext cx="1854000" cy="259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8" name="Рисунок 4" descr="C:\Documents and Settings\User\Local Settings\Temporary Internet Files\Content.Word\Изображение 004.jpg"/>
          <p:cNvPicPr/>
          <p:nvPr/>
        </p:nvPicPr>
        <p:blipFill>
          <a:blip r:embed="rId2"/>
          <a:stretch/>
        </p:blipFill>
        <p:spPr>
          <a:xfrm>
            <a:off x="6839640" y="4769640"/>
            <a:ext cx="2304000" cy="2088000"/>
          </a:xfrm>
          <a:prstGeom prst="rect">
            <a:avLst/>
          </a:prstGeom>
          <a:ln>
            <a:noFill/>
          </a:ln>
          <a:effectLst>
            <a:softEdge rad="112680"/>
          </a:effectLst>
        </p:spPr>
      </p:pic>
      <p:pic>
        <p:nvPicPr>
          <p:cNvPr id="109" name="Содержимое 3" descr="Vis_tellurique_de_Chancourtois.gif"/>
          <p:cNvPicPr/>
          <p:nvPr/>
        </p:nvPicPr>
        <p:blipFill>
          <a:blip r:embed="rId3"/>
          <a:stretch/>
        </p:blipFill>
        <p:spPr>
          <a:xfrm>
            <a:off x="4212000" y="3368520"/>
            <a:ext cx="2520000" cy="348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5285880" cy="361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. Ньюленд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глийский учёный)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65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сположил элементы в порядке возрастания их атомных масс. Заметил, что сходство в свойствах проявляется между каждым восьмым элементом. Такую закономерность Ньюлендс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коном окта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аналогии с семью интервалами музыкальной гаммы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тава Ньюлендса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http://img0.liveinternet.ru/images/attach/c/0/51/686/51686648_newlands.jpg"/>
          <p:cNvPicPr/>
          <p:nvPr/>
        </p:nvPicPr>
        <p:blipFill>
          <a:blip r:embed="rId1"/>
          <a:stretch/>
        </p:blipFill>
        <p:spPr>
          <a:xfrm flipH="1">
            <a:off x="6516720" y="1196640"/>
            <a:ext cx="2285640" cy="2785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13" name="Таблица 5"/>
          <p:cNvGraphicFramePr/>
          <p:nvPr/>
        </p:nvGraphicFramePr>
        <p:xfrm>
          <a:off x="4643280" y="4261680"/>
          <a:ext cx="4500360" cy="2546640"/>
        </p:xfrm>
        <a:graphic>
          <a:graphicData uri="http://schemas.openxmlformats.org/drawingml/2006/table">
            <a:tbl>
              <a:tblPr/>
              <a:tblGrid>
                <a:gridCol w="794160"/>
                <a:gridCol w="491400"/>
                <a:gridCol w="642600"/>
                <a:gridCol w="642600"/>
                <a:gridCol w="693360"/>
                <a:gridCol w="592200"/>
                <a:gridCol w="642600"/>
              </a:tblGrid>
              <a:tr h="57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4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786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14" name="Рисунок 7" descr=""/>
          <p:cNvPicPr/>
          <p:nvPr/>
        </p:nvPicPr>
        <p:blipFill>
          <a:blip r:embed="rId2"/>
          <a:srcRect l="18007" t="46486" r="71772" b="32889"/>
          <a:stretch/>
        </p:blipFill>
        <p:spPr>
          <a:xfrm>
            <a:off x="2267640" y="5013000"/>
            <a:ext cx="1635120" cy="184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едшественники  Д. И. Менделеев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14760" y="1052640"/>
            <a:ext cx="642888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 Л. Мей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немецкий хими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864 г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ил химические элемен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порядке увеличения атомных масс и по валентност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 Мей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ла тольк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8 элемент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http://content.foto.mail.ru/inbox/groos/_answers/i-454.jpg"/>
          <p:cNvPicPr/>
          <p:nvPr/>
        </p:nvPicPr>
        <p:blipFill>
          <a:blip r:embed="rId1"/>
          <a:srcRect l="0" t="0" r="64198" b="17015"/>
          <a:stretch/>
        </p:blipFill>
        <p:spPr>
          <a:xfrm>
            <a:off x="251640" y="1484640"/>
            <a:ext cx="2356920" cy="302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aphicFrame>
        <p:nvGraphicFramePr>
          <p:cNvPr id="118" name="Таблица 4"/>
          <p:cNvGraphicFramePr/>
          <p:nvPr/>
        </p:nvGraphicFramePr>
        <p:xfrm>
          <a:off x="3060000" y="3351960"/>
          <a:ext cx="5832360" cy="3314880"/>
        </p:xfrm>
        <a:graphic>
          <a:graphicData uri="http://schemas.openxmlformats.org/drawingml/2006/table">
            <a:tbl>
              <a:tblPr/>
              <a:tblGrid>
                <a:gridCol w="833040"/>
                <a:gridCol w="833040"/>
                <a:gridCol w="833040"/>
                <a:gridCol w="833040"/>
                <a:gridCol w="807120"/>
                <a:gridCol w="858960"/>
                <a:gridCol w="833040"/>
              </a:tblGrid>
              <a:tr h="9640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80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7520" marR="475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2000"/>
          </a:bodyPr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возрастани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томного ве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металлические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остепенно </a:t>
            </a: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ослабеваю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Mg Al Si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металл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силиваю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обрываются у инертного га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r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л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сших оксид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зраст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1-го до 7-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лен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тучих водород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я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4-х до 1-го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свойства химических элементов повторя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иодичес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через 7 на 8-ой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у периодического закона Д. И. Менделеев взял коренное свойство химического элемента- его атомный ве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емейства химических элементов со сходными свойствами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Таблица 9"/>
          <p:cNvGraphicFramePr/>
          <p:nvPr/>
        </p:nvGraphicFramePr>
        <p:xfrm>
          <a:off x="0" y="914400"/>
          <a:ext cx="9143640" cy="5805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695240"/>
                <a:gridCol w="1962000"/>
              </a:tblGrid>
              <a:tr h="127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естве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ие эле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шая вал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ула высшего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61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лочные 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, Na, K, Rb, 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05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оде образ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51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Щелочноземельные мет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Sr, 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оксиды – «земли» сообщают  в воде щелочную реак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альк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, Se, 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r>
                        <a:rPr b="1" lang="en-US" sz="105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ждающие руд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ал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еталлами образуют с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</Template>
  <TotalTime>371</TotalTime>
  <Application>LibreOffice/7.4.7.2$Linux_X86_64 LibreOffice_project/40$Build-2</Application>
  <AppVersion>15.0000</AppVersion>
  <Words>887</Words>
  <Paragraphs>2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20-04-08T12:14:09Z</dcterms:modified>
  <cp:revision>58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