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8FE-E3D2-41C1-AECF-A6FB13D8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89D-F5EF-4D7C-9B85-46F3BAD7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9E4-9962-40EC-AC7D-09DA8B41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853-40C5-4380-AD00-1151168F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019-1E3B-4DE8-89AB-FC84E2B9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EEE-DA13-4A10-9287-706C0962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684-7BD6-4381-B053-AAAB5E4F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8D8-9289-4A64-8DFB-064A43D3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17F-7675-48DA-861B-9081E0C4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5D6-FA03-43C7-B13A-D6024342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93A-426F-4A07-BA3B-C1129A9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AAF-9A74-4046-B8E1-B7B7E459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9FFF-94C0-4408-85FD-151F8760B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laertsky.com/talks/arch_for/for/1207736230.jpg"/>
          <p:cNvPicPr/>
          <p:nvPr/>
        </p:nvPicPr>
        <p:blipFill>
          <a:blip r:embed="rId1"/>
          <a:stretch/>
        </p:blipFill>
        <p:spPr>
          <a:xfrm>
            <a:off x="1187280" y="1844640"/>
            <a:ext cx="3060720" cy="424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img15.nnm.ru/d/1/3/d/7/8ea0d6170de703f736c4aabff39_prev.jpg"/>
          <p:cNvPicPr/>
          <p:nvPr/>
        </p:nvPicPr>
        <p:blipFill>
          <a:blip r:embed="rId2"/>
          <a:stretch/>
        </p:blipFill>
        <p:spPr>
          <a:xfrm>
            <a:off x="5003640" y="1700280"/>
            <a:ext cx="29052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2916360" y="2205000"/>
            <a:ext cx="25923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апреля 1961 года в 6:07 с космодрома Байконур стартовала ракета-носитель "Восток«. 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1619280" y="2444760"/>
            <a:ext cx="2522520" cy="367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ttp://img-fotki.yandex.ru/get/6/vibpxhgglzd.5dd/0_1678e_fc028aef_XL"/>
          <p:cNvPicPr/>
          <p:nvPr/>
        </p:nvPicPr>
        <p:blipFill>
          <a:blip r:embed="rId2"/>
          <a:srcRect l="40947" t="0" r="0" b="0"/>
          <a:stretch/>
        </p:blipFill>
        <p:spPr>
          <a:xfrm>
            <a:off x="4716360" y="2444760"/>
            <a:ext cx="26654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те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http://www.oboiruneta.ru/images/stories/dg_originals/4317AE587EE3-17.jpg"/>
          <p:cNvPicPr/>
          <p:nvPr/>
        </p:nvPicPr>
        <p:blipFill>
          <a:blip r:embed="rId1"/>
          <a:srcRect l="17551" t="0" r="18419" b="4553"/>
          <a:stretch/>
        </p:blipFill>
        <p:spPr>
          <a:xfrm>
            <a:off x="449280" y="1700280"/>
            <a:ext cx="374652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те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mywidescreenwallpapers.com/wallpapers/various_10/earth_and_the_moon_widescreen_wallpaper_44432.jpg"/>
          <p:cNvPicPr/>
          <p:nvPr/>
        </p:nvPicPr>
        <p:blipFill>
          <a:blip r:embed="rId1"/>
          <a:srcRect l="17539" t="0" r="17536" b="8777"/>
          <a:stretch/>
        </p:blipFill>
        <p:spPr>
          <a:xfrm>
            <a:off x="2484360" y="2133720"/>
            <a:ext cx="36068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2843280" y="2060640"/>
            <a:ext cx="38415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2914560" y="1557360"/>
            <a:ext cx="3673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iki.iteach.ru/images/7/7f/%D0%9A%D0%BE%D1%81%D0%BC%D0%BE%D1%81_%D0%9F._%D0%98..png"/>
          <p:cNvPicPr/>
          <p:nvPr/>
        </p:nvPicPr>
        <p:blipFill>
          <a:blip r:embed="rId1"/>
          <a:stretch/>
        </p:blipFill>
        <p:spPr>
          <a:xfrm>
            <a:off x="1692360" y="1844640"/>
            <a:ext cx="5400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Пользователь</cp:lastModifiedBy>
  <dcterms:modified xsi:type="dcterms:W3CDTF">2020-04-08T07:11:47Z</dcterms:modified>
  <cp:revision>31</cp:revision>
  <dc:subject/>
  <dc:title>Слайд 1</dc:title>
</cp:coreProperties>
</file>