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081-EB96-404C-A3E9-ACD58757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771-5348-4D67-8E17-FDB5328D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E80-26E0-4379-A1EE-05696D30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A04-95D8-47E9-829A-2FA5A3A2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931-A892-4A36-8885-D4CDFDD4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69E-A922-4CBC-8981-4D3600DA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AF2-D577-4E1B-82B6-0B0759B2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2A3-EA39-47E1-9678-BA7411B6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306-4B6A-451E-BB93-DC06B800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FE6-219F-409F-A989-2CDBA4C9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B9A-8D9D-48FA-AF19-644D8FDB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30F-70D2-4E74-ADF6-81AB9355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9B60D-041D-4351-9804-2B234BF6608E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рахмал и его свойст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DC10082"/>
          <p:cNvPicPr/>
          <p:nvPr/>
        </p:nvPicPr>
        <p:blipFill>
          <a:blip r:embed="rId1"/>
          <a:stretch/>
        </p:blipFill>
        <p:spPr>
          <a:xfrm>
            <a:off x="1692360" y="1341360"/>
            <a:ext cx="5792760" cy="43452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1835280" y="189000"/>
            <a:ext cx="54306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чное волшебство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116000" y="5950080"/>
            <a:ext cx="676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224000" y="515772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кладываю на лист бумаги «послание» из вырезанных букв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" name="Picture 10" descr="SDC10081"/>
          <p:cNvPicPr/>
          <p:nvPr/>
        </p:nvPicPr>
        <p:blipFill>
          <a:blip r:embed="rId2"/>
          <a:stretch/>
        </p:blipFill>
        <p:spPr>
          <a:xfrm>
            <a:off x="1332000" y="1268280"/>
            <a:ext cx="6697440" cy="5064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1042920" y="5950080"/>
            <a:ext cx="7058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403280" y="59500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рызгиваю лист бумаги и буквы крахмальным раствором из распылите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14" descr="SDC10083"/>
          <p:cNvPicPr/>
          <p:nvPr/>
        </p:nvPicPr>
        <p:blipFill>
          <a:blip r:embed="rId3"/>
          <a:stretch/>
        </p:blipFill>
        <p:spPr>
          <a:xfrm>
            <a:off x="1258920" y="1268280"/>
            <a:ext cx="6985080" cy="5240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5"/>
          <p:cNvSpPr/>
          <p:nvPr/>
        </p:nvSpPr>
        <p:spPr>
          <a:xfrm>
            <a:off x="1258920" y="595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ист бумаги обрызгиваю йодным раствором из бутылки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17" descr="SDC10084"/>
          <p:cNvPicPr/>
          <p:nvPr/>
        </p:nvPicPr>
        <p:blipFill>
          <a:blip r:embed="rId4"/>
          <a:stretch/>
        </p:blipFill>
        <p:spPr>
          <a:xfrm>
            <a:off x="1187280" y="1268280"/>
            <a:ext cx="7056720" cy="5234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8"/>
          <p:cNvSpPr/>
          <p:nvPr/>
        </p:nvSpPr>
        <p:spPr>
          <a:xfrm>
            <a:off x="3648240" y="58975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т и волшебство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8"/>
          <p:cNvSpPr/>
          <p:nvPr/>
        </p:nvSpPr>
        <p:spPr>
          <a:xfrm flipH="1" flipV="1">
            <a:off x="2195640" y="2565360"/>
            <a:ext cx="790560" cy="72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4356000" y="1197000"/>
            <a:ext cx="0" cy="1370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900000" y="144360"/>
            <a:ext cx="6048360" cy="76536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нный питательный продукт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 достаточно распространённое веществ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1125360"/>
            <a:ext cx="5202360" cy="244800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ажнейший продукт, которы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спользуется в пищевой, бумажно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 текстильной промышленности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 также в медицине и при изготовлени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осметик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43000" y="3892680"/>
            <a:ext cx="6048360" cy="201600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 попадании в горячую воду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бразуется коллоидный раствор (клейстер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221440" y="2814480"/>
            <a:ext cx="3743280" cy="72072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 домашних условиях можн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лучить крахмал из картофе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2598840" y="5818320"/>
            <a:ext cx="6121440" cy="79200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ома из крахмала можно сварить клей и кисель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спечь блины и накрахмалить бельё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196920" y="3679920"/>
            <a:ext cx="5184720" cy="72072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ля определения присутствия крахмал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 продуктах используем йодный раство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2428920"/>
            <a:ext cx="705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аграф 34. в.15-17 стр.146 зад 3 стр.14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267217062_mais"/>
          <p:cNvPicPr/>
          <p:nvPr/>
        </p:nvPicPr>
        <p:blipFill>
          <a:blip r:embed="rId1"/>
          <a:stretch/>
        </p:blipFill>
        <p:spPr>
          <a:xfrm>
            <a:off x="6443640" y="189000"/>
            <a:ext cx="2376360" cy="2376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43" name="Picture 3" descr="01"/>
          <p:cNvPicPr/>
          <p:nvPr/>
        </p:nvPicPr>
        <p:blipFill>
          <a:blip r:embed="rId2"/>
          <a:stretch/>
        </p:blipFill>
        <p:spPr>
          <a:xfrm>
            <a:off x="324000" y="3789360"/>
            <a:ext cx="3132000" cy="2016000"/>
          </a:xfrm>
          <a:prstGeom prst="rect">
            <a:avLst/>
          </a:prstGeom>
          <a:ln w="9360">
            <a:solidFill>
              <a:srgbClr val="ff9999"/>
            </a:solidFill>
            <a:miter/>
          </a:ln>
        </p:spPr>
      </p:pic>
      <p:pic>
        <p:nvPicPr>
          <p:cNvPr id="44" name="Picture 5" descr="1914587"/>
          <p:cNvPicPr/>
          <p:nvPr/>
        </p:nvPicPr>
        <p:blipFill>
          <a:blip r:embed="rId3"/>
          <a:stretch/>
        </p:blipFill>
        <p:spPr>
          <a:xfrm>
            <a:off x="324000" y="260280"/>
            <a:ext cx="2338200" cy="24480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45" name="WordArt 6"/>
          <p:cNvSpPr txBox="1"/>
          <p:nvPr/>
        </p:nvSpPr>
        <p:spPr>
          <a:xfrm>
            <a:off x="3276720" y="2492280"/>
            <a:ext cx="280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хмал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Line 7"/>
          <p:cNvSpPr/>
          <p:nvPr/>
        </p:nvSpPr>
        <p:spPr>
          <a:xfrm>
            <a:off x="5435640" y="3573360"/>
            <a:ext cx="431640" cy="432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Line 8"/>
          <p:cNvSpPr/>
          <p:nvPr/>
        </p:nvSpPr>
        <p:spPr>
          <a:xfrm flipV="1">
            <a:off x="5580000" y="1844640"/>
            <a:ext cx="647640" cy="504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3131640" y="3716280"/>
            <a:ext cx="792360" cy="432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Line 10"/>
          <p:cNvSpPr/>
          <p:nvPr/>
        </p:nvSpPr>
        <p:spPr>
          <a:xfrm flipH="1" flipV="1">
            <a:off x="2916000" y="1773360"/>
            <a:ext cx="718920" cy="576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" name="Picture 11" descr="0_13561_51c06951_XL"/>
          <p:cNvPicPr/>
          <p:nvPr/>
        </p:nvPicPr>
        <p:blipFill>
          <a:blip r:embed="rId4"/>
          <a:stretch/>
        </p:blipFill>
        <p:spPr>
          <a:xfrm>
            <a:off x="5940360" y="3789360"/>
            <a:ext cx="2664000" cy="1998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51" name="Text Box 12"/>
          <p:cNvSpPr/>
          <p:nvPr/>
        </p:nvSpPr>
        <p:spPr>
          <a:xfrm>
            <a:off x="324000" y="6165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спользуется с давних пор и считается ценным питательным продукто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SDC11054"/>
          <p:cNvPicPr/>
          <p:nvPr/>
        </p:nvPicPr>
        <p:blipFill>
          <a:blip r:embed="rId1"/>
          <a:stretch/>
        </p:blipFill>
        <p:spPr>
          <a:xfrm>
            <a:off x="6372360" y="3789360"/>
            <a:ext cx="2393640" cy="1806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3" name="Picture 12" descr="SDC11049"/>
          <p:cNvPicPr/>
          <p:nvPr/>
        </p:nvPicPr>
        <p:blipFill>
          <a:blip r:embed="rId2"/>
          <a:stretch/>
        </p:blipFill>
        <p:spPr>
          <a:xfrm>
            <a:off x="4067280" y="3716280"/>
            <a:ext cx="1877760" cy="1944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4" name="Picture 11" descr="SDC11043"/>
          <p:cNvPicPr/>
          <p:nvPr/>
        </p:nvPicPr>
        <p:blipFill>
          <a:blip r:embed="rId3"/>
          <a:stretch/>
        </p:blipFill>
        <p:spPr>
          <a:xfrm>
            <a:off x="755640" y="3716280"/>
            <a:ext cx="2130480" cy="1922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5" name="Picture 9" descr="SDC11035"/>
          <p:cNvPicPr/>
          <p:nvPr/>
        </p:nvPicPr>
        <p:blipFill>
          <a:blip r:embed="rId4"/>
          <a:stretch/>
        </p:blipFill>
        <p:spPr>
          <a:xfrm>
            <a:off x="5219640" y="1197000"/>
            <a:ext cx="2089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6" name="Picture 7" descr="SDC11029"/>
          <p:cNvPicPr/>
          <p:nvPr/>
        </p:nvPicPr>
        <p:blipFill>
          <a:blip r:embed="rId5"/>
          <a:stretch/>
        </p:blipFill>
        <p:spPr>
          <a:xfrm>
            <a:off x="826920" y="1268280"/>
            <a:ext cx="2303640" cy="17431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7" name="WordArt 10"/>
          <p:cNvSpPr txBox="1"/>
          <p:nvPr/>
        </p:nvSpPr>
        <p:spPr>
          <a:xfrm>
            <a:off x="250920" y="115920"/>
            <a:ext cx="86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учение крахмала в домашних условиях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24000" y="306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тереть картофель на тёрк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995640" y="3068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лученную кашицу отжать через марлю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79280" y="5805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лучилась мутная бурая жидкост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635280" y="573408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лили жидкость, на дне остался белый осадок. Если полученный осадок просушить, получится порошок. Это и есть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2627280" y="2492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9cd50194eac"/>
          <p:cNvPicPr/>
          <p:nvPr/>
        </p:nvPicPr>
        <p:blipFill>
          <a:blip r:embed="rId1"/>
          <a:stretch/>
        </p:blipFill>
        <p:spPr>
          <a:xfrm>
            <a:off x="468360" y="4005360"/>
            <a:ext cx="3598920" cy="2392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4" name="Picture 3" descr="1283926044_118793241_1----2194-1283926044"/>
          <p:cNvPicPr/>
          <p:nvPr/>
        </p:nvPicPr>
        <p:blipFill>
          <a:blip r:embed="rId2"/>
          <a:stretch/>
        </p:blipFill>
        <p:spPr>
          <a:xfrm>
            <a:off x="611280" y="1305000"/>
            <a:ext cx="3313080" cy="2485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5" name="Picture 4" descr="cancer08"/>
          <p:cNvPicPr/>
          <p:nvPr/>
        </p:nvPicPr>
        <p:blipFill>
          <a:blip r:embed="rId3"/>
          <a:stretch/>
        </p:blipFill>
        <p:spPr>
          <a:xfrm>
            <a:off x="5508720" y="1052640"/>
            <a:ext cx="2808360" cy="2808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6" name="Picture 5" descr="мука"/>
          <p:cNvPicPr/>
          <p:nvPr/>
        </p:nvPicPr>
        <p:blipFill>
          <a:blip r:embed="rId4"/>
          <a:stretch/>
        </p:blipFill>
        <p:spPr>
          <a:xfrm>
            <a:off x="5003640" y="4076640"/>
            <a:ext cx="3743640" cy="2486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826920" y="3284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entury Gothic"/>
              </a:rPr>
              <a:t>САХАР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556000" y="5805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entury Gothic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219640" y="59500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508720" y="3284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КРАХМА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284720" y="234936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 Narrow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900000" y="333360"/>
            <a:ext cx="755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755640" y="115920"/>
            <a:ext cx="720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ние крахмала по </a:t>
            </a:r>
            <a:endParaRPr b="0" lang="en-US" sz="20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ешним свойствам</a:t>
            </a:r>
            <a:endParaRPr b="0" lang="en-US" sz="20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404640"/>
            <a:ext cx="2447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539640" y="1557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ахмал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– это действительно сыпучий порошок белого цвета, без вкуса и запаха;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отличии от соли, сахара и муки при трении скрипит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6" name="Picture 6" descr="ing_76_1202379028_b8lcei"/>
          <p:cNvPicPr/>
          <p:nvPr/>
        </p:nvPicPr>
        <p:blipFill>
          <a:blip r:embed="rId1"/>
          <a:stretch/>
        </p:blipFill>
        <p:spPr>
          <a:xfrm rot="21276600">
            <a:off x="539640" y="3068640"/>
            <a:ext cx="2737080" cy="2736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77" name="Text Box 7"/>
          <p:cNvSpPr/>
          <p:nvPr/>
        </p:nvSpPr>
        <p:spPr>
          <a:xfrm>
            <a:off x="3924360" y="378936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 может ли крахмал раствориться в воде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SDC11221"/>
          <p:cNvPicPr/>
          <p:nvPr/>
        </p:nvPicPr>
        <p:blipFill>
          <a:blip r:embed="rId1"/>
          <a:stretch/>
        </p:blipFill>
        <p:spPr>
          <a:xfrm>
            <a:off x="4716360" y="3573360"/>
            <a:ext cx="2664000" cy="199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79" name="Picture 4" descr="SDC11240"/>
          <p:cNvPicPr/>
          <p:nvPr/>
        </p:nvPicPr>
        <p:blipFill>
          <a:blip r:embed="rId2"/>
          <a:stretch/>
        </p:blipFill>
        <p:spPr>
          <a:xfrm>
            <a:off x="5508720" y="1484280"/>
            <a:ext cx="2590560" cy="1943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0" name="Picture 5" descr="SDC11239"/>
          <p:cNvPicPr/>
          <p:nvPr/>
        </p:nvPicPr>
        <p:blipFill>
          <a:blip r:embed="rId3"/>
          <a:stretch/>
        </p:blipFill>
        <p:spPr>
          <a:xfrm>
            <a:off x="611280" y="4005360"/>
            <a:ext cx="2592360" cy="1805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1" name="WordArt 9"/>
          <p:cNvSpPr txBox="1"/>
          <p:nvPr/>
        </p:nvSpPr>
        <p:spPr>
          <a:xfrm>
            <a:off x="611280" y="189000"/>
            <a:ext cx="7993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заимодействие крахмала с водой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9280" y="1557360"/>
            <a:ext cx="4969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зяли 3 стакана, положили по 1 чайной ложке крахмал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1-ый стакан налили холодной воды, размешал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о 2-ой стакан налили тёплой вод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3-ий стакан налили горячей вод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3924360" y="5734080"/>
            <a:ext cx="3672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блюдаем!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940360" y="2997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732720" y="2997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7451640" y="2997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7"/>
          <p:cNvSpPr txBox="1"/>
          <p:nvPr/>
        </p:nvSpPr>
        <p:spPr>
          <a:xfrm>
            <a:off x="2050920" y="11592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обнаружить крахмал ?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4427640" y="479736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39640" y="1125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ля этого опыта возьмём ломтик картофеля, ломтик яблока и настойку йода. Капнем настойкой на картошку и яблоко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539640" y="5241960"/>
            <a:ext cx="8097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десь происходит химическая реакция между йодом и крахмалом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оторый содержится в картофеле, и получается новое веществ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ине-фиолетового цвета. Йодное пятно на срезе картофеля ярче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м на яблоке – значит, в картофеле крахмала больш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8" descr="P9130475"/>
          <p:cNvPicPr/>
          <p:nvPr/>
        </p:nvPicPr>
        <p:blipFill>
          <a:blip r:embed="rId1"/>
          <a:stretch/>
        </p:blipFill>
        <p:spPr>
          <a:xfrm>
            <a:off x="2700360" y="1844640"/>
            <a:ext cx="4103640" cy="3403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2" name="Picture 19" descr="P9130477"/>
          <p:cNvPicPr/>
          <p:nvPr/>
        </p:nvPicPr>
        <p:blipFill>
          <a:blip r:embed="rId2"/>
          <a:stretch/>
        </p:blipFill>
        <p:spPr>
          <a:xfrm>
            <a:off x="2484360" y="1844640"/>
            <a:ext cx="4535640" cy="3465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2987640" y="6093000"/>
            <a:ext cx="5761080" cy="64908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6877080" y="2060640"/>
            <a:ext cx="1871640" cy="64764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995640" y="2205000"/>
            <a:ext cx="2735280" cy="86508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08000" y="1844640"/>
            <a:ext cx="3743280" cy="720720"/>
          </a:xfrm>
          <a:prstGeom prst="flowChartAlternateProcess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403280" y="260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крахмал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7" descr="k7218-1"/>
          <p:cNvPicPr/>
          <p:nvPr/>
        </p:nvPicPr>
        <p:blipFill>
          <a:blip r:embed="rId1"/>
          <a:stretch/>
        </p:blipFill>
        <p:spPr>
          <a:xfrm>
            <a:off x="6948360" y="2852640"/>
            <a:ext cx="1965600" cy="293076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99" name="Picture 8" descr="x_832d8bee"/>
          <p:cNvPicPr/>
          <p:nvPr/>
        </p:nvPicPr>
        <p:blipFill>
          <a:blip r:embed="rId2"/>
          <a:stretch/>
        </p:blipFill>
        <p:spPr>
          <a:xfrm>
            <a:off x="539640" y="2708280"/>
            <a:ext cx="2592360" cy="2025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00" name="Line 9"/>
          <p:cNvSpPr/>
          <p:nvPr/>
        </p:nvSpPr>
        <p:spPr>
          <a:xfrm flipH="1">
            <a:off x="2195280" y="1125360"/>
            <a:ext cx="647640" cy="648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6012000" y="1268280"/>
            <a:ext cx="792000" cy="648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716360" y="1341360"/>
            <a:ext cx="287280" cy="79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79280" y="1989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</a:rPr>
              <a:t>Пищевая промышлен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7093080" y="213372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</a:rPr>
              <a:t>Медици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140360" y="2205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</a:rPr>
              <a:t>Бумажная промышлен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6" name="Picture 15" descr="default22"/>
          <p:cNvPicPr/>
          <p:nvPr/>
        </p:nvPicPr>
        <p:blipFill>
          <a:blip r:embed="rId3"/>
          <a:stretch/>
        </p:blipFill>
        <p:spPr>
          <a:xfrm>
            <a:off x="3924360" y="3284640"/>
            <a:ext cx="2520720" cy="23256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7" name="Picture 16" descr="f9fa526725c2"/>
          <p:cNvPicPr/>
          <p:nvPr/>
        </p:nvPicPr>
        <p:blipFill>
          <a:blip r:embed="rId4"/>
          <a:stretch/>
        </p:blipFill>
        <p:spPr>
          <a:xfrm>
            <a:off x="539640" y="4941720"/>
            <a:ext cx="2232000" cy="16923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08" name="Text Box 17"/>
          <p:cNvSpPr/>
          <p:nvPr/>
        </p:nvSpPr>
        <p:spPr>
          <a:xfrm>
            <a:off x="3203640" y="609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</a:rPr>
              <a:t>Крахмал – основа для производства кле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19280" y="6237360"/>
            <a:ext cx="662472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хмальный клейстер, который так хорошо склеивает бума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DC10088"/>
          <p:cNvPicPr/>
          <p:nvPr/>
        </p:nvPicPr>
        <p:blipFill>
          <a:blip r:embed="rId1"/>
          <a:stretch/>
        </p:blipFill>
        <p:spPr>
          <a:xfrm>
            <a:off x="5076720" y="4005360"/>
            <a:ext cx="2622600" cy="1966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2050920" y="260280"/>
            <a:ext cx="367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7" descr="SDC10085"/>
          <p:cNvPicPr/>
          <p:nvPr/>
        </p:nvPicPr>
        <p:blipFill>
          <a:blip r:embed="rId2"/>
          <a:stretch/>
        </p:blipFill>
        <p:spPr>
          <a:xfrm>
            <a:off x="1908000" y="4149720"/>
            <a:ext cx="2046600" cy="2089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3" name="Picture 9" descr="SDC10091"/>
          <p:cNvPicPr/>
          <p:nvPr/>
        </p:nvPicPr>
        <p:blipFill>
          <a:blip r:embed="rId3"/>
          <a:stretch/>
        </p:blipFill>
        <p:spPr>
          <a:xfrm>
            <a:off x="1116000" y="907920"/>
            <a:ext cx="2498760" cy="2637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4" name="Rectangle 10"/>
          <p:cNvSpPr/>
          <p:nvPr/>
        </p:nvSpPr>
        <p:spPr>
          <a:xfrm>
            <a:off x="755640" y="364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иготовления кисе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5" name="Picture 11" descr="CS_001_enl"/>
          <p:cNvPicPr/>
          <p:nvPr/>
        </p:nvPicPr>
        <p:blipFill>
          <a:blip r:embed="rId4"/>
          <a:stretch/>
        </p:blipFill>
        <p:spPr>
          <a:xfrm>
            <a:off x="5219640" y="907920"/>
            <a:ext cx="2881440" cy="230508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4788000" y="3213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крахмалить рубашки – пропитать раствором крахмал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WordArt 13"/>
          <p:cNvSpPr txBox="1"/>
          <p:nvPr/>
        </p:nvSpPr>
        <p:spPr>
          <a:xfrm>
            <a:off x="179280" y="189000"/>
            <a:ext cx="8748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крахмала в домашних условиях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6:48:14Z</dcterms:created>
  <dc:creator>Admin</dc:creator>
  <dc:description/>
  <dc:language>en-US</dc:language>
  <cp:lastModifiedBy>Lenovo</cp:lastModifiedBy>
  <dcterms:modified xsi:type="dcterms:W3CDTF">2020-04-08T10:19:36Z</dcterms:modified>
  <cp:revision>16</cp:revision>
  <dc:subject/>
  <dc:title>Слайд 1</dc:title>
</cp:coreProperties>
</file>