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9D3-F6E8-472C-8C6F-6251781D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9DF-B623-4AD4-B2D3-1D25BE3C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A19-6F94-4F31-B70E-BF631B79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CA1-DBDD-4895-B7BB-6C5DD27A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E28-FD1A-4714-9A59-4D7322D2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200-7DF6-4CAF-BAF5-240E87E3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CFF-6AFD-48D2-A7ED-6CA4BA47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4B1-6080-4046-BA28-48F384C3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2ED-A02E-44F7-B4C3-35D93C79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F6F-EC9A-49E8-ABB7-F6D61A67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D4F-C937-4C07-9BEB-7C28D23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3BF-9BF3-4346-A349-8FF4B82A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92AF-EFF9-4956-8731-CBFC91173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Nata\Desktop\13079178.jpg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328680" y="3224160"/>
            <a:ext cx="87660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Nata\Desktop\351069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539640" y="40464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ебель и листья крапивы покрыты тонкими ворсин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41440" y="777960"/>
            <a:ext cx="741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которые из них более твердые и имеют корешок в виде мешочка с жидкостью, которая содержит кислоту и раздражает нашу кожу, когда вытекает. Кончики таких ворсинок очень острые, они могут проникать под кожу людей или животных и отламываться. Кислота проникает под кожу и вызывает зуд и боль. Если вы очень крепко отломите крапиву, эти ворсинки сломаются у основания и их концы не смогут проникнуть под кожу, то есть раздражения не буд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09:22:52Z</dcterms:created>
  <dc:creator>Nata</dc:creator>
  <dc:description/>
  <dc:language>en-US</dc:language>
  <cp:lastModifiedBy>Nata</cp:lastModifiedBy>
  <dcterms:modified xsi:type="dcterms:W3CDTF">2013-01-20T09:31:17Z</dcterms:modified>
  <cp:revision>1</cp:revision>
  <dc:subject/>
  <dc:title>Презентация PowerPoint</dc:title>
</cp:coreProperties>
</file>