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90D-C852-472A-9659-156000EB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162-6436-45C5-B206-5AA09D8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4C4-4CEF-43F2-9B67-3393C35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9A3-0DE7-47ED-A5D7-7E8E857C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74A-F8B6-4D30-A294-E73F168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B5F-75A5-466B-A950-143C550E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472-DA1D-4959-BDBB-AF695CE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322-4CEB-4D63-A9A0-FD198234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B22-DC51-4B9B-9E89-230FA1B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5FF-CE4C-4B0F-86B8-4CE7F03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F8E-7842-4344-8AEC-7E4E056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876-BF62-4703-B319-1103259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CDDA-603C-48CF-858D-557E43F73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Nata\Desktop\13079178.jpg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328680" y="3224160"/>
            <a:ext cx="8766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Nata\Desktop\35106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539640" y="40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ебель и листья крапивы покрыты тонкими ворсин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41440" y="777960"/>
            <a:ext cx="741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которые из них более твердые и имеют корешок в виде мешочка с жидкостью, которая содержит кислоту и раздражает нашу кожу, когда вытекает. Кончики таких ворсинок очень острые, они могут проникать под кожу людей или животных и отламываться. Кислота проникает под кожу и вызывает зуд и боль. Если вы очень крепко отломите крапиву, эти ворсинки сломаются у основания и их концы не смогут проникнуть под кожу, то есть раздражения не бу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9:22:52Z</dcterms:created>
  <dc:creator>Nata</dc:creator>
  <dc:description/>
  <dc:language>en-US</dc:language>
  <cp:lastModifiedBy>Nata</cp:lastModifiedBy>
  <dcterms:modified xsi:type="dcterms:W3CDTF">2013-01-20T09:31:17Z</dcterms:modified>
  <cp:revision>1</cp:revision>
  <dc:subject/>
  <dc:title>Презентация PowerPoint</dc:title>
</cp:coreProperties>
</file>