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B08-F8BE-485F-AD2E-5E94C717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B40-2C62-48D9-AF03-E38B18C6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201-0C31-4240-8E26-FB843E86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72B-0B62-4701-8A0A-BCC68C8B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829-FB08-4275-992D-894B7CA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D59-24E0-4B1A-BBA9-69252D87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382-3DCF-445E-A4B9-1D960B8F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70C-8804-4084-B4BC-288B869A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6C1-1339-4B58-9F77-28B949A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CC2-E6AD-4515-912C-80A4832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676-D433-46B2-8845-AEB5B09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C80-775E-4EDD-8701-AEB3110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501-E92F-4D6D-A00F-8F0F07EE4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ЕТ «НАША УЛИЦА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Конструирование из лего-конструктора и бросового матери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1640" y="2923920"/>
            <a:ext cx="6335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ля детей 4-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оспитатель МБДОУ «Детский сад «Изумрудный город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Нестерова Е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Там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700640"/>
            <a:ext cx="8378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работа развивает у детей мелкую моторику пальцев рук, глазомер, внимание, мышление, сообразительность, память при конструировании поделок из готовых форм, определяя расположение частей поделки, называя их и конструируя в определенной последовательности (кузов, кабина, колеса, фары, окна), фантазию и художественный вк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уже на макете появился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только осталось заполнить тротуары пешеходами – киндер - игрушками, лего-игрушками и в игровой форме обучать детей правилам дорожного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632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обучать педагогов  и родителей детей поэтапному созданию макета «Наша улица» с помощью лего-конструктора и  бросового материа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313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рудование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метка улицы, готовые конструкции домов; образцы автомобилей, для изготовления которых понадобиться: спичечные коробки, цветная бумага (готовые выкройки для самостоятельного творчества); ножницы, кисточки, клеёнки, салфетки, клей; конструкции дорожных знаков, светофора, зеленых насаждений, регулировщика, или лего-человечки, лего-дома, лего-деревья. Необходимо создать такие условия, чтобы в процессе работы не возникло недоразумений, не приходилось загромождать объяснения лишними указаниями, не относящимися к существу работы.И как известно, в каждой группе, начиная со среднего возраста, должен быть макет улицы. Этот мастер – класс расскажет, покажет и научит педагогов как можно поэтапно, совместно с детьми создать макет улицы с помощью бросового материала и лего-конструктора. Предшествующая работа такова, необходимо изготовить на листе ватмана или ДВП разметку дороги. Далее вся последующая работа может проходить совместно с детьми дома или в детском са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3816360" cy="2633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4321080" cy="3452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16360" y="2781360"/>
            <a:ext cx="40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836280"/>
            <a:ext cx="62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 Этап. Изготовление домов из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ик кубической формы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амый простой спосо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2016360" cy="151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гиб (крыш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бенку предлагается квадратный лист бумаги, расчерченный на девять равных квадратиков с выделенными линиями надрезов. Ребенок делает надрезы, сгибает по пунктирным линиям, получается куб, который оформляется в свободной форме (окна, двер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70160" y="980280"/>
            <a:ext cx="4647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 с крышей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задание усложняет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2"/>
          <a:stretch/>
        </p:blipFill>
        <p:spPr>
          <a:xfrm>
            <a:off x="3564000" y="1341360"/>
            <a:ext cx="1752480" cy="131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270900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гиб (кры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бенку предлагается квадратный лист бумаги, расчерченный на 16 равных квадратиков с выделенными линиями надрезов и прямоугольный лист бумаги с разметкой по горизонтали (для крыши). На квадратном листе бумаги делаются надрезы, сгибается по пунктирным линиям, складывается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дельно складывается крыша и склеивается с домом. Оформляется в свободной форме (двери, ок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3800" y="980280"/>
            <a:ext cx="613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этажный дом с балко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(самый слож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2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2049480" cy="153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2985120"/>
            <a:ext cx="74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бенку предлагается большой лист прямоугольной формы с разметками для сгибов и надрезов. По выделенным линиям делаются надрезы, сгибается по пунктирным линиям, получается многоэтажный дом с балконами. Оформляется в произвольной форме (двери, ок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3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2881440" cy="22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4" descr=""/>
          <p:cNvPicPr/>
          <p:nvPr/>
        </p:nvPicPr>
        <p:blipFill>
          <a:blip r:embed="rId3"/>
          <a:stretch/>
        </p:blipFill>
        <p:spPr>
          <a:xfrm>
            <a:off x="5219640" y="2708280"/>
            <a:ext cx="2952720" cy="2243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24000" y="1009440"/>
            <a:ext cx="486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дома можно устанавливать на макете «Наша улиц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 Этап. Изготовление дорожных знаков, светофора, зеленых насаждений с помощью бросового материала и карт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дручных материалов: колпачка от зубной пасты, трубочки, картона можно совместно с детьми изготовить для макета дорожные знаки, светофор, зеленые наса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40000" y="9820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 Этап. Изготовление транспорт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осов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5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05120" cy="131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68360" y="1622160"/>
            <a:ext cx="539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летает, не жужжи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к по улице бе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горят в глазах ж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ва блестящих огон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то дал завод 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огни – глядеть во ть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колеса, и мот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чался, чтоб во весь о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автомоби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равильно, автомоб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мобиль-фургон изготавливается с помощью двух спичечных коробков. Необходимо спичечные коробки обклеить заготовками из цветной бумаги, из черного картона вырезать четыре колеса и приклеить их к грузов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ь работу (окна, фары, ном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13:57:09Z</dcterms:created>
  <dc:creator>даня</dc:creator>
  <dc:description/>
  <dc:language>en-US</dc:language>
  <cp:lastModifiedBy>даня</cp:lastModifiedBy>
  <dcterms:modified xsi:type="dcterms:W3CDTF">2020-04-08T16:21:09Z</dcterms:modified>
  <cp:revision>4</cp:revision>
  <dc:subject/>
  <dc:title>МАКЕТ «НАША УЛИЦА»  (Конструирование из бросового материала)</dc:title>
</cp:coreProperties>
</file>