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A86-A18F-4ADF-9FAF-27087997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C71-C8E7-46F6-86CB-56C584DA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F58-35A6-4926-B061-6B20B6C8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03A-C36F-42B1-A6E3-2E73139D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C38-4934-4381-9CA6-656A2A59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372-1658-4911-BF37-4AA5414F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07E-E2F4-4992-B093-E3F5CDA6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1AC-206A-4B8A-91FE-223E9408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528-F126-4884-8F6D-A2D93948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07C-F4F6-4F48-9135-39E17555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869-1919-49C8-8D75-4E7ACA0B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BFA-9FA1-448E-9C12-E7289379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5FD0-05E4-44E7-AB5D-6B75FAFC21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КЕТ «НАША УЛИЦА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Конструирование из лего-конструктора и бросового материа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1640" y="2923920"/>
            <a:ext cx="63356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для детей 4-5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подготов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воспитатель МБДОУ «Детский сад «Изумрудный город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Нестерова Е.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Тамб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700640"/>
            <a:ext cx="8378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работа развивает у детей мелкую моторику пальцев рук, глазомер, внимание, мышление, сообразительность, память при конструировании поделок из готовых форм, определяя расположение частей поделки, называя их и конструируя в определенной последовательности (кузов, кабина, колеса, фары, окна), фантазию и художественный вк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уже на макете появился тран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только осталось заполнить тротуары пешеходами – киндер - игрушками, лего-игрушками и в игровой форме обучать детей правилам дорожного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63272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обучать педагогов  и родителей детей поэтапному созданию макета «Наша улица» с помощью лего-конструктора и  бросового материал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313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орудование: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метка улицы, готовые конструкции домов; образцы автомобилей, для изготовления которых понадобиться: спичечные коробки, цветная бумага (готовые выкройки для самостоятельного творчества); ножницы, кисточки, клеёнки, салфетки, клей; конструкции дорожных знаков, светофора, зеленых насаждений, регулировщика, или лего-человечки, лего-дома, лего-деревья. Необходимо создать такие условия, чтобы в процессе работы не возникло недоразумений, не приходилось загромождать объяснения лишними указаниями, не относящимися к существу работы.И как известно, в каждой группе, начиная со среднего возраста, должен быть макет улицы. Этот мастер – класс расскажет, покажет и научит педагогов как можно поэтапно, совместно с детьми создать макет улицы с помощью бросового материала и лего-конструктора. Предшествующая работа такова, необходимо изготовить на листе ватмана или ДВП разметку дороги. Далее вся последующая работа может проходить совместно с детьми дома или в детском са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464000" cy="244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3816360" cy="2633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4321080" cy="3452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716360" y="2781360"/>
            <a:ext cx="403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19280" y="836280"/>
            <a:ext cx="621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 Этап. Изготовление домов из бум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мик кубической формы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амый простой способ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492360" y="1700280"/>
            <a:ext cx="2016360" cy="1515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5892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гиб (крыш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ебенку предлагается квадратный лист бумаги, расчерченный на девять равных квадратиков с выделенными линиями надрезов. Ребенок делает надрезы, сгибает по пунктирным линиям, получается куб, который оформляется в свободной форме (окна, двер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70160" y="980280"/>
            <a:ext cx="4647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м с крышей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задание усложняетс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9" descr=""/>
          <p:cNvPicPr/>
          <p:nvPr/>
        </p:nvPicPr>
        <p:blipFill>
          <a:blip r:embed="rId2"/>
          <a:stretch/>
        </p:blipFill>
        <p:spPr>
          <a:xfrm>
            <a:off x="3564000" y="1341360"/>
            <a:ext cx="1752480" cy="131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19280" y="2709000"/>
            <a:ext cx="54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гиб (кры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бенку предлагается квадратный лист бумаги, расчерченный на 16 равных квадратиков с выделенными линиями надрезов и прямоугольный лист бумаги с разметкой по горизонтали (для крыши). На квадратном листе бумаги делаются надрезы, сгибается по пунктирным линиям, складывается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дельно складывается крыша и склеивается с домом. Оформляется в свободной форме (двери, окн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33800" y="980280"/>
            <a:ext cx="613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оэтажный дом с балкон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(самый сложны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2" descr=""/>
          <p:cNvPicPr/>
          <p:nvPr/>
        </p:nvPicPr>
        <p:blipFill>
          <a:blip r:embed="rId2"/>
          <a:stretch/>
        </p:blipFill>
        <p:spPr>
          <a:xfrm>
            <a:off x="3708360" y="1413000"/>
            <a:ext cx="2049480" cy="153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71640" y="2985120"/>
            <a:ext cx="74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бенку предлагается большой лист прямоугольной формы с разметками для сгибов и надрезов. По выделенным линиям делаются надрезы, сгибается по пунктирным линиям, получается многоэтажный дом с балконами. Оформляется в произвольной форме (двери, окн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3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2881440" cy="223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4" descr=""/>
          <p:cNvPicPr/>
          <p:nvPr/>
        </p:nvPicPr>
        <p:blipFill>
          <a:blip r:embed="rId3"/>
          <a:stretch/>
        </p:blipFill>
        <p:spPr>
          <a:xfrm>
            <a:off x="5219640" y="2708280"/>
            <a:ext cx="2952720" cy="2243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24000" y="1009440"/>
            <a:ext cx="4865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дома можно устанавливать на макете «Наша улиц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 Этап. Изготовление дорожных знаков, светофора, зеленых насаждений с помощью бросового материала и карт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дручных материалов: колпачка от зубной пасты, трубочки, картона можно совместно с детьми изготовить для макета дорожные знаки, светофор, зеленые насаж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40000" y="9820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 Этап. Изготовление транспорта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росово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5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05120" cy="131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68360" y="1622160"/>
            <a:ext cx="539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 летает, не жужжит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ук по улице беж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горят в глазах ж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ва блестящих огонь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то дал завод 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огни – глядеть во ть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колеса, и мото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чался, чтоб во весь оп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автомоби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Правильно, автомоби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втомобиль-фургон изготавливается с помощью двух спичечных коробков. Необходимо спичечные коробки обклеить заготовками из цветной бумаги, из черного картона вырезать четыре колеса и приклеить их к грузов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полнить работу (окна, фары, номе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8T13:57:09Z</dcterms:created>
  <dc:creator>даня</dc:creator>
  <dc:description/>
  <dc:language>en-US</dc:language>
  <cp:lastModifiedBy>даня</cp:lastModifiedBy>
  <dcterms:modified xsi:type="dcterms:W3CDTF">2020-04-08T16:21:09Z</dcterms:modified>
  <cp:revision>4</cp:revision>
  <dc:subject/>
  <dc:title>МАКЕТ «НАША УЛИЦА»  (Конструирование из бросового материала)</dc:title>
</cp:coreProperties>
</file>