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4.wmf" ContentType="image/x-wmf"/>
  <Override PartName="/ppt/media/image23.jpeg" ContentType="image/jpe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592C-DAEE-4F06-B20C-AE833230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D47-B3D9-4857-85CD-AC4C38A8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1A9-BF60-4B5D-A4A4-1556C40A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A331-E136-40DE-826A-EB178C44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C918-D3D4-4BBB-B4F0-9EED3872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F7A1-BBD5-4CF9-A3FA-CF8224D3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DE3-FF04-4CFD-B22F-2741AD72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9BC-0DFB-4A64-A1A4-3A13D448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22AC-1C34-402F-B11B-CE53F3C1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609-B1D9-46AF-BEB3-6B84AB4A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1742-EB9D-4E3F-9994-CB073B64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F0A2-C14F-4C7A-A011-39179AEA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AAF3-5393-4689-B5DC-54BD7D8181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00"/>
                </a:solidFill>
                <a:latin typeface="Times New Roman"/>
              </a:rPr>
              <a:t>Мастер-класс </a:t>
            </a:r>
            <a:br>
              <a:rPr sz="4400"/>
            </a:br>
            <a:r>
              <a:rPr b="0" i="1" lang="ru-RU" sz="4400" spc="-1" strike="noStrike">
                <a:solidFill>
                  <a:srgbClr val="003300"/>
                </a:solidFill>
                <a:latin typeface="Times New Roman"/>
              </a:rPr>
              <a:t>«Аппликация </a:t>
            </a:r>
            <a:br>
              <a:rPr sz="4400"/>
            </a:br>
            <a:r>
              <a:rPr b="0" i="1" lang="ru-RU" sz="4400" spc="-1" strike="noStrike">
                <a:solidFill>
                  <a:srgbClr val="003300"/>
                </a:solidFill>
                <a:latin typeface="Times New Roman"/>
              </a:rPr>
              <a:t>«Бабочка из старых журналов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1619280" y="189000"/>
            <a:ext cx="5722920" cy="31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БУ ДО "Эколого-биологический центр"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4452120" y="4100400"/>
            <a:ext cx="3867120" cy="824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Автор: Корнилова Елена Юрьевн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педагог дополнительного образова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МБУ ДО Эколого-биологический цен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971640" y="333360"/>
            <a:ext cx="7848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Segoe Pri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"/>
          <p:cNvSpPr/>
          <p:nvPr/>
        </p:nvSpPr>
        <p:spPr>
          <a:xfrm>
            <a:off x="971640" y="345924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755640" y="115920"/>
            <a:ext cx="7345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Мозаика из журнальных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P1090361"/>
          <p:cNvPicPr/>
          <p:nvPr/>
        </p:nvPicPr>
        <p:blipFill>
          <a:blip r:embed="rId1"/>
          <a:stretch/>
        </p:blipFill>
        <p:spPr>
          <a:xfrm>
            <a:off x="1366920" y="3068640"/>
            <a:ext cx="1884240" cy="3409920"/>
          </a:xfrm>
          <a:prstGeom prst="rect">
            <a:avLst/>
          </a:prstGeom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8" name="Rectangle 2"/>
          <p:cNvSpPr/>
          <p:nvPr/>
        </p:nvSpPr>
        <p:spPr>
          <a:xfrm>
            <a:off x="565200" y="90360"/>
            <a:ext cx="7345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29334095574d92233d6a152dd3e71b0b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068480" y="882720"/>
            <a:ext cx="2458800" cy="2066760"/>
          </a:xfrm>
          <a:prstGeom prst="rect">
            <a:avLst/>
          </a:prstGeom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0" name="Picture 10" descr="P1060815"/>
          <p:cNvPicPr/>
          <p:nvPr/>
        </p:nvPicPr>
        <p:blipFill>
          <a:blip r:embed="rId3"/>
          <a:stretch/>
        </p:blipFill>
        <p:spPr>
          <a:xfrm>
            <a:off x="4094280" y="882720"/>
            <a:ext cx="3779640" cy="2851200"/>
          </a:xfrm>
          <a:prstGeom prst="rect">
            <a:avLst/>
          </a:prstGeom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11" descr="012-1"/>
          <p:cNvPicPr/>
          <p:nvPr/>
        </p:nvPicPr>
        <p:blipFill>
          <a:blip r:embed="rId4"/>
          <a:stretch/>
        </p:blipFill>
        <p:spPr>
          <a:xfrm>
            <a:off x="4094280" y="3908520"/>
            <a:ext cx="4086000" cy="2504880"/>
          </a:xfrm>
          <a:prstGeom prst="rect">
            <a:avLst/>
          </a:prstGeom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C:\Users\Сергей\Pictures\Рисунок1.jpg"/>
          <p:cNvPicPr/>
          <p:nvPr/>
        </p:nvPicPr>
        <p:blipFill>
          <a:blip r:embed="rId1"/>
          <a:stretch/>
        </p:blipFill>
        <p:spPr>
          <a:xfrm>
            <a:off x="5003640" y="2349360"/>
            <a:ext cx="3652920" cy="3546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900000" y="749160"/>
            <a:ext cx="7345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Monotype Corsiva"/>
              </a:rPr>
              <a:t>Бабочки подобны летающим цветкам, которые по красоте своей не сравнятся ни с одним насекомым на планете.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C:\Users\Сергей\Pictures\Рисунок1.jpg"/>
          <p:cNvPicPr/>
          <p:nvPr/>
        </p:nvPicPr>
        <p:blipFill>
          <a:blip r:embed="rId2"/>
          <a:stretch/>
        </p:blipFill>
        <p:spPr>
          <a:xfrm>
            <a:off x="347760" y="2260440"/>
            <a:ext cx="4359240" cy="37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71640" y="1341360"/>
            <a:ext cx="799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Monotype Corsiva"/>
              </a:rPr>
              <a:t>Бабочки стоят на втором месте после пчел по опылению растительного мира. На сегодняшний день выделяют около 165 тысяч видов бабочек, причем каждый год энтомологи открывают неизвестные вид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C:\Users\Сергей\Pictures\Рисунок2.jpg"/>
          <p:cNvPicPr/>
          <p:nvPr/>
        </p:nvPicPr>
        <p:blipFill>
          <a:blip r:embed="rId1"/>
          <a:stretch/>
        </p:blipFill>
        <p:spPr>
          <a:xfrm>
            <a:off x="539640" y="3429000"/>
            <a:ext cx="3519720" cy="266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Users\Сергей\Pictures\Рисунок3.jpg"/>
          <p:cNvPicPr/>
          <p:nvPr/>
        </p:nvPicPr>
        <p:blipFill>
          <a:blip r:embed="rId2"/>
          <a:stretch/>
        </p:blipFill>
        <p:spPr>
          <a:xfrm>
            <a:off x="4500720" y="3357720"/>
            <a:ext cx="3709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755640" y="1442880"/>
            <a:ext cx="799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1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Monotype Corsiva"/>
              </a:rPr>
              <a:t>В  Японии считают, что если в жилище залетит бабочка – это к счастью, поскольку она является символом всего самого светлого и хорошего в жизни. Именно поэтому многие японские праздники и шествия открываются «танцем бабочек», который символизирует радость жизн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C:\Users\Сергей\Pictures\Рисунок4.jpg"/>
          <p:cNvPicPr/>
          <p:nvPr/>
        </p:nvPicPr>
        <p:blipFill>
          <a:blip r:embed="rId1"/>
          <a:stretch/>
        </p:blipFill>
        <p:spPr>
          <a:xfrm>
            <a:off x="1258920" y="3284640"/>
            <a:ext cx="2795400" cy="2131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Users\Сергей\Pictures\Рисунок5.jpg"/>
          <p:cNvPicPr/>
          <p:nvPr/>
        </p:nvPicPr>
        <p:blipFill>
          <a:blip r:embed="rId2"/>
          <a:stretch/>
        </p:blipFill>
        <p:spPr>
          <a:xfrm>
            <a:off x="5076720" y="3305160"/>
            <a:ext cx="26766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http://1.bp.blogspot.com/-lhzFCAI5Ba0/Vd-xX0g_ONI/AAAAAAAARMM/bs1RQgne1bo/s1600/0_92dac_7058d85f_XXL.png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959200" y="2427120"/>
            <a:ext cx="2825640" cy="2060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http://img-fotki.yandex.ru/get/5604/valenta-mog.137/0_6ddd0_f9932c3e_orig.jpg"/>
          <p:cNvPicPr/>
          <p:nvPr/>
        </p:nvPicPr>
        <p:blipFill>
          <a:blip r:embed="rId2"/>
          <a:stretch/>
        </p:blipFill>
        <p:spPr>
          <a:xfrm>
            <a:off x="-36360" y="2529000"/>
            <a:ext cx="2995560" cy="248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http://4put.ru/pictures/max/50/156381.jpg"/>
          <p:cNvPicPr/>
          <p:nvPr/>
        </p:nvPicPr>
        <p:blipFill>
          <a:blip r:embed="rId3"/>
          <a:stretch/>
        </p:blipFill>
        <p:spPr>
          <a:xfrm rot="683400">
            <a:off x="4932000" y="4481280"/>
            <a:ext cx="3564000" cy="237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http://skachat-kartinki.ru/img/picture/Apr/24/fb0bb520bc076bd317b611860d4e1ca5/mini_4.jpg"/>
          <p:cNvPicPr/>
          <p:nvPr/>
        </p:nvPicPr>
        <p:blipFill>
          <a:blip r:embed="rId4">
            <a:lum contrast="6000"/>
          </a:blip>
          <a:stretch/>
        </p:blipFill>
        <p:spPr>
          <a:xfrm rot="20774400">
            <a:off x="576000" y="4352760"/>
            <a:ext cx="3514680" cy="2748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foto-babochek.ru/images/clipart-babochka_16.png"/>
          <p:cNvPicPr/>
          <p:nvPr/>
        </p:nvPicPr>
        <p:blipFill>
          <a:blip r:embed="rId5">
            <a:lum contrast="6000"/>
          </a:blip>
          <a:stretch/>
        </p:blipFill>
        <p:spPr>
          <a:xfrm rot="1049400">
            <a:off x="2641680" y="-363240"/>
            <a:ext cx="3111480" cy="2846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images.easyfreeclipart.com/771/red-butterflies-images-png-butterfly-771342.png"/>
          <p:cNvPicPr/>
          <p:nvPr/>
        </p:nvPicPr>
        <p:blipFill>
          <a:blip r:embed="rId6">
            <a:lum contrast="6000"/>
          </a:blip>
          <a:stretch/>
        </p:blipFill>
        <p:spPr>
          <a:xfrm rot="20923200">
            <a:off x="-39600" y="414000"/>
            <a:ext cx="3151080" cy="2438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img-fotki.yandex.ru/get/4120/47407354.a75/0_1112c5_1a41f0f0_orig.jpg"/>
          <p:cNvPicPr/>
          <p:nvPr/>
        </p:nvPicPr>
        <p:blipFill>
          <a:blip r:embed="rId7">
            <a:lum contrast="6000"/>
          </a:blip>
          <a:stretch/>
        </p:blipFill>
        <p:spPr>
          <a:xfrm rot="726000">
            <a:off x="5667120" y="303120"/>
            <a:ext cx="3136680" cy="2320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https://upload.wikimedia.org/wikipedia/commons/6/66/NZ_Red_Admiral_(Vanessa_gonerilla)-2_edit.jpg"/>
          <p:cNvPicPr/>
          <p:nvPr/>
        </p:nvPicPr>
        <p:blipFill>
          <a:blip r:embed="rId8"/>
          <a:stretch/>
        </p:blipFill>
        <p:spPr>
          <a:xfrm rot="889200">
            <a:off x="5387760" y="2107800"/>
            <a:ext cx="35827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3"/>
          <p:cNvSpPr/>
          <p:nvPr/>
        </p:nvSpPr>
        <p:spPr>
          <a:xfrm>
            <a:off x="1042920" y="26028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860400" y="163440"/>
            <a:ext cx="7345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Book Antiqua"/>
              </a:rPr>
              <a:t>Аппликация бабочки из журнальных страни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C:\Users\Сергей\Pictures\Рисунок2.jpg"/>
          <p:cNvPicPr/>
          <p:nvPr/>
        </p:nvPicPr>
        <p:blipFill>
          <a:blip r:embed="rId1"/>
          <a:stretch/>
        </p:blipFill>
        <p:spPr>
          <a:xfrm>
            <a:off x="1065240" y="2924280"/>
            <a:ext cx="7232760" cy="37130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"/>
          <p:cNvSpPr/>
          <p:nvPr/>
        </p:nvSpPr>
        <p:spPr>
          <a:xfrm>
            <a:off x="860400" y="1170000"/>
            <a:ext cx="8032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лагаем сделать из старых журналов полезные вещи. Подарите журналам вторую жизнь, сделайте из них интересные поделки. Из журнальных страниц можно создать панно или даже пейзажную картину в технике мозаика и рваная аппликац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годня мы попробуем с вами сделать полуобъёмную аппликацию с бабочкой, которую потом можно оформить в рамк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684360" y="1440"/>
            <a:ext cx="7345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Book Antiqua"/>
              </a:rPr>
              <a:t>Аппликация бабочки из журнальных страни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P1100832"/>
          <p:cNvPicPr/>
          <p:nvPr/>
        </p:nvPicPr>
        <p:blipFill>
          <a:blip r:embed="rId1"/>
          <a:stretch/>
        </p:blipFill>
        <p:spPr>
          <a:xfrm>
            <a:off x="658800" y="3913200"/>
            <a:ext cx="2808360" cy="2468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P1100831"/>
          <p:cNvPicPr/>
          <p:nvPr/>
        </p:nvPicPr>
        <p:blipFill>
          <a:blip r:embed="rId2"/>
          <a:stretch/>
        </p:blipFill>
        <p:spPr>
          <a:xfrm>
            <a:off x="6434280" y="4032360"/>
            <a:ext cx="2593800" cy="2324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P1100830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594240" y="3949560"/>
            <a:ext cx="2722320" cy="2378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4"/>
          <a:stretch/>
        </p:blipFill>
        <p:spPr>
          <a:xfrm>
            <a:off x="1436760" y="961920"/>
            <a:ext cx="6270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9T06:24:15Z</dcterms:created>
  <dc:creator>Елена</dc:creator>
  <dc:description/>
  <dc:language>en-US</dc:language>
  <cp:lastModifiedBy>Сергей</cp:lastModifiedBy>
  <dcterms:modified xsi:type="dcterms:W3CDTF">2020-04-08T10:31:49Z</dcterms:modified>
  <cp:revision>36</cp:revision>
  <dc:subject/>
  <dc:title>Слайд 1</dc:title>
</cp:coreProperties>
</file>