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2210-EF26-4165-BDC0-0E52864A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F8B-56B8-4301-9548-B844625F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FB5-9C87-4D58-ACC7-C10F607C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476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476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DCF-AE87-46F2-BD97-B9080646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4525-B345-4682-91B3-44617C12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9D5B-D84B-41D9-B6A2-A33FD0B0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E515-F6F0-4F30-A236-E29D62B9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AB09-A943-4B9F-9F20-4BB4C7A3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08BA-D3FB-4A3D-8CB4-BFCA97DC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8BB3-39C5-4FE5-9E85-CB5022F3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A67B-348E-4636-86DD-BD896F69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D9B7-B544-4EAB-816A-E8A96A7D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B358-ACFF-4EAB-B74B-CB5076C2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1BEB-51D0-453F-9303-DCA72131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CF05-13D0-418C-AC85-B7432A95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8784-8C5B-4725-AAE5-55FD9727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476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9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52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476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9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33E1-6BB2-4AEF-8059-67E6B34C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9142-FD36-4502-95D5-87872C96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2A2-A40C-453F-97E0-C7106828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550-6A99-43E3-B983-B36695B3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561-3B33-440A-AC2F-CE56179B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E09D-AB7D-464C-A3A3-7877D44D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E25F-798D-4B78-9A5C-2E7B617A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475-740E-4225-B33C-4E5E7B0C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DB1A-201C-4D39-98F8-B96439E724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2A7C-5DD8-47B0-967D-F8A42B2DB2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1828440"/>
            <a:ext cx="7086600" cy="14698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ajestic"/>
              </a:rPr>
              <a:t>«</a:t>
            </a:r>
            <a:r>
              <a:rPr b="1" lang="ru-RU" sz="2800" spc="-1" strike="noStrike">
                <a:solidFill>
                  <a:srgbClr val="333399"/>
                </a:solidFill>
                <a:latin typeface="Majestic"/>
              </a:rPr>
              <a:t>Подкова из солёного теста</a:t>
            </a:r>
            <a:r>
              <a:rPr b="1" lang="ru-RU" sz="2800" spc="-1" strike="noStrike">
                <a:solidFill>
                  <a:srgbClr val="333399"/>
                </a:solidFill>
                <a:latin typeface="Majestic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0760" y="4647960"/>
            <a:ext cx="4343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рнилова Елена Юрьевна,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едагог высше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755080" y="0"/>
            <a:ext cx="5551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партамент образования администрации города Дзержин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униципальное бюджет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полните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Эколого-биологический цент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349800" y="5979960"/>
            <a:ext cx="19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зержинск,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1143000" y="2286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 давних времён подкова является сильным талисманом. Считается, что она приносит в дом счастье, удачу и богатство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ttps://cdn1.ozone.ru/multimedia/1019863310.jpg"/>
          <p:cNvPicPr/>
          <p:nvPr/>
        </p:nvPicPr>
        <p:blipFill>
          <a:blip r:embed="rId1"/>
          <a:stretch/>
        </p:blipFill>
        <p:spPr>
          <a:xfrm>
            <a:off x="457200" y="199548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s://zolotoe-pero.net/images/publish/18308.jpeg"/>
          <p:cNvPicPr/>
          <p:nvPr/>
        </p:nvPicPr>
        <p:blipFill>
          <a:blip r:embed="rId2"/>
          <a:stretch/>
        </p:blipFill>
        <p:spPr>
          <a:xfrm>
            <a:off x="4724280" y="2031840"/>
            <a:ext cx="4024440" cy="40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914400" y="228600"/>
            <a:ext cx="7924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дкова из соленого теста своими ру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ля поделки нам понадоби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. Тесто солёное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такан муки -1, стакан мелкой соли -1, Клей ПВА -1 столовая ложка, вода - 110-120 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. Лист картона для шаблона, простой карандаш, нож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3. Доска для раскатывания теста, скалка, нож, зубочис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4. Гуашь или акриловые краски, кисточки разной величины, стаканчик с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https://avatars.mds.yandex.net/get-pdb/1365671/b75dc1cf-be99-4458-9bba-afb9ea0e10d1/s1200?webp=false"/>
          <p:cNvPicPr/>
          <p:nvPr/>
        </p:nvPicPr>
        <p:blipFill>
          <a:blip r:embed="rId1"/>
          <a:stretch/>
        </p:blipFill>
        <p:spPr>
          <a:xfrm>
            <a:off x="304920" y="3871800"/>
            <a:ext cx="2641320" cy="216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https://avatars.mds.yandex.net/get-pdb/1365671/b75dc1cf-be99-4458-9bba-afb9ea0e10d1/s1200?webp=false"/>
          <p:cNvPicPr/>
          <p:nvPr/>
        </p:nvPicPr>
        <p:blipFill>
          <a:blip r:embed="rId2"/>
          <a:stretch/>
        </p:blipFill>
        <p:spPr>
          <a:xfrm>
            <a:off x="3200400" y="3876840"/>
            <a:ext cx="2590920" cy="2155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ttps://avatars.mds.yandex.net/get-pdb/1365671/b75dc1cf-be99-4458-9bba-afb9ea0e10d1/s1200?webp=false"/>
          <p:cNvPicPr/>
          <p:nvPr/>
        </p:nvPicPr>
        <p:blipFill>
          <a:blip r:embed="rId3"/>
          <a:stretch/>
        </p:blipFill>
        <p:spPr>
          <a:xfrm>
            <a:off x="5996160" y="3876840"/>
            <a:ext cx="2658960" cy="21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838080" y="38736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следовательность выпол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. Сначала изготовим шаблон подковы. Его можно скачать из интернета или нарисовать своими руками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 листе картона и вырез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. Замешиваем тесто. Для этого соединяем вместе и хорошо размешиваем муку, соль, клей ПВА, воду, её добавляем постепенно. Оно должно получиться крутым, но пластич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3. Раскатываем тесто толщиной около 1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4. Накладываем шаблон на тесто и вырезаем по нему ножич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http://files.nicwebsite.ru/rucenter58783/image/3.jpg"/>
          <p:cNvPicPr/>
          <p:nvPr/>
        </p:nvPicPr>
        <p:blipFill>
          <a:blip r:embed="rId1"/>
          <a:stretch/>
        </p:blipFill>
        <p:spPr>
          <a:xfrm>
            <a:off x="4267080" y="403848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G:\Изменения в программу 03.2020\подкова из теста\image_748861.jpg"/>
          <p:cNvPicPr/>
          <p:nvPr/>
        </p:nvPicPr>
        <p:blipFill>
          <a:blip r:embed="rId2"/>
          <a:stretch/>
        </p:blipFill>
        <p:spPr>
          <a:xfrm>
            <a:off x="533520" y="403848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609480" y="206280"/>
            <a:ext cx="815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5. На концах подковы делаем отверстия тупой стороной карандаш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6. Теперь украшаем нашу подко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жно сделать цветы и листики. Для этого раскатываем небольшую колбаску из теста, разрезаем на небольшие одинаковые части и формируем форму лепес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https://ami.guru/forum/uploads/monthly_01_2016/post-48591-0-92847000-1454143457.jpg"/>
          <p:cNvPicPr/>
          <p:nvPr/>
        </p:nvPicPr>
        <p:blipFill>
          <a:blip r:embed="rId1"/>
          <a:stretch/>
        </p:blipFill>
        <p:spPr>
          <a:xfrm>
            <a:off x="1143000" y="42069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https://cdn-nus-1.pinme.ru/tumb/600/photo/8d/47/8d474e87bbd3f8dfafddfe58fccfe2da.jpg"/>
          <p:cNvPicPr/>
          <p:nvPr/>
        </p:nvPicPr>
        <p:blipFill>
          <a:blip r:embed="rId2"/>
          <a:stretch/>
        </p:blipFill>
        <p:spPr>
          <a:xfrm>
            <a:off x="4800600" y="4191120"/>
            <a:ext cx="2633760" cy="2290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https://avatars.mds.yandex.net/get-pdb/1774534/be53f6d9-5ed2-4b90-a96d-8c317b13f71a/s1200?webp=false"/>
          <p:cNvPicPr/>
          <p:nvPr/>
        </p:nvPicPr>
        <p:blipFill>
          <a:blip r:embed="rId3"/>
          <a:stretch/>
        </p:blipFill>
        <p:spPr>
          <a:xfrm>
            <a:off x="1827360" y="2152800"/>
            <a:ext cx="2355840" cy="1760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https://podelki.org/wp-content/uploads/2018/12/Podelki-iz-testa-8.jpg"/>
          <p:cNvPicPr/>
          <p:nvPr/>
        </p:nvPicPr>
        <p:blipFill>
          <a:blip r:embed="rId4"/>
          <a:stretch/>
        </p:blipFill>
        <p:spPr>
          <a:xfrm>
            <a:off x="4800600" y="2152800"/>
            <a:ext cx="24987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1219320" y="1522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7. Когда полностью украсили подкову, оставляем её сохну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8. Последний этап-раскрашивание. Сначала красим основу, а затем цветы, листики и яг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G:\Изменения в программу 03.2020\подкова из теста\фото-45.jpg"/>
          <p:cNvPicPr/>
          <p:nvPr/>
        </p:nvPicPr>
        <p:blipFill>
          <a:blip r:embed="rId1"/>
          <a:stretch/>
        </p:blipFill>
        <p:spPr>
          <a:xfrm>
            <a:off x="466560" y="1676520"/>
            <a:ext cx="2811600" cy="3152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https://ds04.infourok.ru/uploads/ex/06f8/0019f797-b8c0e913/img9.jpg"/>
          <p:cNvPicPr/>
          <p:nvPr/>
        </p:nvPicPr>
        <p:blipFill>
          <a:blip r:embed="rId2"/>
          <a:stretch/>
        </p:blipFill>
        <p:spPr>
          <a:xfrm>
            <a:off x="5943600" y="1676520"/>
            <a:ext cx="2658960" cy="3068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https://ds04.infourok.ru/uploads/ex/06f8/0019f797-b8c0e913/img9.jpg"/>
          <p:cNvPicPr/>
          <p:nvPr/>
        </p:nvPicPr>
        <p:blipFill>
          <a:blip r:embed="rId3"/>
          <a:stretch/>
        </p:blipFill>
        <p:spPr>
          <a:xfrm>
            <a:off x="3352680" y="4038480"/>
            <a:ext cx="25257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143000" y="2286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9. Когда краска полностью высохнет продеваем в дырочки крепкую ленточку или тесьму, чтобы можно было повес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http://062013.imgbb.ru/community/36/369623/43a795507c6be7f5901f57feafb12bb4.jpg"/>
          <p:cNvPicPr/>
          <p:nvPr/>
        </p:nvPicPr>
        <p:blipFill>
          <a:blip r:embed="rId1"/>
          <a:stretch/>
        </p:blipFill>
        <p:spPr>
          <a:xfrm>
            <a:off x="838080" y="1752480"/>
            <a:ext cx="3249720" cy="432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https://tytmaster.ru/wp-content/uploads/2019/02/Podelki-iz-solenogo-testa-48.jpg"/>
          <p:cNvPicPr/>
          <p:nvPr/>
        </p:nvPicPr>
        <p:blipFill>
          <a:blip r:embed="rId2"/>
          <a:stretch/>
        </p:blipFill>
        <p:spPr>
          <a:xfrm>
            <a:off x="4381560" y="1798560"/>
            <a:ext cx="395424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G:\960aa6a0a1ebd6f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828800" y="1828800"/>
            <a:ext cx="6269040" cy="4476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«Творческих успехов!»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20-04-08T09:07:43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