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B9C-8E57-4B24-8A62-4B1A3D60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B87-EB70-4438-8075-DE55D079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A8D-3546-4CC0-AD11-5EE384B3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6C1-8099-4447-AA29-034FEA47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453-F990-4EBA-86E1-A3CA207A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F6B-FA76-4873-83EB-33B9AF4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362-E505-48A4-B130-24CBA3FD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844-50EF-44ED-A4C1-9215E078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E42-1A2E-41E4-8D64-CCD73267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B9F-8705-4053-9F4C-D0680E47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535-CCCA-4511-8103-FA766101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879-521A-41BB-BCBC-76F03174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F66F-60B7-42B1-BC7C-38FE3DB155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00"/>
                </a:solidFill>
                <a:latin typeface="Times New Roman"/>
              </a:rPr>
              <a:t>Мастер-класс </a:t>
            </a:r>
            <a:br>
              <a:rPr sz="4400"/>
            </a:br>
            <a:r>
              <a:rPr b="0" i="1" lang="ru-RU" sz="4400" spc="-1" strike="noStrike">
                <a:solidFill>
                  <a:srgbClr val="003300"/>
                </a:solidFill>
                <a:latin typeface="Times New Roman"/>
              </a:rPr>
              <a:t>Рамка из журнальных трубоч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619280" y="189000"/>
            <a:ext cx="5722920" cy="31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БУ ДО "Эколого-биологический центр"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452120" y="4100400"/>
            <a:ext cx="3867120" cy="82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Автор: Корнилова Елена Юрье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едагог дополнительного образов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МБУ ДО Эколого-би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971640" y="2585880"/>
            <a:ext cx="799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Предлагаем сделать из старых журналов полезные вещи. Подарите журналам вторую жизнь, сделайте из них интересные поделки. Из журнальных страниц можно создать панно или даже пейзажную картину в технике мозаика и рваная апплик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Но можно создавать и полуобъемные и объемные оригинальные яркие работы из журнальных трубоч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Рамка для фотографии изготавливается из глянцевых журналов, страницы которых скручиваются в трубочки. Готовые трубочки приклеиваются на картонную основ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971640" y="333360"/>
            <a:ext cx="7848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Segoe Pri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971640" y="34592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55640" y="115920"/>
            <a:ext cx="7345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Мозаика из журнальных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P1090361"/>
          <p:cNvPicPr/>
          <p:nvPr/>
        </p:nvPicPr>
        <p:blipFill>
          <a:blip r:embed="rId1"/>
          <a:stretch/>
        </p:blipFill>
        <p:spPr>
          <a:xfrm>
            <a:off x="1366920" y="3068640"/>
            <a:ext cx="1884240" cy="340992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Rectangle 2"/>
          <p:cNvSpPr/>
          <p:nvPr/>
        </p:nvSpPr>
        <p:spPr>
          <a:xfrm>
            <a:off x="565200" y="90360"/>
            <a:ext cx="7345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29334095574d92233d6a152dd3e71b0b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068480" y="882720"/>
            <a:ext cx="2458800" cy="206676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10" descr="P1060815"/>
          <p:cNvPicPr/>
          <p:nvPr/>
        </p:nvPicPr>
        <p:blipFill>
          <a:blip r:embed="rId3"/>
          <a:stretch/>
        </p:blipFill>
        <p:spPr>
          <a:xfrm>
            <a:off x="4094280" y="882720"/>
            <a:ext cx="3779640" cy="285120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Picture 11" descr="012-1"/>
          <p:cNvPicPr/>
          <p:nvPr/>
        </p:nvPicPr>
        <p:blipFill>
          <a:blip r:embed="rId4"/>
          <a:stretch/>
        </p:blipFill>
        <p:spPr>
          <a:xfrm>
            <a:off x="4094280" y="3908520"/>
            <a:ext cx="4086000" cy="250488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1090359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435640" y="3284640"/>
            <a:ext cx="2155680" cy="273672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Picture 5" descr="1"/>
          <p:cNvPicPr/>
          <p:nvPr/>
        </p:nvPicPr>
        <p:blipFill>
          <a:blip r:embed="rId2"/>
          <a:stretch/>
        </p:blipFill>
        <p:spPr>
          <a:xfrm>
            <a:off x="1187280" y="3284640"/>
            <a:ext cx="2305080" cy="273672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Picture 6" descr="44198637_3486c233b11e"/>
          <p:cNvPicPr/>
          <p:nvPr/>
        </p:nvPicPr>
        <p:blipFill>
          <a:blip r:embed="rId3"/>
          <a:stretch/>
        </p:blipFill>
        <p:spPr>
          <a:xfrm>
            <a:off x="971640" y="404640"/>
            <a:ext cx="2519280" cy="244800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7" descr="pDPTGZIDbHk"/>
          <p:cNvPicPr/>
          <p:nvPr/>
        </p:nvPicPr>
        <p:blipFill>
          <a:blip r:embed="rId4"/>
          <a:stretch/>
        </p:blipFill>
        <p:spPr>
          <a:xfrm>
            <a:off x="5435640" y="404640"/>
            <a:ext cx="2448000" cy="244800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Rectangle 12"/>
          <p:cNvSpPr/>
          <p:nvPr/>
        </p:nvSpPr>
        <p:spPr>
          <a:xfrm>
            <a:off x="468360" y="2637000"/>
            <a:ext cx="799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61f1e"/>
                </a:solidFill>
                <a:latin typeface="Times New Roman"/>
              </a:rPr>
              <a:t>Шторки и бусы из журнальных поло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250920" y="5805360"/>
            <a:ext cx="831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561f1e"/>
                </a:solidFill>
                <a:latin typeface="Times New Roman"/>
              </a:rPr>
              <a:t>Карандашница и ёлка из журнальных трубоч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Рамки из журнальных труб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Porta-retrato-artesanal-001"/>
          <p:cNvPicPr/>
          <p:nvPr/>
        </p:nvPicPr>
        <p:blipFill>
          <a:blip r:embed="rId1"/>
          <a:stretch/>
        </p:blipFill>
        <p:spPr>
          <a:xfrm>
            <a:off x="5508720" y="3716280"/>
            <a:ext cx="2130480" cy="266544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Picture 5" descr="76feefb141cbf4dd876c10ff58b43e93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491080" y="1254240"/>
            <a:ext cx="2165400" cy="230328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Picture 6" descr="0000000626"/>
          <p:cNvPicPr/>
          <p:nvPr/>
        </p:nvPicPr>
        <p:blipFill>
          <a:blip r:embed="rId3"/>
          <a:stretch/>
        </p:blipFill>
        <p:spPr>
          <a:xfrm>
            <a:off x="1332000" y="3716280"/>
            <a:ext cx="3600360" cy="270036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" name="Picture 8" descr="1928_6"/>
          <p:cNvPicPr/>
          <p:nvPr/>
        </p:nvPicPr>
        <p:blipFill>
          <a:blip r:embed="rId4"/>
          <a:stretch/>
        </p:blipFill>
        <p:spPr>
          <a:xfrm>
            <a:off x="1365120" y="1170000"/>
            <a:ext cx="2952720" cy="228276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4"/>
          <p:cNvSpPr/>
          <p:nvPr/>
        </p:nvSpPr>
        <p:spPr>
          <a:xfrm>
            <a:off x="900000" y="189000"/>
            <a:ext cx="705672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Monotype Corsiva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Monotype Corsiva"/>
              </a:rPr>
              <a:t>«Рамка из журнальных страниц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Материал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старые журна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карто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клей ПВА или клей-карандаш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Инструмен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линей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карандаш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спицы или деревянные шпаж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28" descr="P1090384"/>
          <p:cNvPicPr/>
          <p:nvPr/>
        </p:nvPicPr>
        <p:blipFill>
          <a:blip r:embed="rId1">
            <a:lum contrast="6000"/>
          </a:blip>
          <a:srcRect l="11728" t="11122" r="11207" b="10082"/>
          <a:stretch/>
        </p:blipFill>
        <p:spPr>
          <a:xfrm>
            <a:off x="1042920" y="3789360"/>
            <a:ext cx="3600360" cy="2573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9" descr="P1090374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788000" y="3789360"/>
            <a:ext cx="31687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P109036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42920" y="1197000"/>
            <a:ext cx="244944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P1090372"/>
          <p:cNvPicPr/>
          <p:nvPr/>
        </p:nvPicPr>
        <p:blipFill>
          <a:blip r:embed="rId2"/>
          <a:srcRect l="7126" t="10098" r="0" b="0"/>
          <a:stretch/>
        </p:blipFill>
        <p:spPr>
          <a:xfrm>
            <a:off x="4356000" y="119700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1042920" y="27288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Скрутить на деревянной шпажке страницу из журнала, поклеить уголок, вынуть шпаж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8" descr="P1090385"/>
          <p:cNvPicPr/>
          <p:nvPr/>
        </p:nvPicPr>
        <p:blipFill>
          <a:blip r:embed="rId3"/>
          <a:srcRect l="15268" t="0" r="0" b="0"/>
          <a:stretch/>
        </p:blipFill>
        <p:spPr>
          <a:xfrm>
            <a:off x="1077840" y="4653000"/>
            <a:ext cx="277812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P1090373"/>
          <p:cNvPicPr/>
          <p:nvPr/>
        </p:nvPicPr>
        <p:blipFill>
          <a:blip r:embed="rId4"/>
          <a:srcRect l="4156" t="8841" r="12253" b="0"/>
          <a:stretch/>
        </p:blipFill>
        <p:spPr>
          <a:xfrm>
            <a:off x="4346640" y="4629240"/>
            <a:ext cx="3249720" cy="2124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1042920" y="345276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 В листе картона наметить по линейке и вырезать место для будущей фотограф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обрать наиболее яркие по цвету трубоч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P1090382"/>
          <p:cNvPicPr/>
          <p:nvPr/>
        </p:nvPicPr>
        <p:blipFill>
          <a:blip r:embed="rId1"/>
          <a:srcRect l="4591" t="0" r="7965" b="0"/>
          <a:stretch/>
        </p:blipFill>
        <p:spPr>
          <a:xfrm>
            <a:off x="900000" y="2492280"/>
            <a:ext cx="3384720" cy="3313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P1090387"/>
          <p:cNvPicPr/>
          <p:nvPr/>
        </p:nvPicPr>
        <p:blipFill>
          <a:blip r:embed="rId2"/>
          <a:srcRect l="12515" t="10195" r="0" b="0"/>
          <a:stretch/>
        </p:blipFill>
        <p:spPr>
          <a:xfrm>
            <a:off x="4427640" y="2492280"/>
            <a:ext cx="4308480" cy="3313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900000" y="476280"/>
            <a:ext cx="77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. Выбранные трубочки приклеить на од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орону рам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ложить трубочки к другой стороне, подрезать неровности, прикле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99374347_4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2060640"/>
            <a:ext cx="3456000" cy="323532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7" name="Прямоугольник 4"/>
          <p:cNvSpPr/>
          <p:nvPr/>
        </p:nvSpPr>
        <p:spPr>
          <a:xfrm>
            <a:off x="1258920" y="3333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. Готовую рамку можно покрыть лаком. Проверьте результ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аша рамка готов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1928_6"/>
          <p:cNvPicPr/>
          <p:nvPr/>
        </p:nvPicPr>
        <p:blipFill>
          <a:blip r:embed="rId2"/>
          <a:stretch/>
        </p:blipFill>
        <p:spPr>
          <a:xfrm>
            <a:off x="4859280" y="2060640"/>
            <a:ext cx="3745080" cy="323532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Сергей</cp:lastModifiedBy>
  <dcterms:modified xsi:type="dcterms:W3CDTF">2020-04-08T10:49:49Z</dcterms:modified>
  <cp:revision>39</cp:revision>
  <dc:subject/>
  <dc:title>Слайд 1</dc:title>
</cp:coreProperties>
</file>