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3A8-C386-4EA4-9FAB-18F1DA13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94D-4A72-4EE2-8D36-F40AFD0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AA1-4A8C-4A6F-835A-1B387C2D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6B0-2059-4D37-B483-FAA59014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DD15-2511-4410-A04E-03ED85E7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DF7-EA49-43E2-8D05-498B106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E8B4-7F04-4DF5-9ADC-6B0F5ECE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F1EA-839E-4DD5-AB1E-A4F2AA0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0E0A-0EFA-4056-AC18-768128E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3857-5978-4C35-8856-6E41071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6562-A3F5-4FC3-B0E6-7613BF5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C1A-7A7C-407C-82ED-1A472575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9E8B-B85A-4763-A610-F76551A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A60-A1FB-48DA-AC04-44F1D41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9A2D-D3D9-4C3E-A629-8791D2D7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6351-3ADE-4221-BA0B-FC90C05C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0902-BC80-42FF-9BC8-089E45B3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F86-5563-4FE2-81E1-08B01BB6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D00-8BED-4290-ABA8-7BFE3263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0CF-F2AE-4326-A064-1B44AF18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BCB-B8F7-4F12-9565-51EC6A6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01B-D105-46A4-8155-07A8B6B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325-2092-4BAE-BA50-5B85326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941-5E5F-44B9-A71D-634A975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995-3B28-4F72-873A-AFB860BB6F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049-39E3-4527-9CC3-EE286C012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от, кто не знает математики, не может изучить другие науки и не может познать мир.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жер Бэк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6 нояб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ахождение неизвестного слагаем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лишнее слово в каждом столби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556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лагаемое                             сум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меньшаемое                       раз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читаемое                         произвед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ожитель                          част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венство                            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1" dur="indefinite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5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Уравнение – равенство с переменной, значение которой надо най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Решите уравне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Х+21=30                    Х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=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–Х=27                     540:Х=9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решения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1403280" y="2133720"/>
            <a:ext cx="6553440" cy="5745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ь неизвестный компонент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332000" y="3141720"/>
            <a:ext cx="655308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ить правило его нах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403280" y="4221000"/>
            <a:ext cx="655344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ть действие и получить 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403280" y="5300640"/>
            <a:ext cx="648180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елать проверку (устно или письмен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42764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427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42764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442764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+10+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5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+5=10+10+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763640" y="3645000"/>
            <a:ext cx="2665440" cy="71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859280" y="3645000"/>
            <a:ext cx="2592360" cy="71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124000" y="4149720"/>
            <a:ext cx="4967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843280" y="3716280"/>
            <a:ext cx="576360" cy="433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867280" y="3716280"/>
            <a:ext cx="574920" cy="433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3203640" y="3068640"/>
            <a:ext cx="431640" cy="576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36">
                <a:moveTo>
                  <a:pt x="3600" y="0"/>
                </a:moveTo>
                <a:arcTo wR="3600" hR="3600" stAng="16200000" swAng="-5400000"/>
                <a:lnTo>
                  <a:pt x="0" y="25236"/>
                </a:lnTo>
                <a:arcTo wR="3600" hR="3600" stAng="10800000" swAng="-5400000"/>
                <a:lnTo>
                  <a:pt x="18000" y="28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348000" y="2924280"/>
            <a:ext cx="142920" cy="144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3276720" y="2781360"/>
            <a:ext cx="287280" cy="144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588000" y="3068640"/>
            <a:ext cx="432000" cy="57636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360"/>
              <a:gd name="textAreaBottom" fmla="*/ 555480 h 576360"/>
            </a:gdLst>
            <a:ahLst/>
            <a:rect l="textAreaLeft" t="textAreaTop" r="textAreaRight" b="textAreaBottom"/>
            <a:pathLst>
              <a:path w="21600" h="28812">
                <a:moveTo>
                  <a:pt x="3600" y="0"/>
                </a:moveTo>
                <a:arcTo wR="3600" hR="3600" stAng="16200000" swAng="-5400000"/>
                <a:lnTo>
                  <a:pt x="0" y="25212"/>
                </a:lnTo>
                <a:arcTo wR="3600" hR="3600" stAng="10800000" swAng="-5400000"/>
                <a:lnTo>
                  <a:pt x="18000" y="28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6732720" y="2852640"/>
            <a:ext cx="144360" cy="2160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6659640" y="2781360"/>
            <a:ext cx="287280" cy="14292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9"/>
          <p:cNvSpPr/>
          <p:nvPr/>
        </p:nvSpPr>
        <p:spPr>
          <a:xfrm>
            <a:off x="4932360" y="2708280"/>
            <a:ext cx="647640" cy="936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936720"/>
              <a:gd name="textAreaBottom" fmla="*/ 905400 h 936720"/>
            </a:gdLst>
            <a:ahLst/>
            <a:rect l="textAreaLeft" t="textAreaTop" r="textAreaRight" b="textAreaBottom"/>
            <a:pathLst>
              <a:path w="21600" h="31236">
                <a:moveTo>
                  <a:pt x="3600" y="0"/>
                </a:moveTo>
                <a:arcTo wR="3600" hR="3600" stAng="16200000" swAng="-5400000"/>
                <a:lnTo>
                  <a:pt x="0" y="27636"/>
                </a:lnTo>
                <a:arcTo wR="3600" hR="3600" stAng="10800000" swAng="-5400000"/>
                <a:lnTo>
                  <a:pt x="18000" y="3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5796000" y="2708280"/>
            <a:ext cx="647640" cy="936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936720"/>
              <a:gd name="textAreaBottom" fmla="*/ 905400 h 936720"/>
            </a:gdLst>
            <a:ahLst/>
            <a:rect l="textAreaLeft" t="textAreaTop" r="textAreaRight" b="textAreaBottom"/>
            <a:pathLst>
              <a:path w="21600" h="31236">
                <a:moveTo>
                  <a:pt x="3600" y="0"/>
                </a:moveTo>
                <a:arcTo wR="3600" hR="3600" stAng="16200000" swAng="-5400000"/>
                <a:lnTo>
                  <a:pt x="0" y="27636"/>
                </a:lnTo>
                <a:arcTo wR="3600" hR="3600" stAng="10800000" swAng="-5400000"/>
                <a:lnTo>
                  <a:pt x="18000" y="31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5148360" y="2565360"/>
            <a:ext cx="215640" cy="144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6012000" y="2565360"/>
            <a:ext cx="215640" cy="14292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5076720" y="2421000"/>
            <a:ext cx="358920" cy="144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5940360" y="2421000"/>
            <a:ext cx="360360" cy="144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5"/>
          <p:cNvSpPr/>
          <p:nvPr/>
        </p:nvSpPr>
        <p:spPr>
          <a:xfrm>
            <a:off x="1908000" y="2349360"/>
            <a:ext cx="1081440" cy="1295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2268360" y="2060640"/>
            <a:ext cx="360720" cy="288720"/>
          </a:xfrm>
          <a:custGeom>
            <a:avLst/>
            <a:gdLst>
              <a:gd name="textAreaLeft" fmla="*/ 74880 w 360720"/>
              <a:gd name="textAreaRight" fmla="*/ 285840 w 360720"/>
              <a:gd name="textAreaTop" fmla="*/ 60120 h 288720"/>
              <a:gd name="textAreaBottom" fmla="*/ 228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лгоритм решения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403280" y="2133720"/>
            <a:ext cx="6553440" cy="5745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ить неизвестный компонент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32000" y="3141720"/>
            <a:ext cx="655308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ить правило его нах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403280" y="4221000"/>
            <a:ext cx="655344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ть действие и получить от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403280" y="5300640"/>
            <a:ext cx="6481800" cy="57636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елать проверку (устно или письменн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442764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4427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2764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442764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332000" y="1125360"/>
            <a:ext cx="6624720" cy="57492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 значение числового 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2764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ить уравн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+15=68:2                         24+Х=79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+78=97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+78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100–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=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2+78=97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26 нояб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835280" y="3716280"/>
            <a:ext cx="5689440" cy="720720"/>
          </a:xfrm>
          <a:prstGeom prst="rect">
            <a:avLst/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яснить выражения, составленные по условию 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ригада укладчиков должна была уложить 100 км железной дороги за месяц. За первую декаду (10 дней) бригада уложила 30 км пути, за вторую– 36 к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0-30                    30+36                     36-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0-(30+36)              30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Шифров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    350–35                         Е     810:9+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   450: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А    415–150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 246+123                       О    120+300: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540+53                         Е     7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–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  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 и расположи полученные ответы в порядке уменьш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Шифров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    350–35=315           Е     810:9+45=1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   450: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=250           А    415–150:3=3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 246+123=369         О    120+300:6=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540+53=593            Е     7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–40=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  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=2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3   369   365   315   250   240   210   170   1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Л       А      Г      А      Е      М       О     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989000"/>
          <a:ext cx="8062920" cy="2384640"/>
        </p:xfrm>
        <a:graphic>
          <a:graphicData uri="http://schemas.openxmlformats.org/drawingml/2006/table">
            <a:tbl>
              <a:tblPr/>
              <a:tblGrid>
                <a:gridCol w="2733840"/>
                <a:gridCol w="865080"/>
                <a:gridCol w="863640"/>
                <a:gridCol w="846000"/>
                <a:gridCol w="919080"/>
                <a:gridCol w="917640"/>
                <a:gridCol w="917640"/>
              </a:tblGrid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981080"/>
          <a:ext cx="7846920" cy="2384640"/>
        </p:xfrm>
        <a:graphic>
          <a:graphicData uri="http://schemas.openxmlformats.org/drawingml/2006/table">
            <a:tbl>
              <a:tblPr/>
              <a:tblGrid>
                <a:gridCol w="2660760"/>
                <a:gridCol w="841320"/>
                <a:gridCol w="841320"/>
                <a:gridCol w="824040"/>
                <a:gridCol w="893520"/>
                <a:gridCol w="893880"/>
                <a:gridCol w="89208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г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05:16Z</dcterms:created>
  <dc:creator>OLGA</dc:creator>
  <dc:description/>
  <dc:language>en-US</dc:language>
  <cp:lastModifiedBy>User</cp:lastModifiedBy>
  <dcterms:modified xsi:type="dcterms:W3CDTF">2020-04-08T16:41:1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