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1B9-2805-4DC4-B526-67B3EC2B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9DF-7447-44CF-9849-DBBB87FC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0E5-2CDB-4789-AFC5-8DD4DDBC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6D4A-B347-47EC-A2BF-325077C1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2248-B7A4-4C22-A943-C06B2A76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F8C5-2684-4E51-A3D1-138D0A0C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20E3-3794-4680-9641-81BD6654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97BE-346C-4FCB-BF33-4F890289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47D4-34FD-43FB-83C3-CDCB3605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2F0E-790A-4338-8DAB-FC0BB5E0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7590-3F98-4712-B5B1-AED2F18A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ED5-932B-4F9C-9B59-BF81DAAD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A718-8E71-4B44-9BD2-5B3F7B91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3CA7-FD03-4564-A326-E78E111E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19D6-D49E-481B-AAE6-3EBB9DCA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BE09-9593-4E44-AF91-6B1A76C0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3F73-D321-4442-87C2-BCB577C5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804CF-6269-4611-9CF3-E0D9730A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D5065-33AF-4CA7-9A93-B5466B30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89FD4-7EAC-4493-BD29-F0F1B65E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0F243-BCBA-4CAF-8E13-967D8F97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4D4F3-6285-4487-A1CF-294C07EE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C7D-0B5A-4C76-A5AE-756E9641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6A78-E9E8-4CE7-810E-EA7E6DF1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0814B-A784-4780-9890-86C4FA26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B6623-608E-4ED9-8ECC-E0DE0D97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6A1B6-C0BC-4F1F-A9CD-9160CC86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C940-F926-439F-88CC-F15C2D32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31876-1A1E-45C7-88DD-4B3641FA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2C9B3-41BE-4C51-9961-EBF93A56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9ADF6-FCD7-4FC5-BCAF-B3FE9F25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6A152-8934-4BC0-A84F-36B7152A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27F80-F0BB-467D-BDEA-1E73BE93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AA9-E77D-4DB3-928C-DF2E90DB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4B08F-9E21-4491-9853-6805D787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AC4F0-5123-43A3-9369-A9360B6B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81DDF-AF84-4CFC-A2FA-2CB4C57C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03C48-BF66-4AE6-A399-E413842D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76BC5-FE31-4122-91E7-30E8B226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6C921-8E89-4A72-80C5-9088F95D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17BBE-BEC5-4CA0-876C-08CEB989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0D059-3646-4F0E-9EBD-16926140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A836E-4CAF-47C4-BDF7-377AE3EB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7F4DF-F0B2-4B12-BC49-3B36E9D9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970-D61F-47D8-9E70-C999E8CF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69A92-D31D-4C64-9F4E-B69650B4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90ED5-442D-4A71-892D-777E2575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33E78-3D07-428D-9106-ECA58D98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D287F-541C-4697-BC2E-1952440A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3EFE6-EA06-4A46-B4CC-83A3FCA0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B628E-A38A-4B02-8C90-E61C7F49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5BA77-104D-4C4A-BD52-3C364ECB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9DF30-3846-4FC4-BE98-960B450D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2F54B-843C-4070-82C7-D3ED46F1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72627-613E-4F54-AE6E-656676AD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2EC-7882-4679-8752-676EC230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E48E3-391F-442F-895F-3C05A175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B5511-A259-44E0-B2EE-F22F0BF3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CE2E5-1631-4C32-834F-2D8DFB2E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6FD99-705A-432B-8A86-4BFA34C4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B1BE5-D3A7-4749-950C-077262D6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E113A-8285-4374-BB8B-CFCC9C6D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F3828-CE71-42DA-B62E-E0C5CCED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57F77-57CE-4FEA-96E5-CACCEB99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7A1D6-EB2A-463A-8DFC-8BEF482C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3DA53-1515-4FBD-B116-9BA139A8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BFB-8BA1-4C4A-8B31-6EE95D11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DA6F4-64A7-4A14-9AE2-48375D89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DBEEC-DAC2-4684-B330-0F4C7E36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1336B-DBE5-468C-B5A1-722FEDAB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51C2-CCB1-4E36-A7D2-8E002041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56C-CAF5-4FB8-B87C-1A148DDD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A005-A33D-4820-9FB1-2C7E5C7C3E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4579-D5C4-4E6C-811F-B72282E495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AC00-B196-47D9-AD6C-45DDA05079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D213-620F-47C0-8048-34B440BEDF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A7A0-C96F-480C-BC8D-C0B5959944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43F5-7911-4F96-A674-CD4B488338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2771640" y="2060640"/>
            <a:ext cx="541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епредельные углеводороды: этиле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268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2771280" y="620640"/>
            <a:ext cx="5185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Непредельные углеводороды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mbria"/>
              </a:rPr>
              <a:t> </a:t>
            </a:r>
            <a:r>
              <a:rPr b="0" lang="ru-RU" sz="4000" spc="-1" strike="noStrike">
                <a:solidFill>
                  <a:srgbClr val="376092"/>
                </a:solidFill>
                <a:latin typeface="Cambria"/>
              </a:rPr>
              <a:t>олефины    (маслородный)</a:t>
            </a:r>
            <a:endParaRPr b="0" lang="en-US" sz="4000" spc="-1" strike="noStrike">
              <a:solidFill>
                <a:srgbClr val="376092"/>
              </a:solidFill>
              <a:latin typeface="Cambr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Cambria"/>
              </a:rPr>
              <a:t>Алкены</a:t>
            </a:r>
            <a:endParaRPr b="0" lang="en-US" sz="40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1860 г. 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А. М. Бутлеров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установил, что в этилене   на два атома углерода приходится четыре атома водорода.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</p:txBody>
      </p:sp>
      <p:pic>
        <p:nvPicPr>
          <p:cNvPr id="279" name="Picture 2" descr="https://im2-tub-ru.yandex.net/i?id=bd94aa063ab9eb93394894d587d433ae&amp;n=33&amp;h=215&amp;w=172"/>
          <p:cNvPicPr/>
          <p:nvPr/>
        </p:nvPicPr>
        <p:blipFill>
          <a:blip r:embed="rId3"/>
          <a:stretch/>
        </p:blipFill>
        <p:spPr>
          <a:xfrm>
            <a:off x="4932360" y="1844640"/>
            <a:ext cx="316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https://d5k6iufjynyu8.cloudfront.net/uploads/qyram-1430122248-Ethylene-Market-Research-Report.png"/>
          <p:cNvPicPr/>
          <p:nvPr/>
        </p:nvPicPr>
        <p:blipFill>
          <a:blip r:embed="rId1"/>
          <a:stretch/>
        </p:blipFill>
        <p:spPr>
          <a:xfrm>
            <a:off x="250920" y="333360"/>
            <a:ext cx="878508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Гомологический ряд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26960" indent="-426960">
              <a:spcBef>
                <a:spcPts val="799"/>
              </a:spcBef>
              <a:buClr>
                <a:srgbClr val="376092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этилен (международное название — эт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ен</a:t>
            </a: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)                                          СН</a:t>
            </a:r>
            <a:r>
              <a:rPr b="1" lang="ru-RU" sz="32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=СН</a:t>
            </a:r>
            <a:r>
              <a:rPr b="1" lang="ru-RU" sz="32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marL="426960" indent="-426960">
              <a:spcBef>
                <a:spcPts val="499"/>
              </a:spcBef>
              <a:buClr>
                <a:srgbClr val="376092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пропилен ( международное название – проп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ен</a:t>
            </a: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)                                  СН</a:t>
            </a:r>
            <a:r>
              <a:rPr b="1" lang="ru-RU" sz="32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=СН      СН</a:t>
            </a:r>
            <a:r>
              <a:rPr b="1" lang="ru-RU" sz="2000" spc="-1" strike="noStrike">
                <a:solidFill>
                  <a:srgbClr val="376092"/>
                </a:solidFill>
                <a:latin typeface="Cambria"/>
              </a:rPr>
              <a:t>3</a:t>
            </a:r>
            <a:endParaRPr b="0" lang="en-US" sz="2000" spc="-1" strike="noStrike">
              <a:solidFill>
                <a:srgbClr val="376092"/>
              </a:solidFill>
              <a:latin typeface="Cambria"/>
            </a:endParaRPr>
          </a:p>
          <a:p>
            <a:pPr marL="426960" indent="-426960">
              <a:spcBef>
                <a:spcPts val="799"/>
              </a:spcBef>
              <a:buClr>
                <a:srgbClr val="376092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Запишите 2 последующих  у/ в .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marL="426960" indent="-42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( С</a:t>
            </a:r>
            <a:r>
              <a:rPr b="1" lang="ru-RU" sz="2400" spc="-1" strike="noStrike">
                <a:solidFill>
                  <a:srgbClr val="376092"/>
                </a:solidFill>
                <a:latin typeface="Cambria"/>
              </a:rPr>
              <a:t>4, </a:t>
            </a: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С</a:t>
            </a:r>
            <a:r>
              <a:rPr b="1" lang="ru-RU" sz="2400" spc="-1" strike="noStrike">
                <a:solidFill>
                  <a:srgbClr val="376092"/>
                </a:solidFill>
                <a:latin typeface="Cambria"/>
              </a:rPr>
              <a:t>5</a:t>
            </a: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). Назовите их.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marL="426960" indent="-42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4. Составьте общую формулу класса алкенов.          </a:t>
            </a:r>
            <a:r>
              <a:rPr b="1" lang="en-US" sz="3200" spc="-1" strike="noStrike">
                <a:solidFill>
                  <a:srgbClr val="376092"/>
                </a:solidFill>
                <a:latin typeface="Cambria"/>
              </a:rPr>
              <a:t>                                  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marL="426960" indent="-42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mbria"/>
              </a:rPr>
              <a:t>                                                                   </a:t>
            </a:r>
            <a:r>
              <a:rPr b="1" lang="en-US" sz="3200" spc="-1" strike="noStrike">
                <a:solidFill>
                  <a:srgbClr val="376092"/>
                </a:solidFill>
                <a:latin typeface="Cambria"/>
              </a:rPr>
              <a:t>CnH</a:t>
            </a:r>
            <a:r>
              <a:rPr b="1" lang="en-US" sz="2400" spc="-1" strike="noStrike">
                <a:solidFill>
                  <a:srgbClr val="376092"/>
                </a:solidFill>
                <a:latin typeface="Cambria"/>
              </a:rPr>
              <a:t>2</a:t>
            </a:r>
            <a:r>
              <a:rPr b="1" lang="en-US" sz="3200" spc="-1" strike="noStrike">
                <a:solidFill>
                  <a:srgbClr val="376092"/>
                </a:solidFill>
                <a:latin typeface="Cambria"/>
              </a:rPr>
              <a:t>n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83" name="Прямая соединительная линия 4"/>
          <p:cNvSpPr/>
          <p:nvPr/>
        </p:nvSpPr>
        <p:spPr>
          <a:xfrm>
            <a:off x="7164360" y="3716280"/>
            <a:ext cx="28728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Сделайте вывод: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Cambria"/>
              </a:rPr>
              <a:t>Как отличается состав этиленового углеводорода от состава предельного с тем же числом углеродных атомов?</a:t>
            </a: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mbria"/>
              </a:rPr>
              <a:t>    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Алкан → алкен + Н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endParaRPr b="0" lang="en-US" sz="66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76092"/>
                </a:solidFill>
                <a:latin typeface="Cambria"/>
              </a:rPr>
              <a:t>(дегидрирование)</a:t>
            </a:r>
            <a:endParaRPr b="0" lang="en-US" sz="66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Изомерия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mbria"/>
              </a:rPr>
              <a:t>Вспомните определение явления изомерии и поясните его на примере бутана.</a:t>
            </a:r>
            <a:endParaRPr b="0" lang="en-US" sz="3600" spc="-1" strike="noStrike">
              <a:solidFill>
                <a:srgbClr val="376092"/>
              </a:solidFill>
              <a:latin typeface="Cambria"/>
            </a:endParaRPr>
          </a:p>
        </p:txBody>
      </p:sp>
      <p:pic>
        <p:nvPicPr>
          <p:cNvPr id="290" name="Picture 2" descr="http://compendium.su/chemistry/9klas_1/9klas_1.files/image309.jpg"/>
          <p:cNvPicPr/>
          <p:nvPr/>
        </p:nvPicPr>
        <p:blipFill>
          <a:blip r:embed="rId2"/>
          <a:stretch/>
        </p:blipFill>
        <p:spPr>
          <a:xfrm>
            <a:off x="385920" y="1773360"/>
            <a:ext cx="81468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Изомерия алкена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2" name="Picture 2" descr="http://compendium.su/chemistry/9klas_1/9klas_1.files/image311.jpg"/>
          <p:cNvPicPr/>
          <p:nvPr/>
        </p:nvPicPr>
        <p:blipFill>
          <a:blip r:embed="rId1"/>
          <a:stretch/>
        </p:blipFill>
        <p:spPr>
          <a:xfrm>
            <a:off x="250920" y="2205000"/>
            <a:ext cx="8713800" cy="30243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1"/>
          <p:cNvSpPr/>
          <p:nvPr/>
        </p:nvSpPr>
        <p:spPr>
          <a:xfrm>
            <a:off x="1692360" y="5805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е виды изомерии определи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Закрепление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1.Выпишите отдельно формулы предельных и этиленовых углеводородов и назовите вещества: 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algn="just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С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5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Н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10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; С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Н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;СН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4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;С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Н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6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; С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3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Н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4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;C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4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H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10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;С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Н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; C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6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H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6</a:t>
            </a:r>
            <a:endParaRPr b="0" lang="en-US" sz="66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епредельный углеводород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Calibri"/>
              </a:rPr>
              <a:t>Предположите,в какие реакции будут вступать непредельные углеводороды.</a:t>
            </a: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Вспомним: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76092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mbria"/>
              </a:rPr>
              <a:t>Что изучает органическая химия?</a:t>
            </a:r>
            <a:endParaRPr b="0" lang="en-US" sz="40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mbria"/>
              </a:rPr>
              <a:t>-  Что такое органические вещества?</a:t>
            </a:r>
            <a:endParaRPr b="0" lang="en-US" sz="40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mbria"/>
              </a:rPr>
              <a:t>-  Какой класс веществ вами изучен?</a:t>
            </a:r>
            <a:endParaRPr b="0" lang="en-US" sz="40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рименение этилена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mbria"/>
              </a:rPr>
              <a:t>В 1938 г. в России (тогда — в Советском Союзе) вступил в строй первый завод по производству полиэтилена.</a:t>
            </a:r>
            <a:endParaRPr b="0" lang="en-US" sz="40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01" name="Picture 4" descr="http://900igr.net/up/datas/175227/017.jpg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Д/з: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аполните сравнительную таблицу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95280" y="1052640"/>
          <a:ext cx="8435880" cy="5752800"/>
        </p:xfrm>
        <a:graphic>
          <a:graphicData uri="http://schemas.openxmlformats.org/drawingml/2006/table">
            <a:tbl>
              <a:tblPr/>
              <a:tblGrid>
                <a:gridCol w="1959120"/>
                <a:gridCol w="3411360"/>
                <a:gridCol w="3065400"/>
              </a:tblGrid>
              <a:tr h="639720"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характеристики классов органических вещ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лка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сыщенные углеводороды только одинарная связь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лке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Ненасыщенные углеводороды с двойной связью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7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ая формула кл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n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стейший предста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метан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72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изические св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С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газы, С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С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жидкости, далее твердые вещества, растворимы в органических растворител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36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имические свойства ( записать уравнения реакций на примере этана и этен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рактерны реакции замещения, окис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28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ный газ, рудничный газ практически полностью состоит из метана, насыщенные углеводороды получают посредством крек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2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ческий синтез, производство резиновых изделий, топливо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7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оме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рактерный тип изомерии – изомерия углеродного скел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Д/з: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аполните сравнительную таблицу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08000" y="1052640"/>
          <a:ext cx="8723160" cy="5732280"/>
        </p:xfrm>
        <a:graphic>
          <a:graphicData uri="http://schemas.openxmlformats.org/drawingml/2006/table">
            <a:tbl>
              <a:tblPr/>
              <a:tblGrid>
                <a:gridCol w="2025720"/>
                <a:gridCol w="3633840"/>
                <a:gridCol w="3063600"/>
              </a:tblGrid>
              <a:tr h="639720"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характеристики классов органических вещ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лка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сыщенные углеводороды только одинарная связь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лке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Ненасыщенные углеводороды с двойной связью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0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ая формула кл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n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стейший предста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метан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этен)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1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изические св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С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газы, С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С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жидкости, далее твердые вещества, растворимы в органических растворител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193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имические свойства ( записать уравнения реакций на примере этана и этен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рактерны реакции замещения, окисле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0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ный газ, рудничный газ практически полностью состоит из метана, насыщенные углеводороды получают посредством крек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70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ческий синтез, производство резиновых изделий, топливо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7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оме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рактерный тип изомерии – изомерия углеродного скел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«Верно-неверно» о метане: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1) мо­ле­ку­ла со­дер­жит 4 атома во­до­ро­да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2) яв­ля­ет­ся не­пре­дель­ным уг­ле­во­до­ро­дом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3) атом уг­ле­ро­да в мо­ле­ку­ле со­единён с ато­ма­ми во­до­ро­да двой­ной свя­зью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4) всту­па­ет в ре­ак­цию за­ме­ще­ния с хло­ром 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5)  не всту­па­ет в ре­ак­ции при­со­еди­не­ния с бро­мо­во­до­ро­дом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6) нерас­тво­рим в воде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7) при сго­ра­нии вы­де­ля­ет­ся боль­шое ко­ли­че­ство теп­ло­ты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8)  ре­а­ги­ру­ет с во­до­ро­дом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mbria"/>
              </a:rPr>
              <a:t> 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роверка: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Calibri"/>
              </a:rPr>
              <a:t>Верно: 1, 4, 5, 6, 7;</a:t>
            </a:r>
            <a:endParaRPr b="0" lang="en-US" sz="60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Calibri"/>
              </a:rPr>
              <a:t>Неверно: 2, 3, 8.</a:t>
            </a:r>
            <a:endParaRPr b="0" lang="en-US" sz="60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нение психологов: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Человек, который успешно изучает химию, обладает логическим мышлением, но тот, кто разобрался в органической химии – обладает колоссальной логикой…</a:t>
            </a:r>
            <a:endParaRPr b="0" lang="en-US" sz="44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Задание: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Cambria"/>
              </a:rPr>
              <a:t>Составить развернутые структурные формула следующих веществ: </a:t>
            </a: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С</a:t>
            </a:r>
            <a:r>
              <a:rPr b="1" lang="ru-RU" sz="4800" spc="-1" strike="noStrike" baseline="-25000">
                <a:solidFill>
                  <a:srgbClr val="ff0000"/>
                </a:solidFill>
                <a:latin typeface="Cambria"/>
              </a:rPr>
              <a:t>3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Н</a:t>
            </a:r>
            <a:r>
              <a:rPr b="1" lang="ru-RU" sz="4800" spc="-1" strike="noStrike" baseline="-25000">
                <a:solidFill>
                  <a:srgbClr val="ff0000"/>
                </a:solidFill>
                <a:latin typeface="Cambria"/>
              </a:rPr>
              <a:t>8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4800" spc="-1" strike="noStrike">
                <a:solidFill>
                  <a:srgbClr val="254061"/>
                </a:solidFill>
                <a:latin typeface="Cambria"/>
              </a:rPr>
              <a:t>и</a:t>
            </a:r>
            <a:r>
              <a:rPr b="1" lang="ru-RU" sz="4800" spc="-1" strike="noStrike" baseline="-25000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С</a:t>
            </a:r>
            <a:r>
              <a:rPr b="1" lang="ru-RU" sz="4800" spc="-1" strike="noStrike" baseline="-25000">
                <a:solidFill>
                  <a:srgbClr val="ff0000"/>
                </a:solidFill>
                <a:latin typeface="Cambria"/>
              </a:rPr>
              <a:t>2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Н</a:t>
            </a:r>
            <a:r>
              <a:rPr b="1" lang="ru-RU" sz="4800" spc="-1" strike="noStrike" baseline="-25000">
                <a:solidFill>
                  <a:srgbClr val="ff0000"/>
                </a:solidFill>
                <a:latin typeface="Cambria"/>
              </a:rPr>
              <a:t>4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 </a:t>
            </a: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роверим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4040280" cy="4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mbria"/>
              </a:rPr>
              <a:t>          </a:t>
            </a:r>
            <a:r>
              <a:rPr b="1" lang="ru-RU" sz="3600" spc="-1" strike="noStrike">
                <a:solidFill>
                  <a:srgbClr val="376092"/>
                </a:solidFill>
                <a:latin typeface="Cambria"/>
              </a:rPr>
              <a:t>С</a:t>
            </a:r>
            <a:r>
              <a:rPr b="1" lang="ru-RU" sz="2800" spc="-1" strike="noStrike">
                <a:solidFill>
                  <a:srgbClr val="376092"/>
                </a:solidFill>
                <a:latin typeface="Cambria"/>
              </a:rPr>
              <a:t>3</a:t>
            </a:r>
            <a:r>
              <a:rPr b="1" lang="ru-RU" sz="3600" spc="-1" strike="noStrike">
                <a:solidFill>
                  <a:srgbClr val="376092"/>
                </a:solidFill>
                <a:latin typeface="Cambria"/>
              </a:rPr>
              <a:t>Н</a:t>
            </a:r>
            <a:r>
              <a:rPr b="1" lang="ru-RU" sz="2800" spc="-1" strike="noStrike">
                <a:solidFill>
                  <a:srgbClr val="376092"/>
                </a:solidFill>
                <a:latin typeface="Cambria"/>
              </a:rPr>
              <a:t>8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2276640"/>
            <a:ext cx="40402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      Н      Н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│      │      │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−С  –  С  −  С − Н 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│      │      │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       Н      Н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3280" y="16282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mbria"/>
              </a:rPr>
              <a:t>             </a:t>
            </a:r>
            <a:r>
              <a:rPr b="1" lang="ru-RU" sz="3600" spc="-1" strike="noStrike">
                <a:solidFill>
                  <a:srgbClr val="376092"/>
                </a:solidFill>
                <a:latin typeface="Cambria"/>
              </a:rPr>
              <a:t>С</a:t>
            </a:r>
            <a:r>
              <a:rPr b="1" lang="ru-RU" sz="2800" spc="-1" strike="noStrike">
                <a:solidFill>
                  <a:srgbClr val="376092"/>
                </a:solidFill>
                <a:latin typeface="Cambria"/>
              </a:rPr>
              <a:t>2</a:t>
            </a:r>
            <a:r>
              <a:rPr b="1" lang="ru-RU" sz="3600" spc="-1" strike="noStrike">
                <a:solidFill>
                  <a:srgbClr val="376092"/>
                </a:solidFill>
                <a:latin typeface="Cambria"/>
              </a:rPr>
              <a:t>Н</a:t>
            </a:r>
            <a:r>
              <a:rPr b="1" lang="ru-RU" sz="2800" spc="-1" strike="noStrike">
                <a:solidFill>
                  <a:srgbClr val="376092"/>
                </a:solidFill>
                <a:latin typeface="Cambria"/>
              </a:rPr>
              <a:t>4</a:t>
            </a:r>
            <a:r>
              <a:rPr b="1" lang="ru-RU" sz="2400" spc="-1" strike="noStrike">
                <a:solidFill>
                  <a:srgbClr val="376092"/>
                </a:solidFill>
                <a:latin typeface="Cambria"/>
              </a:rPr>
              <a:t>       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395280" y="566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п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2050920" y="568656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к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http://compendium.su/chemistry/9klas_1/9klas_1.files/image307.jpg"/>
          <p:cNvPicPr/>
          <p:nvPr/>
        </p:nvPicPr>
        <p:blipFill>
          <a:blip r:embed="rId1"/>
          <a:stretch/>
        </p:blipFill>
        <p:spPr>
          <a:xfrm>
            <a:off x="3835440" y="2314440"/>
            <a:ext cx="5040360" cy="187344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11"/>
          <p:cNvSpPr/>
          <p:nvPr/>
        </p:nvSpPr>
        <p:spPr>
          <a:xfrm>
            <a:off x="6710400" y="2347920"/>
            <a:ext cx="2143080" cy="1839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6710400" y="4724280"/>
            <a:ext cx="12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6710400" y="566100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к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История открытия этилена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64832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1669 г. 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немецкий ученый Иоганн Иохим Бехер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Нагревая этиловый спирт с серной кислотой, получил неизвестный ранее газ, названный «газ Бехера»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</p:txBody>
      </p:sp>
      <p:pic>
        <p:nvPicPr>
          <p:cNvPr id="271" name="Picture 5" descr="http://pandia.ru/text/78/012/images/image007_1.png"/>
          <p:cNvPicPr/>
          <p:nvPr/>
        </p:nvPicPr>
        <p:blipFill>
          <a:blip r:embed="rId4"/>
          <a:stretch/>
        </p:blipFill>
        <p:spPr>
          <a:xfrm>
            <a:off x="971640" y="1773360"/>
            <a:ext cx="27223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История открытия этилена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1795 г.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голландский химик И. Дейман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4832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установил, что «газ Бехера»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состоит из 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углерода и водорода,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при взаимодействии с хлором превращается в маслянистую жидкость (1,2-дихлорэтан)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7:21:06Z</dcterms:created>
  <dc:creator>ирина</dc:creator>
  <dc:description/>
  <dc:language>en-US</dc:language>
  <cp:lastModifiedBy>Lenovo</cp:lastModifiedBy>
  <dcterms:modified xsi:type="dcterms:W3CDTF">2020-04-08T14:06:26Z</dcterms:modified>
  <cp:revision>19</cp:revision>
  <dc:subject/>
  <dc:title>Заголовок слайда</dc:title>
</cp:coreProperties>
</file>