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25.gif" ContentType="image/gif"/>
  <Override PartName="/ppt/media/image22.png" ContentType="image/png"/>
  <Override PartName="/ppt/media/image2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9C1-4CE5-471D-91E5-CDA576F4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B52-485C-4EC5-9007-271D28F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00C-9E6D-4438-8387-C581A65C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3CE-17DF-4EAB-9C31-7F831DCB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5ED3-9707-438E-A8F6-B25E1AB5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0B0-820E-4567-A6C0-056BC3BA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D92E-608B-4B03-B1F4-A0A5AD9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9878-8518-4986-ABF2-0B54C08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83A8-F20A-4E5D-8C3B-25408395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680-2975-46F6-8120-521AF95A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737-B917-4FC2-BE63-088591F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849-AB22-4202-97A5-BE0CD73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3974-AF11-4954-97F6-72A6A56F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E9C-59BC-4738-BC90-D7EE984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33A7-5BC9-4EFD-B879-45D6C3F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EC99-8F39-45EE-B04F-1785258E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451B-D821-48A9-8B12-8F1BC363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E48-C308-4D71-9839-C34A37FE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5AA-6AFD-4FD7-8EE6-40BC3797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EB3-F7E0-4318-9D3F-B021BE33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CCB-3DDB-4D67-AFB3-A527FDE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66E-2691-4DD6-87C7-D331C42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B16-BE86-452F-B160-9A46C32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874-7BD1-4015-952D-685D07E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3621-64EC-480E-BA69-96621CBBCD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9BCF-B2CB-428D-8857-B4402318C90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034"/>
          <p:cNvSpPr/>
          <p:nvPr/>
        </p:nvSpPr>
        <p:spPr>
          <a:xfrm>
            <a:off x="0" y="3505320"/>
            <a:ext cx="8915400" cy="2084400"/>
          </a:xfrm>
          <a:custGeom>
            <a:avLst/>
            <a:gdLst>
              <a:gd name="textAreaLeft" fmla="*/ 2228760 w 8915400"/>
              <a:gd name="textAreaRight" fmla="*/ 6686640 w 8915400"/>
              <a:gd name="textAreaTop" fmla="*/ 260280 h 2084400"/>
              <a:gd name="textAreaBottom" fmla="*/ 2084760 h 20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WordArt 1030"/>
          <p:cNvSpPr txBox="1"/>
          <p:nvPr/>
        </p:nvSpPr>
        <p:spPr>
          <a:xfrm>
            <a:off x="1371600" y="838080"/>
            <a:ext cx="6553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гонь друг и враг челове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1035"/>
          <p:cNvSpPr/>
          <p:nvPr/>
        </p:nvSpPr>
        <p:spPr>
          <a:xfrm>
            <a:off x="2590920" y="4114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WordArt 1037"/>
          <p:cNvSpPr txBox="1"/>
          <p:nvPr/>
        </p:nvSpPr>
        <p:spPr>
          <a:xfrm>
            <a:off x="2666880" y="3886200"/>
            <a:ext cx="35910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лышам об огн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5"/>
          <p:cNvGraphicFramePr/>
          <p:nvPr/>
        </p:nvGraphicFramePr>
        <p:xfrm>
          <a:off x="6877080" y="4149720"/>
          <a:ext cx="197964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4149720"/>
                    <a:ext cx="19796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WordArt 6"/>
          <p:cNvSpPr txBox="1"/>
          <p:nvPr/>
        </p:nvSpPr>
        <p:spPr>
          <a:xfrm>
            <a:off x="1332000" y="260280"/>
            <a:ext cx="6162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оговорки и пословицы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- хороший слуга, но плохой хозя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и- не игрушка, огонь- не заб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ра мала, а велик пламень р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рево с огнём не друж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133720" y="3808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и</a:t>
            </a:r>
            <a:endParaRPr b="1" lang="en-US" sz="3200" spc="1" strike="noStrike">
              <a:ln w="255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тавит страшные сле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встретит- пожир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 если дать ему в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мигом погиб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друг ребят, но когда с ним шаля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становится врагом и сжигает всё кру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ипит и злится, а воды бо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ё ест, не наестся, а пьёт- умир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2" descr="CLOWN7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547640" y="333360"/>
            <a:ext cx="54198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и</a:t>
            </a:r>
            <a:endParaRPr b="1" lang="en-US" sz="2400" spc="1" strike="noStrike">
              <a:ln w="255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лочка тоненькая, но не игр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ёт в своей коробуш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руки детям попадё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ду большую принесё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кчипс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ыжий зверь в печи си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ыжий зверь на всех серди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от злости ест дро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лый час, а может д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ы его рукой не тро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кусает всю лад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CLOWN7"/>
          <p:cNvPicPr/>
          <p:nvPr/>
        </p:nvPicPr>
        <p:blipFill>
          <a:blip r:embed="rId1"/>
          <a:stretch/>
        </p:blipFill>
        <p:spPr>
          <a:xfrm>
            <a:off x="6732720" y="4724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пал на пол уголё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ревянный пол зажёг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мотри, не жди,  не ст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туши его…(йод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сли младшие сестри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жигают дома спич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 ты должен предприня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азу спички те…(ьтянт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3716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кажи словечко</a:t>
            </a:r>
            <a:endParaRPr b="1" lang="en-US" sz="4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12" descr="21M2"/>
          <p:cNvPicPr/>
          <p:nvPr/>
        </p:nvPicPr>
        <p:blipFill>
          <a:blip r:embed="rId1"/>
          <a:stretch/>
        </p:blipFill>
        <p:spPr>
          <a:xfrm>
            <a:off x="11160" y="228600"/>
            <a:ext cx="1157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 с огнём неостороже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того пожар 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ти, помните о 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нельзя шутить с …(мёнг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где хранится мус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просто разный хл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о будет потруди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вести порядок 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лу лопаты взя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быстро всё…(илар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3716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кажи словечко</a:t>
            </a:r>
            <a:endParaRPr b="1" lang="en-US" sz="4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7" descr="21M2"/>
          <p:cNvPicPr/>
          <p:nvPr/>
        </p:nvPicPr>
        <p:blipFill>
          <a:blip r:embed="rId1"/>
          <a:stretch/>
        </p:blipFill>
        <p:spPr>
          <a:xfrm>
            <a:off x="6168960" y="4076640"/>
            <a:ext cx="20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FLOWER27"/>
          <p:cNvPicPr/>
          <p:nvPr/>
        </p:nvPicPr>
        <p:blipFill>
          <a:blip r:embed="rId1"/>
          <a:stretch/>
        </p:blipFill>
        <p:spPr>
          <a:xfrm>
            <a:off x="2484360" y="4941720"/>
            <a:ext cx="451476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FLOWER7"/>
          <p:cNvPicPr/>
          <p:nvPr/>
        </p:nvPicPr>
        <p:blipFill>
          <a:blip r:embed="rId2"/>
          <a:stretch/>
        </p:blipFill>
        <p:spPr>
          <a:xfrm>
            <a:off x="380880" y="228600"/>
            <a:ext cx="1279800" cy="11206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0"/>
          <p:cNvSpPr txBox="1"/>
          <p:nvPr/>
        </p:nvSpPr>
        <p:spPr>
          <a:xfrm>
            <a:off x="2124000" y="1916280"/>
            <a:ext cx="5029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Благодарю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за внимание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356000" y="1628280"/>
            <a:ext cx="439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  </a:t>
            </a: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Грибанова Наталья Иосифовн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учитель ОБ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МБОУ «Усть-Сосновская ООШ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380880" y="228600"/>
            <a:ext cx="2667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20" descr="C:\Documents and Settings\Учитель\Мои документы\Downloads\IMG_20200315_091702.jpg"/>
          <p:cNvPicPr/>
          <p:nvPr/>
        </p:nvPicPr>
        <p:blipFill>
          <a:blip r:embed="rId3"/>
          <a:stretch/>
        </p:blipFill>
        <p:spPr>
          <a:xfrm>
            <a:off x="214200" y="2000160"/>
            <a:ext cx="4643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 детей чувство опасности ог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вать навыки безопасного обращения с бытовыми приборами и правильного поведения в случае пож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609480" y="228600"/>
            <a:ext cx="37339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и</a:t>
            </a:r>
            <a:endParaRPr b="0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Tahoma"/>
              </a:rPr>
              <a:t>Содержание</a:t>
            </a:r>
            <a:endParaRPr b="0" lang="en-US" sz="7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400" y="1773360"/>
            <a:ext cx="561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диная служба спасения «01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гонь друг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гонь враг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тское творчество на противопожарную темати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гадки, пословицы, и поговорки о пожа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1" descr="BD05833_"/>
          <p:cNvPicPr/>
          <p:nvPr/>
        </p:nvPicPr>
        <p:blipFill>
          <a:blip r:embed="rId1"/>
          <a:stretch/>
        </p:blipFill>
        <p:spPr>
          <a:xfrm>
            <a:off x="324000" y="2276640"/>
            <a:ext cx="243828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play_vs_fire_ic"/>
          <p:cNvPicPr/>
          <p:nvPr/>
        </p:nvPicPr>
        <p:blipFill>
          <a:blip r:embed="rId1"/>
          <a:stretch/>
        </p:blipFill>
        <p:spPr>
          <a:xfrm>
            <a:off x="6877080" y="304920"/>
            <a:ext cx="1886040" cy="1755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Единая служба спасения «01»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появился телефон Единой спасательной службы «01».В разных городах были свои телефоны спасательных служб, это длинные шести- семизначные номера, которые не так легко вспомнить в экстренной ситуации.Теперь достаточно набрать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Огонь друг человека</a:t>
            </a: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чь-громада мартен пышет жар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ят сталь для страны стале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все были сы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вят пищу в духовку, на пли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еб и булки огонь выпек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от холода нас защищ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9" descr="bd08911_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516720" y="4292640"/>
            <a:ext cx="2160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7T6"/>
          <p:cNvPicPr/>
          <p:nvPr/>
        </p:nvPicPr>
        <p:blipFill>
          <a:blip r:embed="rId1"/>
          <a:stretch/>
        </p:blipFill>
        <p:spPr>
          <a:xfrm>
            <a:off x="6516720" y="333360"/>
            <a:ext cx="2209680" cy="1444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472896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бывает огонь и други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согреет ладошек он ваш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вращает всё в пепел и ды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жесток он, и грозен, и страше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539640" y="2602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враг челове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2268360" y="335772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шути дружок,с огнё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бы не жалеть по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удьте с огнём осторожны, дет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вёрдо запомните правила э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3780000" y="4941720"/>
            <a:ext cx="4876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з на кухне, пылесос л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евизор и утю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сть включает только взрослый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ш надёжный старший дру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бери из печки жа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едь и он таит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ёк, хоть невелич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опасен, как и спичка.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3429000" y="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враг челове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3048120" y="28195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же стряслась бед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 тогда нам дел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теряться никогд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йствовать умел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слаб огонь, скор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ы водой его залей.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523880" y="51814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близко телеф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тебе доступен о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ужно 01 набрать и быстрей пожарных звать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250920" y="692280"/>
            <a:ext cx="2332080" cy="3166560"/>
            <a:chOff x="250920" y="692280"/>
            <a:chExt cx="2332080" cy="3166560"/>
          </a:xfrm>
        </p:grpSpPr>
        <p:pic>
          <p:nvPicPr>
            <p:cNvPr id="113" name="Picture 18" descr="bo10"/>
            <p:cNvPicPr/>
            <p:nvPr/>
          </p:nvPicPr>
          <p:blipFill>
            <a:blip r:embed="rId3"/>
            <a:stretch/>
          </p:blipFill>
          <p:spPr>
            <a:xfrm>
              <a:off x="250920" y="692280"/>
              <a:ext cx="18655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9" descr="bo20"/>
            <p:cNvPicPr/>
            <p:nvPr/>
          </p:nvPicPr>
          <p:blipFill>
            <a:blip r:embed="rId4"/>
            <a:stretch/>
          </p:blipFill>
          <p:spPr>
            <a:xfrm>
              <a:off x="250920" y="2182320"/>
              <a:ext cx="233208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_r1m"/>
          <p:cNvPicPr/>
          <p:nvPr/>
        </p:nvPicPr>
        <p:blipFill>
          <a:blip r:embed="rId1"/>
          <a:stretch/>
        </p:blipFill>
        <p:spPr>
          <a:xfrm>
            <a:off x="2700360" y="4149720"/>
            <a:ext cx="2903400" cy="2276640"/>
          </a:xfrm>
          <a:prstGeom prst="rect">
            <a:avLst/>
          </a:prstGeom>
          <a:ln w="76320">
            <a:solidFill>
              <a:srgbClr val="894400"/>
            </a:solidFill>
            <a:miter/>
          </a:ln>
        </p:spPr>
      </p:pic>
      <p:pic>
        <p:nvPicPr>
          <p:cNvPr id="116" name="Picture 6" descr="d_r7m"/>
          <p:cNvPicPr/>
          <p:nvPr/>
        </p:nvPicPr>
        <p:blipFill>
          <a:blip r:embed="rId2"/>
          <a:stretch/>
        </p:blipFill>
        <p:spPr>
          <a:xfrm>
            <a:off x="250920" y="2205000"/>
            <a:ext cx="2057400" cy="3352680"/>
          </a:xfrm>
          <a:prstGeom prst="rect">
            <a:avLst/>
          </a:prstGeom>
          <a:ln w="76320">
            <a:solidFill>
              <a:srgbClr val="894400"/>
            </a:solidFill>
            <a:miter/>
          </a:ln>
        </p:spPr>
      </p:pic>
      <p:pic>
        <p:nvPicPr>
          <p:cNvPr id="117" name="Picture 8" descr="d_r4m"/>
          <p:cNvPicPr/>
          <p:nvPr/>
        </p:nvPicPr>
        <p:blipFill>
          <a:blip r:embed="rId3"/>
          <a:stretch/>
        </p:blipFill>
        <p:spPr>
          <a:xfrm>
            <a:off x="5940360" y="4005360"/>
            <a:ext cx="2971800" cy="1992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8" name="Picture 10" descr="d_r3m"/>
          <p:cNvPicPr/>
          <p:nvPr/>
        </p:nvPicPr>
        <p:blipFill>
          <a:blip r:embed="rId4"/>
          <a:stretch/>
        </p:blipFill>
        <p:spPr>
          <a:xfrm>
            <a:off x="2700360" y="1844640"/>
            <a:ext cx="2836800" cy="1773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19" name="Picture 12" descr="d_r5m"/>
          <p:cNvPicPr/>
          <p:nvPr/>
        </p:nvPicPr>
        <p:blipFill>
          <a:blip r:embed="rId5"/>
          <a:stretch/>
        </p:blipFill>
        <p:spPr>
          <a:xfrm>
            <a:off x="5940360" y="1628640"/>
            <a:ext cx="2971800" cy="19051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20" name="WordArt 13"/>
          <p:cNvSpPr txBox="1"/>
          <p:nvPr/>
        </p:nvSpPr>
        <p:spPr>
          <a:xfrm>
            <a:off x="1219320" y="304920"/>
            <a:ext cx="609588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исунки дете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6:34:07Z</dcterms:created>
  <dc:creator>109_1</dc:creator>
  <dc:description/>
  <dc:language>en-US</dc:language>
  <cp:lastModifiedBy>Усть-Сосново</cp:lastModifiedBy>
  <dcterms:modified xsi:type="dcterms:W3CDTF">2020-03-16T03:59:45Z</dcterms:modified>
  <cp:revision>28</cp:revision>
  <dc:subject/>
  <dc:title>Презентация PowerPoint</dc:title>
</cp:coreProperties>
</file>