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6.gif" ContentType="image/gif"/>
  <Override PartName="/ppt/media/image5.jpeg" ContentType="image/jpeg"/>
  <Override PartName="/ppt/media/image25.gif" ContentType="image/gif"/>
  <Override PartName="/ppt/media/image22.png" ContentType="image/png"/>
  <Override PartName="/ppt/media/image20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4.png" ContentType="image/png"/>
  <Override PartName="/ppt/media/image24.gif" ContentType="image/gif"/>
  <Override PartName="/ppt/media/image15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4FE-5141-4935-BD93-02294586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48E-0A18-4969-8E04-D2A273C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641-449A-431B-A26E-D322DBDE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E03-B356-40AB-9D28-C15A3679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F23D-92B2-4D9B-BA96-5BDEB969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CA89-CCA3-4EC6-8093-4EBE5B83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5B95-B0CC-433D-8AB0-4C31A968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DDD0-813A-417D-8D12-157B02F2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88B1-6FA7-48BE-A63B-09DC8ED2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B4A4-BFC8-4F83-938F-40AD713C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20AA-22A4-4904-AC6A-F2365EA6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347-D1C9-4975-A9EC-8C59105D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60AD-BC03-4079-82EF-9EDFACAE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1EB1-F2EE-4B27-8E75-D6A1298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5ADB-BA3A-4532-8A62-92DA4E50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3479-10B6-45EA-901B-70B40A14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E37A-1122-4FF0-94EA-6D2BD69C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E23-B9F8-46AD-A8AC-2CBE3D55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526-B959-44B3-8E1F-D45CB08F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18C-8C4F-4037-805E-DC735DE0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740-7E12-4689-A4F4-9CA30EB8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B80-1594-4BD4-AAAA-4C433A2A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072-16BA-4769-9BDF-C2233841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A71-736F-47FB-BACE-4F048A0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72BA-84F5-4A99-BE31-23F6F5F2F1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89FE-94B3-46BA-9A4C-BFF3ECB8D5C8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034"/>
          <p:cNvSpPr/>
          <p:nvPr/>
        </p:nvSpPr>
        <p:spPr>
          <a:xfrm>
            <a:off x="0" y="3505320"/>
            <a:ext cx="8915400" cy="2084400"/>
          </a:xfrm>
          <a:custGeom>
            <a:avLst/>
            <a:gdLst>
              <a:gd name="textAreaLeft" fmla="*/ 2228760 w 8915400"/>
              <a:gd name="textAreaRight" fmla="*/ 6686640 w 8915400"/>
              <a:gd name="textAreaTop" fmla="*/ 260280 h 2084400"/>
              <a:gd name="textAreaBottom" fmla="*/ 2084760 h 208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66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WordArt 1030"/>
          <p:cNvSpPr txBox="1"/>
          <p:nvPr/>
        </p:nvSpPr>
        <p:spPr>
          <a:xfrm>
            <a:off x="1371600" y="838080"/>
            <a:ext cx="6553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гонь друг и враг челове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Text Box 1035"/>
          <p:cNvSpPr/>
          <p:nvPr/>
        </p:nvSpPr>
        <p:spPr>
          <a:xfrm>
            <a:off x="2590920" y="4114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WordArt 1037"/>
          <p:cNvSpPr txBox="1"/>
          <p:nvPr/>
        </p:nvSpPr>
        <p:spPr>
          <a:xfrm>
            <a:off x="2666880" y="3886200"/>
            <a:ext cx="359100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лышам об огн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5"/>
          <p:cNvGraphicFramePr/>
          <p:nvPr/>
        </p:nvGraphicFramePr>
        <p:xfrm>
          <a:off x="6877080" y="4149720"/>
          <a:ext cx="197964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4149720"/>
                    <a:ext cx="197964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WordArt 6"/>
          <p:cNvSpPr txBox="1"/>
          <p:nvPr/>
        </p:nvSpPr>
        <p:spPr>
          <a:xfrm>
            <a:off x="1332000" y="260280"/>
            <a:ext cx="6162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Поговорки и пословицы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онь- хороший слуга, но плохой хозя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ички- не игрушка, огонь- не заб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кра мала, а велик пламень род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рево с огнём не друж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2133720" y="380880"/>
            <a:ext cx="5257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гадки</a:t>
            </a:r>
            <a:endParaRPr b="1" lang="en-US" sz="3200" spc="1" strike="noStrike">
              <a:ln w="255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тавит страшные сле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встретит- пожир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 если дать ему в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мигом погиб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ьно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друг ребят, но когда с ним шаля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становится врагом и сжигает всё круг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ьно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ипит и злится, а воды бои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ьно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сё ест, не наестся, а пьёт- умир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ьног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2" descr="CLOWN7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547640" y="333360"/>
            <a:ext cx="541980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гадки</a:t>
            </a:r>
            <a:endParaRPr b="1" lang="en-US" sz="2400" spc="1" strike="noStrike">
              <a:ln w="255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лочка тоненькая, но не игр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ивёт в своей коробуш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руки детям попадё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ду большую принесё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кчипс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ыжий зверь в печи сид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ыжий зверь на всех серди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от злости ест дро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елый час, а может д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ы его рукой не трон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кусает всю ладо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ьног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CLOWN7"/>
          <p:cNvPicPr/>
          <p:nvPr/>
        </p:nvPicPr>
        <p:blipFill>
          <a:blip r:embed="rId1"/>
          <a:stretch/>
        </p:blipFill>
        <p:spPr>
          <a:xfrm>
            <a:off x="6732720" y="47242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пал на пол уголё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ревянный пол зажёг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мотри, не жди,  не ст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 туши его…(йод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сли младшие сестри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жигают дома спич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 ты должен предпринят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разу спички те…(ьтянт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371600" y="2286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кажи словечко</a:t>
            </a:r>
            <a:endParaRPr b="1" lang="en-US" sz="40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Picture 12" descr="21M2"/>
          <p:cNvPicPr/>
          <p:nvPr/>
        </p:nvPicPr>
        <p:blipFill>
          <a:blip r:embed="rId1"/>
          <a:stretch/>
        </p:blipFill>
        <p:spPr>
          <a:xfrm>
            <a:off x="11160" y="228600"/>
            <a:ext cx="1157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то с огнём неостороже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 того пожар 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ти, помните о т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нельзя шутить с …(мёнг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где хранится мус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просто разный хлам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до будет потрудит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вести порядок 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тлу лопаты взя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быстро всё…(илар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1371600" y="2286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кажи словечко</a:t>
            </a:r>
            <a:endParaRPr b="1" lang="en-US" sz="40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Picture 7" descr="21M2"/>
          <p:cNvPicPr/>
          <p:nvPr/>
        </p:nvPicPr>
        <p:blipFill>
          <a:blip r:embed="rId1"/>
          <a:stretch/>
        </p:blipFill>
        <p:spPr>
          <a:xfrm>
            <a:off x="6168960" y="4076640"/>
            <a:ext cx="2051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FLOWER27"/>
          <p:cNvPicPr/>
          <p:nvPr/>
        </p:nvPicPr>
        <p:blipFill>
          <a:blip r:embed="rId1"/>
          <a:stretch/>
        </p:blipFill>
        <p:spPr>
          <a:xfrm>
            <a:off x="2484360" y="4941720"/>
            <a:ext cx="4514760" cy="72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FLOWER7"/>
          <p:cNvPicPr/>
          <p:nvPr/>
        </p:nvPicPr>
        <p:blipFill>
          <a:blip r:embed="rId2"/>
          <a:stretch/>
        </p:blipFill>
        <p:spPr>
          <a:xfrm>
            <a:off x="380880" y="228600"/>
            <a:ext cx="1279800" cy="11206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0"/>
          <p:cNvSpPr txBox="1"/>
          <p:nvPr/>
        </p:nvSpPr>
        <p:spPr>
          <a:xfrm>
            <a:off x="2124000" y="1916280"/>
            <a:ext cx="5029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520402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Благодарю</a:t>
            </a:r>
            <a:endParaRPr b="1" lang="en-US" sz="40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520402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520402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за внимание</a:t>
            </a:r>
            <a:endParaRPr b="1" lang="en-US" sz="40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520402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356000" y="1628280"/>
            <a:ext cx="439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Royal Times New Roman"/>
              </a:rPr>
              <a:t>  </a:t>
            </a:r>
            <a:r>
              <a:rPr b="1" lang="ru-RU" sz="3600" spc="-1" strike="noStrike">
                <a:solidFill>
                  <a:srgbClr val="ff6600"/>
                </a:solidFill>
                <a:latin typeface="Royal Times New Roman"/>
              </a:rPr>
              <a:t>Грибанова Наталья Иосифовн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Royal Times New Roman"/>
              </a:rPr>
              <a:t>учитель ОБ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Royal Times New Roman"/>
              </a:rPr>
              <a:t>МБОУ «Усть-Сосновская ООШ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WordArt 7"/>
          <p:cNvSpPr txBox="1"/>
          <p:nvPr/>
        </p:nvSpPr>
        <p:spPr>
          <a:xfrm>
            <a:off x="380880" y="228600"/>
            <a:ext cx="2667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20" descr="C:\Documents and Settings\Учитель\Мои документы\Downloads\IMG_20200315_091702.jpg"/>
          <p:cNvPicPr/>
          <p:nvPr/>
        </p:nvPicPr>
        <p:blipFill>
          <a:blip r:embed="rId3"/>
          <a:stretch/>
        </p:blipFill>
        <p:spPr>
          <a:xfrm>
            <a:off x="214200" y="2000160"/>
            <a:ext cx="4643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ировать у детей чувство опасности ог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вать навыки безопасного обращения с бытовыми приборами и правильного поведения в случае пожа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609480" y="228600"/>
            <a:ext cx="37339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и</a:t>
            </a:r>
            <a:endParaRPr b="0" lang="en-US" sz="7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Tahoma"/>
              </a:rPr>
              <a:t>Содержание</a:t>
            </a:r>
            <a:endParaRPr b="0" lang="en-US" sz="72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0400" y="1773360"/>
            <a:ext cx="561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диная служба спасения «01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гонь друг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гонь враг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тское творчество на противопожарную темати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гадки, пословицы, и поговорки о пожа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1" descr="BD05833_"/>
          <p:cNvPicPr/>
          <p:nvPr/>
        </p:nvPicPr>
        <p:blipFill>
          <a:blip r:embed="rId1"/>
          <a:stretch/>
        </p:blipFill>
        <p:spPr>
          <a:xfrm>
            <a:off x="324000" y="2276640"/>
            <a:ext cx="243828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play_vs_fire_ic"/>
          <p:cNvPicPr/>
          <p:nvPr/>
        </p:nvPicPr>
        <p:blipFill>
          <a:blip r:embed="rId1"/>
          <a:stretch/>
        </p:blipFill>
        <p:spPr>
          <a:xfrm>
            <a:off x="6877080" y="304920"/>
            <a:ext cx="1886040" cy="1755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Единая служба спасения «01»</a:t>
            </a: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ссии появился телефон Единой спасательной службы «01».В разных городах были свои телефоны спасательных служб, это длинные шести- семизначные номера, которые не так легко вспомнить в экстренной ситуации.Теперь достаточно набрать «0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Огонь друг человека</a:t>
            </a: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чь-громада мартен пышет жар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рят сталь для страны стале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все были сыт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вят пищу в духовку, на пли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леб и булки огонь выпек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от холода нас защищ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9" descr="bd08911_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516720" y="4292640"/>
            <a:ext cx="2160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7T6"/>
          <p:cNvPicPr/>
          <p:nvPr/>
        </p:nvPicPr>
        <p:blipFill>
          <a:blip r:embed="rId1"/>
          <a:stretch/>
        </p:blipFill>
        <p:spPr>
          <a:xfrm>
            <a:off x="6516720" y="333360"/>
            <a:ext cx="2209680" cy="1444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472896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бывает огонь и други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 согреет ладошек он ваши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вращает всё в пепел и ды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жесток он, и грозен, и страше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539640" y="26028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враг челове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Rectangle 34"/>
          <p:cNvSpPr/>
          <p:nvPr/>
        </p:nvSpPr>
        <p:spPr>
          <a:xfrm>
            <a:off x="2268360" y="335772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 шути дружок,с огнё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тобы не жалеть по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удьте с огнём осторожны, дет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вёрдо запомните правила э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3780000" y="4941720"/>
            <a:ext cx="4876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аз на кухне, пылесос л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евизор и утю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усть включает только взрослый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ш надёжный старший дру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419720" y="1447920"/>
            <a:ext cx="44193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 бери из печки жа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едь и он таит по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голёк, хоть невеличк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опасен, как и спичка.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3429000" y="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 враг челове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3048120" y="281952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сли же стряслась бед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то тогда нам делат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 теряться никогд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йствовать умел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сли слаб огонь, скор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ы водой его залей.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523880" y="518148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сли близко телеф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тебе доступен он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ужно 01 набрать и быстрей пожарных звать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Group 17"/>
          <p:cNvGrpSpPr/>
          <p:nvPr/>
        </p:nvGrpSpPr>
        <p:grpSpPr>
          <a:xfrm>
            <a:off x="250920" y="692280"/>
            <a:ext cx="2332080" cy="3166560"/>
            <a:chOff x="250920" y="692280"/>
            <a:chExt cx="2332080" cy="3166560"/>
          </a:xfrm>
        </p:grpSpPr>
        <p:pic>
          <p:nvPicPr>
            <p:cNvPr id="113" name="Picture 18" descr="bo10"/>
            <p:cNvPicPr/>
            <p:nvPr/>
          </p:nvPicPr>
          <p:blipFill>
            <a:blip r:embed="rId3"/>
            <a:stretch/>
          </p:blipFill>
          <p:spPr>
            <a:xfrm>
              <a:off x="250920" y="692280"/>
              <a:ext cx="18655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9" descr="bo20"/>
            <p:cNvPicPr/>
            <p:nvPr/>
          </p:nvPicPr>
          <p:blipFill>
            <a:blip r:embed="rId4"/>
            <a:stretch/>
          </p:blipFill>
          <p:spPr>
            <a:xfrm>
              <a:off x="250920" y="2182320"/>
              <a:ext cx="233208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d_r1m"/>
          <p:cNvPicPr/>
          <p:nvPr/>
        </p:nvPicPr>
        <p:blipFill>
          <a:blip r:embed="rId1"/>
          <a:stretch/>
        </p:blipFill>
        <p:spPr>
          <a:xfrm>
            <a:off x="2700360" y="4149720"/>
            <a:ext cx="2903400" cy="2276640"/>
          </a:xfrm>
          <a:prstGeom prst="rect">
            <a:avLst/>
          </a:prstGeom>
          <a:ln w="76320">
            <a:solidFill>
              <a:srgbClr val="894400"/>
            </a:solidFill>
            <a:miter/>
          </a:ln>
        </p:spPr>
      </p:pic>
      <p:pic>
        <p:nvPicPr>
          <p:cNvPr id="116" name="Picture 6" descr="d_r7m"/>
          <p:cNvPicPr/>
          <p:nvPr/>
        </p:nvPicPr>
        <p:blipFill>
          <a:blip r:embed="rId2"/>
          <a:stretch/>
        </p:blipFill>
        <p:spPr>
          <a:xfrm>
            <a:off x="250920" y="2205000"/>
            <a:ext cx="2057400" cy="3352680"/>
          </a:xfrm>
          <a:prstGeom prst="rect">
            <a:avLst/>
          </a:prstGeom>
          <a:ln w="76320">
            <a:solidFill>
              <a:srgbClr val="894400"/>
            </a:solidFill>
            <a:miter/>
          </a:ln>
        </p:spPr>
      </p:pic>
      <p:pic>
        <p:nvPicPr>
          <p:cNvPr id="117" name="Picture 8" descr="d_r4m"/>
          <p:cNvPicPr/>
          <p:nvPr/>
        </p:nvPicPr>
        <p:blipFill>
          <a:blip r:embed="rId3"/>
          <a:stretch/>
        </p:blipFill>
        <p:spPr>
          <a:xfrm>
            <a:off x="5940360" y="4005360"/>
            <a:ext cx="2971800" cy="1992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8" name="Picture 10" descr="d_r3m"/>
          <p:cNvPicPr/>
          <p:nvPr/>
        </p:nvPicPr>
        <p:blipFill>
          <a:blip r:embed="rId4"/>
          <a:stretch/>
        </p:blipFill>
        <p:spPr>
          <a:xfrm>
            <a:off x="2700360" y="1844640"/>
            <a:ext cx="2836800" cy="1773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19" name="Picture 12" descr="d_r5m"/>
          <p:cNvPicPr/>
          <p:nvPr/>
        </p:nvPicPr>
        <p:blipFill>
          <a:blip r:embed="rId5"/>
          <a:stretch/>
        </p:blipFill>
        <p:spPr>
          <a:xfrm>
            <a:off x="5940360" y="1628640"/>
            <a:ext cx="2971800" cy="19051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120" name="WordArt 13"/>
          <p:cNvSpPr txBox="1"/>
          <p:nvPr/>
        </p:nvSpPr>
        <p:spPr>
          <a:xfrm>
            <a:off x="1219320" y="304920"/>
            <a:ext cx="609588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исунки детей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6:34:07Z</dcterms:created>
  <dc:creator>109_1</dc:creator>
  <dc:description/>
  <dc:language>en-US</dc:language>
  <cp:lastModifiedBy>Усть-Сосново</cp:lastModifiedBy>
  <dcterms:modified xsi:type="dcterms:W3CDTF">2020-03-16T03:59:45Z</dcterms:modified>
  <cp:revision>28</cp:revision>
  <dc:subject/>
  <dc:title>Презентация PowerPoint</dc:title>
</cp:coreProperties>
</file>