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8E6-2CD8-4F3E-9436-41245331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B4F-1DB2-48E9-BADF-FB7CC9E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4B2-95C5-44F8-BA88-724B9385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257-4918-4E21-A6C6-10C2F368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2CB-CA13-4A65-88EB-41CB784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57D-EA26-448B-9B64-89E81612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F16-BD0F-4EF9-8950-7F90C9D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EB7-B6DB-4033-911C-F4E3D1F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F49-A624-427F-B734-56B8F7D1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2E0-C264-40E8-8806-664E1DA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CFC-9326-4C76-AA9D-5F27F35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17E-4945-4151-8D8E-D8745D6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7C2-0501-41DA-825D-AA074D0CE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4435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34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900000" y="404640"/>
            <a:ext cx="734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пасхальные яйц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851280" y="5084640"/>
            <a:ext cx="4968720" cy="136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Урок изобразительного искус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Учитель начальных классов Новикова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МОУ прогимназия №58 г. Подо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2020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EasterEggsGetty460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afc2b37b509c2e27a619995e7501b1b_72877f4f0ba932a74025675dac975e8a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60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stock-photo-easter-eggs-over-white-background-11480887"/>
          <p:cNvPicPr/>
          <p:nvPr/>
        </p:nvPicPr>
        <p:blipFill>
          <a:blip r:embed="rId2"/>
          <a:stretch/>
        </p:blipFill>
        <p:spPr>
          <a:xfrm>
            <a:off x="179280" y="333360"/>
            <a:ext cx="403092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raznotsvetnie-pashalnie-yaitsa-1024x768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аберже - придворный ювели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ервое пасхальное яйцо было заказано Фаберже царем Александром III в 1885 г Благодаря его мгновенному успеху, Фаберже получил постоянный заказ императорского двора и стал выполнять пасхальные яйца одно за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agle_i"/>
          <p:cNvPicPr/>
          <p:nvPr/>
        </p:nvPicPr>
        <p:blipFill>
          <a:blip r:embed="rId1"/>
          <a:stretch/>
        </p:blipFill>
        <p:spPr>
          <a:xfrm>
            <a:off x="539640" y="1268280"/>
            <a:ext cx="381636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общей сложности, по императорскому заказу им было создано 54 пасхальных яй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rg_44_500"/>
          <p:cNvPicPr/>
          <p:nvPr/>
        </p:nvPicPr>
        <p:blipFill>
          <a:blip r:embed="rId1"/>
          <a:stretch/>
        </p:blipFill>
        <p:spPr>
          <a:xfrm>
            <a:off x="539640" y="1628640"/>
            <a:ext cx="3446640" cy="482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zol_ser_101"/>
          <p:cNvPicPr/>
          <p:nvPr/>
        </p:nvPicPr>
        <p:blipFill>
          <a:blip r:embed="rId2"/>
          <a:stretch/>
        </p:blipFill>
        <p:spPr>
          <a:xfrm>
            <a:off x="4643280" y="1125360"/>
            <a:ext cx="352908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kareta_i"/>
          <p:cNvPicPr/>
          <p:nvPr/>
        </p:nvPicPr>
        <p:blipFill>
          <a:blip r:embed="rId1"/>
          <a:stretch/>
        </p:blipFill>
        <p:spPr>
          <a:xfrm>
            <a:off x="611280" y="544680"/>
            <a:ext cx="7777080" cy="566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верь себ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ем считалось яйцо у древних нар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ие названия крашенных яиц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то такой Фабер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51422397_12357206754033"/>
          <p:cNvPicPr/>
          <p:nvPr/>
        </p:nvPicPr>
        <p:blipFill>
          <a:blip r:embed="rId1"/>
          <a:stretch/>
        </p:blipFill>
        <p:spPr>
          <a:xfrm>
            <a:off x="4643280" y="549360"/>
            <a:ext cx="3859200" cy="572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ще задолго до появления Христа древние народы считали яйцо прообразом Вселенной - из него родился мир, окружающий человека. Отношение к яйцу как к символу рождения отразилось в верованиях и обычаях египтян, персов, греков, римлян..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 славянских народов, принявших христианство, яйцо ассоциировалось с плодородием земли, с весенним возрождением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45240" cy="68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Яйца, окрашенные в один цвет, назывались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рашенками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403217-833762-77296315"/>
          <p:cNvPicPr/>
          <p:nvPr/>
        </p:nvPicPr>
        <p:blipFill>
          <a:blip r:embed="rId1"/>
          <a:stretch/>
        </p:blipFill>
        <p:spPr>
          <a:xfrm>
            <a:off x="1403280" y="1905120"/>
            <a:ext cx="6769080" cy="4692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Если на общем цветном фоне обозначались пятна, полоски, крапинки другого цвета - это были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рапинки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_52ec8_4592ad9_XL"/>
          <p:cNvPicPr/>
          <p:nvPr/>
        </p:nvPicPr>
        <p:blipFill>
          <a:blip r:embed="rId1"/>
          <a:stretch/>
        </p:blipFill>
        <p:spPr>
          <a:xfrm>
            <a:off x="2627280" y="2278080"/>
            <a:ext cx="6516720" cy="4341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0174_800_600"/>
          <p:cNvPicPr/>
          <p:nvPr/>
        </p:nvPicPr>
        <p:blipFill>
          <a:blip r:embed="rId1"/>
          <a:stretch/>
        </p:blipFill>
        <p:spPr>
          <a:xfrm>
            <a:off x="250920" y="26028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68360" y="47628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бы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сан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яйца, раскрашенные от руки сюжетными или орнаментальными узо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8701"/>
          <p:cNvPicPr/>
          <p:nvPr/>
        </p:nvPicPr>
        <p:blipFill>
          <a:blip r:embed="rId1"/>
          <a:stretch/>
        </p:blipFill>
        <p:spPr>
          <a:xfrm>
            <a:off x="539640" y="189000"/>
            <a:ext cx="8069400" cy="642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7255293_ist2_2985617eastereggsiconset_bbn"/>
          <p:cNvPicPr/>
          <p:nvPr/>
        </p:nvPicPr>
        <p:blipFill>
          <a:blip r:embed="rId1"/>
          <a:stretch/>
        </p:blipFill>
        <p:spPr>
          <a:xfrm>
            <a:off x="250920" y="189000"/>
            <a:ext cx="4535280" cy="626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73402675_1737ee91030c"/>
          <p:cNvPicPr/>
          <p:nvPr/>
        </p:nvPicPr>
        <p:blipFill>
          <a:blip r:embed="rId2"/>
          <a:stretch/>
        </p:blipFill>
        <p:spPr>
          <a:xfrm>
            <a:off x="4716360" y="260280"/>
            <a:ext cx="424836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73636963_3419483_UiMwDyuc"/>
          <p:cNvPicPr/>
          <p:nvPr/>
        </p:nvPicPr>
        <p:blipFill>
          <a:blip r:embed="rId1"/>
          <a:stretch/>
        </p:blipFill>
        <p:spPr>
          <a:xfrm>
            <a:off x="127080" y="685800"/>
            <a:ext cx="88898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267531997_17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2:18:00Z</dcterms:created>
  <dc:creator>Новикова</dc:creator>
  <dc:description/>
  <dc:language>en-US</dc:language>
  <cp:lastModifiedBy>дом</cp:lastModifiedBy>
  <dcterms:modified xsi:type="dcterms:W3CDTF">2020-04-08T06:35:17Z</dcterms:modified>
  <cp:revision>12</cp:revision>
  <dc:subject/>
  <dc:title>Слайд 1</dc:title>
</cp:coreProperties>
</file>