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A6D-F6AD-4462-A2E0-BD493E40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1B9-7C87-4377-AD50-32BB28E6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668-3B43-4DE9-A85D-F0CBAE6A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AD75-D3BE-4CA6-948B-D4F11C33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1FD-14C5-4FD8-95E9-4D581319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18A-78D3-48DF-87C0-72A3BED8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98A-0BD5-4073-8CE8-E3E1EF92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0B4-37E4-4C34-9835-D624503F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6DD-02AA-4D30-8806-CA83F3BA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FF7-DC58-47DC-9D2C-46A4A9CC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6A7-753D-4805-A381-B069BD61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58A-8CF5-4ADC-B847-364705DA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1A89-F29D-4897-9F65-D251823A6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28800" y="6286680"/>
            <a:ext cx="771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Users\Настя\Desktop\maxresdefault_2.jpg"/>
          <p:cNvPicPr/>
          <p:nvPr/>
        </p:nvPicPr>
        <p:blipFill>
          <a:blip r:embed="rId1"/>
          <a:stretch/>
        </p:blipFill>
        <p:spPr>
          <a:xfrm>
            <a:off x="142920" y="142920"/>
            <a:ext cx="88009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28800" y="50004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Составь дорожные знак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428760" y="1714680"/>
            <a:ext cx="83581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бя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оберите картинку из паз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жми на пазл левой кнопкой мыши и сразу отпусти её. Пазл будет следовать за указателем мыши в то место куда ты его направи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обы повернуть пазл, щёлкни  левой кнопкой мыши, удерживая нажатой кнопку 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Shift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на клавиа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ля закрепления пазла на слайде ,нужно ещё раз щёлкнуть по нему левой кнопкой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 переходе нажимаете стрелочку дал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 выходе из игры НЕ сохраняй изменени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7786800" y="6215040"/>
            <a:ext cx="928440" cy="357120"/>
          </a:xfrm>
          <a:custGeom>
            <a:avLst/>
            <a:gdLst>
              <a:gd name="textAreaLeft" fmla="*/ 23040 w 928440"/>
              <a:gd name="textAreaRight" fmla="*/ 905400 w 9284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21" h="21600">
                <a:moveTo>
                  <a:pt x="0" y="0"/>
                </a:moveTo>
                <a:lnTo>
                  <a:pt x="56121" y="0"/>
                </a:lnTo>
                <a:lnTo>
                  <a:pt x="56121" y="21600"/>
                </a:lnTo>
                <a:lnTo>
                  <a:pt x="0" y="21600"/>
                </a:lnTo>
                <a:close/>
              </a:path>
              <a:path fill="lightenLess" w="56121" h="21600">
                <a:moveTo>
                  <a:pt x="0" y="0"/>
                </a:moveTo>
                <a:lnTo>
                  <a:pt x="56121" y="0"/>
                </a:lnTo>
                <a:lnTo>
                  <a:pt x="54721" y="1400"/>
                </a:lnTo>
                <a:lnTo>
                  <a:pt x="1400" y="1400"/>
                </a:lnTo>
                <a:close/>
              </a:path>
              <a:path fill="darken" w="56121" h="21600">
                <a:moveTo>
                  <a:pt x="56121" y="0"/>
                </a:moveTo>
                <a:lnTo>
                  <a:pt x="56121" y="21600"/>
                </a:lnTo>
                <a:lnTo>
                  <a:pt x="54721" y="20200"/>
                </a:lnTo>
                <a:lnTo>
                  <a:pt x="54721" y="1400"/>
                </a:lnTo>
                <a:close/>
              </a:path>
              <a:path fill="darkenLess" w="56121" h="21600">
                <a:moveTo>
                  <a:pt x="56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21" y="20200"/>
                </a:lnTo>
                <a:close/>
              </a:path>
              <a:path fill="lighten" w="56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Управляющая кнопка: настраиваемая 34">
            <a:hlinkClick r:id="" action="ppaction://hlinkshowjump?jump=nextslide"/>
          </p:cNvPr>
          <p:cNvSpPr/>
          <p:nvPr/>
        </p:nvSpPr>
        <p:spPr>
          <a:xfrm>
            <a:off x="7858080" y="6286680"/>
            <a:ext cx="928800" cy="285480"/>
          </a:xfrm>
          <a:custGeom>
            <a:avLst/>
            <a:gdLst>
              <a:gd name="textAreaLeft" fmla="*/ 18360 w 928800"/>
              <a:gd name="textAreaRight" fmla="*/ 910440 w 9288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70214" h="21600">
                <a:moveTo>
                  <a:pt x="0" y="0"/>
                </a:moveTo>
                <a:lnTo>
                  <a:pt x="70214" y="0"/>
                </a:lnTo>
                <a:lnTo>
                  <a:pt x="70214" y="21600"/>
                </a:lnTo>
                <a:lnTo>
                  <a:pt x="0" y="21600"/>
                </a:lnTo>
                <a:close/>
              </a:path>
              <a:path fill="lightenLess" w="70214" h="21600">
                <a:moveTo>
                  <a:pt x="0" y="0"/>
                </a:moveTo>
                <a:lnTo>
                  <a:pt x="70214" y="0"/>
                </a:lnTo>
                <a:lnTo>
                  <a:pt x="68814" y="1400"/>
                </a:lnTo>
                <a:lnTo>
                  <a:pt x="1400" y="1400"/>
                </a:lnTo>
                <a:close/>
              </a:path>
              <a:path fill="darken" w="70214" h="21600">
                <a:moveTo>
                  <a:pt x="70214" y="0"/>
                </a:moveTo>
                <a:lnTo>
                  <a:pt x="70214" y="21600"/>
                </a:lnTo>
                <a:lnTo>
                  <a:pt x="68814" y="20200"/>
                </a:lnTo>
                <a:lnTo>
                  <a:pt x="68814" y="1400"/>
                </a:lnTo>
                <a:close/>
              </a:path>
              <a:path fill="darkenLess" w="70214" h="21600">
                <a:moveTo>
                  <a:pt x="70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814" y="20200"/>
                </a:lnTo>
                <a:close/>
              </a:path>
              <a:path fill="lighten" w="70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5" descr="0007-020-Etot-znak-takogo-roda-on-na-strazhe-peshekhoda.png"/>
          <p:cNvPicPr/>
          <p:nvPr/>
        </p:nvPicPr>
        <p:blipFill>
          <a:blip r:embed="rId2"/>
          <a:stretch/>
        </p:blipFill>
        <p:spPr>
          <a:xfrm>
            <a:off x="6643800" y="285840"/>
            <a:ext cx="2095560" cy="2200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C:\Users\Настя\Desktop\Рисунок18.png"/>
          <p:cNvPicPr/>
          <p:nvPr/>
        </p:nvPicPr>
        <p:blipFill>
          <a:blip r:embed="rId3"/>
          <a:stretch/>
        </p:blipFill>
        <p:spPr>
          <a:xfrm>
            <a:off x="5357880" y="4737240"/>
            <a:ext cx="1871640" cy="212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C:\Users\Настя\Desktop\Рисунок16.png"/>
          <p:cNvPicPr/>
          <p:nvPr/>
        </p:nvPicPr>
        <p:blipFill>
          <a:blip r:embed="rId4"/>
          <a:stretch/>
        </p:blipFill>
        <p:spPr>
          <a:xfrm>
            <a:off x="2365200" y="4425840"/>
            <a:ext cx="2163960" cy="175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C:\Users\Настя\Desktop\Рисунок19.png"/>
          <p:cNvPicPr/>
          <p:nvPr/>
        </p:nvPicPr>
        <p:blipFill>
          <a:blip r:embed="rId5"/>
          <a:stretch/>
        </p:blipFill>
        <p:spPr>
          <a:xfrm>
            <a:off x="439560" y="311040"/>
            <a:ext cx="2157480" cy="2127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C:\Users\Настя\Desktop\Рисунок17.png"/>
          <p:cNvPicPr/>
          <p:nvPr/>
        </p:nvPicPr>
        <p:blipFill>
          <a:blip r:embed="rId6"/>
          <a:stretch/>
        </p:blipFill>
        <p:spPr>
          <a:xfrm>
            <a:off x="2684520" y="2154240"/>
            <a:ext cx="2097000" cy="212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C:\Users\Настя\Desktop\Рисунок20.png"/>
          <p:cNvPicPr/>
          <p:nvPr/>
        </p:nvPicPr>
        <p:blipFill>
          <a:blip r:embed="rId7"/>
          <a:stretch/>
        </p:blipFill>
        <p:spPr>
          <a:xfrm>
            <a:off x="2959200" y="219240"/>
            <a:ext cx="1743120" cy="211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C:\Users\Настя\Desktop\Рисунок21.png"/>
          <p:cNvPicPr/>
          <p:nvPr/>
        </p:nvPicPr>
        <p:blipFill>
          <a:blip r:embed="rId8"/>
          <a:stretch/>
        </p:blipFill>
        <p:spPr>
          <a:xfrm>
            <a:off x="4390920" y="1380960"/>
            <a:ext cx="2237040" cy="2114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C:\Users\Настя\Desktop\Рисунок22.png"/>
          <p:cNvPicPr/>
          <p:nvPr/>
        </p:nvPicPr>
        <p:blipFill>
          <a:blip r:embed="rId9"/>
          <a:stretch/>
        </p:blipFill>
        <p:spPr>
          <a:xfrm>
            <a:off x="785880" y="2500200"/>
            <a:ext cx="1805040" cy="2262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C:\Users\Настя\Desktop\Рисунок23.png"/>
          <p:cNvPicPr/>
          <p:nvPr/>
        </p:nvPicPr>
        <p:blipFill>
          <a:blip r:embed="rId10"/>
          <a:stretch/>
        </p:blipFill>
        <p:spPr>
          <a:xfrm>
            <a:off x="6416640" y="3002040"/>
            <a:ext cx="2097000" cy="187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C:\Users\Настя\Desktop\Рисунок24.png"/>
          <p:cNvPicPr/>
          <p:nvPr/>
        </p:nvPicPr>
        <p:blipFill>
          <a:blip r:embed="rId11"/>
          <a:stretch/>
        </p:blipFill>
        <p:spPr>
          <a:xfrm>
            <a:off x="247680" y="4923000"/>
            <a:ext cx="223668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858080" y="6286680"/>
            <a:ext cx="928800" cy="285480"/>
          </a:xfrm>
          <a:custGeom>
            <a:avLst/>
            <a:gdLst>
              <a:gd name="textAreaLeft" fmla="*/ 18360 w 928800"/>
              <a:gd name="textAreaRight" fmla="*/ 910440 w 9288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70214" h="21600">
                <a:moveTo>
                  <a:pt x="0" y="0"/>
                </a:moveTo>
                <a:lnTo>
                  <a:pt x="70214" y="0"/>
                </a:lnTo>
                <a:lnTo>
                  <a:pt x="70214" y="21600"/>
                </a:lnTo>
                <a:lnTo>
                  <a:pt x="0" y="21600"/>
                </a:lnTo>
                <a:close/>
              </a:path>
              <a:path fill="lightenLess" w="70214" h="21600">
                <a:moveTo>
                  <a:pt x="0" y="0"/>
                </a:moveTo>
                <a:lnTo>
                  <a:pt x="70214" y="0"/>
                </a:lnTo>
                <a:lnTo>
                  <a:pt x="68814" y="1400"/>
                </a:lnTo>
                <a:lnTo>
                  <a:pt x="1400" y="1400"/>
                </a:lnTo>
                <a:close/>
              </a:path>
              <a:path fill="darken" w="70214" h="21600">
                <a:moveTo>
                  <a:pt x="70214" y="0"/>
                </a:moveTo>
                <a:lnTo>
                  <a:pt x="70214" y="21600"/>
                </a:lnTo>
                <a:lnTo>
                  <a:pt x="68814" y="20200"/>
                </a:lnTo>
                <a:lnTo>
                  <a:pt x="68814" y="1400"/>
                </a:lnTo>
                <a:close/>
              </a:path>
              <a:path fill="darkenLess" w="70214" h="21600">
                <a:moveTo>
                  <a:pt x="70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814" y="20200"/>
                </a:lnTo>
                <a:close/>
              </a:path>
              <a:path fill="lighten" w="70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Настя\Desktop\Рисунок26.png"/>
          <p:cNvPicPr/>
          <p:nvPr/>
        </p:nvPicPr>
        <p:blipFill>
          <a:blip r:embed="rId2"/>
          <a:stretch/>
        </p:blipFill>
        <p:spPr>
          <a:xfrm>
            <a:off x="4324320" y="2738520"/>
            <a:ext cx="2103480" cy="211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Настя\Desktop\Рисунок33.png"/>
          <p:cNvPicPr/>
          <p:nvPr/>
        </p:nvPicPr>
        <p:blipFill>
          <a:blip r:embed="rId3"/>
          <a:stretch/>
        </p:blipFill>
        <p:spPr>
          <a:xfrm>
            <a:off x="2046240" y="4398840"/>
            <a:ext cx="2103480" cy="1755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Настя\Desktop\Рисунок28.png"/>
          <p:cNvPicPr/>
          <p:nvPr/>
        </p:nvPicPr>
        <p:blipFill>
          <a:blip r:embed="rId4"/>
          <a:stretch/>
        </p:blipFill>
        <p:spPr>
          <a:xfrm>
            <a:off x="1714680" y="1565280"/>
            <a:ext cx="2090520" cy="212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Настя\Desktop\Рисунок29.png"/>
          <p:cNvPicPr/>
          <p:nvPr/>
        </p:nvPicPr>
        <p:blipFill>
          <a:blip r:embed="rId5"/>
          <a:stretch/>
        </p:blipFill>
        <p:spPr>
          <a:xfrm>
            <a:off x="0" y="285840"/>
            <a:ext cx="1736640" cy="2114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Настя\Desktop\Рисунок30.png"/>
          <p:cNvPicPr/>
          <p:nvPr/>
        </p:nvPicPr>
        <p:blipFill>
          <a:blip r:embed="rId6"/>
          <a:stretch/>
        </p:blipFill>
        <p:spPr>
          <a:xfrm>
            <a:off x="4467240" y="630360"/>
            <a:ext cx="2103480" cy="211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Users\Настя\Desktop\Рисунок31.png"/>
          <p:cNvPicPr/>
          <p:nvPr/>
        </p:nvPicPr>
        <p:blipFill>
          <a:blip r:embed="rId7"/>
          <a:stretch/>
        </p:blipFill>
        <p:spPr>
          <a:xfrm>
            <a:off x="6931080" y="1471680"/>
            <a:ext cx="1730160" cy="210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Users\Настя\Desktop\Рисунок32.png"/>
          <p:cNvPicPr/>
          <p:nvPr/>
        </p:nvPicPr>
        <p:blipFill>
          <a:blip r:embed="rId8"/>
          <a:stretch/>
        </p:blipFill>
        <p:spPr>
          <a:xfrm>
            <a:off x="0" y="4929120"/>
            <a:ext cx="2090880" cy="1755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Настя\Desktop\Рисунок27.png"/>
          <p:cNvPicPr/>
          <p:nvPr/>
        </p:nvPicPr>
        <p:blipFill>
          <a:blip r:embed="rId9"/>
          <a:stretch/>
        </p:blipFill>
        <p:spPr>
          <a:xfrm>
            <a:off x="4816440" y="4719600"/>
            <a:ext cx="1743120" cy="2114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Настя\Desktop\Рисунок25.png"/>
          <p:cNvPicPr/>
          <p:nvPr/>
        </p:nvPicPr>
        <p:blipFill>
          <a:blip r:embed="rId10"/>
          <a:stretch/>
        </p:blipFill>
        <p:spPr>
          <a:xfrm>
            <a:off x="6702480" y="3635280"/>
            <a:ext cx="2097000" cy="17496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1" descr="depositphotos_267542922-stock-illustration-traffic-sign-with-traffic-lights.jpg"/>
          <p:cNvPicPr/>
          <p:nvPr/>
        </p:nvPicPr>
        <p:blipFill>
          <a:blip r:embed="rId11"/>
          <a:stretch/>
        </p:blipFill>
        <p:spPr>
          <a:xfrm>
            <a:off x="6858000" y="0"/>
            <a:ext cx="21430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Управляющая кнопка: настраиваемая 12">
            <a:hlinkClick r:id="" action="ppaction://hlinkshowjump?jump=firstslide"/>
          </p:cNvPr>
          <p:cNvSpPr/>
          <p:nvPr/>
        </p:nvSpPr>
        <p:spPr>
          <a:xfrm>
            <a:off x="7715160" y="621504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Настя\Desktop\Рисунок34.png"/>
          <p:cNvPicPr/>
          <p:nvPr/>
        </p:nvPicPr>
        <p:blipFill>
          <a:blip r:embed="rId2"/>
          <a:stretch/>
        </p:blipFill>
        <p:spPr>
          <a:xfrm>
            <a:off x="500040" y="214200"/>
            <a:ext cx="2035080" cy="1596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Настя\Desktop\Рисунок35.png"/>
          <p:cNvPicPr/>
          <p:nvPr/>
        </p:nvPicPr>
        <p:blipFill>
          <a:blip r:embed="rId3"/>
          <a:stretch/>
        </p:blipFill>
        <p:spPr>
          <a:xfrm>
            <a:off x="5143680" y="4572000"/>
            <a:ext cx="204120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Настя\Desktop\Рисунок36.png"/>
          <p:cNvPicPr/>
          <p:nvPr/>
        </p:nvPicPr>
        <p:blipFill>
          <a:blip r:embed="rId4"/>
          <a:stretch/>
        </p:blipFill>
        <p:spPr>
          <a:xfrm>
            <a:off x="3286080" y="42148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Настя\Desktop\Рисунок37.png"/>
          <p:cNvPicPr/>
          <p:nvPr/>
        </p:nvPicPr>
        <p:blipFill>
          <a:blip r:embed="rId5"/>
          <a:stretch/>
        </p:blipFill>
        <p:spPr>
          <a:xfrm>
            <a:off x="285840" y="4071960"/>
            <a:ext cx="2030400" cy="202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Users\Настя\Desktop\Рисунок38.png"/>
          <p:cNvPicPr/>
          <p:nvPr/>
        </p:nvPicPr>
        <p:blipFill>
          <a:blip r:embed="rId6"/>
          <a:stretch/>
        </p:blipFill>
        <p:spPr>
          <a:xfrm>
            <a:off x="2857680" y="142920"/>
            <a:ext cx="1688760" cy="2017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Users\Настя\Desktop\Рисунок39.png"/>
          <p:cNvPicPr/>
          <p:nvPr/>
        </p:nvPicPr>
        <p:blipFill>
          <a:blip r:embed="rId7"/>
          <a:stretch/>
        </p:blipFill>
        <p:spPr>
          <a:xfrm>
            <a:off x="7108920" y="3857760"/>
            <a:ext cx="2035080" cy="2017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C:\Users\Настя\Desktop\Рисунок40.png"/>
          <p:cNvPicPr/>
          <p:nvPr/>
        </p:nvPicPr>
        <p:blipFill>
          <a:blip r:embed="rId8"/>
          <a:stretch/>
        </p:blipFill>
        <p:spPr>
          <a:xfrm>
            <a:off x="5643720" y="500040"/>
            <a:ext cx="1682640" cy="2120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C:\Users\Настя\Desktop\Рисунок41.png"/>
          <p:cNvPicPr/>
          <p:nvPr/>
        </p:nvPicPr>
        <p:blipFill>
          <a:blip r:embed="rId9"/>
          <a:stretch/>
        </p:blipFill>
        <p:spPr>
          <a:xfrm>
            <a:off x="4929120" y="2643120"/>
            <a:ext cx="2035080" cy="1749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:\Users\Настя\Desktop\Рисунок42.png"/>
          <p:cNvPicPr/>
          <p:nvPr/>
        </p:nvPicPr>
        <p:blipFill>
          <a:blip r:embed="rId10"/>
          <a:stretch/>
        </p:blipFill>
        <p:spPr>
          <a:xfrm>
            <a:off x="642960" y="2286000"/>
            <a:ext cx="2035080" cy="1749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2" descr="mitbus.gif"/>
          <p:cNvPicPr/>
          <p:nvPr/>
        </p:nvPicPr>
        <p:blipFill>
          <a:blip r:embed="rId11"/>
          <a:stretch/>
        </p:blipFill>
        <p:spPr>
          <a:xfrm>
            <a:off x="7929720" y="214200"/>
            <a:ext cx="9522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ец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днс</cp:lastModifiedBy>
  <dcterms:modified xsi:type="dcterms:W3CDTF">2020-04-08T13:38:02Z</dcterms:modified>
  <cp:revision>36</cp:revision>
  <dc:subject/>
  <dc:title>Слайд 1</dc:title>
</cp:coreProperties>
</file>