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jpeg" ContentType="image/jpeg"/>
  <Override PartName="/ppt/media/image7.png" ContentType="image/png"/>
  <Override PartName="/ppt/media/image8.jpeg" ContentType="image/jpeg"/>
  <Override PartName="/ppt/media/image9.png" ContentType="image/png"/>
  <Override PartName="/ppt/media/image10.jpeg" ContentType="image/jpeg"/>
  <Override PartName="/ppt/media/image11.png" ContentType="image/pn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2EA02-B0B6-4946-8726-EEDEB00CB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182B5-1077-42B6-B7BD-B34ABE546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02C14-4B78-43C2-8236-846D45880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DCC4C-AFE2-440A-9442-D5DF60C1F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6BA21-1F64-4405-AC42-1180E1130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D2245-B15F-4179-8A95-059D9BD7A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185AA-53D6-4933-92A9-960A641B0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53AB4-59CA-4AD3-B071-51963047E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57DB6-5D05-47D6-BD82-215818CC3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2023F-B7DB-4071-8A0D-65CD3C82E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B9D44-53AC-46E0-A321-D6E1B464D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373B1-B7DC-4057-95F4-018E01961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7E689-1AB3-4EC1-9F40-45B594CE6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5E9A7-26DE-4BA0-9EDC-C00BEA632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C6661-19B5-4072-86FF-8F420A33D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4C221-BD5F-4004-AE0E-8823C8806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FF1C4-720B-48DE-85FD-43D8EC070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80651-9220-4333-B9F3-3E3D45533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AA32F-FA2F-4D64-9B85-8CC4D7423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B81F3-4E62-49A9-AE2E-2DFFE9DD3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06B2E-2EB5-4AE2-B69B-C56750AD0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847C2-D0EB-4F44-8414-7EAB6AC7B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3AA5C-959B-4394-9B8E-FD956F150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9D2D2-2D34-4742-9A53-964E14855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29F07-3568-4FAB-8DD4-4FD59820E251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F6C21-8E2E-4AC5-9B84-CC7CA3B01608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file://commons.wikimedia.org/wiki/File:Marbled_polecat.jpg%3Fuselang=ru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273708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 txBox="1"/>
          <p:nvPr/>
        </p:nvSpPr>
        <p:spPr>
          <a:xfrm>
            <a:off x="457200" y="2785680"/>
            <a:ext cx="8229600" cy="35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lnSpc>
                <a:spcPct val="9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c00000"/>
                </a:solidFill>
                <a:latin typeface="Times New Roman"/>
              </a:rPr>
              <a:t>ПЕРЕВЯЗКА</a:t>
            </a:r>
            <a:r>
              <a:rPr b="0" lang="ru-RU" sz="4100" spc="-1" strike="noStrike">
                <a:solidFill>
                  <a:srgbClr val="c00000"/>
                </a:solidFill>
                <a:latin typeface="Times New Roman"/>
              </a:rPr>
              <a:t>  - </a:t>
            </a:r>
            <a:r>
              <a:rPr b="0" lang="ru-RU" sz="4100" spc="-1" strike="noStrike">
                <a:solidFill>
                  <a:srgbClr val="ffc000"/>
                </a:solidFill>
                <a:latin typeface="Times New Roman"/>
              </a:rPr>
              <a:t>латинское название перевязки vormela имеет немецкое происхождение и переводится как «маленький червяк»</a:t>
            </a:r>
            <a:endParaRPr b="0" lang="en-US" sz="4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" descr="Что составляет, ПЕРЕВЯЗКА (Vormela peregusna) настолько.."/>
          <p:cNvPicPr/>
          <p:nvPr/>
        </p:nvPicPr>
        <p:blipFill>
          <a:blip r:embed="rId2"/>
          <a:stretch/>
        </p:blipFill>
        <p:spPr>
          <a:xfrm>
            <a:off x="785880" y="1357200"/>
            <a:ext cx="7619760" cy="534852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Заголовок 1" descr=""/>
          <p:cNvPicPr/>
          <p:nvPr/>
        </p:nvPicPr>
        <p:blipFill>
          <a:blip r:embed="rId1"/>
          <a:stretch/>
        </p:blipFill>
        <p:spPr>
          <a:xfrm>
            <a:off x="304920" y="96840"/>
            <a:ext cx="8772480" cy="14461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Перевязка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85840" y="1785960"/>
            <a:ext cx="8715240" cy="48578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Заголовок 1" descr=""/>
          <p:cNvPicPr/>
          <p:nvPr/>
        </p:nvPicPr>
        <p:blipFill>
          <a:blip r:embed="rId1"/>
          <a:stretch/>
        </p:blipFill>
        <p:spPr>
          <a:xfrm>
            <a:off x="334800" y="73080"/>
            <a:ext cx="8693280" cy="20113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" descr="Hor_perevyazka"/>
          <p:cNvPicPr/>
          <p:nvPr/>
        </p:nvPicPr>
        <p:blipFill>
          <a:blip r:embed="rId2"/>
          <a:stretch/>
        </p:blipFill>
        <p:spPr>
          <a:xfrm>
            <a:off x="1214280" y="2000160"/>
            <a:ext cx="6715440" cy="485784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20970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" descr="Малыши"/>
          <p:cNvPicPr/>
          <p:nvPr/>
        </p:nvPicPr>
        <p:blipFill>
          <a:blip r:embed="rId2"/>
          <a:stretch/>
        </p:blipFill>
        <p:spPr>
          <a:xfrm>
            <a:off x="1500120" y="2071800"/>
            <a:ext cx="6477120" cy="435744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Заголовок 1" descr=""/>
          <p:cNvPicPr/>
          <p:nvPr/>
        </p:nvPicPr>
        <p:blipFill>
          <a:blip r:embed="rId1"/>
          <a:stretch/>
        </p:blipFill>
        <p:spPr>
          <a:xfrm>
            <a:off x="274680" y="566640"/>
            <a:ext cx="3906720" cy="46515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" descr="Перевязка (Vormela peregusna) Marbled.."/>
          <p:cNvPicPr/>
          <p:nvPr/>
        </p:nvPicPr>
        <p:blipFill>
          <a:blip r:embed="rId2"/>
          <a:stretch/>
        </p:blipFill>
        <p:spPr>
          <a:xfrm>
            <a:off x="4071960" y="285840"/>
            <a:ext cx="4857840" cy="635796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14T18:04:14Z</dcterms:created>
  <dc:creator>user</dc:creator>
  <dc:description/>
  <dc:language>en-US</dc:language>
  <cp:lastModifiedBy>user</cp:lastModifiedBy>
  <dcterms:modified xsi:type="dcterms:W3CDTF">2016-12-15T02:21:35Z</dcterms:modified>
  <cp:revision>10</cp:revision>
  <dc:subject/>
  <dc:title>Красная книга Саратовской области</dc:title>
</cp:coreProperties>
</file>