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3BC-1F06-4EB2-8D22-8BCC94FF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C8B-534A-42B5-8626-AA29555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6CB-7680-4450-8D60-AC19551A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6A8-68AC-4D1D-8DCF-EBDDBD73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927-9BF9-4ECD-846F-57C620B7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ACE3-0A24-4B95-8548-EED18CB4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89CF-1BE9-450B-9C1D-6E223AAA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3E4B-1B86-4B50-9B48-4A03A72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663-EAA9-4806-90D3-AB78927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4309-3E38-42F6-B404-B948D24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94C4-850C-4EE6-8B02-DF6E3F2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880-B8C9-4084-90CA-C147525E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5578-2FC5-4A8C-82C7-6AF4E74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ABC3-108E-4552-9FAF-82E6B843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770-C52C-4BEE-936A-3138FF5A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69DC-1A24-43E7-911C-0A1BBC0C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7DF-D21F-4DED-8594-9777B16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511-619F-4212-AD1B-121AB19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A27-96C8-448C-86F0-3BE29684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15A-8520-4D82-BDAB-A21A950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DD5-473B-41E6-B91C-6C1CA7E8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BB-616F-4D9F-9E55-12C6BBD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916-0F12-445C-9D57-064149B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232-E9BF-4A36-BA84-DCD6769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9782975b876176144842b490277ebaa1-hcl0i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307B-CC9D-4B45-82D3-BC2DC2820A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A5A-A2C7-4352-B52F-D26FAA4B7C3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923920"/>
            <a:ext cx="7772400" cy="1469880"/>
          </a:xfrm>
          <a:prstGeom prst="rect">
            <a:avLst/>
          </a:prstGeom>
          <a:solidFill>
            <a:srgbClr val="ffffff">
              <a:alpha val="70000"/>
            </a:srgbClr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иодическая система Д.И. Менделеев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438156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Атомы химического элемента имеет электронную конфигурацию 2е,8е,4е.</a:t>
            </a:r>
            <a:endParaRPr b="0" lang="en-US" sz="24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Назовите положение элемента в ПС</a:t>
            </a:r>
            <a:endParaRPr b="0" lang="en-US" sz="2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84360" y="2854440"/>
            <a:ext cx="67672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Охарактеризуйте элемент № 16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Положение в ПС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троение атома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хема строения атома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203640" y="3343320"/>
            <a:ext cx="59403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Как изменяются свойства атомов химических элементов в группах и в   периодах Периодической системы?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143240" y="3343320"/>
            <a:ext cx="4821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25116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периоде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00720" y="3789000"/>
            <a:ext cx="23860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222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20000" cy="33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0" y="2220840"/>
          <a:ext cx="208080" cy="1500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6"/>
          <p:cNvSpPr/>
          <p:nvPr/>
        </p:nvSpPr>
        <p:spPr>
          <a:xfrm>
            <a:off x="1800" y="37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42680"/>
            <a:ext cx="8858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периодах слева направо: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ряд ядер атомов увеличивается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 занятых электронами энергетических уровней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ах не изменяется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 электронов на внешнем энергетическом уровне атомов (валентных) увеличивается от 1 до 8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ус атомов уменьшается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чность связи электронов внешнего уровня (валент­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ых) с ядром увеличив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металл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войства атомов элементов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убыв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неметалл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войства атомов элементов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усиливаются.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ло каждого периода совпадает с началом заполнения нового электронного слоя.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ый период начинается элементом, атомы котор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 вещество — металл, а заканчивается элемент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ы которого образуют вещество — благородный газ.</a:t>
            </a:r>
            <a:endParaRPr b="0" lang="en-US" sz="20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333360"/>
            <a:ext cx="325116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пери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4500720" y="184464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2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12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76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39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4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9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72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76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6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3538440" cy="652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группе (А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11280" y="191484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авных подгруппах сверху вн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яд ядер атомов возраста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занятых электронами энергетических уровней  увеличивае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 атомов растё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00"/>
              </a:buClr>
              <a:buFont typeface="Arial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электронов на внешнем уровне не изменяется, оно равно номеру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чность связи электронов внешнего уровня с ядром    уменьш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металл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ойства атомов элементов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силив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металл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ойства атомов элементов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лабев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0920" y="191628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3538440" cy="652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группе (А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572320" cy="521496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6"/>
          <p:cNvSpPr/>
          <p:nvPr/>
        </p:nvSpPr>
        <p:spPr>
          <a:xfrm>
            <a:off x="357120" y="0"/>
            <a:ext cx="8572680" cy="1500120"/>
          </a:xfrm>
          <a:prstGeom prst="roundRect">
            <a:avLst>
              <a:gd name="adj" fmla="val 16667"/>
            </a:avLst>
          </a:prstGeom>
          <a:solidFill>
            <a:srgbClr val="f1e8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ите перечисленные химические элементы в порядке возрастания металлических свойств ато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Натрий, рубидий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ка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366040" cy="5157720"/>
          </a:xfrm>
          <a:prstGeom prst="rect">
            <a:avLst/>
          </a:prstGeom>
          <a:ln w="0">
            <a:noFill/>
          </a:ln>
        </p:spPr>
      </p:pic>
      <p:sp>
        <p:nvSpPr>
          <p:cNvPr id="146" name="Скругленный прямоугольник 5"/>
          <p:cNvSpPr/>
          <p:nvPr/>
        </p:nvSpPr>
        <p:spPr>
          <a:xfrm>
            <a:off x="428760" y="0"/>
            <a:ext cx="8358120" cy="1571760"/>
          </a:xfrm>
          <a:prstGeom prst="roundRect">
            <a:avLst>
              <a:gd name="adj" fmla="val 16667"/>
            </a:avLst>
          </a:prstGeom>
          <a:solidFill>
            <a:srgbClr val="f1e8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ите перечисленные химические элементы в порядке возрастания неметаллических свойств атомов: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мышьяк, бром, се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1920" y="1643040"/>
            <a:ext cx="4619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35, 36 в. 4-5 стр. 122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-4 стр. 125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952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7058160" cy="451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39760" y="5805360"/>
            <a:ext cx="4403880" cy="1052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ый химический элемент  занимает определенное место в таблице (клетку), где приведены его характеристики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298600" cy="229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28573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4330800" cy="1084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иод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Горизонтальный ряд элементов, расположенных в порядке возрастания заряда ядра их атомов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3284640"/>
            <a:ext cx="3672000" cy="1295280"/>
          </a:xfrm>
          <a:prstGeom prst="rect">
            <a:avLst/>
          </a:prstGeom>
          <a:solidFill>
            <a:srgbClr val="dec8b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периода пок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занятых электро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етически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643280" y="4076640"/>
            <a:ext cx="4176720" cy="2160720"/>
          </a:xfrm>
          <a:prstGeom prst="rect">
            <a:avLst/>
          </a:prstGeom>
          <a:solidFill>
            <a:srgbClr val="dec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ериод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ом, атомы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ют активные метал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заканчивается элемен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ы которого обра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родные г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2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иоды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Малые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Большие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2411280" y="119700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867280" y="1125360"/>
            <a:ext cx="71928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88930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ы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то вертикальный столбец элементов, атомы которых имеют одинаковое количество валентных электронов.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213000"/>
            <a:ext cx="3887640" cy="1440000"/>
          </a:xfrm>
          <a:prstGeom prst="rect">
            <a:avLst/>
          </a:prstGeom>
          <a:solidFill>
            <a:srgbClr val="dec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группы пок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валентных электр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том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708360" y="4869000"/>
            <a:ext cx="5040360" cy="1655640"/>
          </a:xfrm>
          <a:prstGeom prst="rect">
            <a:avLst/>
          </a:prstGeom>
          <a:solidFill>
            <a:srgbClr val="dec8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е,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6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e,8e,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6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24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867280" y="5734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6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549000"/>
            <a:ext cx="3456000" cy="5094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(А)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Главная подгруппа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663300"/>
                </a:solidFill>
                <a:latin typeface="Calibri"/>
              </a:rPr>
              <a:t>(В)</a:t>
            </a:r>
            <a:endParaRPr b="0" lang="en-US" sz="3600" spc="-1" strike="noStrike">
              <a:solidFill>
                <a:srgbClr val="6633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обочная  подгруппа  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2700360" y="1125360"/>
            <a:ext cx="720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5580000" y="1197000"/>
            <a:ext cx="50472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769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1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1.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назовите химические элементы который находится в четвертом периоде, во второй группе, главной подгруппе</a:t>
            </a:r>
            <a:endParaRPr b="0" lang="en-US" sz="2800" spc="-1" strike="noStrike">
              <a:solidFill>
                <a:srgbClr val="6633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00000" y="2871720"/>
            <a:ext cx="65516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47:49Z</dcterms:created>
  <dc:creator>Роман</dc:creator>
  <dc:description/>
  <dc:language>en-US</dc:language>
  <cp:lastModifiedBy>Lenovo</cp:lastModifiedBy>
  <dcterms:modified xsi:type="dcterms:W3CDTF">2020-04-08T12:18:14Z</dcterms:modified>
  <cp:revision>6</cp:revision>
  <dc:subject/>
  <dc:title>Периодическая система Д.И. Менделеева</dc:title>
</cp:coreProperties>
</file>