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B9B-EB4B-4125-9206-BE609E24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D20-E2F2-4561-96B1-56AAE34D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95F-C9D1-4417-B8A9-81D76A14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DE2-CBD9-42A4-98F9-550FD581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684C-E95A-499C-8E1D-62BD4EAF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3F8F-A4D3-417E-B6F2-3E7E68DD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91E2-6903-4583-B2BD-7A818C58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DF25-F415-496F-BFE5-24CC1680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F811-FA2F-4C35-88B7-17817B2A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21D1-56B1-4835-90CF-BBA148A7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1885-FE36-42C4-ABFA-7FD3D087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795-98C0-4CC7-A4E8-394E3BCB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5A84-1693-40C7-81EE-262C6CDA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AE0B-9BCD-4902-8AB8-F8D962FB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873A-53D3-477F-A5FF-9A7FFB17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2819-A5AD-406E-BBF6-7B27122C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DA7A-1C9E-4B23-AEA8-61352D05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694-E15B-4C3C-8B9F-9A526D8D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2AA-3E96-4D88-9044-E0A4A416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1B4-9C27-4ED9-9F6B-889FFA47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83C-13DC-439E-B22B-BD8BF6A3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BAD-015A-4E92-A265-AF360097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9CE-756C-44B5-9F0B-F9C8B520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BCF-5C4B-4BBC-ADC5-510EFC03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7EFD-C430-436C-87BA-686423A4C4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9493-5E25-4E83-95DE-AE9E698E98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0f37"/>
                </a:solidFill>
                <a:latin typeface="Tahoma"/>
              </a:rPr>
              <a:t>Урок:</a:t>
            </a:r>
            <a:br>
              <a:rPr sz="4400"/>
            </a:br>
            <a:r>
              <a:rPr b="1" lang="ru-RU" sz="3600" spc="-1" strike="noStrike">
                <a:solidFill>
                  <a:srgbClr val="7f0f37"/>
                </a:solidFill>
                <a:latin typeface="Tahoma"/>
              </a:rPr>
              <a:t>Повторение и обобщение материала по теме</a:t>
            </a:r>
            <a:r>
              <a:rPr b="1" lang="ru-RU" sz="3600" spc="-1" strike="noStrike">
                <a:solidFill>
                  <a:srgbClr val="9a1243"/>
                </a:solidFill>
                <a:latin typeface="Tahoma"/>
              </a:rPr>
              <a:t> </a:t>
            </a:r>
            <a:br>
              <a:rPr sz="3600"/>
            </a:br>
            <a:r>
              <a:rPr b="1" i="1" lang="ru-RU" sz="4400" spc="-1" strike="noStrike">
                <a:solidFill>
                  <a:srgbClr val="c91757"/>
                </a:solidFill>
                <a:latin typeface="Tahoma"/>
              </a:rPr>
              <a:t>«Периодическая система химических элементов</a:t>
            </a:r>
            <a:br>
              <a:rPr sz="4400"/>
            </a:br>
            <a:r>
              <a:rPr b="1" i="1" lang="ru-RU" sz="4400" spc="-1" strike="noStrike">
                <a:solidFill>
                  <a:srgbClr val="c91757"/>
                </a:solidFill>
                <a:latin typeface="Tahoma"/>
              </a:rPr>
              <a:t> Д.И. Менделеева».</a:t>
            </a:r>
            <a:br>
              <a:rPr sz="4400"/>
            </a:br>
            <a:r>
              <a:rPr b="1" lang="ru-RU" sz="4400" spc="-1" strike="noStrike">
                <a:solidFill>
                  <a:srgbClr val="7f0f37"/>
                </a:solidFill>
                <a:latin typeface="Tahoma"/>
              </a:rPr>
              <a:t>8 класс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0f37"/>
                </a:solidFill>
                <a:latin typeface="Tahoma"/>
              </a:rPr>
              <a:t>Этапы урока: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.Это интересно знать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этап мотивации и актуализации знаний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этап первичной проверки усвоения знаний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Неизвестное в известном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этап закрепления знаний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«звезда» для вычисления 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m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a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Al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539640" y="1773360"/>
            <a:ext cx="7559280" cy="4176360"/>
            <a:chOff x="539640" y="1773360"/>
            <a:chExt cx="7559280" cy="4176360"/>
          </a:xfrm>
        </p:grpSpPr>
        <p:sp>
          <p:nvSpPr>
            <p:cNvPr id="389" name="Text Box 5"/>
            <p:cNvSpPr/>
            <p:nvPr/>
          </p:nvSpPr>
          <p:spPr>
            <a:xfrm>
              <a:off x="1842480" y="4937760"/>
              <a:ext cx="130320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Ca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0" name="Group 6"/>
            <p:cNvGrpSpPr/>
            <p:nvPr/>
          </p:nvGrpSpPr>
          <p:grpSpPr>
            <a:xfrm>
              <a:off x="539640" y="1773360"/>
              <a:ext cx="7559280" cy="4176360"/>
              <a:chOff x="539640" y="1773360"/>
              <a:chExt cx="7559280" cy="4176360"/>
            </a:xfrm>
          </p:grpSpPr>
          <p:sp>
            <p:nvSpPr>
              <p:cNvPr id="391" name="Text Box 7"/>
              <p:cNvSpPr/>
              <p:nvPr/>
            </p:nvSpPr>
            <p:spPr>
              <a:xfrm>
                <a:off x="3928320" y="5450400"/>
                <a:ext cx="130320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S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Tahom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2" name="Group 8"/>
              <p:cNvGrpSpPr/>
              <p:nvPr/>
            </p:nvGrpSpPr>
            <p:grpSpPr>
              <a:xfrm>
                <a:off x="539640" y="1773360"/>
                <a:ext cx="7559280" cy="3677400"/>
                <a:chOff x="539640" y="1773360"/>
                <a:chExt cx="7559280" cy="3677400"/>
              </a:xfrm>
            </p:grpSpPr>
            <p:sp>
              <p:nvSpPr>
                <p:cNvPr id="393" name="Text Box 9"/>
                <p:cNvSpPr/>
                <p:nvPr/>
              </p:nvSpPr>
              <p:spPr>
                <a:xfrm>
                  <a:off x="6274440" y="4784040"/>
                  <a:ext cx="1042560" cy="49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ahoma"/>
                    </a:rPr>
                    <a:t>Ti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Tahoma"/>
                    </a:rPr>
                    <a:t>48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394" name="Group 10"/>
                <p:cNvGrpSpPr/>
                <p:nvPr/>
              </p:nvGrpSpPr>
              <p:grpSpPr>
                <a:xfrm>
                  <a:off x="539640" y="1773360"/>
                  <a:ext cx="7559280" cy="3677400"/>
                  <a:chOff x="539640" y="1773360"/>
                  <a:chExt cx="7559280" cy="3677400"/>
                </a:xfrm>
              </p:grpSpPr>
              <p:sp>
                <p:nvSpPr>
                  <p:cNvPr id="395" name="Text Box 11"/>
                  <p:cNvSpPr/>
                  <p:nvPr/>
                </p:nvSpPr>
                <p:spPr>
                  <a:xfrm>
                    <a:off x="7056360" y="3605400"/>
                    <a:ext cx="1042560" cy="49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i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2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96" name="Group 12"/>
                  <p:cNvGrpSpPr/>
                  <p:nvPr/>
                </p:nvGrpSpPr>
                <p:grpSpPr>
                  <a:xfrm>
                    <a:off x="539640" y="1773360"/>
                    <a:ext cx="6777000" cy="3677400"/>
                    <a:chOff x="539640" y="1773360"/>
                    <a:chExt cx="6777000" cy="3677400"/>
                  </a:xfrm>
                </p:grpSpPr>
                <p:sp>
                  <p:nvSpPr>
                    <p:cNvPr id="397" name="Text Box 13"/>
                    <p:cNvSpPr/>
                    <p:nvPr/>
                  </p:nvSpPr>
                  <p:spPr>
                    <a:xfrm>
                      <a:off x="6274080" y="2273040"/>
                      <a:ext cx="1042560" cy="49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398" name="Group 14"/>
                    <p:cNvGrpSpPr/>
                    <p:nvPr/>
                  </p:nvGrpSpPr>
                  <p:grpSpPr>
                    <a:xfrm>
                      <a:off x="539640" y="1773360"/>
                      <a:ext cx="6515280" cy="3677400"/>
                      <a:chOff x="539640" y="1773360"/>
                      <a:chExt cx="6515280" cy="3677400"/>
                    </a:xfrm>
                  </p:grpSpPr>
                  <p:sp>
                    <p:nvSpPr>
                      <p:cNvPr id="399" name="Text Box 15"/>
                      <p:cNvSpPr/>
                      <p:nvPr/>
                    </p:nvSpPr>
                    <p:spPr>
                      <a:xfrm>
                        <a:off x="3927960" y="1773360"/>
                        <a:ext cx="1042560" cy="499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B</a:t>
                        </a:r>
                        <a:r>
                          <a:rPr b="0" lang="ru-RU" sz="2400" spc="-1" strike="noStrike" baseline="-25000">
                            <a:solidFill>
                              <a:srgbClr val="000000"/>
                            </a:solidFill>
                            <a:latin typeface="Tahoma"/>
                          </a:rPr>
                          <a:t>11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400" name="Group 16"/>
                      <p:cNvGrpSpPr/>
                      <p:nvPr/>
                    </p:nvGrpSpPr>
                    <p:grpSpPr>
                      <a:xfrm>
                        <a:off x="539640" y="2120040"/>
                        <a:ext cx="6515280" cy="3330720"/>
                        <a:chOff x="539640" y="2120040"/>
                        <a:chExt cx="6515280" cy="3330720"/>
                      </a:xfrm>
                    </p:grpSpPr>
                    <p:sp>
                      <p:nvSpPr>
                        <p:cNvPr id="401" name="Text Box 17"/>
                        <p:cNvSpPr/>
                        <p:nvPr/>
                      </p:nvSpPr>
                      <p:spPr>
                        <a:xfrm>
                          <a:off x="1842480" y="2120040"/>
                          <a:ext cx="1003320" cy="499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Be</a:t>
                          </a:r>
                          <a:r>
                            <a:rPr b="0" lang="ru-RU" sz="2400" spc="-1" strike="noStrike" baseline="-25000">
                              <a:solidFill>
                                <a:srgbClr val="000000"/>
                              </a:solidFill>
                              <a:latin typeface="Tahoma"/>
                            </a:rPr>
                            <a:t>9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402" name="Group 18"/>
                        <p:cNvGrpSpPr/>
                        <p:nvPr/>
                      </p:nvGrpSpPr>
                      <p:grpSpPr>
                        <a:xfrm>
                          <a:off x="539640" y="2120040"/>
                          <a:ext cx="6515280" cy="3330720"/>
                          <a:chOff x="539640" y="2120040"/>
                          <a:chExt cx="6515280" cy="3330720"/>
                        </a:xfrm>
                      </p:grpSpPr>
                      <p:grpSp>
                        <p:nvGrpSpPr>
                          <p:cNvPr id="403" name="Group 19"/>
                          <p:cNvGrpSpPr/>
                          <p:nvPr/>
                        </p:nvGrpSpPr>
                        <p:grpSpPr>
                          <a:xfrm>
                            <a:off x="539640" y="2120040"/>
                            <a:ext cx="6515280" cy="3330720"/>
                            <a:chOff x="539640" y="2120040"/>
                            <a:chExt cx="6515280" cy="3330720"/>
                          </a:xfrm>
                        </p:grpSpPr>
                        <p:grpSp>
                          <p:nvGrpSpPr>
                            <p:cNvPr id="404" name="Group 20"/>
                            <p:cNvGrpSpPr/>
                            <p:nvPr/>
                          </p:nvGrpSpPr>
                          <p:grpSpPr>
                            <a:xfrm>
                              <a:off x="1842120" y="2120040"/>
                              <a:ext cx="5212800" cy="3330720"/>
                              <a:chOff x="1842120" y="2120040"/>
                              <a:chExt cx="5212800" cy="3330720"/>
                            </a:xfrm>
                          </p:grpSpPr>
                          <p:sp>
                            <p:nvSpPr>
                              <p:cNvPr id="405" name="Oval 21"/>
                              <p:cNvSpPr/>
                              <p:nvPr/>
                            </p:nvSpPr>
                            <p:spPr>
                              <a:xfrm>
                                <a:off x="3405960" y="3119040"/>
                                <a:ext cx="2085480" cy="1332360"/>
                              </a:xfrm>
                              <a:prstGeom prst="ellips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6" name="Line 22"/>
                              <p:cNvSpPr/>
                              <p:nvPr/>
                            </p:nvSpPr>
                            <p:spPr>
                              <a:xfrm>
                                <a:off x="4448160" y="2120040"/>
                                <a:ext cx="0" cy="9990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7" name="Line 23"/>
                              <p:cNvSpPr/>
                              <p:nvPr/>
                            </p:nvSpPr>
                            <p:spPr>
                              <a:xfrm>
                                <a:off x="4448160" y="4451760"/>
                                <a:ext cx="0" cy="9990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8" name="Line 24"/>
                              <p:cNvSpPr/>
                              <p:nvPr/>
                            </p:nvSpPr>
                            <p:spPr>
                              <a:xfrm>
                                <a:off x="5491440" y="3785400"/>
                                <a:ext cx="15634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9" name="Line 25"/>
                              <p:cNvSpPr/>
                              <p:nvPr/>
                            </p:nvSpPr>
                            <p:spPr>
                              <a:xfrm flipH="1">
                                <a:off x="1842120" y="3785400"/>
                                <a:ext cx="15634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0" name="Line 26"/>
                              <p:cNvSpPr/>
                              <p:nvPr/>
                            </p:nvSpPr>
                            <p:spPr>
                              <a:xfrm flipV="1">
                                <a:off x="5229720" y="2619360"/>
                                <a:ext cx="1303920" cy="6660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1" name="Line 27"/>
                              <p:cNvSpPr/>
                              <p:nvPr/>
                            </p:nvSpPr>
                            <p:spPr>
                              <a:xfrm flipH="1">
                                <a:off x="2364480" y="4285080"/>
                                <a:ext cx="1301760" cy="666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2" name="Line 28"/>
                              <p:cNvSpPr/>
                              <p:nvPr/>
                            </p:nvSpPr>
                            <p:spPr>
                              <a:xfrm>
                                <a:off x="2624040" y="2619360"/>
                                <a:ext cx="1041840" cy="6660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3" name="Line 29"/>
                              <p:cNvSpPr/>
                              <p:nvPr/>
                            </p:nvSpPr>
                            <p:spPr>
                              <a:xfrm>
                                <a:off x="5229720" y="4285080"/>
                                <a:ext cx="1043640" cy="4993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14" name="Text Box 30"/>
                            <p:cNvSpPr/>
                            <p:nvPr/>
                          </p:nvSpPr>
                          <p:spPr>
                            <a:xfrm>
                              <a:off x="539640" y="3605040"/>
                              <a:ext cx="1302840" cy="4993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Mg</a:t>
                              </a:r>
                              <a:r>
                                <a:rPr b="0" lang="ru-RU" sz="2400" spc="-1" strike="noStrike" baseline="-25000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24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15" name="Text Box 31"/>
                          <p:cNvSpPr/>
                          <p:nvPr/>
                        </p:nvSpPr>
                        <p:spPr>
                          <a:xfrm>
                            <a:off x="3927960" y="3605040"/>
                            <a:ext cx="1042560" cy="4993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36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Al</a:t>
                            </a:r>
                            <a:endParaRPr b="0" lang="en-US" sz="36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ТЕСТ « Проверь себ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Как изменяется радиус атома химического элемента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ио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величением зарядов их ядер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) уменьшает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увеличивает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не меняет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сначала увеличивается, потом уменьшае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Как изменяются свойства атомов химического элемента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ио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величением зарядов их ядер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усиливаются металлические свойств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) усиливаются неметаллические свойств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не меняют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ослабевают неметаллические свой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Какое из перечисленных веществ проявляет наиболее ярко выраженные свойства металлов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литий;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) рубид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    В) калий;   Г) натр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Сколько электронов находится на внешнем энергетическом уровне атома фосфор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3;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) 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   В) 7;   Г) 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Дана схема строения  атома  )2 )8 )Х )1 . Какой это элемент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натрий;  Б) кальций;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) кал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  Г) арго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0f37"/>
                </a:solidFill>
                <a:latin typeface="Tahoma"/>
              </a:rPr>
              <a:t>Игра</a:t>
            </a:r>
            <a:r>
              <a:rPr b="0" lang="ru-RU" sz="4000" spc="-1" strike="noStrike">
                <a:solidFill>
                  <a:srgbClr val="ff5050"/>
                </a:solidFill>
                <a:latin typeface="Tahoma"/>
              </a:rPr>
              <a:t> «Волшебная сера»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гадай любой химический элемент периодической системы. Запиши его в тетрад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ножьте порядковый номер задуманного элемента на низшую  валентность се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бавьте к полученному числу порядковый номер се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ножьте  полученную сумму на высшую валентность элемента – левого соседа серы в периодической сис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бавьте к полученному числу молекулярную массу высшего оксида се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ножьте  полученную сумму на молекулярную массу высшего оксида нижнего соседа серы в периодической сис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вас получилась цифра. Если полученное число оканчивается тремя нулями, вы все сделали правиль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Пример выполнения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например, загадали элемент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</a:rPr>
              <a:t>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Са) * низшая валентност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е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20 * 2 = 4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40 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, т.е. 40 + 16=5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56 * высшая валентность Р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е 56 * 5=2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280 + 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,т.е 280 + 80=36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360 * 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.е.360 * 100=36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36 – 16=20, а э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</a:rPr>
              <a:t>(Са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0f37"/>
                </a:solidFill>
                <a:latin typeface="Times New Roman"/>
              </a:rPr>
              <a:t>Рефлексия: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  Получилось ли нам доказать, что периодический закон  велик, обладает удивительной живучестью и будет продолжать развиваться в будущ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 Как вы оцениваете свои знания данной тем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 А какое у вас настроение? Оцените его жест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0f37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. 34-39 повтор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адемик Ферсман А.Е. сказал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005e"/>
                </a:solidFill>
                <a:latin typeface="Tahoma"/>
              </a:rPr>
              <a:t>«Мир – громадная лаборатория, где все связано друг с другом, как отдельные шестерни в машине…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 как бы закончили эту фраз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979280" y="3213000"/>
            <a:ext cx="4321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7f0f37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8320" y="15998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39254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05:55:20Z</dcterms:created>
  <dc:creator>--</dc:creator>
  <dc:description/>
  <dc:language>en-US</dc:language>
  <cp:lastModifiedBy>Lenovo</cp:lastModifiedBy>
  <dcterms:modified xsi:type="dcterms:W3CDTF">2020-04-08T12:44:13Z</dcterms:modified>
  <cp:revision>12</cp:revision>
  <dc:subject/>
  <dc:title>Урок: Повторение и обобщение материала по теме  «Периодическая система химических элементов  Д.И. Менделеева и строение атома». 8 класс</dc:title>
</cp:coreProperties>
</file>