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989-8751-4303-9D25-5F5309E9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6BF-F8EC-49C1-AF73-A571DE37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F5B-8D21-4D2F-9BF1-49304132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D8F-D991-4DD3-96BB-986E2E1E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306B-B843-45CB-BBEF-7CEFAEF8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B1C2-8EDC-4F5F-9636-DC375F9A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8590-AC6E-43D1-A7D7-E2384CA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3CD9-39A6-42D4-921D-87208807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98F4-2CC0-45B5-B3D2-EC0586F9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708E-55F3-494A-9E76-DC8F4FA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D7F7-2346-4D19-B21D-9E6B461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781-A5C6-43FB-B246-66B9E356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57F0-32E3-45D7-882A-636887C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A341-9E22-439B-9865-6787200C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D91D-55D1-41F7-A6C2-B6A5ACA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0EC5-1A56-4CC3-920B-AE188AB4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9112-E84E-42BE-BDDA-B0525EEC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627-0077-48D1-AC83-A01F14C7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8D2-D37A-4454-929E-533A547C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A65-0AEF-428C-8D93-5EAB4975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AD4-E16D-4EBF-920F-D6CB37B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2BE-6C7C-4D3B-BD52-F62DFAD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F99-3B57-4E3E-A2B4-C687874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A8D-B590-4ED8-9905-126386E0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9D30-F026-4D7D-AB04-27F88B40AF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665B-8393-4E3C-A1E2-D43B52DB9C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f37"/>
                </a:solidFill>
                <a:latin typeface="Tahoma"/>
              </a:rPr>
              <a:t>Урок:</a:t>
            </a:r>
            <a:br>
              <a:rPr sz="4400"/>
            </a:br>
            <a:r>
              <a:rPr b="1" lang="ru-RU" sz="3600" spc="-1" strike="noStrike">
                <a:solidFill>
                  <a:srgbClr val="7f0f37"/>
                </a:solidFill>
                <a:latin typeface="Tahoma"/>
              </a:rPr>
              <a:t>Повторение и обобщение материала по теме</a:t>
            </a:r>
            <a:r>
              <a:rPr b="1" lang="ru-RU" sz="3600" spc="-1" strike="noStrike">
                <a:solidFill>
                  <a:srgbClr val="9a1243"/>
                </a:solidFill>
                <a:latin typeface="Tahoma"/>
              </a:rPr>
              <a:t> </a:t>
            </a:r>
            <a:br>
              <a:rPr sz="3600"/>
            </a:br>
            <a:r>
              <a:rPr b="1" i="1" lang="ru-RU" sz="4400" spc="-1" strike="noStrike">
                <a:solidFill>
                  <a:srgbClr val="c91757"/>
                </a:solidFill>
                <a:latin typeface="Tahoma"/>
              </a:rPr>
              <a:t>«Периодическая система химических элементов</a:t>
            </a:r>
            <a:br>
              <a:rPr sz="4400"/>
            </a:br>
            <a:r>
              <a:rPr b="1" i="1" lang="ru-RU" sz="4400" spc="-1" strike="noStrike">
                <a:solidFill>
                  <a:srgbClr val="c91757"/>
                </a:solidFill>
                <a:latin typeface="Tahoma"/>
              </a:rPr>
              <a:t> Д.И. Менделеева».</a:t>
            </a:r>
            <a:br>
              <a:rPr sz="4400"/>
            </a:br>
            <a:r>
              <a:rPr b="1" lang="ru-RU" sz="4400" spc="-1" strike="noStrike">
                <a:solidFill>
                  <a:srgbClr val="7f0f37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f37"/>
                </a:solidFill>
                <a:latin typeface="Tahoma"/>
              </a:rPr>
              <a:t>Этапы урока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.Это интересно знать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этап мотивации и актуализации знаний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этап первичной проверки усвоения знан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Неизвестное в известно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(этап закрепления знаний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«звезда» для вычисления 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m</a:t>
            </a:r>
            <a:r>
              <a:rPr b="0" lang="en-US" sz="4000" spc="-1" strike="noStrike" baseline="-25000">
                <a:solidFill>
                  <a:srgbClr val="95934b"/>
                </a:solidFill>
                <a:latin typeface="Tahoma"/>
              </a:rPr>
              <a:t>a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Al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539640" y="1773360"/>
            <a:ext cx="7559280" cy="4176360"/>
            <a:chOff x="539640" y="1773360"/>
            <a:chExt cx="7559280" cy="4176360"/>
          </a:xfrm>
        </p:grpSpPr>
        <p:sp>
          <p:nvSpPr>
            <p:cNvPr id="389" name="Text Box 5"/>
            <p:cNvSpPr/>
            <p:nvPr/>
          </p:nvSpPr>
          <p:spPr>
            <a:xfrm>
              <a:off x="1842480" y="4937760"/>
              <a:ext cx="13032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C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0" name="Group 6"/>
            <p:cNvGrpSpPr/>
            <p:nvPr/>
          </p:nvGrpSpPr>
          <p:grpSpPr>
            <a:xfrm>
              <a:off x="539640" y="1773360"/>
              <a:ext cx="7559280" cy="4176360"/>
              <a:chOff x="539640" y="1773360"/>
              <a:chExt cx="7559280" cy="4176360"/>
            </a:xfrm>
          </p:grpSpPr>
          <p:sp>
            <p:nvSpPr>
              <p:cNvPr id="391" name="Text Box 7"/>
              <p:cNvSpPr/>
              <p:nvPr/>
            </p:nvSpPr>
            <p:spPr>
              <a:xfrm>
                <a:off x="3928320" y="5450400"/>
                <a:ext cx="13032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S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Tahom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2" name="Group 8"/>
              <p:cNvGrpSpPr/>
              <p:nvPr/>
            </p:nvGrpSpPr>
            <p:grpSpPr>
              <a:xfrm>
                <a:off x="539640" y="1773360"/>
                <a:ext cx="7559280" cy="3677400"/>
                <a:chOff x="539640" y="1773360"/>
                <a:chExt cx="7559280" cy="3677400"/>
              </a:xfrm>
            </p:grpSpPr>
            <p:sp>
              <p:nvSpPr>
                <p:cNvPr id="393" name="Text Box 9"/>
                <p:cNvSpPr/>
                <p:nvPr/>
              </p:nvSpPr>
              <p:spPr>
                <a:xfrm>
                  <a:off x="6274440" y="4784040"/>
                  <a:ext cx="1042560" cy="49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ahoma"/>
                    </a:rPr>
                    <a:t>Ti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48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94" name="Group 10"/>
                <p:cNvGrpSpPr/>
                <p:nvPr/>
              </p:nvGrpSpPr>
              <p:grpSpPr>
                <a:xfrm>
                  <a:off x="539640" y="1773360"/>
                  <a:ext cx="7559280" cy="3677400"/>
                  <a:chOff x="539640" y="1773360"/>
                  <a:chExt cx="7559280" cy="3677400"/>
                </a:xfrm>
              </p:grpSpPr>
              <p:sp>
                <p:nvSpPr>
                  <p:cNvPr id="395" name="Text Box 11"/>
                  <p:cNvSpPr/>
                  <p:nvPr/>
                </p:nvSpPr>
                <p:spPr>
                  <a:xfrm>
                    <a:off x="7056360" y="3605400"/>
                    <a:ext cx="1042560" cy="49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i</a:t>
                    </a:r>
                    <a:r>
                      <a:rPr b="0" lang="ru-RU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2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96" name="Group 12"/>
                  <p:cNvGrpSpPr/>
                  <p:nvPr/>
                </p:nvGrpSpPr>
                <p:grpSpPr>
                  <a:xfrm>
                    <a:off x="539640" y="1773360"/>
                    <a:ext cx="6777000" cy="3677400"/>
                    <a:chOff x="539640" y="1773360"/>
                    <a:chExt cx="6777000" cy="3677400"/>
                  </a:xfrm>
                </p:grpSpPr>
                <p:sp>
                  <p:nvSpPr>
                    <p:cNvPr id="397" name="Text Box 13"/>
                    <p:cNvSpPr/>
                    <p:nvPr/>
                  </p:nvSpPr>
                  <p:spPr>
                    <a:xfrm>
                      <a:off x="6274080" y="2273040"/>
                      <a:ext cx="1042560" cy="49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98" name="Group 14"/>
                    <p:cNvGrpSpPr/>
                    <p:nvPr/>
                  </p:nvGrpSpPr>
                  <p:grpSpPr>
                    <a:xfrm>
                      <a:off x="539640" y="1773360"/>
                      <a:ext cx="6515280" cy="3677400"/>
                      <a:chOff x="539640" y="1773360"/>
                      <a:chExt cx="6515280" cy="3677400"/>
                    </a:xfrm>
                  </p:grpSpPr>
                  <p:sp>
                    <p:nvSpPr>
                      <p:cNvPr id="399" name="Text Box 15"/>
                      <p:cNvSpPr/>
                      <p:nvPr/>
                    </p:nvSpPr>
                    <p:spPr>
                      <a:xfrm>
                        <a:off x="3927960" y="1773360"/>
                        <a:ext cx="1042560" cy="499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B</a:t>
                        </a:r>
                        <a:r>
                          <a:rPr b="0" lang="ru-RU" sz="2400" spc="-1" strike="noStrike" baseline="-25000">
                            <a:solidFill>
                              <a:srgbClr val="000000"/>
                            </a:solidFill>
                            <a:latin typeface="Tahoma"/>
                          </a:rPr>
                          <a:t>1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00" name="Group 16"/>
                      <p:cNvGrpSpPr/>
                      <p:nvPr/>
                    </p:nvGrpSpPr>
                    <p:grpSpPr>
                      <a:xfrm>
                        <a:off x="539640" y="2120040"/>
                        <a:ext cx="6515280" cy="3330720"/>
                        <a:chOff x="539640" y="2120040"/>
                        <a:chExt cx="6515280" cy="3330720"/>
                      </a:xfrm>
                    </p:grpSpPr>
                    <p:sp>
                      <p:nvSpPr>
                        <p:cNvPr id="401" name="Text Box 17"/>
                        <p:cNvSpPr/>
                        <p:nvPr/>
                      </p:nvSpPr>
                      <p:spPr>
                        <a:xfrm>
                          <a:off x="1842480" y="2120040"/>
                          <a:ext cx="1003320" cy="499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Be</a:t>
                          </a:r>
                          <a:r>
                            <a:rPr b="0" lang="ru-RU" sz="2400" spc="-1" strike="noStrike" baseline="-25000">
                              <a:solidFill>
                                <a:srgbClr val="000000"/>
                              </a:solidFill>
                              <a:latin typeface="Tahoma"/>
                            </a:rPr>
                            <a:t>9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02" name="Group 18"/>
                        <p:cNvGrpSpPr/>
                        <p:nvPr/>
                      </p:nvGrpSpPr>
                      <p:grpSpPr>
                        <a:xfrm>
                          <a:off x="539640" y="2120040"/>
                          <a:ext cx="6515280" cy="3330720"/>
                          <a:chOff x="539640" y="2120040"/>
                          <a:chExt cx="6515280" cy="3330720"/>
                        </a:xfrm>
                      </p:grpSpPr>
                      <p:grpSp>
                        <p:nvGrpSpPr>
                          <p:cNvPr id="403" name="Group 19"/>
                          <p:cNvGrpSpPr/>
                          <p:nvPr/>
                        </p:nvGrpSpPr>
                        <p:grpSpPr>
                          <a:xfrm>
                            <a:off x="539640" y="2120040"/>
                            <a:ext cx="6515280" cy="3330720"/>
                            <a:chOff x="539640" y="2120040"/>
                            <a:chExt cx="6515280" cy="3330720"/>
                          </a:xfrm>
                        </p:grpSpPr>
                        <p:grpSp>
                          <p:nvGrpSpPr>
                            <p:cNvPr id="404" name="Group 20"/>
                            <p:cNvGrpSpPr/>
                            <p:nvPr/>
                          </p:nvGrpSpPr>
                          <p:grpSpPr>
                            <a:xfrm>
                              <a:off x="1842120" y="2120040"/>
                              <a:ext cx="5212800" cy="3330720"/>
                              <a:chOff x="1842120" y="2120040"/>
                              <a:chExt cx="5212800" cy="3330720"/>
                            </a:xfrm>
                          </p:grpSpPr>
                          <p:sp>
                            <p:nvSpPr>
                              <p:cNvPr id="405" name="Oval 21"/>
                              <p:cNvSpPr/>
                              <p:nvPr/>
                            </p:nvSpPr>
                            <p:spPr>
                              <a:xfrm>
                                <a:off x="3405960" y="3119040"/>
                                <a:ext cx="2085480" cy="1332360"/>
                              </a:xfrm>
                              <a:prstGeom prst="ellipse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6" name="Line 22"/>
                              <p:cNvSpPr/>
                              <p:nvPr/>
                            </p:nvSpPr>
                            <p:spPr>
                              <a:xfrm>
                                <a:off x="4448160" y="2120040"/>
                                <a:ext cx="0" cy="999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7" name="Line 23"/>
                              <p:cNvSpPr/>
                              <p:nvPr/>
                            </p:nvSpPr>
                            <p:spPr>
                              <a:xfrm>
                                <a:off x="4448160" y="4451760"/>
                                <a:ext cx="0" cy="999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Line 24"/>
                              <p:cNvSpPr/>
                              <p:nvPr/>
                            </p:nvSpPr>
                            <p:spPr>
                              <a:xfrm>
                                <a:off x="5491440" y="3785400"/>
                                <a:ext cx="15634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9" name="Line 25"/>
                              <p:cNvSpPr/>
                              <p:nvPr/>
                            </p:nvSpPr>
                            <p:spPr>
                              <a:xfrm flipH="1">
                                <a:off x="1842120" y="3785400"/>
                                <a:ext cx="15634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0" name="Line 26"/>
                              <p:cNvSpPr/>
                              <p:nvPr/>
                            </p:nvSpPr>
                            <p:spPr>
                              <a:xfrm flipV="1">
                                <a:off x="5229720" y="2619360"/>
                                <a:ext cx="1303920" cy="666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1" name="Line 27"/>
                              <p:cNvSpPr/>
                              <p:nvPr/>
                            </p:nvSpPr>
                            <p:spPr>
                              <a:xfrm flipH="1">
                                <a:off x="2364480" y="4285080"/>
                                <a:ext cx="1301760" cy="66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2" name="Line 28"/>
                              <p:cNvSpPr/>
                              <p:nvPr/>
                            </p:nvSpPr>
                            <p:spPr>
                              <a:xfrm>
                                <a:off x="2624040" y="2619360"/>
                                <a:ext cx="1041840" cy="6660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3" name="Line 29"/>
                              <p:cNvSpPr/>
                              <p:nvPr/>
                            </p:nvSpPr>
                            <p:spPr>
                              <a:xfrm>
                                <a:off x="5229720" y="4285080"/>
                                <a:ext cx="1043640" cy="4993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14" name="Text Box 30"/>
                            <p:cNvSpPr/>
                            <p:nvPr/>
                          </p:nvSpPr>
                          <p:spPr>
                            <a:xfrm>
                              <a:off x="539640" y="3605040"/>
                              <a:ext cx="1302840" cy="4993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Mg</a:t>
                              </a:r>
                              <a:r>
                                <a:rPr b="0" lang="ru-RU" sz="2400" spc="-1" strike="noStrike" baseline="-25000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2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15" name="Text Box 31"/>
                          <p:cNvSpPr/>
                          <p:nvPr/>
                        </p:nvSpPr>
                        <p:spPr>
                          <a:xfrm>
                            <a:off x="3927960" y="3605040"/>
                            <a:ext cx="1042560" cy="4993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36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Al</a:t>
                            </a:r>
                            <a:endParaRPr b="0" lang="en-US" sz="36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ahoma"/>
              </a:rPr>
              <a:t>ТЕСТ « Проверь себ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Как изменяется радиус атома химического элемента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ио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зарядов их ядер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) уменьшае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увеличивае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не меняе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сначала увеличивается, потом уменьша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Как изменяются свойства атомов химического элемента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ио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величением зарядов их ядер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усиливаются металлические свойств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) усиливаются неметаллические свойств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не меняют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ослабевают неметаллические свой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Какое из перечисленных веществ проявляет наиболее ярко выраженные свойства металлов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литий;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) рубид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    В) калий;   Г) натр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Сколько электронов находится на внешнем энергетическом уровне атома фосфор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3;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) 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   В) 7;   Г) 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Дана схема строения  атома  )2 )8 )Х )1 . Какой это элемент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натрий;  Б) кальций;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) ка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  Г) арго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0f37"/>
                </a:solidFill>
                <a:latin typeface="Tahoma"/>
              </a:rPr>
              <a:t>Игра</a:t>
            </a:r>
            <a:r>
              <a:rPr b="0" lang="ru-RU" sz="4000" spc="-1" strike="noStrike">
                <a:solidFill>
                  <a:srgbClr val="ff5050"/>
                </a:solidFill>
                <a:latin typeface="Tahoma"/>
              </a:rPr>
              <a:t> «Волшебная сера»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адай любой химический элемент периодической системы. Запиши его в тетрад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ьте порядковый номер задуманного элемента на низшую  валентность с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авьте к полученному числу порядковый номер с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ьте  полученную сумму на высшую валентность элемента – левого соседа серы в периодической сис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авьте к полученному числу молекулярную массу высшего оксида с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ьте  полученную сумму на молекулярную массу высшего оксида нижнего соседа серы в периодической сис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вас получилась цифра. Если полученное число оканчивается тремя нулями, вы все сделали прави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Пример выполне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например, загадали элемент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а) * низшая валентнос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е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0 * 2 = 4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40 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 т.е. 40 + 16=5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56 * высшая валентность Р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е 56 * 5=2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280 + 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,т.е 280 + 80=36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360 * 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.е.360 * 100=36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36 – 16=20, а э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</a:rPr>
              <a:t>(Са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f37"/>
                </a:solidFill>
                <a:latin typeface="Times New Roman"/>
              </a:rPr>
              <a:t>Рефлексия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 Получилось ли нам доказать, что периодический закон  велик, обладает удивительной живучестью и будет продолжать развиваться в будущ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Как вы оцениваете свои знания данной тем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 А какое у вас настроение? Оцените его жест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f37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. 34-39 повтор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адемик Ферсман А.Е. сказал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8005e"/>
                </a:solidFill>
                <a:latin typeface="Tahoma"/>
              </a:rPr>
              <a:t>«Мир – громадная лаборатория, где все связано друг с другом, как отдельные шестерни в машине…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как бы закончили эту фраз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979280" y="3213000"/>
            <a:ext cx="432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7f0f37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8320" y="15998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39254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5:55:20Z</dcterms:created>
  <dc:creator>--</dc:creator>
  <dc:description/>
  <dc:language>en-US</dc:language>
  <cp:lastModifiedBy>Lenovo</cp:lastModifiedBy>
  <dcterms:modified xsi:type="dcterms:W3CDTF">2020-04-08T12:44:13Z</dcterms:modified>
  <cp:revision>12</cp:revision>
  <dc:subject/>
  <dc:title>Урок: Повторение и обобщение материала по теме  «Периодическая система химических элементов  Д.И. Менделеева и строение атома». 8 класс</dc:title>
</cp:coreProperties>
</file>