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F38-23FB-4F3A-801B-6FB8E7B4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1D4-9050-4D07-A5BE-9C98308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9CA-EC4A-49AB-91E8-B85EB8F7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BE2-A58A-4353-BAF5-BA614C6B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DE8-C5A3-4C80-9110-590F3892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EEA-D274-4730-BEE8-C8E24D25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F7E-4ECE-40F5-8111-EAD2EDD4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324-F2F8-448E-BDDF-DECDC802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3E5-DEE8-4881-80FB-15F2CE5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52F-16D9-410E-AA81-F656A157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B37-5F1D-416E-BFF2-ED66828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995-FA24-424F-A212-A02AC3F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A3FB-E2EF-4012-8548-4BD674E431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speakenglishwell.ru/vremena/nastoyashhee/present-simple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peakenglishwell.ru/vremena/nastoyashhee/present-simple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Present simp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ы использу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hey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27280" y="1534680"/>
            <a:ext cx="4259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использ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164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</a:rPr>
              <a:t>S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</a:rPr>
              <a:t>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Arial"/>
              </a:rPr>
              <a:t>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10"/>
          <p:cNvSpPr/>
          <p:nvPr/>
        </p:nvSpPr>
        <p:spPr>
          <a:xfrm>
            <a:off x="539640" y="2708280"/>
            <a:ext cx="1800360" cy="792000"/>
          </a:xfrm>
          <a:prstGeom prst="roundRect">
            <a:avLst>
              <a:gd name="adj" fmla="val 16667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лежа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on’t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live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n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1"/>
          <p:cNvSpPr/>
          <p:nvPr/>
        </p:nvSpPr>
        <p:spPr>
          <a:xfrm>
            <a:off x="2556000" y="2708280"/>
            <a:ext cx="1584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es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2"/>
          <p:cNvSpPr/>
          <p:nvPr/>
        </p:nvSpPr>
        <p:spPr>
          <a:xfrm>
            <a:off x="4356000" y="2700360"/>
            <a:ext cx="165600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казуемое в1 форме (без оконч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3"/>
          <p:cNvSpPr/>
          <p:nvPr/>
        </p:nvSpPr>
        <p:spPr>
          <a:xfrm>
            <a:off x="6300720" y="2708280"/>
            <a:ext cx="2016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. члены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201680" y="2133720"/>
            <a:ext cx="47628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013200" y="2062080"/>
            <a:ext cx="66996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4716360" y="2127240"/>
            <a:ext cx="706680" cy="57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6804000" y="2178000"/>
            <a:ext cx="696960" cy="469800"/>
          </a:xfrm>
          <a:prstGeom prst="rect">
            <a:avLst/>
          </a:prstGeom>
          <a:ln w="0">
            <a:noFill/>
          </a:ln>
        </p:spPr>
      </p:pic>
      <p:cxnSp>
        <p:nvCxnSpPr>
          <p:cNvPr id="97" name="Прямая со стрелкой 15"/>
          <p:cNvCxnSpPr/>
          <p:nvPr/>
        </p:nvCxnSpPr>
        <p:spPr>
          <a:xfrm>
            <a:off x="971280" y="1395000"/>
            <a:ext cx="1080" cy="97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2841480" y="1098720"/>
            <a:ext cx="343080" cy="131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4595760" y="1165320"/>
            <a:ext cx="414360" cy="121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7"/>
          <a:stretch/>
        </p:blipFill>
        <p:spPr>
          <a:xfrm>
            <a:off x="6719760" y="1033560"/>
            <a:ext cx="414360" cy="121896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17"/>
          <p:cNvSpPr/>
          <p:nvPr/>
        </p:nvSpPr>
        <p:spPr>
          <a:xfrm>
            <a:off x="784080" y="3500280"/>
            <a:ext cx="374760" cy="360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8"/>
          <a:stretch/>
        </p:blipFill>
        <p:spPr>
          <a:xfrm>
            <a:off x="1677960" y="3489480"/>
            <a:ext cx="397080" cy="38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9"/>
          <a:stretch/>
        </p:blipFill>
        <p:spPr>
          <a:xfrm>
            <a:off x="2814480" y="3500280"/>
            <a:ext cx="397080" cy="38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10"/>
          <a:stretch/>
        </p:blipFill>
        <p:spPr>
          <a:xfrm>
            <a:off x="3564000" y="3500280"/>
            <a:ext cx="396720" cy="38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11"/>
          <a:stretch/>
        </p:blipFill>
        <p:spPr>
          <a:xfrm>
            <a:off x="4627440" y="3505320"/>
            <a:ext cx="39708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"/>
          <p:cNvPicPr/>
          <p:nvPr/>
        </p:nvPicPr>
        <p:blipFill>
          <a:blip r:embed="rId12"/>
          <a:stretch/>
        </p:blipFill>
        <p:spPr>
          <a:xfrm>
            <a:off x="5423040" y="3500280"/>
            <a:ext cx="39672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13"/>
          <a:stretch/>
        </p:blipFill>
        <p:spPr>
          <a:xfrm>
            <a:off x="6545160" y="3500280"/>
            <a:ext cx="397080" cy="38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"/>
          <p:cNvPicPr/>
          <p:nvPr/>
        </p:nvPicPr>
        <p:blipFill>
          <a:blip r:embed="rId14"/>
          <a:stretch/>
        </p:blipFill>
        <p:spPr>
          <a:xfrm>
            <a:off x="7308720" y="3489480"/>
            <a:ext cx="3970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 not= don’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es not = doe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628280"/>
            <a:ext cx="4040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ve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ive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ive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’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ve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es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ve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es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ve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(my cat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esn’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ve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1700280"/>
            <a:ext cx="4041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ву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вешь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вем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вут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вет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вет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(кот)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вет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ительное 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1" lang="ru-RU" sz="3200" spc="-1" strike="noStrike">
                <a:solidFill>
                  <a:srgbClr val="0099cc"/>
                </a:solidFill>
                <a:latin typeface="Arial"/>
              </a:rPr>
              <a:t>общи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ЩИЙ ВОПРОС </a:t>
            </a:r>
            <a:r>
              <a:rPr b="1" lang="ru-RU" sz="3200" spc="-1" strike="noStrike">
                <a:solidFill>
                  <a:srgbClr val="0099cc"/>
                </a:solidFill>
                <a:latin typeface="Arial"/>
              </a:rPr>
              <a:t>– это вопрос, который начинается с вспомогательных глаголов ( 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ave/has, can, do/does </a:t>
            </a:r>
            <a:r>
              <a:rPr b="1" lang="ru-RU" sz="3200" spc="-1" strike="noStrike">
                <a:solidFill>
                  <a:srgbClr val="0099cc"/>
                </a:solidFill>
                <a:latin typeface="Arial"/>
              </a:rPr>
              <a:t> и.д.) и требует ответа ДА или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5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4"/>
          <p:cNvSpPr/>
          <p:nvPr/>
        </p:nvSpPr>
        <p:spPr>
          <a:xfrm>
            <a:off x="611280" y="2343240"/>
            <a:ext cx="2016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спомогательный глаг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/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8"/>
          <p:cNvSpPr/>
          <p:nvPr/>
        </p:nvSpPr>
        <p:spPr>
          <a:xfrm>
            <a:off x="2916360" y="2349360"/>
            <a:ext cx="158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длежащ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0"/>
          <p:cNvSpPr/>
          <p:nvPr/>
        </p:nvSpPr>
        <p:spPr>
          <a:xfrm>
            <a:off x="4788000" y="2349360"/>
            <a:ext cx="158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казуем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2"/>
          <p:cNvSpPr/>
          <p:nvPr/>
        </p:nvSpPr>
        <p:spPr>
          <a:xfrm>
            <a:off x="6659640" y="2349360"/>
            <a:ext cx="1512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ругие члены предложения (дополн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4"/>
          <p:cNvCxnSpPr/>
          <p:nvPr/>
        </p:nvCxnSpPr>
        <p:spPr>
          <a:xfrm>
            <a:off x="1115640" y="1268280"/>
            <a:ext cx="108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Прямая со стрелкой 16"/>
          <p:cNvCxnSpPr/>
          <p:nvPr/>
        </p:nvCxnSpPr>
        <p:spPr>
          <a:xfrm>
            <a:off x="3131640" y="1268280"/>
            <a:ext cx="108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18"/>
          <p:cNvCxnSpPr/>
          <p:nvPr/>
        </p:nvCxnSpPr>
        <p:spPr>
          <a:xfrm>
            <a:off x="4642920" y="1268280"/>
            <a:ext cx="50580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20"/>
          <p:cNvCxnSpPr/>
          <p:nvPr/>
        </p:nvCxnSpPr>
        <p:spPr>
          <a:xfrm>
            <a:off x="6803640" y="1197000"/>
            <a:ext cx="28944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380960" y="1873080"/>
            <a:ext cx="47628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373560" y="1873080"/>
            <a:ext cx="49212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5364000" y="1757520"/>
            <a:ext cx="706680" cy="572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4"/>
          <a:stretch/>
        </p:blipFill>
        <p:spPr>
          <a:xfrm>
            <a:off x="7416720" y="1754280"/>
            <a:ext cx="695520" cy="46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5"/>
          <a:stretch/>
        </p:blipFill>
        <p:spPr>
          <a:xfrm>
            <a:off x="7524720" y="1592280"/>
            <a:ext cx="211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аткий 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o  you     live     in th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Yes, I do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No, I do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да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5"/>
          <p:cNvCxnSpPr/>
          <p:nvPr/>
        </p:nvCxnSpPr>
        <p:spPr>
          <a:xfrm flipH="1">
            <a:off x="2842560" y="2349360"/>
            <a:ext cx="1369080" cy="72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Прямая со стрелкой 7"/>
          <p:cNvCxnSpPr/>
          <p:nvPr/>
        </p:nvCxnSpPr>
        <p:spPr>
          <a:xfrm>
            <a:off x="4572000" y="2349360"/>
            <a:ext cx="1224720" cy="72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9"/>
          <p:cNvCxnSpPr/>
          <p:nvPr/>
        </p:nvCxnSpPr>
        <p:spPr>
          <a:xfrm>
            <a:off x="1476000" y="2205000"/>
            <a:ext cx="648360" cy="10087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Начали вопрос с вспомогательного глагола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do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. Значит и в кратком ответе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будет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Начали вопрос с вспомогательного глагола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do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es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. Значит и в кратком ответе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будет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es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7308720" y="1916280"/>
            <a:ext cx="13669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es she live in the ho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es, she do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o, she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да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4"/>
          <p:cNvCxnSpPr/>
          <p:nvPr/>
        </p:nvCxnSpPr>
        <p:spPr>
          <a:xfrm flipH="1">
            <a:off x="3418920" y="1196640"/>
            <a:ext cx="64836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6"/>
          <p:cNvCxnSpPr/>
          <p:nvPr/>
        </p:nvCxnSpPr>
        <p:spPr>
          <a:xfrm>
            <a:off x="4643280" y="1196640"/>
            <a:ext cx="72144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8"/>
          <p:cNvCxnSpPr/>
          <p:nvPr/>
        </p:nvCxnSpPr>
        <p:spPr>
          <a:xfrm flipH="1">
            <a:off x="2268000" y="1125360"/>
            <a:ext cx="504000" cy="504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Прямая со стрелкой 10"/>
          <p:cNvCxnSpPr/>
          <p:nvPr/>
        </p:nvCxnSpPr>
        <p:spPr>
          <a:xfrm>
            <a:off x="1907640" y="1125360"/>
            <a:ext cx="864360" cy="5040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142" name="Прямая со стрелкой 12"/>
          <p:cNvCxnSpPr/>
          <p:nvPr/>
        </p:nvCxnSpPr>
        <p:spPr>
          <a:xfrm>
            <a:off x="1907640" y="1125360"/>
            <a:ext cx="864360" cy="504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оящее прост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 происходит регулярно постоянно в настоящ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чистим зубы, одеваемся, идем в школу, учим уроки, смот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зор, играем, ложимся спать. Все эти поступки можно отнест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ent simp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едь они нам привычны и повторяются практически в 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 ж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cc"/>
                </a:solidFill>
                <a:latin typeface="Arial"/>
              </a:rPr>
              <a:t>Слова показ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ремени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ent sim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сть свои слова показатели (слова подсказк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ег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ыч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г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ay, week, mon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ждый день, неделю, меся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Личные местоим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ы/ 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28720" y="1571400"/>
            <a:ext cx="43578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e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ицо ед.ч 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н,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авая фигурная скобка 9"/>
          <p:cNvSpPr/>
          <p:nvPr/>
        </p:nvSpPr>
        <p:spPr>
          <a:xfrm>
            <a:off x="5143680" y="1714680"/>
            <a:ext cx="500040" cy="12855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285560"/>
              <a:gd name="textAreaBottom" fmla="*/ 127260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700"/>
                </a:cubicBezTo>
                <a:lnTo>
                  <a:pt x="10800" y="10100"/>
                </a:lnTo>
                <a:cubicBezTo>
                  <a:pt x="10800" y="10450"/>
                  <a:pt x="16200" y="10800"/>
                  <a:pt x="21600" y="10800"/>
                </a:cubicBezTo>
                <a:cubicBezTo>
                  <a:pt x="16200" y="10800"/>
                  <a:pt x="10800" y="11150"/>
                  <a:pt x="10800" y="11500"/>
                </a:cubicBezTo>
                <a:lnTo>
                  <a:pt x="10800" y="20900"/>
                </a:lnTo>
                <a:cubicBezTo>
                  <a:pt x="10800" y="212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те представим наше предложение в виде паровоз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аждого вида предложений разный порядок расположения вагонч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гончики менять местами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твердительное 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                       live               in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11280" y="3129120"/>
            <a:ext cx="8102520" cy="858600"/>
          </a:xfrm>
          <a:prstGeom prst="rect">
            <a:avLst/>
          </a:prstGeom>
          <a:ln w="0">
            <a:noFill/>
          </a:ln>
        </p:spPr>
      </p:pic>
      <p:sp>
        <p:nvSpPr>
          <p:cNvPr id="56" name="Рамка 3"/>
          <p:cNvSpPr/>
          <p:nvPr/>
        </p:nvSpPr>
        <p:spPr>
          <a:xfrm>
            <a:off x="520560" y="2708280"/>
            <a:ext cx="2322720" cy="1584360"/>
          </a:xfrm>
          <a:custGeom>
            <a:avLst/>
            <a:gdLst/>
            <a:ahLst/>
            <a:rect l="l" t="t" r="r" b="b"/>
            <a:pathLst>
              <a:path w="2322513" h="1584325">
                <a:moveTo>
                  <a:pt x="0" y="0"/>
                </a:moveTo>
                <a:lnTo>
                  <a:pt x="2322513" y="0"/>
                </a:lnTo>
                <a:lnTo>
                  <a:pt x="2322513" y="1584325"/>
                </a:lnTo>
                <a:lnTo>
                  <a:pt x="0" y="1584325"/>
                </a:lnTo>
                <a:lnTo>
                  <a:pt x="0" y="0"/>
                </a:lnTo>
                <a:close/>
                <a:moveTo>
                  <a:pt x="198041" y="198041"/>
                </a:moveTo>
                <a:lnTo>
                  <a:pt x="198041" y="1386284"/>
                </a:lnTo>
                <a:lnTo>
                  <a:pt x="2124472" y="1386284"/>
                </a:lnTo>
                <a:lnTo>
                  <a:pt x="2124472" y="198041"/>
                </a:lnTo>
                <a:lnTo>
                  <a:pt x="198041" y="1980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мка 4"/>
          <p:cNvSpPr/>
          <p:nvPr/>
        </p:nvSpPr>
        <p:spPr>
          <a:xfrm>
            <a:off x="3132000" y="2708280"/>
            <a:ext cx="1871640" cy="1584360"/>
          </a:xfrm>
          <a:custGeom>
            <a:avLst/>
            <a:gdLst/>
            <a:ahLst/>
            <a:rect l="l" t="t" r="r" b="b"/>
            <a:pathLst>
              <a:path w="1871662" h="1584325">
                <a:moveTo>
                  <a:pt x="0" y="0"/>
                </a:moveTo>
                <a:lnTo>
                  <a:pt x="1871662" y="0"/>
                </a:lnTo>
                <a:lnTo>
                  <a:pt x="1871662" y="1584325"/>
                </a:lnTo>
                <a:lnTo>
                  <a:pt x="0" y="1584325"/>
                </a:lnTo>
                <a:lnTo>
                  <a:pt x="0" y="0"/>
                </a:lnTo>
                <a:close/>
                <a:moveTo>
                  <a:pt x="198041" y="198041"/>
                </a:moveTo>
                <a:lnTo>
                  <a:pt x="198041" y="1386284"/>
                </a:lnTo>
                <a:lnTo>
                  <a:pt x="1673621" y="1386284"/>
                </a:lnTo>
                <a:lnTo>
                  <a:pt x="1673621" y="198041"/>
                </a:lnTo>
                <a:lnTo>
                  <a:pt x="198041" y="1980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Рамка 5"/>
          <p:cNvSpPr/>
          <p:nvPr/>
        </p:nvSpPr>
        <p:spPr>
          <a:xfrm>
            <a:off x="5364000" y="2708280"/>
            <a:ext cx="3384720" cy="1584360"/>
          </a:xfrm>
          <a:custGeom>
            <a:avLst/>
            <a:gdLst/>
            <a:ahLst/>
            <a:rect l="l" t="t" r="r" b="b"/>
            <a:pathLst>
              <a:path w="3384550" h="1584325">
                <a:moveTo>
                  <a:pt x="0" y="0"/>
                </a:moveTo>
                <a:lnTo>
                  <a:pt x="3384550" y="0"/>
                </a:lnTo>
                <a:lnTo>
                  <a:pt x="3384550" y="1584325"/>
                </a:lnTo>
                <a:lnTo>
                  <a:pt x="0" y="1584325"/>
                </a:lnTo>
                <a:lnTo>
                  <a:pt x="0" y="0"/>
                </a:lnTo>
                <a:close/>
                <a:moveTo>
                  <a:pt x="198041" y="198041"/>
                </a:moveTo>
                <a:lnTo>
                  <a:pt x="198041" y="1386284"/>
                </a:lnTo>
                <a:lnTo>
                  <a:pt x="3186509" y="1386284"/>
                </a:lnTo>
                <a:lnTo>
                  <a:pt x="3186509" y="198041"/>
                </a:lnTo>
                <a:lnTo>
                  <a:pt x="198041" y="1980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7"/>
          <p:cNvCxnSpPr/>
          <p:nvPr/>
        </p:nvCxnSpPr>
        <p:spPr>
          <a:xfrm>
            <a:off x="1060200" y="2042640"/>
            <a:ext cx="1080" cy="505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Прямая со стрелкой 9"/>
          <p:cNvCxnSpPr/>
          <p:nvPr/>
        </p:nvCxnSpPr>
        <p:spPr>
          <a:xfrm>
            <a:off x="3944520" y="2116080"/>
            <a:ext cx="1080" cy="504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11"/>
          <p:cNvCxnSpPr/>
          <p:nvPr/>
        </p:nvCxnSpPr>
        <p:spPr>
          <a:xfrm>
            <a:off x="6443280" y="2101320"/>
            <a:ext cx="1080" cy="505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1473120" y="2205000"/>
            <a:ext cx="47484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3"/>
          <a:stretch/>
        </p:blipFill>
        <p:spPr>
          <a:xfrm>
            <a:off x="4067280" y="2043000"/>
            <a:ext cx="669960" cy="64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4"/>
          <a:stretch/>
        </p:blipFill>
        <p:spPr>
          <a:xfrm>
            <a:off x="6570720" y="2081160"/>
            <a:ext cx="706320" cy="57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5"/>
          <a:stretch/>
        </p:blipFill>
        <p:spPr>
          <a:xfrm>
            <a:off x="611280" y="4280040"/>
            <a:ext cx="596880" cy="60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6"/>
          <a:stretch/>
        </p:blipFill>
        <p:spPr>
          <a:xfrm>
            <a:off x="5651640" y="4280040"/>
            <a:ext cx="596880" cy="60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7"/>
          <a:stretch/>
        </p:blipFill>
        <p:spPr>
          <a:xfrm>
            <a:off x="4276800" y="4280040"/>
            <a:ext cx="596880" cy="60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"/>
          <p:cNvPicPr/>
          <p:nvPr/>
        </p:nvPicPr>
        <p:blipFill>
          <a:blip r:embed="rId8"/>
          <a:stretch/>
        </p:blipFill>
        <p:spPr>
          <a:xfrm>
            <a:off x="3276720" y="4292640"/>
            <a:ext cx="596880" cy="60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9"/>
          <a:stretch/>
        </p:blipFill>
        <p:spPr>
          <a:xfrm>
            <a:off x="1909800" y="4292640"/>
            <a:ext cx="596880" cy="603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10"/>
          <a:stretch/>
        </p:blipFill>
        <p:spPr>
          <a:xfrm>
            <a:off x="7451640" y="4292640"/>
            <a:ext cx="5968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i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i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i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i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t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y ca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2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живу в до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живешь в до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живем в до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живут в до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живет в до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живет в до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) живет в до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щаю Ваше внимание на то, что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3 лице ед.ч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глагола появляется окончание -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лежащее 3 л ед.ч                  окончание у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альтернативный процесс 11"/>
          <p:cNvSpPr/>
          <p:nvPr/>
        </p:nvSpPr>
        <p:spPr>
          <a:xfrm>
            <a:off x="1476360" y="3141720"/>
            <a:ext cx="2087640" cy="1944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She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гнутая влево стрелка 12"/>
          <p:cNvSpPr/>
          <p:nvPr/>
        </p:nvSpPr>
        <p:spPr>
          <a:xfrm>
            <a:off x="826920" y="2924280"/>
            <a:ext cx="576360" cy="1260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61000 h 1260360"/>
              <a:gd name="textAreaBottom" fmla="*/ 927360 h 12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49" stAng="-5400000" swAng="-5400000"/>
                <a:lnTo>
                  <a:pt x="0" y="11417"/>
                </a:lnTo>
                <a:arcTo wR="21600" hR="8949" stAng="10800000" swAng="-3484022"/>
                <a:lnTo>
                  <a:pt x="16200" y="21316"/>
                </a:lnTo>
                <a:lnTo>
                  <a:pt x="21600" y="19131"/>
                </a:lnTo>
                <a:lnTo>
                  <a:pt x="16200" y="16378"/>
                </a:lnTo>
                <a:lnTo>
                  <a:pt x="16200" y="17613"/>
                </a:lnTo>
                <a:arcTo wR="21600" hR="8949" stAng="7315978" swAng="3285950"/>
                <a:lnTo>
                  <a:pt x="206" y="10183"/>
                </a:lnTo>
                <a:arcTo wR="21600" hR="8949" stAng="-10601928" swAng="5201928"/>
                <a:close/>
              </a:path>
              <a:path fill="darkenLess" w="21600" h="21600">
                <a:moveTo>
                  <a:pt x="21600" y="0"/>
                </a:moveTo>
                <a:arcTo wR="21600" hR="8949" stAng="-5400000" swAng="-5400000"/>
                <a:lnTo>
                  <a:pt x="0" y="8949"/>
                </a:lnTo>
                <a:arcTo wR="21600" hR="8949" stAng="10800000" swAng="-198072"/>
                <a:lnTo>
                  <a:pt x="206" y="10183"/>
                </a:lnTo>
                <a:arcTo wR="21600" hR="8949" stAng="-10601928" swAng="520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альтернативный процесс 13"/>
          <p:cNvSpPr/>
          <p:nvPr/>
        </p:nvSpPr>
        <p:spPr>
          <a:xfrm>
            <a:off x="5649840" y="3357720"/>
            <a:ext cx="180036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- S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- 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Выгнутая вправо стрелка 16"/>
          <p:cNvSpPr/>
          <p:nvPr/>
        </p:nvSpPr>
        <p:spPr>
          <a:xfrm>
            <a:off x="7812000" y="2924280"/>
            <a:ext cx="720720" cy="1441440"/>
          </a:xfrm>
          <a:custGeom>
            <a:avLst/>
            <a:gdLst>
              <a:gd name="textAreaLeft" fmla="*/ 96480 w 720720"/>
              <a:gd name="textAreaRight" fmla="*/ 624240 w 720720"/>
              <a:gd name="textAreaTop" fmla="*/ 292680 h 1441440"/>
              <a:gd name="textAreaBottom" fmla="*/ 105876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ерфолента 1"/>
          <p:cNvSpPr/>
          <p:nvPr/>
        </p:nvSpPr>
        <p:spPr>
          <a:xfrm>
            <a:off x="3564000" y="3933720"/>
            <a:ext cx="2085840" cy="43200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рицательное 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ицательное предложение образуется при помощи вспомогательных глаголов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/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Вспомогательные глаголы не перевод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Юля</cp:lastModifiedBy>
  <dcterms:modified xsi:type="dcterms:W3CDTF">2020-04-07T19:27:43Z</dcterms:modified>
  <cp:revision>748</cp:revision>
  <dc:subject/>
  <dc:title>Diapositiva 1</dc:title>
</cp:coreProperties>
</file>