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12.gif" ContentType="image/gif"/>
  <Override PartName="/ppt/media/image3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15.gif" ContentType="image/gif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0.gif" ContentType="image/gif"/>
  <Override PartName="/ppt/media/image4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212-6896-488A-BC9D-EE441629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47A-80E5-4A10-8274-C26741BC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C2C-7DA6-4199-A564-13C11676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703-8E5C-4427-817A-9D67EBD8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09B-81A4-4E79-AE8B-A11A44D5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18D-A2D1-4CFA-9ADD-966EB158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760-FE66-4B12-B4F6-ED58A36A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49D-A28B-4D46-B817-959BBC52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AB4-CDB6-4B74-9DA1-B828688E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705-037D-49DF-855D-B3AD3766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1A1-550F-4B0D-8963-C92FCD52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C45-2925-4B73-905F-EE379235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6C89-3209-49AD-A0E6-0ACC1E4C6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Рисунок1"/>
          <p:cNvPicPr/>
          <p:nvPr/>
        </p:nvPicPr>
        <p:blipFill>
          <a:blip r:embed="rId1"/>
          <a:stretch/>
        </p:blipFill>
        <p:spPr>
          <a:xfrm>
            <a:off x="0" y="3454560"/>
            <a:ext cx="2041560" cy="340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0" descr="Рисунок2"/>
          <p:cNvPicPr/>
          <p:nvPr/>
        </p:nvPicPr>
        <p:blipFill>
          <a:blip r:embed="rId2"/>
          <a:stretch/>
        </p:blipFill>
        <p:spPr>
          <a:xfrm>
            <a:off x="971640" y="5516640"/>
            <a:ext cx="866520" cy="1209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basketball-broski"/>
          <p:cNvPicPr/>
          <p:nvPr/>
        </p:nvPicPr>
        <p:blipFill>
          <a:blip r:embed="rId3"/>
          <a:stretch/>
        </p:blipFill>
        <p:spPr>
          <a:xfrm>
            <a:off x="4427640" y="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0002-005-Sport"/>
          <p:cNvPicPr/>
          <p:nvPr/>
        </p:nvPicPr>
        <p:blipFill>
          <a:blip r:embed="rId4"/>
          <a:srcRect l="1542" t="0" r="2314" b="471"/>
          <a:stretch/>
        </p:blipFill>
        <p:spPr>
          <a:xfrm>
            <a:off x="7027920" y="0"/>
            <a:ext cx="2116080" cy="3587760"/>
          </a:xfrm>
          <a:prstGeom prst="rect">
            <a:avLst/>
          </a:prstGeom>
          <a:ln w="0">
            <a:noFill/>
          </a:ln>
        </p:spPr>
      </p:pic>
      <p:pic>
        <p:nvPicPr>
          <p:cNvPr id="45" name="d.m.g._-_basketbol_moya_zhizn MpTri.Net (Trimmed).wav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Line 2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9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0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1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2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3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34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5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6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7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9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" name="Line 40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1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2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43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47" descr="4"/>
          <p:cNvPicPr/>
          <p:nvPr/>
        </p:nvPicPr>
        <p:blipFill>
          <a:blip r:embed="rId6"/>
          <a:stretch/>
        </p:blipFill>
        <p:spPr>
          <a:xfrm>
            <a:off x="0" y="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olimp"/>
          <p:cNvPicPr/>
          <p:nvPr/>
        </p:nvPicPr>
        <p:blipFill>
          <a:blip r:embed="rId7"/>
          <a:stretch/>
        </p:blipFill>
        <p:spPr>
          <a:xfrm>
            <a:off x="6588000" y="4938840"/>
            <a:ext cx="2556000" cy="191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9033846-z-----------------------n--------n--n--n-----nzn-n-n--n-------nzn-n-n--n--n-n-nfn-----n---n-----n--n"/>
          <p:cNvPicPr/>
          <p:nvPr/>
        </p:nvPicPr>
        <p:blipFill>
          <a:blip r:embed="rId8"/>
          <a:stretch/>
        </p:blipFill>
        <p:spPr>
          <a:xfrm>
            <a:off x="2050920" y="2133720"/>
            <a:ext cx="4249800" cy="4249440"/>
          </a:xfrm>
          <a:prstGeom prst="rect">
            <a:avLst/>
          </a:prstGeom>
          <a:ln w="0">
            <a:noFill/>
          </a:ln>
        </p:spPr>
      </p:pic>
      <p:sp>
        <p:nvSpPr>
          <p:cNvPr id="66" name="WordArt 26"/>
          <p:cNvSpPr txBox="1"/>
          <p:nvPr/>
        </p:nvSpPr>
        <p:spPr>
          <a:xfrm rot="4663800">
            <a:off x="4318560" y="3177360"/>
            <a:ext cx="3095640" cy="201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572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В БАСКЕТБО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25"/>
          <p:cNvSpPr txBox="1"/>
          <p:nvPr/>
        </p:nvSpPr>
        <p:spPr>
          <a:xfrm rot="20244600">
            <a:off x="1619280" y="1557360"/>
            <a:ext cx="3673440" cy="27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164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ОБУЧЕНИЕ БРО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79280" y="1800"/>
            <a:ext cx="669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сновной фазы характерным является согласованное разгибание в тазобедренных, коленных и голеностопных суставах обеих ног, плечевом и локтевом суставах бросающей руки. Мяч удерживается двумя руками до их почти полного выпрямления в локтевых суставах, после чего поддерживающая рука отводится в сторону (кисть направлена в сторону бросающей руки). Туловище и голова сохраняют вертикальное положение. Заканчивается бросковое движение активным сгибанием вперед в лучезапястном суставе рабочей руки – хлестом кисти. Выпуск мяча осуществляется при полном выпрямлении нижних конечностей и бросающей руки. Направляющее движение мячу задается преимущественно указательным пальцем (большой и средний пальцы не дают свалиться мячу в сторону). Усилие приходится на нижнюю часть мяча, что придает ему обратное вращательное движение вокруг поперечной о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79280" y="486900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ершающей фазе выполнения приема бросающая рука сопровождает полет мяча к корзине: выпрямленная рука образовывает с ухом угол около 60°, рабочая кисть расслабленно «брошена вниз» — согнута в лучезапястном суставе; игрок «тянется» за мячом, поднимаясь на носки, а затем приходит в стойку гот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Line 7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12" descr="Рисунок6"/>
          <p:cNvPicPr/>
          <p:nvPr/>
        </p:nvPicPr>
        <p:blipFill>
          <a:blip r:embed="rId1"/>
          <a:srcRect l="60908" t="2722" r="9567" b="22488"/>
          <a:stretch/>
        </p:blipFill>
        <p:spPr>
          <a:xfrm>
            <a:off x="7236000" y="4221000"/>
            <a:ext cx="1517400" cy="217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Рисунок6"/>
          <p:cNvPicPr/>
          <p:nvPr/>
        </p:nvPicPr>
        <p:blipFill>
          <a:blip r:embed="rId2"/>
          <a:srcRect l="42218" t="8784" r="36012" b="19766"/>
          <a:stretch/>
        </p:blipFill>
        <p:spPr>
          <a:xfrm>
            <a:off x="7236000" y="620640"/>
            <a:ext cx="147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5" name="Line 5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WordArt 9"/>
          <p:cNvSpPr txBox="1"/>
          <p:nvPr/>
        </p:nvSpPr>
        <p:spPr>
          <a:xfrm>
            <a:off x="1547640" y="0"/>
            <a:ext cx="6229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ОК ОДНОЙ РУКОЙ СВЕРХУ  В ДВИЖЕНИ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5148360" y="4221000"/>
            <a:ext cx="374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потренируйся в бросках слева от корзины после отталкивания правой ногой (рис. Мяч контролируется левой рукой. Постарайся запомнить правило: «Толчок левой, бросок правой» 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324000" y="476280"/>
            <a:ext cx="467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х этого броска обеспечивается главным образом правильной работой ног. Если ты приближаешься к корзине с правой стороны, оттолкнись перед броском левой ногой: это позволит тебе лучше сохранить равновесие при броске правой рукой. Чаще всего бросок выполняется ближайшей к щиту рукой, чтобы укрыть мяч от сопер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3" descr="Рисунок6"/>
          <p:cNvPicPr/>
          <p:nvPr/>
        </p:nvPicPr>
        <p:blipFill>
          <a:blip r:embed="rId3"/>
          <a:stretch/>
        </p:blipFill>
        <p:spPr>
          <a:xfrm>
            <a:off x="2916360" y="3357720"/>
            <a:ext cx="1719000" cy="3181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4" descr="Рисунок3"/>
          <p:cNvPicPr/>
          <p:nvPr/>
        </p:nvPicPr>
        <p:blipFill>
          <a:blip r:embed="rId4"/>
          <a:stretch/>
        </p:blipFill>
        <p:spPr>
          <a:xfrm>
            <a:off x="5292720" y="692280"/>
            <a:ext cx="1725480" cy="304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Рисунок4"/>
          <p:cNvPicPr/>
          <p:nvPr/>
        </p:nvPicPr>
        <p:blipFill>
          <a:blip r:embed="rId5"/>
          <a:stretch/>
        </p:blipFill>
        <p:spPr>
          <a:xfrm>
            <a:off x="7380360" y="692280"/>
            <a:ext cx="1539720" cy="2963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Рисунок5"/>
          <p:cNvPicPr/>
          <p:nvPr/>
        </p:nvPicPr>
        <p:blipFill>
          <a:blip r:embed="rId6"/>
          <a:stretch/>
        </p:blipFill>
        <p:spPr>
          <a:xfrm>
            <a:off x="611280" y="3357720"/>
            <a:ext cx="18158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Line 5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0"/>
          <p:cNvSpPr/>
          <p:nvPr/>
        </p:nvSpPr>
        <p:spPr>
          <a:xfrm>
            <a:off x="250920" y="261000"/>
            <a:ext cx="58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того как усвоено само бросковое движение, надо переходить к тренировке броска после ведения или ловли мяча поблизости от корзины. Удерживая мяч двумя руками на уровне груди, начинай отталкивание и выноси мяч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носе мяча вверх его следует удерживать обеими руками почти до самого момента броска. После того как обе руки будут выпрямлены, убери левую руку в сторону. Толкни мяч вверх правой рукой, направляя его в щит в 30 см над корзиной. После отскока от щита мяч упадет в корз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250920" y="501336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ы приближаешься к корзине прямо по центру, не направляй мяч в щит. Просто подбрось его сантиметров на тридцать над передним краем обруча корзины, чтобы он опустился в нее не касаясь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250920" y="3429000"/>
            <a:ext cx="57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потренируйся в умении выполнять этот же бросок при движении с левой стороны с отталкиванием правой ногой и завершающим движением левой рукой. Во всех случаях бросок должен выглядеть легким и естеств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5" descr="Рисунок7"/>
          <p:cNvPicPr/>
          <p:nvPr/>
        </p:nvPicPr>
        <p:blipFill>
          <a:blip r:embed="rId1"/>
          <a:stretch/>
        </p:blipFill>
        <p:spPr>
          <a:xfrm>
            <a:off x="6227640" y="907920"/>
            <a:ext cx="2638440" cy="44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179280" y="4755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ним важным броском является бросок крю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7" name="Line 11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23"/>
          <p:cNvSpPr/>
          <p:nvPr/>
        </p:nvSpPr>
        <p:spPr>
          <a:xfrm>
            <a:off x="6227640" y="2924280"/>
            <a:ext cx="2449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игры для того, чтобы вывести защитника из равновесия, ты можешь сделать финт вправо, но основное движение начинается влево левой ногой. Сделай шаг левой ногой к корзине, в то время как твое тело начнет пов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324000" y="907920"/>
            <a:ext cx="27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ходном положении удерживай мяч двумя руками перед собой. Ступни ног должны быть расположены паралл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250920" y="0"/>
            <a:ext cx="62290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ОК КРЮК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Picture 28" descr="Рисунок13"/>
          <p:cNvPicPr/>
          <p:nvPr/>
        </p:nvPicPr>
        <p:blipFill>
          <a:blip r:embed="rId3"/>
          <a:stretch/>
        </p:blipFill>
        <p:spPr>
          <a:xfrm>
            <a:off x="3492360" y="1197000"/>
            <a:ext cx="2584440" cy="4040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9" descr="Рисунок11"/>
          <p:cNvPicPr/>
          <p:nvPr/>
        </p:nvPicPr>
        <p:blipFill>
          <a:blip r:embed="rId4"/>
          <a:stretch/>
        </p:blipFill>
        <p:spPr>
          <a:xfrm>
            <a:off x="6732720" y="189000"/>
            <a:ext cx="2170080" cy="282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0" descr="Рисунок12"/>
          <p:cNvPicPr/>
          <p:nvPr/>
        </p:nvPicPr>
        <p:blipFill>
          <a:blip r:embed="rId5"/>
          <a:stretch/>
        </p:blipFill>
        <p:spPr>
          <a:xfrm>
            <a:off x="611280" y="2852640"/>
            <a:ext cx="250488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924360" y="2205720"/>
            <a:ext cx="266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ыпуска мяча надо быть лицом к корзине, прочно удерживая равновесие на двух ногах. Этот бросок выполняется и левой рукой, для чего из исходного положения придется сделать поворот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39640" y="47628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перенеси тяжесть тела на левую ногу в момент окончания поворота. В это время взглядом надо отыскать корзину и послать мяч вверх над головой широким, маховым движением правой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68360" y="19890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райся попасть мячом в щит – так, чтобы он отскочил в корз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1" name="Line 14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Picture 18" descr="Рисунок16"/>
          <p:cNvPicPr/>
          <p:nvPr/>
        </p:nvPicPr>
        <p:blipFill>
          <a:blip r:embed="rId1"/>
          <a:stretch/>
        </p:blipFill>
        <p:spPr>
          <a:xfrm>
            <a:off x="6659640" y="3429000"/>
            <a:ext cx="2189160" cy="3106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Рисунок14"/>
          <p:cNvPicPr/>
          <p:nvPr/>
        </p:nvPicPr>
        <p:blipFill>
          <a:blip r:embed="rId2"/>
          <a:stretch/>
        </p:blipFill>
        <p:spPr>
          <a:xfrm>
            <a:off x="6804000" y="189000"/>
            <a:ext cx="1981080" cy="301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Рисунок15"/>
          <p:cNvPicPr/>
          <p:nvPr/>
        </p:nvPicPr>
        <p:blipFill>
          <a:blip r:embed="rId3"/>
          <a:stretch/>
        </p:blipFill>
        <p:spPr>
          <a:xfrm>
            <a:off x="900000" y="2852640"/>
            <a:ext cx="24512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backgrounds_sport_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image001"/>
          <p:cNvPicPr/>
          <p:nvPr/>
        </p:nvPicPr>
        <p:blipFill>
          <a:blip r:embed="rId2"/>
          <a:stretch/>
        </p:blipFill>
        <p:spPr>
          <a:xfrm>
            <a:off x="0" y="0"/>
            <a:ext cx="5867280" cy="4149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Рисунок5"/>
          <p:cNvPicPr/>
          <p:nvPr/>
        </p:nvPicPr>
        <p:blipFill>
          <a:blip r:embed="rId3"/>
          <a:stretch/>
        </p:blipFill>
        <p:spPr>
          <a:xfrm>
            <a:off x="7372440" y="4121280"/>
            <a:ext cx="1771560" cy="2736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5796000" y="1440"/>
            <a:ext cx="33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аскетб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дин из самых популярных видов спорта в мире. Баскетбо́л (англ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bask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орзина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b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яч) – спортивная командная игра с мячом. Стандартный размер баскетбольной площадки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8 метров в длину и 15 метров в шир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рупнейшие турниры по баскетболу обычно проводятся в залах высотой не менее 7 м.  Kорзина находится на высот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,05 ме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по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4149720"/>
            <a:ext cx="74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аскетбол играют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ве коман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ычно по двенадцать человек, от каждой из которых на площадке одновременно присутствует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ять игр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мены не ограничены. За одно попадание мяча в кольцо может быть засчитано разное количество оч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 оч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росок со штрафно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 о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росок со средней или близкой дистанции (ближе трёхочковой ли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 о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росок из-за трёхочковой линии на расстоянии 6 м 75см (7м 24 см в Национальной баскетбольной ассоци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Рисунок3"/>
          <p:cNvPicPr/>
          <p:nvPr/>
        </p:nvPicPr>
        <p:blipFill>
          <a:blip r:embed="rId4"/>
          <a:stretch/>
        </p:blipFill>
        <p:spPr>
          <a:xfrm>
            <a:off x="7236000" y="4869000"/>
            <a:ext cx="952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5" name="Line 19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1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2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1908000" y="836640"/>
            <a:ext cx="72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чом играют только руками. Бежать с мячом, не ударяя им в пол, преднамеренно бить по нему ногой, блокировать любой частью ноги или бить по нему кулаком является нарушением. Случайное же соприкосновение или касание мяча стопой или ногой не является наруш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nikebb"/>
          <p:cNvPicPr/>
          <p:nvPr/>
        </p:nvPicPr>
        <p:blipFill>
          <a:blip r:embed="rId1"/>
          <a:stretch/>
        </p:blipFill>
        <p:spPr>
          <a:xfrm>
            <a:off x="0" y="0"/>
            <a:ext cx="1995480" cy="2021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1978200" y="-360"/>
            <a:ext cx="71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асса мя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67-650 грамм, окружность 74,9-78 см в играх мужских команд; в играх женских команд используются мячи меньших размеров (510-567 г и 72,4-73,7 см сответствен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review_desire[1]"/>
          <p:cNvPicPr/>
          <p:nvPr/>
        </p:nvPicPr>
        <p:blipFill>
          <a:blip r:embed="rId2"/>
          <a:srcRect l="6914" t="0" r="6914" b="7808"/>
          <a:stretch/>
        </p:blipFill>
        <p:spPr>
          <a:xfrm rot="20451600">
            <a:off x="5940000" y="5427360"/>
            <a:ext cx="2232000" cy="1430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22053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атч начинается в центре площад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удья подбрасывает мяч строго вверх между двумя игроками команд-соперниц. В тот момент, когда они касаются мяча (брать мяч в руки нельзя), начинается отсчет игрового времени. После каждого свистка судьи секундомер останавливается – и с возобновлением игры включается вновь. Матч состоит из четырёх периодов по десять минут (двенадцать минут в Национальной баскетбольной ассоциации) с перерывами по две минуты. Продолжительность перерыва между второй и третьей четвертями игры – пятнадцать минут. После большого перерыва команды должны поменяться корз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5392800"/>
            <a:ext cx="67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вном счёте по окончании основного времени матча назначается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вертай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бычно пять минут дополнительного времени), в случае, если и по его окончании счёт будет равен, назначается второй и т. д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ех пор, пока не будет выявлен победитель мат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0" y="4791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бедител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аскетболе становится команда, которая по окончании игрового времени набрала большее количество оч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Line 15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detskie78"/>
          <p:cNvPicPr/>
          <p:nvPr/>
        </p:nvPicPr>
        <p:blipFill>
          <a:blip r:embed="rId1"/>
          <a:stretch/>
        </p:blipFill>
        <p:spPr>
          <a:xfrm>
            <a:off x="0" y="3860640"/>
            <a:ext cx="1701720" cy="2997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3"/>
          <p:cNvSpPr txBox="1"/>
          <p:nvPr/>
        </p:nvSpPr>
        <p:spPr>
          <a:xfrm>
            <a:off x="4788000" y="115920"/>
            <a:ext cx="336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З ИСТОРИИ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79280" y="693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1891 года студентам колледжа Молодёжной Христианской Ассоциации из Спрингфилда, штат Массачусетс, вынужденным выполнять бесконечные гимнастические упражнения, считавшиеся в то время едва ли не единственным средством приобщения молодёжи к спорту, было очень скучно на занятиях физического воспитания. Однообразию таких занятий необходимо было положить конец. Выход из положения нашёл скромный преподаватель колледжа по имени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жеймс Нейсм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 декабря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891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 привязал две корзины из-под персиков к перилам балкона спортивного зала и, разделив восемнадцать студентов на две команды, предложил им игру, смысл которой сводился к тому, чтобы забросить большее количество мячей в корзину сопер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1692360" y="3574080"/>
            <a:ext cx="727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начально правила игры в баскетбол были сформулированы американцем Джеймсом Нейсмитом и состояли лишь из 13 пунктов. С течением времени баскетбол изменялся, изменений потребовали и правила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вы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авила иг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ли приняты в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932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ервом конгрессе ФИБА, после этого они многократно изменялись.С 2004 года правила игры остаются неизменными. Правила игры несколько отличаются в НБА и чемпионатах, проводимых под эгидой ФИБА (Чемпионаты мира, Олимпийские игры, Чемпионаты континентов, международные и национальные первенства европейских клуб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" name="Line 18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7580276-n---n-n---n---n---------n--n----n--n-----n-n--n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Рисунок4"/>
          <p:cNvPicPr/>
          <p:nvPr/>
        </p:nvPicPr>
        <p:blipFill>
          <a:blip r:embed="rId2"/>
          <a:stretch/>
        </p:blipFill>
        <p:spPr>
          <a:xfrm>
            <a:off x="179280" y="5259240"/>
            <a:ext cx="2051280" cy="1598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1403280" y="-36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 входит в программу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лимпийских иг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1936 года. Регулярные чемпионаты мира по баскетболу среди мужчин проводятся с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950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реди женщин – с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953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чемпионаты Европы – с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935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f38f433fb6d5f91cd327ac8b850dcc77gif"/>
          <p:cNvPicPr/>
          <p:nvPr/>
        </p:nvPicPr>
        <p:blipFill>
          <a:blip r:embed="rId3"/>
          <a:srcRect l="29655" t="20341" r="28696" b="13780"/>
          <a:stretch/>
        </p:blipFill>
        <p:spPr>
          <a:xfrm>
            <a:off x="7759800" y="189000"/>
            <a:ext cx="1384200" cy="1454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sochi"/>
          <p:cNvPicPr/>
          <p:nvPr/>
        </p:nvPicPr>
        <p:blipFill>
          <a:blip r:embed="rId4"/>
          <a:srcRect l="6784" t="0" r="6057" b="0"/>
          <a:stretch/>
        </p:blipFill>
        <p:spPr>
          <a:xfrm>
            <a:off x="7494480" y="2133720"/>
            <a:ext cx="1649520" cy="135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olimpiyski_mishka"/>
          <p:cNvPicPr/>
          <p:nvPr/>
        </p:nvPicPr>
        <p:blipFill>
          <a:blip r:embed="rId5"/>
          <a:stretch/>
        </p:blipFill>
        <p:spPr>
          <a:xfrm>
            <a:off x="8083440" y="4908600"/>
            <a:ext cx="1060560" cy="19494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5"/>
          <p:cNvSpPr txBox="1"/>
          <p:nvPr/>
        </p:nvSpPr>
        <p:spPr>
          <a:xfrm>
            <a:off x="468360" y="2637000"/>
            <a:ext cx="6840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latin typeface="Impact"/>
              </a:rPr>
              <a:t>БРОСКИ МЯЧ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3494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ки мяча в корзину относятся к наиболее значимым приемам игры в баскетбол, так как являются конечной целью атакующих действий игроков и их эффективность определяет в итоге результат игры. Существует несколько разновидностей выполнения бросков. Их название определяется рядом критери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Line 18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9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0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46) (Trimmed).wav" descr=""/>
          <p:cNvPicPr/>
          <p:nvPr/>
        </p:nvPicPr>
        <p:blipFill>
          <a:blip r:embed="rId6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3"/>
          <p:cNvSpPr/>
          <p:nvPr/>
        </p:nvSpPr>
        <p:spPr>
          <a:xfrm>
            <a:off x="1908000" y="566712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арактером предшествующего брос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вигательного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 движении (после вышагивания или после получения мяча от партнера), после ведения мяча (проход-брос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0" y="1628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го развития игра достигла в США: чемпионат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циональной баскетбольной ассоциации (НБ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лее 50 лет является сильнейшим национальным клубным турниром в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1328400" y="4508640"/>
            <a:ext cx="72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личеством ру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частвующих в броске: двумя или одной ру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7"/>
          <p:cNvSpPr/>
          <p:nvPr/>
        </p:nvSpPr>
        <p:spPr>
          <a:xfrm>
            <a:off x="539640" y="4797360"/>
            <a:ext cx="79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сположением мяча в начальный мо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мого броскового движения: от головы (сверху), над головой, от плеча, от груди, сниз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8"/>
          <p:cNvSpPr/>
          <p:nvPr/>
        </p:nvSpPr>
        <p:spPr>
          <a:xfrm>
            <a:off x="1476360" y="1125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вропе проводятся международные клубные соревнования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Евролига ULEB, Кубок Европы УЛЕБ, Кубок Выз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2919240" y="537372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ношением к опо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 места, в прыж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Line 5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0"/>
          <p:cNvSpPr/>
          <p:nvPr/>
        </p:nvSpPr>
        <p:spPr>
          <a:xfrm>
            <a:off x="971640" y="333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ок двумя руками от груди в современном баскетболе применяется крайне редко и главным образом для атаки корзины с дальних дистан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79280" y="4581360"/>
            <a:ext cx="55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мяча осуществляется после его проноса вдоль туловища и лица снизу вверх обеими кистями и последующего полного выпрямления рук. Одновременно все части тела выпрямляются ввер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179280" y="602100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того как мяч покинет кончики пальцев, делается шаг вперед, сопровождая бро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"/>
          <p:cNvPicPr/>
          <p:nvPr/>
        </p:nvPicPr>
        <p:blipFill>
          <a:blip r:embed="rId1"/>
          <a:srcRect l="61580" t="0" r="0" b="11356"/>
          <a:stretch/>
        </p:blipFill>
        <p:spPr>
          <a:xfrm>
            <a:off x="7020000" y="981000"/>
            <a:ext cx="1662120" cy="194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Рисунок2"/>
          <p:cNvPicPr/>
          <p:nvPr/>
        </p:nvPicPr>
        <p:blipFill>
          <a:blip r:embed="rId2"/>
          <a:srcRect l="1779" t="1602" r="1779" b="3204"/>
          <a:stretch/>
        </p:blipFill>
        <p:spPr>
          <a:xfrm>
            <a:off x="6516720" y="4581360"/>
            <a:ext cx="1950840" cy="213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"/>
          <p:cNvPicPr/>
          <p:nvPr/>
        </p:nvPicPr>
        <p:blipFill>
          <a:blip r:embed="rId3"/>
          <a:srcRect l="0" t="0" r="59329" b="4152"/>
          <a:stretch/>
        </p:blipFill>
        <p:spPr>
          <a:xfrm>
            <a:off x="5651640" y="2924280"/>
            <a:ext cx="1655640" cy="1942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"/>
          <p:cNvPicPr/>
          <p:nvPr/>
        </p:nvPicPr>
        <p:blipFill>
          <a:blip r:embed="rId4"/>
          <a:srcRect l="56568" t="0" r="0" b="11178"/>
          <a:stretch/>
        </p:blipFill>
        <p:spPr>
          <a:xfrm>
            <a:off x="7164360" y="2997360"/>
            <a:ext cx="1768680" cy="1800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2"/>
          <p:cNvSpPr/>
          <p:nvPr/>
        </p:nvSpPr>
        <p:spPr>
          <a:xfrm>
            <a:off x="179280" y="364500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ок начинается с замаха коротким плавным петлеобразным движением вниз и назад. Одновременно сгибаются ноги в коле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826920" y="90792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. п. – мяч примерно на уровне груди, без напряжения, но прочно охвачен пальцами. Ладони не должны касаться мяча. Взгляд направлен на цель и не оставляет ее на протяжении всего бро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324000" y="2133720"/>
            <a:ext cx="60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бросок выполняется двумя руками, расположение ног может изменяться: стопы, носками направленные в сторону корзины, ставятся параллельно на одном уровне или одна из них (любая) выставляется впер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5"/>
          <p:cNvSpPr txBox="1"/>
          <p:nvPr/>
        </p:nvSpPr>
        <p:spPr>
          <a:xfrm>
            <a:off x="1547640" y="0"/>
            <a:ext cx="6229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ОК ДВУМЯ РУКАМИ ОТ ГРУД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27" descr="sport018"/>
          <p:cNvPicPr/>
          <p:nvPr/>
        </p:nvPicPr>
        <p:blipFill>
          <a:blip r:embed="rId7"/>
          <a:stretch/>
        </p:blipFill>
        <p:spPr>
          <a:xfrm>
            <a:off x="-541440" y="0"/>
            <a:ext cx="2162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79280" y="404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ок двумя руками от головы (сверху) целесообразен со средней дистанции при плотной опеке сопер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981000"/>
            <a:ext cx="633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ие ног, как и в предыдущем броске. Для замаха мяч из стойки нападающего кратчайшим путем поднимается двумя руками к голове: локти оптимально разведены в стороны, высота поднимания мяча индивидуальна, кисти «взведены» - находятся под мячом, направлены ладонями вверх и расположены параллельно п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Line 7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WordArt 14"/>
          <p:cNvSpPr txBox="1"/>
          <p:nvPr/>
        </p:nvSpPr>
        <p:spPr>
          <a:xfrm>
            <a:off x="1547640" y="0"/>
            <a:ext cx="6229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ОК ДВУМЯ РУКАМИ ОТ ГОЛОВ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Picture 16" descr="Рисунок3"/>
          <p:cNvPicPr/>
          <p:nvPr/>
        </p:nvPicPr>
        <p:blipFill>
          <a:blip r:embed="rId3"/>
          <a:srcRect l="20609" t="17466" r="64850" b="20341"/>
          <a:stretch/>
        </p:blipFill>
        <p:spPr>
          <a:xfrm>
            <a:off x="6948360" y="765000"/>
            <a:ext cx="1443240" cy="208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Рисунок4"/>
          <p:cNvPicPr/>
          <p:nvPr/>
        </p:nvPicPr>
        <p:blipFill>
          <a:blip r:embed="rId4"/>
          <a:srcRect l="4131" t="1990" r="4131" b="0"/>
          <a:stretch/>
        </p:blipFill>
        <p:spPr>
          <a:xfrm>
            <a:off x="684360" y="3068640"/>
            <a:ext cx="1485720" cy="216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Рисунок5"/>
          <p:cNvPicPr/>
          <p:nvPr/>
        </p:nvPicPr>
        <p:blipFill>
          <a:blip r:embed="rId5"/>
          <a:srcRect l="2556" t="1918" r="2556" b="0"/>
          <a:stretch/>
        </p:blipFill>
        <p:spPr>
          <a:xfrm>
            <a:off x="7164360" y="4581360"/>
            <a:ext cx="1492200" cy="2055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3"/>
          <p:cNvSpPr/>
          <p:nvPr/>
        </p:nvSpPr>
        <p:spPr>
          <a:xfrm>
            <a:off x="2484360" y="299736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ное и плавное выпрямление нижних и верхних конечностей завершается мягким выпуском мяча. Направление полета задается синхронным движением указательных пальцев обеих кистей в завершающий момент основной фазы броска, т.е. после полного выпрямления всех звеньев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50920" y="544500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ти после выпуска мяча повернуты тыльными сторонами ладоней друг к другу, большие пальцы смотрят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0" y="33300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ок одной рукой от плеча — эффективный способ атаки кольца с места со средних и дальних дистанций, а также успешно используется в качестве штрафного бро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Line 8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WordArt 12"/>
          <p:cNvSpPr txBox="1"/>
          <p:nvPr/>
        </p:nvSpPr>
        <p:spPr>
          <a:xfrm>
            <a:off x="1547640" y="0"/>
            <a:ext cx="6229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ОК ОДНОЙ РУКОЙ ОТ ПЛЕЧ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50920" y="119664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работают точно так же, как и при броске двумя руками от груди. Различия начинаются после замаха, когда одна рука убирается с мяча, а вторая направляет мяч в корз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179280" y="2205000"/>
            <a:ext cx="54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исходного положения бросковое движение начинается с короткого, петлеобразного замаха, устраняющего толчок. Но как только мяч начнет подниматься вверх, надо повернуть руки так, чтобы одна оказалась под мячом, а вторая — на задней его поверх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250920" y="4005720"/>
            <a:ext cx="55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этого положения делается бросок правой рукой. Поскольку мяч контролируется только правой рукой, левая рука убирается в сторону для сохранения равновесия и сопровождает мяч как и при броске двумя руками от груди, за исключением того, что к корзине будет направлена только одна рука. После этого делается шаг под щит для борьбы за отск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"/>
          <p:cNvPicPr/>
          <p:nvPr/>
        </p:nvPicPr>
        <p:blipFill>
          <a:blip r:embed="rId3"/>
          <a:srcRect l="0" t="0" r="72322" b="7463"/>
          <a:stretch/>
        </p:blipFill>
        <p:spPr>
          <a:xfrm>
            <a:off x="5796000" y="1773360"/>
            <a:ext cx="1433520" cy="2447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"/>
          <p:cNvPicPr/>
          <p:nvPr/>
        </p:nvPicPr>
        <p:blipFill>
          <a:blip r:embed="rId4"/>
          <a:srcRect l="35839" t="0" r="34870" b="8324"/>
          <a:stretch/>
        </p:blipFill>
        <p:spPr>
          <a:xfrm>
            <a:off x="7451640" y="1844640"/>
            <a:ext cx="1487520" cy="237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5"/>
          <a:srcRect l="64315" t="0" r="0" b="5486"/>
          <a:stretch/>
        </p:blipFill>
        <p:spPr>
          <a:xfrm>
            <a:off x="6372360" y="4292640"/>
            <a:ext cx="17571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438200" y="404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сок одной рукой от головы (сверху) – основной бросок в баскетболе для поражения корзины с близкой, средней или дальней дистанции, а также с линии штрафного броска. В основном он выполняется в прыж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50920" y="1484280"/>
            <a:ext cx="712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. п., баскетболист принимает стойку с тройной угрозой: одноименная с бьющей рукой нога находится впереди и носком направлена в сторону корзины; другая нога ставится на полстопы сзади и развернута носком наружу под углом до 45°; мяч удерживается двумя руками у плеча бросающей руки (рабочей кистью со стороны задней поверхности мяча, а поддерживающей сбо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50920" y="3501000"/>
            <a:ext cx="7367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тельная фаза начинается одновременным сгибанием ног в коленных и голеностопных суставах (ноги «заряжаются») и выносом мяча к голове (угол сгибания в локтевом суставе приближается к 90°). Игрок находится в положении, когда указательный палец бросающей руки, локоть, одноименное колено и стопа находятся в одной вертикальной плоскости с корзиной. Взгляд концентрируется на верхней, ближней к игроку точке дуги кольца при «чистом» броске или на соответствующей точке маленького квадрата щита при броске с отскоком. Мяч лежит на кисти бросающей руки, максимально «взятой» на себя, и поддерживается другой рукой сб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7" name="Line 10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914400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0" y="0"/>
              <a:ext cx="0" cy="685800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7" descr="22"/>
          <p:cNvPicPr/>
          <p:nvPr/>
        </p:nvPicPr>
        <p:blipFill>
          <a:blip r:embed="rId1"/>
          <a:stretch/>
        </p:blipFill>
        <p:spPr>
          <a:xfrm>
            <a:off x="0" y="0"/>
            <a:ext cx="1177920" cy="1484280"/>
          </a:xfrm>
          <a:prstGeom prst="rect">
            <a:avLst/>
          </a:prstGeom>
          <a:ln w="0">
            <a:noFill/>
          </a:ln>
        </p:spPr>
      </p:pic>
      <p:sp>
        <p:nvSpPr>
          <p:cNvPr id="172" name="WordArt 15"/>
          <p:cNvSpPr txBox="1"/>
          <p:nvPr/>
        </p:nvSpPr>
        <p:spPr>
          <a:xfrm>
            <a:off x="2411280" y="0"/>
            <a:ext cx="62294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ОК ОДНОЙ РУКОЙ ОТ ГОЛОВ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Picture 16" descr="Рисунок6"/>
          <p:cNvPicPr/>
          <p:nvPr/>
        </p:nvPicPr>
        <p:blipFill>
          <a:blip r:embed="rId4"/>
          <a:srcRect l="7786" t="13704" r="73563" b="20302"/>
          <a:stretch/>
        </p:blipFill>
        <p:spPr>
          <a:xfrm>
            <a:off x="7667640" y="1484280"/>
            <a:ext cx="1224000" cy="187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Рисунок6"/>
          <p:cNvPicPr/>
          <p:nvPr/>
        </p:nvPicPr>
        <p:blipFill>
          <a:blip r:embed="rId5"/>
          <a:srcRect l="25107" t="6007" r="54671" b="22488"/>
          <a:stretch/>
        </p:blipFill>
        <p:spPr>
          <a:xfrm>
            <a:off x="7667640" y="3933720"/>
            <a:ext cx="1297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07:36:47Z</dcterms:created>
  <dc:creator>User</dc:creator>
  <dc:description/>
  <dc:language>en-US</dc:language>
  <cp:lastModifiedBy>Пользователь Windows</cp:lastModifiedBy>
  <dcterms:modified xsi:type="dcterms:W3CDTF">2020-04-08T17:27:34Z</dcterms:modified>
  <cp:revision>9</cp:revision>
  <dc:subject/>
  <dc:title>Слайд 1</dc:title>
</cp:coreProperties>
</file>