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42C-8EC3-4D02-AE2C-D2EC7E9B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D2B-C451-420A-915F-42B7239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F92-93F5-496F-82F0-D244A348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CA3-5392-47F6-B026-CC590A34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03C-81F3-4B76-AD79-5AFFBF90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CAA-3CB8-4006-8073-0F5E37A5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DC1-B358-4CAD-AEF9-4069E4B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18A-EAD5-4C4E-8D92-4AA2CDD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F2F-1D99-40BD-8ABA-C74CBCB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11D-26D6-4DD3-90CA-C5DF6B1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FF0-980F-404D-83F0-70A2057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2AB-02C5-470D-94CA-E363D1B2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7856-4FB6-4A62-9AFE-CF0F4B2B5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963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Comic Sans MS"/>
              </a:rPr>
              <a:t>Игровые приемы ТРКМ</a:t>
            </a:r>
            <a:br>
              <a:rPr sz="7200"/>
            </a:br>
            <a:r>
              <a:rPr b="0" lang="ru-RU" sz="7200" spc="-1" strike="noStrike">
                <a:solidFill>
                  <a:srgbClr val="333399"/>
                </a:solidFill>
                <a:latin typeface="Comic Sans MS"/>
              </a:rPr>
              <a:t>на развитие речи детей 3-4 л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62800" cy="57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ри обследовании детей,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наблюдается различное речевое развитие.</a:t>
            </a:r>
            <a:br>
              <a:rPr sz="2800"/>
            </a:br>
            <a:br>
              <a:rPr sz="800"/>
            </a:br>
            <a:br>
              <a:rPr sz="1400"/>
            </a:b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Условно их можно разделить на две группы:</a:t>
            </a:r>
            <a:br>
              <a:rPr sz="2800"/>
            </a:br>
            <a:br>
              <a:rPr sz="2700"/>
            </a:br>
            <a:r>
              <a:rPr b="1" lang="ru-RU" sz="27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0" lang="ru-RU" sz="2700" spc="-1" strike="noStrike">
                <a:solidFill>
                  <a:srgbClr val="333399"/>
                </a:solidFill>
                <a:latin typeface="Comic Sans MS"/>
              </a:rPr>
              <a:t> Дети, которые говорят отдельными словами.</a:t>
            </a:r>
            <a:br>
              <a:rPr sz="2700"/>
            </a:br>
            <a:r>
              <a:rPr b="1" lang="ru-RU" sz="27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0" lang="ru-RU" sz="2700" spc="-1" strike="noStrike">
                <a:solidFill>
                  <a:srgbClr val="333399"/>
                </a:solidFill>
                <a:latin typeface="Comic Sans MS"/>
              </a:rPr>
              <a:t> Дети, которые говорят фразами, но их речь невнятная и с грамматическими ошибками</a:t>
            </a:r>
            <a:r>
              <a:rPr b="0" lang="ru-RU" sz="2700" spc="-1" strike="noStrike">
                <a:solidFill>
                  <a:srgbClr val="333399"/>
                </a:solidFill>
                <a:latin typeface="Times New Roman"/>
              </a:rPr>
              <a:t>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оскольку в возрасте от 3 до 4 лет происходит значительный скачок в развитии речи (от 1500 до 1900 слов), то целесообразно уделить этому особое вним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Чтобы ребёнок мог свободно выражать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свои мысли и желания, у него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олжен быть богатый словарный запа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57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тадия «Вызов»</a:t>
            </a:r>
            <a:br>
              <a:rPr sz="36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рием «Мозговая атака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Цель: активизация мыслительной деятельности; включение в тем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960" y="404280"/>
            <a:ext cx="8290080" cy="57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тадия «Осмысление»</a:t>
            </a:r>
            <a:br>
              <a:rPr sz="36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Цель: расширение представлении педагогов о значимости применения приемов ТРКМ в обогащении и активизации речевого словаря дошкольников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59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Игры </a:t>
            </a: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Comic Sans MS"/>
              </a:rPr>
              <a:t>Опиши героя</a:t>
            </a: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Comic Sans MS"/>
              </a:rPr>
              <a:t>Найди ошибку</a:t>
            </a:r>
            <a:br>
              <a:rPr sz="4000"/>
            </a:br>
            <a:r>
              <a:rPr b="1" lang="ru-RU" sz="4000" spc="-1" strike="noStrike" u="sng">
                <a:solidFill>
                  <a:srgbClr val="333399"/>
                </a:solidFill>
                <a:uFillTx/>
                <a:latin typeface="Comic Sans MS"/>
              </a:rPr>
              <a:t>Карусель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ТОД «ШЕСТЬ ШЛЯП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rcRect l="0" t="24628" r="0" b="23017"/>
          <a:stretch/>
        </p:blipFill>
        <p:spPr>
          <a:xfrm>
            <a:off x="1835280" y="3557520"/>
            <a:ext cx="5470560" cy="180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407360" cy="514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СПАСИБО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1:55:46Z</dcterms:created>
  <dc:creator>Пользователь</dc:creator>
  <dc:description/>
  <dc:language>en-US</dc:language>
  <cp:lastModifiedBy>Пользователь</cp:lastModifiedBy>
  <cp:lastPrinted>2013-08-25T06:47:58Z</cp:lastPrinted>
  <dcterms:modified xsi:type="dcterms:W3CDTF">2020-03-16T11:12:33Z</dcterms:modified>
  <cp:revision>25</cp:revision>
  <dc:subject/>
  <dc:title>Игры на развитие речи</dc:title>
</cp:coreProperties>
</file>