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17F-3811-471B-9B98-26BE817A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6039-8452-4F54-AB6B-70442E8D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369-C67B-4D5F-A685-B9B57315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26B-CF14-465E-A5D2-50DC9931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3E8-571A-4D25-9B3E-882295F6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466F-2067-4EDE-9EB5-70985A22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398-5819-4105-9944-89BF6B77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061-CBEC-4349-8A86-B7814CE3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007B-BCA7-4BB4-A90C-603CE00A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30A-BBD6-408B-8B55-29BD2A45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0C9-6E08-4F47-92EC-53519944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BEE-D4DF-4D6A-B7B0-140D3E5C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6EB9-D804-4D6E-8899-5707AE19BD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Monotype Corsiva"/>
              </a:rPr>
              <a:t>КОСМО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те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0" y="765000"/>
            <a:ext cx="3924360" cy="609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http://wallpaper-plus.ru/Space/96.jpg"/>
          <p:cNvPicPr/>
          <p:nvPr/>
        </p:nvPicPr>
        <p:blipFill>
          <a:blip r:embed="rId2"/>
          <a:stretch/>
        </p:blipFill>
        <p:spPr>
          <a:xfrm>
            <a:off x="3924360" y="765000"/>
            <a:ext cx="5219640" cy="609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692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7" descr="http://ped-kopilka.ru/images/4%28386%29.jpg"/>
          <p:cNvPicPr/>
          <p:nvPr/>
        </p:nvPicPr>
        <p:blipFill>
          <a:blip r:embed="rId1"/>
          <a:stretch/>
        </p:blipFill>
        <p:spPr>
          <a:xfrm>
            <a:off x="179280" y="917640"/>
            <a:ext cx="8820360" cy="594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смосе он увидел много разных планет, они крутились вокруг одной самой яркой планеты, которую называют Солнц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5" descr="http://ped-kopilka.ru/images/5%28384%29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еще космонавты увидели там звезды. Они так далеко находятся от нашей земли, что кажутся нам лишь маленькими точка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http://www.spacetelescope.org/static/archives/images/wallpaper2/heic0603c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http://ped-kopilka.ru/images/6-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http://ped-kopilka.ru/images/7%28343%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Nastya</cp:lastModifiedBy>
  <dcterms:modified xsi:type="dcterms:W3CDTF">2015-04-09T19:18:06Z</dcterms:modified>
  <cp:revision>20</cp:revision>
  <dc:subject/>
  <dc:title>Слайд 1</dc:title>
</cp:coreProperties>
</file>