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D642-CE1E-4262-908E-C0BC0BB24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C0E1-3645-4716-9AA2-4099816CC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2CE2-C9CA-45AB-B1A2-AA310675F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643C-831C-4897-B332-6667BD9E4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E1E8-EE84-454C-835B-33780311A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D8D0-46E4-4B36-8663-A2EEFB40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C2C3-FF66-48E4-BBE3-F1DB70493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11C8-0231-419F-8809-4B7F8016E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B368-6D63-47F5-BA31-591337F5A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D172-4F96-4F1F-95B6-A9891B2C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D3F5-CA19-4632-A1D4-66493B59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0F73-5D33-4442-A4F8-13E491AD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DE32D-44DB-4C84-808E-3E6F6A1962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68000" y="189000"/>
            <a:ext cx="867564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2" name="Picture 5" descr="http://www.lama.kz/pic/space/4444/kosmos-1600x12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82692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f0000"/>
                </a:solidFill>
                <a:latin typeface="Monotype Corsiva"/>
              </a:rPr>
              <a:t>КОСМОС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мотрите на этих малышей – они с интересом смотрят в ночное небо! Там столько красивых звез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!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Люди с самых давних времен любили смотреть на звезды, и им было очень интересно – какие же они на самом деле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4" descr="http://eromir.in/img.php?pic=10&amp;file=l/images05/115.jpg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-171720"/>
            <a:ext cx="822960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вот однажды они решили полететь в космос! К звездам! Для полета в космос люди построили космическую ракету. В ракету посадили космонавта – именно он должен был управлять ракетой и лететь к звезда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http://upload.wikimedia.org/wikipedia/commons/7/79/Semyorka_Rocket_R7_by_Sergei_Korolyov_in_VDNH_Ostankino_RAF0540.jpg"/>
          <p:cNvPicPr/>
          <p:nvPr/>
        </p:nvPicPr>
        <p:blipFill>
          <a:blip r:embed="rId1"/>
          <a:stretch/>
        </p:blipFill>
        <p:spPr>
          <a:xfrm>
            <a:off x="0" y="765000"/>
            <a:ext cx="3924360" cy="6093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http://wallpaper-plus.ru/Space/96.jpg"/>
          <p:cNvPicPr/>
          <p:nvPr/>
        </p:nvPicPr>
        <p:blipFill>
          <a:blip r:embed="rId2"/>
          <a:stretch/>
        </p:blipFill>
        <p:spPr>
          <a:xfrm>
            <a:off x="3924360" y="765000"/>
            <a:ext cx="5219640" cy="6093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76924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космонавт сел в ракету, пошел обратный отсчет: «Пять, четыре, три, два, один, ПУСК!». Ракета оторвалась от земли, из ее хвоста вырвался огонь – так сильно работал ее двигатель. И ракета полетела высоко в неб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Объект 7" descr="http://ped-kopilka.ru/images/4%28386%29.jpg"/>
          <p:cNvPicPr/>
          <p:nvPr/>
        </p:nvPicPr>
        <p:blipFill>
          <a:blip r:embed="rId1"/>
          <a:stretch/>
        </p:blipFill>
        <p:spPr>
          <a:xfrm>
            <a:off x="179280" y="917640"/>
            <a:ext cx="8820360" cy="5940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космосе он увидел много разных планет, они крутились вокруг одной самой яркой планеты, которую называют Солнц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Объект 5" descr="http://ped-kopilka.ru/images/5%28384%29.jpg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 еще космонавты увидели там звезды. Они так далеко находятся от нашей земли, что кажутся нам лишь маленькими точкам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http://www.spacetelescope.org/static/archives/images/wallpaper2/heic0603c.jpg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Объект 3" descr="http://ped-kopilka.ru/images/6-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Объект 3" descr="http://ped-kopilka.ru/images/7%28343%2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17:36:35Z</dcterms:created>
  <dc:creator>Administratore</dc:creator>
  <dc:description/>
  <dc:language>en-US</dc:language>
  <cp:lastModifiedBy>Nastya</cp:lastModifiedBy>
  <dcterms:modified xsi:type="dcterms:W3CDTF">2015-04-09T19:18:06Z</dcterms:modified>
  <cp:revision>20</cp:revision>
  <dc:subject/>
  <dc:title>Слайд 1</dc:title>
</cp:coreProperties>
</file>