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gif" ContentType="image/gif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C4A6-8090-46C1-9C9C-9E321AD86E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395C-655B-4EA1-A098-2047F152F5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973-72D9-4252-BB37-A6F7B709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80A-C6A4-4DEF-A6A6-ED9C72C1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365-E2BB-4C48-BFBC-712C918B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262-7154-4C7B-9D2B-3A5286AD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32FA-B07F-47EA-BB39-83144AE9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0028-E312-49AF-9CAA-1D14C2CB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E689-8AD9-4A08-B1A2-A9176F4F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49A7-18E7-4F1A-AF78-3E6C9C01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991C-DAE1-458A-9E14-630CFDD1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8B48-21F1-4554-B123-5278FA46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8C42-EA12-4426-A28B-868B5991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1CC-03FB-4A4B-935B-00DABB56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2CA4-9A10-415F-B8AD-A649CFB7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A1D7-6A9D-4CC2-A9FC-9A035863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DEE9-F0BC-45A5-977C-DBF63183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BD5A-4BF8-4D30-99AF-54184CD7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8925-4DEF-4743-A6B5-D98C0779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49876-DDF6-4A69-99B6-6C0B0093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17212-C1D5-46E0-9A82-CB43BF60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9532C-8743-4885-9A5E-26D44C12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E260D-D45A-48B3-BA2C-BE12A126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336F-F956-4B5D-8CB6-7CAD1454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302C-65CF-486F-86B8-A770845E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0C6CF-3E54-418F-B708-F3606B9E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C5B7F-5129-4AD4-AFDA-DB70B037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E315F-41B3-4188-8C1B-A10E2400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BA5D1-7C1D-4C7A-A0CB-0C32FD38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12484-A574-461F-B72B-41FB2C60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53ED1-88D0-48ED-9C91-704213B4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071A9-6DFF-40A8-BDC6-303FFEE6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571E4-3F8C-4744-9897-14202050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47F2E-0295-4D0A-82EB-15930BD6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54FB5-8669-4F57-BE61-92C83E0A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918A-1C6A-4574-9E1E-F129A724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97317-563A-4783-A7BB-3440BC5E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E4A3E-1D09-43F7-ACB4-6A8BA235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D3456-C7DB-495B-9765-D830BF4F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6C257-EFD0-432F-8EBF-2ACD0912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E3F79-B279-4E43-8FEF-EF1BB234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B7BDC-0C0B-4C47-A893-B38F4FE8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F3BF8-C5F2-4CAE-B02C-8C273200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AEA5E-DF38-4B12-B1C7-87C4A80D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5D9BF-993E-4F86-B7C6-4347CE81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699-DE9B-4227-BDEA-8895492F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0F4-046B-4C13-A32D-96D24326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998A-6431-4ECB-8C88-050EAA8C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0BC-0475-4871-BB15-6BC32CD8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AE6-04D2-4918-A7AB-5D0E363F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43CC-A1DD-483B-8772-4CD771C9688B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CE74-F618-40C7-A590-8B468F384C0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1A4C-4FC5-4D37-818E-D2DD2E6798F5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AEE1-BB67-4D26-B211-3CF4D1BB8AB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4DA5-13DA-4B1B-8775-F085DB2B8B2B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6D99-1F5C-40E7-BE3D-52EA4747334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F814-F3D6-44D5-B54E-6946C5E74CFA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30FA-99C1-4627-B3F2-90AA0346184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695160"/>
            <a:ext cx="8643960" cy="2578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71320" y="314280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Ближайшее будущее время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A118-DE2D-42F0-9005-28F396E21B72}" type="datetime">
              <a:rPr b="1" lang="ru-RU" sz="28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1643040" y="428760"/>
            <a:ext cx="600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Употреб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785880" y="1500120"/>
            <a:ext cx="7643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Futur immédiat (futur proche)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– ближайшее будущее время, обозначающее действие, которое должно скоро совершиться. На русский язык обычно переводиться при помощи слов «скоро», «собираться делать что-либо» и т.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2464-6C36-40C2-B11D-0C6B1C60D3B7}" type="datetime">
              <a:rPr b="1" lang="ru-RU" sz="28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1357200" y="714240"/>
            <a:ext cx="64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Образо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Шестиугольник 2"/>
          <p:cNvSpPr/>
          <p:nvPr/>
        </p:nvSpPr>
        <p:spPr>
          <a:xfrm>
            <a:off x="714240" y="2428920"/>
            <a:ext cx="3286440" cy="30718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араллелограмм 3"/>
          <p:cNvSpPr/>
          <p:nvPr/>
        </p:nvSpPr>
        <p:spPr>
          <a:xfrm>
            <a:off x="5572080" y="2500200"/>
            <a:ext cx="2857680" cy="2928960"/>
          </a:xfrm>
          <a:prstGeom prst="parallelogram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Крест 4"/>
          <p:cNvSpPr/>
          <p:nvPr/>
        </p:nvSpPr>
        <p:spPr>
          <a:xfrm>
            <a:off x="4572000" y="3429000"/>
            <a:ext cx="785880" cy="785880"/>
          </a:xfrm>
          <a:prstGeom prst="plus">
            <a:avLst>
              <a:gd name="adj" fmla="val 25000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357200" y="2571840"/>
            <a:ext cx="192888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глагол </a:t>
            </a:r>
            <a:r>
              <a:rPr b="1" lang="ru-RU" sz="4000" spc="-1" strike="noStrike">
                <a:solidFill>
                  <a:srgbClr val="ffff00"/>
                </a:solidFill>
                <a:latin typeface="Constantia"/>
              </a:rPr>
              <a:t>aller</a:t>
            </a: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 в насто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щем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 rot="831000">
            <a:off x="6087960" y="2707920"/>
            <a:ext cx="185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еопре-деле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ая форма глаг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Дата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216D-4867-41E6-8A00-C2A16A6881AF}" type="datetime">
              <a:rPr b="1" lang="ru-RU" sz="28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1500120" y="333360"/>
            <a:ext cx="5857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je </a:t>
            </a:r>
            <a:r>
              <a:rPr b="1" lang="fr-FR" sz="5400" spc="-1" strike="noStrike" u="sng">
                <a:solidFill>
                  <a:srgbClr val="c00000"/>
                </a:solidFill>
                <a:uFillTx/>
                <a:latin typeface="Constantia"/>
              </a:rPr>
              <a:t>vais</a:t>
            </a: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 voya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tu </a:t>
            </a:r>
            <a:r>
              <a:rPr b="1" lang="fr-FR" sz="5400" spc="-1" strike="noStrike" u="sng">
                <a:solidFill>
                  <a:srgbClr val="c00000"/>
                </a:solidFill>
                <a:uFillTx/>
                <a:latin typeface="Constantia"/>
              </a:rPr>
              <a:t>vas</a:t>
            </a: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 voya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il </a:t>
            </a:r>
            <a:r>
              <a:rPr b="1" lang="fr-FR" sz="5400" spc="-1" strike="noStrike" u="sng">
                <a:solidFill>
                  <a:srgbClr val="c00000"/>
                </a:solidFill>
                <a:uFillTx/>
                <a:latin typeface="Constantia"/>
              </a:rPr>
              <a:t>va</a:t>
            </a: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 voya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elle </a:t>
            </a:r>
            <a:r>
              <a:rPr b="1" lang="fr-FR" sz="5400" spc="-1" strike="noStrike" u="sng">
                <a:solidFill>
                  <a:srgbClr val="c00000"/>
                </a:solidFill>
                <a:uFillTx/>
                <a:latin typeface="Constantia"/>
              </a:rPr>
              <a:t>va</a:t>
            </a: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 voya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D:\Сценарии\картинки\анимашки\дети\baby120.gif"/>
          <p:cNvPicPr/>
          <p:nvPr/>
        </p:nvPicPr>
        <p:blipFill>
          <a:blip r:embed="rId1"/>
          <a:stretch/>
        </p:blipFill>
        <p:spPr>
          <a:xfrm>
            <a:off x="5929200" y="3500280"/>
            <a:ext cx="2851200" cy="1928880"/>
          </a:xfrm>
          <a:prstGeom prst="rect">
            <a:avLst/>
          </a:prstGeom>
          <a:ln w="0">
            <a:noFill/>
          </a:ln>
        </p:spPr>
      </p:pic>
      <p:sp>
        <p:nvSpPr>
          <p:cNvPr id="217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807A-55CA-47B1-BF84-9C358266ACA6}" type="datetime">
              <a:rPr b="1" lang="ru-RU" sz="28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1875600" y="571680"/>
            <a:ext cx="709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nous </a:t>
            </a:r>
            <a:r>
              <a:rPr b="1" lang="fr-FR" sz="5400" spc="-1" strike="noStrike" u="sng">
                <a:solidFill>
                  <a:srgbClr val="c00000"/>
                </a:solidFill>
                <a:uFillTx/>
                <a:latin typeface="Constantia"/>
              </a:rPr>
              <a:t>allons</a:t>
            </a: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 voya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2280960" y="1857240"/>
            <a:ext cx="65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ous </a:t>
            </a:r>
            <a:r>
              <a:rPr b="1" lang="fr-FR" sz="5400" spc="-1" strike="noStrike" u="sng">
                <a:solidFill>
                  <a:srgbClr val="c00000"/>
                </a:solidFill>
                <a:uFillTx/>
                <a:latin typeface="Constantia"/>
              </a:rPr>
              <a:t>allez</a:t>
            </a: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 voya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3098160" y="3286080"/>
            <a:ext cx="57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ils </a:t>
            </a:r>
            <a:r>
              <a:rPr b="1" lang="fr-FR" sz="5400" spc="-1" strike="noStrike" u="sng">
                <a:solidFill>
                  <a:srgbClr val="c00000"/>
                </a:solidFill>
                <a:uFillTx/>
                <a:latin typeface="Constantia"/>
              </a:rPr>
              <a:t>vont</a:t>
            </a: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 voya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2363760" y="4786200"/>
            <a:ext cx="648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elles </a:t>
            </a:r>
            <a:r>
              <a:rPr b="1" lang="fr-FR" sz="5400" spc="-1" strike="noStrike" u="sng">
                <a:solidFill>
                  <a:srgbClr val="c00000"/>
                </a:solidFill>
                <a:uFillTx/>
                <a:latin typeface="Constantia"/>
              </a:rPr>
              <a:t>vont</a:t>
            </a:r>
            <a:r>
              <a:rPr b="1" lang="fr-FR" sz="5400" spc="-1" strike="noStrike">
                <a:solidFill>
                  <a:srgbClr val="000000"/>
                </a:solidFill>
                <a:latin typeface="Constantia"/>
              </a:rPr>
              <a:t> voya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Program Files\Microsoft Office\MEDIA\CAGCAT10\j0157763.wmf"/>
          <p:cNvPicPr/>
          <p:nvPr/>
        </p:nvPicPr>
        <p:blipFill>
          <a:blip r:embed="rId1"/>
          <a:stretch/>
        </p:blipFill>
        <p:spPr>
          <a:xfrm rot="20307600">
            <a:off x="693720" y="2760480"/>
            <a:ext cx="2236680" cy="2257200"/>
          </a:xfrm>
          <a:prstGeom prst="rect">
            <a:avLst/>
          </a:prstGeom>
          <a:ln w="0">
            <a:noFill/>
          </a:ln>
        </p:spPr>
      </p:pic>
      <p:sp>
        <p:nvSpPr>
          <p:cNvPr id="223" name="Дата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92BB-07EC-472E-8302-D564AE26608A}" type="datetime">
              <a:rPr b="1" lang="ru-RU" sz="28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2" descr="498885695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429160" y="3268800"/>
            <a:ext cx="2857680" cy="32144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642960" y="785880"/>
            <a:ext cx="735804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 отрицательной форме частиц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c00000"/>
                </a:solidFill>
                <a:uFillTx/>
                <a:latin typeface="Arial"/>
              </a:rPr>
              <a:t>ne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6600" spc="-1" strike="noStrike" u="sng">
                <a:solidFill>
                  <a:srgbClr val="c00000"/>
                </a:solidFill>
                <a:uFillTx/>
                <a:latin typeface="Arial"/>
              </a:rPr>
              <a:t>pas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окружают глагол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aller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8B01-2AF9-4AAC-86AE-98723F7B9F59}" type="datetime">
              <a:rPr b="1" lang="ru-RU" sz="28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3:27:31Z</dcterms:created>
  <dc:creator>Валентина</dc:creator>
  <dc:description/>
  <dc:language>en-US</dc:language>
  <cp:lastModifiedBy>айгуль</cp:lastModifiedBy>
  <dcterms:modified xsi:type="dcterms:W3CDTF">2020-04-07T15:40:40Z</dcterms:modified>
  <cp:revision>15</cp:revision>
  <dc:subject/>
  <dc:title>Futur immédiat =  Futur proche</dc:title>
</cp:coreProperties>
</file>