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8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45DD0B-E271-47F9-A8F5-205D8FA0377F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20467D5-706A-43F6-9CF4-4215C81CA4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1D127-7FD8-453A-9D13-92139F4D96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5716A-328C-4385-BB1C-C77BC12FC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F49BC-2B6A-4B20-9846-8A74B4F3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B8244-8A5D-4DDA-8A98-99FFB9088A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01E2A1-DA89-4DE5-A5AE-BC0E2D71E2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9685FB-38E6-46E9-A5D7-64D0DF01B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C67884-8BB5-4F6B-A1BC-FE37CA1C3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C65E06-87BC-4BE3-BD4F-7C99ED81B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DC9D34-A44B-4DF6-9DD8-F4E9FD85A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442663-5B13-43D8-9C71-D1505BA5A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7AE936-E02A-4106-9E2B-5119A07D3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8B4D0-CC3B-4127-99C9-A82A0AE05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6351AE-BE1C-4D55-AF33-DA196BE4F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0435BD-AB00-464E-8263-5C41AE083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E93AD4-0219-4EBD-9D55-F499B378F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D87EA9-67A5-441A-B799-0F3F51BD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11E231-FE0D-4E2F-8430-68FEC67FE0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E59A9-05C4-48B6-B632-3EA23025BC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B642B-B0FE-4813-9754-33AB53BC9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62E49-F868-4E2C-9751-DFB71DA35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64736-C0AB-4BA4-8A89-B3DC2CE8B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6447B-F8B0-4620-B93B-D48016432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DA330-07E4-4122-B3C7-5F6D52B04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CD25C-7BB5-4E94-A2E8-AA9D7CDF5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B25F3-6544-447D-9BDB-A26A8E925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19D7E-C60D-40BB-B82C-53FD1382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10005-D60D-464C-A46E-8FD4B3AA4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E936D-680C-41B7-B6B2-2975094EB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6CAA5-B586-4E70-A9EA-50F4B40B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F1BA6-0354-4598-B60C-8C2ED8A343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E6498-22D1-4B1D-A300-D6190EFCB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FC5F1-B036-4DD8-928F-65DEDF5C9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F80AB-3136-4959-8755-ABE7C2691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D4E8D-95E4-4960-BF11-1C665DC53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C985F-D0A4-4E1B-BF93-09AF628FA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31F94-3E6C-435A-82DA-D70E68DA8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C2E8A67-085A-46F5-9DF4-8C0B7092C8C8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D868F3C-8C60-4762-9D3C-4B5F6FA99BCB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2E2F9D8-3233-4CDA-903A-5E5E2034202E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258920" y="1773360"/>
            <a:ext cx="688500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одительское собрание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Специфика работы педагога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сихолога в детском сад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57200" y="1600200"/>
            <a:ext cx="822960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сихологические особенности детей дошкольного возраста 5-6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ущая потребность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отребность в общении; творческая актив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ущая деятельность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иг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ущая функц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воображ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образ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восхищение результата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е развитие познавательных способ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е общение со сверстни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857240" y="3286080"/>
            <a:ext cx="7286760" cy="39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является творческая активность во всех видах деятель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ется фантаз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знание полового различ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52640" y="1214280"/>
            <a:ext cx="47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обенности возра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85840" y="1857240"/>
            <a:ext cx="8286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ется инициатива, наблюдательность, умение планировать собственную деятельность, произвольность пове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1214280"/>
            <a:ext cx="8786880" cy="53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комендации для родителе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уважением относитесь к фантазиям ребён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ьте ему возможности для разного творчест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епенно снижайте контроль и опеку, позволяя ребенку ставить перед собой самые разные задачи и решать и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угайтесь и не увиливайте от «неудобных», но очень важных для ребенка вопрос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ите ребенку справляться со страх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23800" y="2382840"/>
            <a:ext cx="8315280" cy="259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857240" y="142884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то такой психолог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857240" y="4572000"/>
            <a:ext cx="7072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И ПЕДАГОГА-ПСИХОЛОГ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благоприятных условий для психического развития каждого ребен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ание своевременной помощи всем участникам педагогического процес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28760" y="2274840"/>
            <a:ext cx="8501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СИХИАТР 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ач, занимающийся отклонениями в психической сфере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СИХОЛОГ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(Детский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не врач, а педаг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ет с детьми, не имеющими нарушений в психическом развит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взрослым понять, что происходит с их ребен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643040" y="2428920"/>
            <a:ext cx="725004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Психодиагности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В младших группах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-4 года) для определения уровня психического развит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В старших группах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целью определения уровня психического развития для организации и координации работы в </a:t>
            </a:r>
            <a:r>
              <a:rPr b="1" lang="ru-RU" sz="24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подготовительной групп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Диагностика психологической готовност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обучению в школе детей подготовительной групп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57160" y="1357200"/>
            <a:ext cx="7500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ые направления деятельности педагога-психолог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643040" y="2087640"/>
            <a:ext cx="7201080" cy="49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ндовая информация об индивидуальных различиях и возрастных особенностях детей, о возрастных кризисах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овые и индивидуальные консультации для родителей вновь поступающих 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06400" y="1500120"/>
            <a:ext cx="698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сихологическая профилак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590840" y="1862280"/>
            <a:ext cx="734508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ентация на средневозрастные нормы развит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проблем в познавательной, эмоциональной , мотивационной, волевой, поведенческой сферах, которые влияют на формирование у дошкольников интегративных качеств и на развитие ребенка в це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76240" y="1571760"/>
            <a:ext cx="744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ррекционная и развивающ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727280" y="2357280"/>
            <a:ext cx="7416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повышение уровня психологических знаний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родительских собраний на тем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   Адаптация ребенка к ДО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   Наиболее типичные ошибки семейного воспит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   Психологическая готовность к обучению и д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93680" y="1714680"/>
            <a:ext cx="744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сихологическое</a:t>
            </a: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свещение</a:t>
            </a: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571760" y="1857240"/>
            <a:ext cx="7273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овая диагностика познавательной сферы, эмоционального благополучия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ая и коррекционно-развивающая работа с детьми по запросам воспитателей, род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ое сопровождение детей в период адаптации к детскому са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ция коммуникативной и познавательной сферы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ка психологической готовности ребенка к школьному обуч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16040" y="1428840"/>
            <a:ext cx="387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бота с деть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785960" y="1844640"/>
            <a:ext cx="7107120" cy="42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бота с родителя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Индивидуальное консультирование родите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Участие в тематических встреч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071800" y="1503360"/>
            <a:ext cx="6203880" cy="54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лановая диагнос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арший возраст (5-6 лет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араметр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имание, память, мышление, воображ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мотори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оценк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ус в групп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льность повед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тивные навы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9:20:23Z</dcterms:created>
  <dc:creator>Федотова Виктория Александровна</dc:creator>
  <dc:description/>
  <dc:language>en-US</dc:language>
  <cp:lastModifiedBy>Admin</cp:lastModifiedBy>
  <dcterms:modified xsi:type="dcterms:W3CDTF">2014-11-14T07:07:07Z</dcterms:modified>
  <cp:revision>53</cp:revision>
  <dc:subject/>
  <dc:title>Слайд 1</dc:title>
</cp:coreProperties>
</file>