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5.wmf" ContentType="image/x-wmf"/>
  <Override PartName="/ppt/media/image7.png" ContentType="image/png"/>
  <Override PartName="/ppt/media/image12.png" ContentType="image/png"/>
  <Override PartName="/ppt/media/image8.png" ContentType="image/png"/>
  <Override PartName="/ppt/media/image1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E56C9-499E-4EE5-B03F-CFF5F40A3D4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73005-07FB-4966-9E5D-30A02907929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1F5A7-8C7B-45EE-9EDD-6F01894083D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78F52-93BB-4FCD-87B8-3095E06E1D1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7D076-131F-4545-A4D4-C6B054737F5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8A25-189E-4F51-B9B4-4D40E0D4A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20DF-3DFA-4C99-9214-57B51BE50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DF67-C519-4500-8504-3A01E8535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6C0C-5052-4A97-A0CC-ACC031CE1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39822-885A-49B4-A918-B575790FB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FE106-835A-47E6-A761-A85CDC6D2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948C8-5B6A-4570-AC44-0AC0B97AF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67171-FA10-4039-9344-A433BB3C8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979CE-1261-490D-8C63-9912A4B1A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E1403-C070-4E6A-935F-56E5E1FD9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9AE92-66DE-4036-BDB6-A0B1835D4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CD9D-2AA8-47D4-A6BC-5804EE197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40417-5E01-41D2-BC8E-E268A3CC3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846B3-4D1C-45F2-8546-0C062FBFF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E2C13-4E71-4D71-BDAC-615AC1F20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D2DB6-9E2D-4F7A-B8CB-DC8E6A90F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22C72-A7ED-46BB-9FA7-CB886258A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A79B31-F1B2-49DA-8BF4-073AB09D9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86160A-DA3D-40C6-9AE5-BC196A56D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F0A7AC-0100-4FF9-82CD-EA96AF1AC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2E2DB5-E1D1-44DB-AA97-508DA9D0B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A7E1F6-6E12-4931-A997-3C527DF69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FDD6-9804-4E2B-B03B-74B2F7121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396984-CF96-491E-B6F4-066CD525A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90C1FC-98FB-459F-BF15-8FD24C800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37A8FA-2100-4AB6-B25A-BDDA30210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0F0799-CDDD-45AE-A293-6FEB1E355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026918-285D-4BFF-A65B-7F134B54F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50B381-2073-4A51-BE83-993237207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416E75-6B93-4429-ACB2-9824A2021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C7C7C8-D9CC-4770-9450-EC31F7CB7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29E167-E6AE-405C-A719-8F59595BD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F01EF6-3429-41EC-9C37-442CEE652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334D-4DB2-4619-A7F6-B06C41244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A6326D-8D75-44BE-9FA7-AB16E024F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5D98E6-BC49-4F74-A620-F2268FFD9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D0CBC4-8EE9-44CF-983C-B2A097544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F2B9E7-5502-4C2C-AE64-B61266A32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5D4FE8-6AF8-43EA-9842-0F2647002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6CF853-354A-4E7D-9CEE-ADBE84188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32440A-6517-4AD8-B974-6DC73130D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013532-0E7E-420F-BFD9-7FA001DC8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012DC4-52BF-4268-8AE3-0DCB88652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48536D-D55A-4A4B-8122-008DC135C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515A-D76C-49E6-91D8-41B7049DD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1A05AA-94FE-4C8A-AAA0-C2CDD4C3C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ACE9E4-6C8A-49B7-BD3F-6E829C196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1F91FE-C41D-453B-97D0-03AACEE16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BD5ACB-096C-430F-BEB0-7825C0B7C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AE605D-06AC-4099-AF62-A802D5F63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45AA94-60A8-498B-B066-4CA13C54E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803E2D-D1A8-4586-870B-EF529A97E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2D9267-A571-46D8-A8F9-4B06B9A6E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4AA751-A8C0-438D-802F-42F53D050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19E1A2-6B08-4708-A7BF-680E1E689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E154-B26C-4C6F-88B4-B4BDAFF7B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09285D-4BC4-4583-931F-13EEB923D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0A2A276-DB9D-425F-B462-B85EF5924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7C79BF8-0C7F-44B3-AF6B-02863A17A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FF0302C-4B75-4300-841B-F2C1F8E9E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B357165-F227-48A1-BE3D-0E3C97B42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00B986F-C928-4748-841C-46271A3A3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D32295-8F07-41D7-B961-9A194EFD1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C00B526-84F7-4CC7-BB22-891601EB0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774DCA6-8055-4D8E-B803-28C653941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0AAE9B8-E4E1-4821-8D56-21AEEDCC5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C7B1-CB9A-437C-813C-55EAA46FF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9B7F17A-1B46-4B30-AC85-8BBF869B5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156C102-9C0E-4937-99BE-14EA73AFA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B4677A5-04F7-425E-B5A6-06D2F4F2D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6B8724D-2121-47FA-B25C-4593FC7A2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602B2B3-590D-42EC-99EC-7573CF4A9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FDFC5D6-38AF-4110-B227-9BA01B570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CD28533-C884-4566-A0B6-145098192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66431BA-E568-4A88-A621-634F2A933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7A06E24-1535-408C-937C-BF5A584EE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98BC8AF-08EF-4FB3-A18C-6FE59C9F0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82CB-ACC4-4084-829C-22D18AF9F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407AA1C-F474-41D1-B90B-1D5B9B963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C5B899A-5F93-44A5-9365-073C7279D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7838481-D3A5-44AE-896C-80412B844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F11531B-7112-46D0-BD2E-FB2D22344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60ADB22-09BD-4299-8B94-1C8752D22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4CC6-D823-4B7A-AB06-087E1F65B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B6A6B-2959-4370-8043-E373F700BC6C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50D97-F459-48C5-9EDE-2896566F2889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69EE4-4465-4B51-9FA8-4F09A0136661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D1C4B-6B88-42A9-B558-8CBDCB3AD92A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0311D-A289-433D-9141-BD85A18BBDFE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7C4DC-C016-4970-BDDC-8871A949830A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A6BBB-3250-4D4F-8C0C-C830A9EA4DAF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692360" y="691920"/>
            <a:ext cx="6310080" cy="30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14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2060"/>
                </a:solidFill>
                <a:latin typeface="Century Schoolbook"/>
              </a:rPr>
              <a:t>ПРОИЗВОДНАЯ ПОКАЗАТЕЛЬНОЙ, ЛОГАРИФМИЧЕСКОЙ И</a:t>
            </a:r>
            <a:br>
              <a:rPr sz="2900"/>
            </a:br>
            <a:r>
              <a:rPr b="1" lang="ru-RU" sz="2900" spc="-1" strike="noStrike">
                <a:solidFill>
                  <a:srgbClr val="002060"/>
                </a:solidFill>
                <a:latin typeface="Century Schoolbook"/>
              </a:rPr>
              <a:t>СТЕПЕННОЙ ФУНКЦИЙ ПРИ ПОДГОТОВКЕ К ЕГЭ ПО МАТЕМАТИКЕ</a:t>
            </a:r>
            <a:br>
              <a:rPr sz="3200"/>
            </a:br>
            <a:endParaRPr b="0" lang="en-US" sz="29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8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ОБЩИЙ ВИД УРАВНЕНИЯ КАСАТЕЛЬНОЙ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97" name="Picture 2" descr=""/>
          <p:cNvPicPr/>
          <p:nvPr/>
        </p:nvPicPr>
        <p:blipFill>
          <a:blip r:embed="rId1"/>
          <a:stretch/>
        </p:blipFill>
        <p:spPr>
          <a:xfrm>
            <a:off x="1042920" y="1773360"/>
            <a:ext cx="6865920" cy="971280"/>
          </a:xfrm>
          <a:prstGeom prst="rect">
            <a:avLst/>
          </a:prstGeom>
          <a:ln w="0">
            <a:noFill/>
          </a:ln>
        </p:spPr>
      </p:pic>
      <p:sp>
        <p:nvSpPr>
          <p:cNvPr id="498" name="TextBox 3"/>
          <p:cNvSpPr/>
          <p:nvPr/>
        </p:nvSpPr>
        <p:spPr>
          <a:xfrm>
            <a:off x="1757880" y="3213000"/>
            <a:ext cx="543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Чему равен углово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коэффициент касательно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9" name="Объект 4"/>
              <p:cNvSpPr txBox="1"/>
              <p:nvPr/>
            </p:nvSpPr>
            <p:spPr>
              <a:xfrm>
                <a:off x="2268360" y="4292640"/>
                <a:ext cx="3913200" cy="99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х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Line 17"/>
          <p:cNvSpPr/>
          <p:nvPr/>
        </p:nvSpPr>
        <p:spPr>
          <a:xfrm>
            <a:off x="826920" y="3284640"/>
            <a:ext cx="5977080" cy="151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4"/>
          <p:cNvSpPr/>
          <p:nvPr/>
        </p:nvSpPr>
        <p:spPr>
          <a:xfrm>
            <a:off x="890640" y="259560"/>
            <a:ext cx="7335720" cy="21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а рисунке изображён график функции                  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и касательная к нему в точке с абсциссой       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айдите значение производной функции             в точке       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76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                                                    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2" name="Picture 5" descr="y=f(x)"/>
          <p:cNvPicPr/>
          <p:nvPr/>
        </p:nvPicPr>
        <p:blipFill>
          <a:blip r:embed="rId1"/>
          <a:stretch/>
        </p:blipFill>
        <p:spPr>
          <a:xfrm>
            <a:off x="5796000" y="276120"/>
            <a:ext cx="1008000" cy="30960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6" descr="x_0"/>
          <p:cNvPicPr/>
          <p:nvPr/>
        </p:nvPicPr>
        <p:blipFill>
          <a:blip r:embed="rId2"/>
          <a:stretch/>
        </p:blipFill>
        <p:spPr>
          <a:xfrm>
            <a:off x="6012000" y="620640"/>
            <a:ext cx="274680" cy="20628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7" descr="f(x)"/>
          <p:cNvPicPr/>
          <p:nvPr/>
        </p:nvPicPr>
        <p:blipFill>
          <a:blip r:embed="rId3"/>
          <a:stretch/>
        </p:blipFill>
        <p:spPr>
          <a:xfrm>
            <a:off x="5867280" y="836640"/>
            <a:ext cx="696960" cy="388800"/>
          </a:xfrm>
          <a:prstGeom prst="rect">
            <a:avLst/>
          </a:prstGeom>
          <a:ln w="0">
            <a:noFill/>
          </a:ln>
        </p:spPr>
      </p:pic>
      <p:pic>
        <p:nvPicPr>
          <p:cNvPr id="505" name="Picture 8" descr="x_0"/>
          <p:cNvPicPr/>
          <p:nvPr/>
        </p:nvPicPr>
        <p:blipFill>
          <a:blip r:embed="rId4"/>
          <a:stretch/>
        </p:blipFill>
        <p:spPr>
          <a:xfrm>
            <a:off x="7667640" y="907920"/>
            <a:ext cx="360360" cy="27000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9" descr="task-14/ps/task-14.2"/>
          <p:cNvPicPr/>
          <p:nvPr/>
        </p:nvPicPr>
        <p:blipFill>
          <a:blip r:embed="rId5"/>
          <a:stretch/>
        </p:blipFill>
        <p:spPr>
          <a:xfrm>
            <a:off x="826920" y="1557360"/>
            <a:ext cx="6193080" cy="3992400"/>
          </a:xfrm>
          <a:prstGeom prst="rect">
            <a:avLst/>
          </a:prstGeom>
          <a:ln w="0">
            <a:noFill/>
          </a:ln>
        </p:spPr>
      </p:pic>
      <p:sp>
        <p:nvSpPr>
          <p:cNvPr id="507" name="Oval 11"/>
          <p:cNvSpPr/>
          <p:nvPr/>
        </p:nvSpPr>
        <p:spPr>
          <a:xfrm>
            <a:off x="1476360" y="3357720"/>
            <a:ext cx="216000" cy="215640"/>
          </a:xfrm>
          <a:prstGeom prst="ellipse">
            <a:avLst/>
          </a:prstGeom>
          <a:solidFill>
            <a:srgbClr val="270de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Oval 12"/>
          <p:cNvSpPr/>
          <p:nvPr/>
        </p:nvSpPr>
        <p:spPr>
          <a:xfrm>
            <a:off x="5003640" y="4221000"/>
            <a:ext cx="216000" cy="216000"/>
          </a:xfrm>
          <a:prstGeom prst="ellipse">
            <a:avLst/>
          </a:prstGeom>
          <a:solidFill>
            <a:srgbClr val="270de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Line 13"/>
          <p:cNvSpPr/>
          <p:nvPr/>
        </p:nvSpPr>
        <p:spPr>
          <a:xfrm flipV="1">
            <a:off x="5148360" y="3500280"/>
            <a:ext cx="0" cy="720720"/>
          </a:xfrm>
          <a:prstGeom prst="line">
            <a:avLst/>
          </a:prstGeom>
          <a:ln w="57240">
            <a:solidFill>
              <a:srgbClr val="270d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Line 14"/>
          <p:cNvSpPr/>
          <p:nvPr/>
        </p:nvSpPr>
        <p:spPr>
          <a:xfrm>
            <a:off x="1692360" y="3500280"/>
            <a:ext cx="3456000" cy="0"/>
          </a:xfrm>
          <a:prstGeom prst="line">
            <a:avLst/>
          </a:prstGeom>
          <a:ln w="57240">
            <a:solidFill>
              <a:srgbClr val="270d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15"/>
          <p:cNvSpPr/>
          <p:nvPr/>
        </p:nvSpPr>
        <p:spPr>
          <a:xfrm>
            <a:off x="1042920" y="2852640"/>
            <a:ext cx="4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16"/>
          <p:cNvSpPr/>
          <p:nvPr/>
        </p:nvSpPr>
        <p:spPr>
          <a:xfrm>
            <a:off x="5005440" y="45086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18"/>
          <p:cNvSpPr/>
          <p:nvPr/>
        </p:nvSpPr>
        <p:spPr>
          <a:xfrm>
            <a:off x="1116720" y="6237360"/>
            <a:ext cx="353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А выше В ставим знак «-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29"/>
          <p:cNvSpPr/>
          <p:nvPr/>
        </p:nvSpPr>
        <p:spPr>
          <a:xfrm>
            <a:off x="5130360" y="5680080"/>
            <a:ext cx="126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ртика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Line 30"/>
          <p:cNvSpPr/>
          <p:nvPr/>
        </p:nvSpPr>
        <p:spPr>
          <a:xfrm>
            <a:off x="5003640" y="6021360"/>
            <a:ext cx="1584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31"/>
          <p:cNvSpPr/>
          <p:nvPr/>
        </p:nvSpPr>
        <p:spPr>
          <a:xfrm>
            <a:off x="5078520" y="6021360"/>
            <a:ext cx="148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ризонта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Line 32"/>
          <p:cNvSpPr/>
          <p:nvPr/>
        </p:nvSpPr>
        <p:spPr>
          <a:xfrm>
            <a:off x="4716360" y="6021360"/>
            <a:ext cx="144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33"/>
          <p:cNvSpPr/>
          <p:nvPr/>
        </p:nvSpPr>
        <p:spPr>
          <a:xfrm>
            <a:off x="6712920" y="582444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34"/>
          <p:cNvSpPr/>
          <p:nvPr/>
        </p:nvSpPr>
        <p:spPr>
          <a:xfrm>
            <a:off x="7147080" y="5608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Line 35"/>
          <p:cNvSpPr/>
          <p:nvPr/>
        </p:nvSpPr>
        <p:spPr>
          <a:xfrm>
            <a:off x="7093080" y="6021360"/>
            <a:ext cx="431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36"/>
          <p:cNvSpPr/>
          <p:nvPr/>
        </p:nvSpPr>
        <p:spPr>
          <a:xfrm>
            <a:off x="7147080" y="6111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37"/>
          <p:cNvSpPr/>
          <p:nvPr/>
        </p:nvSpPr>
        <p:spPr>
          <a:xfrm>
            <a:off x="7649640" y="5824440"/>
            <a:ext cx="96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 - 0,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3" name="Объект 1"/>
              <p:cNvSpPr txBox="1"/>
              <p:nvPr/>
            </p:nvSpPr>
            <p:spPr>
              <a:xfrm>
                <a:off x="3103560" y="5824440"/>
                <a:ext cx="142560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0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67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69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9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2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8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4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7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0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4"/>
          <p:cNvSpPr/>
          <p:nvPr/>
        </p:nvSpPr>
        <p:spPr>
          <a:xfrm>
            <a:off x="673920" y="403560"/>
            <a:ext cx="81345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а рисунке изображён график функции                    и касательная 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ему в точке с абсциссой       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айдите значение производной функции             в точке       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10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                                                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5" name="Picture 5" descr="y=f(x)"/>
          <p:cNvPicPr/>
          <p:nvPr/>
        </p:nvPicPr>
        <p:blipFill>
          <a:blip r:embed="rId1"/>
          <a:stretch/>
        </p:blipFill>
        <p:spPr>
          <a:xfrm>
            <a:off x="5580000" y="347760"/>
            <a:ext cx="1008000" cy="30960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6" descr="x_0"/>
          <p:cNvPicPr/>
          <p:nvPr/>
        </p:nvPicPr>
        <p:blipFill>
          <a:blip r:embed="rId2"/>
          <a:stretch/>
        </p:blipFill>
        <p:spPr>
          <a:xfrm>
            <a:off x="3924360" y="765000"/>
            <a:ext cx="360360" cy="27000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7" descr="f(x)"/>
          <p:cNvPicPr/>
          <p:nvPr/>
        </p:nvPicPr>
        <p:blipFill>
          <a:blip r:embed="rId3"/>
          <a:stretch/>
        </p:blipFill>
        <p:spPr>
          <a:xfrm>
            <a:off x="5724360" y="1025640"/>
            <a:ext cx="503280" cy="28080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8" descr="x_0"/>
          <p:cNvPicPr/>
          <p:nvPr/>
        </p:nvPicPr>
        <p:blipFill>
          <a:blip r:embed="rId4"/>
          <a:stretch/>
        </p:blipFill>
        <p:spPr>
          <a:xfrm>
            <a:off x="7588080" y="1038240"/>
            <a:ext cx="360360" cy="27000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9" descr="task-14/ps/task-14.6"/>
          <p:cNvPicPr/>
          <p:nvPr/>
        </p:nvPicPr>
        <p:blipFill>
          <a:blip r:embed="rId5"/>
          <a:stretch/>
        </p:blipFill>
        <p:spPr>
          <a:xfrm>
            <a:off x="1763640" y="1700280"/>
            <a:ext cx="5400720" cy="4989600"/>
          </a:xfrm>
          <a:prstGeom prst="rect">
            <a:avLst/>
          </a:prstGeom>
          <a:ln w="0">
            <a:noFill/>
          </a:ln>
        </p:spPr>
      </p:pic>
      <p:sp>
        <p:nvSpPr>
          <p:cNvPr id="530" name="Line 10"/>
          <p:cNvSpPr/>
          <p:nvPr/>
        </p:nvSpPr>
        <p:spPr>
          <a:xfrm flipV="1">
            <a:off x="1835280" y="3212640"/>
            <a:ext cx="5041800" cy="2521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Oval 11"/>
          <p:cNvSpPr/>
          <p:nvPr/>
        </p:nvSpPr>
        <p:spPr>
          <a:xfrm>
            <a:off x="5292720" y="3860640"/>
            <a:ext cx="216000" cy="216000"/>
          </a:xfrm>
          <a:prstGeom prst="ellipse">
            <a:avLst/>
          </a:prstGeom>
          <a:solidFill>
            <a:srgbClr val="270de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Oval 12"/>
          <p:cNvSpPr/>
          <p:nvPr/>
        </p:nvSpPr>
        <p:spPr>
          <a:xfrm>
            <a:off x="3635280" y="4653000"/>
            <a:ext cx="216000" cy="216000"/>
          </a:xfrm>
          <a:prstGeom prst="ellipse">
            <a:avLst/>
          </a:prstGeom>
          <a:solidFill>
            <a:srgbClr val="270de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13"/>
          <p:cNvSpPr/>
          <p:nvPr/>
        </p:nvSpPr>
        <p:spPr>
          <a:xfrm>
            <a:off x="3203640" y="4149720"/>
            <a:ext cx="4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14"/>
          <p:cNvSpPr/>
          <p:nvPr/>
        </p:nvSpPr>
        <p:spPr>
          <a:xfrm>
            <a:off x="5365800" y="3213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Line 15"/>
          <p:cNvSpPr/>
          <p:nvPr/>
        </p:nvSpPr>
        <p:spPr>
          <a:xfrm>
            <a:off x="3780000" y="4797360"/>
            <a:ext cx="1655640" cy="0"/>
          </a:xfrm>
          <a:prstGeom prst="line">
            <a:avLst/>
          </a:prstGeom>
          <a:ln w="38160">
            <a:solidFill>
              <a:srgbClr val="270d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Line 16"/>
          <p:cNvSpPr/>
          <p:nvPr/>
        </p:nvSpPr>
        <p:spPr>
          <a:xfrm flipV="1">
            <a:off x="5435640" y="4076640"/>
            <a:ext cx="0" cy="720720"/>
          </a:xfrm>
          <a:prstGeom prst="line">
            <a:avLst/>
          </a:prstGeom>
          <a:ln w="38160">
            <a:solidFill>
              <a:srgbClr val="270d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17"/>
          <p:cNvSpPr/>
          <p:nvPr/>
        </p:nvSpPr>
        <p:spPr>
          <a:xfrm>
            <a:off x="7093080" y="3141720"/>
            <a:ext cx="173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А ниже 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к «+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18"/>
          <p:cNvSpPr/>
          <p:nvPr/>
        </p:nvSpPr>
        <p:spPr>
          <a:xfrm>
            <a:off x="7153560" y="4181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19"/>
          <p:cNvSpPr/>
          <p:nvPr/>
        </p:nvSpPr>
        <p:spPr>
          <a:xfrm>
            <a:off x="7166160" y="465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20"/>
          <p:cNvSpPr/>
          <p:nvPr/>
        </p:nvSpPr>
        <p:spPr>
          <a:xfrm>
            <a:off x="7649640" y="438480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 0,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Line 21"/>
          <p:cNvSpPr/>
          <p:nvPr/>
        </p:nvSpPr>
        <p:spPr>
          <a:xfrm>
            <a:off x="7164360" y="458136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2" name="Объект 1"/>
              <p:cNvSpPr txBox="1"/>
              <p:nvPr/>
            </p:nvSpPr>
            <p:spPr>
              <a:xfrm>
                <a:off x="7037280" y="3857760"/>
                <a:ext cx="137340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3" name="TextBox 3"/>
          <p:cNvSpPr/>
          <p:nvPr/>
        </p:nvSpPr>
        <p:spPr>
          <a:xfrm>
            <a:off x="6670800" y="444816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75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0" dur="75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9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2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5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8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TextBox 3"/>
          <p:cNvSpPr/>
          <p:nvPr/>
        </p:nvSpPr>
        <p:spPr>
          <a:xfrm>
            <a:off x="762120" y="620640"/>
            <a:ext cx="7386480" cy="18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Прототип B</a:t>
            </a: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9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 № 275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рисунке изображён график функции 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y=f(x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и касательная к нему в точке с абсциссой 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Найдите значение производной функции 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f(x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в точке 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Box 5"/>
          <p:cNvSpPr/>
          <p:nvPr/>
        </p:nvSpPr>
        <p:spPr>
          <a:xfrm>
            <a:off x="1714680" y="4873680"/>
            <a:ext cx="617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вет: 0,25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Picture 2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071880" cy="228600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3" descr=""/>
          <p:cNvPicPr/>
          <p:nvPr/>
        </p:nvPicPr>
        <p:blipFill>
          <a:blip r:embed="rId2"/>
          <a:stretch/>
        </p:blipFill>
        <p:spPr>
          <a:xfrm>
            <a:off x="1154160" y="2349360"/>
            <a:ext cx="2952720" cy="22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258560" y="18864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Century Schoolbook"/>
              </a:rPr>
              <a:t>ЭКСТРЕМУМЫ ФУНКЦИИ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9" name="Object 19"/>
              <p:cNvSpPr txBox="1"/>
              <p:nvPr/>
            </p:nvSpPr>
            <p:spPr>
              <a:xfrm>
                <a:off x="8702640" y="4782960"/>
                <a:ext cx="44136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х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0" name="Object 21"/>
              <p:cNvSpPr txBox="1"/>
              <p:nvPr/>
            </p:nvSpPr>
            <p:spPr>
              <a:xfrm>
                <a:off x="0" y="4749840"/>
                <a:ext cx="40644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х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1" name="Object 42"/>
              <p:cNvSpPr txBox="1"/>
              <p:nvPr/>
            </p:nvSpPr>
            <p:spPr>
              <a:xfrm>
                <a:off x="3778200" y="2254320"/>
                <a:ext cx="144144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 '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2" name="Object 44"/>
              <p:cNvSpPr txBox="1"/>
              <p:nvPr/>
            </p:nvSpPr>
            <p:spPr>
              <a:xfrm>
                <a:off x="7296120" y="3160800"/>
                <a:ext cx="1306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 '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3" name="Freeform 8"/>
          <p:cNvSpPr/>
          <p:nvPr/>
        </p:nvSpPr>
        <p:spPr>
          <a:xfrm>
            <a:off x="1403280" y="2505240"/>
            <a:ext cx="6697800" cy="2220840"/>
          </a:xfrm>
          <a:custGeom>
            <a:avLst/>
            <a:gdLst>
              <a:gd name="textAreaLeft" fmla="*/ 0 w 6697800"/>
              <a:gd name="textAreaRight" fmla="*/ 6698160 w 6697800"/>
              <a:gd name="textAreaTop" fmla="*/ 0 h 2220840"/>
              <a:gd name="textAreaBottom" fmla="*/ 2221200 h 2220840"/>
            </a:gdLst>
            <a:ahLst/>
            <a:rect l="textAreaLeft" t="textAreaTop" r="textAreaRight" b="textAreaBottom"/>
            <a:pathLst>
              <a:path w="3122" h="1399">
                <a:moveTo>
                  <a:pt x="0" y="1399"/>
                </a:moveTo>
                <a:cubicBezTo>
                  <a:pt x="261" y="790"/>
                  <a:pt x="522" y="182"/>
                  <a:pt x="817" y="129"/>
                </a:cubicBezTo>
                <a:cubicBezTo>
                  <a:pt x="1112" y="76"/>
                  <a:pt x="1421" y="1075"/>
                  <a:pt x="1769" y="1082"/>
                </a:cubicBezTo>
                <a:cubicBezTo>
                  <a:pt x="2117" y="1089"/>
                  <a:pt x="2684" y="348"/>
                  <a:pt x="2903" y="174"/>
                </a:cubicBezTo>
                <a:cubicBezTo>
                  <a:pt x="3122" y="0"/>
                  <a:pt x="3103" y="19"/>
                  <a:pt x="3085" y="38"/>
                </a:cubicBezTo>
              </a:path>
            </a:pathLst>
          </a:custGeom>
          <a:noFill/>
          <a:ln w="38160">
            <a:solidFill>
              <a:srgbClr val="d2611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Line 9"/>
          <p:cNvSpPr/>
          <p:nvPr/>
        </p:nvSpPr>
        <p:spPr>
          <a:xfrm>
            <a:off x="3203640" y="2709720"/>
            <a:ext cx="0" cy="216072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Line 10"/>
          <p:cNvSpPr/>
          <p:nvPr/>
        </p:nvSpPr>
        <p:spPr>
          <a:xfrm>
            <a:off x="5219640" y="4222800"/>
            <a:ext cx="0" cy="64764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6" name="Group 32"/>
          <p:cNvGrpSpPr/>
          <p:nvPr/>
        </p:nvGrpSpPr>
        <p:grpSpPr>
          <a:xfrm>
            <a:off x="395280" y="1557360"/>
            <a:ext cx="7956000" cy="3744360"/>
            <a:chOff x="395280" y="1557360"/>
            <a:chExt cx="7956000" cy="3744360"/>
          </a:xfrm>
        </p:grpSpPr>
        <p:grpSp>
          <p:nvGrpSpPr>
            <p:cNvPr id="557" name="Group 33"/>
            <p:cNvGrpSpPr/>
            <p:nvPr/>
          </p:nvGrpSpPr>
          <p:grpSpPr>
            <a:xfrm>
              <a:off x="395280" y="4842000"/>
              <a:ext cx="7956000" cy="459720"/>
              <a:chOff x="395280" y="4842000"/>
              <a:chExt cx="7956000" cy="459720"/>
            </a:xfrm>
          </p:grpSpPr>
          <p:sp>
            <p:nvSpPr>
              <p:cNvPr id="558" name="Line 34"/>
              <p:cNvSpPr/>
              <p:nvPr/>
            </p:nvSpPr>
            <p:spPr>
              <a:xfrm>
                <a:off x="395280" y="4907520"/>
                <a:ext cx="7855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Text Box 35"/>
              <p:cNvSpPr/>
              <p:nvPr/>
            </p:nvSpPr>
            <p:spPr>
              <a:xfrm>
                <a:off x="7948440" y="4842000"/>
                <a:ext cx="402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Arial"/>
                  </a:rPr>
                  <a:t>х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0" name="Group 36"/>
            <p:cNvGrpSpPr/>
            <p:nvPr/>
          </p:nvGrpSpPr>
          <p:grpSpPr>
            <a:xfrm>
              <a:off x="1704600" y="1557360"/>
              <a:ext cx="502920" cy="3744000"/>
              <a:chOff x="1704600" y="1557360"/>
              <a:chExt cx="502920" cy="3744000"/>
            </a:xfrm>
          </p:grpSpPr>
          <p:grpSp>
            <p:nvGrpSpPr>
              <p:cNvPr id="561" name="Group 37"/>
              <p:cNvGrpSpPr/>
              <p:nvPr/>
            </p:nvGrpSpPr>
            <p:grpSpPr>
              <a:xfrm>
                <a:off x="1704600" y="1557360"/>
                <a:ext cx="402120" cy="3744000"/>
                <a:chOff x="1704600" y="1557360"/>
                <a:chExt cx="402120" cy="3744000"/>
              </a:xfrm>
            </p:grpSpPr>
            <p:sp>
              <p:nvSpPr>
                <p:cNvPr id="562" name="Line 38"/>
                <p:cNvSpPr/>
                <p:nvPr/>
              </p:nvSpPr>
              <p:spPr>
                <a:xfrm flipV="1">
                  <a:off x="2106720" y="1688040"/>
                  <a:ext cx="0" cy="36133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3" name="Text Box 39"/>
                <p:cNvSpPr/>
                <p:nvPr/>
              </p:nvSpPr>
              <p:spPr>
                <a:xfrm>
                  <a:off x="1704600" y="1557360"/>
                  <a:ext cx="4021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y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4" name="Text Box 40"/>
              <p:cNvSpPr/>
              <p:nvPr/>
            </p:nvSpPr>
            <p:spPr>
              <a:xfrm>
                <a:off x="1805400" y="4842000"/>
                <a:ext cx="402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565" name="Object 46"/>
              <p:cNvSpPr txBox="1"/>
              <p:nvPr/>
            </p:nvSpPr>
            <p:spPr>
              <a:xfrm>
                <a:off x="468360" y="3076560"/>
                <a:ext cx="154296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 '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6" name="Rectangle 47"/>
          <p:cNvSpPr/>
          <p:nvPr/>
        </p:nvSpPr>
        <p:spPr>
          <a:xfrm>
            <a:off x="243000" y="5373720"/>
            <a:ext cx="7705440" cy="1295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X</a:t>
            </a: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3200" spc="-1" strike="noStrike" baseline="-25000">
                <a:solidFill>
                  <a:srgbClr val="0000ff"/>
                </a:solidFill>
                <a:latin typeface="Arial"/>
              </a:rPr>
              <a:t>1 </a:t>
            </a: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- точка максимум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X</a:t>
            </a: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3200" spc="-1" strike="noStrike" baseline="-25000">
                <a:solidFill>
                  <a:srgbClr val="0000ff"/>
                </a:solidFill>
                <a:latin typeface="Arial"/>
              </a:rPr>
              <a:t>2 </a:t>
            </a: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- точка минимум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7" name="Object 48"/>
              <p:cNvSpPr txBox="1"/>
              <p:nvPr/>
            </p:nvSpPr>
            <p:spPr>
              <a:xfrm>
                <a:off x="6948360" y="1924200"/>
                <a:ext cx="173700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0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TextBox 2"/>
          <p:cNvSpPr/>
          <p:nvPr/>
        </p:nvSpPr>
        <p:spPr>
          <a:xfrm>
            <a:off x="428760" y="928800"/>
            <a:ext cx="84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кажите точку минимума функции  </a:t>
            </a:r>
            <a:r>
              <a:rPr b="1" i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y = f (x)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, заданной на отрезке </a:t>
            </a:r>
            <a:r>
              <a:rPr b="1" i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[-6;4]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, если на рисунке изображён график её производн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9" name="Group 7"/>
          <p:cNvGrpSpPr/>
          <p:nvPr/>
        </p:nvGrpSpPr>
        <p:grpSpPr>
          <a:xfrm>
            <a:off x="409680" y="2259000"/>
            <a:ext cx="8179920" cy="3714480"/>
            <a:chOff x="409680" y="2259000"/>
            <a:chExt cx="8179920" cy="3714480"/>
          </a:xfrm>
        </p:grpSpPr>
        <p:grpSp>
          <p:nvGrpSpPr>
            <p:cNvPr id="570" name="Group 8"/>
            <p:cNvGrpSpPr/>
            <p:nvPr/>
          </p:nvGrpSpPr>
          <p:grpSpPr>
            <a:xfrm>
              <a:off x="409680" y="2306160"/>
              <a:ext cx="8092440" cy="3667320"/>
              <a:chOff x="409680" y="2306160"/>
              <a:chExt cx="8092440" cy="3667320"/>
            </a:xfrm>
          </p:grpSpPr>
          <p:sp>
            <p:nvSpPr>
              <p:cNvPr id="571" name="Freeform 9"/>
              <p:cNvSpPr/>
              <p:nvPr/>
            </p:nvSpPr>
            <p:spPr>
              <a:xfrm>
                <a:off x="453240" y="2315520"/>
                <a:ext cx="2160" cy="363816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3638160"/>
                  <a:gd name="textAreaBottom" fmla="*/ 3638520 h 3638160"/>
                </a:gdLst>
                <a:ahLst/>
                <a:rect l="textAreaLeft" t="textAreaTop" r="textAreaRight" b="textAreaBottom"/>
                <a:pathLst>
                  <a:path w="1" h="3002">
                    <a:moveTo>
                      <a:pt x="0" y="0"/>
                    </a:moveTo>
                    <a:lnTo>
                      <a:pt x="0" y="300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Freeform 10"/>
              <p:cNvSpPr/>
              <p:nvPr/>
            </p:nvSpPr>
            <p:spPr>
              <a:xfrm>
                <a:off x="409680" y="5629320"/>
                <a:ext cx="8030880" cy="9360"/>
              </a:xfrm>
              <a:custGeom>
                <a:avLst/>
                <a:gdLst>
                  <a:gd name="textAreaLeft" fmla="*/ 0 w 8030880"/>
                  <a:gd name="textAreaRight" fmla="*/ 8031240 w 803088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3124" h="8">
                    <a:moveTo>
                      <a:pt x="0" y="0"/>
                    </a:moveTo>
                    <a:lnTo>
                      <a:pt x="3124" y="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Freeform 11"/>
              <p:cNvSpPr/>
              <p:nvPr/>
            </p:nvSpPr>
            <p:spPr>
              <a:xfrm>
                <a:off x="1098720" y="2315520"/>
                <a:ext cx="20160" cy="3628440"/>
              </a:xfrm>
              <a:custGeom>
                <a:avLst/>
                <a:gdLst>
                  <a:gd name="textAreaLeft" fmla="*/ 0 w 20160"/>
                  <a:gd name="textAreaRight" fmla="*/ 20520 w 20160"/>
                  <a:gd name="textAreaTop" fmla="*/ 0 h 3628440"/>
                  <a:gd name="textAreaBottom" fmla="*/ 3628800 h 3628440"/>
                </a:gdLst>
                <a:ahLst/>
                <a:rect l="textAreaLeft" t="textAreaTop" r="textAreaRight" b="textAreaBottom"/>
                <a:pathLst>
                  <a:path w="8" h="2994">
                    <a:moveTo>
                      <a:pt x="0" y="0"/>
                    </a:moveTo>
                    <a:lnTo>
                      <a:pt x="8" y="299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Line 12"/>
              <p:cNvSpPr/>
              <p:nvPr/>
            </p:nvSpPr>
            <p:spPr>
              <a:xfrm>
                <a:off x="453240" y="5337000"/>
                <a:ext cx="8046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Freeform 13"/>
              <p:cNvSpPr/>
              <p:nvPr/>
            </p:nvSpPr>
            <p:spPr>
              <a:xfrm>
                <a:off x="453240" y="5941800"/>
                <a:ext cx="8030880" cy="9720"/>
              </a:xfrm>
              <a:custGeom>
                <a:avLst/>
                <a:gdLst>
                  <a:gd name="textAreaLeft" fmla="*/ 0 w 8030880"/>
                  <a:gd name="textAreaRight" fmla="*/ 8031240 w 803088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3124" h="8">
                    <a:moveTo>
                      <a:pt x="0" y="0"/>
                    </a:moveTo>
                    <a:lnTo>
                      <a:pt x="3124" y="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Freeform 14"/>
              <p:cNvSpPr/>
              <p:nvPr/>
            </p:nvSpPr>
            <p:spPr>
              <a:xfrm>
                <a:off x="432720" y="5029200"/>
                <a:ext cx="8048880" cy="9360"/>
              </a:xfrm>
              <a:custGeom>
                <a:avLst/>
                <a:gdLst>
                  <a:gd name="textAreaLeft" fmla="*/ 0 w 8048880"/>
                  <a:gd name="textAreaRight" fmla="*/ 8049240 w 804888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3131" h="8">
                    <a:moveTo>
                      <a:pt x="0" y="8"/>
                    </a:moveTo>
                    <a:lnTo>
                      <a:pt x="3131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Freeform 15"/>
              <p:cNvSpPr/>
              <p:nvPr/>
            </p:nvSpPr>
            <p:spPr>
              <a:xfrm>
                <a:off x="453240" y="4732200"/>
                <a:ext cx="8048880" cy="9720"/>
              </a:xfrm>
              <a:custGeom>
                <a:avLst/>
                <a:gdLst>
                  <a:gd name="textAreaLeft" fmla="*/ 0 w 8048880"/>
                  <a:gd name="textAreaRight" fmla="*/ 8049240 w 804888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3131" h="8">
                    <a:moveTo>
                      <a:pt x="0" y="8"/>
                    </a:moveTo>
                    <a:lnTo>
                      <a:pt x="3131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Freeform 16"/>
              <p:cNvSpPr/>
              <p:nvPr/>
            </p:nvSpPr>
            <p:spPr>
              <a:xfrm>
                <a:off x="409680" y="4429440"/>
                <a:ext cx="8051400" cy="9360"/>
              </a:xfrm>
              <a:custGeom>
                <a:avLst/>
                <a:gdLst>
                  <a:gd name="textAreaLeft" fmla="*/ 0 w 8051400"/>
                  <a:gd name="textAreaRight" fmla="*/ 8051760 w 805140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3132" h="8">
                    <a:moveTo>
                      <a:pt x="0" y="0"/>
                    </a:moveTo>
                    <a:lnTo>
                      <a:pt x="3132" y="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Freeform 17"/>
              <p:cNvSpPr/>
              <p:nvPr/>
            </p:nvSpPr>
            <p:spPr>
              <a:xfrm>
                <a:off x="473760" y="3810240"/>
                <a:ext cx="7987320" cy="9360"/>
              </a:xfrm>
              <a:custGeom>
                <a:avLst/>
                <a:gdLst>
                  <a:gd name="textAreaLeft" fmla="*/ 0 w 7987320"/>
                  <a:gd name="textAreaRight" fmla="*/ 7987680 w 79873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3107" h="8">
                    <a:moveTo>
                      <a:pt x="0" y="8"/>
                    </a:moveTo>
                    <a:lnTo>
                      <a:pt x="3107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Freeform 18"/>
              <p:cNvSpPr/>
              <p:nvPr/>
            </p:nvSpPr>
            <p:spPr>
              <a:xfrm>
                <a:off x="453240" y="3522960"/>
                <a:ext cx="7987320" cy="9360"/>
              </a:xfrm>
              <a:custGeom>
                <a:avLst/>
                <a:gdLst>
                  <a:gd name="textAreaLeft" fmla="*/ 0 w 7987320"/>
                  <a:gd name="textAreaRight" fmla="*/ 7987680 w 79873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3107" h="8">
                    <a:moveTo>
                      <a:pt x="0" y="8"/>
                    </a:moveTo>
                    <a:lnTo>
                      <a:pt x="3107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Freeform 19"/>
              <p:cNvSpPr/>
              <p:nvPr/>
            </p:nvSpPr>
            <p:spPr>
              <a:xfrm>
                <a:off x="453240" y="3210120"/>
                <a:ext cx="8028720" cy="9360"/>
              </a:xfrm>
              <a:custGeom>
                <a:avLst/>
                <a:gdLst>
                  <a:gd name="textAreaLeft" fmla="*/ 0 w 8028720"/>
                  <a:gd name="textAreaRight" fmla="*/ 8029080 w 80287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3123" h="8">
                    <a:moveTo>
                      <a:pt x="0" y="0"/>
                    </a:moveTo>
                    <a:lnTo>
                      <a:pt x="3123" y="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Freeform 20"/>
              <p:cNvSpPr/>
              <p:nvPr/>
            </p:nvSpPr>
            <p:spPr>
              <a:xfrm>
                <a:off x="453240" y="2918160"/>
                <a:ext cx="7987320" cy="9360"/>
              </a:xfrm>
              <a:custGeom>
                <a:avLst/>
                <a:gdLst>
                  <a:gd name="textAreaLeft" fmla="*/ 0 w 7987320"/>
                  <a:gd name="textAreaRight" fmla="*/ 7987680 w 79873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3107" h="8">
                    <a:moveTo>
                      <a:pt x="0" y="8"/>
                    </a:moveTo>
                    <a:lnTo>
                      <a:pt x="3107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Freeform 21"/>
              <p:cNvSpPr/>
              <p:nvPr/>
            </p:nvSpPr>
            <p:spPr>
              <a:xfrm>
                <a:off x="473760" y="2600640"/>
                <a:ext cx="8008200" cy="9360"/>
              </a:xfrm>
              <a:custGeom>
                <a:avLst/>
                <a:gdLst>
                  <a:gd name="textAreaLeft" fmla="*/ 0 w 8008200"/>
                  <a:gd name="textAreaRight" fmla="*/ 8008560 w 800820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3115" h="8">
                    <a:moveTo>
                      <a:pt x="0" y="0"/>
                    </a:moveTo>
                    <a:lnTo>
                      <a:pt x="3115" y="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Freeform 22"/>
              <p:cNvSpPr/>
              <p:nvPr/>
            </p:nvSpPr>
            <p:spPr>
              <a:xfrm>
                <a:off x="453240" y="2314440"/>
                <a:ext cx="8007480" cy="9360"/>
              </a:xfrm>
              <a:custGeom>
                <a:avLst/>
                <a:gdLst>
                  <a:gd name="textAreaLeft" fmla="*/ 0 w 8007480"/>
                  <a:gd name="textAreaRight" fmla="*/ 8007840 w 800748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3115" h="8">
                    <a:moveTo>
                      <a:pt x="0" y="0"/>
                    </a:moveTo>
                    <a:lnTo>
                      <a:pt x="3115" y="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Freeform 23"/>
              <p:cNvSpPr/>
              <p:nvPr/>
            </p:nvSpPr>
            <p:spPr>
              <a:xfrm>
                <a:off x="1766520" y="2306160"/>
                <a:ext cx="20880" cy="3667320"/>
              </a:xfrm>
              <a:custGeom>
                <a:avLst/>
                <a:gdLst>
                  <a:gd name="textAreaLeft" fmla="*/ 0 w 20880"/>
                  <a:gd name="textAreaRight" fmla="*/ 21240 w 20880"/>
                  <a:gd name="textAreaTop" fmla="*/ 0 h 3667320"/>
                  <a:gd name="textAreaBottom" fmla="*/ 3667680 h 3667320"/>
                </a:gdLst>
                <a:ahLst/>
                <a:rect l="textAreaLeft" t="textAreaTop" r="textAreaRight" b="textAreaBottom"/>
                <a:pathLst>
                  <a:path w="8" h="3026">
                    <a:moveTo>
                      <a:pt x="8" y="0"/>
                    </a:moveTo>
                    <a:lnTo>
                      <a:pt x="0" y="302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Freeform 24"/>
              <p:cNvSpPr/>
              <p:nvPr/>
            </p:nvSpPr>
            <p:spPr>
              <a:xfrm>
                <a:off x="2437560" y="2314440"/>
                <a:ext cx="2880" cy="363816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3638160"/>
                  <a:gd name="textAreaBottom" fmla="*/ 3638520 h 3638160"/>
                </a:gdLst>
                <a:ahLst/>
                <a:rect l="textAreaLeft" t="textAreaTop" r="textAreaRight" b="textAreaBottom"/>
                <a:pathLst>
                  <a:path w="1" h="3002">
                    <a:moveTo>
                      <a:pt x="0" y="0"/>
                    </a:moveTo>
                    <a:lnTo>
                      <a:pt x="0" y="300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Freeform 25"/>
              <p:cNvSpPr/>
              <p:nvPr/>
            </p:nvSpPr>
            <p:spPr>
              <a:xfrm>
                <a:off x="3137400" y="2314440"/>
                <a:ext cx="2160" cy="363816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3638160"/>
                  <a:gd name="textAreaBottom" fmla="*/ 3638520 h 3638160"/>
                </a:gdLst>
                <a:ahLst/>
                <a:rect l="textAreaLeft" t="textAreaTop" r="textAreaRight" b="textAreaBottom"/>
                <a:pathLst>
                  <a:path w="1" h="3002">
                    <a:moveTo>
                      <a:pt x="0" y="0"/>
                    </a:moveTo>
                    <a:lnTo>
                      <a:pt x="0" y="300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Freeform 26"/>
              <p:cNvSpPr/>
              <p:nvPr/>
            </p:nvSpPr>
            <p:spPr>
              <a:xfrm>
                <a:off x="3746520" y="2325600"/>
                <a:ext cx="23040" cy="3647880"/>
              </a:xfrm>
              <a:custGeom>
                <a:avLst/>
                <a:gdLst>
                  <a:gd name="textAreaLeft" fmla="*/ 0 w 23040"/>
                  <a:gd name="textAreaRight" fmla="*/ 23400 w 23040"/>
                  <a:gd name="textAreaTop" fmla="*/ 0 h 3647880"/>
                  <a:gd name="textAreaBottom" fmla="*/ 3648240 h 3647880"/>
                </a:gdLst>
                <a:ahLst/>
                <a:rect l="textAreaLeft" t="textAreaTop" r="textAreaRight" b="textAreaBottom"/>
                <a:pathLst>
                  <a:path w="9" h="3010">
                    <a:moveTo>
                      <a:pt x="9" y="0"/>
                    </a:moveTo>
                    <a:lnTo>
                      <a:pt x="0" y="301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Freeform 27"/>
              <p:cNvSpPr/>
              <p:nvPr/>
            </p:nvSpPr>
            <p:spPr>
              <a:xfrm>
                <a:off x="5119560" y="2314440"/>
                <a:ext cx="2160" cy="363816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3638160"/>
                  <a:gd name="textAreaBottom" fmla="*/ 3638520 h 3638160"/>
                </a:gdLst>
                <a:ahLst/>
                <a:rect l="textAreaLeft" t="textAreaTop" r="textAreaRight" b="textAreaBottom"/>
                <a:pathLst>
                  <a:path w="1" h="3002">
                    <a:moveTo>
                      <a:pt x="0" y="0"/>
                    </a:moveTo>
                    <a:lnTo>
                      <a:pt x="0" y="300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Freeform 28"/>
              <p:cNvSpPr/>
              <p:nvPr/>
            </p:nvSpPr>
            <p:spPr>
              <a:xfrm>
                <a:off x="5769360" y="2306160"/>
                <a:ext cx="2880" cy="363816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3638160"/>
                  <a:gd name="textAreaBottom" fmla="*/ 3638520 h 3638160"/>
                </a:gdLst>
                <a:ahLst/>
                <a:rect l="textAreaLeft" t="textAreaTop" r="textAreaRight" b="textAreaBottom"/>
                <a:pathLst>
                  <a:path w="1" h="3002">
                    <a:moveTo>
                      <a:pt x="0" y="0"/>
                    </a:moveTo>
                    <a:lnTo>
                      <a:pt x="0" y="300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Freeform 29"/>
              <p:cNvSpPr/>
              <p:nvPr/>
            </p:nvSpPr>
            <p:spPr>
              <a:xfrm>
                <a:off x="6458400" y="2325600"/>
                <a:ext cx="2880" cy="363816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3638160"/>
                  <a:gd name="textAreaBottom" fmla="*/ 3638520 h 3638160"/>
                </a:gdLst>
                <a:ahLst/>
                <a:rect l="textAreaLeft" t="textAreaTop" r="textAreaRight" b="textAreaBottom"/>
                <a:pathLst>
                  <a:path w="1" h="3002">
                    <a:moveTo>
                      <a:pt x="0" y="0"/>
                    </a:moveTo>
                    <a:lnTo>
                      <a:pt x="0" y="300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Freeform 30"/>
              <p:cNvSpPr/>
              <p:nvPr/>
            </p:nvSpPr>
            <p:spPr>
              <a:xfrm>
                <a:off x="7101360" y="2314440"/>
                <a:ext cx="2160" cy="363816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3638160"/>
                  <a:gd name="textAreaBottom" fmla="*/ 3638520 h 3638160"/>
                </a:gdLst>
                <a:ahLst/>
                <a:rect l="textAreaLeft" t="textAreaTop" r="textAreaRight" b="textAreaBottom"/>
                <a:pathLst>
                  <a:path w="1" h="3002">
                    <a:moveTo>
                      <a:pt x="0" y="0"/>
                    </a:moveTo>
                    <a:lnTo>
                      <a:pt x="0" y="300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Freeform 31"/>
              <p:cNvSpPr/>
              <p:nvPr/>
            </p:nvSpPr>
            <p:spPr>
              <a:xfrm>
                <a:off x="7800480" y="2314440"/>
                <a:ext cx="2160" cy="363816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3638160"/>
                  <a:gd name="textAreaBottom" fmla="*/ 3638520 h 3638160"/>
                </a:gdLst>
                <a:ahLst/>
                <a:rect l="textAreaLeft" t="textAreaTop" r="textAreaRight" b="textAreaBottom"/>
                <a:pathLst>
                  <a:path w="1" h="3002">
                    <a:moveTo>
                      <a:pt x="0" y="0"/>
                    </a:moveTo>
                    <a:lnTo>
                      <a:pt x="0" y="300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4" name="Text Box 32"/>
            <p:cNvSpPr/>
            <p:nvPr/>
          </p:nvSpPr>
          <p:spPr>
            <a:xfrm>
              <a:off x="8256600" y="40734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Text Box 33"/>
            <p:cNvSpPr/>
            <p:nvPr/>
          </p:nvSpPr>
          <p:spPr>
            <a:xfrm>
              <a:off x="3942360" y="2259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596" name="Прямая со стрелкой 31"/>
          <p:cNvCxnSpPr/>
          <p:nvPr/>
        </p:nvCxnSpPr>
        <p:spPr>
          <a:xfrm>
            <a:off x="285480" y="4071960"/>
            <a:ext cx="8429760" cy="2160"/>
          </a:xfrm>
          <a:prstGeom prst="straightConnector1">
            <a:avLst/>
          </a:prstGeom>
          <a:ln w="57240">
            <a:solidFill>
              <a:srgbClr val="0d0d0d"/>
            </a:solidFill>
            <a:miter/>
            <a:tailEnd len="med" type="arrow" w="med"/>
          </a:ln>
        </p:spPr>
      </p:cxnSp>
      <p:cxnSp>
        <p:nvCxnSpPr>
          <p:cNvPr id="597" name="Прямая со стрелкой 33"/>
          <p:cNvCxnSpPr/>
          <p:nvPr/>
        </p:nvCxnSpPr>
        <p:spPr>
          <a:xfrm flipV="1">
            <a:off x="4354920" y="2214000"/>
            <a:ext cx="2520" cy="3717000"/>
          </a:xfrm>
          <a:prstGeom prst="straightConnector1">
            <a:avLst/>
          </a:prstGeom>
          <a:ln w="57240">
            <a:solidFill>
              <a:srgbClr val="0d0d0d"/>
            </a:solidFill>
            <a:miter/>
            <a:tailEnd len="med" type="arrow" w="med"/>
          </a:ln>
        </p:spPr>
      </p:cxnSp>
      <p:sp>
        <p:nvSpPr>
          <p:cNvPr id="598" name="TextBox 34"/>
          <p:cNvSpPr/>
          <p:nvPr/>
        </p:nvSpPr>
        <p:spPr>
          <a:xfrm>
            <a:off x="217080" y="407196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Box 35"/>
          <p:cNvSpPr/>
          <p:nvPr/>
        </p:nvSpPr>
        <p:spPr>
          <a:xfrm>
            <a:off x="6931800" y="4071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Полилиния 37"/>
          <p:cNvSpPr/>
          <p:nvPr/>
        </p:nvSpPr>
        <p:spPr>
          <a:xfrm>
            <a:off x="379440" y="2887560"/>
            <a:ext cx="6621480" cy="2187720"/>
          </a:xfrm>
          <a:custGeom>
            <a:avLst/>
            <a:gdLst/>
            <a:ahLst/>
            <a:rect l="l" t="t" r="r" b="b"/>
            <a:pathLst>
              <a:path w="7337503" h="2187497">
                <a:moveTo>
                  <a:pt x="0" y="0"/>
                </a:moveTo>
                <a:cubicBezTo>
                  <a:pt x="687659" y="1047285"/>
                  <a:pt x="1375318" y="2094571"/>
                  <a:pt x="2040674" y="2141034"/>
                </a:cubicBezTo>
                <a:cubicBezTo>
                  <a:pt x="2706030" y="2187497"/>
                  <a:pt x="3109332" y="486936"/>
                  <a:pt x="3992137" y="278780"/>
                </a:cubicBezTo>
                <a:cubicBezTo>
                  <a:pt x="4874942" y="70624"/>
                  <a:pt x="6106222" y="481360"/>
                  <a:pt x="7337503" y="892097"/>
                </a:cubicBezTo>
              </a:path>
            </a:pathLst>
          </a:custGeom>
          <a:noFill/>
          <a:ln w="5724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1" name="Object 2"/>
              <p:cNvSpPr txBox="1"/>
              <p:nvPr/>
            </p:nvSpPr>
            <p:spPr>
              <a:xfrm>
                <a:off x="6072120" y="2286000"/>
                <a:ext cx="2103480" cy="7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02" name="Group 129"/>
          <p:cNvGrpSpPr/>
          <p:nvPr/>
        </p:nvGrpSpPr>
        <p:grpSpPr>
          <a:xfrm>
            <a:off x="770040" y="5810400"/>
            <a:ext cx="3457440" cy="871560"/>
            <a:chOff x="770040" y="5810400"/>
            <a:chExt cx="3457440" cy="871560"/>
          </a:xfrm>
        </p:grpSpPr>
        <p:sp>
          <p:nvSpPr>
            <p:cNvPr id="603" name="Text Box 130"/>
            <p:cNvSpPr/>
            <p:nvPr/>
          </p:nvSpPr>
          <p:spPr>
            <a:xfrm>
              <a:off x="770040" y="5810400"/>
              <a:ext cx="302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/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x)       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-  </a:t>
              </a: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Line 131"/>
            <p:cNvSpPr/>
            <p:nvPr/>
          </p:nvSpPr>
          <p:spPr>
            <a:xfrm>
              <a:off x="843120" y="6169320"/>
              <a:ext cx="3384360" cy="2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32"/>
            <p:cNvSpPr/>
            <p:nvPr/>
          </p:nvSpPr>
          <p:spPr>
            <a:xfrm>
              <a:off x="2714760" y="6097680"/>
              <a:ext cx="72720" cy="112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Text Box 133"/>
            <p:cNvSpPr/>
            <p:nvPr/>
          </p:nvSpPr>
          <p:spPr>
            <a:xfrm>
              <a:off x="843120" y="6313680"/>
              <a:ext cx="317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(x</a:t>
              </a:r>
              <a:r>
                <a:rPr b="1" lang="en-US" sz="1800" spc="-1" strike="noStrike">
                  <a:solidFill>
                    <a:srgbClr val="0d0d0d"/>
                  </a:solidFill>
                  <a:latin typeface="Arial"/>
                </a:rPr>
                <a:t>)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           </a:t>
              </a: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        </a:t>
              </a:r>
              <a:r>
                <a:rPr b="0" lang="ru-RU" sz="1800" spc="-1" strike="noStrike">
                  <a:solidFill>
                    <a:srgbClr val="ff0000"/>
                  </a:solidFill>
                  <a:latin typeface="Arial"/>
                </a:rPr>
                <a:t>-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Line 134"/>
            <p:cNvSpPr/>
            <p:nvPr/>
          </p:nvSpPr>
          <p:spPr>
            <a:xfrm>
              <a:off x="1770120" y="6239160"/>
              <a:ext cx="642960" cy="285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Line 135"/>
            <p:cNvSpPr/>
            <p:nvPr/>
          </p:nvSpPr>
          <p:spPr>
            <a:xfrm flipV="1">
              <a:off x="3179880" y="6329160"/>
              <a:ext cx="714240" cy="214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9" name="TextBox 46"/>
          <p:cNvSpPr/>
          <p:nvPr/>
        </p:nvSpPr>
        <p:spPr>
          <a:xfrm>
            <a:off x="3074760" y="407196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Овал 47"/>
          <p:cNvSpPr/>
          <p:nvPr/>
        </p:nvSpPr>
        <p:spPr>
          <a:xfrm>
            <a:off x="3000240" y="3929040"/>
            <a:ext cx="214560" cy="21420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Плюс 48"/>
          <p:cNvSpPr/>
          <p:nvPr/>
        </p:nvSpPr>
        <p:spPr>
          <a:xfrm>
            <a:off x="3786120" y="3071880"/>
            <a:ext cx="1143000" cy="928800"/>
          </a:xfrm>
          <a:custGeom>
            <a:avLst/>
            <a:gdLst>
              <a:gd name="textAreaLeft" fmla="*/ 151200 w 1143000"/>
              <a:gd name="textAreaRight" fmla="*/ 991800 w 1143000"/>
              <a:gd name="textAreaTop" fmla="*/ 354960 h 928800"/>
              <a:gd name="textAreaBottom" fmla="*/ 573840 h 928800"/>
            </a:gdLst>
            <a:ahLst/>
            <a:rect l="textAreaLeft" t="textAreaTop" r="textAreaRight" b="textAreaBottom"/>
            <a:pathLst>
              <a:path w="1143000" h="928687">
                <a:moveTo>
                  <a:pt x="151505" y="355130"/>
                </a:moveTo>
                <a:lnTo>
                  <a:pt x="462286" y="355130"/>
                </a:lnTo>
                <a:lnTo>
                  <a:pt x="462286" y="123097"/>
                </a:lnTo>
                <a:lnTo>
                  <a:pt x="680714" y="123097"/>
                </a:lnTo>
                <a:lnTo>
                  <a:pt x="680714" y="355130"/>
                </a:lnTo>
                <a:lnTo>
                  <a:pt x="991495" y="355130"/>
                </a:lnTo>
                <a:lnTo>
                  <a:pt x="991495" y="573557"/>
                </a:lnTo>
                <a:lnTo>
                  <a:pt x="680714" y="573557"/>
                </a:lnTo>
                <a:lnTo>
                  <a:pt x="680714" y="805590"/>
                </a:lnTo>
                <a:lnTo>
                  <a:pt x="462286" y="805590"/>
                </a:lnTo>
                <a:lnTo>
                  <a:pt x="462286" y="573557"/>
                </a:lnTo>
                <a:lnTo>
                  <a:pt x="151505" y="573557"/>
                </a:lnTo>
                <a:close/>
              </a:path>
            </a:pathLst>
          </a:custGeom>
          <a:solidFill>
            <a:srgbClr val="c00000"/>
          </a:solidFill>
          <a:ln w="25560">
            <a:solidFill>
              <a:srgbClr val="bb61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Минус 49"/>
          <p:cNvSpPr/>
          <p:nvPr/>
        </p:nvSpPr>
        <p:spPr>
          <a:xfrm>
            <a:off x="1643040" y="3929040"/>
            <a:ext cx="1000080" cy="928800"/>
          </a:xfrm>
          <a:custGeom>
            <a:avLst/>
            <a:gdLst>
              <a:gd name="textAreaLeft" fmla="*/ 132480 w 1000080"/>
              <a:gd name="textAreaRight" fmla="*/ 867600 w 1000080"/>
              <a:gd name="textAreaTop" fmla="*/ 354960 h 928800"/>
              <a:gd name="textAreaBottom" fmla="*/ 573840 h 928800"/>
            </a:gdLst>
            <a:ahLst/>
            <a:rect l="textAreaLeft" t="textAreaTop" r="textAreaRight" b="textAreaBottom"/>
            <a:pathLst>
              <a:path w="1000125" h="928687">
                <a:moveTo>
                  <a:pt x="132567" y="355130"/>
                </a:moveTo>
                <a:lnTo>
                  <a:pt x="867558" y="355130"/>
                </a:lnTo>
                <a:lnTo>
                  <a:pt x="867558" y="573557"/>
                </a:lnTo>
                <a:lnTo>
                  <a:pt x="132567" y="573557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Box 57"/>
          <p:cNvSpPr/>
          <p:nvPr/>
        </p:nvSpPr>
        <p:spPr>
          <a:xfrm>
            <a:off x="4869720" y="6000840"/>
            <a:ext cx="208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твет: -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Box 58"/>
          <p:cNvSpPr/>
          <p:nvPr/>
        </p:nvSpPr>
        <p:spPr>
          <a:xfrm>
            <a:off x="4360320" y="40719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TextBox 3"/>
          <p:cNvSpPr/>
          <p:nvPr/>
        </p:nvSpPr>
        <p:spPr>
          <a:xfrm>
            <a:off x="684360" y="285840"/>
            <a:ext cx="795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рисунке изображен график производной функции 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f(x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определенной на интервале (−11; 11). Найдите количество точек экстремума функции 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f(x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на отрезке [−10; 10]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6" name="Picture 1" descr=""/>
          <p:cNvPicPr/>
          <p:nvPr/>
        </p:nvPicPr>
        <p:blipFill>
          <a:blip r:embed="rId1"/>
          <a:stretch/>
        </p:blipFill>
        <p:spPr>
          <a:xfrm>
            <a:off x="1116000" y="1628640"/>
            <a:ext cx="6213600" cy="2810160"/>
          </a:xfrm>
          <a:prstGeom prst="rect">
            <a:avLst/>
          </a:prstGeom>
          <a:ln w="0">
            <a:noFill/>
          </a:ln>
        </p:spPr>
      </p:pic>
      <p:sp>
        <p:nvSpPr>
          <p:cNvPr id="617" name="TextBox 5"/>
          <p:cNvSpPr/>
          <p:nvPr/>
        </p:nvSpPr>
        <p:spPr>
          <a:xfrm>
            <a:off x="684360" y="4643280"/>
            <a:ext cx="7888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шeние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чки экстремума соответствуют точкам смены знака производной — изображенным на графике нулем производной. Производная обращается в нуль в точках −6, −2, 2, 6, 9. На отрезке [−10; 10] функция имеет 5 точек экстрему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вет: 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8" name="Group 37"/>
          <p:cNvGrpSpPr/>
          <p:nvPr/>
        </p:nvGrpSpPr>
        <p:grpSpPr>
          <a:xfrm>
            <a:off x="395280" y="1557360"/>
            <a:ext cx="7956000" cy="3311280"/>
            <a:chOff x="395280" y="1557360"/>
            <a:chExt cx="7956000" cy="3311280"/>
          </a:xfrm>
        </p:grpSpPr>
        <mc:AlternateContent>
          <mc:Choice xmlns:a14="http://schemas.microsoft.com/office/drawing/2010/main" Requires="a14">
            <p:sp>
              <p:nvSpPr>
                <p:cNvPr id="619" name="Object 19"/>
                <p:cNvSpPr txBox="1"/>
                <p:nvPr/>
              </p:nvSpPr>
              <p:spPr>
                <a:xfrm>
                  <a:off x="2700360" y="4494960"/>
                  <a:ext cx="325440" cy="311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20" name="Object 21"/>
                <p:cNvSpPr txBox="1"/>
                <p:nvPr/>
              </p:nvSpPr>
              <p:spPr>
                <a:xfrm>
                  <a:off x="4356000" y="4306320"/>
                  <a:ext cx="468360" cy="562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х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21" name="Object 23"/>
                <p:cNvSpPr txBox="1"/>
                <p:nvPr/>
              </p:nvSpPr>
              <p:spPr>
                <a:xfrm>
                  <a:off x="6372360" y="4431960"/>
                  <a:ext cx="307800" cy="374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622" name="Group 5"/>
            <p:cNvGrpSpPr/>
            <p:nvPr/>
          </p:nvGrpSpPr>
          <p:grpSpPr>
            <a:xfrm>
              <a:off x="395280" y="1557360"/>
              <a:ext cx="7956000" cy="3311280"/>
              <a:chOff x="395280" y="1557360"/>
              <a:chExt cx="7956000" cy="3311280"/>
            </a:xfrm>
          </p:grpSpPr>
          <p:grpSp>
            <p:nvGrpSpPr>
              <p:cNvPr id="623" name="Group 6"/>
              <p:cNvGrpSpPr/>
              <p:nvPr/>
            </p:nvGrpSpPr>
            <p:grpSpPr>
              <a:xfrm>
                <a:off x="395280" y="4408920"/>
                <a:ext cx="7956000" cy="459720"/>
                <a:chOff x="395280" y="4408920"/>
                <a:chExt cx="7956000" cy="459720"/>
              </a:xfrm>
            </p:grpSpPr>
            <p:sp>
              <p:nvSpPr>
                <p:cNvPr id="624" name="Line 7"/>
                <p:cNvSpPr/>
                <p:nvPr/>
              </p:nvSpPr>
              <p:spPr>
                <a:xfrm>
                  <a:off x="395280" y="4465800"/>
                  <a:ext cx="78552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5" name="Text Box 8"/>
                <p:cNvSpPr/>
                <p:nvPr/>
              </p:nvSpPr>
              <p:spPr>
                <a:xfrm>
                  <a:off x="7948440" y="4408920"/>
                  <a:ext cx="4028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400" spc="-1" strike="noStrike">
                      <a:solidFill>
                        <a:srgbClr val="000000"/>
                      </a:solidFill>
                      <a:latin typeface="Arial"/>
                    </a:rPr>
                    <a:t>х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6" name="Group 9"/>
              <p:cNvGrpSpPr/>
              <p:nvPr/>
            </p:nvGrpSpPr>
            <p:grpSpPr>
              <a:xfrm>
                <a:off x="1704600" y="1557360"/>
                <a:ext cx="502920" cy="3250800"/>
                <a:chOff x="1704600" y="1557360"/>
                <a:chExt cx="502920" cy="3250800"/>
              </a:xfrm>
            </p:grpSpPr>
            <p:grpSp>
              <p:nvGrpSpPr>
                <p:cNvPr id="627" name="Group 10"/>
                <p:cNvGrpSpPr/>
                <p:nvPr/>
              </p:nvGrpSpPr>
              <p:grpSpPr>
                <a:xfrm>
                  <a:off x="1704600" y="1557360"/>
                  <a:ext cx="402120" cy="3250800"/>
                  <a:chOff x="1704600" y="1557360"/>
                  <a:chExt cx="402120" cy="3250800"/>
                </a:xfrm>
              </p:grpSpPr>
              <p:sp>
                <p:nvSpPr>
                  <p:cNvPr id="628" name="Line 11"/>
                  <p:cNvSpPr/>
                  <p:nvPr/>
                </p:nvSpPr>
                <p:spPr>
                  <a:xfrm flipV="1">
                    <a:off x="2106720" y="1671120"/>
                    <a:ext cx="0" cy="31370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9" name="Text Box 12"/>
                  <p:cNvSpPr/>
                  <p:nvPr/>
                </p:nvSpPr>
                <p:spPr>
                  <a:xfrm>
                    <a:off x="1704600" y="1557360"/>
                    <a:ext cx="40212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y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30" name="Text Box 13"/>
                <p:cNvSpPr/>
                <p:nvPr/>
              </p:nvSpPr>
              <p:spPr>
                <a:xfrm>
                  <a:off x="1805400" y="4407840"/>
                  <a:ext cx="4021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31" name="Freeform 15"/>
            <p:cNvSpPr/>
            <p:nvPr/>
          </p:nvSpPr>
          <p:spPr>
            <a:xfrm>
              <a:off x="2843280" y="2160720"/>
              <a:ext cx="3600360" cy="708120"/>
            </a:xfrm>
            <a:custGeom>
              <a:avLst/>
              <a:gdLst>
                <a:gd name="textAreaLeft" fmla="*/ 0 w 3600360"/>
                <a:gd name="textAreaRight" fmla="*/ 3600720 w 3600360"/>
                <a:gd name="textAreaTop" fmla="*/ 0 h 708120"/>
                <a:gd name="textAreaBottom" fmla="*/ 708480 h 708120"/>
              </a:gdLst>
              <a:ahLst/>
              <a:rect l="textAreaLeft" t="textAreaTop" r="textAreaRight" b="textAreaBottom"/>
              <a:pathLst>
                <a:path w="2268" h="514">
                  <a:moveTo>
                    <a:pt x="0" y="514"/>
                  </a:moveTo>
                  <a:cubicBezTo>
                    <a:pt x="8" y="510"/>
                    <a:pt x="16" y="506"/>
                    <a:pt x="182" y="423"/>
                  </a:cubicBezTo>
                  <a:cubicBezTo>
                    <a:pt x="348" y="340"/>
                    <a:pt x="650" y="30"/>
                    <a:pt x="998" y="15"/>
                  </a:cubicBezTo>
                  <a:cubicBezTo>
                    <a:pt x="1346" y="0"/>
                    <a:pt x="1807" y="166"/>
                    <a:pt x="2268" y="333"/>
                  </a:cubicBezTo>
                </a:path>
              </a:pathLst>
            </a:custGeom>
            <a:noFill/>
            <a:ln w="38160">
              <a:solidFill>
                <a:srgbClr val="d2611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Line 16"/>
            <p:cNvSpPr/>
            <p:nvPr/>
          </p:nvSpPr>
          <p:spPr>
            <a:xfrm>
              <a:off x="2843280" y="2869200"/>
              <a:ext cx="0" cy="15627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Line 17"/>
            <p:cNvSpPr/>
            <p:nvPr/>
          </p:nvSpPr>
          <p:spPr>
            <a:xfrm>
              <a:off x="4500720" y="2181600"/>
              <a:ext cx="0" cy="2250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Line 18"/>
            <p:cNvSpPr/>
            <p:nvPr/>
          </p:nvSpPr>
          <p:spPr>
            <a:xfrm>
              <a:off x="6443640" y="2619720"/>
              <a:ext cx="0" cy="18122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35" name="Object 34"/>
                <p:cNvSpPr txBox="1"/>
                <p:nvPr/>
              </p:nvSpPr>
              <p:spPr>
                <a:xfrm>
                  <a:off x="6227640" y="2119320"/>
                  <a:ext cx="1008360" cy="416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36" name="Rectangle 36"/>
          <p:cNvSpPr/>
          <p:nvPr/>
        </p:nvSpPr>
        <p:spPr>
          <a:xfrm>
            <a:off x="363600" y="4941720"/>
            <a:ext cx="7705800" cy="180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marL="343080" indent="-343080"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Находим критические точ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Вычислить значение функций во всех критических точках,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f(a)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и 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f(b)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Сравнивая значения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f(a), f(b), f(x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, определяем наибольш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и наименьшее значение функции на отрез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066320" y="333000"/>
            <a:ext cx="72853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entury Schoolbook"/>
              </a:rPr>
              <a:t>НАИБОЛЬШЕЕ И НАИМЕНЬШЕЕ ЗНАЧЕНИЕ ФУНКЦИИ НА ОТРЕЗКЕ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TextBox 2"/>
          <p:cNvSpPr/>
          <p:nvPr/>
        </p:nvSpPr>
        <p:spPr>
          <a:xfrm>
            <a:off x="214200" y="3357720"/>
            <a:ext cx="407196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критических точе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отрезке нет, значит функция на этом отрезке монотонна, и своего наибольшего и наименьше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чения функция достигает на концах отрез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Box 4"/>
          <p:cNvSpPr/>
          <p:nvPr/>
        </p:nvSpPr>
        <p:spPr>
          <a:xfrm>
            <a:off x="4939200" y="3357720"/>
            <a:ext cx="40532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критические точки 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езке есть, значит нуж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числить значения фун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всех критических точках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онцах отрезка, и выбр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полученных чисе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ибольшее и наименьш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Прямая соединительная линия 6"/>
          <p:cNvSpPr/>
          <p:nvPr/>
        </p:nvSpPr>
        <p:spPr>
          <a:xfrm>
            <a:off x="214200" y="3286080"/>
            <a:ext cx="3857760" cy="0"/>
          </a:xfrm>
          <a:prstGeom prst="line">
            <a:avLst/>
          </a:prstGeom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Прямая соединительная линия 8"/>
          <p:cNvSpPr/>
          <p:nvPr/>
        </p:nvSpPr>
        <p:spPr>
          <a:xfrm>
            <a:off x="4071960" y="3286080"/>
            <a:ext cx="0" cy="271476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Прямая соединительная линия 10"/>
          <p:cNvSpPr/>
          <p:nvPr/>
        </p:nvSpPr>
        <p:spPr>
          <a:xfrm>
            <a:off x="214200" y="3286080"/>
            <a:ext cx="0" cy="271476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Прямая соединительная линия 12"/>
          <p:cNvSpPr/>
          <p:nvPr/>
        </p:nvSpPr>
        <p:spPr>
          <a:xfrm>
            <a:off x="214200" y="6000840"/>
            <a:ext cx="385776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Прямая соединительная линия 14"/>
          <p:cNvSpPr/>
          <p:nvPr/>
        </p:nvSpPr>
        <p:spPr>
          <a:xfrm>
            <a:off x="4857840" y="3286080"/>
            <a:ext cx="407196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Прямая соединительная линия 16"/>
          <p:cNvSpPr/>
          <p:nvPr/>
        </p:nvSpPr>
        <p:spPr>
          <a:xfrm>
            <a:off x="4857840" y="3286080"/>
            <a:ext cx="0" cy="271476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Прямая соединительная линия 18"/>
          <p:cNvSpPr/>
          <p:nvPr/>
        </p:nvSpPr>
        <p:spPr>
          <a:xfrm>
            <a:off x="8929800" y="3286080"/>
            <a:ext cx="0" cy="271476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Прямая соединительная линия 20"/>
          <p:cNvSpPr/>
          <p:nvPr/>
        </p:nvSpPr>
        <p:spPr>
          <a:xfrm>
            <a:off x="4857840" y="6000840"/>
            <a:ext cx="407196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8" name="Прямая со стрелкой 25"/>
          <p:cNvCxnSpPr/>
          <p:nvPr/>
        </p:nvCxnSpPr>
        <p:spPr>
          <a:xfrm flipH="1">
            <a:off x="2142720" y="2713680"/>
            <a:ext cx="1357920" cy="572040"/>
          </a:xfrm>
          <a:prstGeom prst="straightConnector1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</p:cxnSp>
      <p:sp>
        <p:nvSpPr>
          <p:cNvPr id="649" name="TextBox 27"/>
          <p:cNvSpPr/>
          <p:nvPr/>
        </p:nvSpPr>
        <p:spPr>
          <a:xfrm>
            <a:off x="1714680" y="1857240"/>
            <a:ext cx="556092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ти критические точки фун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Прямая соединительная линия 30"/>
          <p:cNvSpPr/>
          <p:nvPr/>
        </p:nvSpPr>
        <p:spPr>
          <a:xfrm>
            <a:off x="1285920" y="2071800"/>
            <a:ext cx="0" cy="64296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Прямая соединительная линия 32"/>
          <p:cNvSpPr/>
          <p:nvPr/>
        </p:nvSpPr>
        <p:spPr>
          <a:xfrm>
            <a:off x="1285920" y="2071800"/>
            <a:ext cx="5715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Прямая соединительная линия 34"/>
          <p:cNvSpPr/>
          <p:nvPr/>
        </p:nvSpPr>
        <p:spPr>
          <a:xfrm>
            <a:off x="7000920" y="2071800"/>
            <a:ext cx="0" cy="64296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Прямая соединительная линия 39"/>
          <p:cNvSpPr/>
          <p:nvPr/>
        </p:nvSpPr>
        <p:spPr>
          <a:xfrm>
            <a:off x="1285920" y="2714760"/>
            <a:ext cx="5715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TextBox 40"/>
          <p:cNvSpPr/>
          <p:nvPr/>
        </p:nvSpPr>
        <p:spPr>
          <a:xfrm>
            <a:off x="2014200" y="1071720"/>
            <a:ext cx="404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ти производную фун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Прямая соединительная линия 41"/>
          <p:cNvSpPr/>
          <p:nvPr/>
        </p:nvSpPr>
        <p:spPr>
          <a:xfrm>
            <a:off x="1285920" y="1071720"/>
            <a:ext cx="0" cy="64296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Прямая соединительная линия 42"/>
          <p:cNvSpPr/>
          <p:nvPr/>
        </p:nvSpPr>
        <p:spPr>
          <a:xfrm>
            <a:off x="1285920" y="1071720"/>
            <a:ext cx="5715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Прямая соединительная линия 43"/>
          <p:cNvSpPr/>
          <p:nvPr/>
        </p:nvSpPr>
        <p:spPr>
          <a:xfrm>
            <a:off x="7000920" y="1071720"/>
            <a:ext cx="0" cy="64296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Прямая соединительная линия 44"/>
          <p:cNvSpPr/>
          <p:nvPr/>
        </p:nvSpPr>
        <p:spPr>
          <a:xfrm>
            <a:off x="1285920" y="1714680"/>
            <a:ext cx="5715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9" name="Прямая со стрелкой 46"/>
          <p:cNvCxnSpPr/>
          <p:nvPr/>
        </p:nvCxnSpPr>
        <p:spPr>
          <a:xfrm>
            <a:off x="5285880" y="2714400"/>
            <a:ext cx="1358280" cy="572040"/>
          </a:xfrm>
          <a:prstGeom prst="straightConnector1">
            <a:avLst/>
          </a:prstGeom>
          <a:ln w="38160">
            <a:solidFill>
              <a:srgbClr val="3333cc"/>
            </a:solidFill>
            <a:miter/>
            <a:tailEnd len="med" type="arrow" w="med"/>
          </a:ln>
        </p:spPr>
      </p:cxnSp>
      <p:cxnSp>
        <p:nvCxnSpPr>
          <p:cNvPr id="660" name="Прямая со стрелкой 57"/>
          <p:cNvCxnSpPr/>
          <p:nvPr/>
        </p:nvCxnSpPr>
        <p:spPr>
          <a:xfrm flipH="1">
            <a:off x="4284360" y="1714680"/>
            <a:ext cx="2160" cy="357840"/>
          </a:xfrm>
          <a:prstGeom prst="straightConnector1">
            <a:avLst/>
          </a:prstGeom>
          <a:ln w="38160">
            <a:solidFill>
              <a:srgbClr val="3333cc"/>
            </a:solidFill>
            <a:miter/>
            <a:tailEnd len="med" type="arrow" w="med"/>
          </a:ln>
        </p:spPr>
      </p:cxnSp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1029960" y="190080"/>
            <a:ext cx="651204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entury Schoolbook"/>
              </a:rPr>
              <a:t>АЛГОРИТМ НАХОЖДЕНИЯ НАИБОЛЬШЕГО И НАИМЕНЬШЕГО ЗНАЧЕНИЯ ФУНКЦИИ НА ОТРЕЗКЕ</a:t>
            </a:r>
            <a:endParaRPr b="0" lang="en-US" sz="20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Прямоугольник 10"/>
          <p:cNvSpPr/>
          <p:nvPr/>
        </p:nvSpPr>
        <p:spPr>
          <a:xfrm>
            <a:off x="465120" y="2565360"/>
            <a:ext cx="2363760" cy="4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marL="465120" indent="-465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Bookman Old Style"/>
              </a:rPr>
              <a:t>Решение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Rectangle 4"/>
          <p:cNvSpPr/>
          <p:nvPr/>
        </p:nvSpPr>
        <p:spPr>
          <a:xfrm>
            <a:off x="792000" y="940320"/>
            <a:ext cx="633384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дите наибольшее значение функ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4" name="Объект 12"/>
              <p:cNvSpPr txBox="1"/>
              <p:nvPr/>
            </p:nvSpPr>
            <p:spPr>
              <a:xfrm>
                <a:off x="539640" y="1486080"/>
                <a:ext cx="2992680" cy="7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5" name="Объект 13"/>
              <p:cNvSpPr txBox="1"/>
              <p:nvPr/>
            </p:nvSpPr>
            <p:spPr>
              <a:xfrm>
                <a:off x="5834160" y="1612800"/>
                <a:ext cx="152388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66" name="TextBox 14"/>
          <p:cNvSpPr/>
          <p:nvPr/>
        </p:nvSpPr>
        <p:spPr>
          <a:xfrm>
            <a:off x="3668760" y="1612800"/>
            <a:ext cx="21970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ез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7" name="Объект 15"/>
              <p:cNvSpPr txBox="1"/>
              <p:nvPr/>
            </p:nvSpPr>
            <p:spPr>
              <a:xfrm>
                <a:off x="227160" y="3033720"/>
                <a:ext cx="374472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,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8" name="Объект 16"/>
              <p:cNvSpPr txBox="1"/>
              <p:nvPr/>
            </p:nvSpPr>
            <p:spPr>
              <a:xfrm>
                <a:off x="279360" y="3789360"/>
                <a:ext cx="273528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,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9" name="Прямая соединительная линия 18"/>
          <p:cNvSpPr/>
          <p:nvPr/>
        </p:nvSpPr>
        <p:spPr>
          <a:xfrm>
            <a:off x="4572000" y="2798640"/>
            <a:ext cx="0" cy="3265560"/>
          </a:xfrm>
          <a:prstGeom prst="line">
            <a:avLst/>
          </a:prstGeom>
          <a:ln w="12600">
            <a:solidFill>
              <a:srgbClr val="ff6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0" name="Объект 19"/>
              <p:cNvSpPr txBox="1"/>
              <p:nvPr/>
            </p:nvSpPr>
            <p:spPr>
              <a:xfrm>
                <a:off x="900000" y="4592520"/>
                <a:ext cx="1698840" cy="165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3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3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∉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</m:e>
                        </m:d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1" name="Объект 20"/>
              <p:cNvSpPr txBox="1"/>
              <p:nvPr/>
            </p:nvSpPr>
            <p:spPr>
              <a:xfrm>
                <a:off x="4897440" y="2798640"/>
                <a:ext cx="3921120" cy="97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=</m:t>
                        </m:r>
                      </m:e>
                      <m:e>
                        <m:r>
                          <m:t xml:space="preserve">−</m:t>
                        </m:r>
                        <m:r>
                          <m:t xml:space="preserve">8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2" name="Объект 21"/>
              <p:cNvSpPr txBox="1"/>
              <p:nvPr/>
            </p:nvSpPr>
            <p:spPr>
              <a:xfrm>
                <a:off x="4764240" y="3819600"/>
                <a:ext cx="4117680" cy="104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=</m:t>
                        </m:r>
                      </m:e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=</m:t>
                        </m:r>
                        <m:r>
                          <m:t xml:space="preserve">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3" name="Объект 22"/>
              <p:cNvSpPr txBox="1"/>
              <p:nvPr/>
            </p:nvSpPr>
            <p:spPr>
              <a:xfrm>
                <a:off x="4767120" y="5084640"/>
                <a:ext cx="143676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74" name="Овал 23"/>
          <p:cNvSpPr/>
          <p:nvPr/>
        </p:nvSpPr>
        <p:spPr>
          <a:xfrm>
            <a:off x="6858000" y="4432320"/>
            <a:ext cx="392040" cy="522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4751280" y="5686560"/>
            <a:ext cx="36594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300" spc="-1" strike="noStrike">
                <a:solidFill>
                  <a:srgbClr val="000000"/>
                </a:solidFill>
                <a:latin typeface="Bookman Old Style"/>
              </a:rPr>
              <a:t>Ответ: 6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76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763280" y="1628280"/>
            <a:ext cx="6480360" cy="17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825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70c0"/>
                </a:solidFill>
                <a:latin typeface="Century Schoolbook"/>
              </a:rPr>
              <a:t>УМ ЗАКЛЮЧАЕТСЯ НЕ ТОЛЬКО В ЗНАНИИ, НО И В УМЕНИИ ПРИМЕНЯТЬ ЗНАНИЯ НА ПРАКТИКЕ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971640" y="458136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>
                <a:solidFill>
                  <a:srgbClr val="0070c0"/>
                </a:solidFill>
                <a:latin typeface="Century Schoolbook"/>
              </a:rPr>
              <a:t>Аристотель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Прямоугольник 8"/>
          <p:cNvSpPr/>
          <p:nvPr/>
        </p:nvSpPr>
        <p:spPr>
          <a:xfrm>
            <a:off x="309960" y="1494000"/>
            <a:ext cx="2666160" cy="4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marL="465120" indent="-465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Bookman Old Style"/>
              </a:rPr>
              <a:t>Решение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Прямоугольник 9"/>
          <p:cNvSpPr/>
          <p:nvPr/>
        </p:nvSpPr>
        <p:spPr>
          <a:xfrm>
            <a:off x="141120" y="674640"/>
            <a:ext cx="88171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дите точку максимума (минимума) функ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8" name="Объект 11"/>
              <p:cNvSpPr txBox="1"/>
              <p:nvPr/>
            </p:nvSpPr>
            <p:spPr>
              <a:xfrm>
                <a:off x="2585880" y="1739880"/>
                <a:ext cx="3395880" cy="7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9" name="Объект 12"/>
              <p:cNvSpPr txBox="1"/>
              <p:nvPr/>
            </p:nvSpPr>
            <p:spPr>
              <a:xfrm>
                <a:off x="3011400" y="2565360"/>
                <a:ext cx="267012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,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0" name="Объект 13"/>
              <p:cNvSpPr txBox="1"/>
              <p:nvPr/>
            </p:nvSpPr>
            <p:spPr>
              <a:xfrm>
                <a:off x="4518000" y="3330720"/>
                <a:ext cx="104760" cy="19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1" name="Объект 14"/>
              <p:cNvSpPr txBox="1"/>
              <p:nvPr/>
            </p:nvSpPr>
            <p:spPr>
              <a:xfrm>
                <a:off x="2968560" y="3213000"/>
                <a:ext cx="2482920" cy="196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82" name="Line 6"/>
          <p:cNvSpPr/>
          <p:nvPr/>
        </p:nvSpPr>
        <p:spPr>
          <a:xfrm flipV="1">
            <a:off x="3817800" y="6145200"/>
            <a:ext cx="4251600" cy="936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800" rIns="82800" tIns="-32040" bIns="-32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Oval 7"/>
          <p:cNvSpPr/>
          <p:nvPr/>
        </p:nvSpPr>
        <p:spPr>
          <a:xfrm>
            <a:off x="5046840" y="6048360"/>
            <a:ext cx="120600" cy="13176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Oval 9"/>
          <p:cNvSpPr/>
          <p:nvPr/>
        </p:nvSpPr>
        <p:spPr>
          <a:xfrm>
            <a:off x="7182000" y="6037200"/>
            <a:ext cx="118800" cy="13356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Text Box 10"/>
          <p:cNvSpPr/>
          <p:nvPr/>
        </p:nvSpPr>
        <p:spPr>
          <a:xfrm>
            <a:off x="4950720" y="6243480"/>
            <a:ext cx="29448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Georgi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Text Box 12"/>
          <p:cNvSpPr/>
          <p:nvPr/>
        </p:nvSpPr>
        <p:spPr>
          <a:xfrm>
            <a:off x="7107480" y="6210360"/>
            <a:ext cx="29448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Georgi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Freeform 13"/>
          <p:cNvSpPr/>
          <p:nvPr/>
        </p:nvSpPr>
        <p:spPr>
          <a:xfrm>
            <a:off x="3976560" y="5524560"/>
            <a:ext cx="1146240" cy="625320"/>
          </a:xfrm>
          <a:custGeom>
            <a:avLst/>
            <a:gdLst>
              <a:gd name="textAreaLeft" fmla="*/ 0 w 1146240"/>
              <a:gd name="textAreaRight" fmla="*/ 1146600 w 1146240"/>
              <a:gd name="textAreaTop" fmla="*/ 0 h 625320"/>
              <a:gd name="textAreaBottom" fmla="*/ 625680 h 625320"/>
            </a:gdLst>
            <a:ahLst/>
            <a:rect l="textAreaLeft" t="textAreaTop" r="textAreaRight" b="textAreaBottom"/>
            <a:pathLst>
              <a:path w="795" h="434">
                <a:moveTo>
                  <a:pt x="0" y="5"/>
                </a:moveTo>
                <a:cubicBezTo>
                  <a:pt x="131" y="2"/>
                  <a:pt x="263" y="0"/>
                  <a:pt x="366" y="23"/>
                </a:cubicBezTo>
                <a:cubicBezTo>
                  <a:pt x="469" y="46"/>
                  <a:pt x="551" y="74"/>
                  <a:pt x="622" y="142"/>
                </a:cubicBezTo>
                <a:cubicBezTo>
                  <a:pt x="693" y="210"/>
                  <a:pt x="744" y="322"/>
                  <a:pt x="795" y="43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Freeform 15"/>
          <p:cNvSpPr/>
          <p:nvPr/>
        </p:nvSpPr>
        <p:spPr>
          <a:xfrm>
            <a:off x="5089680" y="5591160"/>
            <a:ext cx="2095200" cy="515880"/>
          </a:xfrm>
          <a:custGeom>
            <a:avLst/>
            <a:gdLst>
              <a:gd name="textAreaLeft" fmla="*/ 0 w 2095200"/>
              <a:gd name="textAreaRight" fmla="*/ 2095560 w 2095200"/>
              <a:gd name="textAreaTop" fmla="*/ 0 h 515880"/>
              <a:gd name="textAreaBottom" fmla="*/ 516240 h 515880"/>
            </a:gdLst>
            <a:ahLst/>
            <a:rect l="textAreaLeft" t="textAreaTop" r="textAreaRight" b="textAreaBottom"/>
            <a:pathLst>
              <a:path w="668" h="450">
                <a:moveTo>
                  <a:pt x="0" y="431"/>
                </a:moveTo>
                <a:cubicBezTo>
                  <a:pt x="18" y="306"/>
                  <a:pt x="36" y="182"/>
                  <a:pt x="101" y="111"/>
                </a:cubicBezTo>
                <a:cubicBezTo>
                  <a:pt x="166" y="40"/>
                  <a:pt x="311" y="0"/>
                  <a:pt x="393" y="2"/>
                </a:cubicBezTo>
                <a:cubicBezTo>
                  <a:pt x="475" y="4"/>
                  <a:pt x="549" y="46"/>
                  <a:pt x="595" y="121"/>
                </a:cubicBezTo>
                <a:cubicBezTo>
                  <a:pt x="641" y="196"/>
                  <a:pt x="654" y="323"/>
                  <a:pt x="668" y="45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Freeform 16"/>
          <p:cNvSpPr/>
          <p:nvPr/>
        </p:nvSpPr>
        <p:spPr>
          <a:xfrm>
            <a:off x="7246800" y="5538960"/>
            <a:ext cx="747720" cy="515880"/>
          </a:xfrm>
          <a:custGeom>
            <a:avLst/>
            <a:gdLst>
              <a:gd name="textAreaLeft" fmla="*/ 0 w 747720"/>
              <a:gd name="textAreaRight" fmla="*/ 748080 w 747720"/>
              <a:gd name="textAreaTop" fmla="*/ 0 h 515880"/>
              <a:gd name="textAreaBottom" fmla="*/ 516240 h 515880"/>
            </a:gdLst>
            <a:ahLst/>
            <a:rect l="textAreaLeft" t="textAreaTop" r="textAreaRight" b="textAreaBottom"/>
            <a:pathLst>
              <a:path w="1197" h="503">
                <a:moveTo>
                  <a:pt x="0" y="503"/>
                </a:moveTo>
                <a:cubicBezTo>
                  <a:pt x="14" y="385"/>
                  <a:pt x="29" y="268"/>
                  <a:pt x="91" y="192"/>
                </a:cubicBezTo>
                <a:cubicBezTo>
                  <a:pt x="153" y="116"/>
                  <a:pt x="190" y="78"/>
                  <a:pt x="374" y="46"/>
                </a:cubicBezTo>
                <a:cubicBezTo>
                  <a:pt x="558" y="14"/>
                  <a:pt x="877" y="7"/>
                  <a:pt x="1197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 Box 24"/>
          <p:cNvSpPr/>
          <p:nvPr/>
        </p:nvSpPr>
        <p:spPr>
          <a:xfrm>
            <a:off x="7513200" y="5649840"/>
            <a:ext cx="3294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Text Box 28"/>
          <p:cNvSpPr/>
          <p:nvPr/>
        </p:nvSpPr>
        <p:spPr>
          <a:xfrm>
            <a:off x="5943600" y="5649840"/>
            <a:ext cx="295200" cy="4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Text Box 36"/>
          <p:cNvSpPr/>
          <p:nvPr/>
        </p:nvSpPr>
        <p:spPr>
          <a:xfrm>
            <a:off x="4210560" y="5607000"/>
            <a:ext cx="381240" cy="52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0000"/>
                </a:solidFill>
                <a:latin typeface="Arial"/>
              </a:rPr>
              <a:t>+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TextBox 31"/>
          <p:cNvSpPr/>
          <p:nvPr/>
        </p:nvSpPr>
        <p:spPr>
          <a:xfrm>
            <a:off x="4767120" y="5454720"/>
            <a:ext cx="91440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Georgia"/>
              </a:rPr>
              <a:t>m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TextBox 32"/>
          <p:cNvSpPr/>
          <p:nvPr/>
        </p:nvSpPr>
        <p:spPr>
          <a:xfrm>
            <a:off x="6746760" y="5305320"/>
            <a:ext cx="91440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Georgia"/>
              </a:rPr>
              <a:t>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0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10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6" dur="10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2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1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10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1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3" dur="1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1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1" dur="20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6" dur="10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0" dur="10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5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5" name="Picture 4" descr=""/>
          <p:cNvPicPr/>
          <p:nvPr/>
        </p:nvPicPr>
        <p:blipFill>
          <a:blip r:embed="rId1"/>
          <a:stretch/>
        </p:blipFill>
        <p:spPr>
          <a:xfrm>
            <a:off x="303120" y="981000"/>
            <a:ext cx="11304720" cy="2305080"/>
          </a:xfrm>
          <a:prstGeom prst="rect">
            <a:avLst/>
          </a:prstGeom>
          <a:ln w="0">
            <a:noFill/>
          </a:ln>
        </p:spPr>
      </p:pic>
      <p:pic>
        <p:nvPicPr>
          <p:cNvPr id="696" name="Picture 5" descr=""/>
          <p:cNvPicPr/>
          <p:nvPr/>
        </p:nvPicPr>
        <p:blipFill>
          <a:blip r:embed="rId2"/>
          <a:stretch/>
        </p:blipFill>
        <p:spPr>
          <a:xfrm>
            <a:off x="3071880" y="3860640"/>
            <a:ext cx="12144240" cy="20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Line 50"/>
          <p:cNvSpPr/>
          <p:nvPr/>
        </p:nvSpPr>
        <p:spPr>
          <a:xfrm>
            <a:off x="998640" y="2565360"/>
            <a:ext cx="2539800" cy="0"/>
          </a:xfrm>
          <a:prstGeom prst="line">
            <a:avLst/>
          </a:prstGeom>
          <a:ln w="6480">
            <a:solidFill>
              <a:srgbClr val="00007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Line 51"/>
          <p:cNvSpPr/>
          <p:nvPr/>
        </p:nvSpPr>
        <p:spPr>
          <a:xfrm>
            <a:off x="998640" y="2819520"/>
            <a:ext cx="2539800" cy="0"/>
          </a:xfrm>
          <a:prstGeom prst="line">
            <a:avLst/>
          </a:prstGeom>
          <a:ln w="6480">
            <a:solidFill>
              <a:srgbClr val="00007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Line 52"/>
          <p:cNvSpPr/>
          <p:nvPr/>
        </p:nvSpPr>
        <p:spPr>
          <a:xfrm>
            <a:off x="998640" y="3073320"/>
            <a:ext cx="2539800" cy="0"/>
          </a:xfrm>
          <a:prstGeom prst="line">
            <a:avLst/>
          </a:prstGeom>
          <a:ln w="6480">
            <a:solidFill>
              <a:srgbClr val="00007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Line 53"/>
          <p:cNvSpPr/>
          <p:nvPr/>
        </p:nvSpPr>
        <p:spPr>
          <a:xfrm>
            <a:off x="998640" y="3327480"/>
            <a:ext cx="2539800" cy="0"/>
          </a:xfrm>
          <a:prstGeom prst="line">
            <a:avLst/>
          </a:prstGeom>
          <a:ln w="6480">
            <a:solidFill>
              <a:srgbClr val="00007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Line 54"/>
          <p:cNvSpPr/>
          <p:nvPr/>
        </p:nvSpPr>
        <p:spPr>
          <a:xfrm>
            <a:off x="998640" y="3581280"/>
            <a:ext cx="2539800" cy="0"/>
          </a:xfrm>
          <a:prstGeom prst="line">
            <a:avLst/>
          </a:prstGeom>
          <a:ln w="6480">
            <a:solidFill>
              <a:srgbClr val="00007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Line 55"/>
          <p:cNvSpPr/>
          <p:nvPr/>
        </p:nvSpPr>
        <p:spPr>
          <a:xfrm>
            <a:off x="998640" y="3835440"/>
            <a:ext cx="2539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Line 56"/>
          <p:cNvSpPr/>
          <p:nvPr/>
        </p:nvSpPr>
        <p:spPr>
          <a:xfrm>
            <a:off x="998640" y="4089240"/>
            <a:ext cx="2539800" cy="0"/>
          </a:xfrm>
          <a:prstGeom prst="line">
            <a:avLst/>
          </a:prstGeom>
          <a:ln w="6480">
            <a:solidFill>
              <a:srgbClr val="00007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Line 57"/>
          <p:cNvSpPr/>
          <p:nvPr/>
        </p:nvSpPr>
        <p:spPr>
          <a:xfrm>
            <a:off x="998640" y="4343400"/>
            <a:ext cx="2539800" cy="0"/>
          </a:xfrm>
          <a:prstGeom prst="line">
            <a:avLst/>
          </a:prstGeom>
          <a:ln w="6480">
            <a:solidFill>
              <a:srgbClr val="00007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Line 58"/>
          <p:cNvSpPr/>
          <p:nvPr/>
        </p:nvSpPr>
        <p:spPr>
          <a:xfrm>
            <a:off x="998640" y="4597560"/>
            <a:ext cx="2539800" cy="0"/>
          </a:xfrm>
          <a:prstGeom prst="line">
            <a:avLst/>
          </a:prstGeom>
          <a:ln w="6480">
            <a:solidFill>
              <a:srgbClr val="00007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Line 59"/>
          <p:cNvSpPr/>
          <p:nvPr/>
        </p:nvSpPr>
        <p:spPr>
          <a:xfrm>
            <a:off x="998640" y="4851360"/>
            <a:ext cx="2539800" cy="0"/>
          </a:xfrm>
          <a:prstGeom prst="line">
            <a:avLst/>
          </a:prstGeom>
          <a:ln w="6480">
            <a:solidFill>
              <a:srgbClr val="00007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Line 60"/>
          <p:cNvSpPr/>
          <p:nvPr/>
        </p:nvSpPr>
        <p:spPr>
          <a:xfrm>
            <a:off x="998640" y="5105520"/>
            <a:ext cx="2539800" cy="0"/>
          </a:xfrm>
          <a:prstGeom prst="line">
            <a:avLst/>
          </a:prstGeom>
          <a:ln w="6480">
            <a:solidFill>
              <a:srgbClr val="00007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Line 61"/>
          <p:cNvSpPr/>
          <p:nvPr/>
        </p:nvSpPr>
        <p:spPr>
          <a:xfrm flipV="1">
            <a:off x="998640" y="2565360"/>
            <a:ext cx="0" cy="2540160"/>
          </a:xfrm>
          <a:prstGeom prst="line">
            <a:avLst/>
          </a:prstGeom>
          <a:ln w="6480">
            <a:solidFill>
              <a:srgbClr val="00007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Line 62"/>
          <p:cNvSpPr/>
          <p:nvPr/>
        </p:nvSpPr>
        <p:spPr>
          <a:xfrm flipV="1">
            <a:off x="1252440" y="2565360"/>
            <a:ext cx="0" cy="2540160"/>
          </a:xfrm>
          <a:prstGeom prst="line">
            <a:avLst/>
          </a:prstGeom>
          <a:ln w="6480">
            <a:solidFill>
              <a:srgbClr val="00007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Line 63"/>
          <p:cNvSpPr/>
          <p:nvPr/>
        </p:nvSpPr>
        <p:spPr>
          <a:xfrm flipV="1">
            <a:off x="1506600" y="2565360"/>
            <a:ext cx="0" cy="2540160"/>
          </a:xfrm>
          <a:prstGeom prst="line">
            <a:avLst/>
          </a:prstGeom>
          <a:ln w="6480">
            <a:solidFill>
              <a:srgbClr val="00007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Line 64"/>
          <p:cNvSpPr/>
          <p:nvPr/>
        </p:nvSpPr>
        <p:spPr>
          <a:xfrm flipV="1">
            <a:off x="1760400" y="2565360"/>
            <a:ext cx="0" cy="2540160"/>
          </a:xfrm>
          <a:prstGeom prst="line">
            <a:avLst/>
          </a:prstGeom>
          <a:ln w="6480">
            <a:solidFill>
              <a:srgbClr val="00007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Line 65"/>
          <p:cNvSpPr/>
          <p:nvPr/>
        </p:nvSpPr>
        <p:spPr>
          <a:xfrm flipV="1">
            <a:off x="2014560" y="2565360"/>
            <a:ext cx="0" cy="2540160"/>
          </a:xfrm>
          <a:prstGeom prst="line">
            <a:avLst/>
          </a:prstGeom>
          <a:ln w="6480">
            <a:solidFill>
              <a:srgbClr val="00007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Line 66"/>
          <p:cNvSpPr/>
          <p:nvPr/>
        </p:nvSpPr>
        <p:spPr>
          <a:xfrm flipV="1">
            <a:off x="2268360" y="2565360"/>
            <a:ext cx="0" cy="2540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Line 67"/>
          <p:cNvSpPr/>
          <p:nvPr/>
        </p:nvSpPr>
        <p:spPr>
          <a:xfrm flipV="1">
            <a:off x="2522520" y="2565360"/>
            <a:ext cx="0" cy="2540160"/>
          </a:xfrm>
          <a:prstGeom prst="line">
            <a:avLst/>
          </a:prstGeom>
          <a:ln w="6480">
            <a:solidFill>
              <a:srgbClr val="00007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Line 68"/>
          <p:cNvSpPr/>
          <p:nvPr/>
        </p:nvSpPr>
        <p:spPr>
          <a:xfrm flipV="1">
            <a:off x="2776680" y="2565360"/>
            <a:ext cx="0" cy="2540160"/>
          </a:xfrm>
          <a:prstGeom prst="line">
            <a:avLst/>
          </a:prstGeom>
          <a:ln w="6480">
            <a:solidFill>
              <a:srgbClr val="00007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Line 69"/>
          <p:cNvSpPr/>
          <p:nvPr/>
        </p:nvSpPr>
        <p:spPr>
          <a:xfrm flipV="1">
            <a:off x="3030480" y="2565360"/>
            <a:ext cx="0" cy="2540160"/>
          </a:xfrm>
          <a:prstGeom prst="line">
            <a:avLst/>
          </a:prstGeom>
          <a:ln w="6480">
            <a:solidFill>
              <a:srgbClr val="00007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Line 70"/>
          <p:cNvSpPr/>
          <p:nvPr/>
        </p:nvSpPr>
        <p:spPr>
          <a:xfrm flipV="1">
            <a:off x="3284640" y="2565360"/>
            <a:ext cx="0" cy="2540160"/>
          </a:xfrm>
          <a:prstGeom prst="line">
            <a:avLst/>
          </a:prstGeom>
          <a:ln w="6480">
            <a:solidFill>
              <a:srgbClr val="00007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Line 71"/>
          <p:cNvSpPr/>
          <p:nvPr/>
        </p:nvSpPr>
        <p:spPr>
          <a:xfrm flipV="1">
            <a:off x="3538440" y="2565360"/>
            <a:ext cx="0" cy="2540160"/>
          </a:xfrm>
          <a:prstGeom prst="line">
            <a:avLst/>
          </a:prstGeom>
          <a:ln w="6480">
            <a:solidFill>
              <a:srgbClr val="00007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Line 72"/>
          <p:cNvSpPr/>
          <p:nvPr/>
        </p:nvSpPr>
        <p:spPr>
          <a:xfrm>
            <a:off x="5318280" y="2565360"/>
            <a:ext cx="2539800" cy="0"/>
          </a:xfrm>
          <a:prstGeom prst="line">
            <a:avLst/>
          </a:prstGeom>
          <a:ln w="6480">
            <a:solidFill>
              <a:srgbClr val="00007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Line 73"/>
          <p:cNvSpPr/>
          <p:nvPr/>
        </p:nvSpPr>
        <p:spPr>
          <a:xfrm>
            <a:off x="5318280" y="2819520"/>
            <a:ext cx="2539800" cy="0"/>
          </a:xfrm>
          <a:prstGeom prst="line">
            <a:avLst/>
          </a:prstGeom>
          <a:ln w="6480">
            <a:solidFill>
              <a:srgbClr val="00007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Line 74"/>
          <p:cNvSpPr/>
          <p:nvPr/>
        </p:nvSpPr>
        <p:spPr>
          <a:xfrm>
            <a:off x="5318280" y="3073320"/>
            <a:ext cx="2539800" cy="0"/>
          </a:xfrm>
          <a:prstGeom prst="line">
            <a:avLst/>
          </a:prstGeom>
          <a:ln w="6480">
            <a:solidFill>
              <a:srgbClr val="00007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Line 75"/>
          <p:cNvSpPr/>
          <p:nvPr/>
        </p:nvSpPr>
        <p:spPr>
          <a:xfrm>
            <a:off x="5318280" y="3327480"/>
            <a:ext cx="2539800" cy="0"/>
          </a:xfrm>
          <a:prstGeom prst="line">
            <a:avLst/>
          </a:prstGeom>
          <a:ln w="6480">
            <a:solidFill>
              <a:srgbClr val="00007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Line 76"/>
          <p:cNvSpPr/>
          <p:nvPr/>
        </p:nvSpPr>
        <p:spPr>
          <a:xfrm>
            <a:off x="5318280" y="3581280"/>
            <a:ext cx="2539800" cy="0"/>
          </a:xfrm>
          <a:prstGeom prst="line">
            <a:avLst/>
          </a:prstGeom>
          <a:ln w="6480">
            <a:solidFill>
              <a:srgbClr val="00007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Line 77"/>
          <p:cNvSpPr/>
          <p:nvPr/>
        </p:nvSpPr>
        <p:spPr>
          <a:xfrm>
            <a:off x="5318280" y="3835440"/>
            <a:ext cx="2539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Line 78"/>
          <p:cNvSpPr/>
          <p:nvPr/>
        </p:nvSpPr>
        <p:spPr>
          <a:xfrm>
            <a:off x="5318280" y="4089240"/>
            <a:ext cx="2539800" cy="0"/>
          </a:xfrm>
          <a:prstGeom prst="line">
            <a:avLst/>
          </a:prstGeom>
          <a:ln w="6480">
            <a:solidFill>
              <a:srgbClr val="00007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Line 79"/>
          <p:cNvSpPr/>
          <p:nvPr/>
        </p:nvSpPr>
        <p:spPr>
          <a:xfrm>
            <a:off x="5318280" y="4343400"/>
            <a:ext cx="2539800" cy="0"/>
          </a:xfrm>
          <a:prstGeom prst="line">
            <a:avLst/>
          </a:prstGeom>
          <a:ln w="6480">
            <a:solidFill>
              <a:srgbClr val="00007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Line 80"/>
          <p:cNvSpPr/>
          <p:nvPr/>
        </p:nvSpPr>
        <p:spPr>
          <a:xfrm>
            <a:off x="5318280" y="4597560"/>
            <a:ext cx="2539800" cy="0"/>
          </a:xfrm>
          <a:prstGeom prst="line">
            <a:avLst/>
          </a:prstGeom>
          <a:ln w="6480">
            <a:solidFill>
              <a:srgbClr val="00007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Line 81"/>
          <p:cNvSpPr/>
          <p:nvPr/>
        </p:nvSpPr>
        <p:spPr>
          <a:xfrm>
            <a:off x="5318280" y="4851360"/>
            <a:ext cx="2539800" cy="0"/>
          </a:xfrm>
          <a:prstGeom prst="line">
            <a:avLst/>
          </a:prstGeom>
          <a:ln w="6480">
            <a:solidFill>
              <a:srgbClr val="00007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Line 82"/>
          <p:cNvSpPr/>
          <p:nvPr/>
        </p:nvSpPr>
        <p:spPr>
          <a:xfrm>
            <a:off x="5318280" y="5105520"/>
            <a:ext cx="2539800" cy="0"/>
          </a:xfrm>
          <a:prstGeom prst="line">
            <a:avLst/>
          </a:prstGeom>
          <a:ln w="6480">
            <a:solidFill>
              <a:srgbClr val="00007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Line 83"/>
          <p:cNvSpPr/>
          <p:nvPr/>
        </p:nvSpPr>
        <p:spPr>
          <a:xfrm flipV="1">
            <a:off x="5318280" y="2565360"/>
            <a:ext cx="0" cy="2540160"/>
          </a:xfrm>
          <a:prstGeom prst="line">
            <a:avLst/>
          </a:prstGeom>
          <a:ln w="6480">
            <a:solidFill>
              <a:srgbClr val="00007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Line 84"/>
          <p:cNvSpPr/>
          <p:nvPr/>
        </p:nvSpPr>
        <p:spPr>
          <a:xfrm flipV="1">
            <a:off x="5572080" y="2565360"/>
            <a:ext cx="0" cy="2540160"/>
          </a:xfrm>
          <a:prstGeom prst="line">
            <a:avLst/>
          </a:prstGeom>
          <a:ln w="6480">
            <a:solidFill>
              <a:srgbClr val="00007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Line 85"/>
          <p:cNvSpPr/>
          <p:nvPr/>
        </p:nvSpPr>
        <p:spPr>
          <a:xfrm flipV="1">
            <a:off x="5826240" y="2565360"/>
            <a:ext cx="0" cy="2540160"/>
          </a:xfrm>
          <a:prstGeom prst="line">
            <a:avLst/>
          </a:prstGeom>
          <a:ln w="6480">
            <a:solidFill>
              <a:srgbClr val="00007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Line 86"/>
          <p:cNvSpPr/>
          <p:nvPr/>
        </p:nvSpPr>
        <p:spPr>
          <a:xfrm flipV="1">
            <a:off x="6080040" y="2565360"/>
            <a:ext cx="0" cy="2540160"/>
          </a:xfrm>
          <a:prstGeom prst="line">
            <a:avLst/>
          </a:prstGeom>
          <a:ln w="6480">
            <a:solidFill>
              <a:srgbClr val="00007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Line 87"/>
          <p:cNvSpPr/>
          <p:nvPr/>
        </p:nvSpPr>
        <p:spPr>
          <a:xfrm flipV="1">
            <a:off x="6334200" y="2565360"/>
            <a:ext cx="0" cy="2540160"/>
          </a:xfrm>
          <a:prstGeom prst="line">
            <a:avLst/>
          </a:prstGeom>
          <a:ln w="6480">
            <a:solidFill>
              <a:srgbClr val="00007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Line 88"/>
          <p:cNvSpPr/>
          <p:nvPr/>
        </p:nvSpPr>
        <p:spPr>
          <a:xfrm flipV="1">
            <a:off x="6588000" y="2565360"/>
            <a:ext cx="0" cy="2540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Line 89"/>
          <p:cNvSpPr/>
          <p:nvPr/>
        </p:nvSpPr>
        <p:spPr>
          <a:xfrm flipV="1">
            <a:off x="6842160" y="2565360"/>
            <a:ext cx="0" cy="2540160"/>
          </a:xfrm>
          <a:prstGeom prst="line">
            <a:avLst/>
          </a:prstGeom>
          <a:ln w="6480">
            <a:solidFill>
              <a:srgbClr val="00007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Line 90"/>
          <p:cNvSpPr/>
          <p:nvPr/>
        </p:nvSpPr>
        <p:spPr>
          <a:xfrm flipV="1">
            <a:off x="7095960" y="2565360"/>
            <a:ext cx="0" cy="2540160"/>
          </a:xfrm>
          <a:prstGeom prst="line">
            <a:avLst/>
          </a:prstGeom>
          <a:ln w="6480">
            <a:solidFill>
              <a:srgbClr val="00007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Line 91"/>
          <p:cNvSpPr/>
          <p:nvPr/>
        </p:nvSpPr>
        <p:spPr>
          <a:xfrm flipV="1">
            <a:off x="7350120" y="2565360"/>
            <a:ext cx="0" cy="2540160"/>
          </a:xfrm>
          <a:prstGeom prst="line">
            <a:avLst/>
          </a:prstGeom>
          <a:ln w="6480">
            <a:solidFill>
              <a:srgbClr val="00007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Line 92"/>
          <p:cNvSpPr/>
          <p:nvPr/>
        </p:nvSpPr>
        <p:spPr>
          <a:xfrm flipV="1">
            <a:off x="7604280" y="2565360"/>
            <a:ext cx="0" cy="2540160"/>
          </a:xfrm>
          <a:prstGeom prst="line">
            <a:avLst/>
          </a:prstGeom>
          <a:ln w="6480">
            <a:solidFill>
              <a:srgbClr val="00007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Line 93"/>
          <p:cNvSpPr/>
          <p:nvPr/>
        </p:nvSpPr>
        <p:spPr>
          <a:xfrm flipV="1">
            <a:off x="7858080" y="2565360"/>
            <a:ext cx="0" cy="2540160"/>
          </a:xfrm>
          <a:prstGeom prst="line">
            <a:avLst/>
          </a:prstGeom>
          <a:ln w="6480">
            <a:solidFill>
              <a:srgbClr val="00007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Freeform 94"/>
          <p:cNvSpPr/>
          <p:nvPr/>
        </p:nvSpPr>
        <p:spPr>
          <a:xfrm>
            <a:off x="971640" y="2565360"/>
            <a:ext cx="2538360" cy="2536920"/>
          </a:xfrm>
          <a:custGeom>
            <a:avLst/>
            <a:gdLst>
              <a:gd name="textAreaLeft" fmla="*/ 0 w 2538360"/>
              <a:gd name="textAreaRight" fmla="*/ 2538720 w 2538360"/>
              <a:gd name="textAreaTop" fmla="*/ 0 h 2536920"/>
              <a:gd name="textAreaBottom" fmla="*/ 2537280 h 2536920"/>
            </a:gdLst>
            <a:ahLst/>
            <a:rect l="textAreaLeft" t="textAreaTop" r="textAreaRight" b="textAreaBottom"/>
            <a:pathLst>
              <a:path w="3996" h="3996">
                <a:moveTo>
                  <a:pt x="0" y="3996"/>
                </a:moveTo>
                <a:cubicBezTo>
                  <a:pt x="4" y="3992"/>
                  <a:pt x="4" y="3992"/>
                  <a:pt x="4" y="3992"/>
                </a:cubicBezTo>
                <a:cubicBezTo>
                  <a:pt x="12" y="3984"/>
                  <a:pt x="12" y="3984"/>
                  <a:pt x="12" y="3984"/>
                </a:cubicBezTo>
                <a:cubicBezTo>
                  <a:pt x="16" y="3980"/>
                  <a:pt x="16" y="3980"/>
                  <a:pt x="16" y="3980"/>
                </a:cubicBezTo>
                <a:cubicBezTo>
                  <a:pt x="20" y="3976"/>
                  <a:pt x="20" y="3976"/>
                  <a:pt x="20" y="3976"/>
                </a:cubicBezTo>
                <a:cubicBezTo>
                  <a:pt x="24" y="3972"/>
                  <a:pt x="24" y="3972"/>
                  <a:pt x="24" y="3972"/>
                </a:cubicBezTo>
                <a:cubicBezTo>
                  <a:pt x="28" y="3968"/>
                  <a:pt x="28" y="3968"/>
                  <a:pt x="28" y="3968"/>
                </a:cubicBezTo>
                <a:cubicBezTo>
                  <a:pt x="32" y="3964"/>
                  <a:pt x="32" y="3964"/>
                  <a:pt x="32" y="3964"/>
                </a:cubicBezTo>
                <a:cubicBezTo>
                  <a:pt x="36" y="3960"/>
                  <a:pt x="36" y="3960"/>
                  <a:pt x="36" y="3960"/>
                </a:cubicBezTo>
                <a:cubicBezTo>
                  <a:pt x="40" y="3956"/>
                  <a:pt x="40" y="3956"/>
                  <a:pt x="40" y="3956"/>
                </a:cubicBezTo>
                <a:cubicBezTo>
                  <a:pt x="44" y="3952"/>
                  <a:pt x="44" y="3952"/>
                  <a:pt x="44" y="3952"/>
                </a:cubicBezTo>
                <a:cubicBezTo>
                  <a:pt x="48" y="3948"/>
                  <a:pt x="48" y="3948"/>
                  <a:pt x="48" y="3948"/>
                </a:cubicBezTo>
                <a:cubicBezTo>
                  <a:pt x="52" y="3944"/>
                  <a:pt x="52" y="3944"/>
                  <a:pt x="52" y="3944"/>
                </a:cubicBezTo>
                <a:cubicBezTo>
                  <a:pt x="56" y="3940"/>
                  <a:pt x="56" y="3940"/>
                  <a:pt x="56" y="3940"/>
                </a:cubicBezTo>
                <a:cubicBezTo>
                  <a:pt x="60" y="3936"/>
                  <a:pt x="60" y="3936"/>
                  <a:pt x="60" y="3936"/>
                </a:cubicBezTo>
                <a:cubicBezTo>
                  <a:pt x="64" y="3932"/>
                  <a:pt x="64" y="3932"/>
                  <a:pt x="64" y="3932"/>
                </a:cubicBezTo>
                <a:cubicBezTo>
                  <a:pt x="68" y="3928"/>
                  <a:pt x="68" y="3928"/>
                  <a:pt x="68" y="3928"/>
                </a:cubicBezTo>
                <a:cubicBezTo>
                  <a:pt x="72" y="3924"/>
                  <a:pt x="72" y="3924"/>
                  <a:pt x="72" y="3924"/>
                </a:cubicBezTo>
                <a:cubicBezTo>
                  <a:pt x="80" y="3916"/>
                  <a:pt x="80" y="3916"/>
                  <a:pt x="80" y="3916"/>
                </a:cubicBezTo>
                <a:cubicBezTo>
                  <a:pt x="84" y="3912"/>
                  <a:pt x="84" y="3912"/>
                  <a:pt x="84" y="3912"/>
                </a:cubicBezTo>
                <a:cubicBezTo>
                  <a:pt x="88" y="3908"/>
                  <a:pt x="88" y="3908"/>
                  <a:pt x="88" y="3908"/>
                </a:cubicBezTo>
                <a:cubicBezTo>
                  <a:pt x="92" y="3904"/>
                  <a:pt x="92" y="3904"/>
                  <a:pt x="92" y="3904"/>
                </a:cubicBezTo>
                <a:cubicBezTo>
                  <a:pt x="96" y="3900"/>
                  <a:pt x="96" y="3900"/>
                  <a:pt x="96" y="3900"/>
                </a:cubicBezTo>
                <a:cubicBezTo>
                  <a:pt x="100" y="3896"/>
                  <a:pt x="100" y="3896"/>
                  <a:pt x="100" y="3896"/>
                </a:cubicBezTo>
                <a:cubicBezTo>
                  <a:pt x="104" y="3892"/>
                  <a:pt x="104" y="3892"/>
                  <a:pt x="104" y="3892"/>
                </a:cubicBezTo>
                <a:cubicBezTo>
                  <a:pt x="108" y="3888"/>
                  <a:pt x="108" y="3888"/>
                  <a:pt x="108" y="3888"/>
                </a:cubicBezTo>
                <a:cubicBezTo>
                  <a:pt x="112" y="3884"/>
                  <a:pt x="112" y="3884"/>
                  <a:pt x="112" y="3884"/>
                </a:cubicBezTo>
                <a:cubicBezTo>
                  <a:pt x="116" y="3880"/>
                  <a:pt x="116" y="3880"/>
                  <a:pt x="116" y="3880"/>
                </a:cubicBezTo>
                <a:cubicBezTo>
                  <a:pt x="120" y="3876"/>
                  <a:pt x="120" y="3876"/>
                  <a:pt x="120" y="3876"/>
                </a:cubicBezTo>
                <a:cubicBezTo>
                  <a:pt x="124" y="3872"/>
                  <a:pt x="124" y="3872"/>
                  <a:pt x="124" y="3872"/>
                </a:cubicBezTo>
                <a:cubicBezTo>
                  <a:pt x="128" y="3868"/>
                  <a:pt x="128" y="3868"/>
                  <a:pt x="128" y="3868"/>
                </a:cubicBezTo>
                <a:cubicBezTo>
                  <a:pt x="132" y="3864"/>
                  <a:pt x="132" y="3864"/>
                  <a:pt x="132" y="3864"/>
                </a:cubicBezTo>
                <a:cubicBezTo>
                  <a:pt x="136" y="3860"/>
                  <a:pt x="136" y="3860"/>
                  <a:pt x="136" y="3860"/>
                </a:cubicBezTo>
                <a:cubicBezTo>
                  <a:pt x="140" y="3856"/>
                  <a:pt x="140" y="3856"/>
                  <a:pt x="140" y="3856"/>
                </a:cubicBezTo>
                <a:cubicBezTo>
                  <a:pt x="148" y="3848"/>
                  <a:pt x="148" y="3848"/>
                  <a:pt x="148" y="3848"/>
                </a:cubicBezTo>
                <a:cubicBezTo>
                  <a:pt x="152" y="3844"/>
                  <a:pt x="152" y="3844"/>
                  <a:pt x="152" y="3844"/>
                </a:cubicBezTo>
                <a:cubicBezTo>
                  <a:pt x="156" y="3840"/>
                  <a:pt x="156" y="3840"/>
                  <a:pt x="156" y="3840"/>
                </a:cubicBezTo>
                <a:cubicBezTo>
                  <a:pt x="160" y="3836"/>
                  <a:pt x="160" y="3836"/>
                  <a:pt x="160" y="3836"/>
                </a:cubicBezTo>
                <a:cubicBezTo>
                  <a:pt x="164" y="3832"/>
                  <a:pt x="164" y="3832"/>
                  <a:pt x="164" y="3832"/>
                </a:cubicBezTo>
                <a:cubicBezTo>
                  <a:pt x="168" y="3828"/>
                  <a:pt x="168" y="3828"/>
                  <a:pt x="168" y="3828"/>
                </a:cubicBezTo>
                <a:cubicBezTo>
                  <a:pt x="172" y="3824"/>
                  <a:pt x="172" y="3824"/>
                  <a:pt x="172" y="3824"/>
                </a:cubicBezTo>
                <a:cubicBezTo>
                  <a:pt x="176" y="3820"/>
                  <a:pt x="176" y="3820"/>
                  <a:pt x="176" y="3820"/>
                </a:cubicBezTo>
                <a:cubicBezTo>
                  <a:pt x="180" y="3816"/>
                  <a:pt x="180" y="3816"/>
                  <a:pt x="180" y="3816"/>
                </a:cubicBezTo>
                <a:cubicBezTo>
                  <a:pt x="184" y="3812"/>
                  <a:pt x="184" y="3812"/>
                  <a:pt x="184" y="3812"/>
                </a:cubicBezTo>
                <a:cubicBezTo>
                  <a:pt x="188" y="3808"/>
                  <a:pt x="188" y="3808"/>
                  <a:pt x="188" y="3808"/>
                </a:cubicBezTo>
                <a:cubicBezTo>
                  <a:pt x="192" y="3804"/>
                  <a:pt x="192" y="3804"/>
                  <a:pt x="192" y="3804"/>
                </a:cubicBezTo>
                <a:cubicBezTo>
                  <a:pt x="196" y="3800"/>
                  <a:pt x="196" y="3800"/>
                  <a:pt x="196" y="3800"/>
                </a:cubicBezTo>
                <a:cubicBezTo>
                  <a:pt x="200" y="3796"/>
                  <a:pt x="200" y="3796"/>
                  <a:pt x="200" y="3796"/>
                </a:cubicBezTo>
                <a:cubicBezTo>
                  <a:pt x="204" y="3792"/>
                  <a:pt x="204" y="3792"/>
                  <a:pt x="204" y="3792"/>
                </a:cubicBezTo>
                <a:cubicBezTo>
                  <a:pt x="208" y="3788"/>
                  <a:pt x="208" y="3788"/>
                  <a:pt x="208" y="3788"/>
                </a:cubicBezTo>
                <a:cubicBezTo>
                  <a:pt x="216" y="3780"/>
                  <a:pt x="216" y="3780"/>
                  <a:pt x="216" y="3780"/>
                </a:cubicBezTo>
                <a:cubicBezTo>
                  <a:pt x="220" y="3776"/>
                  <a:pt x="220" y="3776"/>
                  <a:pt x="220" y="3776"/>
                </a:cubicBezTo>
                <a:cubicBezTo>
                  <a:pt x="224" y="3772"/>
                  <a:pt x="224" y="3772"/>
                  <a:pt x="224" y="3772"/>
                </a:cubicBezTo>
                <a:cubicBezTo>
                  <a:pt x="228" y="3768"/>
                  <a:pt x="228" y="3768"/>
                  <a:pt x="228" y="3768"/>
                </a:cubicBezTo>
                <a:cubicBezTo>
                  <a:pt x="232" y="3764"/>
                  <a:pt x="232" y="3764"/>
                  <a:pt x="232" y="3764"/>
                </a:cubicBezTo>
                <a:cubicBezTo>
                  <a:pt x="236" y="3760"/>
                  <a:pt x="236" y="3760"/>
                  <a:pt x="236" y="3760"/>
                </a:cubicBezTo>
                <a:cubicBezTo>
                  <a:pt x="240" y="3756"/>
                  <a:pt x="240" y="3756"/>
                  <a:pt x="240" y="3756"/>
                </a:cubicBezTo>
                <a:cubicBezTo>
                  <a:pt x="244" y="3752"/>
                  <a:pt x="244" y="3752"/>
                  <a:pt x="244" y="3752"/>
                </a:cubicBezTo>
                <a:cubicBezTo>
                  <a:pt x="248" y="3748"/>
                  <a:pt x="248" y="3748"/>
                  <a:pt x="248" y="3748"/>
                </a:cubicBezTo>
                <a:cubicBezTo>
                  <a:pt x="252" y="3744"/>
                  <a:pt x="252" y="3744"/>
                  <a:pt x="252" y="3744"/>
                </a:cubicBezTo>
                <a:cubicBezTo>
                  <a:pt x="256" y="3740"/>
                  <a:pt x="256" y="3740"/>
                  <a:pt x="256" y="3740"/>
                </a:cubicBezTo>
                <a:cubicBezTo>
                  <a:pt x="260" y="3736"/>
                  <a:pt x="260" y="3736"/>
                  <a:pt x="260" y="3736"/>
                </a:cubicBezTo>
                <a:cubicBezTo>
                  <a:pt x="264" y="3732"/>
                  <a:pt x="264" y="3732"/>
                  <a:pt x="264" y="3732"/>
                </a:cubicBezTo>
                <a:cubicBezTo>
                  <a:pt x="268" y="3728"/>
                  <a:pt x="268" y="3728"/>
                  <a:pt x="268" y="3728"/>
                </a:cubicBezTo>
                <a:cubicBezTo>
                  <a:pt x="272" y="3724"/>
                  <a:pt x="272" y="3724"/>
                  <a:pt x="272" y="3724"/>
                </a:cubicBezTo>
                <a:cubicBezTo>
                  <a:pt x="276" y="3720"/>
                  <a:pt x="276" y="3720"/>
                  <a:pt x="276" y="3720"/>
                </a:cubicBezTo>
                <a:cubicBezTo>
                  <a:pt x="284" y="3712"/>
                  <a:pt x="284" y="3712"/>
                  <a:pt x="284" y="3712"/>
                </a:cubicBezTo>
                <a:cubicBezTo>
                  <a:pt x="288" y="3708"/>
                  <a:pt x="288" y="3708"/>
                  <a:pt x="288" y="3708"/>
                </a:cubicBezTo>
                <a:cubicBezTo>
                  <a:pt x="292" y="3704"/>
                  <a:pt x="292" y="3704"/>
                  <a:pt x="292" y="3704"/>
                </a:cubicBezTo>
                <a:cubicBezTo>
                  <a:pt x="296" y="3700"/>
                  <a:pt x="296" y="3700"/>
                  <a:pt x="296" y="3700"/>
                </a:cubicBezTo>
                <a:cubicBezTo>
                  <a:pt x="300" y="3696"/>
                  <a:pt x="300" y="3696"/>
                  <a:pt x="300" y="3696"/>
                </a:cubicBezTo>
                <a:cubicBezTo>
                  <a:pt x="304" y="3692"/>
                  <a:pt x="304" y="3692"/>
                  <a:pt x="304" y="3692"/>
                </a:cubicBezTo>
                <a:cubicBezTo>
                  <a:pt x="308" y="3688"/>
                  <a:pt x="308" y="3688"/>
                  <a:pt x="308" y="3688"/>
                </a:cubicBezTo>
                <a:cubicBezTo>
                  <a:pt x="312" y="3684"/>
                  <a:pt x="312" y="3684"/>
                  <a:pt x="312" y="3684"/>
                </a:cubicBezTo>
                <a:cubicBezTo>
                  <a:pt x="316" y="3680"/>
                  <a:pt x="316" y="3680"/>
                  <a:pt x="316" y="3680"/>
                </a:cubicBezTo>
                <a:cubicBezTo>
                  <a:pt x="324" y="3672"/>
                  <a:pt x="324" y="3672"/>
                  <a:pt x="324" y="3672"/>
                </a:cubicBezTo>
                <a:cubicBezTo>
                  <a:pt x="328" y="3668"/>
                  <a:pt x="328" y="3668"/>
                  <a:pt x="328" y="3668"/>
                </a:cubicBezTo>
                <a:cubicBezTo>
                  <a:pt x="332" y="3664"/>
                  <a:pt x="332" y="3664"/>
                  <a:pt x="332" y="3664"/>
                </a:cubicBezTo>
                <a:cubicBezTo>
                  <a:pt x="336" y="3660"/>
                  <a:pt x="336" y="3660"/>
                  <a:pt x="336" y="3660"/>
                </a:cubicBezTo>
                <a:cubicBezTo>
                  <a:pt x="340" y="3656"/>
                  <a:pt x="340" y="3656"/>
                  <a:pt x="340" y="3656"/>
                </a:cubicBezTo>
                <a:cubicBezTo>
                  <a:pt x="344" y="3652"/>
                  <a:pt x="344" y="3652"/>
                  <a:pt x="344" y="3652"/>
                </a:cubicBezTo>
                <a:cubicBezTo>
                  <a:pt x="352" y="3644"/>
                  <a:pt x="352" y="3644"/>
                  <a:pt x="352" y="3644"/>
                </a:cubicBezTo>
                <a:cubicBezTo>
                  <a:pt x="356" y="3640"/>
                  <a:pt x="356" y="3640"/>
                  <a:pt x="356" y="3640"/>
                </a:cubicBezTo>
                <a:cubicBezTo>
                  <a:pt x="360" y="3636"/>
                  <a:pt x="360" y="3636"/>
                  <a:pt x="360" y="3636"/>
                </a:cubicBezTo>
                <a:cubicBezTo>
                  <a:pt x="364" y="3632"/>
                  <a:pt x="364" y="3632"/>
                  <a:pt x="364" y="3632"/>
                </a:cubicBezTo>
                <a:cubicBezTo>
                  <a:pt x="368" y="3628"/>
                  <a:pt x="368" y="3628"/>
                  <a:pt x="368" y="3628"/>
                </a:cubicBezTo>
                <a:cubicBezTo>
                  <a:pt x="372" y="3624"/>
                  <a:pt x="372" y="3624"/>
                  <a:pt x="372" y="3624"/>
                </a:cubicBezTo>
                <a:cubicBezTo>
                  <a:pt x="376" y="3620"/>
                  <a:pt x="376" y="3620"/>
                  <a:pt x="376" y="3620"/>
                </a:cubicBezTo>
                <a:cubicBezTo>
                  <a:pt x="380" y="3616"/>
                  <a:pt x="380" y="3616"/>
                  <a:pt x="380" y="3616"/>
                </a:cubicBezTo>
                <a:cubicBezTo>
                  <a:pt x="384" y="3612"/>
                  <a:pt x="384" y="3612"/>
                  <a:pt x="384" y="3612"/>
                </a:cubicBezTo>
                <a:cubicBezTo>
                  <a:pt x="392" y="3604"/>
                  <a:pt x="392" y="3604"/>
                  <a:pt x="392" y="3604"/>
                </a:cubicBezTo>
                <a:cubicBezTo>
                  <a:pt x="396" y="3600"/>
                  <a:pt x="396" y="3600"/>
                  <a:pt x="396" y="3600"/>
                </a:cubicBezTo>
                <a:cubicBezTo>
                  <a:pt x="400" y="3596"/>
                  <a:pt x="400" y="3596"/>
                  <a:pt x="400" y="3596"/>
                </a:cubicBezTo>
                <a:cubicBezTo>
                  <a:pt x="404" y="3592"/>
                  <a:pt x="404" y="3592"/>
                  <a:pt x="404" y="3592"/>
                </a:cubicBezTo>
                <a:cubicBezTo>
                  <a:pt x="408" y="3588"/>
                  <a:pt x="408" y="3588"/>
                  <a:pt x="408" y="3588"/>
                </a:cubicBezTo>
                <a:cubicBezTo>
                  <a:pt x="412" y="3584"/>
                  <a:pt x="412" y="3584"/>
                  <a:pt x="412" y="3584"/>
                </a:cubicBezTo>
                <a:cubicBezTo>
                  <a:pt x="420" y="3576"/>
                  <a:pt x="420" y="3576"/>
                  <a:pt x="420" y="3576"/>
                </a:cubicBezTo>
                <a:cubicBezTo>
                  <a:pt x="424" y="3572"/>
                  <a:pt x="424" y="3572"/>
                  <a:pt x="424" y="3572"/>
                </a:cubicBezTo>
                <a:cubicBezTo>
                  <a:pt x="428" y="3568"/>
                  <a:pt x="428" y="3568"/>
                  <a:pt x="428" y="3568"/>
                </a:cubicBezTo>
                <a:cubicBezTo>
                  <a:pt x="432" y="3564"/>
                  <a:pt x="432" y="3564"/>
                  <a:pt x="432" y="3564"/>
                </a:cubicBezTo>
                <a:cubicBezTo>
                  <a:pt x="436" y="3560"/>
                  <a:pt x="436" y="3560"/>
                  <a:pt x="436" y="3560"/>
                </a:cubicBezTo>
                <a:cubicBezTo>
                  <a:pt x="440" y="3556"/>
                  <a:pt x="440" y="3556"/>
                  <a:pt x="440" y="3556"/>
                </a:cubicBezTo>
                <a:cubicBezTo>
                  <a:pt x="444" y="3552"/>
                  <a:pt x="444" y="3552"/>
                  <a:pt x="444" y="3552"/>
                </a:cubicBezTo>
                <a:cubicBezTo>
                  <a:pt x="448" y="3548"/>
                  <a:pt x="448" y="3548"/>
                  <a:pt x="448" y="3548"/>
                </a:cubicBezTo>
                <a:cubicBezTo>
                  <a:pt x="452" y="3544"/>
                  <a:pt x="452" y="3544"/>
                  <a:pt x="452" y="3544"/>
                </a:cubicBezTo>
                <a:cubicBezTo>
                  <a:pt x="460" y="3536"/>
                  <a:pt x="460" y="3536"/>
                  <a:pt x="460" y="3536"/>
                </a:cubicBezTo>
                <a:cubicBezTo>
                  <a:pt x="464" y="3532"/>
                  <a:pt x="464" y="3532"/>
                  <a:pt x="464" y="3532"/>
                </a:cubicBezTo>
                <a:cubicBezTo>
                  <a:pt x="468" y="3528"/>
                  <a:pt x="468" y="3528"/>
                  <a:pt x="468" y="3528"/>
                </a:cubicBezTo>
                <a:cubicBezTo>
                  <a:pt x="472" y="3524"/>
                  <a:pt x="472" y="3524"/>
                  <a:pt x="472" y="3524"/>
                </a:cubicBezTo>
                <a:cubicBezTo>
                  <a:pt x="476" y="3520"/>
                  <a:pt x="476" y="3520"/>
                  <a:pt x="476" y="3520"/>
                </a:cubicBezTo>
                <a:cubicBezTo>
                  <a:pt x="480" y="3516"/>
                  <a:pt x="480" y="3516"/>
                  <a:pt x="480" y="3516"/>
                </a:cubicBezTo>
                <a:cubicBezTo>
                  <a:pt x="484" y="3512"/>
                  <a:pt x="484" y="3512"/>
                  <a:pt x="484" y="3512"/>
                </a:cubicBezTo>
                <a:cubicBezTo>
                  <a:pt x="488" y="3508"/>
                  <a:pt x="488" y="3508"/>
                  <a:pt x="488" y="3508"/>
                </a:cubicBezTo>
                <a:cubicBezTo>
                  <a:pt x="492" y="3504"/>
                  <a:pt x="492" y="3504"/>
                  <a:pt x="492" y="3504"/>
                </a:cubicBezTo>
                <a:cubicBezTo>
                  <a:pt x="496" y="3500"/>
                  <a:pt x="496" y="3500"/>
                  <a:pt x="496" y="3500"/>
                </a:cubicBezTo>
                <a:cubicBezTo>
                  <a:pt x="500" y="3496"/>
                  <a:pt x="500" y="3496"/>
                  <a:pt x="500" y="3496"/>
                </a:cubicBezTo>
                <a:cubicBezTo>
                  <a:pt x="504" y="3492"/>
                  <a:pt x="504" y="3492"/>
                  <a:pt x="504" y="3492"/>
                </a:cubicBezTo>
                <a:cubicBezTo>
                  <a:pt x="508" y="3488"/>
                  <a:pt x="508" y="3488"/>
                  <a:pt x="508" y="3488"/>
                </a:cubicBezTo>
                <a:cubicBezTo>
                  <a:pt x="512" y="3484"/>
                  <a:pt x="512" y="3484"/>
                  <a:pt x="512" y="3484"/>
                </a:cubicBezTo>
                <a:cubicBezTo>
                  <a:pt x="516" y="3480"/>
                  <a:pt x="516" y="3480"/>
                  <a:pt x="516" y="3480"/>
                </a:cubicBezTo>
                <a:cubicBezTo>
                  <a:pt x="520" y="3476"/>
                  <a:pt x="520" y="3476"/>
                  <a:pt x="520" y="3476"/>
                </a:cubicBezTo>
                <a:cubicBezTo>
                  <a:pt x="528" y="3468"/>
                  <a:pt x="528" y="3468"/>
                  <a:pt x="528" y="3468"/>
                </a:cubicBezTo>
                <a:cubicBezTo>
                  <a:pt x="532" y="3464"/>
                  <a:pt x="532" y="3464"/>
                  <a:pt x="532" y="3464"/>
                </a:cubicBezTo>
                <a:cubicBezTo>
                  <a:pt x="536" y="3460"/>
                  <a:pt x="536" y="3460"/>
                  <a:pt x="536" y="3460"/>
                </a:cubicBezTo>
                <a:cubicBezTo>
                  <a:pt x="540" y="3456"/>
                  <a:pt x="540" y="3456"/>
                  <a:pt x="540" y="3456"/>
                </a:cubicBezTo>
                <a:cubicBezTo>
                  <a:pt x="544" y="3452"/>
                  <a:pt x="544" y="3452"/>
                  <a:pt x="544" y="3452"/>
                </a:cubicBezTo>
                <a:cubicBezTo>
                  <a:pt x="548" y="3448"/>
                  <a:pt x="548" y="3448"/>
                  <a:pt x="548" y="3448"/>
                </a:cubicBezTo>
                <a:cubicBezTo>
                  <a:pt x="552" y="3444"/>
                  <a:pt x="552" y="3444"/>
                  <a:pt x="552" y="3444"/>
                </a:cubicBezTo>
                <a:cubicBezTo>
                  <a:pt x="556" y="3440"/>
                  <a:pt x="556" y="3440"/>
                  <a:pt x="556" y="3440"/>
                </a:cubicBezTo>
                <a:cubicBezTo>
                  <a:pt x="560" y="3436"/>
                  <a:pt x="560" y="3436"/>
                  <a:pt x="560" y="3436"/>
                </a:cubicBezTo>
                <a:cubicBezTo>
                  <a:pt x="564" y="3432"/>
                  <a:pt x="564" y="3432"/>
                  <a:pt x="564" y="3432"/>
                </a:cubicBezTo>
                <a:cubicBezTo>
                  <a:pt x="568" y="3428"/>
                  <a:pt x="568" y="3428"/>
                  <a:pt x="568" y="3428"/>
                </a:cubicBezTo>
                <a:cubicBezTo>
                  <a:pt x="572" y="3424"/>
                  <a:pt x="572" y="3424"/>
                  <a:pt x="572" y="3424"/>
                </a:cubicBezTo>
                <a:cubicBezTo>
                  <a:pt x="576" y="3420"/>
                  <a:pt x="576" y="3420"/>
                  <a:pt x="576" y="3420"/>
                </a:cubicBezTo>
                <a:cubicBezTo>
                  <a:pt x="580" y="3416"/>
                  <a:pt x="580" y="3416"/>
                  <a:pt x="580" y="3416"/>
                </a:cubicBezTo>
                <a:cubicBezTo>
                  <a:pt x="584" y="3412"/>
                  <a:pt x="584" y="3412"/>
                  <a:pt x="584" y="3412"/>
                </a:cubicBezTo>
                <a:cubicBezTo>
                  <a:pt x="588" y="3408"/>
                  <a:pt x="588" y="3408"/>
                  <a:pt x="588" y="3408"/>
                </a:cubicBezTo>
                <a:cubicBezTo>
                  <a:pt x="596" y="3400"/>
                  <a:pt x="596" y="3400"/>
                  <a:pt x="596" y="3400"/>
                </a:cubicBezTo>
                <a:cubicBezTo>
                  <a:pt x="600" y="3396"/>
                  <a:pt x="600" y="3396"/>
                  <a:pt x="600" y="3396"/>
                </a:cubicBezTo>
                <a:cubicBezTo>
                  <a:pt x="604" y="3392"/>
                  <a:pt x="604" y="3392"/>
                  <a:pt x="604" y="3392"/>
                </a:cubicBezTo>
                <a:cubicBezTo>
                  <a:pt x="608" y="3388"/>
                  <a:pt x="608" y="3388"/>
                  <a:pt x="608" y="3388"/>
                </a:cubicBezTo>
                <a:cubicBezTo>
                  <a:pt x="612" y="3384"/>
                  <a:pt x="612" y="3384"/>
                  <a:pt x="612" y="3384"/>
                </a:cubicBezTo>
                <a:cubicBezTo>
                  <a:pt x="616" y="3380"/>
                  <a:pt x="616" y="3380"/>
                  <a:pt x="616" y="3380"/>
                </a:cubicBezTo>
                <a:cubicBezTo>
                  <a:pt x="620" y="3376"/>
                  <a:pt x="620" y="3376"/>
                  <a:pt x="620" y="3376"/>
                </a:cubicBezTo>
                <a:cubicBezTo>
                  <a:pt x="624" y="3372"/>
                  <a:pt x="624" y="3372"/>
                  <a:pt x="624" y="3372"/>
                </a:cubicBezTo>
                <a:cubicBezTo>
                  <a:pt x="628" y="3368"/>
                  <a:pt x="628" y="3368"/>
                  <a:pt x="628" y="3368"/>
                </a:cubicBezTo>
                <a:cubicBezTo>
                  <a:pt x="632" y="3364"/>
                  <a:pt x="632" y="3364"/>
                  <a:pt x="632" y="3364"/>
                </a:cubicBezTo>
                <a:cubicBezTo>
                  <a:pt x="636" y="3360"/>
                  <a:pt x="636" y="3360"/>
                  <a:pt x="636" y="3360"/>
                </a:cubicBezTo>
                <a:cubicBezTo>
                  <a:pt x="640" y="3356"/>
                  <a:pt x="640" y="3356"/>
                  <a:pt x="640" y="3356"/>
                </a:cubicBezTo>
                <a:cubicBezTo>
                  <a:pt x="644" y="3352"/>
                  <a:pt x="644" y="3352"/>
                  <a:pt x="644" y="3352"/>
                </a:cubicBezTo>
                <a:cubicBezTo>
                  <a:pt x="648" y="3348"/>
                  <a:pt x="648" y="3348"/>
                  <a:pt x="648" y="3348"/>
                </a:cubicBezTo>
                <a:cubicBezTo>
                  <a:pt x="652" y="3344"/>
                  <a:pt x="652" y="3344"/>
                  <a:pt x="652" y="3344"/>
                </a:cubicBezTo>
                <a:cubicBezTo>
                  <a:pt x="656" y="3340"/>
                  <a:pt x="656" y="3340"/>
                  <a:pt x="656" y="3340"/>
                </a:cubicBezTo>
                <a:cubicBezTo>
                  <a:pt x="664" y="3332"/>
                  <a:pt x="664" y="3332"/>
                  <a:pt x="664" y="3332"/>
                </a:cubicBezTo>
                <a:cubicBezTo>
                  <a:pt x="668" y="3328"/>
                  <a:pt x="668" y="3328"/>
                  <a:pt x="668" y="3328"/>
                </a:cubicBezTo>
                <a:cubicBezTo>
                  <a:pt x="672" y="3324"/>
                  <a:pt x="672" y="3324"/>
                  <a:pt x="672" y="3324"/>
                </a:cubicBezTo>
                <a:cubicBezTo>
                  <a:pt x="676" y="3320"/>
                  <a:pt x="676" y="3320"/>
                  <a:pt x="676" y="3320"/>
                </a:cubicBezTo>
                <a:cubicBezTo>
                  <a:pt x="680" y="3316"/>
                  <a:pt x="680" y="3316"/>
                  <a:pt x="680" y="3316"/>
                </a:cubicBezTo>
                <a:cubicBezTo>
                  <a:pt x="684" y="3312"/>
                  <a:pt x="684" y="3312"/>
                  <a:pt x="684" y="3312"/>
                </a:cubicBezTo>
                <a:cubicBezTo>
                  <a:pt x="688" y="3308"/>
                  <a:pt x="688" y="3308"/>
                  <a:pt x="688" y="3308"/>
                </a:cubicBezTo>
                <a:cubicBezTo>
                  <a:pt x="692" y="3304"/>
                  <a:pt x="692" y="3304"/>
                  <a:pt x="692" y="3304"/>
                </a:cubicBezTo>
                <a:cubicBezTo>
                  <a:pt x="696" y="3300"/>
                  <a:pt x="696" y="3300"/>
                  <a:pt x="696" y="3300"/>
                </a:cubicBezTo>
                <a:cubicBezTo>
                  <a:pt x="700" y="3296"/>
                  <a:pt x="700" y="3296"/>
                  <a:pt x="700" y="3296"/>
                </a:cubicBezTo>
                <a:cubicBezTo>
                  <a:pt x="704" y="3292"/>
                  <a:pt x="704" y="3292"/>
                  <a:pt x="704" y="3292"/>
                </a:cubicBezTo>
                <a:cubicBezTo>
                  <a:pt x="708" y="3288"/>
                  <a:pt x="708" y="3288"/>
                  <a:pt x="708" y="3288"/>
                </a:cubicBezTo>
                <a:cubicBezTo>
                  <a:pt x="712" y="3284"/>
                  <a:pt x="712" y="3284"/>
                  <a:pt x="712" y="3284"/>
                </a:cubicBezTo>
                <a:cubicBezTo>
                  <a:pt x="716" y="3280"/>
                  <a:pt x="716" y="3280"/>
                  <a:pt x="716" y="3280"/>
                </a:cubicBezTo>
                <a:cubicBezTo>
                  <a:pt x="720" y="3276"/>
                  <a:pt x="720" y="3276"/>
                  <a:pt x="720" y="3276"/>
                </a:cubicBezTo>
                <a:cubicBezTo>
                  <a:pt x="724" y="3272"/>
                  <a:pt x="724" y="3272"/>
                  <a:pt x="724" y="3272"/>
                </a:cubicBezTo>
                <a:cubicBezTo>
                  <a:pt x="732" y="3264"/>
                  <a:pt x="732" y="3264"/>
                  <a:pt x="732" y="3264"/>
                </a:cubicBezTo>
                <a:cubicBezTo>
                  <a:pt x="736" y="3260"/>
                  <a:pt x="736" y="3260"/>
                  <a:pt x="736" y="3260"/>
                </a:cubicBezTo>
                <a:cubicBezTo>
                  <a:pt x="740" y="3256"/>
                  <a:pt x="740" y="3256"/>
                  <a:pt x="740" y="3256"/>
                </a:cubicBezTo>
                <a:cubicBezTo>
                  <a:pt x="744" y="3252"/>
                  <a:pt x="744" y="3252"/>
                  <a:pt x="744" y="3252"/>
                </a:cubicBezTo>
                <a:cubicBezTo>
                  <a:pt x="748" y="3248"/>
                  <a:pt x="748" y="3248"/>
                  <a:pt x="748" y="3248"/>
                </a:cubicBezTo>
                <a:cubicBezTo>
                  <a:pt x="752" y="3244"/>
                  <a:pt x="752" y="3244"/>
                  <a:pt x="752" y="3244"/>
                </a:cubicBezTo>
                <a:cubicBezTo>
                  <a:pt x="756" y="3240"/>
                  <a:pt x="756" y="3240"/>
                  <a:pt x="756" y="3240"/>
                </a:cubicBezTo>
                <a:cubicBezTo>
                  <a:pt x="760" y="3236"/>
                  <a:pt x="760" y="3236"/>
                  <a:pt x="760" y="3236"/>
                </a:cubicBezTo>
                <a:cubicBezTo>
                  <a:pt x="764" y="3232"/>
                  <a:pt x="764" y="3232"/>
                  <a:pt x="764" y="3232"/>
                </a:cubicBezTo>
                <a:cubicBezTo>
                  <a:pt x="768" y="3228"/>
                  <a:pt x="768" y="3228"/>
                  <a:pt x="768" y="3228"/>
                </a:cubicBezTo>
                <a:cubicBezTo>
                  <a:pt x="772" y="3224"/>
                  <a:pt x="772" y="3224"/>
                  <a:pt x="772" y="3224"/>
                </a:cubicBezTo>
                <a:cubicBezTo>
                  <a:pt x="776" y="3220"/>
                  <a:pt x="776" y="3220"/>
                  <a:pt x="776" y="3220"/>
                </a:cubicBezTo>
                <a:cubicBezTo>
                  <a:pt x="780" y="3216"/>
                  <a:pt x="780" y="3216"/>
                  <a:pt x="780" y="3216"/>
                </a:cubicBezTo>
                <a:cubicBezTo>
                  <a:pt x="784" y="3212"/>
                  <a:pt x="784" y="3212"/>
                  <a:pt x="784" y="3212"/>
                </a:cubicBezTo>
                <a:cubicBezTo>
                  <a:pt x="788" y="3208"/>
                  <a:pt x="788" y="3208"/>
                  <a:pt x="788" y="3208"/>
                </a:cubicBezTo>
                <a:cubicBezTo>
                  <a:pt x="792" y="3204"/>
                  <a:pt x="792" y="3204"/>
                  <a:pt x="792" y="3204"/>
                </a:cubicBezTo>
                <a:cubicBezTo>
                  <a:pt x="800" y="3196"/>
                  <a:pt x="800" y="3196"/>
                  <a:pt x="800" y="3196"/>
                </a:cubicBezTo>
                <a:cubicBezTo>
                  <a:pt x="804" y="3192"/>
                  <a:pt x="804" y="3192"/>
                  <a:pt x="804" y="3192"/>
                </a:cubicBezTo>
                <a:cubicBezTo>
                  <a:pt x="808" y="3188"/>
                  <a:pt x="808" y="3188"/>
                  <a:pt x="808" y="3188"/>
                </a:cubicBezTo>
                <a:cubicBezTo>
                  <a:pt x="812" y="3184"/>
                  <a:pt x="812" y="3184"/>
                  <a:pt x="812" y="3184"/>
                </a:cubicBezTo>
                <a:cubicBezTo>
                  <a:pt x="816" y="3180"/>
                  <a:pt x="816" y="3180"/>
                  <a:pt x="816" y="3180"/>
                </a:cubicBezTo>
                <a:cubicBezTo>
                  <a:pt x="820" y="3176"/>
                  <a:pt x="820" y="3176"/>
                  <a:pt x="820" y="3176"/>
                </a:cubicBezTo>
                <a:cubicBezTo>
                  <a:pt x="824" y="3172"/>
                  <a:pt x="824" y="3172"/>
                  <a:pt x="824" y="3172"/>
                </a:cubicBezTo>
                <a:cubicBezTo>
                  <a:pt x="828" y="3168"/>
                  <a:pt x="828" y="3168"/>
                  <a:pt x="828" y="3168"/>
                </a:cubicBezTo>
                <a:cubicBezTo>
                  <a:pt x="832" y="3164"/>
                  <a:pt x="832" y="3164"/>
                  <a:pt x="832" y="3164"/>
                </a:cubicBezTo>
                <a:cubicBezTo>
                  <a:pt x="836" y="3160"/>
                  <a:pt x="836" y="3160"/>
                  <a:pt x="836" y="3160"/>
                </a:cubicBezTo>
                <a:cubicBezTo>
                  <a:pt x="840" y="3156"/>
                  <a:pt x="840" y="3156"/>
                  <a:pt x="840" y="3156"/>
                </a:cubicBezTo>
                <a:cubicBezTo>
                  <a:pt x="844" y="3152"/>
                  <a:pt x="844" y="3152"/>
                  <a:pt x="844" y="3152"/>
                </a:cubicBezTo>
                <a:cubicBezTo>
                  <a:pt x="848" y="3148"/>
                  <a:pt x="848" y="3148"/>
                  <a:pt x="848" y="3148"/>
                </a:cubicBezTo>
                <a:cubicBezTo>
                  <a:pt x="852" y="3144"/>
                  <a:pt x="852" y="3144"/>
                  <a:pt x="852" y="3144"/>
                </a:cubicBezTo>
                <a:cubicBezTo>
                  <a:pt x="856" y="3140"/>
                  <a:pt x="856" y="3140"/>
                  <a:pt x="856" y="3140"/>
                </a:cubicBezTo>
                <a:cubicBezTo>
                  <a:pt x="860" y="3136"/>
                  <a:pt x="860" y="3136"/>
                  <a:pt x="860" y="3136"/>
                </a:cubicBezTo>
                <a:cubicBezTo>
                  <a:pt x="868" y="3128"/>
                  <a:pt x="868" y="3128"/>
                  <a:pt x="868" y="3128"/>
                </a:cubicBezTo>
                <a:cubicBezTo>
                  <a:pt x="872" y="3124"/>
                  <a:pt x="872" y="3124"/>
                  <a:pt x="872" y="3124"/>
                </a:cubicBezTo>
                <a:cubicBezTo>
                  <a:pt x="876" y="3120"/>
                  <a:pt x="876" y="3120"/>
                  <a:pt x="876" y="3120"/>
                </a:cubicBezTo>
                <a:cubicBezTo>
                  <a:pt x="880" y="3116"/>
                  <a:pt x="880" y="3116"/>
                  <a:pt x="880" y="3116"/>
                </a:cubicBezTo>
                <a:cubicBezTo>
                  <a:pt x="884" y="3112"/>
                  <a:pt x="884" y="3112"/>
                  <a:pt x="884" y="3112"/>
                </a:cubicBezTo>
                <a:cubicBezTo>
                  <a:pt x="888" y="3108"/>
                  <a:pt x="888" y="3108"/>
                  <a:pt x="888" y="3108"/>
                </a:cubicBezTo>
                <a:cubicBezTo>
                  <a:pt x="892" y="3104"/>
                  <a:pt x="892" y="3104"/>
                  <a:pt x="892" y="3104"/>
                </a:cubicBezTo>
                <a:cubicBezTo>
                  <a:pt x="896" y="3100"/>
                  <a:pt x="896" y="3100"/>
                  <a:pt x="896" y="3100"/>
                </a:cubicBezTo>
                <a:cubicBezTo>
                  <a:pt x="900" y="3096"/>
                  <a:pt x="900" y="3096"/>
                  <a:pt x="900" y="3096"/>
                </a:cubicBezTo>
                <a:cubicBezTo>
                  <a:pt x="904" y="3092"/>
                  <a:pt x="904" y="3092"/>
                  <a:pt x="904" y="3092"/>
                </a:cubicBezTo>
                <a:cubicBezTo>
                  <a:pt x="908" y="3088"/>
                  <a:pt x="908" y="3088"/>
                  <a:pt x="908" y="3088"/>
                </a:cubicBezTo>
                <a:cubicBezTo>
                  <a:pt x="912" y="3084"/>
                  <a:pt x="912" y="3084"/>
                  <a:pt x="912" y="3084"/>
                </a:cubicBezTo>
                <a:cubicBezTo>
                  <a:pt x="916" y="3080"/>
                  <a:pt x="916" y="3080"/>
                  <a:pt x="916" y="3080"/>
                </a:cubicBezTo>
                <a:cubicBezTo>
                  <a:pt x="920" y="3076"/>
                  <a:pt x="920" y="3076"/>
                  <a:pt x="920" y="3076"/>
                </a:cubicBezTo>
                <a:cubicBezTo>
                  <a:pt x="924" y="3072"/>
                  <a:pt x="924" y="3072"/>
                  <a:pt x="924" y="3072"/>
                </a:cubicBezTo>
                <a:cubicBezTo>
                  <a:pt x="928" y="3068"/>
                  <a:pt x="928" y="3068"/>
                  <a:pt x="928" y="3068"/>
                </a:cubicBezTo>
                <a:cubicBezTo>
                  <a:pt x="936" y="3060"/>
                  <a:pt x="936" y="3060"/>
                  <a:pt x="936" y="3060"/>
                </a:cubicBezTo>
                <a:cubicBezTo>
                  <a:pt x="940" y="3056"/>
                  <a:pt x="940" y="3056"/>
                  <a:pt x="940" y="3056"/>
                </a:cubicBezTo>
                <a:cubicBezTo>
                  <a:pt x="944" y="3052"/>
                  <a:pt x="944" y="3052"/>
                  <a:pt x="944" y="3052"/>
                </a:cubicBezTo>
                <a:cubicBezTo>
                  <a:pt x="948" y="3048"/>
                  <a:pt x="948" y="3048"/>
                  <a:pt x="948" y="3048"/>
                </a:cubicBezTo>
                <a:cubicBezTo>
                  <a:pt x="952" y="3044"/>
                  <a:pt x="952" y="3044"/>
                  <a:pt x="952" y="3044"/>
                </a:cubicBezTo>
                <a:cubicBezTo>
                  <a:pt x="956" y="3040"/>
                  <a:pt x="956" y="3040"/>
                  <a:pt x="956" y="3040"/>
                </a:cubicBezTo>
                <a:cubicBezTo>
                  <a:pt x="960" y="3036"/>
                  <a:pt x="960" y="3036"/>
                  <a:pt x="960" y="3036"/>
                </a:cubicBezTo>
                <a:cubicBezTo>
                  <a:pt x="964" y="3032"/>
                  <a:pt x="964" y="3032"/>
                  <a:pt x="964" y="3032"/>
                </a:cubicBezTo>
                <a:cubicBezTo>
                  <a:pt x="968" y="3028"/>
                  <a:pt x="968" y="3028"/>
                  <a:pt x="968" y="3028"/>
                </a:cubicBezTo>
                <a:cubicBezTo>
                  <a:pt x="972" y="3024"/>
                  <a:pt x="972" y="3024"/>
                  <a:pt x="972" y="3024"/>
                </a:cubicBezTo>
                <a:cubicBezTo>
                  <a:pt x="976" y="3020"/>
                  <a:pt x="976" y="3020"/>
                  <a:pt x="976" y="3020"/>
                </a:cubicBezTo>
                <a:cubicBezTo>
                  <a:pt x="980" y="3016"/>
                  <a:pt x="980" y="3016"/>
                  <a:pt x="980" y="3016"/>
                </a:cubicBezTo>
                <a:cubicBezTo>
                  <a:pt x="984" y="3012"/>
                  <a:pt x="984" y="3012"/>
                  <a:pt x="984" y="3012"/>
                </a:cubicBezTo>
                <a:cubicBezTo>
                  <a:pt x="988" y="3008"/>
                  <a:pt x="988" y="3008"/>
                  <a:pt x="988" y="3008"/>
                </a:cubicBezTo>
                <a:cubicBezTo>
                  <a:pt x="992" y="3004"/>
                  <a:pt x="992" y="3004"/>
                  <a:pt x="992" y="3004"/>
                </a:cubicBezTo>
                <a:cubicBezTo>
                  <a:pt x="996" y="3000"/>
                  <a:pt x="996" y="3000"/>
                  <a:pt x="996" y="3000"/>
                </a:cubicBezTo>
                <a:cubicBezTo>
                  <a:pt x="1004" y="2992"/>
                  <a:pt x="1004" y="2992"/>
                  <a:pt x="1004" y="2992"/>
                </a:cubicBezTo>
                <a:cubicBezTo>
                  <a:pt x="1008" y="2988"/>
                  <a:pt x="1008" y="2988"/>
                  <a:pt x="1008" y="2988"/>
                </a:cubicBezTo>
                <a:cubicBezTo>
                  <a:pt x="1012" y="2984"/>
                  <a:pt x="1012" y="2984"/>
                  <a:pt x="1012" y="2984"/>
                </a:cubicBezTo>
                <a:cubicBezTo>
                  <a:pt x="1016" y="2980"/>
                  <a:pt x="1016" y="2980"/>
                  <a:pt x="1016" y="2980"/>
                </a:cubicBezTo>
                <a:cubicBezTo>
                  <a:pt x="1020" y="2976"/>
                  <a:pt x="1020" y="2976"/>
                  <a:pt x="1020" y="2976"/>
                </a:cubicBezTo>
                <a:cubicBezTo>
                  <a:pt x="1024" y="2972"/>
                  <a:pt x="1024" y="2972"/>
                  <a:pt x="1024" y="2972"/>
                </a:cubicBezTo>
                <a:cubicBezTo>
                  <a:pt x="1028" y="2968"/>
                  <a:pt x="1028" y="2968"/>
                  <a:pt x="1028" y="2968"/>
                </a:cubicBezTo>
                <a:cubicBezTo>
                  <a:pt x="1032" y="2964"/>
                  <a:pt x="1032" y="2964"/>
                  <a:pt x="1032" y="2964"/>
                </a:cubicBezTo>
                <a:cubicBezTo>
                  <a:pt x="1036" y="2960"/>
                  <a:pt x="1036" y="2960"/>
                  <a:pt x="1036" y="2960"/>
                </a:cubicBezTo>
                <a:cubicBezTo>
                  <a:pt x="1044" y="2952"/>
                  <a:pt x="1044" y="2952"/>
                  <a:pt x="1044" y="2952"/>
                </a:cubicBezTo>
                <a:cubicBezTo>
                  <a:pt x="1048" y="2948"/>
                  <a:pt x="1048" y="2948"/>
                  <a:pt x="1048" y="2948"/>
                </a:cubicBezTo>
                <a:cubicBezTo>
                  <a:pt x="1052" y="2944"/>
                  <a:pt x="1052" y="2944"/>
                  <a:pt x="1052" y="2944"/>
                </a:cubicBezTo>
                <a:cubicBezTo>
                  <a:pt x="1056" y="2940"/>
                  <a:pt x="1056" y="2940"/>
                  <a:pt x="1056" y="2940"/>
                </a:cubicBezTo>
                <a:cubicBezTo>
                  <a:pt x="1060" y="2936"/>
                  <a:pt x="1060" y="2936"/>
                  <a:pt x="1060" y="2936"/>
                </a:cubicBezTo>
                <a:cubicBezTo>
                  <a:pt x="1064" y="2932"/>
                  <a:pt x="1064" y="2932"/>
                  <a:pt x="1064" y="2932"/>
                </a:cubicBezTo>
                <a:cubicBezTo>
                  <a:pt x="1072" y="2924"/>
                  <a:pt x="1072" y="2924"/>
                  <a:pt x="1072" y="2924"/>
                </a:cubicBezTo>
                <a:cubicBezTo>
                  <a:pt x="1076" y="2920"/>
                  <a:pt x="1076" y="2920"/>
                  <a:pt x="1076" y="2920"/>
                </a:cubicBezTo>
                <a:cubicBezTo>
                  <a:pt x="1080" y="2916"/>
                  <a:pt x="1080" y="2916"/>
                  <a:pt x="1080" y="2916"/>
                </a:cubicBezTo>
                <a:cubicBezTo>
                  <a:pt x="1084" y="2912"/>
                  <a:pt x="1084" y="2912"/>
                  <a:pt x="1084" y="2912"/>
                </a:cubicBezTo>
                <a:cubicBezTo>
                  <a:pt x="1088" y="2908"/>
                  <a:pt x="1088" y="2908"/>
                  <a:pt x="1088" y="2908"/>
                </a:cubicBezTo>
                <a:cubicBezTo>
                  <a:pt x="1092" y="2904"/>
                  <a:pt x="1092" y="2904"/>
                  <a:pt x="1092" y="2904"/>
                </a:cubicBezTo>
                <a:cubicBezTo>
                  <a:pt x="1096" y="2900"/>
                  <a:pt x="1096" y="2900"/>
                  <a:pt x="1096" y="2900"/>
                </a:cubicBezTo>
                <a:cubicBezTo>
                  <a:pt x="1100" y="2896"/>
                  <a:pt x="1100" y="2896"/>
                  <a:pt x="1100" y="2896"/>
                </a:cubicBezTo>
                <a:cubicBezTo>
                  <a:pt x="1104" y="2892"/>
                  <a:pt x="1104" y="2892"/>
                  <a:pt x="1104" y="2892"/>
                </a:cubicBezTo>
                <a:cubicBezTo>
                  <a:pt x="1112" y="2884"/>
                  <a:pt x="1112" y="2884"/>
                  <a:pt x="1112" y="2884"/>
                </a:cubicBezTo>
                <a:cubicBezTo>
                  <a:pt x="1116" y="2880"/>
                  <a:pt x="1116" y="2880"/>
                  <a:pt x="1116" y="2880"/>
                </a:cubicBezTo>
                <a:cubicBezTo>
                  <a:pt x="1120" y="2876"/>
                  <a:pt x="1120" y="2876"/>
                  <a:pt x="1120" y="2876"/>
                </a:cubicBezTo>
                <a:cubicBezTo>
                  <a:pt x="1124" y="2872"/>
                  <a:pt x="1124" y="2872"/>
                  <a:pt x="1124" y="2872"/>
                </a:cubicBezTo>
                <a:cubicBezTo>
                  <a:pt x="1128" y="2868"/>
                  <a:pt x="1128" y="2868"/>
                  <a:pt x="1128" y="2868"/>
                </a:cubicBezTo>
                <a:cubicBezTo>
                  <a:pt x="1132" y="2864"/>
                  <a:pt x="1132" y="2864"/>
                  <a:pt x="1132" y="2864"/>
                </a:cubicBezTo>
                <a:cubicBezTo>
                  <a:pt x="1140" y="2856"/>
                  <a:pt x="1140" y="2856"/>
                  <a:pt x="1140" y="2856"/>
                </a:cubicBezTo>
                <a:cubicBezTo>
                  <a:pt x="1144" y="2852"/>
                  <a:pt x="1144" y="2852"/>
                  <a:pt x="1144" y="2852"/>
                </a:cubicBezTo>
                <a:cubicBezTo>
                  <a:pt x="1148" y="2848"/>
                  <a:pt x="1148" y="2848"/>
                  <a:pt x="1148" y="2848"/>
                </a:cubicBezTo>
                <a:cubicBezTo>
                  <a:pt x="1152" y="2844"/>
                  <a:pt x="1152" y="2844"/>
                  <a:pt x="1152" y="2844"/>
                </a:cubicBezTo>
                <a:cubicBezTo>
                  <a:pt x="1156" y="2840"/>
                  <a:pt x="1156" y="2840"/>
                  <a:pt x="1156" y="2840"/>
                </a:cubicBezTo>
                <a:cubicBezTo>
                  <a:pt x="1160" y="2836"/>
                  <a:pt x="1160" y="2836"/>
                  <a:pt x="1160" y="2836"/>
                </a:cubicBezTo>
                <a:cubicBezTo>
                  <a:pt x="1164" y="2832"/>
                  <a:pt x="1164" y="2832"/>
                  <a:pt x="1164" y="2832"/>
                </a:cubicBezTo>
                <a:cubicBezTo>
                  <a:pt x="1168" y="2828"/>
                  <a:pt x="1168" y="2828"/>
                  <a:pt x="1168" y="2828"/>
                </a:cubicBezTo>
                <a:cubicBezTo>
                  <a:pt x="1172" y="2824"/>
                  <a:pt x="1172" y="2824"/>
                  <a:pt x="1172" y="2824"/>
                </a:cubicBezTo>
                <a:cubicBezTo>
                  <a:pt x="1180" y="2816"/>
                  <a:pt x="1180" y="2816"/>
                  <a:pt x="1180" y="2816"/>
                </a:cubicBezTo>
                <a:cubicBezTo>
                  <a:pt x="1184" y="2812"/>
                  <a:pt x="1184" y="2812"/>
                  <a:pt x="1184" y="2812"/>
                </a:cubicBezTo>
                <a:cubicBezTo>
                  <a:pt x="1188" y="2808"/>
                  <a:pt x="1188" y="2808"/>
                  <a:pt x="1188" y="2808"/>
                </a:cubicBezTo>
                <a:cubicBezTo>
                  <a:pt x="1192" y="2804"/>
                  <a:pt x="1192" y="2804"/>
                  <a:pt x="1192" y="2804"/>
                </a:cubicBezTo>
                <a:cubicBezTo>
                  <a:pt x="1196" y="2800"/>
                  <a:pt x="1196" y="2800"/>
                  <a:pt x="1196" y="2800"/>
                </a:cubicBezTo>
                <a:cubicBezTo>
                  <a:pt x="1200" y="2796"/>
                  <a:pt x="1200" y="2796"/>
                  <a:pt x="1200" y="2796"/>
                </a:cubicBezTo>
                <a:cubicBezTo>
                  <a:pt x="1204" y="2792"/>
                  <a:pt x="1204" y="2792"/>
                  <a:pt x="1204" y="2792"/>
                </a:cubicBezTo>
                <a:cubicBezTo>
                  <a:pt x="1208" y="2788"/>
                  <a:pt x="1208" y="2788"/>
                  <a:pt x="1208" y="2788"/>
                </a:cubicBezTo>
                <a:cubicBezTo>
                  <a:pt x="1212" y="2784"/>
                  <a:pt x="1212" y="2784"/>
                  <a:pt x="1212" y="2784"/>
                </a:cubicBezTo>
                <a:cubicBezTo>
                  <a:pt x="1216" y="2780"/>
                  <a:pt x="1216" y="2780"/>
                  <a:pt x="1216" y="2780"/>
                </a:cubicBezTo>
                <a:cubicBezTo>
                  <a:pt x="1220" y="2776"/>
                  <a:pt x="1220" y="2776"/>
                  <a:pt x="1220" y="2776"/>
                </a:cubicBezTo>
                <a:cubicBezTo>
                  <a:pt x="1224" y="2772"/>
                  <a:pt x="1224" y="2772"/>
                  <a:pt x="1224" y="2772"/>
                </a:cubicBezTo>
                <a:cubicBezTo>
                  <a:pt x="1228" y="2768"/>
                  <a:pt x="1228" y="2768"/>
                  <a:pt x="1228" y="2768"/>
                </a:cubicBezTo>
                <a:cubicBezTo>
                  <a:pt x="1232" y="2764"/>
                  <a:pt x="1232" y="2764"/>
                  <a:pt x="1232" y="2764"/>
                </a:cubicBezTo>
                <a:cubicBezTo>
                  <a:pt x="1236" y="2760"/>
                  <a:pt x="1236" y="2760"/>
                  <a:pt x="1236" y="2760"/>
                </a:cubicBezTo>
                <a:cubicBezTo>
                  <a:pt x="1240" y="2756"/>
                  <a:pt x="1240" y="2756"/>
                  <a:pt x="1240" y="2756"/>
                </a:cubicBezTo>
                <a:cubicBezTo>
                  <a:pt x="1248" y="2748"/>
                  <a:pt x="1248" y="2748"/>
                  <a:pt x="1248" y="2748"/>
                </a:cubicBezTo>
                <a:cubicBezTo>
                  <a:pt x="1252" y="2744"/>
                  <a:pt x="1252" y="2744"/>
                  <a:pt x="1252" y="2744"/>
                </a:cubicBezTo>
                <a:cubicBezTo>
                  <a:pt x="1256" y="2740"/>
                  <a:pt x="1256" y="2740"/>
                  <a:pt x="1256" y="2740"/>
                </a:cubicBezTo>
                <a:cubicBezTo>
                  <a:pt x="1260" y="2736"/>
                  <a:pt x="1260" y="2736"/>
                  <a:pt x="1260" y="2736"/>
                </a:cubicBezTo>
                <a:cubicBezTo>
                  <a:pt x="1264" y="2732"/>
                  <a:pt x="1264" y="2732"/>
                  <a:pt x="1264" y="2732"/>
                </a:cubicBezTo>
                <a:cubicBezTo>
                  <a:pt x="1268" y="2728"/>
                  <a:pt x="1268" y="2728"/>
                  <a:pt x="1268" y="2728"/>
                </a:cubicBezTo>
                <a:cubicBezTo>
                  <a:pt x="1272" y="2724"/>
                  <a:pt x="1272" y="2724"/>
                  <a:pt x="1272" y="2724"/>
                </a:cubicBezTo>
                <a:cubicBezTo>
                  <a:pt x="1276" y="2720"/>
                  <a:pt x="1276" y="2720"/>
                  <a:pt x="1276" y="2720"/>
                </a:cubicBezTo>
                <a:cubicBezTo>
                  <a:pt x="1280" y="2716"/>
                  <a:pt x="1280" y="2716"/>
                  <a:pt x="1280" y="2716"/>
                </a:cubicBezTo>
                <a:cubicBezTo>
                  <a:pt x="1284" y="2712"/>
                  <a:pt x="1284" y="2712"/>
                  <a:pt x="1284" y="2712"/>
                </a:cubicBezTo>
                <a:cubicBezTo>
                  <a:pt x="1288" y="2708"/>
                  <a:pt x="1288" y="2708"/>
                  <a:pt x="1288" y="2708"/>
                </a:cubicBezTo>
                <a:cubicBezTo>
                  <a:pt x="1292" y="2704"/>
                  <a:pt x="1292" y="2704"/>
                  <a:pt x="1292" y="2704"/>
                </a:cubicBezTo>
                <a:cubicBezTo>
                  <a:pt x="1296" y="2700"/>
                  <a:pt x="1296" y="2700"/>
                  <a:pt x="1296" y="2700"/>
                </a:cubicBezTo>
                <a:cubicBezTo>
                  <a:pt x="1300" y="2696"/>
                  <a:pt x="1300" y="2696"/>
                  <a:pt x="1300" y="2696"/>
                </a:cubicBezTo>
                <a:cubicBezTo>
                  <a:pt x="1304" y="2692"/>
                  <a:pt x="1304" y="2692"/>
                  <a:pt x="1304" y="2692"/>
                </a:cubicBezTo>
                <a:cubicBezTo>
                  <a:pt x="1308" y="2688"/>
                  <a:pt x="1308" y="2688"/>
                  <a:pt x="1308" y="2688"/>
                </a:cubicBezTo>
                <a:cubicBezTo>
                  <a:pt x="1316" y="2680"/>
                  <a:pt x="1316" y="2680"/>
                  <a:pt x="1316" y="2680"/>
                </a:cubicBezTo>
                <a:cubicBezTo>
                  <a:pt x="1320" y="2676"/>
                  <a:pt x="1320" y="2676"/>
                  <a:pt x="1320" y="2676"/>
                </a:cubicBezTo>
                <a:cubicBezTo>
                  <a:pt x="1324" y="2672"/>
                  <a:pt x="1324" y="2672"/>
                  <a:pt x="1324" y="2672"/>
                </a:cubicBezTo>
                <a:cubicBezTo>
                  <a:pt x="1328" y="2668"/>
                  <a:pt x="1328" y="2668"/>
                  <a:pt x="1328" y="2668"/>
                </a:cubicBezTo>
                <a:cubicBezTo>
                  <a:pt x="1332" y="2664"/>
                  <a:pt x="1332" y="2664"/>
                  <a:pt x="1332" y="2664"/>
                </a:cubicBezTo>
                <a:cubicBezTo>
                  <a:pt x="1336" y="2660"/>
                  <a:pt x="1336" y="2660"/>
                  <a:pt x="1336" y="2660"/>
                </a:cubicBezTo>
                <a:cubicBezTo>
                  <a:pt x="1340" y="2656"/>
                  <a:pt x="1340" y="2656"/>
                  <a:pt x="1340" y="2656"/>
                </a:cubicBezTo>
                <a:cubicBezTo>
                  <a:pt x="1344" y="2652"/>
                  <a:pt x="1344" y="2652"/>
                  <a:pt x="1344" y="2652"/>
                </a:cubicBezTo>
                <a:cubicBezTo>
                  <a:pt x="1348" y="2648"/>
                  <a:pt x="1348" y="2648"/>
                  <a:pt x="1348" y="2648"/>
                </a:cubicBezTo>
                <a:cubicBezTo>
                  <a:pt x="1352" y="2644"/>
                  <a:pt x="1352" y="2644"/>
                  <a:pt x="1352" y="2644"/>
                </a:cubicBezTo>
                <a:cubicBezTo>
                  <a:pt x="1356" y="2640"/>
                  <a:pt x="1356" y="2640"/>
                  <a:pt x="1356" y="2640"/>
                </a:cubicBezTo>
                <a:cubicBezTo>
                  <a:pt x="1360" y="2636"/>
                  <a:pt x="1360" y="2636"/>
                  <a:pt x="1360" y="2636"/>
                </a:cubicBezTo>
                <a:cubicBezTo>
                  <a:pt x="1364" y="2632"/>
                  <a:pt x="1364" y="2632"/>
                  <a:pt x="1364" y="2632"/>
                </a:cubicBezTo>
                <a:cubicBezTo>
                  <a:pt x="1368" y="2628"/>
                  <a:pt x="1368" y="2628"/>
                  <a:pt x="1368" y="2628"/>
                </a:cubicBezTo>
                <a:cubicBezTo>
                  <a:pt x="1372" y="2624"/>
                  <a:pt x="1372" y="2624"/>
                  <a:pt x="1372" y="2624"/>
                </a:cubicBezTo>
                <a:cubicBezTo>
                  <a:pt x="1376" y="2620"/>
                  <a:pt x="1376" y="2620"/>
                  <a:pt x="1376" y="2620"/>
                </a:cubicBezTo>
                <a:cubicBezTo>
                  <a:pt x="1384" y="2612"/>
                  <a:pt x="1384" y="2612"/>
                  <a:pt x="1384" y="2612"/>
                </a:cubicBezTo>
                <a:cubicBezTo>
                  <a:pt x="1388" y="2608"/>
                  <a:pt x="1388" y="2608"/>
                  <a:pt x="1388" y="2608"/>
                </a:cubicBezTo>
                <a:cubicBezTo>
                  <a:pt x="1392" y="2604"/>
                  <a:pt x="1392" y="2604"/>
                  <a:pt x="1392" y="2604"/>
                </a:cubicBezTo>
                <a:cubicBezTo>
                  <a:pt x="1396" y="2600"/>
                  <a:pt x="1396" y="2600"/>
                  <a:pt x="1396" y="2600"/>
                </a:cubicBezTo>
                <a:cubicBezTo>
                  <a:pt x="1400" y="2596"/>
                  <a:pt x="1400" y="2596"/>
                  <a:pt x="1400" y="2596"/>
                </a:cubicBezTo>
                <a:cubicBezTo>
                  <a:pt x="1404" y="2592"/>
                  <a:pt x="1404" y="2592"/>
                  <a:pt x="1404" y="2592"/>
                </a:cubicBezTo>
                <a:cubicBezTo>
                  <a:pt x="1408" y="2588"/>
                  <a:pt x="1408" y="2588"/>
                  <a:pt x="1408" y="2588"/>
                </a:cubicBezTo>
                <a:cubicBezTo>
                  <a:pt x="1412" y="2584"/>
                  <a:pt x="1412" y="2584"/>
                  <a:pt x="1412" y="2584"/>
                </a:cubicBezTo>
                <a:cubicBezTo>
                  <a:pt x="1416" y="2580"/>
                  <a:pt x="1416" y="2580"/>
                  <a:pt x="1416" y="2580"/>
                </a:cubicBezTo>
                <a:cubicBezTo>
                  <a:pt x="1420" y="2576"/>
                  <a:pt x="1420" y="2576"/>
                  <a:pt x="1420" y="2576"/>
                </a:cubicBezTo>
                <a:cubicBezTo>
                  <a:pt x="1424" y="2572"/>
                  <a:pt x="1424" y="2572"/>
                  <a:pt x="1424" y="2572"/>
                </a:cubicBezTo>
                <a:cubicBezTo>
                  <a:pt x="1428" y="2568"/>
                  <a:pt x="1428" y="2568"/>
                  <a:pt x="1428" y="2568"/>
                </a:cubicBezTo>
                <a:cubicBezTo>
                  <a:pt x="1432" y="2564"/>
                  <a:pt x="1432" y="2564"/>
                  <a:pt x="1432" y="2564"/>
                </a:cubicBezTo>
                <a:cubicBezTo>
                  <a:pt x="1436" y="2560"/>
                  <a:pt x="1436" y="2560"/>
                  <a:pt x="1436" y="2560"/>
                </a:cubicBezTo>
                <a:cubicBezTo>
                  <a:pt x="1440" y="2556"/>
                  <a:pt x="1440" y="2556"/>
                  <a:pt x="1440" y="2556"/>
                </a:cubicBezTo>
                <a:cubicBezTo>
                  <a:pt x="1444" y="2552"/>
                  <a:pt x="1444" y="2552"/>
                  <a:pt x="1444" y="2552"/>
                </a:cubicBezTo>
                <a:cubicBezTo>
                  <a:pt x="1452" y="2544"/>
                  <a:pt x="1452" y="2544"/>
                  <a:pt x="1452" y="2544"/>
                </a:cubicBezTo>
                <a:cubicBezTo>
                  <a:pt x="1456" y="2540"/>
                  <a:pt x="1456" y="2540"/>
                  <a:pt x="1456" y="2540"/>
                </a:cubicBezTo>
                <a:cubicBezTo>
                  <a:pt x="1460" y="2536"/>
                  <a:pt x="1460" y="2536"/>
                  <a:pt x="1460" y="2536"/>
                </a:cubicBezTo>
                <a:cubicBezTo>
                  <a:pt x="1464" y="2532"/>
                  <a:pt x="1464" y="2532"/>
                  <a:pt x="1464" y="2532"/>
                </a:cubicBezTo>
                <a:cubicBezTo>
                  <a:pt x="1468" y="2528"/>
                  <a:pt x="1468" y="2528"/>
                  <a:pt x="1468" y="2528"/>
                </a:cubicBezTo>
                <a:cubicBezTo>
                  <a:pt x="1472" y="2524"/>
                  <a:pt x="1472" y="2524"/>
                  <a:pt x="1472" y="2524"/>
                </a:cubicBezTo>
                <a:cubicBezTo>
                  <a:pt x="1476" y="2520"/>
                  <a:pt x="1476" y="2520"/>
                  <a:pt x="1476" y="2520"/>
                </a:cubicBezTo>
                <a:cubicBezTo>
                  <a:pt x="1480" y="2516"/>
                  <a:pt x="1480" y="2516"/>
                  <a:pt x="1480" y="2516"/>
                </a:cubicBezTo>
                <a:cubicBezTo>
                  <a:pt x="1484" y="2512"/>
                  <a:pt x="1484" y="2512"/>
                  <a:pt x="1484" y="2512"/>
                </a:cubicBezTo>
                <a:cubicBezTo>
                  <a:pt x="1488" y="2508"/>
                  <a:pt x="1488" y="2508"/>
                  <a:pt x="1488" y="2508"/>
                </a:cubicBezTo>
                <a:cubicBezTo>
                  <a:pt x="1492" y="2504"/>
                  <a:pt x="1492" y="2504"/>
                  <a:pt x="1492" y="2504"/>
                </a:cubicBezTo>
                <a:cubicBezTo>
                  <a:pt x="1496" y="2500"/>
                  <a:pt x="1496" y="2500"/>
                  <a:pt x="1496" y="2500"/>
                </a:cubicBezTo>
                <a:cubicBezTo>
                  <a:pt x="1500" y="2496"/>
                  <a:pt x="1500" y="2496"/>
                  <a:pt x="1500" y="2496"/>
                </a:cubicBezTo>
                <a:cubicBezTo>
                  <a:pt x="1504" y="2492"/>
                  <a:pt x="1504" y="2492"/>
                  <a:pt x="1504" y="2492"/>
                </a:cubicBezTo>
                <a:cubicBezTo>
                  <a:pt x="1508" y="2488"/>
                  <a:pt x="1508" y="2488"/>
                  <a:pt x="1508" y="2488"/>
                </a:cubicBezTo>
                <a:cubicBezTo>
                  <a:pt x="1512" y="2484"/>
                  <a:pt x="1512" y="2484"/>
                  <a:pt x="1512" y="2484"/>
                </a:cubicBezTo>
                <a:cubicBezTo>
                  <a:pt x="1520" y="2476"/>
                  <a:pt x="1520" y="2476"/>
                  <a:pt x="1520" y="2476"/>
                </a:cubicBezTo>
                <a:cubicBezTo>
                  <a:pt x="1524" y="2472"/>
                  <a:pt x="1524" y="2472"/>
                  <a:pt x="1524" y="2472"/>
                </a:cubicBezTo>
                <a:cubicBezTo>
                  <a:pt x="1528" y="2468"/>
                  <a:pt x="1528" y="2468"/>
                  <a:pt x="1528" y="2468"/>
                </a:cubicBezTo>
                <a:cubicBezTo>
                  <a:pt x="1532" y="2464"/>
                  <a:pt x="1532" y="2464"/>
                  <a:pt x="1532" y="2464"/>
                </a:cubicBezTo>
                <a:cubicBezTo>
                  <a:pt x="1536" y="2460"/>
                  <a:pt x="1536" y="2460"/>
                  <a:pt x="1536" y="2460"/>
                </a:cubicBezTo>
                <a:cubicBezTo>
                  <a:pt x="1540" y="2456"/>
                  <a:pt x="1540" y="2456"/>
                  <a:pt x="1540" y="2456"/>
                </a:cubicBezTo>
                <a:cubicBezTo>
                  <a:pt x="1544" y="2452"/>
                  <a:pt x="1544" y="2452"/>
                  <a:pt x="1544" y="2452"/>
                </a:cubicBezTo>
                <a:cubicBezTo>
                  <a:pt x="1548" y="2448"/>
                  <a:pt x="1548" y="2448"/>
                  <a:pt x="1548" y="2448"/>
                </a:cubicBezTo>
                <a:cubicBezTo>
                  <a:pt x="1552" y="2444"/>
                  <a:pt x="1552" y="2444"/>
                  <a:pt x="1552" y="2444"/>
                </a:cubicBezTo>
                <a:cubicBezTo>
                  <a:pt x="1556" y="2440"/>
                  <a:pt x="1556" y="2440"/>
                  <a:pt x="1556" y="2440"/>
                </a:cubicBezTo>
                <a:cubicBezTo>
                  <a:pt x="1560" y="2436"/>
                  <a:pt x="1560" y="2436"/>
                  <a:pt x="1560" y="2436"/>
                </a:cubicBezTo>
                <a:cubicBezTo>
                  <a:pt x="1564" y="2432"/>
                  <a:pt x="1564" y="2432"/>
                  <a:pt x="1564" y="2432"/>
                </a:cubicBezTo>
                <a:cubicBezTo>
                  <a:pt x="1568" y="2428"/>
                  <a:pt x="1568" y="2428"/>
                  <a:pt x="1568" y="2428"/>
                </a:cubicBezTo>
                <a:cubicBezTo>
                  <a:pt x="1572" y="2424"/>
                  <a:pt x="1572" y="2424"/>
                  <a:pt x="1572" y="2424"/>
                </a:cubicBezTo>
                <a:cubicBezTo>
                  <a:pt x="1576" y="2420"/>
                  <a:pt x="1576" y="2420"/>
                  <a:pt x="1576" y="2420"/>
                </a:cubicBezTo>
                <a:cubicBezTo>
                  <a:pt x="1580" y="2416"/>
                  <a:pt x="1580" y="2416"/>
                  <a:pt x="1580" y="2416"/>
                </a:cubicBezTo>
                <a:cubicBezTo>
                  <a:pt x="1588" y="2408"/>
                  <a:pt x="1588" y="2408"/>
                  <a:pt x="1588" y="2408"/>
                </a:cubicBezTo>
                <a:cubicBezTo>
                  <a:pt x="1592" y="2404"/>
                  <a:pt x="1592" y="2404"/>
                  <a:pt x="1592" y="2404"/>
                </a:cubicBezTo>
                <a:cubicBezTo>
                  <a:pt x="1596" y="2400"/>
                  <a:pt x="1596" y="2400"/>
                  <a:pt x="1596" y="2400"/>
                </a:cubicBezTo>
                <a:cubicBezTo>
                  <a:pt x="1600" y="2396"/>
                  <a:pt x="1600" y="2396"/>
                  <a:pt x="1600" y="2396"/>
                </a:cubicBezTo>
                <a:cubicBezTo>
                  <a:pt x="1604" y="2392"/>
                  <a:pt x="1604" y="2392"/>
                  <a:pt x="1604" y="2392"/>
                </a:cubicBezTo>
                <a:cubicBezTo>
                  <a:pt x="1608" y="2388"/>
                  <a:pt x="1608" y="2388"/>
                  <a:pt x="1608" y="2388"/>
                </a:cubicBezTo>
                <a:cubicBezTo>
                  <a:pt x="1612" y="2384"/>
                  <a:pt x="1612" y="2384"/>
                  <a:pt x="1612" y="2384"/>
                </a:cubicBezTo>
                <a:cubicBezTo>
                  <a:pt x="1616" y="2380"/>
                  <a:pt x="1616" y="2380"/>
                  <a:pt x="1616" y="2380"/>
                </a:cubicBezTo>
                <a:cubicBezTo>
                  <a:pt x="1620" y="2376"/>
                  <a:pt x="1620" y="2376"/>
                  <a:pt x="1620" y="2376"/>
                </a:cubicBezTo>
                <a:cubicBezTo>
                  <a:pt x="1624" y="2372"/>
                  <a:pt x="1624" y="2372"/>
                  <a:pt x="1624" y="2372"/>
                </a:cubicBezTo>
                <a:cubicBezTo>
                  <a:pt x="1628" y="2368"/>
                  <a:pt x="1628" y="2368"/>
                  <a:pt x="1628" y="2368"/>
                </a:cubicBezTo>
                <a:cubicBezTo>
                  <a:pt x="1632" y="2364"/>
                  <a:pt x="1632" y="2364"/>
                  <a:pt x="1632" y="2364"/>
                </a:cubicBezTo>
                <a:cubicBezTo>
                  <a:pt x="1636" y="2360"/>
                  <a:pt x="1636" y="2360"/>
                  <a:pt x="1636" y="2360"/>
                </a:cubicBezTo>
                <a:cubicBezTo>
                  <a:pt x="1640" y="2356"/>
                  <a:pt x="1640" y="2356"/>
                  <a:pt x="1640" y="2356"/>
                </a:cubicBezTo>
                <a:cubicBezTo>
                  <a:pt x="1644" y="2352"/>
                  <a:pt x="1644" y="2352"/>
                  <a:pt x="1644" y="2352"/>
                </a:cubicBezTo>
                <a:cubicBezTo>
                  <a:pt x="1648" y="2348"/>
                  <a:pt x="1648" y="2348"/>
                  <a:pt x="1648" y="2348"/>
                </a:cubicBezTo>
                <a:cubicBezTo>
                  <a:pt x="1656" y="2340"/>
                  <a:pt x="1656" y="2340"/>
                  <a:pt x="1656" y="2340"/>
                </a:cubicBezTo>
                <a:cubicBezTo>
                  <a:pt x="1660" y="2336"/>
                  <a:pt x="1660" y="2336"/>
                  <a:pt x="1660" y="2336"/>
                </a:cubicBezTo>
                <a:cubicBezTo>
                  <a:pt x="1664" y="2332"/>
                  <a:pt x="1664" y="2332"/>
                  <a:pt x="1664" y="2332"/>
                </a:cubicBezTo>
                <a:cubicBezTo>
                  <a:pt x="1668" y="2328"/>
                  <a:pt x="1668" y="2328"/>
                  <a:pt x="1668" y="2328"/>
                </a:cubicBezTo>
                <a:cubicBezTo>
                  <a:pt x="1672" y="2324"/>
                  <a:pt x="1672" y="2324"/>
                  <a:pt x="1672" y="2324"/>
                </a:cubicBezTo>
                <a:cubicBezTo>
                  <a:pt x="1676" y="2320"/>
                  <a:pt x="1676" y="2320"/>
                  <a:pt x="1676" y="2320"/>
                </a:cubicBezTo>
                <a:cubicBezTo>
                  <a:pt x="1680" y="2316"/>
                  <a:pt x="1680" y="2316"/>
                  <a:pt x="1680" y="2316"/>
                </a:cubicBezTo>
                <a:cubicBezTo>
                  <a:pt x="1684" y="2312"/>
                  <a:pt x="1684" y="2312"/>
                  <a:pt x="1684" y="2312"/>
                </a:cubicBezTo>
                <a:cubicBezTo>
                  <a:pt x="1688" y="2308"/>
                  <a:pt x="1688" y="2308"/>
                  <a:pt x="1688" y="2308"/>
                </a:cubicBezTo>
                <a:cubicBezTo>
                  <a:pt x="1692" y="2304"/>
                  <a:pt x="1692" y="2304"/>
                  <a:pt x="1692" y="2304"/>
                </a:cubicBezTo>
                <a:cubicBezTo>
                  <a:pt x="1696" y="2300"/>
                  <a:pt x="1696" y="2300"/>
                  <a:pt x="1696" y="2300"/>
                </a:cubicBezTo>
                <a:cubicBezTo>
                  <a:pt x="1700" y="2296"/>
                  <a:pt x="1700" y="2296"/>
                  <a:pt x="1700" y="2296"/>
                </a:cubicBezTo>
                <a:cubicBezTo>
                  <a:pt x="1704" y="2292"/>
                  <a:pt x="1704" y="2292"/>
                  <a:pt x="1704" y="2292"/>
                </a:cubicBezTo>
                <a:cubicBezTo>
                  <a:pt x="1708" y="2288"/>
                  <a:pt x="1708" y="2288"/>
                  <a:pt x="1708" y="2288"/>
                </a:cubicBezTo>
                <a:cubicBezTo>
                  <a:pt x="1712" y="2284"/>
                  <a:pt x="1712" y="2284"/>
                  <a:pt x="1712" y="2284"/>
                </a:cubicBezTo>
                <a:cubicBezTo>
                  <a:pt x="1716" y="2280"/>
                  <a:pt x="1716" y="2280"/>
                  <a:pt x="1716" y="2280"/>
                </a:cubicBezTo>
                <a:cubicBezTo>
                  <a:pt x="1724" y="2272"/>
                  <a:pt x="1724" y="2272"/>
                  <a:pt x="1724" y="2272"/>
                </a:cubicBezTo>
                <a:cubicBezTo>
                  <a:pt x="1728" y="2268"/>
                  <a:pt x="1728" y="2268"/>
                  <a:pt x="1728" y="2268"/>
                </a:cubicBezTo>
                <a:cubicBezTo>
                  <a:pt x="1732" y="2264"/>
                  <a:pt x="1732" y="2264"/>
                  <a:pt x="1732" y="2264"/>
                </a:cubicBezTo>
                <a:cubicBezTo>
                  <a:pt x="1736" y="2260"/>
                  <a:pt x="1736" y="2260"/>
                  <a:pt x="1736" y="2260"/>
                </a:cubicBezTo>
                <a:cubicBezTo>
                  <a:pt x="1740" y="2256"/>
                  <a:pt x="1740" y="2256"/>
                  <a:pt x="1740" y="2256"/>
                </a:cubicBezTo>
                <a:cubicBezTo>
                  <a:pt x="1744" y="2252"/>
                  <a:pt x="1744" y="2252"/>
                  <a:pt x="1744" y="2252"/>
                </a:cubicBezTo>
                <a:cubicBezTo>
                  <a:pt x="1748" y="2248"/>
                  <a:pt x="1748" y="2248"/>
                  <a:pt x="1748" y="2248"/>
                </a:cubicBezTo>
                <a:cubicBezTo>
                  <a:pt x="1752" y="2244"/>
                  <a:pt x="1752" y="2244"/>
                  <a:pt x="1752" y="2244"/>
                </a:cubicBezTo>
                <a:cubicBezTo>
                  <a:pt x="1756" y="2240"/>
                  <a:pt x="1756" y="2240"/>
                  <a:pt x="1756" y="2240"/>
                </a:cubicBezTo>
                <a:cubicBezTo>
                  <a:pt x="1764" y="2232"/>
                  <a:pt x="1764" y="2232"/>
                  <a:pt x="1764" y="2232"/>
                </a:cubicBezTo>
                <a:cubicBezTo>
                  <a:pt x="1768" y="2228"/>
                  <a:pt x="1768" y="2228"/>
                  <a:pt x="1768" y="2228"/>
                </a:cubicBezTo>
                <a:cubicBezTo>
                  <a:pt x="1772" y="2224"/>
                  <a:pt x="1772" y="2224"/>
                  <a:pt x="1772" y="2224"/>
                </a:cubicBezTo>
                <a:cubicBezTo>
                  <a:pt x="1776" y="2220"/>
                  <a:pt x="1776" y="2220"/>
                  <a:pt x="1776" y="2220"/>
                </a:cubicBezTo>
                <a:cubicBezTo>
                  <a:pt x="1780" y="2216"/>
                  <a:pt x="1780" y="2216"/>
                  <a:pt x="1780" y="2216"/>
                </a:cubicBezTo>
                <a:cubicBezTo>
                  <a:pt x="1784" y="2212"/>
                  <a:pt x="1784" y="2212"/>
                  <a:pt x="1784" y="2212"/>
                </a:cubicBezTo>
                <a:cubicBezTo>
                  <a:pt x="1792" y="2204"/>
                  <a:pt x="1792" y="2204"/>
                  <a:pt x="1792" y="2204"/>
                </a:cubicBezTo>
                <a:cubicBezTo>
                  <a:pt x="1796" y="2200"/>
                  <a:pt x="1796" y="2200"/>
                  <a:pt x="1796" y="2200"/>
                </a:cubicBezTo>
                <a:cubicBezTo>
                  <a:pt x="1800" y="2196"/>
                  <a:pt x="1800" y="2196"/>
                  <a:pt x="1800" y="2196"/>
                </a:cubicBezTo>
                <a:cubicBezTo>
                  <a:pt x="1804" y="2192"/>
                  <a:pt x="1804" y="2192"/>
                  <a:pt x="1804" y="2192"/>
                </a:cubicBezTo>
                <a:cubicBezTo>
                  <a:pt x="1808" y="2188"/>
                  <a:pt x="1808" y="2188"/>
                  <a:pt x="1808" y="2188"/>
                </a:cubicBezTo>
                <a:cubicBezTo>
                  <a:pt x="1812" y="2184"/>
                  <a:pt x="1812" y="2184"/>
                  <a:pt x="1812" y="2184"/>
                </a:cubicBezTo>
                <a:cubicBezTo>
                  <a:pt x="1816" y="2180"/>
                  <a:pt x="1816" y="2180"/>
                  <a:pt x="1816" y="2180"/>
                </a:cubicBezTo>
                <a:cubicBezTo>
                  <a:pt x="1820" y="2176"/>
                  <a:pt x="1820" y="2176"/>
                  <a:pt x="1820" y="2176"/>
                </a:cubicBezTo>
                <a:cubicBezTo>
                  <a:pt x="1824" y="2172"/>
                  <a:pt x="1824" y="2172"/>
                  <a:pt x="1824" y="2172"/>
                </a:cubicBezTo>
                <a:cubicBezTo>
                  <a:pt x="1832" y="2164"/>
                  <a:pt x="1832" y="2164"/>
                  <a:pt x="1832" y="2164"/>
                </a:cubicBezTo>
                <a:cubicBezTo>
                  <a:pt x="1836" y="2160"/>
                  <a:pt x="1836" y="2160"/>
                  <a:pt x="1836" y="2160"/>
                </a:cubicBezTo>
                <a:cubicBezTo>
                  <a:pt x="1840" y="2156"/>
                  <a:pt x="1840" y="2156"/>
                  <a:pt x="1840" y="2156"/>
                </a:cubicBezTo>
                <a:cubicBezTo>
                  <a:pt x="1844" y="2152"/>
                  <a:pt x="1844" y="2152"/>
                  <a:pt x="1844" y="2152"/>
                </a:cubicBezTo>
                <a:cubicBezTo>
                  <a:pt x="1848" y="2148"/>
                  <a:pt x="1848" y="2148"/>
                  <a:pt x="1848" y="2148"/>
                </a:cubicBezTo>
                <a:cubicBezTo>
                  <a:pt x="1852" y="2144"/>
                  <a:pt x="1852" y="2144"/>
                  <a:pt x="1852" y="2144"/>
                </a:cubicBezTo>
                <a:cubicBezTo>
                  <a:pt x="1860" y="2136"/>
                  <a:pt x="1860" y="2136"/>
                  <a:pt x="1860" y="2136"/>
                </a:cubicBezTo>
                <a:cubicBezTo>
                  <a:pt x="1864" y="2132"/>
                  <a:pt x="1864" y="2132"/>
                  <a:pt x="1864" y="2132"/>
                </a:cubicBezTo>
                <a:cubicBezTo>
                  <a:pt x="1868" y="2128"/>
                  <a:pt x="1868" y="2128"/>
                  <a:pt x="1868" y="2128"/>
                </a:cubicBezTo>
                <a:cubicBezTo>
                  <a:pt x="1872" y="2124"/>
                  <a:pt x="1872" y="2124"/>
                  <a:pt x="1872" y="2124"/>
                </a:cubicBezTo>
                <a:cubicBezTo>
                  <a:pt x="1876" y="2120"/>
                  <a:pt x="1876" y="2120"/>
                  <a:pt x="1876" y="2120"/>
                </a:cubicBezTo>
                <a:cubicBezTo>
                  <a:pt x="1880" y="2116"/>
                  <a:pt x="1880" y="2116"/>
                  <a:pt x="1880" y="2116"/>
                </a:cubicBezTo>
                <a:cubicBezTo>
                  <a:pt x="1884" y="2112"/>
                  <a:pt x="1884" y="2112"/>
                  <a:pt x="1884" y="2112"/>
                </a:cubicBezTo>
                <a:cubicBezTo>
                  <a:pt x="1888" y="2108"/>
                  <a:pt x="1888" y="2108"/>
                  <a:pt x="1888" y="2108"/>
                </a:cubicBezTo>
                <a:cubicBezTo>
                  <a:pt x="1892" y="2104"/>
                  <a:pt x="1892" y="2104"/>
                  <a:pt x="1892" y="2104"/>
                </a:cubicBezTo>
                <a:cubicBezTo>
                  <a:pt x="1900" y="2096"/>
                  <a:pt x="1900" y="2096"/>
                  <a:pt x="1900" y="2096"/>
                </a:cubicBezTo>
                <a:cubicBezTo>
                  <a:pt x="1904" y="2092"/>
                  <a:pt x="1904" y="2092"/>
                  <a:pt x="1904" y="2092"/>
                </a:cubicBezTo>
                <a:cubicBezTo>
                  <a:pt x="1908" y="2088"/>
                  <a:pt x="1908" y="2088"/>
                  <a:pt x="1908" y="2088"/>
                </a:cubicBezTo>
                <a:cubicBezTo>
                  <a:pt x="1912" y="2084"/>
                  <a:pt x="1912" y="2084"/>
                  <a:pt x="1912" y="2084"/>
                </a:cubicBezTo>
                <a:cubicBezTo>
                  <a:pt x="1916" y="2080"/>
                  <a:pt x="1916" y="2080"/>
                  <a:pt x="1916" y="2080"/>
                </a:cubicBezTo>
                <a:cubicBezTo>
                  <a:pt x="1920" y="2076"/>
                  <a:pt x="1920" y="2076"/>
                  <a:pt x="1920" y="2076"/>
                </a:cubicBezTo>
                <a:cubicBezTo>
                  <a:pt x="1928" y="2068"/>
                  <a:pt x="1928" y="2068"/>
                  <a:pt x="1928" y="2068"/>
                </a:cubicBezTo>
                <a:cubicBezTo>
                  <a:pt x="1932" y="2064"/>
                  <a:pt x="1932" y="2064"/>
                  <a:pt x="1932" y="2064"/>
                </a:cubicBezTo>
                <a:cubicBezTo>
                  <a:pt x="1936" y="2060"/>
                  <a:pt x="1936" y="2060"/>
                  <a:pt x="1936" y="2060"/>
                </a:cubicBezTo>
                <a:cubicBezTo>
                  <a:pt x="1940" y="2056"/>
                  <a:pt x="1940" y="2056"/>
                  <a:pt x="1940" y="2056"/>
                </a:cubicBezTo>
                <a:cubicBezTo>
                  <a:pt x="1944" y="2052"/>
                  <a:pt x="1944" y="2052"/>
                  <a:pt x="1944" y="2052"/>
                </a:cubicBezTo>
                <a:cubicBezTo>
                  <a:pt x="1948" y="2048"/>
                  <a:pt x="1948" y="2048"/>
                  <a:pt x="1948" y="2048"/>
                </a:cubicBezTo>
                <a:cubicBezTo>
                  <a:pt x="1952" y="2044"/>
                  <a:pt x="1952" y="2044"/>
                  <a:pt x="1952" y="2044"/>
                </a:cubicBezTo>
                <a:cubicBezTo>
                  <a:pt x="1956" y="2040"/>
                  <a:pt x="1956" y="2040"/>
                  <a:pt x="1956" y="2040"/>
                </a:cubicBezTo>
                <a:cubicBezTo>
                  <a:pt x="1960" y="2036"/>
                  <a:pt x="1960" y="2036"/>
                  <a:pt x="1960" y="2036"/>
                </a:cubicBezTo>
                <a:cubicBezTo>
                  <a:pt x="1968" y="2028"/>
                  <a:pt x="1968" y="2028"/>
                  <a:pt x="1968" y="2028"/>
                </a:cubicBezTo>
                <a:cubicBezTo>
                  <a:pt x="1972" y="2024"/>
                  <a:pt x="1972" y="2024"/>
                  <a:pt x="1972" y="2024"/>
                </a:cubicBezTo>
                <a:cubicBezTo>
                  <a:pt x="1976" y="2020"/>
                  <a:pt x="1976" y="2020"/>
                  <a:pt x="1976" y="2020"/>
                </a:cubicBezTo>
                <a:cubicBezTo>
                  <a:pt x="1980" y="2016"/>
                  <a:pt x="1980" y="2016"/>
                  <a:pt x="1980" y="2016"/>
                </a:cubicBezTo>
                <a:cubicBezTo>
                  <a:pt x="1984" y="2012"/>
                  <a:pt x="1984" y="2012"/>
                  <a:pt x="1984" y="2012"/>
                </a:cubicBezTo>
                <a:cubicBezTo>
                  <a:pt x="1988" y="2008"/>
                  <a:pt x="1988" y="2008"/>
                  <a:pt x="1988" y="2008"/>
                </a:cubicBezTo>
                <a:cubicBezTo>
                  <a:pt x="1992" y="2004"/>
                  <a:pt x="1992" y="2004"/>
                  <a:pt x="1992" y="2004"/>
                </a:cubicBezTo>
                <a:cubicBezTo>
                  <a:pt x="1996" y="2000"/>
                  <a:pt x="1996" y="2000"/>
                  <a:pt x="1996" y="2000"/>
                </a:cubicBezTo>
                <a:cubicBezTo>
                  <a:pt x="2000" y="1996"/>
                  <a:pt x="2000" y="1996"/>
                  <a:pt x="2000" y="1996"/>
                </a:cubicBezTo>
                <a:cubicBezTo>
                  <a:pt x="2004" y="1992"/>
                  <a:pt x="2004" y="1992"/>
                  <a:pt x="2004" y="1992"/>
                </a:cubicBezTo>
                <a:cubicBezTo>
                  <a:pt x="2008" y="1988"/>
                  <a:pt x="2008" y="1988"/>
                  <a:pt x="2008" y="1988"/>
                </a:cubicBezTo>
                <a:cubicBezTo>
                  <a:pt x="2012" y="1984"/>
                  <a:pt x="2012" y="1984"/>
                  <a:pt x="2012" y="1984"/>
                </a:cubicBezTo>
                <a:cubicBezTo>
                  <a:pt x="2016" y="1980"/>
                  <a:pt x="2016" y="1980"/>
                  <a:pt x="2016" y="1980"/>
                </a:cubicBezTo>
                <a:cubicBezTo>
                  <a:pt x="2020" y="1976"/>
                  <a:pt x="2020" y="1976"/>
                  <a:pt x="2020" y="1976"/>
                </a:cubicBezTo>
                <a:cubicBezTo>
                  <a:pt x="2024" y="1972"/>
                  <a:pt x="2024" y="1972"/>
                  <a:pt x="2024" y="1972"/>
                </a:cubicBezTo>
                <a:cubicBezTo>
                  <a:pt x="2028" y="1968"/>
                  <a:pt x="2028" y="1968"/>
                  <a:pt x="2028" y="1968"/>
                </a:cubicBezTo>
                <a:cubicBezTo>
                  <a:pt x="2036" y="1960"/>
                  <a:pt x="2036" y="1960"/>
                  <a:pt x="2036" y="1960"/>
                </a:cubicBezTo>
                <a:cubicBezTo>
                  <a:pt x="2040" y="1956"/>
                  <a:pt x="2040" y="1956"/>
                  <a:pt x="2040" y="1956"/>
                </a:cubicBezTo>
                <a:cubicBezTo>
                  <a:pt x="2044" y="1952"/>
                  <a:pt x="2044" y="1952"/>
                  <a:pt x="2044" y="1952"/>
                </a:cubicBezTo>
                <a:cubicBezTo>
                  <a:pt x="2048" y="1948"/>
                  <a:pt x="2048" y="1948"/>
                  <a:pt x="2048" y="1948"/>
                </a:cubicBezTo>
                <a:cubicBezTo>
                  <a:pt x="2052" y="1944"/>
                  <a:pt x="2052" y="1944"/>
                  <a:pt x="2052" y="1944"/>
                </a:cubicBezTo>
                <a:cubicBezTo>
                  <a:pt x="2056" y="1940"/>
                  <a:pt x="2056" y="1940"/>
                  <a:pt x="2056" y="1940"/>
                </a:cubicBezTo>
                <a:cubicBezTo>
                  <a:pt x="2060" y="1936"/>
                  <a:pt x="2060" y="1936"/>
                  <a:pt x="2060" y="1936"/>
                </a:cubicBezTo>
                <a:cubicBezTo>
                  <a:pt x="2064" y="1932"/>
                  <a:pt x="2064" y="1932"/>
                  <a:pt x="2064" y="1932"/>
                </a:cubicBezTo>
                <a:cubicBezTo>
                  <a:pt x="2068" y="1928"/>
                  <a:pt x="2068" y="1928"/>
                  <a:pt x="2068" y="1928"/>
                </a:cubicBezTo>
                <a:cubicBezTo>
                  <a:pt x="2072" y="1924"/>
                  <a:pt x="2072" y="1924"/>
                  <a:pt x="2072" y="1924"/>
                </a:cubicBezTo>
                <a:cubicBezTo>
                  <a:pt x="2076" y="1920"/>
                  <a:pt x="2076" y="1920"/>
                  <a:pt x="2076" y="1920"/>
                </a:cubicBezTo>
                <a:cubicBezTo>
                  <a:pt x="2080" y="1916"/>
                  <a:pt x="2080" y="1916"/>
                  <a:pt x="2080" y="1916"/>
                </a:cubicBezTo>
                <a:cubicBezTo>
                  <a:pt x="2084" y="1912"/>
                  <a:pt x="2084" y="1912"/>
                  <a:pt x="2084" y="1912"/>
                </a:cubicBezTo>
                <a:cubicBezTo>
                  <a:pt x="2088" y="1908"/>
                  <a:pt x="2088" y="1908"/>
                  <a:pt x="2088" y="1908"/>
                </a:cubicBezTo>
                <a:cubicBezTo>
                  <a:pt x="2092" y="1904"/>
                  <a:pt x="2092" y="1904"/>
                  <a:pt x="2092" y="1904"/>
                </a:cubicBezTo>
                <a:cubicBezTo>
                  <a:pt x="2096" y="1900"/>
                  <a:pt x="2096" y="1900"/>
                  <a:pt x="2096" y="1900"/>
                </a:cubicBezTo>
                <a:cubicBezTo>
                  <a:pt x="2104" y="1892"/>
                  <a:pt x="2104" y="1892"/>
                  <a:pt x="2104" y="1892"/>
                </a:cubicBezTo>
                <a:cubicBezTo>
                  <a:pt x="2108" y="1888"/>
                  <a:pt x="2108" y="1888"/>
                  <a:pt x="2108" y="1888"/>
                </a:cubicBezTo>
                <a:cubicBezTo>
                  <a:pt x="2112" y="1884"/>
                  <a:pt x="2112" y="1884"/>
                  <a:pt x="2112" y="1884"/>
                </a:cubicBezTo>
                <a:cubicBezTo>
                  <a:pt x="2116" y="1880"/>
                  <a:pt x="2116" y="1880"/>
                  <a:pt x="2116" y="1880"/>
                </a:cubicBezTo>
                <a:cubicBezTo>
                  <a:pt x="2120" y="1876"/>
                  <a:pt x="2120" y="1876"/>
                  <a:pt x="2120" y="1876"/>
                </a:cubicBezTo>
                <a:cubicBezTo>
                  <a:pt x="2124" y="1872"/>
                  <a:pt x="2124" y="1872"/>
                  <a:pt x="2124" y="1872"/>
                </a:cubicBezTo>
                <a:cubicBezTo>
                  <a:pt x="2128" y="1868"/>
                  <a:pt x="2128" y="1868"/>
                  <a:pt x="2128" y="1868"/>
                </a:cubicBezTo>
                <a:cubicBezTo>
                  <a:pt x="2132" y="1864"/>
                  <a:pt x="2132" y="1864"/>
                  <a:pt x="2132" y="1864"/>
                </a:cubicBezTo>
                <a:cubicBezTo>
                  <a:pt x="2136" y="1860"/>
                  <a:pt x="2136" y="1860"/>
                  <a:pt x="2136" y="1860"/>
                </a:cubicBezTo>
                <a:cubicBezTo>
                  <a:pt x="2140" y="1856"/>
                  <a:pt x="2140" y="1856"/>
                  <a:pt x="2140" y="1856"/>
                </a:cubicBezTo>
                <a:cubicBezTo>
                  <a:pt x="2144" y="1852"/>
                  <a:pt x="2144" y="1852"/>
                  <a:pt x="2144" y="1852"/>
                </a:cubicBezTo>
                <a:cubicBezTo>
                  <a:pt x="2148" y="1848"/>
                  <a:pt x="2148" y="1848"/>
                  <a:pt x="2148" y="1848"/>
                </a:cubicBezTo>
                <a:cubicBezTo>
                  <a:pt x="2152" y="1844"/>
                  <a:pt x="2152" y="1844"/>
                  <a:pt x="2152" y="1844"/>
                </a:cubicBezTo>
                <a:cubicBezTo>
                  <a:pt x="2156" y="1840"/>
                  <a:pt x="2156" y="1840"/>
                  <a:pt x="2156" y="1840"/>
                </a:cubicBezTo>
                <a:cubicBezTo>
                  <a:pt x="2160" y="1836"/>
                  <a:pt x="2160" y="1836"/>
                  <a:pt x="2160" y="1836"/>
                </a:cubicBezTo>
                <a:cubicBezTo>
                  <a:pt x="2164" y="1832"/>
                  <a:pt x="2164" y="1832"/>
                  <a:pt x="2164" y="1832"/>
                </a:cubicBezTo>
                <a:cubicBezTo>
                  <a:pt x="2172" y="1824"/>
                  <a:pt x="2172" y="1824"/>
                  <a:pt x="2172" y="1824"/>
                </a:cubicBezTo>
                <a:cubicBezTo>
                  <a:pt x="2176" y="1820"/>
                  <a:pt x="2176" y="1820"/>
                  <a:pt x="2176" y="1820"/>
                </a:cubicBezTo>
                <a:cubicBezTo>
                  <a:pt x="2180" y="1816"/>
                  <a:pt x="2180" y="1816"/>
                  <a:pt x="2180" y="1816"/>
                </a:cubicBezTo>
                <a:cubicBezTo>
                  <a:pt x="2184" y="1812"/>
                  <a:pt x="2184" y="1812"/>
                  <a:pt x="2184" y="1812"/>
                </a:cubicBezTo>
                <a:cubicBezTo>
                  <a:pt x="2188" y="1808"/>
                  <a:pt x="2188" y="1808"/>
                  <a:pt x="2188" y="1808"/>
                </a:cubicBezTo>
                <a:cubicBezTo>
                  <a:pt x="2192" y="1804"/>
                  <a:pt x="2192" y="1804"/>
                  <a:pt x="2192" y="1804"/>
                </a:cubicBezTo>
                <a:cubicBezTo>
                  <a:pt x="2196" y="1800"/>
                  <a:pt x="2196" y="1800"/>
                  <a:pt x="2196" y="1800"/>
                </a:cubicBezTo>
                <a:cubicBezTo>
                  <a:pt x="2200" y="1796"/>
                  <a:pt x="2200" y="1796"/>
                  <a:pt x="2200" y="1796"/>
                </a:cubicBezTo>
                <a:cubicBezTo>
                  <a:pt x="2204" y="1792"/>
                  <a:pt x="2204" y="1792"/>
                  <a:pt x="2204" y="1792"/>
                </a:cubicBezTo>
                <a:cubicBezTo>
                  <a:pt x="2208" y="1788"/>
                  <a:pt x="2208" y="1788"/>
                  <a:pt x="2208" y="1788"/>
                </a:cubicBezTo>
                <a:cubicBezTo>
                  <a:pt x="2212" y="1784"/>
                  <a:pt x="2212" y="1784"/>
                  <a:pt x="2212" y="1784"/>
                </a:cubicBezTo>
                <a:cubicBezTo>
                  <a:pt x="2216" y="1780"/>
                  <a:pt x="2216" y="1780"/>
                  <a:pt x="2216" y="1780"/>
                </a:cubicBezTo>
                <a:cubicBezTo>
                  <a:pt x="2220" y="1776"/>
                  <a:pt x="2220" y="1776"/>
                  <a:pt x="2220" y="1776"/>
                </a:cubicBezTo>
                <a:cubicBezTo>
                  <a:pt x="2224" y="1772"/>
                  <a:pt x="2224" y="1772"/>
                  <a:pt x="2224" y="1772"/>
                </a:cubicBezTo>
                <a:cubicBezTo>
                  <a:pt x="2228" y="1768"/>
                  <a:pt x="2228" y="1768"/>
                  <a:pt x="2228" y="1768"/>
                </a:cubicBezTo>
                <a:cubicBezTo>
                  <a:pt x="2232" y="1764"/>
                  <a:pt x="2232" y="1764"/>
                  <a:pt x="2232" y="1764"/>
                </a:cubicBezTo>
                <a:cubicBezTo>
                  <a:pt x="2240" y="1756"/>
                  <a:pt x="2240" y="1756"/>
                  <a:pt x="2240" y="1756"/>
                </a:cubicBezTo>
                <a:cubicBezTo>
                  <a:pt x="2244" y="1752"/>
                  <a:pt x="2244" y="1752"/>
                  <a:pt x="2244" y="1752"/>
                </a:cubicBezTo>
                <a:cubicBezTo>
                  <a:pt x="2248" y="1748"/>
                  <a:pt x="2248" y="1748"/>
                  <a:pt x="2248" y="1748"/>
                </a:cubicBezTo>
                <a:cubicBezTo>
                  <a:pt x="2252" y="1744"/>
                  <a:pt x="2252" y="1744"/>
                  <a:pt x="2252" y="1744"/>
                </a:cubicBezTo>
                <a:cubicBezTo>
                  <a:pt x="2256" y="1740"/>
                  <a:pt x="2256" y="1740"/>
                  <a:pt x="2256" y="1740"/>
                </a:cubicBezTo>
                <a:cubicBezTo>
                  <a:pt x="2260" y="1736"/>
                  <a:pt x="2260" y="1736"/>
                  <a:pt x="2260" y="1736"/>
                </a:cubicBezTo>
                <a:cubicBezTo>
                  <a:pt x="2264" y="1732"/>
                  <a:pt x="2264" y="1732"/>
                  <a:pt x="2264" y="1732"/>
                </a:cubicBezTo>
                <a:cubicBezTo>
                  <a:pt x="2268" y="1728"/>
                  <a:pt x="2268" y="1728"/>
                  <a:pt x="2268" y="1728"/>
                </a:cubicBezTo>
                <a:cubicBezTo>
                  <a:pt x="2272" y="1724"/>
                  <a:pt x="2272" y="1724"/>
                  <a:pt x="2272" y="1724"/>
                </a:cubicBezTo>
                <a:cubicBezTo>
                  <a:pt x="2276" y="1720"/>
                  <a:pt x="2276" y="1720"/>
                  <a:pt x="2276" y="1720"/>
                </a:cubicBezTo>
                <a:cubicBezTo>
                  <a:pt x="2280" y="1716"/>
                  <a:pt x="2280" y="1716"/>
                  <a:pt x="2280" y="1716"/>
                </a:cubicBezTo>
                <a:cubicBezTo>
                  <a:pt x="2284" y="1712"/>
                  <a:pt x="2284" y="1712"/>
                  <a:pt x="2284" y="1712"/>
                </a:cubicBezTo>
                <a:cubicBezTo>
                  <a:pt x="2288" y="1708"/>
                  <a:pt x="2288" y="1708"/>
                  <a:pt x="2288" y="1708"/>
                </a:cubicBezTo>
                <a:cubicBezTo>
                  <a:pt x="2292" y="1704"/>
                  <a:pt x="2292" y="1704"/>
                  <a:pt x="2292" y="1704"/>
                </a:cubicBezTo>
                <a:cubicBezTo>
                  <a:pt x="2296" y="1700"/>
                  <a:pt x="2296" y="1700"/>
                  <a:pt x="2296" y="1700"/>
                </a:cubicBezTo>
                <a:cubicBezTo>
                  <a:pt x="2300" y="1696"/>
                  <a:pt x="2300" y="1696"/>
                  <a:pt x="2300" y="1696"/>
                </a:cubicBezTo>
                <a:cubicBezTo>
                  <a:pt x="2308" y="1688"/>
                  <a:pt x="2308" y="1688"/>
                  <a:pt x="2308" y="1688"/>
                </a:cubicBezTo>
                <a:cubicBezTo>
                  <a:pt x="2312" y="1684"/>
                  <a:pt x="2312" y="1684"/>
                  <a:pt x="2312" y="1684"/>
                </a:cubicBezTo>
                <a:cubicBezTo>
                  <a:pt x="2316" y="1680"/>
                  <a:pt x="2316" y="1680"/>
                  <a:pt x="2316" y="1680"/>
                </a:cubicBezTo>
                <a:cubicBezTo>
                  <a:pt x="2320" y="1676"/>
                  <a:pt x="2320" y="1676"/>
                  <a:pt x="2320" y="1676"/>
                </a:cubicBezTo>
                <a:cubicBezTo>
                  <a:pt x="2324" y="1672"/>
                  <a:pt x="2324" y="1672"/>
                  <a:pt x="2324" y="1672"/>
                </a:cubicBezTo>
                <a:cubicBezTo>
                  <a:pt x="2328" y="1668"/>
                  <a:pt x="2328" y="1668"/>
                  <a:pt x="2328" y="1668"/>
                </a:cubicBezTo>
                <a:cubicBezTo>
                  <a:pt x="2332" y="1664"/>
                  <a:pt x="2332" y="1664"/>
                  <a:pt x="2332" y="1664"/>
                </a:cubicBezTo>
                <a:cubicBezTo>
                  <a:pt x="2336" y="1660"/>
                  <a:pt x="2336" y="1660"/>
                  <a:pt x="2336" y="1660"/>
                </a:cubicBezTo>
                <a:cubicBezTo>
                  <a:pt x="2340" y="1656"/>
                  <a:pt x="2340" y="1656"/>
                  <a:pt x="2340" y="1656"/>
                </a:cubicBezTo>
                <a:cubicBezTo>
                  <a:pt x="2344" y="1652"/>
                  <a:pt x="2344" y="1652"/>
                  <a:pt x="2344" y="1652"/>
                </a:cubicBezTo>
                <a:cubicBezTo>
                  <a:pt x="2348" y="1648"/>
                  <a:pt x="2348" y="1648"/>
                  <a:pt x="2348" y="1648"/>
                </a:cubicBezTo>
                <a:cubicBezTo>
                  <a:pt x="2352" y="1644"/>
                  <a:pt x="2352" y="1644"/>
                  <a:pt x="2352" y="1644"/>
                </a:cubicBezTo>
                <a:cubicBezTo>
                  <a:pt x="2356" y="1640"/>
                  <a:pt x="2356" y="1640"/>
                  <a:pt x="2356" y="1640"/>
                </a:cubicBezTo>
                <a:cubicBezTo>
                  <a:pt x="2360" y="1636"/>
                  <a:pt x="2360" y="1636"/>
                  <a:pt x="2360" y="1636"/>
                </a:cubicBezTo>
                <a:cubicBezTo>
                  <a:pt x="2364" y="1632"/>
                  <a:pt x="2364" y="1632"/>
                  <a:pt x="2364" y="1632"/>
                </a:cubicBezTo>
                <a:cubicBezTo>
                  <a:pt x="2368" y="1628"/>
                  <a:pt x="2368" y="1628"/>
                  <a:pt x="2368" y="1628"/>
                </a:cubicBezTo>
                <a:cubicBezTo>
                  <a:pt x="2376" y="1620"/>
                  <a:pt x="2376" y="1620"/>
                  <a:pt x="2376" y="1620"/>
                </a:cubicBezTo>
                <a:cubicBezTo>
                  <a:pt x="2380" y="1616"/>
                  <a:pt x="2380" y="1616"/>
                  <a:pt x="2380" y="1616"/>
                </a:cubicBezTo>
                <a:cubicBezTo>
                  <a:pt x="2384" y="1612"/>
                  <a:pt x="2384" y="1612"/>
                  <a:pt x="2384" y="1612"/>
                </a:cubicBezTo>
                <a:cubicBezTo>
                  <a:pt x="2388" y="1608"/>
                  <a:pt x="2388" y="1608"/>
                  <a:pt x="2388" y="1608"/>
                </a:cubicBezTo>
                <a:cubicBezTo>
                  <a:pt x="2392" y="1604"/>
                  <a:pt x="2392" y="1604"/>
                  <a:pt x="2392" y="1604"/>
                </a:cubicBezTo>
                <a:cubicBezTo>
                  <a:pt x="2396" y="1600"/>
                  <a:pt x="2396" y="1600"/>
                  <a:pt x="2396" y="1600"/>
                </a:cubicBezTo>
                <a:cubicBezTo>
                  <a:pt x="2400" y="1596"/>
                  <a:pt x="2400" y="1596"/>
                  <a:pt x="2400" y="1596"/>
                </a:cubicBezTo>
                <a:cubicBezTo>
                  <a:pt x="2404" y="1592"/>
                  <a:pt x="2404" y="1592"/>
                  <a:pt x="2404" y="1592"/>
                </a:cubicBezTo>
                <a:cubicBezTo>
                  <a:pt x="2408" y="1588"/>
                  <a:pt x="2408" y="1588"/>
                  <a:pt x="2408" y="1588"/>
                </a:cubicBezTo>
                <a:cubicBezTo>
                  <a:pt x="2412" y="1584"/>
                  <a:pt x="2412" y="1584"/>
                  <a:pt x="2412" y="1584"/>
                </a:cubicBezTo>
                <a:cubicBezTo>
                  <a:pt x="2416" y="1580"/>
                  <a:pt x="2416" y="1580"/>
                  <a:pt x="2416" y="1580"/>
                </a:cubicBezTo>
                <a:cubicBezTo>
                  <a:pt x="2420" y="1576"/>
                  <a:pt x="2420" y="1576"/>
                  <a:pt x="2420" y="1576"/>
                </a:cubicBezTo>
                <a:cubicBezTo>
                  <a:pt x="2424" y="1572"/>
                  <a:pt x="2424" y="1572"/>
                  <a:pt x="2424" y="1572"/>
                </a:cubicBezTo>
                <a:cubicBezTo>
                  <a:pt x="2428" y="1568"/>
                  <a:pt x="2428" y="1568"/>
                  <a:pt x="2428" y="1568"/>
                </a:cubicBezTo>
                <a:cubicBezTo>
                  <a:pt x="2432" y="1564"/>
                  <a:pt x="2432" y="1564"/>
                  <a:pt x="2432" y="1564"/>
                </a:cubicBezTo>
                <a:cubicBezTo>
                  <a:pt x="2436" y="1560"/>
                  <a:pt x="2436" y="1560"/>
                  <a:pt x="2436" y="1560"/>
                </a:cubicBezTo>
                <a:cubicBezTo>
                  <a:pt x="2444" y="1552"/>
                  <a:pt x="2444" y="1552"/>
                  <a:pt x="2444" y="1552"/>
                </a:cubicBezTo>
                <a:cubicBezTo>
                  <a:pt x="2448" y="1548"/>
                  <a:pt x="2448" y="1548"/>
                  <a:pt x="2448" y="1548"/>
                </a:cubicBezTo>
                <a:cubicBezTo>
                  <a:pt x="2452" y="1544"/>
                  <a:pt x="2452" y="1544"/>
                  <a:pt x="2452" y="1544"/>
                </a:cubicBezTo>
                <a:cubicBezTo>
                  <a:pt x="2456" y="1540"/>
                  <a:pt x="2456" y="1540"/>
                  <a:pt x="2456" y="1540"/>
                </a:cubicBezTo>
                <a:cubicBezTo>
                  <a:pt x="2460" y="1536"/>
                  <a:pt x="2460" y="1536"/>
                  <a:pt x="2460" y="1536"/>
                </a:cubicBezTo>
                <a:cubicBezTo>
                  <a:pt x="2464" y="1532"/>
                  <a:pt x="2464" y="1532"/>
                  <a:pt x="2464" y="1532"/>
                </a:cubicBezTo>
                <a:cubicBezTo>
                  <a:pt x="2468" y="1528"/>
                  <a:pt x="2468" y="1528"/>
                  <a:pt x="2468" y="1528"/>
                </a:cubicBezTo>
                <a:cubicBezTo>
                  <a:pt x="2472" y="1524"/>
                  <a:pt x="2472" y="1524"/>
                  <a:pt x="2472" y="1524"/>
                </a:cubicBezTo>
                <a:cubicBezTo>
                  <a:pt x="2476" y="1520"/>
                  <a:pt x="2476" y="1520"/>
                  <a:pt x="2476" y="1520"/>
                </a:cubicBezTo>
                <a:cubicBezTo>
                  <a:pt x="2484" y="1512"/>
                  <a:pt x="2484" y="1512"/>
                  <a:pt x="2484" y="1512"/>
                </a:cubicBezTo>
                <a:cubicBezTo>
                  <a:pt x="2488" y="1508"/>
                  <a:pt x="2488" y="1508"/>
                  <a:pt x="2488" y="1508"/>
                </a:cubicBezTo>
                <a:cubicBezTo>
                  <a:pt x="2492" y="1504"/>
                  <a:pt x="2492" y="1504"/>
                  <a:pt x="2492" y="1504"/>
                </a:cubicBezTo>
                <a:cubicBezTo>
                  <a:pt x="2496" y="1500"/>
                  <a:pt x="2496" y="1500"/>
                  <a:pt x="2496" y="1500"/>
                </a:cubicBezTo>
                <a:cubicBezTo>
                  <a:pt x="2500" y="1496"/>
                  <a:pt x="2500" y="1496"/>
                  <a:pt x="2500" y="1496"/>
                </a:cubicBezTo>
                <a:cubicBezTo>
                  <a:pt x="2504" y="1492"/>
                  <a:pt x="2504" y="1492"/>
                  <a:pt x="2504" y="1492"/>
                </a:cubicBezTo>
                <a:cubicBezTo>
                  <a:pt x="2512" y="1484"/>
                  <a:pt x="2512" y="1484"/>
                  <a:pt x="2512" y="1484"/>
                </a:cubicBezTo>
                <a:cubicBezTo>
                  <a:pt x="2516" y="1480"/>
                  <a:pt x="2516" y="1480"/>
                  <a:pt x="2516" y="1480"/>
                </a:cubicBezTo>
                <a:cubicBezTo>
                  <a:pt x="2520" y="1476"/>
                  <a:pt x="2520" y="1476"/>
                  <a:pt x="2520" y="1476"/>
                </a:cubicBezTo>
                <a:cubicBezTo>
                  <a:pt x="2524" y="1472"/>
                  <a:pt x="2524" y="1472"/>
                  <a:pt x="2524" y="1472"/>
                </a:cubicBezTo>
                <a:cubicBezTo>
                  <a:pt x="2528" y="1468"/>
                  <a:pt x="2528" y="1468"/>
                  <a:pt x="2528" y="1468"/>
                </a:cubicBezTo>
                <a:cubicBezTo>
                  <a:pt x="2532" y="1464"/>
                  <a:pt x="2532" y="1464"/>
                  <a:pt x="2532" y="1464"/>
                </a:cubicBezTo>
                <a:cubicBezTo>
                  <a:pt x="2536" y="1460"/>
                  <a:pt x="2536" y="1460"/>
                  <a:pt x="2536" y="1460"/>
                </a:cubicBezTo>
                <a:cubicBezTo>
                  <a:pt x="2540" y="1456"/>
                  <a:pt x="2540" y="1456"/>
                  <a:pt x="2540" y="1456"/>
                </a:cubicBezTo>
                <a:cubicBezTo>
                  <a:pt x="2544" y="1452"/>
                  <a:pt x="2544" y="1452"/>
                  <a:pt x="2544" y="1452"/>
                </a:cubicBezTo>
                <a:cubicBezTo>
                  <a:pt x="2552" y="1444"/>
                  <a:pt x="2552" y="1444"/>
                  <a:pt x="2552" y="1444"/>
                </a:cubicBezTo>
                <a:cubicBezTo>
                  <a:pt x="2556" y="1440"/>
                  <a:pt x="2556" y="1440"/>
                  <a:pt x="2556" y="1440"/>
                </a:cubicBezTo>
                <a:cubicBezTo>
                  <a:pt x="2560" y="1436"/>
                  <a:pt x="2560" y="1436"/>
                  <a:pt x="2560" y="1436"/>
                </a:cubicBezTo>
                <a:cubicBezTo>
                  <a:pt x="2564" y="1432"/>
                  <a:pt x="2564" y="1432"/>
                  <a:pt x="2564" y="1432"/>
                </a:cubicBezTo>
                <a:cubicBezTo>
                  <a:pt x="2568" y="1428"/>
                  <a:pt x="2568" y="1428"/>
                  <a:pt x="2568" y="1428"/>
                </a:cubicBezTo>
                <a:cubicBezTo>
                  <a:pt x="2572" y="1424"/>
                  <a:pt x="2572" y="1424"/>
                  <a:pt x="2572" y="1424"/>
                </a:cubicBezTo>
                <a:cubicBezTo>
                  <a:pt x="2580" y="1416"/>
                  <a:pt x="2580" y="1416"/>
                  <a:pt x="2580" y="1416"/>
                </a:cubicBezTo>
                <a:cubicBezTo>
                  <a:pt x="2584" y="1412"/>
                  <a:pt x="2584" y="1412"/>
                  <a:pt x="2584" y="1412"/>
                </a:cubicBezTo>
                <a:cubicBezTo>
                  <a:pt x="2588" y="1408"/>
                  <a:pt x="2588" y="1408"/>
                  <a:pt x="2588" y="1408"/>
                </a:cubicBezTo>
                <a:cubicBezTo>
                  <a:pt x="2592" y="1404"/>
                  <a:pt x="2592" y="1404"/>
                  <a:pt x="2592" y="1404"/>
                </a:cubicBezTo>
                <a:cubicBezTo>
                  <a:pt x="2596" y="1400"/>
                  <a:pt x="2596" y="1400"/>
                  <a:pt x="2596" y="1400"/>
                </a:cubicBezTo>
                <a:cubicBezTo>
                  <a:pt x="2600" y="1396"/>
                  <a:pt x="2600" y="1396"/>
                  <a:pt x="2600" y="1396"/>
                </a:cubicBezTo>
                <a:cubicBezTo>
                  <a:pt x="2604" y="1392"/>
                  <a:pt x="2604" y="1392"/>
                  <a:pt x="2604" y="1392"/>
                </a:cubicBezTo>
                <a:cubicBezTo>
                  <a:pt x="2608" y="1388"/>
                  <a:pt x="2608" y="1388"/>
                  <a:pt x="2608" y="1388"/>
                </a:cubicBezTo>
                <a:cubicBezTo>
                  <a:pt x="2612" y="1384"/>
                  <a:pt x="2612" y="1384"/>
                  <a:pt x="2612" y="1384"/>
                </a:cubicBezTo>
                <a:cubicBezTo>
                  <a:pt x="2620" y="1376"/>
                  <a:pt x="2620" y="1376"/>
                  <a:pt x="2620" y="1376"/>
                </a:cubicBezTo>
                <a:cubicBezTo>
                  <a:pt x="2624" y="1372"/>
                  <a:pt x="2624" y="1372"/>
                  <a:pt x="2624" y="1372"/>
                </a:cubicBezTo>
                <a:cubicBezTo>
                  <a:pt x="2628" y="1368"/>
                  <a:pt x="2628" y="1368"/>
                  <a:pt x="2628" y="1368"/>
                </a:cubicBezTo>
                <a:cubicBezTo>
                  <a:pt x="2632" y="1364"/>
                  <a:pt x="2632" y="1364"/>
                  <a:pt x="2632" y="1364"/>
                </a:cubicBezTo>
                <a:cubicBezTo>
                  <a:pt x="2636" y="1360"/>
                  <a:pt x="2636" y="1360"/>
                  <a:pt x="2636" y="1360"/>
                </a:cubicBezTo>
                <a:cubicBezTo>
                  <a:pt x="2640" y="1356"/>
                  <a:pt x="2640" y="1356"/>
                  <a:pt x="2640" y="1356"/>
                </a:cubicBezTo>
                <a:cubicBezTo>
                  <a:pt x="2648" y="1348"/>
                  <a:pt x="2648" y="1348"/>
                  <a:pt x="2648" y="1348"/>
                </a:cubicBezTo>
                <a:cubicBezTo>
                  <a:pt x="2652" y="1344"/>
                  <a:pt x="2652" y="1344"/>
                  <a:pt x="2652" y="1344"/>
                </a:cubicBezTo>
                <a:cubicBezTo>
                  <a:pt x="2656" y="1340"/>
                  <a:pt x="2656" y="1340"/>
                  <a:pt x="2656" y="1340"/>
                </a:cubicBezTo>
                <a:cubicBezTo>
                  <a:pt x="2660" y="1336"/>
                  <a:pt x="2660" y="1336"/>
                  <a:pt x="2660" y="1336"/>
                </a:cubicBezTo>
                <a:cubicBezTo>
                  <a:pt x="2664" y="1332"/>
                  <a:pt x="2664" y="1332"/>
                  <a:pt x="2664" y="1332"/>
                </a:cubicBezTo>
                <a:cubicBezTo>
                  <a:pt x="2668" y="1328"/>
                  <a:pt x="2668" y="1328"/>
                  <a:pt x="2668" y="1328"/>
                </a:cubicBezTo>
                <a:cubicBezTo>
                  <a:pt x="2672" y="1324"/>
                  <a:pt x="2672" y="1324"/>
                  <a:pt x="2672" y="1324"/>
                </a:cubicBezTo>
                <a:cubicBezTo>
                  <a:pt x="2676" y="1320"/>
                  <a:pt x="2676" y="1320"/>
                  <a:pt x="2676" y="1320"/>
                </a:cubicBezTo>
                <a:cubicBezTo>
                  <a:pt x="2680" y="1316"/>
                  <a:pt x="2680" y="1316"/>
                  <a:pt x="2680" y="1316"/>
                </a:cubicBezTo>
                <a:cubicBezTo>
                  <a:pt x="2688" y="1308"/>
                  <a:pt x="2688" y="1308"/>
                  <a:pt x="2688" y="1308"/>
                </a:cubicBezTo>
                <a:cubicBezTo>
                  <a:pt x="2692" y="1304"/>
                  <a:pt x="2692" y="1304"/>
                  <a:pt x="2692" y="1304"/>
                </a:cubicBezTo>
                <a:cubicBezTo>
                  <a:pt x="2696" y="1300"/>
                  <a:pt x="2696" y="1300"/>
                  <a:pt x="2696" y="1300"/>
                </a:cubicBezTo>
                <a:cubicBezTo>
                  <a:pt x="2700" y="1296"/>
                  <a:pt x="2700" y="1296"/>
                  <a:pt x="2700" y="1296"/>
                </a:cubicBezTo>
                <a:cubicBezTo>
                  <a:pt x="2704" y="1292"/>
                  <a:pt x="2704" y="1292"/>
                  <a:pt x="2704" y="1292"/>
                </a:cubicBezTo>
                <a:cubicBezTo>
                  <a:pt x="2708" y="1288"/>
                  <a:pt x="2708" y="1288"/>
                  <a:pt x="2708" y="1288"/>
                </a:cubicBezTo>
                <a:cubicBezTo>
                  <a:pt x="2712" y="1284"/>
                  <a:pt x="2712" y="1284"/>
                  <a:pt x="2712" y="1284"/>
                </a:cubicBezTo>
                <a:cubicBezTo>
                  <a:pt x="2716" y="1280"/>
                  <a:pt x="2716" y="1280"/>
                  <a:pt x="2716" y="1280"/>
                </a:cubicBezTo>
                <a:cubicBezTo>
                  <a:pt x="2720" y="1276"/>
                  <a:pt x="2720" y="1276"/>
                  <a:pt x="2720" y="1276"/>
                </a:cubicBezTo>
                <a:cubicBezTo>
                  <a:pt x="2724" y="1272"/>
                  <a:pt x="2724" y="1272"/>
                  <a:pt x="2724" y="1272"/>
                </a:cubicBezTo>
                <a:cubicBezTo>
                  <a:pt x="2728" y="1268"/>
                  <a:pt x="2728" y="1268"/>
                  <a:pt x="2728" y="1268"/>
                </a:cubicBezTo>
                <a:cubicBezTo>
                  <a:pt x="2732" y="1264"/>
                  <a:pt x="2732" y="1264"/>
                  <a:pt x="2732" y="1264"/>
                </a:cubicBezTo>
                <a:cubicBezTo>
                  <a:pt x="2736" y="1260"/>
                  <a:pt x="2736" y="1260"/>
                  <a:pt x="2736" y="1260"/>
                </a:cubicBezTo>
                <a:cubicBezTo>
                  <a:pt x="2740" y="1256"/>
                  <a:pt x="2740" y="1256"/>
                  <a:pt x="2740" y="1256"/>
                </a:cubicBezTo>
                <a:cubicBezTo>
                  <a:pt x="2744" y="1252"/>
                  <a:pt x="2744" y="1252"/>
                  <a:pt x="2744" y="1252"/>
                </a:cubicBezTo>
                <a:cubicBezTo>
                  <a:pt x="2748" y="1248"/>
                  <a:pt x="2748" y="1248"/>
                  <a:pt x="2748" y="1248"/>
                </a:cubicBezTo>
                <a:cubicBezTo>
                  <a:pt x="2756" y="1240"/>
                  <a:pt x="2756" y="1240"/>
                  <a:pt x="2756" y="1240"/>
                </a:cubicBezTo>
                <a:cubicBezTo>
                  <a:pt x="2760" y="1236"/>
                  <a:pt x="2760" y="1236"/>
                  <a:pt x="2760" y="1236"/>
                </a:cubicBezTo>
                <a:cubicBezTo>
                  <a:pt x="2764" y="1232"/>
                  <a:pt x="2764" y="1232"/>
                  <a:pt x="2764" y="1232"/>
                </a:cubicBezTo>
                <a:cubicBezTo>
                  <a:pt x="2768" y="1228"/>
                  <a:pt x="2768" y="1228"/>
                  <a:pt x="2768" y="1228"/>
                </a:cubicBezTo>
                <a:cubicBezTo>
                  <a:pt x="2772" y="1224"/>
                  <a:pt x="2772" y="1224"/>
                  <a:pt x="2772" y="1224"/>
                </a:cubicBezTo>
                <a:cubicBezTo>
                  <a:pt x="2776" y="1220"/>
                  <a:pt x="2776" y="1220"/>
                  <a:pt x="2776" y="1220"/>
                </a:cubicBezTo>
                <a:cubicBezTo>
                  <a:pt x="2780" y="1216"/>
                  <a:pt x="2780" y="1216"/>
                  <a:pt x="2780" y="1216"/>
                </a:cubicBezTo>
                <a:cubicBezTo>
                  <a:pt x="2784" y="1212"/>
                  <a:pt x="2784" y="1212"/>
                  <a:pt x="2784" y="1212"/>
                </a:cubicBezTo>
                <a:cubicBezTo>
                  <a:pt x="2788" y="1208"/>
                  <a:pt x="2788" y="1208"/>
                  <a:pt x="2788" y="1208"/>
                </a:cubicBezTo>
                <a:cubicBezTo>
                  <a:pt x="2792" y="1204"/>
                  <a:pt x="2792" y="1204"/>
                  <a:pt x="2792" y="1204"/>
                </a:cubicBezTo>
                <a:cubicBezTo>
                  <a:pt x="2796" y="1200"/>
                  <a:pt x="2796" y="1200"/>
                  <a:pt x="2796" y="1200"/>
                </a:cubicBezTo>
                <a:cubicBezTo>
                  <a:pt x="2800" y="1196"/>
                  <a:pt x="2800" y="1196"/>
                  <a:pt x="2800" y="1196"/>
                </a:cubicBezTo>
                <a:cubicBezTo>
                  <a:pt x="2804" y="1192"/>
                  <a:pt x="2804" y="1192"/>
                  <a:pt x="2804" y="1192"/>
                </a:cubicBezTo>
                <a:cubicBezTo>
                  <a:pt x="2808" y="1188"/>
                  <a:pt x="2808" y="1188"/>
                  <a:pt x="2808" y="1188"/>
                </a:cubicBezTo>
                <a:cubicBezTo>
                  <a:pt x="2812" y="1184"/>
                  <a:pt x="2812" y="1184"/>
                  <a:pt x="2812" y="1184"/>
                </a:cubicBezTo>
                <a:cubicBezTo>
                  <a:pt x="2816" y="1180"/>
                  <a:pt x="2816" y="1180"/>
                  <a:pt x="2816" y="1180"/>
                </a:cubicBezTo>
                <a:cubicBezTo>
                  <a:pt x="2824" y="1172"/>
                  <a:pt x="2824" y="1172"/>
                  <a:pt x="2824" y="1172"/>
                </a:cubicBezTo>
                <a:cubicBezTo>
                  <a:pt x="2828" y="1168"/>
                  <a:pt x="2828" y="1168"/>
                  <a:pt x="2828" y="1168"/>
                </a:cubicBezTo>
                <a:cubicBezTo>
                  <a:pt x="2832" y="1164"/>
                  <a:pt x="2832" y="1164"/>
                  <a:pt x="2832" y="1164"/>
                </a:cubicBezTo>
                <a:cubicBezTo>
                  <a:pt x="2836" y="1160"/>
                  <a:pt x="2836" y="1160"/>
                  <a:pt x="2836" y="1160"/>
                </a:cubicBezTo>
                <a:cubicBezTo>
                  <a:pt x="2840" y="1156"/>
                  <a:pt x="2840" y="1156"/>
                  <a:pt x="2840" y="1156"/>
                </a:cubicBezTo>
                <a:cubicBezTo>
                  <a:pt x="2844" y="1152"/>
                  <a:pt x="2844" y="1152"/>
                  <a:pt x="2844" y="1152"/>
                </a:cubicBezTo>
                <a:cubicBezTo>
                  <a:pt x="2848" y="1148"/>
                  <a:pt x="2848" y="1148"/>
                  <a:pt x="2848" y="1148"/>
                </a:cubicBezTo>
                <a:cubicBezTo>
                  <a:pt x="2852" y="1144"/>
                  <a:pt x="2852" y="1144"/>
                  <a:pt x="2852" y="1144"/>
                </a:cubicBezTo>
                <a:cubicBezTo>
                  <a:pt x="2856" y="1140"/>
                  <a:pt x="2856" y="1140"/>
                  <a:pt x="2856" y="1140"/>
                </a:cubicBezTo>
                <a:cubicBezTo>
                  <a:pt x="2860" y="1136"/>
                  <a:pt x="2860" y="1136"/>
                  <a:pt x="2860" y="1136"/>
                </a:cubicBezTo>
                <a:cubicBezTo>
                  <a:pt x="2864" y="1132"/>
                  <a:pt x="2864" y="1132"/>
                  <a:pt x="2864" y="1132"/>
                </a:cubicBezTo>
                <a:cubicBezTo>
                  <a:pt x="2868" y="1128"/>
                  <a:pt x="2868" y="1128"/>
                  <a:pt x="2868" y="1128"/>
                </a:cubicBezTo>
                <a:cubicBezTo>
                  <a:pt x="2872" y="1124"/>
                  <a:pt x="2872" y="1124"/>
                  <a:pt x="2872" y="1124"/>
                </a:cubicBezTo>
                <a:cubicBezTo>
                  <a:pt x="2876" y="1120"/>
                  <a:pt x="2876" y="1120"/>
                  <a:pt x="2876" y="1120"/>
                </a:cubicBezTo>
                <a:cubicBezTo>
                  <a:pt x="2880" y="1116"/>
                  <a:pt x="2880" y="1116"/>
                  <a:pt x="2880" y="1116"/>
                </a:cubicBezTo>
                <a:cubicBezTo>
                  <a:pt x="2884" y="1112"/>
                  <a:pt x="2884" y="1112"/>
                  <a:pt x="2884" y="1112"/>
                </a:cubicBezTo>
                <a:cubicBezTo>
                  <a:pt x="2892" y="1104"/>
                  <a:pt x="2892" y="1104"/>
                  <a:pt x="2892" y="1104"/>
                </a:cubicBezTo>
                <a:cubicBezTo>
                  <a:pt x="2896" y="1100"/>
                  <a:pt x="2896" y="1100"/>
                  <a:pt x="2896" y="1100"/>
                </a:cubicBezTo>
                <a:cubicBezTo>
                  <a:pt x="2900" y="1096"/>
                  <a:pt x="2900" y="1096"/>
                  <a:pt x="2900" y="1096"/>
                </a:cubicBezTo>
                <a:cubicBezTo>
                  <a:pt x="2904" y="1092"/>
                  <a:pt x="2904" y="1092"/>
                  <a:pt x="2904" y="1092"/>
                </a:cubicBezTo>
                <a:cubicBezTo>
                  <a:pt x="2908" y="1088"/>
                  <a:pt x="2908" y="1088"/>
                  <a:pt x="2908" y="1088"/>
                </a:cubicBezTo>
                <a:cubicBezTo>
                  <a:pt x="2912" y="1084"/>
                  <a:pt x="2912" y="1084"/>
                  <a:pt x="2912" y="1084"/>
                </a:cubicBezTo>
                <a:cubicBezTo>
                  <a:pt x="2916" y="1080"/>
                  <a:pt x="2916" y="1080"/>
                  <a:pt x="2916" y="1080"/>
                </a:cubicBezTo>
                <a:cubicBezTo>
                  <a:pt x="2920" y="1076"/>
                  <a:pt x="2920" y="1076"/>
                  <a:pt x="2920" y="1076"/>
                </a:cubicBezTo>
                <a:cubicBezTo>
                  <a:pt x="2924" y="1072"/>
                  <a:pt x="2924" y="1072"/>
                  <a:pt x="2924" y="1072"/>
                </a:cubicBezTo>
                <a:cubicBezTo>
                  <a:pt x="2928" y="1068"/>
                  <a:pt x="2928" y="1068"/>
                  <a:pt x="2928" y="1068"/>
                </a:cubicBezTo>
                <a:cubicBezTo>
                  <a:pt x="2932" y="1064"/>
                  <a:pt x="2932" y="1064"/>
                  <a:pt x="2932" y="1064"/>
                </a:cubicBezTo>
                <a:cubicBezTo>
                  <a:pt x="2936" y="1060"/>
                  <a:pt x="2936" y="1060"/>
                  <a:pt x="2936" y="1060"/>
                </a:cubicBezTo>
                <a:cubicBezTo>
                  <a:pt x="2940" y="1056"/>
                  <a:pt x="2940" y="1056"/>
                  <a:pt x="2940" y="1056"/>
                </a:cubicBezTo>
                <a:cubicBezTo>
                  <a:pt x="2944" y="1052"/>
                  <a:pt x="2944" y="1052"/>
                  <a:pt x="2944" y="1052"/>
                </a:cubicBezTo>
                <a:cubicBezTo>
                  <a:pt x="2948" y="1048"/>
                  <a:pt x="2948" y="1048"/>
                  <a:pt x="2948" y="1048"/>
                </a:cubicBezTo>
                <a:cubicBezTo>
                  <a:pt x="2952" y="1044"/>
                  <a:pt x="2952" y="1044"/>
                  <a:pt x="2952" y="1044"/>
                </a:cubicBezTo>
                <a:cubicBezTo>
                  <a:pt x="2960" y="1036"/>
                  <a:pt x="2960" y="1036"/>
                  <a:pt x="2960" y="1036"/>
                </a:cubicBezTo>
                <a:cubicBezTo>
                  <a:pt x="2964" y="1032"/>
                  <a:pt x="2964" y="1032"/>
                  <a:pt x="2964" y="1032"/>
                </a:cubicBezTo>
                <a:cubicBezTo>
                  <a:pt x="2968" y="1028"/>
                  <a:pt x="2968" y="1028"/>
                  <a:pt x="2968" y="1028"/>
                </a:cubicBezTo>
                <a:cubicBezTo>
                  <a:pt x="2972" y="1024"/>
                  <a:pt x="2972" y="1024"/>
                  <a:pt x="2972" y="1024"/>
                </a:cubicBezTo>
                <a:cubicBezTo>
                  <a:pt x="2976" y="1020"/>
                  <a:pt x="2976" y="1020"/>
                  <a:pt x="2976" y="1020"/>
                </a:cubicBezTo>
                <a:cubicBezTo>
                  <a:pt x="2980" y="1016"/>
                  <a:pt x="2980" y="1016"/>
                  <a:pt x="2980" y="1016"/>
                </a:cubicBezTo>
                <a:cubicBezTo>
                  <a:pt x="2984" y="1012"/>
                  <a:pt x="2984" y="1012"/>
                  <a:pt x="2984" y="1012"/>
                </a:cubicBezTo>
                <a:cubicBezTo>
                  <a:pt x="2988" y="1008"/>
                  <a:pt x="2988" y="1008"/>
                  <a:pt x="2988" y="1008"/>
                </a:cubicBezTo>
                <a:cubicBezTo>
                  <a:pt x="2992" y="1004"/>
                  <a:pt x="2992" y="1004"/>
                  <a:pt x="2992" y="1004"/>
                </a:cubicBezTo>
                <a:cubicBezTo>
                  <a:pt x="2996" y="1000"/>
                  <a:pt x="2996" y="1000"/>
                  <a:pt x="2996" y="1000"/>
                </a:cubicBezTo>
                <a:cubicBezTo>
                  <a:pt x="3000" y="996"/>
                  <a:pt x="3000" y="996"/>
                  <a:pt x="3000" y="996"/>
                </a:cubicBezTo>
                <a:cubicBezTo>
                  <a:pt x="3004" y="992"/>
                  <a:pt x="3004" y="992"/>
                  <a:pt x="3004" y="992"/>
                </a:cubicBezTo>
                <a:cubicBezTo>
                  <a:pt x="3008" y="988"/>
                  <a:pt x="3008" y="988"/>
                  <a:pt x="3008" y="988"/>
                </a:cubicBezTo>
                <a:cubicBezTo>
                  <a:pt x="3012" y="984"/>
                  <a:pt x="3012" y="984"/>
                  <a:pt x="3012" y="984"/>
                </a:cubicBezTo>
                <a:cubicBezTo>
                  <a:pt x="3016" y="980"/>
                  <a:pt x="3016" y="980"/>
                  <a:pt x="3016" y="980"/>
                </a:cubicBezTo>
                <a:cubicBezTo>
                  <a:pt x="3020" y="976"/>
                  <a:pt x="3020" y="976"/>
                  <a:pt x="3020" y="976"/>
                </a:cubicBezTo>
                <a:cubicBezTo>
                  <a:pt x="3028" y="968"/>
                  <a:pt x="3028" y="968"/>
                  <a:pt x="3028" y="968"/>
                </a:cubicBezTo>
                <a:cubicBezTo>
                  <a:pt x="3032" y="964"/>
                  <a:pt x="3032" y="964"/>
                  <a:pt x="3032" y="964"/>
                </a:cubicBezTo>
                <a:cubicBezTo>
                  <a:pt x="3036" y="960"/>
                  <a:pt x="3036" y="960"/>
                  <a:pt x="3036" y="960"/>
                </a:cubicBezTo>
                <a:cubicBezTo>
                  <a:pt x="3040" y="956"/>
                  <a:pt x="3040" y="956"/>
                  <a:pt x="3040" y="956"/>
                </a:cubicBezTo>
                <a:cubicBezTo>
                  <a:pt x="3044" y="952"/>
                  <a:pt x="3044" y="952"/>
                  <a:pt x="3044" y="952"/>
                </a:cubicBezTo>
                <a:cubicBezTo>
                  <a:pt x="3048" y="948"/>
                  <a:pt x="3048" y="948"/>
                  <a:pt x="3048" y="948"/>
                </a:cubicBezTo>
                <a:cubicBezTo>
                  <a:pt x="3052" y="944"/>
                  <a:pt x="3052" y="944"/>
                  <a:pt x="3052" y="944"/>
                </a:cubicBezTo>
                <a:cubicBezTo>
                  <a:pt x="3056" y="940"/>
                  <a:pt x="3056" y="940"/>
                  <a:pt x="3056" y="940"/>
                </a:cubicBezTo>
                <a:cubicBezTo>
                  <a:pt x="3060" y="936"/>
                  <a:pt x="3060" y="936"/>
                  <a:pt x="3060" y="936"/>
                </a:cubicBezTo>
                <a:cubicBezTo>
                  <a:pt x="3064" y="932"/>
                  <a:pt x="3064" y="932"/>
                  <a:pt x="3064" y="932"/>
                </a:cubicBezTo>
                <a:cubicBezTo>
                  <a:pt x="3068" y="928"/>
                  <a:pt x="3068" y="928"/>
                  <a:pt x="3068" y="928"/>
                </a:cubicBezTo>
                <a:cubicBezTo>
                  <a:pt x="3072" y="924"/>
                  <a:pt x="3072" y="924"/>
                  <a:pt x="3072" y="924"/>
                </a:cubicBezTo>
                <a:cubicBezTo>
                  <a:pt x="3076" y="920"/>
                  <a:pt x="3076" y="920"/>
                  <a:pt x="3076" y="920"/>
                </a:cubicBezTo>
                <a:cubicBezTo>
                  <a:pt x="3080" y="916"/>
                  <a:pt x="3080" y="916"/>
                  <a:pt x="3080" y="916"/>
                </a:cubicBezTo>
                <a:cubicBezTo>
                  <a:pt x="3084" y="912"/>
                  <a:pt x="3084" y="912"/>
                  <a:pt x="3084" y="912"/>
                </a:cubicBezTo>
                <a:cubicBezTo>
                  <a:pt x="3088" y="908"/>
                  <a:pt x="3088" y="908"/>
                  <a:pt x="3088" y="908"/>
                </a:cubicBezTo>
                <a:cubicBezTo>
                  <a:pt x="3096" y="900"/>
                  <a:pt x="3096" y="900"/>
                  <a:pt x="3096" y="900"/>
                </a:cubicBezTo>
                <a:cubicBezTo>
                  <a:pt x="3100" y="896"/>
                  <a:pt x="3100" y="896"/>
                  <a:pt x="3100" y="896"/>
                </a:cubicBezTo>
                <a:cubicBezTo>
                  <a:pt x="3104" y="892"/>
                  <a:pt x="3104" y="892"/>
                  <a:pt x="3104" y="892"/>
                </a:cubicBezTo>
                <a:cubicBezTo>
                  <a:pt x="3108" y="888"/>
                  <a:pt x="3108" y="888"/>
                  <a:pt x="3108" y="888"/>
                </a:cubicBezTo>
                <a:cubicBezTo>
                  <a:pt x="3112" y="884"/>
                  <a:pt x="3112" y="884"/>
                  <a:pt x="3112" y="884"/>
                </a:cubicBezTo>
                <a:cubicBezTo>
                  <a:pt x="3116" y="880"/>
                  <a:pt x="3116" y="880"/>
                  <a:pt x="3116" y="880"/>
                </a:cubicBezTo>
                <a:cubicBezTo>
                  <a:pt x="3120" y="876"/>
                  <a:pt x="3120" y="876"/>
                  <a:pt x="3120" y="876"/>
                </a:cubicBezTo>
                <a:cubicBezTo>
                  <a:pt x="3124" y="872"/>
                  <a:pt x="3124" y="872"/>
                  <a:pt x="3124" y="872"/>
                </a:cubicBezTo>
                <a:cubicBezTo>
                  <a:pt x="3128" y="868"/>
                  <a:pt x="3128" y="868"/>
                  <a:pt x="3128" y="868"/>
                </a:cubicBezTo>
                <a:cubicBezTo>
                  <a:pt x="3132" y="864"/>
                  <a:pt x="3132" y="864"/>
                  <a:pt x="3132" y="864"/>
                </a:cubicBezTo>
                <a:cubicBezTo>
                  <a:pt x="3136" y="860"/>
                  <a:pt x="3136" y="860"/>
                  <a:pt x="3136" y="860"/>
                </a:cubicBezTo>
                <a:cubicBezTo>
                  <a:pt x="3140" y="856"/>
                  <a:pt x="3140" y="856"/>
                  <a:pt x="3140" y="856"/>
                </a:cubicBezTo>
                <a:cubicBezTo>
                  <a:pt x="3144" y="852"/>
                  <a:pt x="3144" y="852"/>
                  <a:pt x="3144" y="852"/>
                </a:cubicBezTo>
                <a:cubicBezTo>
                  <a:pt x="3148" y="848"/>
                  <a:pt x="3148" y="848"/>
                  <a:pt x="3148" y="848"/>
                </a:cubicBezTo>
                <a:cubicBezTo>
                  <a:pt x="3152" y="844"/>
                  <a:pt x="3152" y="844"/>
                  <a:pt x="3152" y="844"/>
                </a:cubicBezTo>
                <a:cubicBezTo>
                  <a:pt x="3156" y="840"/>
                  <a:pt x="3156" y="840"/>
                  <a:pt x="3156" y="840"/>
                </a:cubicBezTo>
                <a:cubicBezTo>
                  <a:pt x="3164" y="832"/>
                  <a:pt x="3164" y="832"/>
                  <a:pt x="3164" y="832"/>
                </a:cubicBezTo>
                <a:cubicBezTo>
                  <a:pt x="3168" y="828"/>
                  <a:pt x="3168" y="828"/>
                  <a:pt x="3168" y="828"/>
                </a:cubicBezTo>
                <a:cubicBezTo>
                  <a:pt x="3172" y="824"/>
                  <a:pt x="3172" y="824"/>
                  <a:pt x="3172" y="824"/>
                </a:cubicBezTo>
                <a:cubicBezTo>
                  <a:pt x="3176" y="820"/>
                  <a:pt x="3176" y="820"/>
                  <a:pt x="3176" y="820"/>
                </a:cubicBezTo>
                <a:cubicBezTo>
                  <a:pt x="3180" y="816"/>
                  <a:pt x="3180" y="816"/>
                  <a:pt x="3180" y="816"/>
                </a:cubicBezTo>
                <a:cubicBezTo>
                  <a:pt x="3184" y="812"/>
                  <a:pt x="3184" y="812"/>
                  <a:pt x="3184" y="812"/>
                </a:cubicBezTo>
                <a:cubicBezTo>
                  <a:pt x="3188" y="808"/>
                  <a:pt x="3188" y="808"/>
                  <a:pt x="3188" y="808"/>
                </a:cubicBezTo>
                <a:cubicBezTo>
                  <a:pt x="3192" y="804"/>
                  <a:pt x="3192" y="804"/>
                  <a:pt x="3192" y="804"/>
                </a:cubicBezTo>
                <a:cubicBezTo>
                  <a:pt x="3196" y="800"/>
                  <a:pt x="3196" y="800"/>
                  <a:pt x="3196" y="800"/>
                </a:cubicBezTo>
                <a:cubicBezTo>
                  <a:pt x="3200" y="796"/>
                  <a:pt x="3200" y="796"/>
                  <a:pt x="3200" y="796"/>
                </a:cubicBezTo>
                <a:cubicBezTo>
                  <a:pt x="3204" y="792"/>
                  <a:pt x="3204" y="792"/>
                  <a:pt x="3204" y="792"/>
                </a:cubicBezTo>
                <a:cubicBezTo>
                  <a:pt x="3208" y="788"/>
                  <a:pt x="3208" y="788"/>
                  <a:pt x="3208" y="788"/>
                </a:cubicBezTo>
                <a:cubicBezTo>
                  <a:pt x="3212" y="784"/>
                  <a:pt x="3212" y="784"/>
                  <a:pt x="3212" y="784"/>
                </a:cubicBezTo>
                <a:cubicBezTo>
                  <a:pt x="3216" y="780"/>
                  <a:pt x="3216" y="780"/>
                  <a:pt x="3216" y="780"/>
                </a:cubicBezTo>
                <a:cubicBezTo>
                  <a:pt x="3220" y="776"/>
                  <a:pt x="3220" y="776"/>
                  <a:pt x="3220" y="776"/>
                </a:cubicBezTo>
                <a:cubicBezTo>
                  <a:pt x="3224" y="772"/>
                  <a:pt x="3224" y="772"/>
                  <a:pt x="3224" y="772"/>
                </a:cubicBezTo>
                <a:cubicBezTo>
                  <a:pt x="3232" y="764"/>
                  <a:pt x="3232" y="764"/>
                  <a:pt x="3232" y="764"/>
                </a:cubicBezTo>
                <a:cubicBezTo>
                  <a:pt x="3236" y="760"/>
                  <a:pt x="3236" y="760"/>
                  <a:pt x="3236" y="760"/>
                </a:cubicBezTo>
                <a:cubicBezTo>
                  <a:pt x="3240" y="756"/>
                  <a:pt x="3240" y="756"/>
                  <a:pt x="3240" y="756"/>
                </a:cubicBezTo>
                <a:cubicBezTo>
                  <a:pt x="3244" y="752"/>
                  <a:pt x="3244" y="752"/>
                  <a:pt x="3244" y="752"/>
                </a:cubicBezTo>
                <a:cubicBezTo>
                  <a:pt x="3248" y="748"/>
                  <a:pt x="3248" y="748"/>
                  <a:pt x="3248" y="748"/>
                </a:cubicBezTo>
                <a:cubicBezTo>
                  <a:pt x="3252" y="744"/>
                  <a:pt x="3252" y="744"/>
                  <a:pt x="3252" y="744"/>
                </a:cubicBezTo>
                <a:cubicBezTo>
                  <a:pt x="3256" y="740"/>
                  <a:pt x="3256" y="740"/>
                  <a:pt x="3256" y="740"/>
                </a:cubicBezTo>
                <a:cubicBezTo>
                  <a:pt x="3260" y="736"/>
                  <a:pt x="3260" y="736"/>
                  <a:pt x="3260" y="736"/>
                </a:cubicBezTo>
                <a:cubicBezTo>
                  <a:pt x="3264" y="732"/>
                  <a:pt x="3264" y="732"/>
                  <a:pt x="3264" y="732"/>
                </a:cubicBezTo>
                <a:cubicBezTo>
                  <a:pt x="3272" y="724"/>
                  <a:pt x="3272" y="724"/>
                  <a:pt x="3272" y="724"/>
                </a:cubicBezTo>
                <a:cubicBezTo>
                  <a:pt x="3276" y="720"/>
                  <a:pt x="3276" y="720"/>
                  <a:pt x="3276" y="720"/>
                </a:cubicBezTo>
                <a:cubicBezTo>
                  <a:pt x="3280" y="716"/>
                  <a:pt x="3280" y="716"/>
                  <a:pt x="3280" y="716"/>
                </a:cubicBezTo>
                <a:cubicBezTo>
                  <a:pt x="3284" y="712"/>
                  <a:pt x="3284" y="712"/>
                  <a:pt x="3284" y="712"/>
                </a:cubicBezTo>
                <a:cubicBezTo>
                  <a:pt x="3288" y="708"/>
                  <a:pt x="3288" y="708"/>
                  <a:pt x="3288" y="708"/>
                </a:cubicBezTo>
                <a:cubicBezTo>
                  <a:pt x="3292" y="704"/>
                  <a:pt x="3292" y="704"/>
                  <a:pt x="3292" y="704"/>
                </a:cubicBezTo>
                <a:cubicBezTo>
                  <a:pt x="3300" y="696"/>
                  <a:pt x="3300" y="696"/>
                  <a:pt x="3300" y="696"/>
                </a:cubicBezTo>
                <a:cubicBezTo>
                  <a:pt x="3304" y="692"/>
                  <a:pt x="3304" y="692"/>
                  <a:pt x="3304" y="692"/>
                </a:cubicBezTo>
                <a:cubicBezTo>
                  <a:pt x="3308" y="688"/>
                  <a:pt x="3308" y="688"/>
                  <a:pt x="3308" y="688"/>
                </a:cubicBezTo>
                <a:cubicBezTo>
                  <a:pt x="3312" y="684"/>
                  <a:pt x="3312" y="684"/>
                  <a:pt x="3312" y="684"/>
                </a:cubicBezTo>
                <a:cubicBezTo>
                  <a:pt x="3316" y="680"/>
                  <a:pt x="3316" y="680"/>
                  <a:pt x="3316" y="680"/>
                </a:cubicBezTo>
                <a:cubicBezTo>
                  <a:pt x="3320" y="676"/>
                  <a:pt x="3320" y="676"/>
                  <a:pt x="3320" y="676"/>
                </a:cubicBezTo>
                <a:cubicBezTo>
                  <a:pt x="3324" y="672"/>
                  <a:pt x="3324" y="672"/>
                  <a:pt x="3324" y="672"/>
                </a:cubicBezTo>
                <a:cubicBezTo>
                  <a:pt x="3328" y="668"/>
                  <a:pt x="3328" y="668"/>
                  <a:pt x="3328" y="668"/>
                </a:cubicBezTo>
                <a:cubicBezTo>
                  <a:pt x="3332" y="664"/>
                  <a:pt x="3332" y="664"/>
                  <a:pt x="3332" y="664"/>
                </a:cubicBezTo>
                <a:cubicBezTo>
                  <a:pt x="3340" y="656"/>
                  <a:pt x="3340" y="656"/>
                  <a:pt x="3340" y="656"/>
                </a:cubicBezTo>
                <a:cubicBezTo>
                  <a:pt x="3344" y="652"/>
                  <a:pt x="3344" y="652"/>
                  <a:pt x="3344" y="652"/>
                </a:cubicBezTo>
                <a:cubicBezTo>
                  <a:pt x="3348" y="648"/>
                  <a:pt x="3348" y="648"/>
                  <a:pt x="3348" y="648"/>
                </a:cubicBezTo>
                <a:cubicBezTo>
                  <a:pt x="3352" y="644"/>
                  <a:pt x="3352" y="644"/>
                  <a:pt x="3352" y="644"/>
                </a:cubicBezTo>
                <a:cubicBezTo>
                  <a:pt x="3356" y="640"/>
                  <a:pt x="3356" y="640"/>
                  <a:pt x="3356" y="640"/>
                </a:cubicBezTo>
                <a:cubicBezTo>
                  <a:pt x="3360" y="636"/>
                  <a:pt x="3360" y="636"/>
                  <a:pt x="3360" y="636"/>
                </a:cubicBezTo>
                <a:cubicBezTo>
                  <a:pt x="3368" y="628"/>
                  <a:pt x="3368" y="628"/>
                  <a:pt x="3368" y="628"/>
                </a:cubicBezTo>
                <a:cubicBezTo>
                  <a:pt x="3372" y="624"/>
                  <a:pt x="3372" y="624"/>
                  <a:pt x="3372" y="624"/>
                </a:cubicBezTo>
                <a:cubicBezTo>
                  <a:pt x="3376" y="620"/>
                  <a:pt x="3376" y="620"/>
                  <a:pt x="3376" y="620"/>
                </a:cubicBezTo>
                <a:cubicBezTo>
                  <a:pt x="3380" y="616"/>
                  <a:pt x="3380" y="616"/>
                  <a:pt x="3380" y="616"/>
                </a:cubicBezTo>
                <a:cubicBezTo>
                  <a:pt x="3384" y="612"/>
                  <a:pt x="3384" y="612"/>
                  <a:pt x="3384" y="612"/>
                </a:cubicBezTo>
                <a:cubicBezTo>
                  <a:pt x="3388" y="608"/>
                  <a:pt x="3388" y="608"/>
                  <a:pt x="3388" y="608"/>
                </a:cubicBezTo>
                <a:cubicBezTo>
                  <a:pt x="3392" y="604"/>
                  <a:pt x="3392" y="604"/>
                  <a:pt x="3392" y="604"/>
                </a:cubicBezTo>
                <a:cubicBezTo>
                  <a:pt x="3396" y="600"/>
                  <a:pt x="3396" y="600"/>
                  <a:pt x="3396" y="600"/>
                </a:cubicBezTo>
                <a:cubicBezTo>
                  <a:pt x="3400" y="596"/>
                  <a:pt x="3400" y="596"/>
                  <a:pt x="3400" y="596"/>
                </a:cubicBezTo>
                <a:cubicBezTo>
                  <a:pt x="3408" y="588"/>
                  <a:pt x="3408" y="588"/>
                  <a:pt x="3408" y="588"/>
                </a:cubicBezTo>
                <a:cubicBezTo>
                  <a:pt x="3412" y="584"/>
                  <a:pt x="3412" y="584"/>
                  <a:pt x="3412" y="584"/>
                </a:cubicBezTo>
                <a:cubicBezTo>
                  <a:pt x="3416" y="580"/>
                  <a:pt x="3416" y="580"/>
                  <a:pt x="3416" y="580"/>
                </a:cubicBezTo>
                <a:cubicBezTo>
                  <a:pt x="3420" y="576"/>
                  <a:pt x="3420" y="576"/>
                  <a:pt x="3420" y="576"/>
                </a:cubicBezTo>
                <a:cubicBezTo>
                  <a:pt x="3424" y="572"/>
                  <a:pt x="3424" y="572"/>
                  <a:pt x="3424" y="572"/>
                </a:cubicBezTo>
                <a:cubicBezTo>
                  <a:pt x="3428" y="568"/>
                  <a:pt x="3428" y="568"/>
                  <a:pt x="3428" y="568"/>
                </a:cubicBezTo>
                <a:cubicBezTo>
                  <a:pt x="3432" y="564"/>
                  <a:pt x="3432" y="564"/>
                  <a:pt x="3432" y="564"/>
                </a:cubicBezTo>
                <a:cubicBezTo>
                  <a:pt x="3436" y="560"/>
                  <a:pt x="3436" y="560"/>
                  <a:pt x="3436" y="560"/>
                </a:cubicBezTo>
                <a:cubicBezTo>
                  <a:pt x="3440" y="556"/>
                  <a:pt x="3440" y="556"/>
                  <a:pt x="3440" y="556"/>
                </a:cubicBezTo>
                <a:cubicBezTo>
                  <a:pt x="3444" y="552"/>
                  <a:pt x="3444" y="552"/>
                  <a:pt x="3444" y="552"/>
                </a:cubicBezTo>
                <a:cubicBezTo>
                  <a:pt x="3448" y="548"/>
                  <a:pt x="3448" y="548"/>
                  <a:pt x="3448" y="548"/>
                </a:cubicBezTo>
                <a:cubicBezTo>
                  <a:pt x="3452" y="544"/>
                  <a:pt x="3452" y="544"/>
                  <a:pt x="3452" y="544"/>
                </a:cubicBezTo>
                <a:cubicBezTo>
                  <a:pt x="3456" y="540"/>
                  <a:pt x="3456" y="540"/>
                  <a:pt x="3456" y="540"/>
                </a:cubicBezTo>
                <a:cubicBezTo>
                  <a:pt x="3460" y="536"/>
                  <a:pt x="3460" y="536"/>
                  <a:pt x="3460" y="536"/>
                </a:cubicBezTo>
                <a:cubicBezTo>
                  <a:pt x="3464" y="532"/>
                  <a:pt x="3464" y="532"/>
                  <a:pt x="3464" y="532"/>
                </a:cubicBezTo>
                <a:cubicBezTo>
                  <a:pt x="3468" y="528"/>
                  <a:pt x="3468" y="528"/>
                  <a:pt x="3468" y="528"/>
                </a:cubicBezTo>
                <a:cubicBezTo>
                  <a:pt x="3476" y="520"/>
                  <a:pt x="3476" y="520"/>
                  <a:pt x="3476" y="520"/>
                </a:cubicBezTo>
                <a:cubicBezTo>
                  <a:pt x="3480" y="516"/>
                  <a:pt x="3480" y="516"/>
                  <a:pt x="3480" y="516"/>
                </a:cubicBezTo>
                <a:cubicBezTo>
                  <a:pt x="3484" y="512"/>
                  <a:pt x="3484" y="512"/>
                  <a:pt x="3484" y="512"/>
                </a:cubicBezTo>
                <a:cubicBezTo>
                  <a:pt x="3488" y="508"/>
                  <a:pt x="3488" y="508"/>
                  <a:pt x="3488" y="508"/>
                </a:cubicBezTo>
                <a:cubicBezTo>
                  <a:pt x="3492" y="504"/>
                  <a:pt x="3492" y="504"/>
                  <a:pt x="3492" y="504"/>
                </a:cubicBezTo>
                <a:cubicBezTo>
                  <a:pt x="3496" y="500"/>
                  <a:pt x="3496" y="500"/>
                  <a:pt x="3496" y="500"/>
                </a:cubicBezTo>
                <a:cubicBezTo>
                  <a:pt x="3500" y="496"/>
                  <a:pt x="3500" y="496"/>
                  <a:pt x="3500" y="496"/>
                </a:cubicBezTo>
                <a:cubicBezTo>
                  <a:pt x="3504" y="492"/>
                  <a:pt x="3504" y="492"/>
                  <a:pt x="3504" y="492"/>
                </a:cubicBezTo>
                <a:cubicBezTo>
                  <a:pt x="3508" y="488"/>
                  <a:pt x="3508" y="488"/>
                  <a:pt x="3508" y="488"/>
                </a:cubicBezTo>
                <a:cubicBezTo>
                  <a:pt x="3512" y="484"/>
                  <a:pt x="3512" y="484"/>
                  <a:pt x="3512" y="484"/>
                </a:cubicBezTo>
                <a:cubicBezTo>
                  <a:pt x="3516" y="480"/>
                  <a:pt x="3516" y="480"/>
                  <a:pt x="3516" y="480"/>
                </a:cubicBezTo>
                <a:cubicBezTo>
                  <a:pt x="3520" y="476"/>
                  <a:pt x="3520" y="476"/>
                  <a:pt x="3520" y="476"/>
                </a:cubicBezTo>
                <a:cubicBezTo>
                  <a:pt x="3524" y="472"/>
                  <a:pt x="3524" y="472"/>
                  <a:pt x="3524" y="472"/>
                </a:cubicBezTo>
                <a:cubicBezTo>
                  <a:pt x="3528" y="468"/>
                  <a:pt x="3528" y="468"/>
                  <a:pt x="3528" y="468"/>
                </a:cubicBezTo>
                <a:cubicBezTo>
                  <a:pt x="3532" y="464"/>
                  <a:pt x="3532" y="464"/>
                  <a:pt x="3532" y="464"/>
                </a:cubicBezTo>
                <a:cubicBezTo>
                  <a:pt x="3536" y="460"/>
                  <a:pt x="3536" y="460"/>
                  <a:pt x="3536" y="460"/>
                </a:cubicBezTo>
                <a:cubicBezTo>
                  <a:pt x="3544" y="452"/>
                  <a:pt x="3544" y="452"/>
                  <a:pt x="3544" y="452"/>
                </a:cubicBezTo>
                <a:cubicBezTo>
                  <a:pt x="3548" y="448"/>
                  <a:pt x="3548" y="448"/>
                  <a:pt x="3548" y="448"/>
                </a:cubicBezTo>
                <a:cubicBezTo>
                  <a:pt x="3552" y="444"/>
                  <a:pt x="3552" y="444"/>
                  <a:pt x="3552" y="444"/>
                </a:cubicBezTo>
                <a:cubicBezTo>
                  <a:pt x="3556" y="440"/>
                  <a:pt x="3556" y="440"/>
                  <a:pt x="3556" y="440"/>
                </a:cubicBezTo>
                <a:cubicBezTo>
                  <a:pt x="3560" y="436"/>
                  <a:pt x="3560" y="436"/>
                  <a:pt x="3560" y="436"/>
                </a:cubicBezTo>
                <a:cubicBezTo>
                  <a:pt x="3564" y="432"/>
                  <a:pt x="3564" y="432"/>
                  <a:pt x="3564" y="432"/>
                </a:cubicBezTo>
                <a:cubicBezTo>
                  <a:pt x="3568" y="428"/>
                  <a:pt x="3568" y="428"/>
                  <a:pt x="3568" y="428"/>
                </a:cubicBezTo>
                <a:cubicBezTo>
                  <a:pt x="3572" y="424"/>
                  <a:pt x="3572" y="424"/>
                  <a:pt x="3572" y="424"/>
                </a:cubicBezTo>
                <a:cubicBezTo>
                  <a:pt x="3576" y="420"/>
                  <a:pt x="3576" y="420"/>
                  <a:pt x="3576" y="420"/>
                </a:cubicBezTo>
                <a:cubicBezTo>
                  <a:pt x="3580" y="416"/>
                  <a:pt x="3580" y="416"/>
                  <a:pt x="3580" y="416"/>
                </a:cubicBezTo>
                <a:cubicBezTo>
                  <a:pt x="3584" y="412"/>
                  <a:pt x="3584" y="412"/>
                  <a:pt x="3584" y="412"/>
                </a:cubicBezTo>
                <a:cubicBezTo>
                  <a:pt x="3588" y="408"/>
                  <a:pt x="3588" y="408"/>
                  <a:pt x="3588" y="408"/>
                </a:cubicBezTo>
                <a:cubicBezTo>
                  <a:pt x="3592" y="404"/>
                  <a:pt x="3592" y="404"/>
                  <a:pt x="3592" y="404"/>
                </a:cubicBezTo>
                <a:cubicBezTo>
                  <a:pt x="3596" y="400"/>
                  <a:pt x="3596" y="400"/>
                  <a:pt x="3596" y="400"/>
                </a:cubicBezTo>
                <a:cubicBezTo>
                  <a:pt x="3600" y="396"/>
                  <a:pt x="3600" y="396"/>
                  <a:pt x="3600" y="396"/>
                </a:cubicBezTo>
                <a:cubicBezTo>
                  <a:pt x="3604" y="392"/>
                  <a:pt x="3604" y="392"/>
                  <a:pt x="3604" y="392"/>
                </a:cubicBezTo>
                <a:cubicBezTo>
                  <a:pt x="3612" y="384"/>
                  <a:pt x="3612" y="384"/>
                  <a:pt x="3612" y="384"/>
                </a:cubicBezTo>
                <a:cubicBezTo>
                  <a:pt x="3616" y="380"/>
                  <a:pt x="3616" y="380"/>
                  <a:pt x="3616" y="380"/>
                </a:cubicBezTo>
                <a:cubicBezTo>
                  <a:pt x="3620" y="376"/>
                  <a:pt x="3620" y="376"/>
                  <a:pt x="3620" y="376"/>
                </a:cubicBezTo>
                <a:cubicBezTo>
                  <a:pt x="3624" y="372"/>
                  <a:pt x="3624" y="372"/>
                  <a:pt x="3624" y="372"/>
                </a:cubicBezTo>
                <a:cubicBezTo>
                  <a:pt x="3628" y="368"/>
                  <a:pt x="3628" y="368"/>
                  <a:pt x="3628" y="368"/>
                </a:cubicBezTo>
                <a:cubicBezTo>
                  <a:pt x="3632" y="364"/>
                  <a:pt x="3632" y="364"/>
                  <a:pt x="3632" y="364"/>
                </a:cubicBezTo>
                <a:cubicBezTo>
                  <a:pt x="3636" y="360"/>
                  <a:pt x="3636" y="360"/>
                  <a:pt x="3636" y="360"/>
                </a:cubicBezTo>
                <a:cubicBezTo>
                  <a:pt x="3640" y="356"/>
                  <a:pt x="3640" y="356"/>
                  <a:pt x="3640" y="356"/>
                </a:cubicBezTo>
                <a:cubicBezTo>
                  <a:pt x="3644" y="352"/>
                  <a:pt x="3644" y="352"/>
                  <a:pt x="3644" y="352"/>
                </a:cubicBezTo>
                <a:cubicBezTo>
                  <a:pt x="3648" y="348"/>
                  <a:pt x="3648" y="348"/>
                  <a:pt x="3648" y="348"/>
                </a:cubicBezTo>
                <a:cubicBezTo>
                  <a:pt x="3652" y="344"/>
                  <a:pt x="3652" y="344"/>
                  <a:pt x="3652" y="344"/>
                </a:cubicBezTo>
                <a:cubicBezTo>
                  <a:pt x="3656" y="340"/>
                  <a:pt x="3656" y="340"/>
                  <a:pt x="3656" y="340"/>
                </a:cubicBezTo>
                <a:cubicBezTo>
                  <a:pt x="3660" y="336"/>
                  <a:pt x="3660" y="336"/>
                  <a:pt x="3660" y="336"/>
                </a:cubicBezTo>
                <a:cubicBezTo>
                  <a:pt x="3664" y="332"/>
                  <a:pt x="3664" y="332"/>
                  <a:pt x="3664" y="332"/>
                </a:cubicBezTo>
                <a:cubicBezTo>
                  <a:pt x="3668" y="328"/>
                  <a:pt x="3668" y="328"/>
                  <a:pt x="3668" y="328"/>
                </a:cubicBezTo>
                <a:cubicBezTo>
                  <a:pt x="3672" y="324"/>
                  <a:pt x="3672" y="324"/>
                  <a:pt x="3672" y="324"/>
                </a:cubicBezTo>
                <a:cubicBezTo>
                  <a:pt x="3680" y="316"/>
                  <a:pt x="3680" y="316"/>
                  <a:pt x="3680" y="316"/>
                </a:cubicBezTo>
                <a:cubicBezTo>
                  <a:pt x="3684" y="312"/>
                  <a:pt x="3684" y="312"/>
                  <a:pt x="3684" y="312"/>
                </a:cubicBezTo>
                <a:cubicBezTo>
                  <a:pt x="3688" y="308"/>
                  <a:pt x="3688" y="308"/>
                  <a:pt x="3688" y="308"/>
                </a:cubicBezTo>
                <a:cubicBezTo>
                  <a:pt x="3692" y="304"/>
                  <a:pt x="3692" y="304"/>
                  <a:pt x="3692" y="304"/>
                </a:cubicBezTo>
                <a:cubicBezTo>
                  <a:pt x="3696" y="300"/>
                  <a:pt x="3696" y="300"/>
                  <a:pt x="3696" y="300"/>
                </a:cubicBezTo>
                <a:cubicBezTo>
                  <a:pt x="3700" y="296"/>
                  <a:pt x="3700" y="296"/>
                  <a:pt x="3700" y="296"/>
                </a:cubicBezTo>
                <a:cubicBezTo>
                  <a:pt x="3704" y="292"/>
                  <a:pt x="3704" y="292"/>
                  <a:pt x="3704" y="292"/>
                </a:cubicBezTo>
                <a:cubicBezTo>
                  <a:pt x="3708" y="288"/>
                  <a:pt x="3708" y="288"/>
                  <a:pt x="3708" y="288"/>
                </a:cubicBezTo>
                <a:cubicBezTo>
                  <a:pt x="3712" y="284"/>
                  <a:pt x="3712" y="284"/>
                  <a:pt x="3712" y="284"/>
                </a:cubicBezTo>
                <a:cubicBezTo>
                  <a:pt x="3716" y="280"/>
                  <a:pt x="3716" y="280"/>
                  <a:pt x="3716" y="280"/>
                </a:cubicBezTo>
                <a:cubicBezTo>
                  <a:pt x="3720" y="276"/>
                  <a:pt x="3720" y="276"/>
                  <a:pt x="3720" y="276"/>
                </a:cubicBezTo>
                <a:cubicBezTo>
                  <a:pt x="3724" y="272"/>
                  <a:pt x="3724" y="272"/>
                  <a:pt x="3724" y="272"/>
                </a:cubicBezTo>
                <a:cubicBezTo>
                  <a:pt x="3728" y="268"/>
                  <a:pt x="3728" y="268"/>
                  <a:pt x="3728" y="268"/>
                </a:cubicBezTo>
                <a:cubicBezTo>
                  <a:pt x="3732" y="264"/>
                  <a:pt x="3732" y="264"/>
                  <a:pt x="3732" y="264"/>
                </a:cubicBezTo>
                <a:cubicBezTo>
                  <a:pt x="3736" y="260"/>
                  <a:pt x="3736" y="260"/>
                  <a:pt x="3736" y="260"/>
                </a:cubicBezTo>
                <a:cubicBezTo>
                  <a:pt x="3740" y="256"/>
                  <a:pt x="3740" y="256"/>
                  <a:pt x="3740" y="256"/>
                </a:cubicBezTo>
                <a:cubicBezTo>
                  <a:pt x="3748" y="248"/>
                  <a:pt x="3748" y="248"/>
                  <a:pt x="3748" y="248"/>
                </a:cubicBezTo>
                <a:cubicBezTo>
                  <a:pt x="3752" y="244"/>
                  <a:pt x="3752" y="244"/>
                  <a:pt x="3752" y="244"/>
                </a:cubicBezTo>
                <a:cubicBezTo>
                  <a:pt x="3756" y="240"/>
                  <a:pt x="3756" y="240"/>
                  <a:pt x="3756" y="240"/>
                </a:cubicBezTo>
                <a:cubicBezTo>
                  <a:pt x="3760" y="236"/>
                  <a:pt x="3760" y="236"/>
                  <a:pt x="3760" y="236"/>
                </a:cubicBezTo>
                <a:cubicBezTo>
                  <a:pt x="3764" y="232"/>
                  <a:pt x="3764" y="232"/>
                  <a:pt x="3764" y="232"/>
                </a:cubicBezTo>
                <a:cubicBezTo>
                  <a:pt x="3768" y="228"/>
                  <a:pt x="3768" y="228"/>
                  <a:pt x="3768" y="228"/>
                </a:cubicBezTo>
                <a:cubicBezTo>
                  <a:pt x="3772" y="224"/>
                  <a:pt x="3772" y="224"/>
                  <a:pt x="3772" y="224"/>
                </a:cubicBezTo>
                <a:cubicBezTo>
                  <a:pt x="3776" y="220"/>
                  <a:pt x="3776" y="220"/>
                  <a:pt x="3776" y="220"/>
                </a:cubicBezTo>
                <a:cubicBezTo>
                  <a:pt x="3780" y="216"/>
                  <a:pt x="3780" y="216"/>
                  <a:pt x="3780" y="216"/>
                </a:cubicBezTo>
                <a:cubicBezTo>
                  <a:pt x="3784" y="212"/>
                  <a:pt x="3784" y="212"/>
                  <a:pt x="3784" y="212"/>
                </a:cubicBezTo>
                <a:cubicBezTo>
                  <a:pt x="3788" y="208"/>
                  <a:pt x="3788" y="208"/>
                  <a:pt x="3788" y="208"/>
                </a:cubicBezTo>
                <a:cubicBezTo>
                  <a:pt x="3792" y="204"/>
                  <a:pt x="3792" y="204"/>
                  <a:pt x="3792" y="204"/>
                </a:cubicBezTo>
                <a:cubicBezTo>
                  <a:pt x="3796" y="200"/>
                  <a:pt x="3796" y="200"/>
                  <a:pt x="3796" y="200"/>
                </a:cubicBezTo>
                <a:cubicBezTo>
                  <a:pt x="3800" y="196"/>
                  <a:pt x="3800" y="196"/>
                  <a:pt x="3800" y="196"/>
                </a:cubicBezTo>
                <a:cubicBezTo>
                  <a:pt x="3804" y="192"/>
                  <a:pt x="3804" y="192"/>
                  <a:pt x="3804" y="192"/>
                </a:cubicBezTo>
                <a:cubicBezTo>
                  <a:pt x="3808" y="188"/>
                  <a:pt x="3808" y="188"/>
                  <a:pt x="3808" y="188"/>
                </a:cubicBezTo>
                <a:cubicBezTo>
                  <a:pt x="3816" y="180"/>
                  <a:pt x="3816" y="180"/>
                  <a:pt x="3816" y="180"/>
                </a:cubicBezTo>
                <a:cubicBezTo>
                  <a:pt x="3820" y="176"/>
                  <a:pt x="3820" y="176"/>
                  <a:pt x="3820" y="176"/>
                </a:cubicBezTo>
                <a:cubicBezTo>
                  <a:pt x="3824" y="172"/>
                  <a:pt x="3824" y="172"/>
                  <a:pt x="3824" y="172"/>
                </a:cubicBezTo>
                <a:cubicBezTo>
                  <a:pt x="3828" y="168"/>
                  <a:pt x="3828" y="168"/>
                  <a:pt x="3828" y="168"/>
                </a:cubicBezTo>
                <a:cubicBezTo>
                  <a:pt x="3832" y="164"/>
                  <a:pt x="3832" y="164"/>
                  <a:pt x="3832" y="164"/>
                </a:cubicBezTo>
                <a:cubicBezTo>
                  <a:pt x="3836" y="160"/>
                  <a:pt x="3836" y="160"/>
                  <a:pt x="3836" y="160"/>
                </a:cubicBezTo>
                <a:cubicBezTo>
                  <a:pt x="3840" y="156"/>
                  <a:pt x="3840" y="156"/>
                  <a:pt x="3840" y="156"/>
                </a:cubicBezTo>
                <a:cubicBezTo>
                  <a:pt x="3844" y="152"/>
                  <a:pt x="3844" y="152"/>
                  <a:pt x="3844" y="152"/>
                </a:cubicBezTo>
                <a:cubicBezTo>
                  <a:pt x="3848" y="148"/>
                  <a:pt x="3848" y="148"/>
                  <a:pt x="3848" y="148"/>
                </a:cubicBezTo>
                <a:cubicBezTo>
                  <a:pt x="3852" y="144"/>
                  <a:pt x="3852" y="144"/>
                  <a:pt x="3852" y="144"/>
                </a:cubicBezTo>
                <a:cubicBezTo>
                  <a:pt x="3856" y="140"/>
                  <a:pt x="3856" y="140"/>
                  <a:pt x="3856" y="140"/>
                </a:cubicBezTo>
                <a:cubicBezTo>
                  <a:pt x="3860" y="136"/>
                  <a:pt x="3860" y="136"/>
                  <a:pt x="3860" y="136"/>
                </a:cubicBezTo>
                <a:cubicBezTo>
                  <a:pt x="3864" y="132"/>
                  <a:pt x="3864" y="132"/>
                  <a:pt x="3864" y="132"/>
                </a:cubicBezTo>
                <a:cubicBezTo>
                  <a:pt x="3868" y="128"/>
                  <a:pt x="3868" y="128"/>
                  <a:pt x="3868" y="128"/>
                </a:cubicBezTo>
                <a:cubicBezTo>
                  <a:pt x="3872" y="124"/>
                  <a:pt x="3872" y="124"/>
                  <a:pt x="3872" y="124"/>
                </a:cubicBezTo>
                <a:cubicBezTo>
                  <a:pt x="3876" y="120"/>
                  <a:pt x="3876" y="120"/>
                  <a:pt x="3876" y="120"/>
                </a:cubicBezTo>
                <a:cubicBezTo>
                  <a:pt x="3884" y="112"/>
                  <a:pt x="3884" y="112"/>
                  <a:pt x="3884" y="112"/>
                </a:cubicBezTo>
                <a:cubicBezTo>
                  <a:pt x="3888" y="108"/>
                  <a:pt x="3888" y="108"/>
                  <a:pt x="3888" y="108"/>
                </a:cubicBezTo>
                <a:cubicBezTo>
                  <a:pt x="3892" y="104"/>
                  <a:pt x="3892" y="104"/>
                  <a:pt x="3892" y="104"/>
                </a:cubicBezTo>
                <a:cubicBezTo>
                  <a:pt x="3896" y="100"/>
                  <a:pt x="3896" y="100"/>
                  <a:pt x="3896" y="100"/>
                </a:cubicBezTo>
                <a:cubicBezTo>
                  <a:pt x="3900" y="96"/>
                  <a:pt x="3900" y="96"/>
                  <a:pt x="3900" y="96"/>
                </a:cubicBezTo>
                <a:cubicBezTo>
                  <a:pt x="3904" y="92"/>
                  <a:pt x="3904" y="92"/>
                  <a:pt x="3904" y="92"/>
                </a:cubicBezTo>
                <a:cubicBezTo>
                  <a:pt x="3908" y="88"/>
                  <a:pt x="3908" y="88"/>
                  <a:pt x="3908" y="88"/>
                </a:cubicBezTo>
                <a:cubicBezTo>
                  <a:pt x="3912" y="84"/>
                  <a:pt x="3912" y="84"/>
                  <a:pt x="3912" y="84"/>
                </a:cubicBezTo>
                <a:cubicBezTo>
                  <a:pt x="3916" y="80"/>
                  <a:pt x="3916" y="80"/>
                  <a:pt x="3916" y="80"/>
                </a:cubicBezTo>
                <a:cubicBezTo>
                  <a:pt x="3920" y="76"/>
                  <a:pt x="3920" y="76"/>
                  <a:pt x="3920" y="76"/>
                </a:cubicBezTo>
                <a:cubicBezTo>
                  <a:pt x="3924" y="72"/>
                  <a:pt x="3924" y="72"/>
                  <a:pt x="3924" y="72"/>
                </a:cubicBezTo>
                <a:cubicBezTo>
                  <a:pt x="3928" y="68"/>
                  <a:pt x="3928" y="68"/>
                  <a:pt x="3928" y="68"/>
                </a:cubicBezTo>
                <a:cubicBezTo>
                  <a:pt x="3932" y="64"/>
                  <a:pt x="3932" y="64"/>
                  <a:pt x="3932" y="64"/>
                </a:cubicBezTo>
                <a:cubicBezTo>
                  <a:pt x="3936" y="60"/>
                  <a:pt x="3936" y="60"/>
                  <a:pt x="3936" y="60"/>
                </a:cubicBezTo>
                <a:cubicBezTo>
                  <a:pt x="3940" y="56"/>
                  <a:pt x="3940" y="56"/>
                  <a:pt x="3940" y="56"/>
                </a:cubicBezTo>
                <a:cubicBezTo>
                  <a:pt x="3944" y="52"/>
                  <a:pt x="3944" y="52"/>
                  <a:pt x="3944" y="52"/>
                </a:cubicBezTo>
                <a:cubicBezTo>
                  <a:pt x="3952" y="44"/>
                  <a:pt x="3952" y="44"/>
                  <a:pt x="3952" y="44"/>
                </a:cubicBezTo>
                <a:cubicBezTo>
                  <a:pt x="3956" y="40"/>
                  <a:pt x="3956" y="40"/>
                  <a:pt x="3956" y="40"/>
                </a:cubicBezTo>
                <a:cubicBezTo>
                  <a:pt x="3960" y="36"/>
                  <a:pt x="3960" y="36"/>
                  <a:pt x="3960" y="36"/>
                </a:cubicBezTo>
                <a:cubicBezTo>
                  <a:pt x="3964" y="32"/>
                  <a:pt x="3964" y="32"/>
                  <a:pt x="3964" y="32"/>
                </a:cubicBezTo>
                <a:cubicBezTo>
                  <a:pt x="3968" y="28"/>
                  <a:pt x="3968" y="28"/>
                  <a:pt x="3968" y="28"/>
                </a:cubicBezTo>
                <a:cubicBezTo>
                  <a:pt x="3972" y="24"/>
                  <a:pt x="3972" y="24"/>
                  <a:pt x="3972" y="24"/>
                </a:cubicBezTo>
                <a:cubicBezTo>
                  <a:pt x="3976" y="20"/>
                  <a:pt x="3976" y="20"/>
                  <a:pt x="3976" y="20"/>
                </a:cubicBezTo>
                <a:cubicBezTo>
                  <a:pt x="3980" y="16"/>
                  <a:pt x="3980" y="16"/>
                  <a:pt x="3980" y="16"/>
                </a:cubicBezTo>
                <a:cubicBezTo>
                  <a:pt x="3984" y="12"/>
                  <a:pt x="3984" y="12"/>
                  <a:pt x="3984" y="12"/>
                </a:cubicBezTo>
                <a:cubicBezTo>
                  <a:pt x="3992" y="4"/>
                  <a:pt x="3992" y="4"/>
                  <a:pt x="3992" y="4"/>
                </a:cubicBezTo>
                <a:cubicBezTo>
                  <a:pt x="3996" y="0"/>
                  <a:pt x="3996" y="0"/>
                  <a:pt x="3996" y="0"/>
                </a:cubicBezTo>
              </a:path>
            </a:pathLst>
          </a:custGeom>
          <a:noFill/>
          <a:ln w="28440">
            <a:solidFill>
              <a:srgbClr val="0062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Freeform 95"/>
          <p:cNvSpPr/>
          <p:nvPr/>
        </p:nvSpPr>
        <p:spPr>
          <a:xfrm>
            <a:off x="5364000" y="2565360"/>
            <a:ext cx="2538720" cy="2536920"/>
          </a:xfrm>
          <a:custGeom>
            <a:avLst/>
            <a:gdLst>
              <a:gd name="textAreaLeft" fmla="*/ 0 w 2538720"/>
              <a:gd name="textAreaRight" fmla="*/ 2539080 w 2538720"/>
              <a:gd name="textAreaTop" fmla="*/ 0 h 2536920"/>
              <a:gd name="textAreaBottom" fmla="*/ 2537280 h 2536920"/>
            </a:gdLst>
            <a:ahLst/>
            <a:rect l="textAreaLeft" t="textAreaTop" r="textAreaRight" b="textAreaBottom"/>
            <a:pathLst>
              <a:path w="3996" h="3996">
                <a:moveTo>
                  <a:pt x="0" y="3996"/>
                </a:moveTo>
                <a:cubicBezTo>
                  <a:pt x="4" y="3992"/>
                  <a:pt x="4" y="3992"/>
                  <a:pt x="4" y="3992"/>
                </a:cubicBezTo>
                <a:cubicBezTo>
                  <a:pt x="12" y="3984"/>
                  <a:pt x="12" y="3984"/>
                  <a:pt x="12" y="3984"/>
                </a:cubicBezTo>
                <a:cubicBezTo>
                  <a:pt x="16" y="3980"/>
                  <a:pt x="16" y="3980"/>
                  <a:pt x="16" y="3980"/>
                </a:cubicBezTo>
                <a:cubicBezTo>
                  <a:pt x="20" y="3976"/>
                  <a:pt x="20" y="3976"/>
                  <a:pt x="20" y="3976"/>
                </a:cubicBezTo>
                <a:cubicBezTo>
                  <a:pt x="24" y="3972"/>
                  <a:pt x="24" y="3972"/>
                  <a:pt x="24" y="3972"/>
                </a:cubicBezTo>
                <a:cubicBezTo>
                  <a:pt x="28" y="3968"/>
                  <a:pt x="28" y="3968"/>
                  <a:pt x="28" y="3968"/>
                </a:cubicBezTo>
                <a:cubicBezTo>
                  <a:pt x="32" y="3964"/>
                  <a:pt x="32" y="3964"/>
                  <a:pt x="32" y="3964"/>
                </a:cubicBezTo>
                <a:cubicBezTo>
                  <a:pt x="36" y="3960"/>
                  <a:pt x="36" y="3960"/>
                  <a:pt x="36" y="3960"/>
                </a:cubicBezTo>
                <a:cubicBezTo>
                  <a:pt x="40" y="3956"/>
                  <a:pt x="40" y="3956"/>
                  <a:pt x="40" y="3956"/>
                </a:cubicBezTo>
                <a:cubicBezTo>
                  <a:pt x="44" y="3952"/>
                  <a:pt x="44" y="3952"/>
                  <a:pt x="44" y="3952"/>
                </a:cubicBezTo>
                <a:cubicBezTo>
                  <a:pt x="48" y="3948"/>
                  <a:pt x="48" y="3948"/>
                  <a:pt x="48" y="3948"/>
                </a:cubicBezTo>
                <a:cubicBezTo>
                  <a:pt x="52" y="3944"/>
                  <a:pt x="52" y="3944"/>
                  <a:pt x="52" y="3944"/>
                </a:cubicBezTo>
                <a:cubicBezTo>
                  <a:pt x="56" y="3940"/>
                  <a:pt x="56" y="3940"/>
                  <a:pt x="56" y="3940"/>
                </a:cubicBezTo>
                <a:cubicBezTo>
                  <a:pt x="60" y="3936"/>
                  <a:pt x="60" y="3936"/>
                  <a:pt x="60" y="3936"/>
                </a:cubicBezTo>
                <a:cubicBezTo>
                  <a:pt x="64" y="3932"/>
                  <a:pt x="64" y="3932"/>
                  <a:pt x="64" y="3932"/>
                </a:cubicBezTo>
                <a:cubicBezTo>
                  <a:pt x="68" y="3928"/>
                  <a:pt x="68" y="3928"/>
                  <a:pt x="68" y="3928"/>
                </a:cubicBezTo>
                <a:cubicBezTo>
                  <a:pt x="72" y="3924"/>
                  <a:pt x="72" y="3924"/>
                  <a:pt x="72" y="3924"/>
                </a:cubicBezTo>
                <a:cubicBezTo>
                  <a:pt x="80" y="3916"/>
                  <a:pt x="80" y="3916"/>
                  <a:pt x="80" y="3916"/>
                </a:cubicBezTo>
                <a:cubicBezTo>
                  <a:pt x="84" y="3912"/>
                  <a:pt x="84" y="3912"/>
                  <a:pt x="84" y="3912"/>
                </a:cubicBezTo>
                <a:cubicBezTo>
                  <a:pt x="88" y="3908"/>
                  <a:pt x="88" y="3908"/>
                  <a:pt x="88" y="3908"/>
                </a:cubicBezTo>
                <a:cubicBezTo>
                  <a:pt x="92" y="3904"/>
                  <a:pt x="92" y="3904"/>
                  <a:pt x="92" y="3904"/>
                </a:cubicBezTo>
                <a:cubicBezTo>
                  <a:pt x="96" y="3900"/>
                  <a:pt x="96" y="3900"/>
                  <a:pt x="96" y="3900"/>
                </a:cubicBezTo>
                <a:cubicBezTo>
                  <a:pt x="100" y="3896"/>
                  <a:pt x="100" y="3896"/>
                  <a:pt x="100" y="3896"/>
                </a:cubicBezTo>
                <a:cubicBezTo>
                  <a:pt x="104" y="3892"/>
                  <a:pt x="104" y="3892"/>
                  <a:pt x="104" y="3892"/>
                </a:cubicBezTo>
                <a:cubicBezTo>
                  <a:pt x="108" y="3888"/>
                  <a:pt x="108" y="3888"/>
                  <a:pt x="108" y="3888"/>
                </a:cubicBezTo>
                <a:cubicBezTo>
                  <a:pt x="112" y="3884"/>
                  <a:pt x="112" y="3884"/>
                  <a:pt x="112" y="3884"/>
                </a:cubicBezTo>
                <a:cubicBezTo>
                  <a:pt x="116" y="3880"/>
                  <a:pt x="116" y="3880"/>
                  <a:pt x="116" y="3880"/>
                </a:cubicBezTo>
                <a:cubicBezTo>
                  <a:pt x="120" y="3876"/>
                  <a:pt x="120" y="3876"/>
                  <a:pt x="120" y="3876"/>
                </a:cubicBezTo>
                <a:cubicBezTo>
                  <a:pt x="124" y="3872"/>
                  <a:pt x="124" y="3872"/>
                  <a:pt x="124" y="3872"/>
                </a:cubicBezTo>
                <a:cubicBezTo>
                  <a:pt x="128" y="3868"/>
                  <a:pt x="128" y="3868"/>
                  <a:pt x="128" y="3868"/>
                </a:cubicBezTo>
                <a:cubicBezTo>
                  <a:pt x="132" y="3864"/>
                  <a:pt x="132" y="3864"/>
                  <a:pt x="132" y="3864"/>
                </a:cubicBezTo>
                <a:cubicBezTo>
                  <a:pt x="136" y="3860"/>
                  <a:pt x="136" y="3860"/>
                  <a:pt x="136" y="3860"/>
                </a:cubicBezTo>
                <a:cubicBezTo>
                  <a:pt x="140" y="3856"/>
                  <a:pt x="140" y="3856"/>
                  <a:pt x="140" y="3856"/>
                </a:cubicBezTo>
                <a:cubicBezTo>
                  <a:pt x="148" y="3848"/>
                  <a:pt x="148" y="3848"/>
                  <a:pt x="148" y="3848"/>
                </a:cubicBezTo>
                <a:cubicBezTo>
                  <a:pt x="152" y="3844"/>
                  <a:pt x="152" y="3844"/>
                  <a:pt x="152" y="3844"/>
                </a:cubicBezTo>
                <a:cubicBezTo>
                  <a:pt x="156" y="3840"/>
                  <a:pt x="156" y="3840"/>
                  <a:pt x="156" y="3840"/>
                </a:cubicBezTo>
                <a:cubicBezTo>
                  <a:pt x="160" y="3836"/>
                  <a:pt x="160" y="3836"/>
                  <a:pt x="160" y="3836"/>
                </a:cubicBezTo>
                <a:cubicBezTo>
                  <a:pt x="164" y="3832"/>
                  <a:pt x="164" y="3832"/>
                  <a:pt x="164" y="3832"/>
                </a:cubicBezTo>
                <a:cubicBezTo>
                  <a:pt x="168" y="3828"/>
                  <a:pt x="168" y="3828"/>
                  <a:pt x="168" y="3828"/>
                </a:cubicBezTo>
                <a:cubicBezTo>
                  <a:pt x="172" y="3824"/>
                  <a:pt x="172" y="3824"/>
                  <a:pt x="172" y="3824"/>
                </a:cubicBezTo>
                <a:cubicBezTo>
                  <a:pt x="176" y="3820"/>
                  <a:pt x="176" y="3820"/>
                  <a:pt x="176" y="3820"/>
                </a:cubicBezTo>
                <a:cubicBezTo>
                  <a:pt x="180" y="3816"/>
                  <a:pt x="180" y="3816"/>
                  <a:pt x="180" y="3816"/>
                </a:cubicBezTo>
                <a:cubicBezTo>
                  <a:pt x="184" y="3812"/>
                  <a:pt x="184" y="3812"/>
                  <a:pt x="184" y="3812"/>
                </a:cubicBezTo>
                <a:cubicBezTo>
                  <a:pt x="188" y="3808"/>
                  <a:pt x="188" y="3808"/>
                  <a:pt x="188" y="3808"/>
                </a:cubicBezTo>
                <a:cubicBezTo>
                  <a:pt x="192" y="3804"/>
                  <a:pt x="192" y="3804"/>
                  <a:pt x="192" y="3804"/>
                </a:cubicBezTo>
                <a:cubicBezTo>
                  <a:pt x="196" y="3800"/>
                  <a:pt x="196" y="3800"/>
                  <a:pt x="196" y="3800"/>
                </a:cubicBezTo>
                <a:cubicBezTo>
                  <a:pt x="200" y="3796"/>
                  <a:pt x="200" y="3796"/>
                  <a:pt x="200" y="3796"/>
                </a:cubicBezTo>
                <a:cubicBezTo>
                  <a:pt x="204" y="3792"/>
                  <a:pt x="204" y="3792"/>
                  <a:pt x="204" y="3792"/>
                </a:cubicBezTo>
                <a:cubicBezTo>
                  <a:pt x="208" y="3788"/>
                  <a:pt x="208" y="3788"/>
                  <a:pt x="208" y="3788"/>
                </a:cubicBezTo>
                <a:cubicBezTo>
                  <a:pt x="216" y="3780"/>
                  <a:pt x="216" y="3780"/>
                  <a:pt x="216" y="3780"/>
                </a:cubicBezTo>
                <a:cubicBezTo>
                  <a:pt x="220" y="3776"/>
                  <a:pt x="220" y="3776"/>
                  <a:pt x="220" y="3776"/>
                </a:cubicBezTo>
                <a:cubicBezTo>
                  <a:pt x="224" y="3772"/>
                  <a:pt x="224" y="3772"/>
                  <a:pt x="224" y="3772"/>
                </a:cubicBezTo>
                <a:cubicBezTo>
                  <a:pt x="228" y="3768"/>
                  <a:pt x="228" y="3768"/>
                  <a:pt x="228" y="3768"/>
                </a:cubicBezTo>
                <a:cubicBezTo>
                  <a:pt x="232" y="3764"/>
                  <a:pt x="232" y="3764"/>
                  <a:pt x="232" y="3764"/>
                </a:cubicBezTo>
                <a:cubicBezTo>
                  <a:pt x="236" y="3760"/>
                  <a:pt x="236" y="3760"/>
                  <a:pt x="236" y="3760"/>
                </a:cubicBezTo>
                <a:cubicBezTo>
                  <a:pt x="240" y="3756"/>
                  <a:pt x="240" y="3756"/>
                  <a:pt x="240" y="3756"/>
                </a:cubicBezTo>
                <a:cubicBezTo>
                  <a:pt x="244" y="3752"/>
                  <a:pt x="244" y="3752"/>
                  <a:pt x="244" y="3752"/>
                </a:cubicBezTo>
                <a:cubicBezTo>
                  <a:pt x="248" y="3748"/>
                  <a:pt x="248" y="3748"/>
                  <a:pt x="248" y="3748"/>
                </a:cubicBezTo>
                <a:cubicBezTo>
                  <a:pt x="252" y="3744"/>
                  <a:pt x="252" y="3744"/>
                  <a:pt x="252" y="3744"/>
                </a:cubicBezTo>
                <a:cubicBezTo>
                  <a:pt x="256" y="3740"/>
                  <a:pt x="256" y="3740"/>
                  <a:pt x="256" y="3740"/>
                </a:cubicBezTo>
                <a:cubicBezTo>
                  <a:pt x="260" y="3736"/>
                  <a:pt x="260" y="3736"/>
                  <a:pt x="260" y="3736"/>
                </a:cubicBezTo>
                <a:cubicBezTo>
                  <a:pt x="264" y="3732"/>
                  <a:pt x="264" y="3732"/>
                  <a:pt x="264" y="3732"/>
                </a:cubicBezTo>
                <a:cubicBezTo>
                  <a:pt x="268" y="3728"/>
                  <a:pt x="268" y="3728"/>
                  <a:pt x="268" y="3728"/>
                </a:cubicBezTo>
                <a:cubicBezTo>
                  <a:pt x="272" y="3724"/>
                  <a:pt x="272" y="3724"/>
                  <a:pt x="272" y="3724"/>
                </a:cubicBezTo>
                <a:cubicBezTo>
                  <a:pt x="276" y="3720"/>
                  <a:pt x="276" y="3720"/>
                  <a:pt x="276" y="3720"/>
                </a:cubicBezTo>
                <a:cubicBezTo>
                  <a:pt x="284" y="3712"/>
                  <a:pt x="284" y="3712"/>
                  <a:pt x="284" y="3712"/>
                </a:cubicBezTo>
                <a:cubicBezTo>
                  <a:pt x="288" y="3708"/>
                  <a:pt x="288" y="3708"/>
                  <a:pt x="288" y="3708"/>
                </a:cubicBezTo>
                <a:cubicBezTo>
                  <a:pt x="292" y="3704"/>
                  <a:pt x="292" y="3704"/>
                  <a:pt x="292" y="3704"/>
                </a:cubicBezTo>
                <a:cubicBezTo>
                  <a:pt x="296" y="3700"/>
                  <a:pt x="296" y="3700"/>
                  <a:pt x="296" y="3700"/>
                </a:cubicBezTo>
                <a:cubicBezTo>
                  <a:pt x="300" y="3696"/>
                  <a:pt x="300" y="3696"/>
                  <a:pt x="300" y="3696"/>
                </a:cubicBezTo>
                <a:cubicBezTo>
                  <a:pt x="304" y="3692"/>
                  <a:pt x="304" y="3692"/>
                  <a:pt x="304" y="3692"/>
                </a:cubicBezTo>
                <a:cubicBezTo>
                  <a:pt x="308" y="3688"/>
                  <a:pt x="308" y="3688"/>
                  <a:pt x="308" y="3688"/>
                </a:cubicBezTo>
                <a:cubicBezTo>
                  <a:pt x="312" y="3684"/>
                  <a:pt x="312" y="3684"/>
                  <a:pt x="312" y="3684"/>
                </a:cubicBezTo>
                <a:cubicBezTo>
                  <a:pt x="316" y="3680"/>
                  <a:pt x="316" y="3680"/>
                  <a:pt x="316" y="3680"/>
                </a:cubicBezTo>
                <a:cubicBezTo>
                  <a:pt x="324" y="3672"/>
                  <a:pt x="324" y="3672"/>
                  <a:pt x="324" y="3672"/>
                </a:cubicBezTo>
                <a:cubicBezTo>
                  <a:pt x="328" y="3668"/>
                  <a:pt x="328" y="3668"/>
                  <a:pt x="328" y="3668"/>
                </a:cubicBezTo>
                <a:cubicBezTo>
                  <a:pt x="332" y="3664"/>
                  <a:pt x="332" y="3664"/>
                  <a:pt x="332" y="3664"/>
                </a:cubicBezTo>
                <a:cubicBezTo>
                  <a:pt x="336" y="3660"/>
                  <a:pt x="336" y="3660"/>
                  <a:pt x="336" y="3660"/>
                </a:cubicBezTo>
                <a:cubicBezTo>
                  <a:pt x="340" y="3656"/>
                  <a:pt x="340" y="3656"/>
                  <a:pt x="340" y="3656"/>
                </a:cubicBezTo>
                <a:cubicBezTo>
                  <a:pt x="344" y="3652"/>
                  <a:pt x="344" y="3652"/>
                  <a:pt x="344" y="3652"/>
                </a:cubicBezTo>
                <a:cubicBezTo>
                  <a:pt x="352" y="3644"/>
                  <a:pt x="352" y="3644"/>
                  <a:pt x="352" y="3644"/>
                </a:cubicBezTo>
                <a:cubicBezTo>
                  <a:pt x="356" y="3640"/>
                  <a:pt x="356" y="3640"/>
                  <a:pt x="356" y="3640"/>
                </a:cubicBezTo>
                <a:cubicBezTo>
                  <a:pt x="360" y="3636"/>
                  <a:pt x="360" y="3636"/>
                  <a:pt x="360" y="3636"/>
                </a:cubicBezTo>
                <a:cubicBezTo>
                  <a:pt x="364" y="3632"/>
                  <a:pt x="364" y="3632"/>
                  <a:pt x="364" y="3632"/>
                </a:cubicBezTo>
                <a:cubicBezTo>
                  <a:pt x="368" y="3628"/>
                  <a:pt x="368" y="3628"/>
                  <a:pt x="368" y="3628"/>
                </a:cubicBezTo>
                <a:cubicBezTo>
                  <a:pt x="372" y="3624"/>
                  <a:pt x="372" y="3624"/>
                  <a:pt x="372" y="3624"/>
                </a:cubicBezTo>
                <a:cubicBezTo>
                  <a:pt x="376" y="3620"/>
                  <a:pt x="376" y="3620"/>
                  <a:pt x="376" y="3620"/>
                </a:cubicBezTo>
                <a:cubicBezTo>
                  <a:pt x="380" y="3616"/>
                  <a:pt x="380" y="3616"/>
                  <a:pt x="380" y="3616"/>
                </a:cubicBezTo>
                <a:cubicBezTo>
                  <a:pt x="384" y="3612"/>
                  <a:pt x="384" y="3612"/>
                  <a:pt x="384" y="3612"/>
                </a:cubicBezTo>
                <a:cubicBezTo>
                  <a:pt x="392" y="3604"/>
                  <a:pt x="392" y="3604"/>
                  <a:pt x="392" y="3604"/>
                </a:cubicBezTo>
                <a:cubicBezTo>
                  <a:pt x="396" y="3600"/>
                  <a:pt x="396" y="3600"/>
                  <a:pt x="396" y="3600"/>
                </a:cubicBezTo>
                <a:cubicBezTo>
                  <a:pt x="400" y="3596"/>
                  <a:pt x="400" y="3596"/>
                  <a:pt x="400" y="3596"/>
                </a:cubicBezTo>
                <a:cubicBezTo>
                  <a:pt x="404" y="3592"/>
                  <a:pt x="404" y="3592"/>
                  <a:pt x="404" y="3592"/>
                </a:cubicBezTo>
                <a:cubicBezTo>
                  <a:pt x="408" y="3588"/>
                  <a:pt x="408" y="3588"/>
                  <a:pt x="408" y="3588"/>
                </a:cubicBezTo>
                <a:cubicBezTo>
                  <a:pt x="412" y="3584"/>
                  <a:pt x="412" y="3584"/>
                  <a:pt x="412" y="3584"/>
                </a:cubicBezTo>
                <a:cubicBezTo>
                  <a:pt x="420" y="3576"/>
                  <a:pt x="420" y="3576"/>
                  <a:pt x="420" y="3576"/>
                </a:cubicBezTo>
                <a:cubicBezTo>
                  <a:pt x="424" y="3572"/>
                  <a:pt x="424" y="3572"/>
                  <a:pt x="424" y="3572"/>
                </a:cubicBezTo>
                <a:cubicBezTo>
                  <a:pt x="428" y="3568"/>
                  <a:pt x="428" y="3568"/>
                  <a:pt x="428" y="3568"/>
                </a:cubicBezTo>
                <a:cubicBezTo>
                  <a:pt x="432" y="3564"/>
                  <a:pt x="432" y="3564"/>
                  <a:pt x="432" y="3564"/>
                </a:cubicBezTo>
                <a:cubicBezTo>
                  <a:pt x="436" y="3560"/>
                  <a:pt x="436" y="3560"/>
                  <a:pt x="436" y="3560"/>
                </a:cubicBezTo>
                <a:cubicBezTo>
                  <a:pt x="440" y="3556"/>
                  <a:pt x="440" y="3556"/>
                  <a:pt x="440" y="3556"/>
                </a:cubicBezTo>
                <a:cubicBezTo>
                  <a:pt x="444" y="3552"/>
                  <a:pt x="444" y="3552"/>
                  <a:pt x="444" y="3552"/>
                </a:cubicBezTo>
                <a:cubicBezTo>
                  <a:pt x="448" y="3548"/>
                  <a:pt x="448" y="3548"/>
                  <a:pt x="448" y="3548"/>
                </a:cubicBezTo>
                <a:cubicBezTo>
                  <a:pt x="452" y="3544"/>
                  <a:pt x="452" y="3544"/>
                  <a:pt x="452" y="3544"/>
                </a:cubicBezTo>
                <a:cubicBezTo>
                  <a:pt x="460" y="3536"/>
                  <a:pt x="460" y="3536"/>
                  <a:pt x="460" y="3536"/>
                </a:cubicBezTo>
                <a:cubicBezTo>
                  <a:pt x="464" y="3532"/>
                  <a:pt x="464" y="3532"/>
                  <a:pt x="464" y="3532"/>
                </a:cubicBezTo>
                <a:cubicBezTo>
                  <a:pt x="468" y="3528"/>
                  <a:pt x="468" y="3528"/>
                  <a:pt x="468" y="3528"/>
                </a:cubicBezTo>
                <a:cubicBezTo>
                  <a:pt x="472" y="3524"/>
                  <a:pt x="472" y="3524"/>
                  <a:pt x="472" y="3524"/>
                </a:cubicBezTo>
                <a:cubicBezTo>
                  <a:pt x="476" y="3520"/>
                  <a:pt x="476" y="3520"/>
                  <a:pt x="476" y="3520"/>
                </a:cubicBezTo>
                <a:cubicBezTo>
                  <a:pt x="480" y="3516"/>
                  <a:pt x="480" y="3516"/>
                  <a:pt x="480" y="3516"/>
                </a:cubicBezTo>
                <a:cubicBezTo>
                  <a:pt x="484" y="3512"/>
                  <a:pt x="484" y="3512"/>
                  <a:pt x="484" y="3512"/>
                </a:cubicBezTo>
                <a:cubicBezTo>
                  <a:pt x="488" y="3508"/>
                  <a:pt x="488" y="3508"/>
                  <a:pt x="488" y="3508"/>
                </a:cubicBezTo>
                <a:cubicBezTo>
                  <a:pt x="492" y="3504"/>
                  <a:pt x="492" y="3504"/>
                  <a:pt x="492" y="3504"/>
                </a:cubicBezTo>
                <a:cubicBezTo>
                  <a:pt x="496" y="3500"/>
                  <a:pt x="496" y="3500"/>
                  <a:pt x="496" y="3500"/>
                </a:cubicBezTo>
                <a:cubicBezTo>
                  <a:pt x="500" y="3496"/>
                  <a:pt x="500" y="3496"/>
                  <a:pt x="500" y="3496"/>
                </a:cubicBezTo>
                <a:cubicBezTo>
                  <a:pt x="504" y="3492"/>
                  <a:pt x="504" y="3492"/>
                  <a:pt x="504" y="3492"/>
                </a:cubicBezTo>
                <a:cubicBezTo>
                  <a:pt x="508" y="3488"/>
                  <a:pt x="508" y="3488"/>
                  <a:pt x="508" y="3488"/>
                </a:cubicBezTo>
                <a:cubicBezTo>
                  <a:pt x="512" y="3484"/>
                  <a:pt x="512" y="3484"/>
                  <a:pt x="512" y="3484"/>
                </a:cubicBezTo>
                <a:cubicBezTo>
                  <a:pt x="516" y="3480"/>
                  <a:pt x="516" y="3480"/>
                  <a:pt x="516" y="3480"/>
                </a:cubicBezTo>
                <a:cubicBezTo>
                  <a:pt x="520" y="3476"/>
                  <a:pt x="520" y="3476"/>
                  <a:pt x="520" y="3476"/>
                </a:cubicBezTo>
                <a:cubicBezTo>
                  <a:pt x="528" y="3468"/>
                  <a:pt x="528" y="3468"/>
                  <a:pt x="528" y="3468"/>
                </a:cubicBezTo>
                <a:cubicBezTo>
                  <a:pt x="532" y="3464"/>
                  <a:pt x="532" y="3464"/>
                  <a:pt x="532" y="3464"/>
                </a:cubicBezTo>
                <a:cubicBezTo>
                  <a:pt x="536" y="3460"/>
                  <a:pt x="536" y="3460"/>
                  <a:pt x="536" y="3460"/>
                </a:cubicBezTo>
                <a:cubicBezTo>
                  <a:pt x="540" y="3456"/>
                  <a:pt x="540" y="3456"/>
                  <a:pt x="540" y="3456"/>
                </a:cubicBezTo>
                <a:cubicBezTo>
                  <a:pt x="544" y="3452"/>
                  <a:pt x="544" y="3452"/>
                  <a:pt x="544" y="3452"/>
                </a:cubicBezTo>
                <a:cubicBezTo>
                  <a:pt x="548" y="3448"/>
                  <a:pt x="548" y="3448"/>
                  <a:pt x="548" y="3448"/>
                </a:cubicBezTo>
                <a:cubicBezTo>
                  <a:pt x="552" y="3444"/>
                  <a:pt x="552" y="3444"/>
                  <a:pt x="552" y="3444"/>
                </a:cubicBezTo>
                <a:cubicBezTo>
                  <a:pt x="556" y="3440"/>
                  <a:pt x="556" y="3440"/>
                  <a:pt x="556" y="3440"/>
                </a:cubicBezTo>
                <a:cubicBezTo>
                  <a:pt x="560" y="3436"/>
                  <a:pt x="560" y="3436"/>
                  <a:pt x="560" y="3436"/>
                </a:cubicBezTo>
                <a:cubicBezTo>
                  <a:pt x="564" y="3432"/>
                  <a:pt x="564" y="3432"/>
                  <a:pt x="564" y="3432"/>
                </a:cubicBezTo>
                <a:cubicBezTo>
                  <a:pt x="568" y="3428"/>
                  <a:pt x="568" y="3428"/>
                  <a:pt x="568" y="3428"/>
                </a:cubicBezTo>
                <a:cubicBezTo>
                  <a:pt x="572" y="3424"/>
                  <a:pt x="572" y="3424"/>
                  <a:pt x="572" y="3424"/>
                </a:cubicBezTo>
                <a:cubicBezTo>
                  <a:pt x="576" y="3420"/>
                  <a:pt x="576" y="3420"/>
                  <a:pt x="576" y="3420"/>
                </a:cubicBezTo>
                <a:cubicBezTo>
                  <a:pt x="580" y="3416"/>
                  <a:pt x="580" y="3416"/>
                  <a:pt x="580" y="3416"/>
                </a:cubicBezTo>
                <a:cubicBezTo>
                  <a:pt x="584" y="3412"/>
                  <a:pt x="584" y="3412"/>
                  <a:pt x="584" y="3412"/>
                </a:cubicBezTo>
                <a:cubicBezTo>
                  <a:pt x="588" y="3408"/>
                  <a:pt x="588" y="3408"/>
                  <a:pt x="588" y="3408"/>
                </a:cubicBezTo>
                <a:cubicBezTo>
                  <a:pt x="596" y="3400"/>
                  <a:pt x="596" y="3400"/>
                  <a:pt x="596" y="3400"/>
                </a:cubicBezTo>
                <a:cubicBezTo>
                  <a:pt x="600" y="3396"/>
                  <a:pt x="600" y="3396"/>
                  <a:pt x="600" y="3396"/>
                </a:cubicBezTo>
                <a:cubicBezTo>
                  <a:pt x="604" y="3392"/>
                  <a:pt x="604" y="3392"/>
                  <a:pt x="604" y="3392"/>
                </a:cubicBezTo>
                <a:cubicBezTo>
                  <a:pt x="608" y="3388"/>
                  <a:pt x="608" y="3388"/>
                  <a:pt x="608" y="3388"/>
                </a:cubicBezTo>
                <a:cubicBezTo>
                  <a:pt x="612" y="3384"/>
                  <a:pt x="612" y="3384"/>
                  <a:pt x="612" y="3384"/>
                </a:cubicBezTo>
                <a:cubicBezTo>
                  <a:pt x="616" y="3380"/>
                  <a:pt x="616" y="3380"/>
                  <a:pt x="616" y="3380"/>
                </a:cubicBezTo>
                <a:cubicBezTo>
                  <a:pt x="620" y="3376"/>
                  <a:pt x="620" y="3376"/>
                  <a:pt x="620" y="3376"/>
                </a:cubicBezTo>
                <a:cubicBezTo>
                  <a:pt x="624" y="3372"/>
                  <a:pt x="624" y="3372"/>
                  <a:pt x="624" y="3372"/>
                </a:cubicBezTo>
                <a:cubicBezTo>
                  <a:pt x="628" y="3368"/>
                  <a:pt x="628" y="3368"/>
                  <a:pt x="628" y="3368"/>
                </a:cubicBezTo>
                <a:cubicBezTo>
                  <a:pt x="632" y="3364"/>
                  <a:pt x="632" y="3364"/>
                  <a:pt x="632" y="3364"/>
                </a:cubicBezTo>
                <a:cubicBezTo>
                  <a:pt x="636" y="3360"/>
                  <a:pt x="636" y="3360"/>
                  <a:pt x="636" y="3360"/>
                </a:cubicBezTo>
                <a:cubicBezTo>
                  <a:pt x="640" y="3356"/>
                  <a:pt x="640" y="3356"/>
                  <a:pt x="640" y="3356"/>
                </a:cubicBezTo>
                <a:cubicBezTo>
                  <a:pt x="644" y="3352"/>
                  <a:pt x="644" y="3352"/>
                  <a:pt x="644" y="3352"/>
                </a:cubicBezTo>
                <a:cubicBezTo>
                  <a:pt x="648" y="3348"/>
                  <a:pt x="648" y="3348"/>
                  <a:pt x="648" y="3348"/>
                </a:cubicBezTo>
                <a:cubicBezTo>
                  <a:pt x="652" y="3344"/>
                  <a:pt x="652" y="3344"/>
                  <a:pt x="652" y="3344"/>
                </a:cubicBezTo>
                <a:cubicBezTo>
                  <a:pt x="656" y="3340"/>
                  <a:pt x="656" y="3340"/>
                  <a:pt x="656" y="3340"/>
                </a:cubicBezTo>
                <a:cubicBezTo>
                  <a:pt x="664" y="3332"/>
                  <a:pt x="664" y="3332"/>
                  <a:pt x="664" y="3332"/>
                </a:cubicBezTo>
                <a:cubicBezTo>
                  <a:pt x="668" y="3328"/>
                  <a:pt x="668" y="3328"/>
                  <a:pt x="668" y="3328"/>
                </a:cubicBezTo>
                <a:cubicBezTo>
                  <a:pt x="672" y="3324"/>
                  <a:pt x="672" y="3324"/>
                  <a:pt x="672" y="3324"/>
                </a:cubicBezTo>
                <a:cubicBezTo>
                  <a:pt x="676" y="3320"/>
                  <a:pt x="676" y="3320"/>
                  <a:pt x="676" y="3320"/>
                </a:cubicBezTo>
                <a:cubicBezTo>
                  <a:pt x="680" y="3316"/>
                  <a:pt x="680" y="3316"/>
                  <a:pt x="680" y="3316"/>
                </a:cubicBezTo>
                <a:cubicBezTo>
                  <a:pt x="684" y="3312"/>
                  <a:pt x="684" y="3312"/>
                  <a:pt x="684" y="3312"/>
                </a:cubicBezTo>
                <a:cubicBezTo>
                  <a:pt x="688" y="3308"/>
                  <a:pt x="688" y="3308"/>
                  <a:pt x="688" y="3308"/>
                </a:cubicBezTo>
                <a:cubicBezTo>
                  <a:pt x="692" y="3304"/>
                  <a:pt x="692" y="3304"/>
                  <a:pt x="692" y="3304"/>
                </a:cubicBezTo>
                <a:cubicBezTo>
                  <a:pt x="696" y="3300"/>
                  <a:pt x="696" y="3300"/>
                  <a:pt x="696" y="3300"/>
                </a:cubicBezTo>
                <a:cubicBezTo>
                  <a:pt x="700" y="3296"/>
                  <a:pt x="700" y="3296"/>
                  <a:pt x="700" y="3296"/>
                </a:cubicBezTo>
                <a:cubicBezTo>
                  <a:pt x="704" y="3292"/>
                  <a:pt x="704" y="3292"/>
                  <a:pt x="704" y="3292"/>
                </a:cubicBezTo>
                <a:cubicBezTo>
                  <a:pt x="708" y="3288"/>
                  <a:pt x="708" y="3288"/>
                  <a:pt x="708" y="3288"/>
                </a:cubicBezTo>
                <a:cubicBezTo>
                  <a:pt x="712" y="3284"/>
                  <a:pt x="712" y="3284"/>
                  <a:pt x="712" y="3284"/>
                </a:cubicBezTo>
                <a:cubicBezTo>
                  <a:pt x="716" y="3280"/>
                  <a:pt x="716" y="3280"/>
                  <a:pt x="716" y="3280"/>
                </a:cubicBezTo>
                <a:cubicBezTo>
                  <a:pt x="720" y="3276"/>
                  <a:pt x="720" y="3276"/>
                  <a:pt x="720" y="3276"/>
                </a:cubicBezTo>
                <a:cubicBezTo>
                  <a:pt x="724" y="3272"/>
                  <a:pt x="724" y="3272"/>
                  <a:pt x="724" y="3272"/>
                </a:cubicBezTo>
                <a:cubicBezTo>
                  <a:pt x="732" y="3264"/>
                  <a:pt x="732" y="3264"/>
                  <a:pt x="732" y="3264"/>
                </a:cubicBezTo>
                <a:cubicBezTo>
                  <a:pt x="736" y="3260"/>
                  <a:pt x="736" y="3260"/>
                  <a:pt x="736" y="3260"/>
                </a:cubicBezTo>
                <a:cubicBezTo>
                  <a:pt x="740" y="3256"/>
                  <a:pt x="740" y="3256"/>
                  <a:pt x="740" y="3256"/>
                </a:cubicBezTo>
                <a:cubicBezTo>
                  <a:pt x="744" y="3252"/>
                  <a:pt x="744" y="3252"/>
                  <a:pt x="744" y="3252"/>
                </a:cubicBezTo>
                <a:cubicBezTo>
                  <a:pt x="748" y="3248"/>
                  <a:pt x="748" y="3248"/>
                  <a:pt x="748" y="3248"/>
                </a:cubicBezTo>
                <a:cubicBezTo>
                  <a:pt x="752" y="3244"/>
                  <a:pt x="752" y="3244"/>
                  <a:pt x="752" y="3244"/>
                </a:cubicBezTo>
                <a:cubicBezTo>
                  <a:pt x="756" y="3240"/>
                  <a:pt x="756" y="3240"/>
                  <a:pt x="756" y="3240"/>
                </a:cubicBezTo>
                <a:cubicBezTo>
                  <a:pt x="760" y="3236"/>
                  <a:pt x="760" y="3236"/>
                  <a:pt x="760" y="3236"/>
                </a:cubicBezTo>
                <a:cubicBezTo>
                  <a:pt x="764" y="3232"/>
                  <a:pt x="764" y="3232"/>
                  <a:pt x="764" y="3232"/>
                </a:cubicBezTo>
                <a:cubicBezTo>
                  <a:pt x="768" y="3228"/>
                  <a:pt x="768" y="3228"/>
                  <a:pt x="768" y="3228"/>
                </a:cubicBezTo>
                <a:cubicBezTo>
                  <a:pt x="772" y="3224"/>
                  <a:pt x="772" y="3224"/>
                  <a:pt x="772" y="3224"/>
                </a:cubicBezTo>
                <a:cubicBezTo>
                  <a:pt x="776" y="3220"/>
                  <a:pt x="776" y="3220"/>
                  <a:pt x="776" y="3220"/>
                </a:cubicBezTo>
                <a:cubicBezTo>
                  <a:pt x="780" y="3216"/>
                  <a:pt x="780" y="3216"/>
                  <a:pt x="780" y="3216"/>
                </a:cubicBezTo>
                <a:cubicBezTo>
                  <a:pt x="784" y="3212"/>
                  <a:pt x="784" y="3212"/>
                  <a:pt x="784" y="3212"/>
                </a:cubicBezTo>
                <a:cubicBezTo>
                  <a:pt x="788" y="3208"/>
                  <a:pt x="788" y="3208"/>
                  <a:pt x="788" y="3208"/>
                </a:cubicBezTo>
                <a:cubicBezTo>
                  <a:pt x="792" y="3204"/>
                  <a:pt x="792" y="3204"/>
                  <a:pt x="792" y="3204"/>
                </a:cubicBezTo>
                <a:cubicBezTo>
                  <a:pt x="800" y="3196"/>
                  <a:pt x="800" y="3196"/>
                  <a:pt x="800" y="3196"/>
                </a:cubicBezTo>
                <a:cubicBezTo>
                  <a:pt x="804" y="3192"/>
                  <a:pt x="804" y="3192"/>
                  <a:pt x="804" y="3192"/>
                </a:cubicBezTo>
                <a:cubicBezTo>
                  <a:pt x="808" y="3188"/>
                  <a:pt x="808" y="3188"/>
                  <a:pt x="808" y="3188"/>
                </a:cubicBezTo>
                <a:cubicBezTo>
                  <a:pt x="812" y="3184"/>
                  <a:pt x="812" y="3184"/>
                  <a:pt x="812" y="3184"/>
                </a:cubicBezTo>
                <a:cubicBezTo>
                  <a:pt x="816" y="3180"/>
                  <a:pt x="816" y="3180"/>
                  <a:pt x="816" y="3180"/>
                </a:cubicBezTo>
                <a:cubicBezTo>
                  <a:pt x="820" y="3176"/>
                  <a:pt x="820" y="3176"/>
                  <a:pt x="820" y="3176"/>
                </a:cubicBezTo>
                <a:cubicBezTo>
                  <a:pt x="824" y="3172"/>
                  <a:pt x="824" y="3172"/>
                  <a:pt x="824" y="3172"/>
                </a:cubicBezTo>
                <a:cubicBezTo>
                  <a:pt x="828" y="3168"/>
                  <a:pt x="828" y="3168"/>
                  <a:pt x="828" y="3168"/>
                </a:cubicBezTo>
                <a:cubicBezTo>
                  <a:pt x="832" y="3164"/>
                  <a:pt x="832" y="3164"/>
                  <a:pt x="832" y="3164"/>
                </a:cubicBezTo>
                <a:cubicBezTo>
                  <a:pt x="836" y="3160"/>
                  <a:pt x="836" y="3160"/>
                  <a:pt x="836" y="3160"/>
                </a:cubicBezTo>
                <a:cubicBezTo>
                  <a:pt x="840" y="3156"/>
                  <a:pt x="840" y="3156"/>
                  <a:pt x="840" y="3156"/>
                </a:cubicBezTo>
                <a:cubicBezTo>
                  <a:pt x="844" y="3152"/>
                  <a:pt x="844" y="3152"/>
                  <a:pt x="844" y="3152"/>
                </a:cubicBezTo>
                <a:cubicBezTo>
                  <a:pt x="848" y="3148"/>
                  <a:pt x="848" y="3148"/>
                  <a:pt x="848" y="3148"/>
                </a:cubicBezTo>
                <a:cubicBezTo>
                  <a:pt x="852" y="3144"/>
                  <a:pt x="852" y="3144"/>
                  <a:pt x="852" y="3144"/>
                </a:cubicBezTo>
                <a:cubicBezTo>
                  <a:pt x="856" y="3140"/>
                  <a:pt x="856" y="3140"/>
                  <a:pt x="856" y="3140"/>
                </a:cubicBezTo>
                <a:cubicBezTo>
                  <a:pt x="860" y="3136"/>
                  <a:pt x="860" y="3136"/>
                  <a:pt x="860" y="3136"/>
                </a:cubicBezTo>
                <a:cubicBezTo>
                  <a:pt x="868" y="3128"/>
                  <a:pt x="868" y="3128"/>
                  <a:pt x="868" y="3128"/>
                </a:cubicBezTo>
                <a:cubicBezTo>
                  <a:pt x="872" y="3124"/>
                  <a:pt x="872" y="3124"/>
                  <a:pt x="872" y="3124"/>
                </a:cubicBezTo>
                <a:cubicBezTo>
                  <a:pt x="876" y="3120"/>
                  <a:pt x="876" y="3120"/>
                  <a:pt x="876" y="3120"/>
                </a:cubicBezTo>
                <a:cubicBezTo>
                  <a:pt x="880" y="3116"/>
                  <a:pt x="880" y="3116"/>
                  <a:pt x="880" y="3116"/>
                </a:cubicBezTo>
                <a:cubicBezTo>
                  <a:pt x="884" y="3112"/>
                  <a:pt x="884" y="3112"/>
                  <a:pt x="884" y="3112"/>
                </a:cubicBezTo>
                <a:cubicBezTo>
                  <a:pt x="888" y="3108"/>
                  <a:pt x="888" y="3108"/>
                  <a:pt x="888" y="3108"/>
                </a:cubicBezTo>
                <a:cubicBezTo>
                  <a:pt x="892" y="3104"/>
                  <a:pt x="892" y="3104"/>
                  <a:pt x="892" y="3104"/>
                </a:cubicBezTo>
                <a:cubicBezTo>
                  <a:pt x="896" y="3100"/>
                  <a:pt x="896" y="3100"/>
                  <a:pt x="896" y="3100"/>
                </a:cubicBezTo>
                <a:cubicBezTo>
                  <a:pt x="900" y="3096"/>
                  <a:pt x="900" y="3096"/>
                  <a:pt x="900" y="3096"/>
                </a:cubicBezTo>
                <a:cubicBezTo>
                  <a:pt x="904" y="3092"/>
                  <a:pt x="904" y="3092"/>
                  <a:pt x="904" y="3092"/>
                </a:cubicBezTo>
                <a:cubicBezTo>
                  <a:pt x="908" y="3088"/>
                  <a:pt x="908" y="3088"/>
                  <a:pt x="908" y="3088"/>
                </a:cubicBezTo>
                <a:cubicBezTo>
                  <a:pt x="912" y="3084"/>
                  <a:pt x="912" y="3084"/>
                  <a:pt x="912" y="3084"/>
                </a:cubicBezTo>
                <a:cubicBezTo>
                  <a:pt x="916" y="3080"/>
                  <a:pt x="916" y="3080"/>
                  <a:pt x="916" y="3080"/>
                </a:cubicBezTo>
                <a:cubicBezTo>
                  <a:pt x="920" y="3076"/>
                  <a:pt x="920" y="3076"/>
                  <a:pt x="920" y="3076"/>
                </a:cubicBezTo>
                <a:cubicBezTo>
                  <a:pt x="924" y="3072"/>
                  <a:pt x="924" y="3072"/>
                  <a:pt x="924" y="3072"/>
                </a:cubicBezTo>
                <a:cubicBezTo>
                  <a:pt x="928" y="3068"/>
                  <a:pt x="928" y="3068"/>
                  <a:pt x="928" y="3068"/>
                </a:cubicBezTo>
                <a:cubicBezTo>
                  <a:pt x="936" y="3060"/>
                  <a:pt x="936" y="3060"/>
                  <a:pt x="936" y="3060"/>
                </a:cubicBezTo>
                <a:cubicBezTo>
                  <a:pt x="940" y="3056"/>
                  <a:pt x="940" y="3056"/>
                  <a:pt x="940" y="3056"/>
                </a:cubicBezTo>
                <a:cubicBezTo>
                  <a:pt x="944" y="3052"/>
                  <a:pt x="944" y="3052"/>
                  <a:pt x="944" y="3052"/>
                </a:cubicBezTo>
                <a:cubicBezTo>
                  <a:pt x="948" y="3048"/>
                  <a:pt x="948" y="3048"/>
                  <a:pt x="948" y="3048"/>
                </a:cubicBezTo>
                <a:cubicBezTo>
                  <a:pt x="952" y="3044"/>
                  <a:pt x="952" y="3044"/>
                  <a:pt x="952" y="3044"/>
                </a:cubicBezTo>
                <a:cubicBezTo>
                  <a:pt x="956" y="3040"/>
                  <a:pt x="956" y="3040"/>
                  <a:pt x="956" y="3040"/>
                </a:cubicBezTo>
                <a:cubicBezTo>
                  <a:pt x="960" y="3036"/>
                  <a:pt x="960" y="3036"/>
                  <a:pt x="960" y="3036"/>
                </a:cubicBezTo>
                <a:cubicBezTo>
                  <a:pt x="964" y="3032"/>
                  <a:pt x="964" y="3032"/>
                  <a:pt x="964" y="3032"/>
                </a:cubicBezTo>
                <a:cubicBezTo>
                  <a:pt x="968" y="3028"/>
                  <a:pt x="968" y="3028"/>
                  <a:pt x="968" y="3028"/>
                </a:cubicBezTo>
                <a:cubicBezTo>
                  <a:pt x="972" y="3024"/>
                  <a:pt x="972" y="3024"/>
                  <a:pt x="972" y="3024"/>
                </a:cubicBezTo>
                <a:cubicBezTo>
                  <a:pt x="976" y="3020"/>
                  <a:pt x="976" y="3020"/>
                  <a:pt x="976" y="3020"/>
                </a:cubicBezTo>
                <a:cubicBezTo>
                  <a:pt x="980" y="3016"/>
                  <a:pt x="980" y="3016"/>
                  <a:pt x="980" y="3016"/>
                </a:cubicBezTo>
                <a:cubicBezTo>
                  <a:pt x="984" y="3012"/>
                  <a:pt x="984" y="3012"/>
                  <a:pt x="984" y="3012"/>
                </a:cubicBezTo>
                <a:cubicBezTo>
                  <a:pt x="988" y="3008"/>
                  <a:pt x="988" y="3008"/>
                  <a:pt x="988" y="3008"/>
                </a:cubicBezTo>
                <a:cubicBezTo>
                  <a:pt x="992" y="3004"/>
                  <a:pt x="992" y="3004"/>
                  <a:pt x="992" y="3004"/>
                </a:cubicBezTo>
                <a:cubicBezTo>
                  <a:pt x="996" y="3000"/>
                  <a:pt x="996" y="3000"/>
                  <a:pt x="996" y="3000"/>
                </a:cubicBezTo>
                <a:cubicBezTo>
                  <a:pt x="1004" y="2992"/>
                  <a:pt x="1004" y="2992"/>
                  <a:pt x="1004" y="2992"/>
                </a:cubicBezTo>
                <a:cubicBezTo>
                  <a:pt x="1008" y="2988"/>
                  <a:pt x="1008" y="2988"/>
                  <a:pt x="1008" y="2988"/>
                </a:cubicBezTo>
                <a:cubicBezTo>
                  <a:pt x="1012" y="2984"/>
                  <a:pt x="1012" y="2984"/>
                  <a:pt x="1012" y="2984"/>
                </a:cubicBezTo>
                <a:cubicBezTo>
                  <a:pt x="1016" y="2980"/>
                  <a:pt x="1016" y="2980"/>
                  <a:pt x="1016" y="2980"/>
                </a:cubicBezTo>
                <a:cubicBezTo>
                  <a:pt x="1020" y="2976"/>
                  <a:pt x="1020" y="2976"/>
                  <a:pt x="1020" y="2976"/>
                </a:cubicBezTo>
                <a:cubicBezTo>
                  <a:pt x="1024" y="2972"/>
                  <a:pt x="1024" y="2972"/>
                  <a:pt x="1024" y="2972"/>
                </a:cubicBezTo>
                <a:cubicBezTo>
                  <a:pt x="1028" y="2968"/>
                  <a:pt x="1028" y="2968"/>
                  <a:pt x="1028" y="2968"/>
                </a:cubicBezTo>
                <a:cubicBezTo>
                  <a:pt x="1032" y="2964"/>
                  <a:pt x="1032" y="2964"/>
                  <a:pt x="1032" y="2964"/>
                </a:cubicBezTo>
                <a:cubicBezTo>
                  <a:pt x="1036" y="2960"/>
                  <a:pt x="1036" y="2960"/>
                  <a:pt x="1036" y="2960"/>
                </a:cubicBezTo>
                <a:cubicBezTo>
                  <a:pt x="1044" y="2952"/>
                  <a:pt x="1044" y="2952"/>
                  <a:pt x="1044" y="2952"/>
                </a:cubicBezTo>
                <a:cubicBezTo>
                  <a:pt x="1048" y="2948"/>
                  <a:pt x="1048" y="2948"/>
                  <a:pt x="1048" y="2948"/>
                </a:cubicBezTo>
                <a:cubicBezTo>
                  <a:pt x="1052" y="2944"/>
                  <a:pt x="1052" y="2944"/>
                  <a:pt x="1052" y="2944"/>
                </a:cubicBezTo>
                <a:cubicBezTo>
                  <a:pt x="1056" y="2940"/>
                  <a:pt x="1056" y="2940"/>
                  <a:pt x="1056" y="2940"/>
                </a:cubicBezTo>
                <a:cubicBezTo>
                  <a:pt x="1060" y="2936"/>
                  <a:pt x="1060" y="2936"/>
                  <a:pt x="1060" y="2936"/>
                </a:cubicBezTo>
                <a:cubicBezTo>
                  <a:pt x="1064" y="2932"/>
                  <a:pt x="1064" y="2932"/>
                  <a:pt x="1064" y="2932"/>
                </a:cubicBezTo>
                <a:cubicBezTo>
                  <a:pt x="1072" y="2924"/>
                  <a:pt x="1072" y="2924"/>
                  <a:pt x="1072" y="2924"/>
                </a:cubicBezTo>
                <a:cubicBezTo>
                  <a:pt x="1076" y="2920"/>
                  <a:pt x="1076" y="2920"/>
                  <a:pt x="1076" y="2920"/>
                </a:cubicBezTo>
                <a:cubicBezTo>
                  <a:pt x="1080" y="2916"/>
                  <a:pt x="1080" y="2916"/>
                  <a:pt x="1080" y="2916"/>
                </a:cubicBezTo>
                <a:cubicBezTo>
                  <a:pt x="1084" y="2912"/>
                  <a:pt x="1084" y="2912"/>
                  <a:pt x="1084" y="2912"/>
                </a:cubicBezTo>
                <a:cubicBezTo>
                  <a:pt x="1088" y="2908"/>
                  <a:pt x="1088" y="2908"/>
                  <a:pt x="1088" y="2908"/>
                </a:cubicBezTo>
                <a:cubicBezTo>
                  <a:pt x="1092" y="2904"/>
                  <a:pt x="1092" y="2904"/>
                  <a:pt x="1092" y="2904"/>
                </a:cubicBezTo>
                <a:cubicBezTo>
                  <a:pt x="1096" y="2900"/>
                  <a:pt x="1096" y="2900"/>
                  <a:pt x="1096" y="2900"/>
                </a:cubicBezTo>
                <a:cubicBezTo>
                  <a:pt x="1100" y="2896"/>
                  <a:pt x="1100" y="2896"/>
                  <a:pt x="1100" y="2896"/>
                </a:cubicBezTo>
                <a:cubicBezTo>
                  <a:pt x="1104" y="2892"/>
                  <a:pt x="1104" y="2892"/>
                  <a:pt x="1104" y="2892"/>
                </a:cubicBezTo>
                <a:cubicBezTo>
                  <a:pt x="1112" y="2884"/>
                  <a:pt x="1112" y="2884"/>
                  <a:pt x="1112" y="2884"/>
                </a:cubicBezTo>
                <a:cubicBezTo>
                  <a:pt x="1116" y="2880"/>
                  <a:pt x="1116" y="2880"/>
                  <a:pt x="1116" y="2880"/>
                </a:cubicBezTo>
                <a:cubicBezTo>
                  <a:pt x="1120" y="2876"/>
                  <a:pt x="1120" y="2876"/>
                  <a:pt x="1120" y="2876"/>
                </a:cubicBezTo>
                <a:cubicBezTo>
                  <a:pt x="1124" y="2872"/>
                  <a:pt x="1124" y="2872"/>
                  <a:pt x="1124" y="2872"/>
                </a:cubicBezTo>
                <a:cubicBezTo>
                  <a:pt x="1128" y="2868"/>
                  <a:pt x="1128" y="2868"/>
                  <a:pt x="1128" y="2868"/>
                </a:cubicBezTo>
                <a:cubicBezTo>
                  <a:pt x="1132" y="2864"/>
                  <a:pt x="1132" y="2864"/>
                  <a:pt x="1132" y="2864"/>
                </a:cubicBezTo>
                <a:cubicBezTo>
                  <a:pt x="1140" y="2856"/>
                  <a:pt x="1140" y="2856"/>
                  <a:pt x="1140" y="2856"/>
                </a:cubicBezTo>
                <a:cubicBezTo>
                  <a:pt x="1144" y="2852"/>
                  <a:pt x="1144" y="2852"/>
                  <a:pt x="1144" y="2852"/>
                </a:cubicBezTo>
                <a:cubicBezTo>
                  <a:pt x="1148" y="2848"/>
                  <a:pt x="1148" y="2848"/>
                  <a:pt x="1148" y="2848"/>
                </a:cubicBezTo>
                <a:cubicBezTo>
                  <a:pt x="1152" y="2844"/>
                  <a:pt x="1152" y="2844"/>
                  <a:pt x="1152" y="2844"/>
                </a:cubicBezTo>
                <a:cubicBezTo>
                  <a:pt x="1156" y="2840"/>
                  <a:pt x="1156" y="2840"/>
                  <a:pt x="1156" y="2840"/>
                </a:cubicBezTo>
                <a:cubicBezTo>
                  <a:pt x="1160" y="2836"/>
                  <a:pt x="1160" y="2836"/>
                  <a:pt x="1160" y="2836"/>
                </a:cubicBezTo>
                <a:cubicBezTo>
                  <a:pt x="1164" y="2832"/>
                  <a:pt x="1164" y="2832"/>
                  <a:pt x="1164" y="2832"/>
                </a:cubicBezTo>
                <a:cubicBezTo>
                  <a:pt x="1168" y="2828"/>
                  <a:pt x="1168" y="2828"/>
                  <a:pt x="1168" y="2828"/>
                </a:cubicBezTo>
                <a:cubicBezTo>
                  <a:pt x="1172" y="2824"/>
                  <a:pt x="1172" y="2824"/>
                  <a:pt x="1172" y="2824"/>
                </a:cubicBezTo>
                <a:cubicBezTo>
                  <a:pt x="1180" y="2816"/>
                  <a:pt x="1180" y="2816"/>
                  <a:pt x="1180" y="2816"/>
                </a:cubicBezTo>
                <a:cubicBezTo>
                  <a:pt x="1184" y="2812"/>
                  <a:pt x="1184" y="2812"/>
                  <a:pt x="1184" y="2812"/>
                </a:cubicBezTo>
                <a:cubicBezTo>
                  <a:pt x="1188" y="2808"/>
                  <a:pt x="1188" y="2808"/>
                  <a:pt x="1188" y="2808"/>
                </a:cubicBezTo>
                <a:cubicBezTo>
                  <a:pt x="1192" y="2804"/>
                  <a:pt x="1192" y="2804"/>
                  <a:pt x="1192" y="2804"/>
                </a:cubicBezTo>
                <a:cubicBezTo>
                  <a:pt x="1196" y="2800"/>
                  <a:pt x="1196" y="2800"/>
                  <a:pt x="1196" y="2800"/>
                </a:cubicBezTo>
                <a:cubicBezTo>
                  <a:pt x="1200" y="2796"/>
                  <a:pt x="1200" y="2796"/>
                  <a:pt x="1200" y="2796"/>
                </a:cubicBezTo>
                <a:cubicBezTo>
                  <a:pt x="1204" y="2792"/>
                  <a:pt x="1204" y="2792"/>
                  <a:pt x="1204" y="2792"/>
                </a:cubicBezTo>
                <a:cubicBezTo>
                  <a:pt x="1208" y="2788"/>
                  <a:pt x="1208" y="2788"/>
                  <a:pt x="1208" y="2788"/>
                </a:cubicBezTo>
                <a:cubicBezTo>
                  <a:pt x="1212" y="2784"/>
                  <a:pt x="1212" y="2784"/>
                  <a:pt x="1212" y="2784"/>
                </a:cubicBezTo>
                <a:cubicBezTo>
                  <a:pt x="1216" y="2780"/>
                  <a:pt x="1216" y="2780"/>
                  <a:pt x="1216" y="2780"/>
                </a:cubicBezTo>
                <a:cubicBezTo>
                  <a:pt x="1220" y="2776"/>
                  <a:pt x="1220" y="2776"/>
                  <a:pt x="1220" y="2776"/>
                </a:cubicBezTo>
                <a:cubicBezTo>
                  <a:pt x="1224" y="2772"/>
                  <a:pt x="1224" y="2772"/>
                  <a:pt x="1224" y="2772"/>
                </a:cubicBezTo>
                <a:cubicBezTo>
                  <a:pt x="1228" y="2768"/>
                  <a:pt x="1228" y="2768"/>
                  <a:pt x="1228" y="2768"/>
                </a:cubicBezTo>
                <a:cubicBezTo>
                  <a:pt x="1232" y="2764"/>
                  <a:pt x="1232" y="2764"/>
                  <a:pt x="1232" y="2764"/>
                </a:cubicBezTo>
                <a:cubicBezTo>
                  <a:pt x="1236" y="2760"/>
                  <a:pt x="1236" y="2760"/>
                  <a:pt x="1236" y="2760"/>
                </a:cubicBezTo>
                <a:cubicBezTo>
                  <a:pt x="1240" y="2756"/>
                  <a:pt x="1240" y="2756"/>
                  <a:pt x="1240" y="2756"/>
                </a:cubicBezTo>
                <a:cubicBezTo>
                  <a:pt x="1248" y="2748"/>
                  <a:pt x="1248" y="2748"/>
                  <a:pt x="1248" y="2748"/>
                </a:cubicBezTo>
                <a:cubicBezTo>
                  <a:pt x="1252" y="2744"/>
                  <a:pt x="1252" y="2744"/>
                  <a:pt x="1252" y="2744"/>
                </a:cubicBezTo>
                <a:cubicBezTo>
                  <a:pt x="1256" y="2740"/>
                  <a:pt x="1256" y="2740"/>
                  <a:pt x="1256" y="2740"/>
                </a:cubicBezTo>
                <a:cubicBezTo>
                  <a:pt x="1260" y="2736"/>
                  <a:pt x="1260" y="2736"/>
                  <a:pt x="1260" y="2736"/>
                </a:cubicBezTo>
                <a:cubicBezTo>
                  <a:pt x="1264" y="2732"/>
                  <a:pt x="1264" y="2732"/>
                  <a:pt x="1264" y="2732"/>
                </a:cubicBezTo>
                <a:cubicBezTo>
                  <a:pt x="1268" y="2728"/>
                  <a:pt x="1268" y="2728"/>
                  <a:pt x="1268" y="2728"/>
                </a:cubicBezTo>
                <a:cubicBezTo>
                  <a:pt x="1272" y="2724"/>
                  <a:pt x="1272" y="2724"/>
                  <a:pt x="1272" y="2724"/>
                </a:cubicBezTo>
                <a:cubicBezTo>
                  <a:pt x="1276" y="2720"/>
                  <a:pt x="1276" y="2720"/>
                  <a:pt x="1276" y="2720"/>
                </a:cubicBezTo>
                <a:cubicBezTo>
                  <a:pt x="1280" y="2716"/>
                  <a:pt x="1280" y="2716"/>
                  <a:pt x="1280" y="2716"/>
                </a:cubicBezTo>
                <a:cubicBezTo>
                  <a:pt x="1284" y="2712"/>
                  <a:pt x="1284" y="2712"/>
                  <a:pt x="1284" y="2712"/>
                </a:cubicBezTo>
                <a:cubicBezTo>
                  <a:pt x="1288" y="2708"/>
                  <a:pt x="1288" y="2708"/>
                  <a:pt x="1288" y="2708"/>
                </a:cubicBezTo>
                <a:cubicBezTo>
                  <a:pt x="1292" y="2704"/>
                  <a:pt x="1292" y="2704"/>
                  <a:pt x="1292" y="2704"/>
                </a:cubicBezTo>
                <a:cubicBezTo>
                  <a:pt x="1296" y="2700"/>
                  <a:pt x="1296" y="2700"/>
                  <a:pt x="1296" y="2700"/>
                </a:cubicBezTo>
                <a:cubicBezTo>
                  <a:pt x="1300" y="2696"/>
                  <a:pt x="1300" y="2696"/>
                  <a:pt x="1300" y="2696"/>
                </a:cubicBezTo>
                <a:cubicBezTo>
                  <a:pt x="1304" y="2692"/>
                  <a:pt x="1304" y="2692"/>
                  <a:pt x="1304" y="2692"/>
                </a:cubicBezTo>
                <a:cubicBezTo>
                  <a:pt x="1308" y="2688"/>
                  <a:pt x="1308" y="2688"/>
                  <a:pt x="1308" y="2688"/>
                </a:cubicBezTo>
                <a:cubicBezTo>
                  <a:pt x="1316" y="2680"/>
                  <a:pt x="1316" y="2680"/>
                  <a:pt x="1316" y="2680"/>
                </a:cubicBezTo>
                <a:cubicBezTo>
                  <a:pt x="1320" y="2676"/>
                  <a:pt x="1320" y="2676"/>
                  <a:pt x="1320" y="2676"/>
                </a:cubicBezTo>
                <a:cubicBezTo>
                  <a:pt x="1324" y="2672"/>
                  <a:pt x="1324" y="2672"/>
                  <a:pt x="1324" y="2672"/>
                </a:cubicBezTo>
                <a:cubicBezTo>
                  <a:pt x="1328" y="2668"/>
                  <a:pt x="1328" y="2668"/>
                  <a:pt x="1328" y="2668"/>
                </a:cubicBezTo>
                <a:cubicBezTo>
                  <a:pt x="1332" y="2664"/>
                  <a:pt x="1332" y="2664"/>
                  <a:pt x="1332" y="2664"/>
                </a:cubicBezTo>
                <a:cubicBezTo>
                  <a:pt x="1336" y="2660"/>
                  <a:pt x="1336" y="2660"/>
                  <a:pt x="1336" y="2660"/>
                </a:cubicBezTo>
                <a:cubicBezTo>
                  <a:pt x="1340" y="2656"/>
                  <a:pt x="1340" y="2656"/>
                  <a:pt x="1340" y="2656"/>
                </a:cubicBezTo>
                <a:cubicBezTo>
                  <a:pt x="1344" y="2652"/>
                  <a:pt x="1344" y="2652"/>
                  <a:pt x="1344" y="2652"/>
                </a:cubicBezTo>
                <a:cubicBezTo>
                  <a:pt x="1348" y="2648"/>
                  <a:pt x="1348" y="2648"/>
                  <a:pt x="1348" y="2648"/>
                </a:cubicBezTo>
                <a:cubicBezTo>
                  <a:pt x="1352" y="2644"/>
                  <a:pt x="1352" y="2644"/>
                  <a:pt x="1352" y="2644"/>
                </a:cubicBezTo>
                <a:cubicBezTo>
                  <a:pt x="1356" y="2640"/>
                  <a:pt x="1356" y="2640"/>
                  <a:pt x="1356" y="2640"/>
                </a:cubicBezTo>
                <a:cubicBezTo>
                  <a:pt x="1360" y="2636"/>
                  <a:pt x="1360" y="2636"/>
                  <a:pt x="1360" y="2636"/>
                </a:cubicBezTo>
                <a:cubicBezTo>
                  <a:pt x="1364" y="2632"/>
                  <a:pt x="1364" y="2632"/>
                  <a:pt x="1364" y="2632"/>
                </a:cubicBezTo>
                <a:cubicBezTo>
                  <a:pt x="1368" y="2628"/>
                  <a:pt x="1368" y="2628"/>
                  <a:pt x="1368" y="2628"/>
                </a:cubicBezTo>
                <a:cubicBezTo>
                  <a:pt x="1372" y="2624"/>
                  <a:pt x="1372" y="2624"/>
                  <a:pt x="1372" y="2624"/>
                </a:cubicBezTo>
                <a:cubicBezTo>
                  <a:pt x="1376" y="2620"/>
                  <a:pt x="1376" y="2620"/>
                  <a:pt x="1376" y="2620"/>
                </a:cubicBezTo>
                <a:cubicBezTo>
                  <a:pt x="1384" y="2612"/>
                  <a:pt x="1384" y="2612"/>
                  <a:pt x="1384" y="2612"/>
                </a:cubicBezTo>
                <a:cubicBezTo>
                  <a:pt x="1388" y="2608"/>
                  <a:pt x="1388" y="2608"/>
                  <a:pt x="1388" y="2608"/>
                </a:cubicBezTo>
                <a:cubicBezTo>
                  <a:pt x="1392" y="2604"/>
                  <a:pt x="1392" y="2604"/>
                  <a:pt x="1392" y="2604"/>
                </a:cubicBezTo>
                <a:cubicBezTo>
                  <a:pt x="1396" y="2600"/>
                  <a:pt x="1396" y="2600"/>
                  <a:pt x="1396" y="2600"/>
                </a:cubicBezTo>
                <a:cubicBezTo>
                  <a:pt x="1400" y="2596"/>
                  <a:pt x="1400" y="2596"/>
                  <a:pt x="1400" y="2596"/>
                </a:cubicBezTo>
                <a:cubicBezTo>
                  <a:pt x="1404" y="2592"/>
                  <a:pt x="1404" y="2592"/>
                  <a:pt x="1404" y="2592"/>
                </a:cubicBezTo>
                <a:cubicBezTo>
                  <a:pt x="1408" y="2588"/>
                  <a:pt x="1408" y="2588"/>
                  <a:pt x="1408" y="2588"/>
                </a:cubicBezTo>
                <a:cubicBezTo>
                  <a:pt x="1412" y="2584"/>
                  <a:pt x="1412" y="2584"/>
                  <a:pt x="1412" y="2584"/>
                </a:cubicBezTo>
                <a:cubicBezTo>
                  <a:pt x="1416" y="2580"/>
                  <a:pt x="1416" y="2580"/>
                  <a:pt x="1416" y="2580"/>
                </a:cubicBezTo>
                <a:cubicBezTo>
                  <a:pt x="1420" y="2576"/>
                  <a:pt x="1420" y="2576"/>
                  <a:pt x="1420" y="2576"/>
                </a:cubicBezTo>
                <a:cubicBezTo>
                  <a:pt x="1424" y="2572"/>
                  <a:pt x="1424" y="2572"/>
                  <a:pt x="1424" y="2572"/>
                </a:cubicBezTo>
                <a:cubicBezTo>
                  <a:pt x="1428" y="2568"/>
                  <a:pt x="1428" y="2568"/>
                  <a:pt x="1428" y="2568"/>
                </a:cubicBezTo>
                <a:cubicBezTo>
                  <a:pt x="1432" y="2564"/>
                  <a:pt x="1432" y="2564"/>
                  <a:pt x="1432" y="2564"/>
                </a:cubicBezTo>
                <a:cubicBezTo>
                  <a:pt x="1436" y="2560"/>
                  <a:pt x="1436" y="2560"/>
                  <a:pt x="1436" y="2560"/>
                </a:cubicBezTo>
                <a:cubicBezTo>
                  <a:pt x="1440" y="2556"/>
                  <a:pt x="1440" y="2556"/>
                  <a:pt x="1440" y="2556"/>
                </a:cubicBezTo>
                <a:cubicBezTo>
                  <a:pt x="1444" y="2552"/>
                  <a:pt x="1444" y="2552"/>
                  <a:pt x="1444" y="2552"/>
                </a:cubicBezTo>
                <a:cubicBezTo>
                  <a:pt x="1452" y="2544"/>
                  <a:pt x="1452" y="2544"/>
                  <a:pt x="1452" y="2544"/>
                </a:cubicBezTo>
                <a:cubicBezTo>
                  <a:pt x="1456" y="2540"/>
                  <a:pt x="1456" y="2540"/>
                  <a:pt x="1456" y="2540"/>
                </a:cubicBezTo>
                <a:cubicBezTo>
                  <a:pt x="1460" y="2536"/>
                  <a:pt x="1460" y="2536"/>
                  <a:pt x="1460" y="2536"/>
                </a:cubicBezTo>
                <a:cubicBezTo>
                  <a:pt x="1464" y="2532"/>
                  <a:pt x="1464" y="2532"/>
                  <a:pt x="1464" y="2532"/>
                </a:cubicBezTo>
                <a:cubicBezTo>
                  <a:pt x="1468" y="2528"/>
                  <a:pt x="1468" y="2528"/>
                  <a:pt x="1468" y="2528"/>
                </a:cubicBezTo>
                <a:cubicBezTo>
                  <a:pt x="1472" y="2524"/>
                  <a:pt x="1472" y="2524"/>
                  <a:pt x="1472" y="2524"/>
                </a:cubicBezTo>
                <a:cubicBezTo>
                  <a:pt x="1476" y="2520"/>
                  <a:pt x="1476" y="2520"/>
                  <a:pt x="1476" y="2520"/>
                </a:cubicBezTo>
                <a:cubicBezTo>
                  <a:pt x="1480" y="2516"/>
                  <a:pt x="1480" y="2516"/>
                  <a:pt x="1480" y="2516"/>
                </a:cubicBezTo>
                <a:cubicBezTo>
                  <a:pt x="1484" y="2512"/>
                  <a:pt x="1484" y="2512"/>
                  <a:pt x="1484" y="2512"/>
                </a:cubicBezTo>
                <a:cubicBezTo>
                  <a:pt x="1488" y="2508"/>
                  <a:pt x="1488" y="2508"/>
                  <a:pt x="1488" y="2508"/>
                </a:cubicBezTo>
                <a:cubicBezTo>
                  <a:pt x="1492" y="2504"/>
                  <a:pt x="1492" y="2504"/>
                  <a:pt x="1492" y="2504"/>
                </a:cubicBezTo>
                <a:cubicBezTo>
                  <a:pt x="1496" y="2500"/>
                  <a:pt x="1496" y="2500"/>
                  <a:pt x="1496" y="2500"/>
                </a:cubicBezTo>
                <a:cubicBezTo>
                  <a:pt x="1500" y="2496"/>
                  <a:pt x="1500" y="2496"/>
                  <a:pt x="1500" y="2496"/>
                </a:cubicBezTo>
                <a:cubicBezTo>
                  <a:pt x="1504" y="2492"/>
                  <a:pt x="1504" y="2492"/>
                  <a:pt x="1504" y="2492"/>
                </a:cubicBezTo>
                <a:cubicBezTo>
                  <a:pt x="1508" y="2488"/>
                  <a:pt x="1508" y="2488"/>
                  <a:pt x="1508" y="2488"/>
                </a:cubicBezTo>
                <a:cubicBezTo>
                  <a:pt x="1512" y="2484"/>
                  <a:pt x="1512" y="2484"/>
                  <a:pt x="1512" y="2484"/>
                </a:cubicBezTo>
                <a:cubicBezTo>
                  <a:pt x="1520" y="2476"/>
                  <a:pt x="1520" y="2476"/>
                  <a:pt x="1520" y="2476"/>
                </a:cubicBezTo>
                <a:cubicBezTo>
                  <a:pt x="1524" y="2472"/>
                  <a:pt x="1524" y="2472"/>
                  <a:pt x="1524" y="2472"/>
                </a:cubicBezTo>
                <a:cubicBezTo>
                  <a:pt x="1528" y="2468"/>
                  <a:pt x="1528" y="2468"/>
                  <a:pt x="1528" y="2468"/>
                </a:cubicBezTo>
                <a:cubicBezTo>
                  <a:pt x="1532" y="2464"/>
                  <a:pt x="1532" y="2464"/>
                  <a:pt x="1532" y="2464"/>
                </a:cubicBezTo>
                <a:cubicBezTo>
                  <a:pt x="1536" y="2460"/>
                  <a:pt x="1536" y="2460"/>
                  <a:pt x="1536" y="2460"/>
                </a:cubicBezTo>
                <a:cubicBezTo>
                  <a:pt x="1540" y="2456"/>
                  <a:pt x="1540" y="2456"/>
                  <a:pt x="1540" y="2456"/>
                </a:cubicBezTo>
                <a:cubicBezTo>
                  <a:pt x="1544" y="2452"/>
                  <a:pt x="1544" y="2452"/>
                  <a:pt x="1544" y="2452"/>
                </a:cubicBezTo>
                <a:cubicBezTo>
                  <a:pt x="1548" y="2448"/>
                  <a:pt x="1548" y="2448"/>
                  <a:pt x="1548" y="2448"/>
                </a:cubicBezTo>
                <a:cubicBezTo>
                  <a:pt x="1552" y="2444"/>
                  <a:pt x="1552" y="2444"/>
                  <a:pt x="1552" y="2444"/>
                </a:cubicBezTo>
                <a:cubicBezTo>
                  <a:pt x="1556" y="2440"/>
                  <a:pt x="1556" y="2440"/>
                  <a:pt x="1556" y="2440"/>
                </a:cubicBezTo>
                <a:cubicBezTo>
                  <a:pt x="1560" y="2436"/>
                  <a:pt x="1560" y="2436"/>
                  <a:pt x="1560" y="2436"/>
                </a:cubicBezTo>
                <a:cubicBezTo>
                  <a:pt x="1564" y="2432"/>
                  <a:pt x="1564" y="2432"/>
                  <a:pt x="1564" y="2432"/>
                </a:cubicBezTo>
                <a:cubicBezTo>
                  <a:pt x="1568" y="2428"/>
                  <a:pt x="1568" y="2428"/>
                  <a:pt x="1568" y="2428"/>
                </a:cubicBezTo>
                <a:cubicBezTo>
                  <a:pt x="1572" y="2424"/>
                  <a:pt x="1572" y="2424"/>
                  <a:pt x="1572" y="2424"/>
                </a:cubicBezTo>
                <a:cubicBezTo>
                  <a:pt x="1576" y="2420"/>
                  <a:pt x="1576" y="2420"/>
                  <a:pt x="1576" y="2420"/>
                </a:cubicBezTo>
                <a:cubicBezTo>
                  <a:pt x="1580" y="2416"/>
                  <a:pt x="1580" y="2416"/>
                  <a:pt x="1580" y="2416"/>
                </a:cubicBezTo>
                <a:cubicBezTo>
                  <a:pt x="1588" y="2408"/>
                  <a:pt x="1588" y="2408"/>
                  <a:pt x="1588" y="2408"/>
                </a:cubicBezTo>
                <a:cubicBezTo>
                  <a:pt x="1592" y="2404"/>
                  <a:pt x="1592" y="2404"/>
                  <a:pt x="1592" y="2404"/>
                </a:cubicBezTo>
                <a:cubicBezTo>
                  <a:pt x="1596" y="2400"/>
                  <a:pt x="1596" y="2400"/>
                  <a:pt x="1596" y="2400"/>
                </a:cubicBezTo>
                <a:cubicBezTo>
                  <a:pt x="1600" y="2396"/>
                  <a:pt x="1600" y="2396"/>
                  <a:pt x="1600" y="2396"/>
                </a:cubicBezTo>
                <a:cubicBezTo>
                  <a:pt x="1604" y="2392"/>
                  <a:pt x="1604" y="2392"/>
                  <a:pt x="1604" y="2392"/>
                </a:cubicBezTo>
                <a:cubicBezTo>
                  <a:pt x="1608" y="2388"/>
                  <a:pt x="1608" y="2388"/>
                  <a:pt x="1608" y="2388"/>
                </a:cubicBezTo>
                <a:cubicBezTo>
                  <a:pt x="1612" y="2384"/>
                  <a:pt x="1612" y="2384"/>
                  <a:pt x="1612" y="2384"/>
                </a:cubicBezTo>
                <a:cubicBezTo>
                  <a:pt x="1616" y="2380"/>
                  <a:pt x="1616" y="2380"/>
                  <a:pt x="1616" y="2380"/>
                </a:cubicBezTo>
                <a:cubicBezTo>
                  <a:pt x="1620" y="2376"/>
                  <a:pt x="1620" y="2376"/>
                  <a:pt x="1620" y="2376"/>
                </a:cubicBezTo>
                <a:cubicBezTo>
                  <a:pt x="1624" y="2372"/>
                  <a:pt x="1624" y="2372"/>
                  <a:pt x="1624" y="2372"/>
                </a:cubicBezTo>
                <a:cubicBezTo>
                  <a:pt x="1628" y="2368"/>
                  <a:pt x="1628" y="2368"/>
                  <a:pt x="1628" y="2368"/>
                </a:cubicBezTo>
                <a:cubicBezTo>
                  <a:pt x="1632" y="2364"/>
                  <a:pt x="1632" y="2364"/>
                  <a:pt x="1632" y="2364"/>
                </a:cubicBezTo>
                <a:cubicBezTo>
                  <a:pt x="1636" y="2360"/>
                  <a:pt x="1636" y="2360"/>
                  <a:pt x="1636" y="2360"/>
                </a:cubicBezTo>
                <a:cubicBezTo>
                  <a:pt x="1640" y="2356"/>
                  <a:pt x="1640" y="2356"/>
                  <a:pt x="1640" y="2356"/>
                </a:cubicBezTo>
                <a:cubicBezTo>
                  <a:pt x="1644" y="2352"/>
                  <a:pt x="1644" y="2352"/>
                  <a:pt x="1644" y="2352"/>
                </a:cubicBezTo>
                <a:cubicBezTo>
                  <a:pt x="1648" y="2348"/>
                  <a:pt x="1648" y="2348"/>
                  <a:pt x="1648" y="2348"/>
                </a:cubicBezTo>
                <a:cubicBezTo>
                  <a:pt x="1656" y="2340"/>
                  <a:pt x="1656" y="2340"/>
                  <a:pt x="1656" y="2340"/>
                </a:cubicBezTo>
                <a:cubicBezTo>
                  <a:pt x="1660" y="2336"/>
                  <a:pt x="1660" y="2336"/>
                  <a:pt x="1660" y="2336"/>
                </a:cubicBezTo>
                <a:cubicBezTo>
                  <a:pt x="1664" y="2332"/>
                  <a:pt x="1664" y="2332"/>
                  <a:pt x="1664" y="2332"/>
                </a:cubicBezTo>
                <a:cubicBezTo>
                  <a:pt x="1668" y="2328"/>
                  <a:pt x="1668" y="2328"/>
                  <a:pt x="1668" y="2328"/>
                </a:cubicBezTo>
                <a:cubicBezTo>
                  <a:pt x="1672" y="2324"/>
                  <a:pt x="1672" y="2324"/>
                  <a:pt x="1672" y="2324"/>
                </a:cubicBezTo>
                <a:cubicBezTo>
                  <a:pt x="1676" y="2320"/>
                  <a:pt x="1676" y="2320"/>
                  <a:pt x="1676" y="2320"/>
                </a:cubicBezTo>
                <a:cubicBezTo>
                  <a:pt x="1680" y="2316"/>
                  <a:pt x="1680" y="2316"/>
                  <a:pt x="1680" y="2316"/>
                </a:cubicBezTo>
                <a:cubicBezTo>
                  <a:pt x="1684" y="2312"/>
                  <a:pt x="1684" y="2312"/>
                  <a:pt x="1684" y="2312"/>
                </a:cubicBezTo>
                <a:cubicBezTo>
                  <a:pt x="1688" y="2308"/>
                  <a:pt x="1688" y="2308"/>
                  <a:pt x="1688" y="2308"/>
                </a:cubicBezTo>
                <a:cubicBezTo>
                  <a:pt x="1692" y="2304"/>
                  <a:pt x="1692" y="2304"/>
                  <a:pt x="1692" y="2304"/>
                </a:cubicBezTo>
                <a:cubicBezTo>
                  <a:pt x="1696" y="2300"/>
                  <a:pt x="1696" y="2300"/>
                  <a:pt x="1696" y="2300"/>
                </a:cubicBezTo>
                <a:cubicBezTo>
                  <a:pt x="1700" y="2296"/>
                  <a:pt x="1700" y="2296"/>
                  <a:pt x="1700" y="2296"/>
                </a:cubicBezTo>
                <a:cubicBezTo>
                  <a:pt x="1704" y="2292"/>
                  <a:pt x="1704" y="2292"/>
                  <a:pt x="1704" y="2292"/>
                </a:cubicBezTo>
                <a:cubicBezTo>
                  <a:pt x="1708" y="2288"/>
                  <a:pt x="1708" y="2288"/>
                  <a:pt x="1708" y="2288"/>
                </a:cubicBezTo>
                <a:cubicBezTo>
                  <a:pt x="1712" y="2284"/>
                  <a:pt x="1712" y="2284"/>
                  <a:pt x="1712" y="2284"/>
                </a:cubicBezTo>
                <a:cubicBezTo>
                  <a:pt x="1716" y="2280"/>
                  <a:pt x="1716" y="2280"/>
                  <a:pt x="1716" y="2280"/>
                </a:cubicBezTo>
                <a:cubicBezTo>
                  <a:pt x="1724" y="2272"/>
                  <a:pt x="1724" y="2272"/>
                  <a:pt x="1724" y="2272"/>
                </a:cubicBezTo>
                <a:cubicBezTo>
                  <a:pt x="1728" y="2268"/>
                  <a:pt x="1728" y="2268"/>
                  <a:pt x="1728" y="2268"/>
                </a:cubicBezTo>
                <a:cubicBezTo>
                  <a:pt x="1732" y="2264"/>
                  <a:pt x="1732" y="2264"/>
                  <a:pt x="1732" y="2264"/>
                </a:cubicBezTo>
                <a:cubicBezTo>
                  <a:pt x="1736" y="2260"/>
                  <a:pt x="1736" y="2260"/>
                  <a:pt x="1736" y="2260"/>
                </a:cubicBezTo>
                <a:cubicBezTo>
                  <a:pt x="1740" y="2256"/>
                  <a:pt x="1740" y="2256"/>
                  <a:pt x="1740" y="2256"/>
                </a:cubicBezTo>
                <a:cubicBezTo>
                  <a:pt x="1744" y="2252"/>
                  <a:pt x="1744" y="2252"/>
                  <a:pt x="1744" y="2252"/>
                </a:cubicBezTo>
                <a:cubicBezTo>
                  <a:pt x="1748" y="2248"/>
                  <a:pt x="1748" y="2248"/>
                  <a:pt x="1748" y="2248"/>
                </a:cubicBezTo>
                <a:cubicBezTo>
                  <a:pt x="1752" y="2244"/>
                  <a:pt x="1752" y="2244"/>
                  <a:pt x="1752" y="2244"/>
                </a:cubicBezTo>
                <a:cubicBezTo>
                  <a:pt x="1756" y="2240"/>
                  <a:pt x="1756" y="2240"/>
                  <a:pt x="1756" y="2240"/>
                </a:cubicBezTo>
                <a:cubicBezTo>
                  <a:pt x="1764" y="2232"/>
                  <a:pt x="1764" y="2232"/>
                  <a:pt x="1764" y="2232"/>
                </a:cubicBezTo>
                <a:cubicBezTo>
                  <a:pt x="1768" y="2228"/>
                  <a:pt x="1768" y="2228"/>
                  <a:pt x="1768" y="2228"/>
                </a:cubicBezTo>
                <a:cubicBezTo>
                  <a:pt x="1772" y="2224"/>
                  <a:pt x="1772" y="2224"/>
                  <a:pt x="1772" y="2224"/>
                </a:cubicBezTo>
                <a:cubicBezTo>
                  <a:pt x="1776" y="2220"/>
                  <a:pt x="1776" y="2220"/>
                  <a:pt x="1776" y="2220"/>
                </a:cubicBezTo>
                <a:cubicBezTo>
                  <a:pt x="1780" y="2216"/>
                  <a:pt x="1780" y="2216"/>
                  <a:pt x="1780" y="2216"/>
                </a:cubicBezTo>
                <a:cubicBezTo>
                  <a:pt x="1784" y="2212"/>
                  <a:pt x="1784" y="2212"/>
                  <a:pt x="1784" y="2212"/>
                </a:cubicBezTo>
                <a:cubicBezTo>
                  <a:pt x="1792" y="2204"/>
                  <a:pt x="1792" y="2204"/>
                  <a:pt x="1792" y="2204"/>
                </a:cubicBezTo>
                <a:cubicBezTo>
                  <a:pt x="1796" y="2200"/>
                  <a:pt x="1796" y="2200"/>
                  <a:pt x="1796" y="2200"/>
                </a:cubicBezTo>
                <a:cubicBezTo>
                  <a:pt x="1800" y="2196"/>
                  <a:pt x="1800" y="2196"/>
                  <a:pt x="1800" y="2196"/>
                </a:cubicBezTo>
                <a:cubicBezTo>
                  <a:pt x="1804" y="2192"/>
                  <a:pt x="1804" y="2192"/>
                  <a:pt x="1804" y="2192"/>
                </a:cubicBezTo>
                <a:cubicBezTo>
                  <a:pt x="1808" y="2188"/>
                  <a:pt x="1808" y="2188"/>
                  <a:pt x="1808" y="2188"/>
                </a:cubicBezTo>
                <a:cubicBezTo>
                  <a:pt x="1812" y="2184"/>
                  <a:pt x="1812" y="2184"/>
                  <a:pt x="1812" y="2184"/>
                </a:cubicBezTo>
                <a:cubicBezTo>
                  <a:pt x="1816" y="2180"/>
                  <a:pt x="1816" y="2180"/>
                  <a:pt x="1816" y="2180"/>
                </a:cubicBezTo>
                <a:cubicBezTo>
                  <a:pt x="1820" y="2176"/>
                  <a:pt x="1820" y="2176"/>
                  <a:pt x="1820" y="2176"/>
                </a:cubicBezTo>
                <a:cubicBezTo>
                  <a:pt x="1824" y="2172"/>
                  <a:pt x="1824" y="2172"/>
                  <a:pt x="1824" y="2172"/>
                </a:cubicBezTo>
                <a:cubicBezTo>
                  <a:pt x="1832" y="2164"/>
                  <a:pt x="1832" y="2164"/>
                  <a:pt x="1832" y="2164"/>
                </a:cubicBezTo>
                <a:cubicBezTo>
                  <a:pt x="1836" y="2160"/>
                  <a:pt x="1836" y="2160"/>
                  <a:pt x="1836" y="2160"/>
                </a:cubicBezTo>
                <a:cubicBezTo>
                  <a:pt x="1840" y="2156"/>
                  <a:pt x="1840" y="2156"/>
                  <a:pt x="1840" y="2156"/>
                </a:cubicBezTo>
                <a:cubicBezTo>
                  <a:pt x="1844" y="2152"/>
                  <a:pt x="1844" y="2152"/>
                  <a:pt x="1844" y="2152"/>
                </a:cubicBezTo>
                <a:cubicBezTo>
                  <a:pt x="1848" y="2148"/>
                  <a:pt x="1848" y="2148"/>
                  <a:pt x="1848" y="2148"/>
                </a:cubicBezTo>
                <a:cubicBezTo>
                  <a:pt x="1852" y="2144"/>
                  <a:pt x="1852" y="2144"/>
                  <a:pt x="1852" y="2144"/>
                </a:cubicBezTo>
                <a:cubicBezTo>
                  <a:pt x="1860" y="2136"/>
                  <a:pt x="1860" y="2136"/>
                  <a:pt x="1860" y="2136"/>
                </a:cubicBezTo>
                <a:cubicBezTo>
                  <a:pt x="1864" y="2132"/>
                  <a:pt x="1864" y="2132"/>
                  <a:pt x="1864" y="2132"/>
                </a:cubicBezTo>
                <a:cubicBezTo>
                  <a:pt x="1868" y="2128"/>
                  <a:pt x="1868" y="2128"/>
                  <a:pt x="1868" y="2128"/>
                </a:cubicBezTo>
                <a:cubicBezTo>
                  <a:pt x="1872" y="2124"/>
                  <a:pt x="1872" y="2124"/>
                  <a:pt x="1872" y="2124"/>
                </a:cubicBezTo>
                <a:cubicBezTo>
                  <a:pt x="1876" y="2120"/>
                  <a:pt x="1876" y="2120"/>
                  <a:pt x="1876" y="2120"/>
                </a:cubicBezTo>
                <a:cubicBezTo>
                  <a:pt x="1880" y="2116"/>
                  <a:pt x="1880" y="2116"/>
                  <a:pt x="1880" y="2116"/>
                </a:cubicBezTo>
                <a:cubicBezTo>
                  <a:pt x="1884" y="2112"/>
                  <a:pt x="1884" y="2112"/>
                  <a:pt x="1884" y="2112"/>
                </a:cubicBezTo>
                <a:cubicBezTo>
                  <a:pt x="1888" y="2108"/>
                  <a:pt x="1888" y="2108"/>
                  <a:pt x="1888" y="2108"/>
                </a:cubicBezTo>
                <a:cubicBezTo>
                  <a:pt x="1892" y="2104"/>
                  <a:pt x="1892" y="2104"/>
                  <a:pt x="1892" y="2104"/>
                </a:cubicBezTo>
                <a:cubicBezTo>
                  <a:pt x="1900" y="2096"/>
                  <a:pt x="1900" y="2096"/>
                  <a:pt x="1900" y="2096"/>
                </a:cubicBezTo>
                <a:cubicBezTo>
                  <a:pt x="1904" y="2092"/>
                  <a:pt x="1904" y="2092"/>
                  <a:pt x="1904" y="2092"/>
                </a:cubicBezTo>
                <a:cubicBezTo>
                  <a:pt x="1908" y="2088"/>
                  <a:pt x="1908" y="2088"/>
                  <a:pt x="1908" y="2088"/>
                </a:cubicBezTo>
                <a:cubicBezTo>
                  <a:pt x="1912" y="2084"/>
                  <a:pt x="1912" y="2084"/>
                  <a:pt x="1912" y="2084"/>
                </a:cubicBezTo>
                <a:cubicBezTo>
                  <a:pt x="1916" y="2080"/>
                  <a:pt x="1916" y="2080"/>
                  <a:pt x="1916" y="2080"/>
                </a:cubicBezTo>
                <a:cubicBezTo>
                  <a:pt x="1920" y="2076"/>
                  <a:pt x="1920" y="2076"/>
                  <a:pt x="1920" y="2076"/>
                </a:cubicBezTo>
                <a:cubicBezTo>
                  <a:pt x="1928" y="2068"/>
                  <a:pt x="1928" y="2068"/>
                  <a:pt x="1928" y="2068"/>
                </a:cubicBezTo>
                <a:cubicBezTo>
                  <a:pt x="1932" y="2064"/>
                  <a:pt x="1932" y="2064"/>
                  <a:pt x="1932" y="2064"/>
                </a:cubicBezTo>
                <a:cubicBezTo>
                  <a:pt x="1936" y="2060"/>
                  <a:pt x="1936" y="2060"/>
                  <a:pt x="1936" y="2060"/>
                </a:cubicBezTo>
                <a:cubicBezTo>
                  <a:pt x="1940" y="2056"/>
                  <a:pt x="1940" y="2056"/>
                  <a:pt x="1940" y="2056"/>
                </a:cubicBezTo>
                <a:cubicBezTo>
                  <a:pt x="1944" y="2052"/>
                  <a:pt x="1944" y="2052"/>
                  <a:pt x="1944" y="2052"/>
                </a:cubicBezTo>
                <a:cubicBezTo>
                  <a:pt x="1948" y="2048"/>
                  <a:pt x="1948" y="2048"/>
                  <a:pt x="1948" y="2048"/>
                </a:cubicBezTo>
                <a:cubicBezTo>
                  <a:pt x="1952" y="2044"/>
                  <a:pt x="1952" y="2044"/>
                  <a:pt x="1952" y="2044"/>
                </a:cubicBezTo>
                <a:cubicBezTo>
                  <a:pt x="1956" y="2040"/>
                  <a:pt x="1956" y="2040"/>
                  <a:pt x="1956" y="2040"/>
                </a:cubicBezTo>
                <a:cubicBezTo>
                  <a:pt x="1960" y="2036"/>
                  <a:pt x="1960" y="2036"/>
                  <a:pt x="1960" y="2036"/>
                </a:cubicBezTo>
                <a:cubicBezTo>
                  <a:pt x="1968" y="2028"/>
                  <a:pt x="1968" y="2028"/>
                  <a:pt x="1968" y="2028"/>
                </a:cubicBezTo>
                <a:cubicBezTo>
                  <a:pt x="1972" y="2024"/>
                  <a:pt x="1972" y="2024"/>
                  <a:pt x="1972" y="2024"/>
                </a:cubicBezTo>
                <a:cubicBezTo>
                  <a:pt x="1976" y="2020"/>
                  <a:pt x="1976" y="2020"/>
                  <a:pt x="1976" y="2020"/>
                </a:cubicBezTo>
                <a:cubicBezTo>
                  <a:pt x="1980" y="2016"/>
                  <a:pt x="1980" y="2016"/>
                  <a:pt x="1980" y="2016"/>
                </a:cubicBezTo>
                <a:cubicBezTo>
                  <a:pt x="1984" y="2012"/>
                  <a:pt x="1984" y="2012"/>
                  <a:pt x="1984" y="2012"/>
                </a:cubicBezTo>
                <a:cubicBezTo>
                  <a:pt x="1988" y="2008"/>
                  <a:pt x="1988" y="2008"/>
                  <a:pt x="1988" y="2008"/>
                </a:cubicBezTo>
                <a:cubicBezTo>
                  <a:pt x="1992" y="2004"/>
                  <a:pt x="1992" y="2004"/>
                  <a:pt x="1992" y="2004"/>
                </a:cubicBezTo>
                <a:cubicBezTo>
                  <a:pt x="1996" y="2000"/>
                  <a:pt x="1996" y="2000"/>
                  <a:pt x="1996" y="2000"/>
                </a:cubicBezTo>
                <a:cubicBezTo>
                  <a:pt x="2000" y="1996"/>
                  <a:pt x="2000" y="1996"/>
                  <a:pt x="2000" y="1996"/>
                </a:cubicBezTo>
                <a:cubicBezTo>
                  <a:pt x="2004" y="1992"/>
                  <a:pt x="2004" y="1992"/>
                  <a:pt x="2004" y="1992"/>
                </a:cubicBezTo>
                <a:cubicBezTo>
                  <a:pt x="2008" y="1988"/>
                  <a:pt x="2008" y="1988"/>
                  <a:pt x="2008" y="1988"/>
                </a:cubicBezTo>
                <a:cubicBezTo>
                  <a:pt x="2012" y="1984"/>
                  <a:pt x="2012" y="1984"/>
                  <a:pt x="2012" y="1984"/>
                </a:cubicBezTo>
                <a:cubicBezTo>
                  <a:pt x="2016" y="1980"/>
                  <a:pt x="2016" y="1980"/>
                  <a:pt x="2016" y="1980"/>
                </a:cubicBezTo>
                <a:cubicBezTo>
                  <a:pt x="2020" y="1976"/>
                  <a:pt x="2020" y="1976"/>
                  <a:pt x="2020" y="1976"/>
                </a:cubicBezTo>
                <a:cubicBezTo>
                  <a:pt x="2024" y="1972"/>
                  <a:pt x="2024" y="1972"/>
                  <a:pt x="2024" y="1972"/>
                </a:cubicBezTo>
                <a:cubicBezTo>
                  <a:pt x="2028" y="1968"/>
                  <a:pt x="2028" y="1968"/>
                  <a:pt x="2028" y="1968"/>
                </a:cubicBezTo>
                <a:cubicBezTo>
                  <a:pt x="2036" y="1960"/>
                  <a:pt x="2036" y="1960"/>
                  <a:pt x="2036" y="1960"/>
                </a:cubicBezTo>
                <a:cubicBezTo>
                  <a:pt x="2040" y="1956"/>
                  <a:pt x="2040" y="1956"/>
                  <a:pt x="2040" y="1956"/>
                </a:cubicBezTo>
                <a:cubicBezTo>
                  <a:pt x="2044" y="1952"/>
                  <a:pt x="2044" y="1952"/>
                  <a:pt x="2044" y="1952"/>
                </a:cubicBezTo>
                <a:cubicBezTo>
                  <a:pt x="2048" y="1948"/>
                  <a:pt x="2048" y="1948"/>
                  <a:pt x="2048" y="1948"/>
                </a:cubicBezTo>
                <a:cubicBezTo>
                  <a:pt x="2052" y="1944"/>
                  <a:pt x="2052" y="1944"/>
                  <a:pt x="2052" y="1944"/>
                </a:cubicBezTo>
                <a:cubicBezTo>
                  <a:pt x="2056" y="1940"/>
                  <a:pt x="2056" y="1940"/>
                  <a:pt x="2056" y="1940"/>
                </a:cubicBezTo>
                <a:cubicBezTo>
                  <a:pt x="2060" y="1936"/>
                  <a:pt x="2060" y="1936"/>
                  <a:pt x="2060" y="1936"/>
                </a:cubicBezTo>
                <a:cubicBezTo>
                  <a:pt x="2064" y="1932"/>
                  <a:pt x="2064" y="1932"/>
                  <a:pt x="2064" y="1932"/>
                </a:cubicBezTo>
                <a:cubicBezTo>
                  <a:pt x="2068" y="1928"/>
                  <a:pt x="2068" y="1928"/>
                  <a:pt x="2068" y="1928"/>
                </a:cubicBezTo>
                <a:cubicBezTo>
                  <a:pt x="2072" y="1924"/>
                  <a:pt x="2072" y="1924"/>
                  <a:pt x="2072" y="1924"/>
                </a:cubicBezTo>
                <a:cubicBezTo>
                  <a:pt x="2076" y="1920"/>
                  <a:pt x="2076" y="1920"/>
                  <a:pt x="2076" y="1920"/>
                </a:cubicBezTo>
                <a:cubicBezTo>
                  <a:pt x="2080" y="1916"/>
                  <a:pt x="2080" y="1916"/>
                  <a:pt x="2080" y="1916"/>
                </a:cubicBezTo>
                <a:cubicBezTo>
                  <a:pt x="2084" y="1912"/>
                  <a:pt x="2084" y="1912"/>
                  <a:pt x="2084" y="1912"/>
                </a:cubicBezTo>
                <a:cubicBezTo>
                  <a:pt x="2088" y="1908"/>
                  <a:pt x="2088" y="1908"/>
                  <a:pt x="2088" y="1908"/>
                </a:cubicBezTo>
                <a:cubicBezTo>
                  <a:pt x="2092" y="1904"/>
                  <a:pt x="2092" y="1904"/>
                  <a:pt x="2092" y="1904"/>
                </a:cubicBezTo>
                <a:cubicBezTo>
                  <a:pt x="2096" y="1900"/>
                  <a:pt x="2096" y="1900"/>
                  <a:pt x="2096" y="1900"/>
                </a:cubicBezTo>
                <a:cubicBezTo>
                  <a:pt x="2104" y="1892"/>
                  <a:pt x="2104" y="1892"/>
                  <a:pt x="2104" y="1892"/>
                </a:cubicBezTo>
                <a:cubicBezTo>
                  <a:pt x="2108" y="1888"/>
                  <a:pt x="2108" y="1888"/>
                  <a:pt x="2108" y="1888"/>
                </a:cubicBezTo>
                <a:cubicBezTo>
                  <a:pt x="2112" y="1884"/>
                  <a:pt x="2112" y="1884"/>
                  <a:pt x="2112" y="1884"/>
                </a:cubicBezTo>
                <a:cubicBezTo>
                  <a:pt x="2116" y="1880"/>
                  <a:pt x="2116" y="1880"/>
                  <a:pt x="2116" y="1880"/>
                </a:cubicBezTo>
                <a:cubicBezTo>
                  <a:pt x="2120" y="1876"/>
                  <a:pt x="2120" y="1876"/>
                  <a:pt x="2120" y="1876"/>
                </a:cubicBezTo>
                <a:cubicBezTo>
                  <a:pt x="2124" y="1872"/>
                  <a:pt x="2124" y="1872"/>
                  <a:pt x="2124" y="1872"/>
                </a:cubicBezTo>
                <a:cubicBezTo>
                  <a:pt x="2128" y="1868"/>
                  <a:pt x="2128" y="1868"/>
                  <a:pt x="2128" y="1868"/>
                </a:cubicBezTo>
                <a:cubicBezTo>
                  <a:pt x="2132" y="1864"/>
                  <a:pt x="2132" y="1864"/>
                  <a:pt x="2132" y="1864"/>
                </a:cubicBezTo>
                <a:cubicBezTo>
                  <a:pt x="2136" y="1860"/>
                  <a:pt x="2136" y="1860"/>
                  <a:pt x="2136" y="1860"/>
                </a:cubicBezTo>
                <a:cubicBezTo>
                  <a:pt x="2140" y="1856"/>
                  <a:pt x="2140" y="1856"/>
                  <a:pt x="2140" y="1856"/>
                </a:cubicBezTo>
                <a:cubicBezTo>
                  <a:pt x="2144" y="1852"/>
                  <a:pt x="2144" y="1852"/>
                  <a:pt x="2144" y="1852"/>
                </a:cubicBezTo>
                <a:cubicBezTo>
                  <a:pt x="2148" y="1848"/>
                  <a:pt x="2148" y="1848"/>
                  <a:pt x="2148" y="1848"/>
                </a:cubicBezTo>
                <a:cubicBezTo>
                  <a:pt x="2152" y="1844"/>
                  <a:pt x="2152" y="1844"/>
                  <a:pt x="2152" y="1844"/>
                </a:cubicBezTo>
                <a:cubicBezTo>
                  <a:pt x="2156" y="1840"/>
                  <a:pt x="2156" y="1840"/>
                  <a:pt x="2156" y="1840"/>
                </a:cubicBezTo>
                <a:cubicBezTo>
                  <a:pt x="2160" y="1836"/>
                  <a:pt x="2160" y="1836"/>
                  <a:pt x="2160" y="1836"/>
                </a:cubicBezTo>
                <a:cubicBezTo>
                  <a:pt x="2164" y="1832"/>
                  <a:pt x="2164" y="1832"/>
                  <a:pt x="2164" y="1832"/>
                </a:cubicBezTo>
                <a:cubicBezTo>
                  <a:pt x="2172" y="1824"/>
                  <a:pt x="2172" y="1824"/>
                  <a:pt x="2172" y="1824"/>
                </a:cubicBezTo>
                <a:cubicBezTo>
                  <a:pt x="2176" y="1820"/>
                  <a:pt x="2176" y="1820"/>
                  <a:pt x="2176" y="1820"/>
                </a:cubicBezTo>
                <a:cubicBezTo>
                  <a:pt x="2180" y="1816"/>
                  <a:pt x="2180" y="1816"/>
                  <a:pt x="2180" y="1816"/>
                </a:cubicBezTo>
                <a:cubicBezTo>
                  <a:pt x="2184" y="1812"/>
                  <a:pt x="2184" y="1812"/>
                  <a:pt x="2184" y="1812"/>
                </a:cubicBezTo>
                <a:cubicBezTo>
                  <a:pt x="2188" y="1808"/>
                  <a:pt x="2188" y="1808"/>
                  <a:pt x="2188" y="1808"/>
                </a:cubicBezTo>
                <a:cubicBezTo>
                  <a:pt x="2192" y="1804"/>
                  <a:pt x="2192" y="1804"/>
                  <a:pt x="2192" y="1804"/>
                </a:cubicBezTo>
                <a:cubicBezTo>
                  <a:pt x="2196" y="1800"/>
                  <a:pt x="2196" y="1800"/>
                  <a:pt x="2196" y="1800"/>
                </a:cubicBezTo>
                <a:cubicBezTo>
                  <a:pt x="2200" y="1796"/>
                  <a:pt x="2200" y="1796"/>
                  <a:pt x="2200" y="1796"/>
                </a:cubicBezTo>
                <a:cubicBezTo>
                  <a:pt x="2204" y="1792"/>
                  <a:pt x="2204" y="1792"/>
                  <a:pt x="2204" y="1792"/>
                </a:cubicBezTo>
                <a:cubicBezTo>
                  <a:pt x="2208" y="1788"/>
                  <a:pt x="2208" y="1788"/>
                  <a:pt x="2208" y="1788"/>
                </a:cubicBezTo>
                <a:cubicBezTo>
                  <a:pt x="2212" y="1784"/>
                  <a:pt x="2212" y="1784"/>
                  <a:pt x="2212" y="1784"/>
                </a:cubicBezTo>
                <a:cubicBezTo>
                  <a:pt x="2216" y="1780"/>
                  <a:pt x="2216" y="1780"/>
                  <a:pt x="2216" y="1780"/>
                </a:cubicBezTo>
                <a:cubicBezTo>
                  <a:pt x="2220" y="1776"/>
                  <a:pt x="2220" y="1776"/>
                  <a:pt x="2220" y="1776"/>
                </a:cubicBezTo>
                <a:cubicBezTo>
                  <a:pt x="2224" y="1772"/>
                  <a:pt x="2224" y="1772"/>
                  <a:pt x="2224" y="1772"/>
                </a:cubicBezTo>
                <a:cubicBezTo>
                  <a:pt x="2228" y="1768"/>
                  <a:pt x="2228" y="1768"/>
                  <a:pt x="2228" y="1768"/>
                </a:cubicBezTo>
                <a:cubicBezTo>
                  <a:pt x="2232" y="1764"/>
                  <a:pt x="2232" y="1764"/>
                  <a:pt x="2232" y="1764"/>
                </a:cubicBezTo>
                <a:cubicBezTo>
                  <a:pt x="2240" y="1756"/>
                  <a:pt x="2240" y="1756"/>
                  <a:pt x="2240" y="1756"/>
                </a:cubicBezTo>
                <a:cubicBezTo>
                  <a:pt x="2244" y="1752"/>
                  <a:pt x="2244" y="1752"/>
                  <a:pt x="2244" y="1752"/>
                </a:cubicBezTo>
                <a:cubicBezTo>
                  <a:pt x="2248" y="1748"/>
                  <a:pt x="2248" y="1748"/>
                  <a:pt x="2248" y="1748"/>
                </a:cubicBezTo>
                <a:cubicBezTo>
                  <a:pt x="2252" y="1744"/>
                  <a:pt x="2252" y="1744"/>
                  <a:pt x="2252" y="1744"/>
                </a:cubicBezTo>
                <a:cubicBezTo>
                  <a:pt x="2256" y="1740"/>
                  <a:pt x="2256" y="1740"/>
                  <a:pt x="2256" y="1740"/>
                </a:cubicBezTo>
                <a:cubicBezTo>
                  <a:pt x="2260" y="1736"/>
                  <a:pt x="2260" y="1736"/>
                  <a:pt x="2260" y="1736"/>
                </a:cubicBezTo>
                <a:cubicBezTo>
                  <a:pt x="2264" y="1732"/>
                  <a:pt x="2264" y="1732"/>
                  <a:pt x="2264" y="1732"/>
                </a:cubicBezTo>
                <a:cubicBezTo>
                  <a:pt x="2268" y="1728"/>
                  <a:pt x="2268" y="1728"/>
                  <a:pt x="2268" y="1728"/>
                </a:cubicBezTo>
                <a:cubicBezTo>
                  <a:pt x="2272" y="1724"/>
                  <a:pt x="2272" y="1724"/>
                  <a:pt x="2272" y="1724"/>
                </a:cubicBezTo>
                <a:cubicBezTo>
                  <a:pt x="2276" y="1720"/>
                  <a:pt x="2276" y="1720"/>
                  <a:pt x="2276" y="1720"/>
                </a:cubicBezTo>
                <a:cubicBezTo>
                  <a:pt x="2280" y="1716"/>
                  <a:pt x="2280" y="1716"/>
                  <a:pt x="2280" y="1716"/>
                </a:cubicBezTo>
                <a:cubicBezTo>
                  <a:pt x="2284" y="1712"/>
                  <a:pt x="2284" y="1712"/>
                  <a:pt x="2284" y="1712"/>
                </a:cubicBezTo>
                <a:cubicBezTo>
                  <a:pt x="2288" y="1708"/>
                  <a:pt x="2288" y="1708"/>
                  <a:pt x="2288" y="1708"/>
                </a:cubicBezTo>
                <a:cubicBezTo>
                  <a:pt x="2292" y="1704"/>
                  <a:pt x="2292" y="1704"/>
                  <a:pt x="2292" y="1704"/>
                </a:cubicBezTo>
                <a:cubicBezTo>
                  <a:pt x="2296" y="1700"/>
                  <a:pt x="2296" y="1700"/>
                  <a:pt x="2296" y="1700"/>
                </a:cubicBezTo>
                <a:cubicBezTo>
                  <a:pt x="2300" y="1696"/>
                  <a:pt x="2300" y="1696"/>
                  <a:pt x="2300" y="1696"/>
                </a:cubicBezTo>
                <a:cubicBezTo>
                  <a:pt x="2308" y="1688"/>
                  <a:pt x="2308" y="1688"/>
                  <a:pt x="2308" y="1688"/>
                </a:cubicBezTo>
                <a:cubicBezTo>
                  <a:pt x="2312" y="1684"/>
                  <a:pt x="2312" y="1684"/>
                  <a:pt x="2312" y="1684"/>
                </a:cubicBezTo>
                <a:cubicBezTo>
                  <a:pt x="2316" y="1680"/>
                  <a:pt x="2316" y="1680"/>
                  <a:pt x="2316" y="1680"/>
                </a:cubicBezTo>
                <a:cubicBezTo>
                  <a:pt x="2320" y="1676"/>
                  <a:pt x="2320" y="1676"/>
                  <a:pt x="2320" y="1676"/>
                </a:cubicBezTo>
                <a:cubicBezTo>
                  <a:pt x="2324" y="1672"/>
                  <a:pt x="2324" y="1672"/>
                  <a:pt x="2324" y="1672"/>
                </a:cubicBezTo>
                <a:cubicBezTo>
                  <a:pt x="2328" y="1668"/>
                  <a:pt x="2328" y="1668"/>
                  <a:pt x="2328" y="1668"/>
                </a:cubicBezTo>
                <a:cubicBezTo>
                  <a:pt x="2332" y="1664"/>
                  <a:pt x="2332" y="1664"/>
                  <a:pt x="2332" y="1664"/>
                </a:cubicBezTo>
                <a:cubicBezTo>
                  <a:pt x="2336" y="1660"/>
                  <a:pt x="2336" y="1660"/>
                  <a:pt x="2336" y="1660"/>
                </a:cubicBezTo>
                <a:cubicBezTo>
                  <a:pt x="2340" y="1656"/>
                  <a:pt x="2340" y="1656"/>
                  <a:pt x="2340" y="1656"/>
                </a:cubicBezTo>
                <a:cubicBezTo>
                  <a:pt x="2344" y="1652"/>
                  <a:pt x="2344" y="1652"/>
                  <a:pt x="2344" y="1652"/>
                </a:cubicBezTo>
                <a:cubicBezTo>
                  <a:pt x="2348" y="1648"/>
                  <a:pt x="2348" y="1648"/>
                  <a:pt x="2348" y="1648"/>
                </a:cubicBezTo>
                <a:cubicBezTo>
                  <a:pt x="2352" y="1644"/>
                  <a:pt x="2352" y="1644"/>
                  <a:pt x="2352" y="1644"/>
                </a:cubicBezTo>
                <a:cubicBezTo>
                  <a:pt x="2356" y="1640"/>
                  <a:pt x="2356" y="1640"/>
                  <a:pt x="2356" y="1640"/>
                </a:cubicBezTo>
                <a:cubicBezTo>
                  <a:pt x="2360" y="1636"/>
                  <a:pt x="2360" y="1636"/>
                  <a:pt x="2360" y="1636"/>
                </a:cubicBezTo>
                <a:cubicBezTo>
                  <a:pt x="2364" y="1632"/>
                  <a:pt x="2364" y="1632"/>
                  <a:pt x="2364" y="1632"/>
                </a:cubicBezTo>
                <a:cubicBezTo>
                  <a:pt x="2368" y="1628"/>
                  <a:pt x="2368" y="1628"/>
                  <a:pt x="2368" y="1628"/>
                </a:cubicBezTo>
                <a:cubicBezTo>
                  <a:pt x="2376" y="1620"/>
                  <a:pt x="2376" y="1620"/>
                  <a:pt x="2376" y="1620"/>
                </a:cubicBezTo>
                <a:cubicBezTo>
                  <a:pt x="2380" y="1616"/>
                  <a:pt x="2380" y="1616"/>
                  <a:pt x="2380" y="1616"/>
                </a:cubicBezTo>
                <a:cubicBezTo>
                  <a:pt x="2384" y="1612"/>
                  <a:pt x="2384" y="1612"/>
                  <a:pt x="2384" y="1612"/>
                </a:cubicBezTo>
                <a:cubicBezTo>
                  <a:pt x="2388" y="1608"/>
                  <a:pt x="2388" y="1608"/>
                  <a:pt x="2388" y="1608"/>
                </a:cubicBezTo>
                <a:cubicBezTo>
                  <a:pt x="2392" y="1604"/>
                  <a:pt x="2392" y="1604"/>
                  <a:pt x="2392" y="1604"/>
                </a:cubicBezTo>
                <a:cubicBezTo>
                  <a:pt x="2396" y="1600"/>
                  <a:pt x="2396" y="1600"/>
                  <a:pt x="2396" y="1600"/>
                </a:cubicBezTo>
                <a:cubicBezTo>
                  <a:pt x="2400" y="1596"/>
                  <a:pt x="2400" y="1596"/>
                  <a:pt x="2400" y="1596"/>
                </a:cubicBezTo>
                <a:cubicBezTo>
                  <a:pt x="2404" y="1592"/>
                  <a:pt x="2404" y="1592"/>
                  <a:pt x="2404" y="1592"/>
                </a:cubicBezTo>
                <a:cubicBezTo>
                  <a:pt x="2408" y="1588"/>
                  <a:pt x="2408" y="1588"/>
                  <a:pt x="2408" y="1588"/>
                </a:cubicBezTo>
                <a:cubicBezTo>
                  <a:pt x="2412" y="1584"/>
                  <a:pt x="2412" y="1584"/>
                  <a:pt x="2412" y="1584"/>
                </a:cubicBezTo>
                <a:cubicBezTo>
                  <a:pt x="2416" y="1580"/>
                  <a:pt x="2416" y="1580"/>
                  <a:pt x="2416" y="1580"/>
                </a:cubicBezTo>
                <a:cubicBezTo>
                  <a:pt x="2420" y="1576"/>
                  <a:pt x="2420" y="1576"/>
                  <a:pt x="2420" y="1576"/>
                </a:cubicBezTo>
                <a:cubicBezTo>
                  <a:pt x="2424" y="1572"/>
                  <a:pt x="2424" y="1572"/>
                  <a:pt x="2424" y="1572"/>
                </a:cubicBezTo>
                <a:cubicBezTo>
                  <a:pt x="2428" y="1568"/>
                  <a:pt x="2428" y="1568"/>
                  <a:pt x="2428" y="1568"/>
                </a:cubicBezTo>
                <a:cubicBezTo>
                  <a:pt x="2432" y="1564"/>
                  <a:pt x="2432" y="1564"/>
                  <a:pt x="2432" y="1564"/>
                </a:cubicBezTo>
                <a:cubicBezTo>
                  <a:pt x="2436" y="1560"/>
                  <a:pt x="2436" y="1560"/>
                  <a:pt x="2436" y="1560"/>
                </a:cubicBezTo>
                <a:cubicBezTo>
                  <a:pt x="2444" y="1552"/>
                  <a:pt x="2444" y="1552"/>
                  <a:pt x="2444" y="1552"/>
                </a:cubicBezTo>
                <a:cubicBezTo>
                  <a:pt x="2448" y="1548"/>
                  <a:pt x="2448" y="1548"/>
                  <a:pt x="2448" y="1548"/>
                </a:cubicBezTo>
                <a:cubicBezTo>
                  <a:pt x="2452" y="1544"/>
                  <a:pt x="2452" y="1544"/>
                  <a:pt x="2452" y="1544"/>
                </a:cubicBezTo>
                <a:cubicBezTo>
                  <a:pt x="2456" y="1540"/>
                  <a:pt x="2456" y="1540"/>
                  <a:pt x="2456" y="1540"/>
                </a:cubicBezTo>
                <a:cubicBezTo>
                  <a:pt x="2460" y="1536"/>
                  <a:pt x="2460" y="1536"/>
                  <a:pt x="2460" y="1536"/>
                </a:cubicBezTo>
                <a:cubicBezTo>
                  <a:pt x="2464" y="1532"/>
                  <a:pt x="2464" y="1532"/>
                  <a:pt x="2464" y="1532"/>
                </a:cubicBezTo>
                <a:cubicBezTo>
                  <a:pt x="2468" y="1528"/>
                  <a:pt x="2468" y="1528"/>
                  <a:pt x="2468" y="1528"/>
                </a:cubicBezTo>
                <a:cubicBezTo>
                  <a:pt x="2472" y="1524"/>
                  <a:pt x="2472" y="1524"/>
                  <a:pt x="2472" y="1524"/>
                </a:cubicBezTo>
                <a:cubicBezTo>
                  <a:pt x="2476" y="1520"/>
                  <a:pt x="2476" y="1520"/>
                  <a:pt x="2476" y="1520"/>
                </a:cubicBezTo>
                <a:cubicBezTo>
                  <a:pt x="2484" y="1512"/>
                  <a:pt x="2484" y="1512"/>
                  <a:pt x="2484" y="1512"/>
                </a:cubicBezTo>
                <a:cubicBezTo>
                  <a:pt x="2488" y="1508"/>
                  <a:pt x="2488" y="1508"/>
                  <a:pt x="2488" y="1508"/>
                </a:cubicBezTo>
                <a:cubicBezTo>
                  <a:pt x="2492" y="1504"/>
                  <a:pt x="2492" y="1504"/>
                  <a:pt x="2492" y="1504"/>
                </a:cubicBezTo>
                <a:cubicBezTo>
                  <a:pt x="2496" y="1500"/>
                  <a:pt x="2496" y="1500"/>
                  <a:pt x="2496" y="1500"/>
                </a:cubicBezTo>
                <a:cubicBezTo>
                  <a:pt x="2500" y="1496"/>
                  <a:pt x="2500" y="1496"/>
                  <a:pt x="2500" y="1496"/>
                </a:cubicBezTo>
                <a:cubicBezTo>
                  <a:pt x="2504" y="1492"/>
                  <a:pt x="2504" y="1492"/>
                  <a:pt x="2504" y="1492"/>
                </a:cubicBezTo>
                <a:cubicBezTo>
                  <a:pt x="2512" y="1484"/>
                  <a:pt x="2512" y="1484"/>
                  <a:pt x="2512" y="1484"/>
                </a:cubicBezTo>
                <a:cubicBezTo>
                  <a:pt x="2516" y="1480"/>
                  <a:pt x="2516" y="1480"/>
                  <a:pt x="2516" y="1480"/>
                </a:cubicBezTo>
                <a:cubicBezTo>
                  <a:pt x="2520" y="1476"/>
                  <a:pt x="2520" y="1476"/>
                  <a:pt x="2520" y="1476"/>
                </a:cubicBezTo>
                <a:cubicBezTo>
                  <a:pt x="2524" y="1472"/>
                  <a:pt x="2524" y="1472"/>
                  <a:pt x="2524" y="1472"/>
                </a:cubicBezTo>
                <a:cubicBezTo>
                  <a:pt x="2528" y="1468"/>
                  <a:pt x="2528" y="1468"/>
                  <a:pt x="2528" y="1468"/>
                </a:cubicBezTo>
                <a:cubicBezTo>
                  <a:pt x="2532" y="1464"/>
                  <a:pt x="2532" y="1464"/>
                  <a:pt x="2532" y="1464"/>
                </a:cubicBezTo>
                <a:cubicBezTo>
                  <a:pt x="2536" y="1460"/>
                  <a:pt x="2536" y="1460"/>
                  <a:pt x="2536" y="1460"/>
                </a:cubicBezTo>
                <a:cubicBezTo>
                  <a:pt x="2540" y="1456"/>
                  <a:pt x="2540" y="1456"/>
                  <a:pt x="2540" y="1456"/>
                </a:cubicBezTo>
                <a:cubicBezTo>
                  <a:pt x="2544" y="1452"/>
                  <a:pt x="2544" y="1452"/>
                  <a:pt x="2544" y="1452"/>
                </a:cubicBezTo>
                <a:cubicBezTo>
                  <a:pt x="2552" y="1444"/>
                  <a:pt x="2552" y="1444"/>
                  <a:pt x="2552" y="1444"/>
                </a:cubicBezTo>
                <a:cubicBezTo>
                  <a:pt x="2556" y="1440"/>
                  <a:pt x="2556" y="1440"/>
                  <a:pt x="2556" y="1440"/>
                </a:cubicBezTo>
                <a:cubicBezTo>
                  <a:pt x="2560" y="1436"/>
                  <a:pt x="2560" y="1436"/>
                  <a:pt x="2560" y="1436"/>
                </a:cubicBezTo>
                <a:cubicBezTo>
                  <a:pt x="2564" y="1432"/>
                  <a:pt x="2564" y="1432"/>
                  <a:pt x="2564" y="1432"/>
                </a:cubicBezTo>
                <a:cubicBezTo>
                  <a:pt x="2568" y="1428"/>
                  <a:pt x="2568" y="1428"/>
                  <a:pt x="2568" y="1428"/>
                </a:cubicBezTo>
                <a:cubicBezTo>
                  <a:pt x="2572" y="1424"/>
                  <a:pt x="2572" y="1424"/>
                  <a:pt x="2572" y="1424"/>
                </a:cubicBezTo>
                <a:cubicBezTo>
                  <a:pt x="2580" y="1416"/>
                  <a:pt x="2580" y="1416"/>
                  <a:pt x="2580" y="1416"/>
                </a:cubicBezTo>
                <a:cubicBezTo>
                  <a:pt x="2584" y="1412"/>
                  <a:pt x="2584" y="1412"/>
                  <a:pt x="2584" y="1412"/>
                </a:cubicBezTo>
                <a:cubicBezTo>
                  <a:pt x="2588" y="1408"/>
                  <a:pt x="2588" y="1408"/>
                  <a:pt x="2588" y="1408"/>
                </a:cubicBezTo>
                <a:cubicBezTo>
                  <a:pt x="2592" y="1404"/>
                  <a:pt x="2592" y="1404"/>
                  <a:pt x="2592" y="1404"/>
                </a:cubicBezTo>
                <a:cubicBezTo>
                  <a:pt x="2596" y="1400"/>
                  <a:pt x="2596" y="1400"/>
                  <a:pt x="2596" y="1400"/>
                </a:cubicBezTo>
                <a:cubicBezTo>
                  <a:pt x="2600" y="1396"/>
                  <a:pt x="2600" y="1396"/>
                  <a:pt x="2600" y="1396"/>
                </a:cubicBezTo>
                <a:cubicBezTo>
                  <a:pt x="2604" y="1392"/>
                  <a:pt x="2604" y="1392"/>
                  <a:pt x="2604" y="1392"/>
                </a:cubicBezTo>
                <a:cubicBezTo>
                  <a:pt x="2608" y="1388"/>
                  <a:pt x="2608" y="1388"/>
                  <a:pt x="2608" y="1388"/>
                </a:cubicBezTo>
                <a:cubicBezTo>
                  <a:pt x="2612" y="1384"/>
                  <a:pt x="2612" y="1384"/>
                  <a:pt x="2612" y="1384"/>
                </a:cubicBezTo>
                <a:cubicBezTo>
                  <a:pt x="2620" y="1376"/>
                  <a:pt x="2620" y="1376"/>
                  <a:pt x="2620" y="1376"/>
                </a:cubicBezTo>
                <a:cubicBezTo>
                  <a:pt x="2624" y="1372"/>
                  <a:pt x="2624" y="1372"/>
                  <a:pt x="2624" y="1372"/>
                </a:cubicBezTo>
                <a:cubicBezTo>
                  <a:pt x="2628" y="1368"/>
                  <a:pt x="2628" y="1368"/>
                  <a:pt x="2628" y="1368"/>
                </a:cubicBezTo>
                <a:cubicBezTo>
                  <a:pt x="2632" y="1364"/>
                  <a:pt x="2632" y="1364"/>
                  <a:pt x="2632" y="1364"/>
                </a:cubicBezTo>
                <a:cubicBezTo>
                  <a:pt x="2636" y="1360"/>
                  <a:pt x="2636" y="1360"/>
                  <a:pt x="2636" y="1360"/>
                </a:cubicBezTo>
                <a:cubicBezTo>
                  <a:pt x="2640" y="1356"/>
                  <a:pt x="2640" y="1356"/>
                  <a:pt x="2640" y="1356"/>
                </a:cubicBezTo>
                <a:cubicBezTo>
                  <a:pt x="2648" y="1348"/>
                  <a:pt x="2648" y="1348"/>
                  <a:pt x="2648" y="1348"/>
                </a:cubicBezTo>
                <a:cubicBezTo>
                  <a:pt x="2652" y="1344"/>
                  <a:pt x="2652" y="1344"/>
                  <a:pt x="2652" y="1344"/>
                </a:cubicBezTo>
                <a:cubicBezTo>
                  <a:pt x="2656" y="1340"/>
                  <a:pt x="2656" y="1340"/>
                  <a:pt x="2656" y="1340"/>
                </a:cubicBezTo>
                <a:cubicBezTo>
                  <a:pt x="2660" y="1336"/>
                  <a:pt x="2660" y="1336"/>
                  <a:pt x="2660" y="1336"/>
                </a:cubicBezTo>
                <a:cubicBezTo>
                  <a:pt x="2664" y="1332"/>
                  <a:pt x="2664" y="1332"/>
                  <a:pt x="2664" y="1332"/>
                </a:cubicBezTo>
                <a:cubicBezTo>
                  <a:pt x="2668" y="1328"/>
                  <a:pt x="2668" y="1328"/>
                  <a:pt x="2668" y="1328"/>
                </a:cubicBezTo>
                <a:cubicBezTo>
                  <a:pt x="2672" y="1324"/>
                  <a:pt x="2672" y="1324"/>
                  <a:pt x="2672" y="1324"/>
                </a:cubicBezTo>
                <a:cubicBezTo>
                  <a:pt x="2676" y="1320"/>
                  <a:pt x="2676" y="1320"/>
                  <a:pt x="2676" y="1320"/>
                </a:cubicBezTo>
                <a:cubicBezTo>
                  <a:pt x="2680" y="1316"/>
                  <a:pt x="2680" y="1316"/>
                  <a:pt x="2680" y="1316"/>
                </a:cubicBezTo>
                <a:cubicBezTo>
                  <a:pt x="2688" y="1308"/>
                  <a:pt x="2688" y="1308"/>
                  <a:pt x="2688" y="1308"/>
                </a:cubicBezTo>
                <a:cubicBezTo>
                  <a:pt x="2692" y="1304"/>
                  <a:pt x="2692" y="1304"/>
                  <a:pt x="2692" y="1304"/>
                </a:cubicBezTo>
                <a:cubicBezTo>
                  <a:pt x="2696" y="1300"/>
                  <a:pt x="2696" y="1300"/>
                  <a:pt x="2696" y="1300"/>
                </a:cubicBezTo>
                <a:cubicBezTo>
                  <a:pt x="2700" y="1296"/>
                  <a:pt x="2700" y="1296"/>
                  <a:pt x="2700" y="1296"/>
                </a:cubicBezTo>
                <a:cubicBezTo>
                  <a:pt x="2704" y="1292"/>
                  <a:pt x="2704" y="1292"/>
                  <a:pt x="2704" y="1292"/>
                </a:cubicBezTo>
                <a:cubicBezTo>
                  <a:pt x="2708" y="1288"/>
                  <a:pt x="2708" y="1288"/>
                  <a:pt x="2708" y="1288"/>
                </a:cubicBezTo>
                <a:cubicBezTo>
                  <a:pt x="2712" y="1284"/>
                  <a:pt x="2712" y="1284"/>
                  <a:pt x="2712" y="1284"/>
                </a:cubicBezTo>
                <a:cubicBezTo>
                  <a:pt x="2716" y="1280"/>
                  <a:pt x="2716" y="1280"/>
                  <a:pt x="2716" y="1280"/>
                </a:cubicBezTo>
                <a:cubicBezTo>
                  <a:pt x="2720" y="1276"/>
                  <a:pt x="2720" y="1276"/>
                  <a:pt x="2720" y="1276"/>
                </a:cubicBezTo>
                <a:cubicBezTo>
                  <a:pt x="2724" y="1272"/>
                  <a:pt x="2724" y="1272"/>
                  <a:pt x="2724" y="1272"/>
                </a:cubicBezTo>
                <a:cubicBezTo>
                  <a:pt x="2728" y="1268"/>
                  <a:pt x="2728" y="1268"/>
                  <a:pt x="2728" y="1268"/>
                </a:cubicBezTo>
                <a:cubicBezTo>
                  <a:pt x="2732" y="1264"/>
                  <a:pt x="2732" y="1264"/>
                  <a:pt x="2732" y="1264"/>
                </a:cubicBezTo>
                <a:cubicBezTo>
                  <a:pt x="2736" y="1260"/>
                  <a:pt x="2736" y="1260"/>
                  <a:pt x="2736" y="1260"/>
                </a:cubicBezTo>
                <a:cubicBezTo>
                  <a:pt x="2740" y="1256"/>
                  <a:pt x="2740" y="1256"/>
                  <a:pt x="2740" y="1256"/>
                </a:cubicBezTo>
                <a:cubicBezTo>
                  <a:pt x="2744" y="1252"/>
                  <a:pt x="2744" y="1252"/>
                  <a:pt x="2744" y="1252"/>
                </a:cubicBezTo>
                <a:cubicBezTo>
                  <a:pt x="2748" y="1248"/>
                  <a:pt x="2748" y="1248"/>
                  <a:pt x="2748" y="1248"/>
                </a:cubicBezTo>
                <a:cubicBezTo>
                  <a:pt x="2756" y="1240"/>
                  <a:pt x="2756" y="1240"/>
                  <a:pt x="2756" y="1240"/>
                </a:cubicBezTo>
                <a:cubicBezTo>
                  <a:pt x="2760" y="1236"/>
                  <a:pt x="2760" y="1236"/>
                  <a:pt x="2760" y="1236"/>
                </a:cubicBezTo>
                <a:cubicBezTo>
                  <a:pt x="2764" y="1232"/>
                  <a:pt x="2764" y="1232"/>
                  <a:pt x="2764" y="1232"/>
                </a:cubicBezTo>
                <a:cubicBezTo>
                  <a:pt x="2768" y="1228"/>
                  <a:pt x="2768" y="1228"/>
                  <a:pt x="2768" y="1228"/>
                </a:cubicBezTo>
                <a:cubicBezTo>
                  <a:pt x="2772" y="1224"/>
                  <a:pt x="2772" y="1224"/>
                  <a:pt x="2772" y="1224"/>
                </a:cubicBezTo>
                <a:cubicBezTo>
                  <a:pt x="2776" y="1220"/>
                  <a:pt x="2776" y="1220"/>
                  <a:pt x="2776" y="1220"/>
                </a:cubicBezTo>
                <a:cubicBezTo>
                  <a:pt x="2780" y="1216"/>
                  <a:pt x="2780" y="1216"/>
                  <a:pt x="2780" y="1216"/>
                </a:cubicBezTo>
                <a:cubicBezTo>
                  <a:pt x="2784" y="1212"/>
                  <a:pt x="2784" y="1212"/>
                  <a:pt x="2784" y="1212"/>
                </a:cubicBezTo>
                <a:cubicBezTo>
                  <a:pt x="2788" y="1208"/>
                  <a:pt x="2788" y="1208"/>
                  <a:pt x="2788" y="1208"/>
                </a:cubicBezTo>
                <a:cubicBezTo>
                  <a:pt x="2792" y="1204"/>
                  <a:pt x="2792" y="1204"/>
                  <a:pt x="2792" y="1204"/>
                </a:cubicBezTo>
                <a:cubicBezTo>
                  <a:pt x="2796" y="1200"/>
                  <a:pt x="2796" y="1200"/>
                  <a:pt x="2796" y="1200"/>
                </a:cubicBezTo>
                <a:cubicBezTo>
                  <a:pt x="2800" y="1196"/>
                  <a:pt x="2800" y="1196"/>
                  <a:pt x="2800" y="1196"/>
                </a:cubicBezTo>
                <a:cubicBezTo>
                  <a:pt x="2804" y="1192"/>
                  <a:pt x="2804" y="1192"/>
                  <a:pt x="2804" y="1192"/>
                </a:cubicBezTo>
                <a:cubicBezTo>
                  <a:pt x="2808" y="1188"/>
                  <a:pt x="2808" y="1188"/>
                  <a:pt x="2808" y="1188"/>
                </a:cubicBezTo>
                <a:cubicBezTo>
                  <a:pt x="2812" y="1184"/>
                  <a:pt x="2812" y="1184"/>
                  <a:pt x="2812" y="1184"/>
                </a:cubicBezTo>
                <a:cubicBezTo>
                  <a:pt x="2816" y="1180"/>
                  <a:pt x="2816" y="1180"/>
                  <a:pt x="2816" y="1180"/>
                </a:cubicBezTo>
                <a:cubicBezTo>
                  <a:pt x="2824" y="1172"/>
                  <a:pt x="2824" y="1172"/>
                  <a:pt x="2824" y="1172"/>
                </a:cubicBezTo>
                <a:cubicBezTo>
                  <a:pt x="2828" y="1168"/>
                  <a:pt x="2828" y="1168"/>
                  <a:pt x="2828" y="1168"/>
                </a:cubicBezTo>
                <a:cubicBezTo>
                  <a:pt x="2832" y="1164"/>
                  <a:pt x="2832" y="1164"/>
                  <a:pt x="2832" y="1164"/>
                </a:cubicBezTo>
                <a:cubicBezTo>
                  <a:pt x="2836" y="1160"/>
                  <a:pt x="2836" y="1160"/>
                  <a:pt x="2836" y="1160"/>
                </a:cubicBezTo>
                <a:cubicBezTo>
                  <a:pt x="2840" y="1156"/>
                  <a:pt x="2840" y="1156"/>
                  <a:pt x="2840" y="1156"/>
                </a:cubicBezTo>
                <a:cubicBezTo>
                  <a:pt x="2844" y="1152"/>
                  <a:pt x="2844" y="1152"/>
                  <a:pt x="2844" y="1152"/>
                </a:cubicBezTo>
                <a:cubicBezTo>
                  <a:pt x="2848" y="1148"/>
                  <a:pt x="2848" y="1148"/>
                  <a:pt x="2848" y="1148"/>
                </a:cubicBezTo>
                <a:cubicBezTo>
                  <a:pt x="2852" y="1144"/>
                  <a:pt x="2852" y="1144"/>
                  <a:pt x="2852" y="1144"/>
                </a:cubicBezTo>
                <a:cubicBezTo>
                  <a:pt x="2856" y="1140"/>
                  <a:pt x="2856" y="1140"/>
                  <a:pt x="2856" y="1140"/>
                </a:cubicBezTo>
                <a:cubicBezTo>
                  <a:pt x="2860" y="1136"/>
                  <a:pt x="2860" y="1136"/>
                  <a:pt x="2860" y="1136"/>
                </a:cubicBezTo>
                <a:cubicBezTo>
                  <a:pt x="2864" y="1132"/>
                  <a:pt x="2864" y="1132"/>
                  <a:pt x="2864" y="1132"/>
                </a:cubicBezTo>
                <a:cubicBezTo>
                  <a:pt x="2868" y="1128"/>
                  <a:pt x="2868" y="1128"/>
                  <a:pt x="2868" y="1128"/>
                </a:cubicBezTo>
                <a:cubicBezTo>
                  <a:pt x="2872" y="1124"/>
                  <a:pt x="2872" y="1124"/>
                  <a:pt x="2872" y="1124"/>
                </a:cubicBezTo>
                <a:cubicBezTo>
                  <a:pt x="2876" y="1120"/>
                  <a:pt x="2876" y="1120"/>
                  <a:pt x="2876" y="1120"/>
                </a:cubicBezTo>
                <a:cubicBezTo>
                  <a:pt x="2880" y="1116"/>
                  <a:pt x="2880" y="1116"/>
                  <a:pt x="2880" y="1116"/>
                </a:cubicBezTo>
                <a:cubicBezTo>
                  <a:pt x="2884" y="1112"/>
                  <a:pt x="2884" y="1112"/>
                  <a:pt x="2884" y="1112"/>
                </a:cubicBezTo>
                <a:cubicBezTo>
                  <a:pt x="2892" y="1104"/>
                  <a:pt x="2892" y="1104"/>
                  <a:pt x="2892" y="1104"/>
                </a:cubicBezTo>
                <a:cubicBezTo>
                  <a:pt x="2896" y="1100"/>
                  <a:pt x="2896" y="1100"/>
                  <a:pt x="2896" y="1100"/>
                </a:cubicBezTo>
                <a:cubicBezTo>
                  <a:pt x="2900" y="1096"/>
                  <a:pt x="2900" y="1096"/>
                  <a:pt x="2900" y="1096"/>
                </a:cubicBezTo>
                <a:cubicBezTo>
                  <a:pt x="2904" y="1092"/>
                  <a:pt x="2904" y="1092"/>
                  <a:pt x="2904" y="1092"/>
                </a:cubicBezTo>
                <a:cubicBezTo>
                  <a:pt x="2908" y="1088"/>
                  <a:pt x="2908" y="1088"/>
                  <a:pt x="2908" y="1088"/>
                </a:cubicBezTo>
                <a:cubicBezTo>
                  <a:pt x="2912" y="1084"/>
                  <a:pt x="2912" y="1084"/>
                  <a:pt x="2912" y="1084"/>
                </a:cubicBezTo>
                <a:cubicBezTo>
                  <a:pt x="2916" y="1080"/>
                  <a:pt x="2916" y="1080"/>
                  <a:pt x="2916" y="1080"/>
                </a:cubicBezTo>
                <a:cubicBezTo>
                  <a:pt x="2920" y="1076"/>
                  <a:pt x="2920" y="1076"/>
                  <a:pt x="2920" y="1076"/>
                </a:cubicBezTo>
                <a:cubicBezTo>
                  <a:pt x="2924" y="1072"/>
                  <a:pt x="2924" y="1072"/>
                  <a:pt x="2924" y="1072"/>
                </a:cubicBezTo>
                <a:cubicBezTo>
                  <a:pt x="2928" y="1068"/>
                  <a:pt x="2928" y="1068"/>
                  <a:pt x="2928" y="1068"/>
                </a:cubicBezTo>
                <a:cubicBezTo>
                  <a:pt x="2932" y="1064"/>
                  <a:pt x="2932" y="1064"/>
                  <a:pt x="2932" y="1064"/>
                </a:cubicBezTo>
                <a:cubicBezTo>
                  <a:pt x="2936" y="1060"/>
                  <a:pt x="2936" y="1060"/>
                  <a:pt x="2936" y="1060"/>
                </a:cubicBezTo>
                <a:cubicBezTo>
                  <a:pt x="2940" y="1056"/>
                  <a:pt x="2940" y="1056"/>
                  <a:pt x="2940" y="1056"/>
                </a:cubicBezTo>
                <a:cubicBezTo>
                  <a:pt x="2944" y="1052"/>
                  <a:pt x="2944" y="1052"/>
                  <a:pt x="2944" y="1052"/>
                </a:cubicBezTo>
                <a:cubicBezTo>
                  <a:pt x="2948" y="1048"/>
                  <a:pt x="2948" y="1048"/>
                  <a:pt x="2948" y="1048"/>
                </a:cubicBezTo>
                <a:cubicBezTo>
                  <a:pt x="2952" y="1044"/>
                  <a:pt x="2952" y="1044"/>
                  <a:pt x="2952" y="1044"/>
                </a:cubicBezTo>
                <a:cubicBezTo>
                  <a:pt x="2960" y="1036"/>
                  <a:pt x="2960" y="1036"/>
                  <a:pt x="2960" y="1036"/>
                </a:cubicBezTo>
                <a:cubicBezTo>
                  <a:pt x="2964" y="1032"/>
                  <a:pt x="2964" y="1032"/>
                  <a:pt x="2964" y="1032"/>
                </a:cubicBezTo>
                <a:cubicBezTo>
                  <a:pt x="2968" y="1028"/>
                  <a:pt x="2968" y="1028"/>
                  <a:pt x="2968" y="1028"/>
                </a:cubicBezTo>
                <a:cubicBezTo>
                  <a:pt x="2972" y="1024"/>
                  <a:pt x="2972" y="1024"/>
                  <a:pt x="2972" y="1024"/>
                </a:cubicBezTo>
                <a:cubicBezTo>
                  <a:pt x="2976" y="1020"/>
                  <a:pt x="2976" y="1020"/>
                  <a:pt x="2976" y="1020"/>
                </a:cubicBezTo>
                <a:cubicBezTo>
                  <a:pt x="2980" y="1016"/>
                  <a:pt x="2980" y="1016"/>
                  <a:pt x="2980" y="1016"/>
                </a:cubicBezTo>
                <a:cubicBezTo>
                  <a:pt x="2984" y="1012"/>
                  <a:pt x="2984" y="1012"/>
                  <a:pt x="2984" y="1012"/>
                </a:cubicBezTo>
                <a:cubicBezTo>
                  <a:pt x="2988" y="1008"/>
                  <a:pt x="2988" y="1008"/>
                  <a:pt x="2988" y="1008"/>
                </a:cubicBezTo>
                <a:cubicBezTo>
                  <a:pt x="2992" y="1004"/>
                  <a:pt x="2992" y="1004"/>
                  <a:pt x="2992" y="1004"/>
                </a:cubicBezTo>
                <a:cubicBezTo>
                  <a:pt x="2996" y="1000"/>
                  <a:pt x="2996" y="1000"/>
                  <a:pt x="2996" y="1000"/>
                </a:cubicBezTo>
                <a:cubicBezTo>
                  <a:pt x="3000" y="996"/>
                  <a:pt x="3000" y="996"/>
                  <a:pt x="3000" y="996"/>
                </a:cubicBezTo>
                <a:cubicBezTo>
                  <a:pt x="3004" y="992"/>
                  <a:pt x="3004" y="992"/>
                  <a:pt x="3004" y="992"/>
                </a:cubicBezTo>
                <a:cubicBezTo>
                  <a:pt x="3008" y="988"/>
                  <a:pt x="3008" y="988"/>
                  <a:pt x="3008" y="988"/>
                </a:cubicBezTo>
                <a:cubicBezTo>
                  <a:pt x="3012" y="984"/>
                  <a:pt x="3012" y="984"/>
                  <a:pt x="3012" y="984"/>
                </a:cubicBezTo>
                <a:cubicBezTo>
                  <a:pt x="3016" y="980"/>
                  <a:pt x="3016" y="980"/>
                  <a:pt x="3016" y="980"/>
                </a:cubicBezTo>
                <a:cubicBezTo>
                  <a:pt x="3020" y="976"/>
                  <a:pt x="3020" y="976"/>
                  <a:pt x="3020" y="976"/>
                </a:cubicBezTo>
                <a:cubicBezTo>
                  <a:pt x="3028" y="968"/>
                  <a:pt x="3028" y="968"/>
                  <a:pt x="3028" y="968"/>
                </a:cubicBezTo>
                <a:cubicBezTo>
                  <a:pt x="3032" y="964"/>
                  <a:pt x="3032" y="964"/>
                  <a:pt x="3032" y="964"/>
                </a:cubicBezTo>
                <a:cubicBezTo>
                  <a:pt x="3036" y="960"/>
                  <a:pt x="3036" y="960"/>
                  <a:pt x="3036" y="960"/>
                </a:cubicBezTo>
                <a:cubicBezTo>
                  <a:pt x="3040" y="956"/>
                  <a:pt x="3040" y="956"/>
                  <a:pt x="3040" y="956"/>
                </a:cubicBezTo>
                <a:cubicBezTo>
                  <a:pt x="3044" y="952"/>
                  <a:pt x="3044" y="952"/>
                  <a:pt x="3044" y="952"/>
                </a:cubicBezTo>
                <a:cubicBezTo>
                  <a:pt x="3048" y="948"/>
                  <a:pt x="3048" y="948"/>
                  <a:pt x="3048" y="948"/>
                </a:cubicBezTo>
                <a:cubicBezTo>
                  <a:pt x="3052" y="944"/>
                  <a:pt x="3052" y="944"/>
                  <a:pt x="3052" y="944"/>
                </a:cubicBezTo>
                <a:cubicBezTo>
                  <a:pt x="3056" y="940"/>
                  <a:pt x="3056" y="940"/>
                  <a:pt x="3056" y="940"/>
                </a:cubicBezTo>
                <a:cubicBezTo>
                  <a:pt x="3060" y="936"/>
                  <a:pt x="3060" y="936"/>
                  <a:pt x="3060" y="936"/>
                </a:cubicBezTo>
                <a:cubicBezTo>
                  <a:pt x="3064" y="932"/>
                  <a:pt x="3064" y="932"/>
                  <a:pt x="3064" y="932"/>
                </a:cubicBezTo>
                <a:cubicBezTo>
                  <a:pt x="3068" y="928"/>
                  <a:pt x="3068" y="928"/>
                  <a:pt x="3068" y="928"/>
                </a:cubicBezTo>
                <a:cubicBezTo>
                  <a:pt x="3072" y="924"/>
                  <a:pt x="3072" y="924"/>
                  <a:pt x="3072" y="924"/>
                </a:cubicBezTo>
                <a:cubicBezTo>
                  <a:pt x="3076" y="920"/>
                  <a:pt x="3076" y="920"/>
                  <a:pt x="3076" y="920"/>
                </a:cubicBezTo>
                <a:cubicBezTo>
                  <a:pt x="3080" y="916"/>
                  <a:pt x="3080" y="916"/>
                  <a:pt x="3080" y="916"/>
                </a:cubicBezTo>
                <a:cubicBezTo>
                  <a:pt x="3084" y="912"/>
                  <a:pt x="3084" y="912"/>
                  <a:pt x="3084" y="912"/>
                </a:cubicBezTo>
                <a:cubicBezTo>
                  <a:pt x="3088" y="908"/>
                  <a:pt x="3088" y="908"/>
                  <a:pt x="3088" y="908"/>
                </a:cubicBezTo>
                <a:cubicBezTo>
                  <a:pt x="3096" y="900"/>
                  <a:pt x="3096" y="900"/>
                  <a:pt x="3096" y="900"/>
                </a:cubicBezTo>
                <a:cubicBezTo>
                  <a:pt x="3100" y="896"/>
                  <a:pt x="3100" y="896"/>
                  <a:pt x="3100" y="896"/>
                </a:cubicBezTo>
                <a:cubicBezTo>
                  <a:pt x="3104" y="892"/>
                  <a:pt x="3104" y="892"/>
                  <a:pt x="3104" y="892"/>
                </a:cubicBezTo>
                <a:cubicBezTo>
                  <a:pt x="3108" y="888"/>
                  <a:pt x="3108" y="888"/>
                  <a:pt x="3108" y="888"/>
                </a:cubicBezTo>
                <a:cubicBezTo>
                  <a:pt x="3112" y="884"/>
                  <a:pt x="3112" y="884"/>
                  <a:pt x="3112" y="884"/>
                </a:cubicBezTo>
                <a:cubicBezTo>
                  <a:pt x="3116" y="880"/>
                  <a:pt x="3116" y="880"/>
                  <a:pt x="3116" y="880"/>
                </a:cubicBezTo>
                <a:cubicBezTo>
                  <a:pt x="3120" y="876"/>
                  <a:pt x="3120" y="876"/>
                  <a:pt x="3120" y="876"/>
                </a:cubicBezTo>
                <a:cubicBezTo>
                  <a:pt x="3124" y="872"/>
                  <a:pt x="3124" y="872"/>
                  <a:pt x="3124" y="872"/>
                </a:cubicBezTo>
                <a:cubicBezTo>
                  <a:pt x="3128" y="868"/>
                  <a:pt x="3128" y="868"/>
                  <a:pt x="3128" y="868"/>
                </a:cubicBezTo>
                <a:cubicBezTo>
                  <a:pt x="3132" y="864"/>
                  <a:pt x="3132" y="864"/>
                  <a:pt x="3132" y="864"/>
                </a:cubicBezTo>
                <a:cubicBezTo>
                  <a:pt x="3136" y="860"/>
                  <a:pt x="3136" y="860"/>
                  <a:pt x="3136" y="860"/>
                </a:cubicBezTo>
                <a:cubicBezTo>
                  <a:pt x="3140" y="856"/>
                  <a:pt x="3140" y="856"/>
                  <a:pt x="3140" y="856"/>
                </a:cubicBezTo>
                <a:cubicBezTo>
                  <a:pt x="3144" y="852"/>
                  <a:pt x="3144" y="852"/>
                  <a:pt x="3144" y="852"/>
                </a:cubicBezTo>
                <a:cubicBezTo>
                  <a:pt x="3148" y="848"/>
                  <a:pt x="3148" y="848"/>
                  <a:pt x="3148" y="848"/>
                </a:cubicBezTo>
                <a:cubicBezTo>
                  <a:pt x="3152" y="844"/>
                  <a:pt x="3152" y="844"/>
                  <a:pt x="3152" y="844"/>
                </a:cubicBezTo>
                <a:cubicBezTo>
                  <a:pt x="3156" y="840"/>
                  <a:pt x="3156" y="840"/>
                  <a:pt x="3156" y="840"/>
                </a:cubicBezTo>
                <a:cubicBezTo>
                  <a:pt x="3164" y="832"/>
                  <a:pt x="3164" y="832"/>
                  <a:pt x="3164" y="832"/>
                </a:cubicBezTo>
                <a:cubicBezTo>
                  <a:pt x="3168" y="828"/>
                  <a:pt x="3168" y="828"/>
                  <a:pt x="3168" y="828"/>
                </a:cubicBezTo>
                <a:cubicBezTo>
                  <a:pt x="3172" y="824"/>
                  <a:pt x="3172" y="824"/>
                  <a:pt x="3172" y="824"/>
                </a:cubicBezTo>
                <a:cubicBezTo>
                  <a:pt x="3176" y="820"/>
                  <a:pt x="3176" y="820"/>
                  <a:pt x="3176" y="820"/>
                </a:cubicBezTo>
                <a:cubicBezTo>
                  <a:pt x="3180" y="816"/>
                  <a:pt x="3180" y="816"/>
                  <a:pt x="3180" y="816"/>
                </a:cubicBezTo>
                <a:cubicBezTo>
                  <a:pt x="3184" y="812"/>
                  <a:pt x="3184" y="812"/>
                  <a:pt x="3184" y="812"/>
                </a:cubicBezTo>
                <a:cubicBezTo>
                  <a:pt x="3188" y="808"/>
                  <a:pt x="3188" y="808"/>
                  <a:pt x="3188" y="808"/>
                </a:cubicBezTo>
                <a:cubicBezTo>
                  <a:pt x="3192" y="804"/>
                  <a:pt x="3192" y="804"/>
                  <a:pt x="3192" y="804"/>
                </a:cubicBezTo>
                <a:cubicBezTo>
                  <a:pt x="3196" y="800"/>
                  <a:pt x="3196" y="800"/>
                  <a:pt x="3196" y="800"/>
                </a:cubicBezTo>
                <a:cubicBezTo>
                  <a:pt x="3200" y="796"/>
                  <a:pt x="3200" y="796"/>
                  <a:pt x="3200" y="796"/>
                </a:cubicBezTo>
                <a:cubicBezTo>
                  <a:pt x="3204" y="792"/>
                  <a:pt x="3204" y="792"/>
                  <a:pt x="3204" y="792"/>
                </a:cubicBezTo>
                <a:cubicBezTo>
                  <a:pt x="3208" y="788"/>
                  <a:pt x="3208" y="788"/>
                  <a:pt x="3208" y="788"/>
                </a:cubicBezTo>
                <a:cubicBezTo>
                  <a:pt x="3212" y="784"/>
                  <a:pt x="3212" y="784"/>
                  <a:pt x="3212" y="784"/>
                </a:cubicBezTo>
                <a:cubicBezTo>
                  <a:pt x="3216" y="780"/>
                  <a:pt x="3216" y="780"/>
                  <a:pt x="3216" y="780"/>
                </a:cubicBezTo>
                <a:cubicBezTo>
                  <a:pt x="3220" y="776"/>
                  <a:pt x="3220" y="776"/>
                  <a:pt x="3220" y="776"/>
                </a:cubicBezTo>
                <a:cubicBezTo>
                  <a:pt x="3224" y="772"/>
                  <a:pt x="3224" y="772"/>
                  <a:pt x="3224" y="772"/>
                </a:cubicBezTo>
                <a:cubicBezTo>
                  <a:pt x="3232" y="764"/>
                  <a:pt x="3232" y="764"/>
                  <a:pt x="3232" y="764"/>
                </a:cubicBezTo>
                <a:cubicBezTo>
                  <a:pt x="3236" y="760"/>
                  <a:pt x="3236" y="760"/>
                  <a:pt x="3236" y="760"/>
                </a:cubicBezTo>
                <a:cubicBezTo>
                  <a:pt x="3240" y="756"/>
                  <a:pt x="3240" y="756"/>
                  <a:pt x="3240" y="756"/>
                </a:cubicBezTo>
                <a:cubicBezTo>
                  <a:pt x="3244" y="752"/>
                  <a:pt x="3244" y="752"/>
                  <a:pt x="3244" y="752"/>
                </a:cubicBezTo>
                <a:cubicBezTo>
                  <a:pt x="3248" y="748"/>
                  <a:pt x="3248" y="748"/>
                  <a:pt x="3248" y="748"/>
                </a:cubicBezTo>
                <a:cubicBezTo>
                  <a:pt x="3252" y="744"/>
                  <a:pt x="3252" y="744"/>
                  <a:pt x="3252" y="744"/>
                </a:cubicBezTo>
                <a:cubicBezTo>
                  <a:pt x="3256" y="740"/>
                  <a:pt x="3256" y="740"/>
                  <a:pt x="3256" y="740"/>
                </a:cubicBezTo>
                <a:cubicBezTo>
                  <a:pt x="3260" y="736"/>
                  <a:pt x="3260" y="736"/>
                  <a:pt x="3260" y="736"/>
                </a:cubicBezTo>
                <a:cubicBezTo>
                  <a:pt x="3264" y="732"/>
                  <a:pt x="3264" y="732"/>
                  <a:pt x="3264" y="732"/>
                </a:cubicBezTo>
                <a:cubicBezTo>
                  <a:pt x="3272" y="724"/>
                  <a:pt x="3272" y="724"/>
                  <a:pt x="3272" y="724"/>
                </a:cubicBezTo>
                <a:cubicBezTo>
                  <a:pt x="3276" y="720"/>
                  <a:pt x="3276" y="720"/>
                  <a:pt x="3276" y="720"/>
                </a:cubicBezTo>
                <a:cubicBezTo>
                  <a:pt x="3280" y="716"/>
                  <a:pt x="3280" y="716"/>
                  <a:pt x="3280" y="716"/>
                </a:cubicBezTo>
                <a:cubicBezTo>
                  <a:pt x="3284" y="712"/>
                  <a:pt x="3284" y="712"/>
                  <a:pt x="3284" y="712"/>
                </a:cubicBezTo>
                <a:cubicBezTo>
                  <a:pt x="3288" y="708"/>
                  <a:pt x="3288" y="708"/>
                  <a:pt x="3288" y="708"/>
                </a:cubicBezTo>
                <a:cubicBezTo>
                  <a:pt x="3292" y="704"/>
                  <a:pt x="3292" y="704"/>
                  <a:pt x="3292" y="704"/>
                </a:cubicBezTo>
                <a:cubicBezTo>
                  <a:pt x="3300" y="696"/>
                  <a:pt x="3300" y="696"/>
                  <a:pt x="3300" y="696"/>
                </a:cubicBezTo>
                <a:cubicBezTo>
                  <a:pt x="3304" y="692"/>
                  <a:pt x="3304" y="692"/>
                  <a:pt x="3304" y="692"/>
                </a:cubicBezTo>
                <a:cubicBezTo>
                  <a:pt x="3308" y="688"/>
                  <a:pt x="3308" y="688"/>
                  <a:pt x="3308" y="688"/>
                </a:cubicBezTo>
                <a:cubicBezTo>
                  <a:pt x="3312" y="684"/>
                  <a:pt x="3312" y="684"/>
                  <a:pt x="3312" y="684"/>
                </a:cubicBezTo>
                <a:cubicBezTo>
                  <a:pt x="3316" y="680"/>
                  <a:pt x="3316" y="680"/>
                  <a:pt x="3316" y="680"/>
                </a:cubicBezTo>
                <a:cubicBezTo>
                  <a:pt x="3320" y="676"/>
                  <a:pt x="3320" y="676"/>
                  <a:pt x="3320" y="676"/>
                </a:cubicBezTo>
                <a:cubicBezTo>
                  <a:pt x="3324" y="672"/>
                  <a:pt x="3324" y="672"/>
                  <a:pt x="3324" y="672"/>
                </a:cubicBezTo>
                <a:cubicBezTo>
                  <a:pt x="3328" y="668"/>
                  <a:pt x="3328" y="668"/>
                  <a:pt x="3328" y="668"/>
                </a:cubicBezTo>
                <a:cubicBezTo>
                  <a:pt x="3332" y="664"/>
                  <a:pt x="3332" y="664"/>
                  <a:pt x="3332" y="664"/>
                </a:cubicBezTo>
                <a:cubicBezTo>
                  <a:pt x="3340" y="656"/>
                  <a:pt x="3340" y="656"/>
                  <a:pt x="3340" y="656"/>
                </a:cubicBezTo>
                <a:cubicBezTo>
                  <a:pt x="3344" y="652"/>
                  <a:pt x="3344" y="652"/>
                  <a:pt x="3344" y="652"/>
                </a:cubicBezTo>
                <a:cubicBezTo>
                  <a:pt x="3348" y="648"/>
                  <a:pt x="3348" y="648"/>
                  <a:pt x="3348" y="648"/>
                </a:cubicBezTo>
                <a:cubicBezTo>
                  <a:pt x="3352" y="644"/>
                  <a:pt x="3352" y="644"/>
                  <a:pt x="3352" y="644"/>
                </a:cubicBezTo>
                <a:cubicBezTo>
                  <a:pt x="3356" y="640"/>
                  <a:pt x="3356" y="640"/>
                  <a:pt x="3356" y="640"/>
                </a:cubicBezTo>
                <a:cubicBezTo>
                  <a:pt x="3360" y="636"/>
                  <a:pt x="3360" y="636"/>
                  <a:pt x="3360" y="636"/>
                </a:cubicBezTo>
                <a:cubicBezTo>
                  <a:pt x="3368" y="628"/>
                  <a:pt x="3368" y="628"/>
                  <a:pt x="3368" y="628"/>
                </a:cubicBezTo>
                <a:cubicBezTo>
                  <a:pt x="3372" y="624"/>
                  <a:pt x="3372" y="624"/>
                  <a:pt x="3372" y="624"/>
                </a:cubicBezTo>
                <a:cubicBezTo>
                  <a:pt x="3376" y="620"/>
                  <a:pt x="3376" y="620"/>
                  <a:pt x="3376" y="620"/>
                </a:cubicBezTo>
                <a:cubicBezTo>
                  <a:pt x="3380" y="616"/>
                  <a:pt x="3380" y="616"/>
                  <a:pt x="3380" y="616"/>
                </a:cubicBezTo>
                <a:cubicBezTo>
                  <a:pt x="3384" y="612"/>
                  <a:pt x="3384" y="612"/>
                  <a:pt x="3384" y="612"/>
                </a:cubicBezTo>
                <a:cubicBezTo>
                  <a:pt x="3388" y="608"/>
                  <a:pt x="3388" y="608"/>
                  <a:pt x="3388" y="608"/>
                </a:cubicBezTo>
                <a:cubicBezTo>
                  <a:pt x="3392" y="604"/>
                  <a:pt x="3392" y="604"/>
                  <a:pt x="3392" y="604"/>
                </a:cubicBezTo>
                <a:cubicBezTo>
                  <a:pt x="3396" y="600"/>
                  <a:pt x="3396" y="600"/>
                  <a:pt x="3396" y="600"/>
                </a:cubicBezTo>
                <a:cubicBezTo>
                  <a:pt x="3400" y="596"/>
                  <a:pt x="3400" y="596"/>
                  <a:pt x="3400" y="596"/>
                </a:cubicBezTo>
                <a:cubicBezTo>
                  <a:pt x="3408" y="588"/>
                  <a:pt x="3408" y="588"/>
                  <a:pt x="3408" y="588"/>
                </a:cubicBezTo>
                <a:cubicBezTo>
                  <a:pt x="3412" y="584"/>
                  <a:pt x="3412" y="584"/>
                  <a:pt x="3412" y="584"/>
                </a:cubicBezTo>
                <a:cubicBezTo>
                  <a:pt x="3416" y="580"/>
                  <a:pt x="3416" y="580"/>
                  <a:pt x="3416" y="580"/>
                </a:cubicBezTo>
                <a:cubicBezTo>
                  <a:pt x="3420" y="576"/>
                  <a:pt x="3420" y="576"/>
                  <a:pt x="3420" y="576"/>
                </a:cubicBezTo>
                <a:cubicBezTo>
                  <a:pt x="3424" y="572"/>
                  <a:pt x="3424" y="572"/>
                  <a:pt x="3424" y="572"/>
                </a:cubicBezTo>
                <a:cubicBezTo>
                  <a:pt x="3428" y="568"/>
                  <a:pt x="3428" y="568"/>
                  <a:pt x="3428" y="568"/>
                </a:cubicBezTo>
                <a:cubicBezTo>
                  <a:pt x="3432" y="564"/>
                  <a:pt x="3432" y="564"/>
                  <a:pt x="3432" y="564"/>
                </a:cubicBezTo>
                <a:cubicBezTo>
                  <a:pt x="3436" y="560"/>
                  <a:pt x="3436" y="560"/>
                  <a:pt x="3436" y="560"/>
                </a:cubicBezTo>
                <a:cubicBezTo>
                  <a:pt x="3440" y="556"/>
                  <a:pt x="3440" y="556"/>
                  <a:pt x="3440" y="556"/>
                </a:cubicBezTo>
                <a:cubicBezTo>
                  <a:pt x="3444" y="552"/>
                  <a:pt x="3444" y="552"/>
                  <a:pt x="3444" y="552"/>
                </a:cubicBezTo>
                <a:cubicBezTo>
                  <a:pt x="3448" y="548"/>
                  <a:pt x="3448" y="548"/>
                  <a:pt x="3448" y="548"/>
                </a:cubicBezTo>
                <a:cubicBezTo>
                  <a:pt x="3452" y="544"/>
                  <a:pt x="3452" y="544"/>
                  <a:pt x="3452" y="544"/>
                </a:cubicBezTo>
                <a:cubicBezTo>
                  <a:pt x="3456" y="540"/>
                  <a:pt x="3456" y="540"/>
                  <a:pt x="3456" y="540"/>
                </a:cubicBezTo>
                <a:cubicBezTo>
                  <a:pt x="3460" y="536"/>
                  <a:pt x="3460" y="536"/>
                  <a:pt x="3460" y="536"/>
                </a:cubicBezTo>
                <a:cubicBezTo>
                  <a:pt x="3464" y="532"/>
                  <a:pt x="3464" y="532"/>
                  <a:pt x="3464" y="532"/>
                </a:cubicBezTo>
                <a:cubicBezTo>
                  <a:pt x="3468" y="528"/>
                  <a:pt x="3468" y="528"/>
                  <a:pt x="3468" y="528"/>
                </a:cubicBezTo>
                <a:cubicBezTo>
                  <a:pt x="3476" y="520"/>
                  <a:pt x="3476" y="520"/>
                  <a:pt x="3476" y="520"/>
                </a:cubicBezTo>
                <a:cubicBezTo>
                  <a:pt x="3480" y="516"/>
                  <a:pt x="3480" y="516"/>
                  <a:pt x="3480" y="516"/>
                </a:cubicBezTo>
                <a:cubicBezTo>
                  <a:pt x="3484" y="512"/>
                  <a:pt x="3484" y="512"/>
                  <a:pt x="3484" y="512"/>
                </a:cubicBezTo>
                <a:cubicBezTo>
                  <a:pt x="3488" y="508"/>
                  <a:pt x="3488" y="508"/>
                  <a:pt x="3488" y="508"/>
                </a:cubicBezTo>
                <a:cubicBezTo>
                  <a:pt x="3492" y="504"/>
                  <a:pt x="3492" y="504"/>
                  <a:pt x="3492" y="504"/>
                </a:cubicBezTo>
                <a:cubicBezTo>
                  <a:pt x="3496" y="500"/>
                  <a:pt x="3496" y="500"/>
                  <a:pt x="3496" y="500"/>
                </a:cubicBezTo>
                <a:cubicBezTo>
                  <a:pt x="3500" y="496"/>
                  <a:pt x="3500" y="496"/>
                  <a:pt x="3500" y="496"/>
                </a:cubicBezTo>
                <a:cubicBezTo>
                  <a:pt x="3504" y="492"/>
                  <a:pt x="3504" y="492"/>
                  <a:pt x="3504" y="492"/>
                </a:cubicBezTo>
                <a:cubicBezTo>
                  <a:pt x="3508" y="488"/>
                  <a:pt x="3508" y="488"/>
                  <a:pt x="3508" y="488"/>
                </a:cubicBezTo>
                <a:cubicBezTo>
                  <a:pt x="3512" y="484"/>
                  <a:pt x="3512" y="484"/>
                  <a:pt x="3512" y="484"/>
                </a:cubicBezTo>
                <a:cubicBezTo>
                  <a:pt x="3516" y="480"/>
                  <a:pt x="3516" y="480"/>
                  <a:pt x="3516" y="480"/>
                </a:cubicBezTo>
                <a:cubicBezTo>
                  <a:pt x="3520" y="476"/>
                  <a:pt x="3520" y="476"/>
                  <a:pt x="3520" y="476"/>
                </a:cubicBezTo>
                <a:cubicBezTo>
                  <a:pt x="3524" y="472"/>
                  <a:pt x="3524" y="472"/>
                  <a:pt x="3524" y="472"/>
                </a:cubicBezTo>
                <a:cubicBezTo>
                  <a:pt x="3528" y="468"/>
                  <a:pt x="3528" y="468"/>
                  <a:pt x="3528" y="468"/>
                </a:cubicBezTo>
                <a:cubicBezTo>
                  <a:pt x="3532" y="464"/>
                  <a:pt x="3532" y="464"/>
                  <a:pt x="3532" y="464"/>
                </a:cubicBezTo>
                <a:cubicBezTo>
                  <a:pt x="3536" y="460"/>
                  <a:pt x="3536" y="460"/>
                  <a:pt x="3536" y="460"/>
                </a:cubicBezTo>
                <a:cubicBezTo>
                  <a:pt x="3544" y="452"/>
                  <a:pt x="3544" y="452"/>
                  <a:pt x="3544" y="452"/>
                </a:cubicBezTo>
                <a:cubicBezTo>
                  <a:pt x="3548" y="448"/>
                  <a:pt x="3548" y="448"/>
                  <a:pt x="3548" y="448"/>
                </a:cubicBezTo>
                <a:cubicBezTo>
                  <a:pt x="3552" y="444"/>
                  <a:pt x="3552" y="444"/>
                  <a:pt x="3552" y="444"/>
                </a:cubicBezTo>
                <a:cubicBezTo>
                  <a:pt x="3556" y="440"/>
                  <a:pt x="3556" y="440"/>
                  <a:pt x="3556" y="440"/>
                </a:cubicBezTo>
                <a:cubicBezTo>
                  <a:pt x="3560" y="436"/>
                  <a:pt x="3560" y="436"/>
                  <a:pt x="3560" y="436"/>
                </a:cubicBezTo>
                <a:cubicBezTo>
                  <a:pt x="3564" y="432"/>
                  <a:pt x="3564" y="432"/>
                  <a:pt x="3564" y="432"/>
                </a:cubicBezTo>
                <a:cubicBezTo>
                  <a:pt x="3568" y="428"/>
                  <a:pt x="3568" y="428"/>
                  <a:pt x="3568" y="428"/>
                </a:cubicBezTo>
                <a:cubicBezTo>
                  <a:pt x="3572" y="424"/>
                  <a:pt x="3572" y="424"/>
                  <a:pt x="3572" y="424"/>
                </a:cubicBezTo>
                <a:cubicBezTo>
                  <a:pt x="3576" y="420"/>
                  <a:pt x="3576" y="420"/>
                  <a:pt x="3576" y="420"/>
                </a:cubicBezTo>
                <a:cubicBezTo>
                  <a:pt x="3580" y="416"/>
                  <a:pt x="3580" y="416"/>
                  <a:pt x="3580" y="416"/>
                </a:cubicBezTo>
                <a:cubicBezTo>
                  <a:pt x="3584" y="412"/>
                  <a:pt x="3584" y="412"/>
                  <a:pt x="3584" y="412"/>
                </a:cubicBezTo>
                <a:cubicBezTo>
                  <a:pt x="3588" y="408"/>
                  <a:pt x="3588" y="408"/>
                  <a:pt x="3588" y="408"/>
                </a:cubicBezTo>
                <a:cubicBezTo>
                  <a:pt x="3592" y="404"/>
                  <a:pt x="3592" y="404"/>
                  <a:pt x="3592" y="404"/>
                </a:cubicBezTo>
                <a:cubicBezTo>
                  <a:pt x="3596" y="400"/>
                  <a:pt x="3596" y="400"/>
                  <a:pt x="3596" y="400"/>
                </a:cubicBezTo>
                <a:cubicBezTo>
                  <a:pt x="3600" y="396"/>
                  <a:pt x="3600" y="396"/>
                  <a:pt x="3600" y="396"/>
                </a:cubicBezTo>
                <a:cubicBezTo>
                  <a:pt x="3604" y="392"/>
                  <a:pt x="3604" y="392"/>
                  <a:pt x="3604" y="392"/>
                </a:cubicBezTo>
                <a:cubicBezTo>
                  <a:pt x="3612" y="384"/>
                  <a:pt x="3612" y="384"/>
                  <a:pt x="3612" y="384"/>
                </a:cubicBezTo>
                <a:cubicBezTo>
                  <a:pt x="3616" y="380"/>
                  <a:pt x="3616" y="380"/>
                  <a:pt x="3616" y="380"/>
                </a:cubicBezTo>
                <a:cubicBezTo>
                  <a:pt x="3620" y="376"/>
                  <a:pt x="3620" y="376"/>
                  <a:pt x="3620" y="376"/>
                </a:cubicBezTo>
                <a:cubicBezTo>
                  <a:pt x="3624" y="372"/>
                  <a:pt x="3624" y="372"/>
                  <a:pt x="3624" y="372"/>
                </a:cubicBezTo>
                <a:cubicBezTo>
                  <a:pt x="3628" y="368"/>
                  <a:pt x="3628" y="368"/>
                  <a:pt x="3628" y="368"/>
                </a:cubicBezTo>
                <a:cubicBezTo>
                  <a:pt x="3632" y="364"/>
                  <a:pt x="3632" y="364"/>
                  <a:pt x="3632" y="364"/>
                </a:cubicBezTo>
                <a:cubicBezTo>
                  <a:pt x="3636" y="360"/>
                  <a:pt x="3636" y="360"/>
                  <a:pt x="3636" y="360"/>
                </a:cubicBezTo>
                <a:cubicBezTo>
                  <a:pt x="3640" y="356"/>
                  <a:pt x="3640" y="356"/>
                  <a:pt x="3640" y="356"/>
                </a:cubicBezTo>
                <a:cubicBezTo>
                  <a:pt x="3644" y="352"/>
                  <a:pt x="3644" y="352"/>
                  <a:pt x="3644" y="352"/>
                </a:cubicBezTo>
                <a:cubicBezTo>
                  <a:pt x="3648" y="348"/>
                  <a:pt x="3648" y="348"/>
                  <a:pt x="3648" y="348"/>
                </a:cubicBezTo>
                <a:cubicBezTo>
                  <a:pt x="3652" y="344"/>
                  <a:pt x="3652" y="344"/>
                  <a:pt x="3652" y="344"/>
                </a:cubicBezTo>
                <a:cubicBezTo>
                  <a:pt x="3656" y="340"/>
                  <a:pt x="3656" y="340"/>
                  <a:pt x="3656" y="340"/>
                </a:cubicBezTo>
                <a:cubicBezTo>
                  <a:pt x="3660" y="336"/>
                  <a:pt x="3660" y="336"/>
                  <a:pt x="3660" y="336"/>
                </a:cubicBezTo>
                <a:cubicBezTo>
                  <a:pt x="3664" y="332"/>
                  <a:pt x="3664" y="332"/>
                  <a:pt x="3664" y="332"/>
                </a:cubicBezTo>
                <a:cubicBezTo>
                  <a:pt x="3668" y="328"/>
                  <a:pt x="3668" y="328"/>
                  <a:pt x="3668" y="328"/>
                </a:cubicBezTo>
                <a:cubicBezTo>
                  <a:pt x="3672" y="324"/>
                  <a:pt x="3672" y="324"/>
                  <a:pt x="3672" y="324"/>
                </a:cubicBezTo>
                <a:cubicBezTo>
                  <a:pt x="3680" y="316"/>
                  <a:pt x="3680" y="316"/>
                  <a:pt x="3680" y="316"/>
                </a:cubicBezTo>
                <a:cubicBezTo>
                  <a:pt x="3684" y="312"/>
                  <a:pt x="3684" y="312"/>
                  <a:pt x="3684" y="312"/>
                </a:cubicBezTo>
                <a:cubicBezTo>
                  <a:pt x="3688" y="308"/>
                  <a:pt x="3688" y="308"/>
                  <a:pt x="3688" y="308"/>
                </a:cubicBezTo>
                <a:cubicBezTo>
                  <a:pt x="3692" y="304"/>
                  <a:pt x="3692" y="304"/>
                  <a:pt x="3692" y="304"/>
                </a:cubicBezTo>
                <a:cubicBezTo>
                  <a:pt x="3696" y="300"/>
                  <a:pt x="3696" y="300"/>
                  <a:pt x="3696" y="300"/>
                </a:cubicBezTo>
                <a:cubicBezTo>
                  <a:pt x="3700" y="296"/>
                  <a:pt x="3700" y="296"/>
                  <a:pt x="3700" y="296"/>
                </a:cubicBezTo>
                <a:cubicBezTo>
                  <a:pt x="3704" y="292"/>
                  <a:pt x="3704" y="292"/>
                  <a:pt x="3704" y="292"/>
                </a:cubicBezTo>
                <a:cubicBezTo>
                  <a:pt x="3708" y="288"/>
                  <a:pt x="3708" y="288"/>
                  <a:pt x="3708" y="288"/>
                </a:cubicBezTo>
                <a:cubicBezTo>
                  <a:pt x="3712" y="284"/>
                  <a:pt x="3712" y="284"/>
                  <a:pt x="3712" y="284"/>
                </a:cubicBezTo>
                <a:cubicBezTo>
                  <a:pt x="3716" y="280"/>
                  <a:pt x="3716" y="280"/>
                  <a:pt x="3716" y="280"/>
                </a:cubicBezTo>
                <a:cubicBezTo>
                  <a:pt x="3720" y="276"/>
                  <a:pt x="3720" y="276"/>
                  <a:pt x="3720" y="276"/>
                </a:cubicBezTo>
                <a:cubicBezTo>
                  <a:pt x="3724" y="272"/>
                  <a:pt x="3724" y="272"/>
                  <a:pt x="3724" y="272"/>
                </a:cubicBezTo>
                <a:cubicBezTo>
                  <a:pt x="3728" y="268"/>
                  <a:pt x="3728" y="268"/>
                  <a:pt x="3728" y="268"/>
                </a:cubicBezTo>
                <a:cubicBezTo>
                  <a:pt x="3732" y="264"/>
                  <a:pt x="3732" y="264"/>
                  <a:pt x="3732" y="264"/>
                </a:cubicBezTo>
                <a:cubicBezTo>
                  <a:pt x="3736" y="260"/>
                  <a:pt x="3736" y="260"/>
                  <a:pt x="3736" y="260"/>
                </a:cubicBezTo>
                <a:cubicBezTo>
                  <a:pt x="3740" y="256"/>
                  <a:pt x="3740" y="256"/>
                  <a:pt x="3740" y="256"/>
                </a:cubicBezTo>
                <a:cubicBezTo>
                  <a:pt x="3748" y="248"/>
                  <a:pt x="3748" y="248"/>
                  <a:pt x="3748" y="248"/>
                </a:cubicBezTo>
                <a:cubicBezTo>
                  <a:pt x="3752" y="244"/>
                  <a:pt x="3752" y="244"/>
                  <a:pt x="3752" y="244"/>
                </a:cubicBezTo>
                <a:cubicBezTo>
                  <a:pt x="3756" y="240"/>
                  <a:pt x="3756" y="240"/>
                  <a:pt x="3756" y="240"/>
                </a:cubicBezTo>
                <a:cubicBezTo>
                  <a:pt x="3760" y="236"/>
                  <a:pt x="3760" y="236"/>
                  <a:pt x="3760" y="236"/>
                </a:cubicBezTo>
                <a:cubicBezTo>
                  <a:pt x="3764" y="232"/>
                  <a:pt x="3764" y="232"/>
                  <a:pt x="3764" y="232"/>
                </a:cubicBezTo>
                <a:cubicBezTo>
                  <a:pt x="3768" y="228"/>
                  <a:pt x="3768" y="228"/>
                  <a:pt x="3768" y="228"/>
                </a:cubicBezTo>
                <a:cubicBezTo>
                  <a:pt x="3772" y="224"/>
                  <a:pt x="3772" y="224"/>
                  <a:pt x="3772" y="224"/>
                </a:cubicBezTo>
                <a:cubicBezTo>
                  <a:pt x="3776" y="220"/>
                  <a:pt x="3776" y="220"/>
                  <a:pt x="3776" y="220"/>
                </a:cubicBezTo>
                <a:cubicBezTo>
                  <a:pt x="3780" y="216"/>
                  <a:pt x="3780" y="216"/>
                  <a:pt x="3780" y="216"/>
                </a:cubicBezTo>
                <a:cubicBezTo>
                  <a:pt x="3784" y="212"/>
                  <a:pt x="3784" y="212"/>
                  <a:pt x="3784" y="212"/>
                </a:cubicBezTo>
                <a:cubicBezTo>
                  <a:pt x="3788" y="208"/>
                  <a:pt x="3788" y="208"/>
                  <a:pt x="3788" y="208"/>
                </a:cubicBezTo>
                <a:cubicBezTo>
                  <a:pt x="3792" y="204"/>
                  <a:pt x="3792" y="204"/>
                  <a:pt x="3792" y="204"/>
                </a:cubicBezTo>
                <a:cubicBezTo>
                  <a:pt x="3796" y="200"/>
                  <a:pt x="3796" y="200"/>
                  <a:pt x="3796" y="200"/>
                </a:cubicBezTo>
                <a:cubicBezTo>
                  <a:pt x="3800" y="196"/>
                  <a:pt x="3800" y="196"/>
                  <a:pt x="3800" y="196"/>
                </a:cubicBezTo>
                <a:cubicBezTo>
                  <a:pt x="3804" y="192"/>
                  <a:pt x="3804" y="192"/>
                  <a:pt x="3804" y="192"/>
                </a:cubicBezTo>
                <a:cubicBezTo>
                  <a:pt x="3808" y="188"/>
                  <a:pt x="3808" y="188"/>
                  <a:pt x="3808" y="188"/>
                </a:cubicBezTo>
                <a:cubicBezTo>
                  <a:pt x="3816" y="180"/>
                  <a:pt x="3816" y="180"/>
                  <a:pt x="3816" y="180"/>
                </a:cubicBezTo>
                <a:cubicBezTo>
                  <a:pt x="3820" y="176"/>
                  <a:pt x="3820" y="176"/>
                  <a:pt x="3820" y="176"/>
                </a:cubicBezTo>
                <a:cubicBezTo>
                  <a:pt x="3824" y="172"/>
                  <a:pt x="3824" y="172"/>
                  <a:pt x="3824" y="172"/>
                </a:cubicBezTo>
                <a:cubicBezTo>
                  <a:pt x="3828" y="168"/>
                  <a:pt x="3828" y="168"/>
                  <a:pt x="3828" y="168"/>
                </a:cubicBezTo>
                <a:cubicBezTo>
                  <a:pt x="3832" y="164"/>
                  <a:pt x="3832" y="164"/>
                  <a:pt x="3832" y="164"/>
                </a:cubicBezTo>
                <a:cubicBezTo>
                  <a:pt x="3836" y="160"/>
                  <a:pt x="3836" y="160"/>
                  <a:pt x="3836" y="160"/>
                </a:cubicBezTo>
                <a:cubicBezTo>
                  <a:pt x="3840" y="156"/>
                  <a:pt x="3840" y="156"/>
                  <a:pt x="3840" y="156"/>
                </a:cubicBezTo>
                <a:cubicBezTo>
                  <a:pt x="3844" y="152"/>
                  <a:pt x="3844" y="152"/>
                  <a:pt x="3844" y="152"/>
                </a:cubicBezTo>
                <a:cubicBezTo>
                  <a:pt x="3848" y="148"/>
                  <a:pt x="3848" y="148"/>
                  <a:pt x="3848" y="148"/>
                </a:cubicBezTo>
                <a:cubicBezTo>
                  <a:pt x="3852" y="144"/>
                  <a:pt x="3852" y="144"/>
                  <a:pt x="3852" y="144"/>
                </a:cubicBezTo>
                <a:cubicBezTo>
                  <a:pt x="3856" y="140"/>
                  <a:pt x="3856" y="140"/>
                  <a:pt x="3856" y="140"/>
                </a:cubicBezTo>
                <a:cubicBezTo>
                  <a:pt x="3860" y="136"/>
                  <a:pt x="3860" y="136"/>
                  <a:pt x="3860" y="136"/>
                </a:cubicBezTo>
                <a:cubicBezTo>
                  <a:pt x="3864" y="132"/>
                  <a:pt x="3864" y="132"/>
                  <a:pt x="3864" y="132"/>
                </a:cubicBezTo>
                <a:cubicBezTo>
                  <a:pt x="3868" y="128"/>
                  <a:pt x="3868" y="128"/>
                  <a:pt x="3868" y="128"/>
                </a:cubicBezTo>
                <a:cubicBezTo>
                  <a:pt x="3872" y="124"/>
                  <a:pt x="3872" y="124"/>
                  <a:pt x="3872" y="124"/>
                </a:cubicBezTo>
                <a:cubicBezTo>
                  <a:pt x="3876" y="120"/>
                  <a:pt x="3876" y="120"/>
                  <a:pt x="3876" y="120"/>
                </a:cubicBezTo>
                <a:cubicBezTo>
                  <a:pt x="3884" y="112"/>
                  <a:pt x="3884" y="112"/>
                  <a:pt x="3884" y="112"/>
                </a:cubicBezTo>
                <a:cubicBezTo>
                  <a:pt x="3888" y="108"/>
                  <a:pt x="3888" y="108"/>
                  <a:pt x="3888" y="108"/>
                </a:cubicBezTo>
                <a:cubicBezTo>
                  <a:pt x="3892" y="104"/>
                  <a:pt x="3892" y="104"/>
                  <a:pt x="3892" y="104"/>
                </a:cubicBezTo>
                <a:cubicBezTo>
                  <a:pt x="3896" y="100"/>
                  <a:pt x="3896" y="100"/>
                  <a:pt x="3896" y="100"/>
                </a:cubicBezTo>
                <a:cubicBezTo>
                  <a:pt x="3900" y="96"/>
                  <a:pt x="3900" y="96"/>
                  <a:pt x="3900" y="96"/>
                </a:cubicBezTo>
                <a:cubicBezTo>
                  <a:pt x="3904" y="92"/>
                  <a:pt x="3904" y="92"/>
                  <a:pt x="3904" y="92"/>
                </a:cubicBezTo>
                <a:cubicBezTo>
                  <a:pt x="3908" y="88"/>
                  <a:pt x="3908" y="88"/>
                  <a:pt x="3908" y="88"/>
                </a:cubicBezTo>
                <a:cubicBezTo>
                  <a:pt x="3912" y="84"/>
                  <a:pt x="3912" y="84"/>
                  <a:pt x="3912" y="84"/>
                </a:cubicBezTo>
                <a:cubicBezTo>
                  <a:pt x="3916" y="80"/>
                  <a:pt x="3916" y="80"/>
                  <a:pt x="3916" y="80"/>
                </a:cubicBezTo>
                <a:cubicBezTo>
                  <a:pt x="3920" y="76"/>
                  <a:pt x="3920" y="76"/>
                  <a:pt x="3920" y="76"/>
                </a:cubicBezTo>
                <a:cubicBezTo>
                  <a:pt x="3924" y="72"/>
                  <a:pt x="3924" y="72"/>
                  <a:pt x="3924" y="72"/>
                </a:cubicBezTo>
                <a:cubicBezTo>
                  <a:pt x="3928" y="68"/>
                  <a:pt x="3928" y="68"/>
                  <a:pt x="3928" y="68"/>
                </a:cubicBezTo>
                <a:cubicBezTo>
                  <a:pt x="3932" y="64"/>
                  <a:pt x="3932" y="64"/>
                  <a:pt x="3932" y="64"/>
                </a:cubicBezTo>
                <a:cubicBezTo>
                  <a:pt x="3936" y="60"/>
                  <a:pt x="3936" y="60"/>
                  <a:pt x="3936" y="60"/>
                </a:cubicBezTo>
                <a:cubicBezTo>
                  <a:pt x="3940" y="56"/>
                  <a:pt x="3940" y="56"/>
                  <a:pt x="3940" y="56"/>
                </a:cubicBezTo>
                <a:cubicBezTo>
                  <a:pt x="3944" y="52"/>
                  <a:pt x="3944" y="52"/>
                  <a:pt x="3944" y="52"/>
                </a:cubicBezTo>
                <a:cubicBezTo>
                  <a:pt x="3952" y="44"/>
                  <a:pt x="3952" y="44"/>
                  <a:pt x="3952" y="44"/>
                </a:cubicBezTo>
                <a:cubicBezTo>
                  <a:pt x="3956" y="40"/>
                  <a:pt x="3956" y="40"/>
                  <a:pt x="3956" y="40"/>
                </a:cubicBezTo>
                <a:cubicBezTo>
                  <a:pt x="3960" y="36"/>
                  <a:pt x="3960" y="36"/>
                  <a:pt x="3960" y="36"/>
                </a:cubicBezTo>
                <a:cubicBezTo>
                  <a:pt x="3964" y="32"/>
                  <a:pt x="3964" y="32"/>
                  <a:pt x="3964" y="32"/>
                </a:cubicBezTo>
                <a:cubicBezTo>
                  <a:pt x="3968" y="28"/>
                  <a:pt x="3968" y="28"/>
                  <a:pt x="3968" y="28"/>
                </a:cubicBezTo>
                <a:cubicBezTo>
                  <a:pt x="3972" y="24"/>
                  <a:pt x="3972" y="24"/>
                  <a:pt x="3972" y="24"/>
                </a:cubicBezTo>
                <a:cubicBezTo>
                  <a:pt x="3976" y="20"/>
                  <a:pt x="3976" y="20"/>
                  <a:pt x="3976" y="20"/>
                </a:cubicBezTo>
                <a:cubicBezTo>
                  <a:pt x="3980" y="16"/>
                  <a:pt x="3980" y="16"/>
                  <a:pt x="3980" y="16"/>
                </a:cubicBezTo>
                <a:cubicBezTo>
                  <a:pt x="3984" y="12"/>
                  <a:pt x="3984" y="12"/>
                  <a:pt x="3984" y="12"/>
                </a:cubicBezTo>
                <a:cubicBezTo>
                  <a:pt x="3992" y="4"/>
                  <a:pt x="3992" y="4"/>
                  <a:pt x="3992" y="4"/>
                </a:cubicBezTo>
                <a:cubicBezTo>
                  <a:pt x="3996" y="0"/>
                  <a:pt x="3996" y="0"/>
                  <a:pt x="3996" y="0"/>
                </a:cubicBezTo>
              </a:path>
            </a:pathLst>
          </a:custGeom>
          <a:noFill/>
          <a:ln w="28440">
            <a:solidFill>
              <a:srgbClr val="0062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Freeform 96"/>
          <p:cNvSpPr/>
          <p:nvPr/>
        </p:nvSpPr>
        <p:spPr>
          <a:xfrm>
            <a:off x="2556000" y="2997360"/>
            <a:ext cx="1136520" cy="1268280"/>
          </a:xfrm>
          <a:custGeom>
            <a:avLst/>
            <a:gdLst>
              <a:gd name="textAreaLeft" fmla="*/ 0 w 1136520"/>
              <a:gd name="textAreaRight" fmla="*/ 1136880 w 1136520"/>
              <a:gd name="textAreaTop" fmla="*/ 0 h 1268280"/>
              <a:gd name="textAreaBottom" fmla="*/ 1268640 h 1268280"/>
            </a:gdLst>
            <a:ahLst/>
            <a:rect l="textAreaLeft" t="textAreaTop" r="textAreaRight" b="textAreaBottom"/>
            <a:pathLst>
              <a:path w="1788" h="1998">
                <a:moveTo>
                  <a:pt x="0" y="1998"/>
                </a:moveTo>
                <a:cubicBezTo>
                  <a:pt x="2" y="1989"/>
                  <a:pt x="2" y="1989"/>
                  <a:pt x="2" y="1989"/>
                </a:cubicBezTo>
                <a:cubicBezTo>
                  <a:pt x="4" y="1980"/>
                  <a:pt x="4" y="1980"/>
                  <a:pt x="4" y="1980"/>
                </a:cubicBezTo>
                <a:cubicBezTo>
                  <a:pt x="6" y="1971"/>
                  <a:pt x="6" y="1971"/>
                  <a:pt x="6" y="1971"/>
                </a:cubicBezTo>
                <a:cubicBezTo>
                  <a:pt x="8" y="1962"/>
                  <a:pt x="8" y="1962"/>
                  <a:pt x="8" y="1962"/>
                </a:cubicBezTo>
                <a:cubicBezTo>
                  <a:pt x="10" y="1954"/>
                  <a:pt x="10" y="1954"/>
                  <a:pt x="10" y="1954"/>
                </a:cubicBezTo>
                <a:cubicBezTo>
                  <a:pt x="12" y="1945"/>
                  <a:pt x="12" y="1945"/>
                  <a:pt x="12" y="1945"/>
                </a:cubicBezTo>
                <a:cubicBezTo>
                  <a:pt x="14" y="1936"/>
                  <a:pt x="14" y="1936"/>
                  <a:pt x="14" y="1936"/>
                </a:cubicBezTo>
                <a:cubicBezTo>
                  <a:pt x="16" y="1927"/>
                  <a:pt x="16" y="1927"/>
                  <a:pt x="16" y="1927"/>
                </a:cubicBezTo>
                <a:cubicBezTo>
                  <a:pt x="18" y="1918"/>
                  <a:pt x="18" y="1918"/>
                  <a:pt x="18" y="1918"/>
                </a:cubicBezTo>
                <a:cubicBezTo>
                  <a:pt x="20" y="1910"/>
                  <a:pt x="20" y="1910"/>
                  <a:pt x="20" y="1910"/>
                </a:cubicBezTo>
                <a:cubicBezTo>
                  <a:pt x="22" y="1901"/>
                  <a:pt x="22" y="1901"/>
                  <a:pt x="22" y="1901"/>
                </a:cubicBezTo>
                <a:cubicBezTo>
                  <a:pt x="24" y="1892"/>
                  <a:pt x="24" y="1892"/>
                  <a:pt x="24" y="1892"/>
                </a:cubicBezTo>
                <a:cubicBezTo>
                  <a:pt x="26" y="1884"/>
                  <a:pt x="26" y="1884"/>
                  <a:pt x="26" y="1884"/>
                </a:cubicBezTo>
                <a:cubicBezTo>
                  <a:pt x="28" y="1875"/>
                  <a:pt x="28" y="1875"/>
                  <a:pt x="28" y="1875"/>
                </a:cubicBezTo>
                <a:cubicBezTo>
                  <a:pt x="30" y="1866"/>
                  <a:pt x="30" y="1866"/>
                  <a:pt x="30" y="1866"/>
                </a:cubicBezTo>
                <a:cubicBezTo>
                  <a:pt x="32" y="1858"/>
                  <a:pt x="32" y="1858"/>
                  <a:pt x="32" y="1858"/>
                </a:cubicBezTo>
                <a:cubicBezTo>
                  <a:pt x="34" y="1849"/>
                  <a:pt x="34" y="1849"/>
                  <a:pt x="34" y="1849"/>
                </a:cubicBezTo>
                <a:cubicBezTo>
                  <a:pt x="36" y="1840"/>
                  <a:pt x="36" y="1840"/>
                  <a:pt x="36" y="1840"/>
                </a:cubicBezTo>
                <a:cubicBezTo>
                  <a:pt x="38" y="1832"/>
                  <a:pt x="38" y="1832"/>
                  <a:pt x="38" y="1832"/>
                </a:cubicBezTo>
                <a:cubicBezTo>
                  <a:pt x="40" y="1823"/>
                  <a:pt x="40" y="1823"/>
                  <a:pt x="40" y="1823"/>
                </a:cubicBezTo>
                <a:cubicBezTo>
                  <a:pt x="42" y="1815"/>
                  <a:pt x="42" y="1815"/>
                  <a:pt x="42" y="1815"/>
                </a:cubicBezTo>
                <a:cubicBezTo>
                  <a:pt x="44" y="1806"/>
                  <a:pt x="44" y="1806"/>
                  <a:pt x="44" y="1806"/>
                </a:cubicBezTo>
                <a:cubicBezTo>
                  <a:pt x="46" y="1798"/>
                  <a:pt x="46" y="1798"/>
                  <a:pt x="46" y="1798"/>
                </a:cubicBezTo>
                <a:cubicBezTo>
                  <a:pt x="48" y="1789"/>
                  <a:pt x="48" y="1789"/>
                  <a:pt x="48" y="1789"/>
                </a:cubicBezTo>
                <a:cubicBezTo>
                  <a:pt x="50" y="1781"/>
                  <a:pt x="50" y="1781"/>
                  <a:pt x="50" y="1781"/>
                </a:cubicBezTo>
                <a:cubicBezTo>
                  <a:pt x="52" y="1772"/>
                  <a:pt x="52" y="1772"/>
                  <a:pt x="52" y="1772"/>
                </a:cubicBezTo>
                <a:cubicBezTo>
                  <a:pt x="54" y="1764"/>
                  <a:pt x="54" y="1764"/>
                  <a:pt x="54" y="1764"/>
                </a:cubicBezTo>
                <a:cubicBezTo>
                  <a:pt x="56" y="1756"/>
                  <a:pt x="56" y="1756"/>
                  <a:pt x="56" y="1756"/>
                </a:cubicBezTo>
                <a:cubicBezTo>
                  <a:pt x="58" y="1747"/>
                  <a:pt x="58" y="1747"/>
                  <a:pt x="58" y="1747"/>
                </a:cubicBezTo>
                <a:cubicBezTo>
                  <a:pt x="60" y="1739"/>
                  <a:pt x="60" y="1739"/>
                  <a:pt x="60" y="1739"/>
                </a:cubicBezTo>
                <a:cubicBezTo>
                  <a:pt x="62" y="1731"/>
                  <a:pt x="62" y="1731"/>
                  <a:pt x="62" y="1731"/>
                </a:cubicBezTo>
                <a:cubicBezTo>
                  <a:pt x="64" y="1722"/>
                  <a:pt x="64" y="1722"/>
                  <a:pt x="64" y="1722"/>
                </a:cubicBezTo>
                <a:cubicBezTo>
                  <a:pt x="66" y="1714"/>
                  <a:pt x="66" y="1714"/>
                  <a:pt x="66" y="1714"/>
                </a:cubicBezTo>
                <a:cubicBezTo>
                  <a:pt x="68" y="1706"/>
                  <a:pt x="68" y="1706"/>
                  <a:pt x="68" y="1706"/>
                </a:cubicBezTo>
                <a:cubicBezTo>
                  <a:pt x="70" y="1697"/>
                  <a:pt x="70" y="1697"/>
                  <a:pt x="70" y="1697"/>
                </a:cubicBezTo>
                <a:cubicBezTo>
                  <a:pt x="72" y="1689"/>
                  <a:pt x="72" y="1689"/>
                  <a:pt x="72" y="1689"/>
                </a:cubicBezTo>
                <a:cubicBezTo>
                  <a:pt x="74" y="1681"/>
                  <a:pt x="74" y="1681"/>
                  <a:pt x="74" y="1681"/>
                </a:cubicBezTo>
                <a:cubicBezTo>
                  <a:pt x="76" y="1673"/>
                  <a:pt x="76" y="1673"/>
                  <a:pt x="76" y="1673"/>
                </a:cubicBezTo>
                <a:cubicBezTo>
                  <a:pt x="78" y="1665"/>
                  <a:pt x="78" y="1665"/>
                  <a:pt x="78" y="1665"/>
                </a:cubicBezTo>
                <a:cubicBezTo>
                  <a:pt x="80" y="1656"/>
                  <a:pt x="80" y="1656"/>
                  <a:pt x="80" y="1656"/>
                </a:cubicBezTo>
                <a:cubicBezTo>
                  <a:pt x="82" y="1648"/>
                  <a:pt x="82" y="1648"/>
                  <a:pt x="82" y="1648"/>
                </a:cubicBezTo>
                <a:cubicBezTo>
                  <a:pt x="84" y="1640"/>
                  <a:pt x="84" y="1640"/>
                  <a:pt x="84" y="1640"/>
                </a:cubicBezTo>
                <a:cubicBezTo>
                  <a:pt x="86" y="1632"/>
                  <a:pt x="86" y="1632"/>
                  <a:pt x="86" y="1632"/>
                </a:cubicBezTo>
                <a:cubicBezTo>
                  <a:pt x="88" y="1624"/>
                  <a:pt x="88" y="1624"/>
                  <a:pt x="88" y="1624"/>
                </a:cubicBezTo>
                <a:cubicBezTo>
                  <a:pt x="90" y="1616"/>
                  <a:pt x="90" y="1616"/>
                  <a:pt x="90" y="1616"/>
                </a:cubicBezTo>
                <a:cubicBezTo>
                  <a:pt x="92" y="1608"/>
                  <a:pt x="92" y="1608"/>
                  <a:pt x="92" y="1608"/>
                </a:cubicBezTo>
                <a:cubicBezTo>
                  <a:pt x="94" y="1600"/>
                  <a:pt x="94" y="1600"/>
                  <a:pt x="94" y="1600"/>
                </a:cubicBezTo>
                <a:cubicBezTo>
                  <a:pt x="96" y="1592"/>
                  <a:pt x="96" y="1592"/>
                  <a:pt x="96" y="1592"/>
                </a:cubicBezTo>
                <a:cubicBezTo>
                  <a:pt x="98" y="1584"/>
                  <a:pt x="98" y="1584"/>
                  <a:pt x="98" y="1584"/>
                </a:cubicBezTo>
                <a:cubicBezTo>
                  <a:pt x="100" y="1576"/>
                  <a:pt x="100" y="1576"/>
                  <a:pt x="100" y="1576"/>
                </a:cubicBezTo>
                <a:cubicBezTo>
                  <a:pt x="102" y="1568"/>
                  <a:pt x="102" y="1568"/>
                  <a:pt x="102" y="1568"/>
                </a:cubicBezTo>
                <a:cubicBezTo>
                  <a:pt x="104" y="1560"/>
                  <a:pt x="104" y="1560"/>
                  <a:pt x="104" y="1560"/>
                </a:cubicBezTo>
                <a:cubicBezTo>
                  <a:pt x="106" y="1552"/>
                  <a:pt x="106" y="1552"/>
                  <a:pt x="106" y="1552"/>
                </a:cubicBezTo>
                <a:cubicBezTo>
                  <a:pt x="108" y="1544"/>
                  <a:pt x="108" y="1544"/>
                  <a:pt x="108" y="1544"/>
                </a:cubicBezTo>
                <a:cubicBezTo>
                  <a:pt x="110" y="1537"/>
                  <a:pt x="110" y="1537"/>
                  <a:pt x="110" y="1537"/>
                </a:cubicBezTo>
                <a:cubicBezTo>
                  <a:pt x="112" y="1529"/>
                  <a:pt x="112" y="1529"/>
                  <a:pt x="112" y="1529"/>
                </a:cubicBezTo>
                <a:cubicBezTo>
                  <a:pt x="114" y="1521"/>
                  <a:pt x="114" y="1521"/>
                  <a:pt x="114" y="1521"/>
                </a:cubicBezTo>
                <a:cubicBezTo>
                  <a:pt x="116" y="1513"/>
                  <a:pt x="116" y="1513"/>
                  <a:pt x="116" y="1513"/>
                </a:cubicBezTo>
                <a:cubicBezTo>
                  <a:pt x="118" y="1505"/>
                  <a:pt x="118" y="1505"/>
                  <a:pt x="118" y="1505"/>
                </a:cubicBezTo>
                <a:cubicBezTo>
                  <a:pt x="120" y="1498"/>
                  <a:pt x="120" y="1498"/>
                  <a:pt x="120" y="1498"/>
                </a:cubicBezTo>
                <a:cubicBezTo>
                  <a:pt x="122" y="1490"/>
                  <a:pt x="122" y="1490"/>
                  <a:pt x="122" y="1490"/>
                </a:cubicBezTo>
                <a:cubicBezTo>
                  <a:pt x="124" y="1482"/>
                  <a:pt x="124" y="1482"/>
                  <a:pt x="124" y="1482"/>
                </a:cubicBezTo>
                <a:cubicBezTo>
                  <a:pt x="126" y="1475"/>
                  <a:pt x="126" y="1475"/>
                  <a:pt x="126" y="1475"/>
                </a:cubicBezTo>
                <a:cubicBezTo>
                  <a:pt x="128" y="1467"/>
                  <a:pt x="128" y="1467"/>
                  <a:pt x="128" y="1467"/>
                </a:cubicBezTo>
                <a:cubicBezTo>
                  <a:pt x="130" y="1459"/>
                  <a:pt x="130" y="1459"/>
                  <a:pt x="130" y="1459"/>
                </a:cubicBezTo>
                <a:cubicBezTo>
                  <a:pt x="132" y="1452"/>
                  <a:pt x="132" y="1452"/>
                  <a:pt x="132" y="1452"/>
                </a:cubicBezTo>
                <a:cubicBezTo>
                  <a:pt x="134" y="1444"/>
                  <a:pt x="134" y="1444"/>
                  <a:pt x="134" y="1444"/>
                </a:cubicBezTo>
                <a:cubicBezTo>
                  <a:pt x="136" y="1436"/>
                  <a:pt x="136" y="1436"/>
                  <a:pt x="136" y="1436"/>
                </a:cubicBezTo>
                <a:cubicBezTo>
                  <a:pt x="138" y="1429"/>
                  <a:pt x="138" y="1429"/>
                  <a:pt x="138" y="1429"/>
                </a:cubicBezTo>
                <a:cubicBezTo>
                  <a:pt x="140" y="1421"/>
                  <a:pt x="140" y="1421"/>
                  <a:pt x="140" y="1421"/>
                </a:cubicBezTo>
                <a:cubicBezTo>
                  <a:pt x="142" y="1414"/>
                  <a:pt x="142" y="1414"/>
                  <a:pt x="142" y="1414"/>
                </a:cubicBezTo>
                <a:cubicBezTo>
                  <a:pt x="144" y="1406"/>
                  <a:pt x="144" y="1406"/>
                  <a:pt x="144" y="1406"/>
                </a:cubicBezTo>
                <a:cubicBezTo>
                  <a:pt x="146" y="1399"/>
                  <a:pt x="146" y="1399"/>
                  <a:pt x="146" y="1399"/>
                </a:cubicBezTo>
                <a:cubicBezTo>
                  <a:pt x="148" y="1391"/>
                  <a:pt x="148" y="1391"/>
                  <a:pt x="148" y="1391"/>
                </a:cubicBezTo>
                <a:cubicBezTo>
                  <a:pt x="150" y="1384"/>
                  <a:pt x="150" y="1384"/>
                  <a:pt x="150" y="1384"/>
                </a:cubicBezTo>
                <a:cubicBezTo>
                  <a:pt x="152" y="1376"/>
                  <a:pt x="152" y="1376"/>
                  <a:pt x="152" y="1376"/>
                </a:cubicBezTo>
                <a:cubicBezTo>
                  <a:pt x="154" y="1369"/>
                  <a:pt x="154" y="1369"/>
                  <a:pt x="154" y="1369"/>
                </a:cubicBezTo>
                <a:cubicBezTo>
                  <a:pt x="156" y="1362"/>
                  <a:pt x="156" y="1362"/>
                  <a:pt x="156" y="1362"/>
                </a:cubicBezTo>
                <a:cubicBezTo>
                  <a:pt x="158" y="1354"/>
                  <a:pt x="158" y="1354"/>
                  <a:pt x="158" y="1354"/>
                </a:cubicBezTo>
                <a:cubicBezTo>
                  <a:pt x="160" y="1347"/>
                  <a:pt x="160" y="1347"/>
                  <a:pt x="160" y="1347"/>
                </a:cubicBezTo>
                <a:cubicBezTo>
                  <a:pt x="162" y="1340"/>
                  <a:pt x="162" y="1340"/>
                  <a:pt x="162" y="1340"/>
                </a:cubicBezTo>
                <a:cubicBezTo>
                  <a:pt x="164" y="1332"/>
                  <a:pt x="164" y="1332"/>
                  <a:pt x="164" y="1332"/>
                </a:cubicBezTo>
                <a:cubicBezTo>
                  <a:pt x="166" y="1325"/>
                  <a:pt x="166" y="1325"/>
                  <a:pt x="166" y="1325"/>
                </a:cubicBezTo>
                <a:cubicBezTo>
                  <a:pt x="168" y="1318"/>
                  <a:pt x="168" y="1318"/>
                  <a:pt x="168" y="1318"/>
                </a:cubicBezTo>
                <a:cubicBezTo>
                  <a:pt x="170" y="1310"/>
                  <a:pt x="170" y="1310"/>
                  <a:pt x="170" y="1310"/>
                </a:cubicBezTo>
                <a:cubicBezTo>
                  <a:pt x="172" y="1303"/>
                  <a:pt x="172" y="1303"/>
                  <a:pt x="172" y="1303"/>
                </a:cubicBezTo>
                <a:cubicBezTo>
                  <a:pt x="174" y="1296"/>
                  <a:pt x="174" y="1296"/>
                  <a:pt x="174" y="1296"/>
                </a:cubicBezTo>
                <a:cubicBezTo>
                  <a:pt x="176" y="1289"/>
                  <a:pt x="176" y="1289"/>
                  <a:pt x="176" y="1289"/>
                </a:cubicBezTo>
                <a:cubicBezTo>
                  <a:pt x="178" y="1282"/>
                  <a:pt x="178" y="1282"/>
                  <a:pt x="178" y="1282"/>
                </a:cubicBezTo>
                <a:cubicBezTo>
                  <a:pt x="180" y="1274"/>
                  <a:pt x="180" y="1274"/>
                  <a:pt x="180" y="1274"/>
                </a:cubicBezTo>
                <a:cubicBezTo>
                  <a:pt x="182" y="1267"/>
                  <a:pt x="182" y="1267"/>
                  <a:pt x="182" y="1267"/>
                </a:cubicBezTo>
                <a:cubicBezTo>
                  <a:pt x="184" y="1260"/>
                  <a:pt x="184" y="1260"/>
                  <a:pt x="184" y="1260"/>
                </a:cubicBezTo>
                <a:cubicBezTo>
                  <a:pt x="186" y="1253"/>
                  <a:pt x="186" y="1253"/>
                  <a:pt x="186" y="1253"/>
                </a:cubicBezTo>
                <a:cubicBezTo>
                  <a:pt x="188" y="1246"/>
                  <a:pt x="188" y="1246"/>
                  <a:pt x="188" y="1246"/>
                </a:cubicBezTo>
                <a:cubicBezTo>
                  <a:pt x="190" y="1239"/>
                  <a:pt x="190" y="1239"/>
                  <a:pt x="190" y="1239"/>
                </a:cubicBezTo>
                <a:cubicBezTo>
                  <a:pt x="192" y="1232"/>
                  <a:pt x="192" y="1232"/>
                  <a:pt x="192" y="1232"/>
                </a:cubicBezTo>
                <a:cubicBezTo>
                  <a:pt x="194" y="1225"/>
                  <a:pt x="194" y="1225"/>
                  <a:pt x="194" y="1225"/>
                </a:cubicBezTo>
                <a:cubicBezTo>
                  <a:pt x="196" y="1218"/>
                  <a:pt x="196" y="1218"/>
                  <a:pt x="196" y="1218"/>
                </a:cubicBezTo>
                <a:cubicBezTo>
                  <a:pt x="198" y="1211"/>
                  <a:pt x="198" y="1211"/>
                  <a:pt x="198" y="1211"/>
                </a:cubicBezTo>
                <a:cubicBezTo>
                  <a:pt x="200" y="1204"/>
                  <a:pt x="200" y="1204"/>
                  <a:pt x="200" y="1204"/>
                </a:cubicBezTo>
                <a:cubicBezTo>
                  <a:pt x="202" y="1197"/>
                  <a:pt x="202" y="1197"/>
                  <a:pt x="202" y="1197"/>
                </a:cubicBezTo>
                <a:cubicBezTo>
                  <a:pt x="204" y="1190"/>
                  <a:pt x="204" y="1190"/>
                  <a:pt x="204" y="1190"/>
                </a:cubicBezTo>
                <a:cubicBezTo>
                  <a:pt x="206" y="1183"/>
                  <a:pt x="206" y="1183"/>
                  <a:pt x="206" y="1183"/>
                </a:cubicBezTo>
                <a:cubicBezTo>
                  <a:pt x="208" y="1176"/>
                  <a:pt x="208" y="1176"/>
                  <a:pt x="208" y="1176"/>
                </a:cubicBezTo>
                <a:cubicBezTo>
                  <a:pt x="210" y="1170"/>
                  <a:pt x="210" y="1170"/>
                  <a:pt x="210" y="1170"/>
                </a:cubicBezTo>
                <a:cubicBezTo>
                  <a:pt x="212" y="1163"/>
                  <a:pt x="212" y="1163"/>
                  <a:pt x="212" y="1163"/>
                </a:cubicBezTo>
                <a:cubicBezTo>
                  <a:pt x="214" y="1156"/>
                  <a:pt x="214" y="1156"/>
                  <a:pt x="214" y="1156"/>
                </a:cubicBezTo>
                <a:cubicBezTo>
                  <a:pt x="216" y="1149"/>
                  <a:pt x="216" y="1149"/>
                  <a:pt x="216" y="1149"/>
                </a:cubicBezTo>
                <a:cubicBezTo>
                  <a:pt x="218" y="1142"/>
                  <a:pt x="218" y="1142"/>
                  <a:pt x="218" y="1142"/>
                </a:cubicBezTo>
                <a:cubicBezTo>
                  <a:pt x="220" y="1136"/>
                  <a:pt x="220" y="1136"/>
                  <a:pt x="220" y="1136"/>
                </a:cubicBezTo>
                <a:cubicBezTo>
                  <a:pt x="222" y="1129"/>
                  <a:pt x="222" y="1129"/>
                  <a:pt x="222" y="1129"/>
                </a:cubicBezTo>
                <a:cubicBezTo>
                  <a:pt x="224" y="1122"/>
                  <a:pt x="224" y="1122"/>
                  <a:pt x="224" y="1122"/>
                </a:cubicBezTo>
                <a:cubicBezTo>
                  <a:pt x="226" y="1116"/>
                  <a:pt x="226" y="1116"/>
                  <a:pt x="226" y="1116"/>
                </a:cubicBezTo>
                <a:cubicBezTo>
                  <a:pt x="228" y="1109"/>
                  <a:pt x="228" y="1109"/>
                  <a:pt x="228" y="1109"/>
                </a:cubicBezTo>
                <a:cubicBezTo>
                  <a:pt x="230" y="1102"/>
                  <a:pt x="230" y="1102"/>
                  <a:pt x="230" y="1102"/>
                </a:cubicBezTo>
                <a:cubicBezTo>
                  <a:pt x="232" y="1096"/>
                  <a:pt x="232" y="1096"/>
                  <a:pt x="232" y="1096"/>
                </a:cubicBezTo>
                <a:cubicBezTo>
                  <a:pt x="234" y="1089"/>
                  <a:pt x="234" y="1089"/>
                  <a:pt x="234" y="1089"/>
                </a:cubicBezTo>
                <a:cubicBezTo>
                  <a:pt x="236" y="1082"/>
                  <a:pt x="236" y="1082"/>
                  <a:pt x="236" y="1082"/>
                </a:cubicBezTo>
                <a:cubicBezTo>
                  <a:pt x="238" y="1076"/>
                  <a:pt x="238" y="1076"/>
                  <a:pt x="238" y="1076"/>
                </a:cubicBezTo>
                <a:cubicBezTo>
                  <a:pt x="240" y="1069"/>
                  <a:pt x="240" y="1069"/>
                  <a:pt x="240" y="1069"/>
                </a:cubicBezTo>
                <a:cubicBezTo>
                  <a:pt x="242" y="1063"/>
                  <a:pt x="242" y="1063"/>
                  <a:pt x="242" y="1063"/>
                </a:cubicBezTo>
                <a:cubicBezTo>
                  <a:pt x="244" y="1056"/>
                  <a:pt x="244" y="1056"/>
                  <a:pt x="244" y="1056"/>
                </a:cubicBezTo>
                <a:cubicBezTo>
                  <a:pt x="246" y="1050"/>
                  <a:pt x="246" y="1050"/>
                  <a:pt x="246" y="1050"/>
                </a:cubicBezTo>
                <a:cubicBezTo>
                  <a:pt x="248" y="1043"/>
                  <a:pt x="248" y="1043"/>
                  <a:pt x="248" y="1043"/>
                </a:cubicBezTo>
                <a:cubicBezTo>
                  <a:pt x="250" y="1037"/>
                  <a:pt x="250" y="1037"/>
                  <a:pt x="250" y="1037"/>
                </a:cubicBezTo>
                <a:cubicBezTo>
                  <a:pt x="252" y="1030"/>
                  <a:pt x="252" y="1030"/>
                  <a:pt x="252" y="1030"/>
                </a:cubicBezTo>
                <a:cubicBezTo>
                  <a:pt x="254" y="1024"/>
                  <a:pt x="254" y="1024"/>
                  <a:pt x="254" y="1024"/>
                </a:cubicBezTo>
                <a:cubicBezTo>
                  <a:pt x="256" y="1018"/>
                  <a:pt x="256" y="1018"/>
                  <a:pt x="256" y="1018"/>
                </a:cubicBezTo>
                <a:cubicBezTo>
                  <a:pt x="258" y="1011"/>
                  <a:pt x="258" y="1011"/>
                  <a:pt x="258" y="1011"/>
                </a:cubicBezTo>
                <a:cubicBezTo>
                  <a:pt x="260" y="1005"/>
                  <a:pt x="260" y="1005"/>
                  <a:pt x="260" y="1005"/>
                </a:cubicBezTo>
                <a:cubicBezTo>
                  <a:pt x="262" y="999"/>
                  <a:pt x="262" y="999"/>
                  <a:pt x="262" y="999"/>
                </a:cubicBezTo>
                <a:cubicBezTo>
                  <a:pt x="264" y="992"/>
                  <a:pt x="264" y="992"/>
                  <a:pt x="264" y="992"/>
                </a:cubicBezTo>
                <a:cubicBezTo>
                  <a:pt x="266" y="986"/>
                  <a:pt x="266" y="986"/>
                  <a:pt x="266" y="986"/>
                </a:cubicBezTo>
                <a:cubicBezTo>
                  <a:pt x="268" y="980"/>
                  <a:pt x="268" y="980"/>
                  <a:pt x="268" y="980"/>
                </a:cubicBezTo>
                <a:cubicBezTo>
                  <a:pt x="270" y="973"/>
                  <a:pt x="270" y="973"/>
                  <a:pt x="270" y="973"/>
                </a:cubicBezTo>
                <a:cubicBezTo>
                  <a:pt x="272" y="967"/>
                  <a:pt x="272" y="967"/>
                  <a:pt x="272" y="967"/>
                </a:cubicBezTo>
                <a:cubicBezTo>
                  <a:pt x="274" y="961"/>
                  <a:pt x="274" y="961"/>
                  <a:pt x="274" y="961"/>
                </a:cubicBezTo>
                <a:cubicBezTo>
                  <a:pt x="276" y="955"/>
                  <a:pt x="276" y="955"/>
                  <a:pt x="276" y="955"/>
                </a:cubicBezTo>
                <a:cubicBezTo>
                  <a:pt x="278" y="949"/>
                  <a:pt x="278" y="949"/>
                  <a:pt x="278" y="949"/>
                </a:cubicBezTo>
                <a:cubicBezTo>
                  <a:pt x="280" y="942"/>
                  <a:pt x="280" y="942"/>
                  <a:pt x="280" y="942"/>
                </a:cubicBezTo>
                <a:cubicBezTo>
                  <a:pt x="282" y="936"/>
                  <a:pt x="282" y="936"/>
                  <a:pt x="282" y="936"/>
                </a:cubicBezTo>
                <a:cubicBezTo>
                  <a:pt x="284" y="930"/>
                  <a:pt x="284" y="930"/>
                  <a:pt x="284" y="930"/>
                </a:cubicBezTo>
                <a:cubicBezTo>
                  <a:pt x="286" y="924"/>
                  <a:pt x="286" y="924"/>
                  <a:pt x="286" y="924"/>
                </a:cubicBezTo>
                <a:cubicBezTo>
                  <a:pt x="288" y="918"/>
                  <a:pt x="288" y="918"/>
                  <a:pt x="288" y="918"/>
                </a:cubicBezTo>
                <a:cubicBezTo>
                  <a:pt x="290" y="912"/>
                  <a:pt x="290" y="912"/>
                  <a:pt x="290" y="912"/>
                </a:cubicBezTo>
                <a:cubicBezTo>
                  <a:pt x="292" y="906"/>
                  <a:pt x="292" y="906"/>
                  <a:pt x="292" y="906"/>
                </a:cubicBezTo>
                <a:cubicBezTo>
                  <a:pt x="294" y="900"/>
                  <a:pt x="294" y="900"/>
                  <a:pt x="294" y="900"/>
                </a:cubicBezTo>
                <a:cubicBezTo>
                  <a:pt x="296" y="894"/>
                  <a:pt x="296" y="894"/>
                  <a:pt x="296" y="894"/>
                </a:cubicBezTo>
                <a:cubicBezTo>
                  <a:pt x="298" y="888"/>
                  <a:pt x="298" y="888"/>
                  <a:pt x="298" y="888"/>
                </a:cubicBezTo>
                <a:cubicBezTo>
                  <a:pt x="300" y="882"/>
                  <a:pt x="300" y="882"/>
                  <a:pt x="300" y="882"/>
                </a:cubicBezTo>
                <a:cubicBezTo>
                  <a:pt x="302" y="876"/>
                  <a:pt x="302" y="876"/>
                  <a:pt x="302" y="876"/>
                </a:cubicBezTo>
                <a:cubicBezTo>
                  <a:pt x="304" y="870"/>
                  <a:pt x="304" y="870"/>
                  <a:pt x="304" y="870"/>
                </a:cubicBezTo>
                <a:cubicBezTo>
                  <a:pt x="306" y="864"/>
                  <a:pt x="306" y="864"/>
                  <a:pt x="306" y="864"/>
                </a:cubicBezTo>
                <a:cubicBezTo>
                  <a:pt x="308" y="858"/>
                  <a:pt x="308" y="858"/>
                  <a:pt x="308" y="858"/>
                </a:cubicBezTo>
                <a:cubicBezTo>
                  <a:pt x="310" y="853"/>
                  <a:pt x="310" y="853"/>
                  <a:pt x="310" y="853"/>
                </a:cubicBezTo>
                <a:cubicBezTo>
                  <a:pt x="312" y="847"/>
                  <a:pt x="312" y="847"/>
                  <a:pt x="312" y="847"/>
                </a:cubicBezTo>
                <a:cubicBezTo>
                  <a:pt x="314" y="841"/>
                  <a:pt x="314" y="841"/>
                  <a:pt x="314" y="841"/>
                </a:cubicBezTo>
                <a:cubicBezTo>
                  <a:pt x="316" y="835"/>
                  <a:pt x="316" y="835"/>
                  <a:pt x="316" y="835"/>
                </a:cubicBezTo>
                <a:cubicBezTo>
                  <a:pt x="318" y="829"/>
                  <a:pt x="318" y="829"/>
                  <a:pt x="318" y="829"/>
                </a:cubicBezTo>
                <a:cubicBezTo>
                  <a:pt x="320" y="824"/>
                  <a:pt x="320" y="824"/>
                  <a:pt x="320" y="824"/>
                </a:cubicBezTo>
                <a:cubicBezTo>
                  <a:pt x="322" y="818"/>
                  <a:pt x="322" y="818"/>
                  <a:pt x="322" y="818"/>
                </a:cubicBezTo>
                <a:cubicBezTo>
                  <a:pt x="324" y="812"/>
                  <a:pt x="324" y="812"/>
                  <a:pt x="324" y="812"/>
                </a:cubicBezTo>
                <a:cubicBezTo>
                  <a:pt x="326" y="807"/>
                  <a:pt x="326" y="807"/>
                  <a:pt x="326" y="807"/>
                </a:cubicBezTo>
                <a:cubicBezTo>
                  <a:pt x="328" y="801"/>
                  <a:pt x="328" y="801"/>
                  <a:pt x="328" y="801"/>
                </a:cubicBezTo>
                <a:cubicBezTo>
                  <a:pt x="330" y="795"/>
                  <a:pt x="330" y="795"/>
                  <a:pt x="330" y="795"/>
                </a:cubicBezTo>
                <a:cubicBezTo>
                  <a:pt x="332" y="790"/>
                  <a:pt x="332" y="790"/>
                  <a:pt x="332" y="790"/>
                </a:cubicBezTo>
                <a:cubicBezTo>
                  <a:pt x="334" y="784"/>
                  <a:pt x="334" y="784"/>
                  <a:pt x="334" y="784"/>
                </a:cubicBezTo>
                <a:cubicBezTo>
                  <a:pt x="336" y="778"/>
                  <a:pt x="336" y="778"/>
                  <a:pt x="336" y="778"/>
                </a:cubicBezTo>
                <a:cubicBezTo>
                  <a:pt x="338" y="773"/>
                  <a:pt x="338" y="773"/>
                  <a:pt x="338" y="773"/>
                </a:cubicBezTo>
                <a:cubicBezTo>
                  <a:pt x="342" y="762"/>
                  <a:pt x="342" y="762"/>
                  <a:pt x="342" y="762"/>
                </a:cubicBezTo>
                <a:cubicBezTo>
                  <a:pt x="344" y="756"/>
                  <a:pt x="344" y="756"/>
                  <a:pt x="344" y="756"/>
                </a:cubicBezTo>
                <a:cubicBezTo>
                  <a:pt x="346" y="751"/>
                  <a:pt x="346" y="751"/>
                  <a:pt x="346" y="751"/>
                </a:cubicBezTo>
                <a:cubicBezTo>
                  <a:pt x="348" y="745"/>
                  <a:pt x="348" y="745"/>
                  <a:pt x="348" y="745"/>
                </a:cubicBezTo>
                <a:cubicBezTo>
                  <a:pt x="350" y="740"/>
                  <a:pt x="350" y="740"/>
                  <a:pt x="350" y="740"/>
                </a:cubicBezTo>
                <a:cubicBezTo>
                  <a:pt x="352" y="734"/>
                  <a:pt x="352" y="734"/>
                  <a:pt x="352" y="734"/>
                </a:cubicBezTo>
                <a:cubicBezTo>
                  <a:pt x="354" y="729"/>
                  <a:pt x="354" y="729"/>
                  <a:pt x="354" y="729"/>
                </a:cubicBezTo>
                <a:cubicBezTo>
                  <a:pt x="356" y="724"/>
                  <a:pt x="356" y="724"/>
                  <a:pt x="356" y="724"/>
                </a:cubicBezTo>
                <a:cubicBezTo>
                  <a:pt x="358" y="718"/>
                  <a:pt x="358" y="718"/>
                  <a:pt x="358" y="718"/>
                </a:cubicBezTo>
                <a:cubicBezTo>
                  <a:pt x="360" y="713"/>
                  <a:pt x="360" y="713"/>
                  <a:pt x="360" y="713"/>
                </a:cubicBezTo>
                <a:cubicBezTo>
                  <a:pt x="362" y="708"/>
                  <a:pt x="362" y="708"/>
                  <a:pt x="362" y="708"/>
                </a:cubicBezTo>
                <a:cubicBezTo>
                  <a:pt x="364" y="702"/>
                  <a:pt x="364" y="702"/>
                  <a:pt x="364" y="702"/>
                </a:cubicBezTo>
                <a:cubicBezTo>
                  <a:pt x="366" y="697"/>
                  <a:pt x="366" y="697"/>
                  <a:pt x="366" y="697"/>
                </a:cubicBezTo>
                <a:cubicBezTo>
                  <a:pt x="368" y="692"/>
                  <a:pt x="368" y="692"/>
                  <a:pt x="368" y="692"/>
                </a:cubicBezTo>
                <a:cubicBezTo>
                  <a:pt x="370" y="686"/>
                  <a:pt x="370" y="686"/>
                  <a:pt x="370" y="686"/>
                </a:cubicBezTo>
                <a:cubicBezTo>
                  <a:pt x="372" y="681"/>
                  <a:pt x="372" y="681"/>
                  <a:pt x="372" y="681"/>
                </a:cubicBezTo>
                <a:cubicBezTo>
                  <a:pt x="374" y="676"/>
                  <a:pt x="374" y="676"/>
                  <a:pt x="374" y="676"/>
                </a:cubicBezTo>
                <a:cubicBezTo>
                  <a:pt x="376" y="671"/>
                  <a:pt x="376" y="671"/>
                  <a:pt x="376" y="671"/>
                </a:cubicBezTo>
                <a:cubicBezTo>
                  <a:pt x="378" y="666"/>
                  <a:pt x="378" y="666"/>
                  <a:pt x="378" y="666"/>
                </a:cubicBezTo>
                <a:cubicBezTo>
                  <a:pt x="380" y="660"/>
                  <a:pt x="380" y="660"/>
                  <a:pt x="380" y="660"/>
                </a:cubicBezTo>
                <a:cubicBezTo>
                  <a:pt x="382" y="655"/>
                  <a:pt x="382" y="655"/>
                  <a:pt x="382" y="655"/>
                </a:cubicBezTo>
                <a:cubicBezTo>
                  <a:pt x="384" y="650"/>
                  <a:pt x="384" y="650"/>
                  <a:pt x="384" y="650"/>
                </a:cubicBezTo>
                <a:cubicBezTo>
                  <a:pt x="386" y="645"/>
                  <a:pt x="386" y="645"/>
                  <a:pt x="386" y="645"/>
                </a:cubicBezTo>
                <a:cubicBezTo>
                  <a:pt x="388" y="640"/>
                  <a:pt x="388" y="640"/>
                  <a:pt x="388" y="640"/>
                </a:cubicBezTo>
                <a:cubicBezTo>
                  <a:pt x="390" y="635"/>
                  <a:pt x="390" y="635"/>
                  <a:pt x="390" y="635"/>
                </a:cubicBezTo>
                <a:cubicBezTo>
                  <a:pt x="392" y="630"/>
                  <a:pt x="392" y="630"/>
                  <a:pt x="392" y="630"/>
                </a:cubicBezTo>
                <a:cubicBezTo>
                  <a:pt x="394" y="625"/>
                  <a:pt x="394" y="625"/>
                  <a:pt x="394" y="625"/>
                </a:cubicBezTo>
                <a:cubicBezTo>
                  <a:pt x="396" y="620"/>
                  <a:pt x="396" y="620"/>
                  <a:pt x="396" y="620"/>
                </a:cubicBezTo>
                <a:cubicBezTo>
                  <a:pt x="398" y="615"/>
                  <a:pt x="398" y="615"/>
                  <a:pt x="398" y="615"/>
                </a:cubicBezTo>
                <a:cubicBezTo>
                  <a:pt x="400" y="610"/>
                  <a:pt x="400" y="610"/>
                  <a:pt x="400" y="610"/>
                </a:cubicBezTo>
                <a:cubicBezTo>
                  <a:pt x="402" y="605"/>
                  <a:pt x="402" y="605"/>
                  <a:pt x="402" y="605"/>
                </a:cubicBezTo>
                <a:cubicBezTo>
                  <a:pt x="404" y="600"/>
                  <a:pt x="404" y="600"/>
                  <a:pt x="404" y="600"/>
                </a:cubicBezTo>
                <a:cubicBezTo>
                  <a:pt x="406" y="595"/>
                  <a:pt x="406" y="595"/>
                  <a:pt x="406" y="595"/>
                </a:cubicBezTo>
                <a:cubicBezTo>
                  <a:pt x="408" y="590"/>
                  <a:pt x="408" y="590"/>
                  <a:pt x="408" y="590"/>
                </a:cubicBezTo>
                <a:cubicBezTo>
                  <a:pt x="410" y="586"/>
                  <a:pt x="410" y="586"/>
                  <a:pt x="410" y="586"/>
                </a:cubicBezTo>
                <a:cubicBezTo>
                  <a:pt x="412" y="581"/>
                  <a:pt x="412" y="581"/>
                  <a:pt x="412" y="581"/>
                </a:cubicBezTo>
                <a:cubicBezTo>
                  <a:pt x="414" y="576"/>
                  <a:pt x="414" y="576"/>
                  <a:pt x="414" y="576"/>
                </a:cubicBezTo>
                <a:cubicBezTo>
                  <a:pt x="416" y="571"/>
                  <a:pt x="416" y="571"/>
                  <a:pt x="416" y="571"/>
                </a:cubicBezTo>
                <a:cubicBezTo>
                  <a:pt x="418" y="566"/>
                  <a:pt x="418" y="566"/>
                  <a:pt x="418" y="566"/>
                </a:cubicBezTo>
                <a:cubicBezTo>
                  <a:pt x="420" y="562"/>
                  <a:pt x="420" y="562"/>
                  <a:pt x="420" y="562"/>
                </a:cubicBezTo>
                <a:cubicBezTo>
                  <a:pt x="422" y="557"/>
                  <a:pt x="422" y="557"/>
                  <a:pt x="422" y="557"/>
                </a:cubicBezTo>
                <a:cubicBezTo>
                  <a:pt x="424" y="552"/>
                  <a:pt x="424" y="552"/>
                  <a:pt x="424" y="552"/>
                </a:cubicBezTo>
                <a:cubicBezTo>
                  <a:pt x="426" y="548"/>
                  <a:pt x="426" y="548"/>
                  <a:pt x="426" y="548"/>
                </a:cubicBezTo>
                <a:cubicBezTo>
                  <a:pt x="428" y="543"/>
                  <a:pt x="428" y="543"/>
                  <a:pt x="428" y="543"/>
                </a:cubicBezTo>
                <a:cubicBezTo>
                  <a:pt x="430" y="538"/>
                  <a:pt x="430" y="538"/>
                  <a:pt x="430" y="538"/>
                </a:cubicBezTo>
                <a:cubicBezTo>
                  <a:pt x="432" y="534"/>
                  <a:pt x="432" y="534"/>
                  <a:pt x="432" y="534"/>
                </a:cubicBezTo>
                <a:cubicBezTo>
                  <a:pt x="434" y="529"/>
                  <a:pt x="434" y="529"/>
                  <a:pt x="434" y="529"/>
                </a:cubicBezTo>
                <a:cubicBezTo>
                  <a:pt x="438" y="520"/>
                  <a:pt x="438" y="520"/>
                  <a:pt x="438" y="520"/>
                </a:cubicBezTo>
                <a:cubicBezTo>
                  <a:pt x="442" y="511"/>
                  <a:pt x="442" y="511"/>
                  <a:pt x="442" y="511"/>
                </a:cubicBezTo>
                <a:cubicBezTo>
                  <a:pt x="446" y="502"/>
                  <a:pt x="446" y="502"/>
                  <a:pt x="446" y="502"/>
                </a:cubicBezTo>
                <a:cubicBezTo>
                  <a:pt x="450" y="493"/>
                  <a:pt x="450" y="493"/>
                  <a:pt x="450" y="493"/>
                </a:cubicBezTo>
                <a:cubicBezTo>
                  <a:pt x="454" y="484"/>
                  <a:pt x="454" y="484"/>
                  <a:pt x="454" y="484"/>
                </a:cubicBezTo>
                <a:cubicBezTo>
                  <a:pt x="458" y="475"/>
                  <a:pt x="458" y="475"/>
                  <a:pt x="458" y="475"/>
                </a:cubicBezTo>
                <a:cubicBezTo>
                  <a:pt x="462" y="467"/>
                  <a:pt x="462" y="467"/>
                  <a:pt x="462" y="467"/>
                </a:cubicBezTo>
                <a:cubicBezTo>
                  <a:pt x="466" y="458"/>
                  <a:pt x="466" y="458"/>
                  <a:pt x="466" y="458"/>
                </a:cubicBezTo>
                <a:cubicBezTo>
                  <a:pt x="470" y="449"/>
                  <a:pt x="470" y="449"/>
                  <a:pt x="470" y="449"/>
                </a:cubicBezTo>
                <a:cubicBezTo>
                  <a:pt x="474" y="441"/>
                  <a:pt x="474" y="441"/>
                  <a:pt x="474" y="441"/>
                </a:cubicBezTo>
                <a:cubicBezTo>
                  <a:pt x="478" y="433"/>
                  <a:pt x="478" y="433"/>
                  <a:pt x="478" y="433"/>
                </a:cubicBezTo>
                <a:cubicBezTo>
                  <a:pt x="482" y="424"/>
                  <a:pt x="482" y="424"/>
                  <a:pt x="482" y="424"/>
                </a:cubicBezTo>
                <a:cubicBezTo>
                  <a:pt x="486" y="416"/>
                  <a:pt x="486" y="416"/>
                  <a:pt x="486" y="416"/>
                </a:cubicBezTo>
                <a:cubicBezTo>
                  <a:pt x="490" y="408"/>
                  <a:pt x="490" y="408"/>
                  <a:pt x="490" y="408"/>
                </a:cubicBezTo>
                <a:cubicBezTo>
                  <a:pt x="494" y="400"/>
                  <a:pt x="494" y="400"/>
                  <a:pt x="494" y="400"/>
                </a:cubicBezTo>
                <a:cubicBezTo>
                  <a:pt x="498" y="392"/>
                  <a:pt x="498" y="392"/>
                  <a:pt x="498" y="392"/>
                </a:cubicBezTo>
                <a:cubicBezTo>
                  <a:pt x="502" y="384"/>
                  <a:pt x="502" y="384"/>
                  <a:pt x="502" y="384"/>
                </a:cubicBezTo>
                <a:cubicBezTo>
                  <a:pt x="506" y="376"/>
                  <a:pt x="506" y="376"/>
                  <a:pt x="506" y="376"/>
                </a:cubicBezTo>
                <a:cubicBezTo>
                  <a:pt x="510" y="369"/>
                  <a:pt x="510" y="369"/>
                  <a:pt x="510" y="369"/>
                </a:cubicBezTo>
                <a:cubicBezTo>
                  <a:pt x="514" y="361"/>
                  <a:pt x="514" y="361"/>
                  <a:pt x="514" y="361"/>
                </a:cubicBezTo>
                <a:cubicBezTo>
                  <a:pt x="518" y="353"/>
                  <a:pt x="518" y="353"/>
                  <a:pt x="518" y="353"/>
                </a:cubicBezTo>
                <a:cubicBezTo>
                  <a:pt x="522" y="346"/>
                  <a:pt x="522" y="346"/>
                  <a:pt x="522" y="346"/>
                </a:cubicBezTo>
                <a:cubicBezTo>
                  <a:pt x="526" y="339"/>
                  <a:pt x="526" y="339"/>
                  <a:pt x="526" y="339"/>
                </a:cubicBezTo>
                <a:cubicBezTo>
                  <a:pt x="530" y="331"/>
                  <a:pt x="530" y="331"/>
                  <a:pt x="530" y="331"/>
                </a:cubicBezTo>
                <a:cubicBezTo>
                  <a:pt x="534" y="324"/>
                  <a:pt x="534" y="324"/>
                  <a:pt x="534" y="324"/>
                </a:cubicBezTo>
                <a:cubicBezTo>
                  <a:pt x="538" y="317"/>
                  <a:pt x="538" y="317"/>
                  <a:pt x="538" y="317"/>
                </a:cubicBezTo>
                <a:cubicBezTo>
                  <a:pt x="542" y="310"/>
                  <a:pt x="542" y="310"/>
                  <a:pt x="542" y="310"/>
                </a:cubicBezTo>
                <a:cubicBezTo>
                  <a:pt x="546" y="303"/>
                  <a:pt x="546" y="303"/>
                  <a:pt x="546" y="303"/>
                </a:cubicBezTo>
                <a:cubicBezTo>
                  <a:pt x="550" y="296"/>
                  <a:pt x="550" y="296"/>
                  <a:pt x="550" y="296"/>
                </a:cubicBezTo>
                <a:cubicBezTo>
                  <a:pt x="554" y="289"/>
                  <a:pt x="554" y="289"/>
                  <a:pt x="554" y="289"/>
                </a:cubicBezTo>
                <a:cubicBezTo>
                  <a:pt x="558" y="282"/>
                  <a:pt x="558" y="282"/>
                  <a:pt x="558" y="282"/>
                </a:cubicBezTo>
                <a:cubicBezTo>
                  <a:pt x="562" y="276"/>
                  <a:pt x="562" y="276"/>
                  <a:pt x="562" y="276"/>
                </a:cubicBezTo>
                <a:cubicBezTo>
                  <a:pt x="566" y="269"/>
                  <a:pt x="566" y="269"/>
                  <a:pt x="566" y="269"/>
                </a:cubicBezTo>
                <a:cubicBezTo>
                  <a:pt x="570" y="262"/>
                  <a:pt x="570" y="262"/>
                  <a:pt x="570" y="262"/>
                </a:cubicBezTo>
                <a:cubicBezTo>
                  <a:pt x="574" y="256"/>
                  <a:pt x="574" y="256"/>
                  <a:pt x="574" y="256"/>
                </a:cubicBezTo>
                <a:cubicBezTo>
                  <a:pt x="578" y="250"/>
                  <a:pt x="578" y="250"/>
                  <a:pt x="578" y="250"/>
                </a:cubicBezTo>
                <a:cubicBezTo>
                  <a:pt x="582" y="243"/>
                  <a:pt x="582" y="243"/>
                  <a:pt x="582" y="243"/>
                </a:cubicBezTo>
                <a:cubicBezTo>
                  <a:pt x="586" y="237"/>
                  <a:pt x="586" y="237"/>
                  <a:pt x="586" y="237"/>
                </a:cubicBezTo>
                <a:cubicBezTo>
                  <a:pt x="590" y="231"/>
                  <a:pt x="590" y="231"/>
                  <a:pt x="590" y="231"/>
                </a:cubicBezTo>
                <a:cubicBezTo>
                  <a:pt x="594" y="225"/>
                  <a:pt x="594" y="225"/>
                  <a:pt x="594" y="225"/>
                </a:cubicBezTo>
                <a:cubicBezTo>
                  <a:pt x="598" y="219"/>
                  <a:pt x="598" y="219"/>
                  <a:pt x="598" y="219"/>
                </a:cubicBezTo>
                <a:cubicBezTo>
                  <a:pt x="602" y="213"/>
                  <a:pt x="602" y="213"/>
                  <a:pt x="602" y="213"/>
                </a:cubicBezTo>
                <a:cubicBezTo>
                  <a:pt x="606" y="207"/>
                  <a:pt x="606" y="207"/>
                  <a:pt x="606" y="207"/>
                </a:cubicBezTo>
                <a:cubicBezTo>
                  <a:pt x="610" y="202"/>
                  <a:pt x="610" y="202"/>
                  <a:pt x="610" y="202"/>
                </a:cubicBezTo>
                <a:cubicBezTo>
                  <a:pt x="614" y="196"/>
                  <a:pt x="614" y="196"/>
                  <a:pt x="614" y="196"/>
                </a:cubicBezTo>
                <a:cubicBezTo>
                  <a:pt x="618" y="190"/>
                  <a:pt x="618" y="190"/>
                  <a:pt x="618" y="190"/>
                </a:cubicBezTo>
                <a:cubicBezTo>
                  <a:pt x="622" y="185"/>
                  <a:pt x="622" y="185"/>
                  <a:pt x="622" y="185"/>
                </a:cubicBezTo>
                <a:cubicBezTo>
                  <a:pt x="626" y="180"/>
                  <a:pt x="626" y="180"/>
                  <a:pt x="626" y="180"/>
                </a:cubicBezTo>
                <a:cubicBezTo>
                  <a:pt x="630" y="174"/>
                  <a:pt x="630" y="174"/>
                  <a:pt x="630" y="174"/>
                </a:cubicBezTo>
                <a:cubicBezTo>
                  <a:pt x="634" y="169"/>
                  <a:pt x="634" y="169"/>
                  <a:pt x="634" y="169"/>
                </a:cubicBezTo>
                <a:cubicBezTo>
                  <a:pt x="638" y="164"/>
                  <a:pt x="638" y="164"/>
                  <a:pt x="638" y="164"/>
                </a:cubicBezTo>
                <a:cubicBezTo>
                  <a:pt x="642" y="159"/>
                  <a:pt x="642" y="159"/>
                  <a:pt x="642" y="159"/>
                </a:cubicBezTo>
                <a:cubicBezTo>
                  <a:pt x="646" y="154"/>
                  <a:pt x="646" y="154"/>
                  <a:pt x="646" y="154"/>
                </a:cubicBezTo>
                <a:cubicBezTo>
                  <a:pt x="650" y="149"/>
                  <a:pt x="650" y="149"/>
                  <a:pt x="650" y="149"/>
                </a:cubicBezTo>
                <a:cubicBezTo>
                  <a:pt x="658" y="139"/>
                  <a:pt x="658" y="139"/>
                  <a:pt x="658" y="139"/>
                </a:cubicBezTo>
                <a:cubicBezTo>
                  <a:pt x="662" y="135"/>
                  <a:pt x="662" y="135"/>
                  <a:pt x="662" y="135"/>
                </a:cubicBezTo>
                <a:cubicBezTo>
                  <a:pt x="666" y="130"/>
                  <a:pt x="666" y="130"/>
                  <a:pt x="666" y="130"/>
                </a:cubicBezTo>
                <a:cubicBezTo>
                  <a:pt x="670" y="125"/>
                  <a:pt x="670" y="125"/>
                  <a:pt x="670" y="125"/>
                </a:cubicBezTo>
                <a:cubicBezTo>
                  <a:pt x="674" y="121"/>
                  <a:pt x="674" y="121"/>
                  <a:pt x="674" y="121"/>
                </a:cubicBezTo>
                <a:cubicBezTo>
                  <a:pt x="678" y="117"/>
                  <a:pt x="678" y="117"/>
                  <a:pt x="678" y="117"/>
                </a:cubicBezTo>
                <a:cubicBezTo>
                  <a:pt x="682" y="112"/>
                  <a:pt x="682" y="112"/>
                  <a:pt x="682" y="112"/>
                </a:cubicBezTo>
                <a:cubicBezTo>
                  <a:pt x="686" y="108"/>
                  <a:pt x="686" y="108"/>
                  <a:pt x="686" y="108"/>
                </a:cubicBezTo>
                <a:cubicBezTo>
                  <a:pt x="690" y="104"/>
                  <a:pt x="690" y="104"/>
                  <a:pt x="690" y="104"/>
                </a:cubicBezTo>
                <a:cubicBezTo>
                  <a:pt x="694" y="100"/>
                  <a:pt x="694" y="100"/>
                  <a:pt x="694" y="100"/>
                </a:cubicBezTo>
                <a:cubicBezTo>
                  <a:pt x="698" y="96"/>
                  <a:pt x="698" y="96"/>
                  <a:pt x="698" y="96"/>
                </a:cubicBezTo>
                <a:cubicBezTo>
                  <a:pt x="702" y="92"/>
                  <a:pt x="702" y="92"/>
                  <a:pt x="702" y="92"/>
                </a:cubicBezTo>
                <a:cubicBezTo>
                  <a:pt x="710" y="85"/>
                  <a:pt x="710" y="85"/>
                  <a:pt x="710" y="85"/>
                </a:cubicBezTo>
                <a:cubicBezTo>
                  <a:pt x="714" y="81"/>
                  <a:pt x="714" y="81"/>
                  <a:pt x="714" y="81"/>
                </a:cubicBezTo>
                <a:cubicBezTo>
                  <a:pt x="718" y="77"/>
                  <a:pt x="718" y="77"/>
                  <a:pt x="718" y="77"/>
                </a:cubicBezTo>
                <a:cubicBezTo>
                  <a:pt x="722" y="74"/>
                  <a:pt x="722" y="74"/>
                  <a:pt x="722" y="74"/>
                </a:cubicBezTo>
                <a:cubicBezTo>
                  <a:pt x="726" y="71"/>
                  <a:pt x="726" y="71"/>
                  <a:pt x="726" y="71"/>
                </a:cubicBezTo>
                <a:cubicBezTo>
                  <a:pt x="730" y="67"/>
                  <a:pt x="730" y="67"/>
                  <a:pt x="730" y="67"/>
                </a:cubicBezTo>
                <a:cubicBezTo>
                  <a:pt x="734" y="64"/>
                  <a:pt x="734" y="64"/>
                  <a:pt x="734" y="64"/>
                </a:cubicBezTo>
                <a:cubicBezTo>
                  <a:pt x="738" y="61"/>
                  <a:pt x="738" y="61"/>
                  <a:pt x="738" y="61"/>
                </a:cubicBezTo>
                <a:cubicBezTo>
                  <a:pt x="742" y="58"/>
                  <a:pt x="742" y="58"/>
                  <a:pt x="742" y="58"/>
                </a:cubicBezTo>
                <a:cubicBezTo>
                  <a:pt x="750" y="52"/>
                  <a:pt x="750" y="52"/>
                  <a:pt x="750" y="52"/>
                </a:cubicBezTo>
                <a:cubicBezTo>
                  <a:pt x="758" y="46"/>
                  <a:pt x="758" y="46"/>
                  <a:pt x="758" y="46"/>
                </a:cubicBezTo>
                <a:cubicBezTo>
                  <a:pt x="766" y="41"/>
                  <a:pt x="766" y="41"/>
                  <a:pt x="766" y="41"/>
                </a:cubicBezTo>
                <a:cubicBezTo>
                  <a:pt x="774" y="36"/>
                  <a:pt x="774" y="36"/>
                  <a:pt x="774" y="36"/>
                </a:cubicBezTo>
                <a:cubicBezTo>
                  <a:pt x="782" y="31"/>
                  <a:pt x="782" y="31"/>
                  <a:pt x="782" y="31"/>
                </a:cubicBezTo>
                <a:cubicBezTo>
                  <a:pt x="790" y="27"/>
                  <a:pt x="790" y="27"/>
                  <a:pt x="790" y="27"/>
                </a:cubicBezTo>
                <a:cubicBezTo>
                  <a:pt x="798" y="23"/>
                  <a:pt x="798" y="23"/>
                  <a:pt x="798" y="23"/>
                </a:cubicBezTo>
                <a:cubicBezTo>
                  <a:pt x="806" y="19"/>
                  <a:pt x="806" y="19"/>
                  <a:pt x="806" y="19"/>
                </a:cubicBezTo>
                <a:cubicBezTo>
                  <a:pt x="814" y="16"/>
                  <a:pt x="814" y="16"/>
                  <a:pt x="814" y="16"/>
                </a:cubicBezTo>
                <a:cubicBezTo>
                  <a:pt x="822" y="13"/>
                  <a:pt x="822" y="13"/>
                  <a:pt x="822" y="13"/>
                </a:cubicBezTo>
                <a:cubicBezTo>
                  <a:pt x="830" y="10"/>
                  <a:pt x="830" y="10"/>
                  <a:pt x="830" y="10"/>
                </a:cubicBezTo>
                <a:cubicBezTo>
                  <a:pt x="838" y="8"/>
                  <a:pt x="838" y="8"/>
                  <a:pt x="838" y="8"/>
                </a:cubicBezTo>
                <a:cubicBezTo>
                  <a:pt x="846" y="6"/>
                  <a:pt x="846" y="6"/>
                  <a:pt x="846" y="6"/>
                </a:cubicBezTo>
                <a:cubicBezTo>
                  <a:pt x="854" y="4"/>
                  <a:pt x="854" y="4"/>
                  <a:pt x="854" y="4"/>
                </a:cubicBezTo>
                <a:cubicBezTo>
                  <a:pt x="862" y="3"/>
                  <a:pt x="862" y="3"/>
                  <a:pt x="862" y="3"/>
                </a:cubicBezTo>
                <a:cubicBezTo>
                  <a:pt x="870" y="1"/>
                  <a:pt x="870" y="1"/>
                  <a:pt x="870" y="1"/>
                </a:cubicBezTo>
                <a:cubicBezTo>
                  <a:pt x="878" y="1"/>
                  <a:pt x="878" y="1"/>
                  <a:pt x="878" y="1"/>
                </a:cubicBezTo>
                <a:cubicBezTo>
                  <a:pt x="886" y="0"/>
                  <a:pt x="886" y="0"/>
                  <a:pt x="886" y="0"/>
                </a:cubicBezTo>
                <a:cubicBezTo>
                  <a:pt x="894" y="0"/>
                  <a:pt x="894" y="0"/>
                  <a:pt x="894" y="0"/>
                </a:cubicBezTo>
                <a:cubicBezTo>
                  <a:pt x="902" y="0"/>
                  <a:pt x="902" y="0"/>
                  <a:pt x="902" y="0"/>
                </a:cubicBezTo>
                <a:cubicBezTo>
                  <a:pt x="910" y="1"/>
                  <a:pt x="910" y="1"/>
                  <a:pt x="910" y="1"/>
                </a:cubicBezTo>
                <a:cubicBezTo>
                  <a:pt x="918" y="1"/>
                  <a:pt x="918" y="1"/>
                  <a:pt x="918" y="1"/>
                </a:cubicBezTo>
                <a:cubicBezTo>
                  <a:pt x="926" y="3"/>
                  <a:pt x="926" y="3"/>
                  <a:pt x="926" y="3"/>
                </a:cubicBezTo>
                <a:cubicBezTo>
                  <a:pt x="934" y="4"/>
                  <a:pt x="934" y="4"/>
                  <a:pt x="934" y="4"/>
                </a:cubicBezTo>
                <a:cubicBezTo>
                  <a:pt x="942" y="6"/>
                  <a:pt x="942" y="6"/>
                  <a:pt x="942" y="6"/>
                </a:cubicBezTo>
                <a:cubicBezTo>
                  <a:pt x="950" y="8"/>
                  <a:pt x="950" y="8"/>
                  <a:pt x="950" y="8"/>
                </a:cubicBezTo>
                <a:cubicBezTo>
                  <a:pt x="958" y="10"/>
                  <a:pt x="958" y="10"/>
                  <a:pt x="958" y="10"/>
                </a:cubicBezTo>
                <a:cubicBezTo>
                  <a:pt x="966" y="13"/>
                  <a:pt x="966" y="13"/>
                  <a:pt x="966" y="13"/>
                </a:cubicBezTo>
                <a:cubicBezTo>
                  <a:pt x="974" y="16"/>
                  <a:pt x="974" y="16"/>
                  <a:pt x="974" y="16"/>
                </a:cubicBezTo>
                <a:cubicBezTo>
                  <a:pt x="982" y="19"/>
                  <a:pt x="982" y="19"/>
                  <a:pt x="982" y="19"/>
                </a:cubicBezTo>
                <a:cubicBezTo>
                  <a:pt x="990" y="23"/>
                  <a:pt x="990" y="23"/>
                  <a:pt x="990" y="23"/>
                </a:cubicBezTo>
                <a:cubicBezTo>
                  <a:pt x="998" y="27"/>
                  <a:pt x="998" y="27"/>
                  <a:pt x="998" y="27"/>
                </a:cubicBezTo>
                <a:cubicBezTo>
                  <a:pt x="1006" y="31"/>
                  <a:pt x="1006" y="31"/>
                  <a:pt x="1006" y="31"/>
                </a:cubicBezTo>
                <a:cubicBezTo>
                  <a:pt x="1014" y="36"/>
                  <a:pt x="1014" y="36"/>
                  <a:pt x="1014" y="36"/>
                </a:cubicBezTo>
                <a:cubicBezTo>
                  <a:pt x="1022" y="41"/>
                  <a:pt x="1022" y="41"/>
                  <a:pt x="1022" y="41"/>
                </a:cubicBezTo>
                <a:cubicBezTo>
                  <a:pt x="1030" y="46"/>
                  <a:pt x="1030" y="46"/>
                  <a:pt x="1030" y="46"/>
                </a:cubicBezTo>
                <a:cubicBezTo>
                  <a:pt x="1038" y="52"/>
                  <a:pt x="1038" y="52"/>
                  <a:pt x="1038" y="52"/>
                </a:cubicBezTo>
                <a:cubicBezTo>
                  <a:pt x="1046" y="58"/>
                  <a:pt x="1046" y="58"/>
                  <a:pt x="1046" y="58"/>
                </a:cubicBezTo>
                <a:cubicBezTo>
                  <a:pt x="1050" y="61"/>
                  <a:pt x="1050" y="61"/>
                  <a:pt x="1050" y="61"/>
                </a:cubicBezTo>
                <a:cubicBezTo>
                  <a:pt x="1054" y="64"/>
                  <a:pt x="1054" y="64"/>
                  <a:pt x="1054" y="64"/>
                </a:cubicBezTo>
                <a:cubicBezTo>
                  <a:pt x="1058" y="67"/>
                  <a:pt x="1058" y="67"/>
                  <a:pt x="1058" y="67"/>
                </a:cubicBezTo>
                <a:cubicBezTo>
                  <a:pt x="1062" y="71"/>
                  <a:pt x="1062" y="71"/>
                  <a:pt x="1062" y="71"/>
                </a:cubicBezTo>
                <a:cubicBezTo>
                  <a:pt x="1066" y="74"/>
                  <a:pt x="1066" y="74"/>
                  <a:pt x="1066" y="74"/>
                </a:cubicBezTo>
                <a:cubicBezTo>
                  <a:pt x="1070" y="77"/>
                  <a:pt x="1070" y="77"/>
                  <a:pt x="1070" y="77"/>
                </a:cubicBezTo>
                <a:cubicBezTo>
                  <a:pt x="1078" y="85"/>
                  <a:pt x="1078" y="85"/>
                  <a:pt x="1078" y="85"/>
                </a:cubicBezTo>
                <a:cubicBezTo>
                  <a:pt x="1082" y="88"/>
                  <a:pt x="1082" y="88"/>
                  <a:pt x="1082" y="88"/>
                </a:cubicBezTo>
                <a:cubicBezTo>
                  <a:pt x="1090" y="96"/>
                  <a:pt x="1090" y="96"/>
                  <a:pt x="1090" y="96"/>
                </a:cubicBezTo>
                <a:cubicBezTo>
                  <a:pt x="1094" y="100"/>
                  <a:pt x="1094" y="100"/>
                  <a:pt x="1094" y="100"/>
                </a:cubicBezTo>
                <a:cubicBezTo>
                  <a:pt x="1098" y="104"/>
                  <a:pt x="1098" y="104"/>
                  <a:pt x="1098" y="104"/>
                </a:cubicBezTo>
                <a:cubicBezTo>
                  <a:pt x="1106" y="112"/>
                  <a:pt x="1106" y="112"/>
                  <a:pt x="1106" y="112"/>
                </a:cubicBezTo>
                <a:cubicBezTo>
                  <a:pt x="1110" y="117"/>
                  <a:pt x="1110" y="117"/>
                  <a:pt x="1110" y="117"/>
                </a:cubicBezTo>
                <a:cubicBezTo>
                  <a:pt x="1114" y="121"/>
                  <a:pt x="1114" y="121"/>
                  <a:pt x="1114" y="121"/>
                </a:cubicBezTo>
                <a:cubicBezTo>
                  <a:pt x="1118" y="125"/>
                  <a:pt x="1118" y="125"/>
                  <a:pt x="1118" y="125"/>
                </a:cubicBezTo>
                <a:cubicBezTo>
                  <a:pt x="1122" y="130"/>
                  <a:pt x="1122" y="130"/>
                  <a:pt x="1122" y="130"/>
                </a:cubicBezTo>
                <a:cubicBezTo>
                  <a:pt x="1126" y="135"/>
                  <a:pt x="1126" y="135"/>
                  <a:pt x="1126" y="135"/>
                </a:cubicBezTo>
                <a:cubicBezTo>
                  <a:pt x="1130" y="139"/>
                  <a:pt x="1130" y="139"/>
                  <a:pt x="1130" y="139"/>
                </a:cubicBezTo>
                <a:cubicBezTo>
                  <a:pt x="1134" y="144"/>
                  <a:pt x="1134" y="144"/>
                  <a:pt x="1134" y="144"/>
                </a:cubicBezTo>
                <a:cubicBezTo>
                  <a:pt x="1138" y="149"/>
                  <a:pt x="1138" y="149"/>
                  <a:pt x="1138" y="149"/>
                </a:cubicBezTo>
                <a:cubicBezTo>
                  <a:pt x="1142" y="154"/>
                  <a:pt x="1142" y="154"/>
                  <a:pt x="1142" y="154"/>
                </a:cubicBezTo>
                <a:cubicBezTo>
                  <a:pt x="1146" y="159"/>
                  <a:pt x="1146" y="159"/>
                  <a:pt x="1146" y="159"/>
                </a:cubicBezTo>
                <a:cubicBezTo>
                  <a:pt x="1150" y="164"/>
                  <a:pt x="1150" y="164"/>
                  <a:pt x="1150" y="164"/>
                </a:cubicBezTo>
                <a:cubicBezTo>
                  <a:pt x="1154" y="169"/>
                  <a:pt x="1154" y="169"/>
                  <a:pt x="1154" y="169"/>
                </a:cubicBezTo>
                <a:cubicBezTo>
                  <a:pt x="1158" y="174"/>
                  <a:pt x="1158" y="174"/>
                  <a:pt x="1158" y="174"/>
                </a:cubicBezTo>
                <a:cubicBezTo>
                  <a:pt x="1162" y="180"/>
                  <a:pt x="1162" y="180"/>
                  <a:pt x="1162" y="180"/>
                </a:cubicBezTo>
                <a:cubicBezTo>
                  <a:pt x="1166" y="185"/>
                  <a:pt x="1166" y="185"/>
                  <a:pt x="1166" y="185"/>
                </a:cubicBezTo>
                <a:cubicBezTo>
                  <a:pt x="1170" y="190"/>
                  <a:pt x="1170" y="190"/>
                  <a:pt x="1170" y="190"/>
                </a:cubicBezTo>
                <a:cubicBezTo>
                  <a:pt x="1174" y="196"/>
                  <a:pt x="1174" y="196"/>
                  <a:pt x="1174" y="196"/>
                </a:cubicBezTo>
                <a:cubicBezTo>
                  <a:pt x="1178" y="202"/>
                  <a:pt x="1178" y="202"/>
                  <a:pt x="1178" y="202"/>
                </a:cubicBezTo>
                <a:cubicBezTo>
                  <a:pt x="1182" y="207"/>
                  <a:pt x="1182" y="207"/>
                  <a:pt x="1182" y="207"/>
                </a:cubicBezTo>
                <a:cubicBezTo>
                  <a:pt x="1186" y="213"/>
                  <a:pt x="1186" y="213"/>
                  <a:pt x="1186" y="213"/>
                </a:cubicBezTo>
                <a:cubicBezTo>
                  <a:pt x="1190" y="219"/>
                  <a:pt x="1190" y="219"/>
                  <a:pt x="1190" y="219"/>
                </a:cubicBezTo>
                <a:cubicBezTo>
                  <a:pt x="1194" y="225"/>
                  <a:pt x="1194" y="225"/>
                  <a:pt x="1194" y="225"/>
                </a:cubicBezTo>
                <a:cubicBezTo>
                  <a:pt x="1198" y="231"/>
                  <a:pt x="1198" y="231"/>
                  <a:pt x="1198" y="231"/>
                </a:cubicBezTo>
                <a:cubicBezTo>
                  <a:pt x="1202" y="237"/>
                  <a:pt x="1202" y="237"/>
                  <a:pt x="1202" y="237"/>
                </a:cubicBezTo>
                <a:cubicBezTo>
                  <a:pt x="1206" y="243"/>
                  <a:pt x="1206" y="243"/>
                  <a:pt x="1206" y="243"/>
                </a:cubicBezTo>
                <a:cubicBezTo>
                  <a:pt x="1210" y="250"/>
                  <a:pt x="1210" y="250"/>
                  <a:pt x="1210" y="250"/>
                </a:cubicBezTo>
                <a:cubicBezTo>
                  <a:pt x="1214" y="256"/>
                  <a:pt x="1214" y="256"/>
                  <a:pt x="1214" y="256"/>
                </a:cubicBezTo>
                <a:cubicBezTo>
                  <a:pt x="1218" y="262"/>
                  <a:pt x="1218" y="262"/>
                  <a:pt x="1218" y="262"/>
                </a:cubicBezTo>
                <a:cubicBezTo>
                  <a:pt x="1222" y="269"/>
                  <a:pt x="1222" y="269"/>
                  <a:pt x="1222" y="269"/>
                </a:cubicBezTo>
                <a:cubicBezTo>
                  <a:pt x="1226" y="276"/>
                  <a:pt x="1226" y="276"/>
                  <a:pt x="1226" y="276"/>
                </a:cubicBezTo>
                <a:cubicBezTo>
                  <a:pt x="1230" y="282"/>
                  <a:pt x="1230" y="282"/>
                  <a:pt x="1230" y="282"/>
                </a:cubicBezTo>
                <a:cubicBezTo>
                  <a:pt x="1234" y="289"/>
                  <a:pt x="1234" y="289"/>
                  <a:pt x="1234" y="289"/>
                </a:cubicBezTo>
                <a:cubicBezTo>
                  <a:pt x="1238" y="296"/>
                  <a:pt x="1238" y="296"/>
                  <a:pt x="1238" y="296"/>
                </a:cubicBezTo>
                <a:cubicBezTo>
                  <a:pt x="1242" y="303"/>
                  <a:pt x="1242" y="303"/>
                  <a:pt x="1242" y="303"/>
                </a:cubicBezTo>
                <a:cubicBezTo>
                  <a:pt x="1246" y="310"/>
                  <a:pt x="1246" y="310"/>
                  <a:pt x="1246" y="310"/>
                </a:cubicBezTo>
                <a:cubicBezTo>
                  <a:pt x="1250" y="317"/>
                  <a:pt x="1250" y="317"/>
                  <a:pt x="1250" y="317"/>
                </a:cubicBezTo>
                <a:cubicBezTo>
                  <a:pt x="1254" y="324"/>
                  <a:pt x="1254" y="324"/>
                  <a:pt x="1254" y="324"/>
                </a:cubicBezTo>
                <a:cubicBezTo>
                  <a:pt x="1258" y="331"/>
                  <a:pt x="1258" y="331"/>
                  <a:pt x="1258" y="331"/>
                </a:cubicBezTo>
                <a:cubicBezTo>
                  <a:pt x="1262" y="339"/>
                  <a:pt x="1262" y="339"/>
                  <a:pt x="1262" y="339"/>
                </a:cubicBezTo>
                <a:cubicBezTo>
                  <a:pt x="1266" y="346"/>
                  <a:pt x="1266" y="346"/>
                  <a:pt x="1266" y="346"/>
                </a:cubicBezTo>
                <a:cubicBezTo>
                  <a:pt x="1270" y="353"/>
                  <a:pt x="1270" y="353"/>
                  <a:pt x="1270" y="353"/>
                </a:cubicBezTo>
                <a:cubicBezTo>
                  <a:pt x="1274" y="361"/>
                  <a:pt x="1274" y="361"/>
                  <a:pt x="1274" y="361"/>
                </a:cubicBezTo>
                <a:cubicBezTo>
                  <a:pt x="1278" y="369"/>
                  <a:pt x="1278" y="369"/>
                  <a:pt x="1278" y="369"/>
                </a:cubicBezTo>
                <a:cubicBezTo>
                  <a:pt x="1282" y="376"/>
                  <a:pt x="1282" y="376"/>
                  <a:pt x="1282" y="376"/>
                </a:cubicBezTo>
                <a:cubicBezTo>
                  <a:pt x="1286" y="384"/>
                  <a:pt x="1286" y="384"/>
                  <a:pt x="1286" y="384"/>
                </a:cubicBezTo>
                <a:cubicBezTo>
                  <a:pt x="1290" y="392"/>
                  <a:pt x="1290" y="392"/>
                  <a:pt x="1290" y="392"/>
                </a:cubicBezTo>
                <a:cubicBezTo>
                  <a:pt x="1294" y="400"/>
                  <a:pt x="1294" y="400"/>
                  <a:pt x="1294" y="400"/>
                </a:cubicBezTo>
                <a:cubicBezTo>
                  <a:pt x="1298" y="408"/>
                  <a:pt x="1298" y="408"/>
                  <a:pt x="1298" y="408"/>
                </a:cubicBezTo>
                <a:cubicBezTo>
                  <a:pt x="1302" y="416"/>
                  <a:pt x="1302" y="416"/>
                  <a:pt x="1302" y="416"/>
                </a:cubicBezTo>
                <a:cubicBezTo>
                  <a:pt x="1306" y="424"/>
                  <a:pt x="1306" y="424"/>
                  <a:pt x="1306" y="424"/>
                </a:cubicBezTo>
                <a:cubicBezTo>
                  <a:pt x="1310" y="433"/>
                  <a:pt x="1310" y="433"/>
                  <a:pt x="1310" y="433"/>
                </a:cubicBezTo>
                <a:cubicBezTo>
                  <a:pt x="1314" y="441"/>
                  <a:pt x="1314" y="441"/>
                  <a:pt x="1314" y="441"/>
                </a:cubicBezTo>
                <a:cubicBezTo>
                  <a:pt x="1318" y="449"/>
                  <a:pt x="1318" y="449"/>
                  <a:pt x="1318" y="449"/>
                </a:cubicBezTo>
                <a:cubicBezTo>
                  <a:pt x="1322" y="458"/>
                  <a:pt x="1322" y="458"/>
                  <a:pt x="1322" y="458"/>
                </a:cubicBezTo>
                <a:cubicBezTo>
                  <a:pt x="1326" y="467"/>
                  <a:pt x="1326" y="467"/>
                  <a:pt x="1326" y="467"/>
                </a:cubicBezTo>
                <a:cubicBezTo>
                  <a:pt x="1330" y="475"/>
                  <a:pt x="1330" y="475"/>
                  <a:pt x="1330" y="475"/>
                </a:cubicBezTo>
                <a:cubicBezTo>
                  <a:pt x="1334" y="484"/>
                  <a:pt x="1334" y="484"/>
                  <a:pt x="1334" y="484"/>
                </a:cubicBezTo>
                <a:cubicBezTo>
                  <a:pt x="1338" y="493"/>
                  <a:pt x="1338" y="493"/>
                  <a:pt x="1338" y="493"/>
                </a:cubicBezTo>
                <a:cubicBezTo>
                  <a:pt x="1342" y="502"/>
                  <a:pt x="1342" y="502"/>
                  <a:pt x="1342" y="502"/>
                </a:cubicBezTo>
                <a:cubicBezTo>
                  <a:pt x="1346" y="511"/>
                  <a:pt x="1346" y="511"/>
                  <a:pt x="1346" y="511"/>
                </a:cubicBezTo>
                <a:cubicBezTo>
                  <a:pt x="1350" y="520"/>
                  <a:pt x="1350" y="520"/>
                  <a:pt x="1350" y="520"/>
                </a:cubicBezTo>
                <a:cubicBezTo>
                  <a:pt x="1354" y="529"/>
                  <a:pt x="1354" y="529"/>
                  <a:pt x="1354" y="529"/>
                </a:cubicBezTo>
                <a:cubicBezTo>
                  <a:pt x="1356" y="534"/>
                  <a:pt x="1356" y="534"/>
                  <a:pt x="1356" y="534"/>
                </a:cubicBezTo>
                <a:cubicBezTo>
                  <a:pt x="1358" y="538"/>
                  <a:pt x="1358" y="538"/>
                  <a:pt x="1358" y="538"/>
                </a:cubicBezTo>
                <a:cubicBezTo>
                  <a:pt x="1360" y="543"/>
                  <a:pt x="1360" y="543"/>
                  <a:pt x="1360" y="543"/>
                </a:cubicBezTo>
                <a:cubicBezTo>
                  <a:pt x="1362" y="548"/>
                  <a:pt x="1362" y="548"/>
                  <a:pt x="1362" y="548"/>
                </a:cubicBezTo>
                <a:cubicBezTo>
                  <a:pt x="1364" y="552"/>
                  <a:pt x="1364" y="552"/>
                  <a:pt x="1364" y="552"/>
                </a:cubicBezTo>
                <a:cubicBezTo>
                  <a:pt x="1368" y="562"/>
                  <a:pt x="1368" y="562"/>
                  <a:pt x="1368" y="562"/>
                </a:cubicBezTo>
                <a:cubicBezTo>
                  <a:pt x="1370" y="566"/>
                  <a:pt x="1370" y="566"/>
                  <a:pt x="1370" y="566"/>
                </a:cubicBezTo>
                <a:cubicBezTo>
                  <a:pt x="1372" y="571"/>
                  <a:pt x="1372" y="571"/>
                  <a:pt x="1372" y="571"/>
                </a:cubicBezTo>
                <a:cubicBezTo>
                  <a:pt x="1374" y="576"/>
                  <a:pt x="1374" y="576"/>
                  <a:pt x="1374" y="576"/>
                </a:cubicBezTo>
                <a:cubicBezTo>
                  <a:pt x="1376" y="581"/>
                  <a:pt x="1376" y="581"/>
                  <a:pt x="1376" y="581"/>
                </a:cubicBezTo>
                <a:cubicBezTo>
                  <a:pt x="1380" y="590"/>
                  <a:pt x="1380" y="590"/>
                  <a:pt x="1380" y="590"/>
                </a:cubicBezTo>
                <a:cubicBezTo>
                  <a:pt x="1382" y="595"/>
                  <a:pt x="1382" y="595"/>
                  <a:pt x="1382" y="595"/>
                </a:cubicBezTo>
                <a:cubicBezTo>
                  <a:pt x="1384" y="600"/>
                  <a:pt x="1384" y="600"/>
                  <a:pt x="1384" y="600"/>
                </a:cubicBezTo>
                <a:cubicBezTo>
                  <a:pt x="1386" y="605"/>
                  <a:pt x="1386" y="605"/>
                  <a:pt x="1386" y="605"/>
                </a:cubicBezTo>
                <a:cubicBezTo>
                  <a:pt x="1388" y="610"/>
                  <a:pt x="1388" y="610"/>
                  <a:pt x="1388" y="610"/>
                </a:cubicBezTo>
                <a:cubicBezTo>
                  <a:pt x="1390" y="615"/>
                  <a:pt x="1390" y="615"/>
                  <a:pt x="1390" y="615"/>
                </a:cubicBezTo>
                <a:cubicBezTo>
                  <a:pt x="1392" y="620"/>
                  <a:pt x="1392" y="620"/>
                  <a:pt x="1392" y="620"/>
                </a:cubicBezTo>
                <a:cubicBezTo>
                  <a:pt x="1394" y="625"/>
                  <a:pt x="1394" y="625"/>
                  <a:pt x="1394" y="625"/>
                </a:cubicBezTo>
                <a:cubicBezTo>
                  <a:pt x="1396" y="630"/>
                  <a:pt x="1396" y="630"/>
                  <a:pt x="1396" y="630"/>
                </a:cubicBezTo>
                <a:cubicBezTo>
                  <a:pt x="1398" y="635"/>
                  <a:pt x="1398" y="635"/>
                  <a:pt x="1398" y="635"/>
                </a:cubicBezTo>
                <a:cubicBezTo>
                  <a:pt x="1400" y="640"/>
                  <a:pt x="1400" y="640"/>
                  <a:pt x="1400" y="640"/>
                </a:cubicBezTo>
                <a:cubicBezTo>
                  <a:pt x="1402" y="645"/>
                  <a:pt x="1402" y="645"/>
                  <a:pt x="1402" y="645"/>
                </a:cubicBezTo>
                <a:cubicBezTo>
                  <a:pt x="1404" y="650"/>
                  <a:pt x="1404" y="650"/>
                  <a:pt x="1404" y="650"/>
                </a:cubicBezTo>
                <a:cubicBezTo>
                  <a:pt x="1406" y="655"/>
                  <a:pt x="1406" y="655"/>
                  <a:pt x="1406" y="655"/>
                </a:cubicBezTo>
                <a:cubicBezTo>
                  <a:pt x="1408" y="660"/>
                  <a:pt x="1408" y="660"/>
                  <a:pt x="1408" y="660"/>
                </a:cubicBezTo>
                <a:cubicBezTo>
                  <a:pt x="1410" y="666"/>
                  <a:pt x="1410" y="666"/>
                  <a:pt x="1410" y="666"/>
                </a:cubicBezTo>
                <a:cubicBezTo>
                  <a:pt x="1414" y="676"/>
                  <a:pt x="1414" y="676"/>
                  <a:pt x="1414" y="676"/>
                </a:cubicBezTo>
                <a:cubicBezTo>
                  <a:pt x="1416" y="681"/>
                  <a:pt x="1416" y="681"/>
                  <a:pt x="1416" y="681"/>
                </a:cubicBezTo>
                <a:cubicBezTo>
                  <a:pt x="1418" y="686"/>
                  <a:pt x="1418" y="686"/>
                  <a:pt x="1418" y="686"/>
                </a:cubicBezTo>
                <a:cubicBezTo>
                  <a:pt x="1420" y="692"/>
                  <a:pt x="1420" y="692"/>
                  <a:pt x="1420" y="692"/>
                </a:cubicBezTo>
                <a:cubicBezTo>
                  <a:pt x="1422" y="697"/>
                  <a:pt x="1422" y="697"/>
                  <a:pt x="1422" y="697"/>
                </a:cubicBezTo>
                <a:cubicBezTo>
                  <a:pt x="1424" y="702"/>
                  <a:pt x="1424" y="702"/>
                  <a:pt x="1424" y="702"/>
                </a:cubicBezTo>
                <a:cubicBezTo>
                  <a:pt x="1426" y="708"/>
                  <a:pt x="1426" y="708"/>
                  <a:pt x="1426" y="708"/>
                </a:cubicBezTo>
                <a:cubicBezTo>
                  <a:pt x="1428" y="713"/>
                  <a:pt x="1428" y="713"/>
                  <a:pt x="1428" y="713"/>
                </a:cubicBezTo>
                <a:cubicBezTo>
                  <a:pt x="1430" y="718"/>
                  <a:pt x="1430" y="718"/>
                  <a:pt x="1430" y="718"/>
                </a:cubicBezTo>
                <a:cubicBezTo>
                  <a:pt x="1432" y="724"/>
                  <a:pt x="1432" y="724"/>
                  <a:pt x="1432" y="724"/>
                </a:cubicBezTo>
                <a:cubicBezTo>
                  <a:pt x="1434" y="729"/>
                  <a:pt x="1434" y="729"/>
                  <a:pt x="1434" y="729"/>
                </a:cubicBezTo>
                <a:cubicBezTo>
                  <a:pt x="1436" y="734"/>
                  <a:pt x="1436" y="734"/>
                  <a:pt x="1436" y="734"/>
                </a:cubicBezTo>
                <a:cubicBezTo>
                  <a:pt x="1438" y="740"/>
                  <a:pt x="1438" y="740"/>
                  <a:pt x="1438" y="740"/>
                </a:cubicBezTo>
                <a:cubicBezTo>
                  <a:pt x="1440" y="745"/>
                  <a:pt x="1440" y="745"/>
                  <a:pt x="1440" y="745"/>
                </a:cubicBezTo>
                <a:cubicBezTo>
                  <a:pt x="1442" y="751"/>
                  <a:pt x="1442" y="751"/>
                  <a:pt x="1442" y="751"/>
                </a:cubicBezTo>
                <a:cubicBezTo>
                  <a:pt x="1444" y="756"/>
                  <a:pt x="1444" y="756"/>
                  <a:pt x="1444" y="756"/>
                </a:cubicBezTo>
                <a:cubicBezTo>
                  <a:pt x="1446" y="762"/>
                  <a:pt x="1446" y="762"/>
                  <a:pt x="1446" y="762"/>
                </a:cubicBezTo>
                <a:cubicBezTo>
                  <a:pt x="1448" y="767"/>
                  <a:pt x="1448" y="767"/>
                  <a:pt x="1448" y="767"/>
                </a:cubicBezTo>
                <a:cubicBezTo>
                  <a:pt x="1450" y="773"/>
                  <a:pt x="1450" y="773"/>
                  <a:pt x="1450" y="773"/>
                </a:cubicBezTo>
                <a:cubicBezTo>
                  <a:pt x="1452" y="778"/>
                  <a:pt x="1452" y="778"/>
                  <a:pt x="1452" y="778"/>
                </a:cubicBezTo>
                <a:cubicBezTo>
                  <a:pt x="1454" y="784"/>
                  <a:pt x="1454" y="784"/>
                  <a:pt x="1454" y="784"/>
                </a:cubicBezTo>
                <a:cubicBezTo>
                  <a:pt x="1456" y="790"/>
                  <a:pt x="1456" y="790"/>
                  <a:pt x="1456" y="790"/>
                </a:cubicBezTo>
                <a:cubicBezTo>
                  <a:pt x="1458" y="795"/>
                  <a:pt x="1458" y="795"/>
                  <a:pt x="1458" y="795"/>
                </a:cubicBezTo>
                <a:cubicBezTo>
                  <a:pt x="1460" y="801"/>
                  <a:pt x="1460" y="801"/>
                  <a:pt x="1460" y="801"/>
                </a:cubicBezTo>
                <a:cubicBezTo>
                  <a:pt x="1462" y="807"/>
                  <a:pt x="1462" y="807"/>
                  <a:pt x="1462" y="807"/>
                </a:cubicBezTo>
                <a:cubicBezTo>
                  <a:pt x="1464" y="812"/>
                  <a:pt x="1464" y="812"/>
                  <a:pt x="1464" y="812"/>
                </a:cubicBezTo>
                <a:cubicBezTo>
                  <a:pt x="1466" y="818"/>
                  <a:pt x="1466" y="818"/>
                  <a:pt x="1466" y="818"/>
                </a:cubicBezTo>
                <a:cubicBezTo>
                  <a:pt x="1468" y="824"/>
                  <a:pt x="1468" y="824"/>
                  <a:pt x="1468" y="824"/>
                </a:cubicBezTo>
                <a:cubicBezTo>
                  <a:pt x="1470" y="829"/>
                  <a:pt x="1470" y="829"/>
                  <a:pt x="1470" y="829"/>
                </a:cubicBezTo>
                <a:cubicBezTo>
                  <a:pt x="1472" y="835"/>
                  <a:pt x="1472" y="835"/>
                  <a:pt x="1472" y="835"/>
                </a:cubicBezTo>
                <a:cubicBezTo>
                  <a:pt x="1474" y="841"/>
                  <a:pt x="1474" y="841"/>
                  <a:pt x="1474" y="841"/>
                </a:cubicBezTo>
                <a:cubicBezTo>
                  <a:pt x="1476" y="847"/>
                  <a:pt x="1476" y="847"/>
                  <a:pt x="1476" y="847"/>
                </a:cubicBezTo>
                <a:cubicBezTo>
                  <a:pt x="1478" y="853"/>
                  <a:pt x="1478" y="853"/>
                  <a:pt x="1478" y="853"/>
                </a:cubicBezTo>
                <a:cubicBezTo>
                  <a:pt x="1480" y="858"/>
                  <a:pt x="1480" y="858"/>
                  <a:pt x="1480" y="858"/>
                </a:cubicBezTo>
                <a:cubicBezTo>
                  <a:pt x="1482" y="864"/>
                  <a:pt x="1482" y="864"/>
                  <a:pt x="1482" y="864"/>
                </a:cubicBezTo>
                <a:cubicBezTo>
                  <a:pt x="1484" y="870"/>
                  <a:pt x="1484" y="870"/>
                  <a:pt x="1484" y="870"/>
                </a:cubicBezTo>
                <a:cubicBezTo>
                  <a:pt x="1486" y="876"/>
                  <a:pt x="1486" y="876"/>
                  <a:pt x="1486" y="876"/>
                </a:cubicBezTo>
                <a:cubicBezTo>
                  <a:pt x="1488" y="882"/>
                  <a:pt x="1488" y="882"/>
                  <a:pt x="1488" y="882"/>
                </a:cubicBezTo>
                <a:cubicBezTo>
                  <a:pt x="1490" y="888"/>
                  <a:pt x="1490" y="888"/>
                  <a:pt x="1490" y="888"/>
                </a:cubicBezTo>
                <a:cubicBezTo>
                  <a:pt x="1492" y="894"/>
                  <a:pt x="1492" y="894"/>
                  <a:pt x="1492" y="894"/>
                </a:cubicBezTo>
                <a:cubicBezTo>
                  <a:pt x="1494" y="900"/>
                  <a:pt x="1494" y="900"/>
                  <a:pt x="1494" y="900"/>
                </a:cubicBezTo>
                <a:cubicBezTo>
                  <a:pt x="1496" y="906"/>
                  <a:pt x="1496" y="906"/>
                  <a:pt x="1496" y="906"/>
                </a:cubicBezTo>
                <a:cubicBezTo>
                  <a:pt x="1498" y="912"/>
                  <a:pt x="1498" y="912"/>
                  <a:pt x="1498" y="912"/>
                </a:cubicBezTo>
                <a:cubicBezTo>
                  <a:pt x="1500" y="918"/>
                  <a:pt x="1500" y="918"/>
                  <a:pt x="1500" y="918"/>
                </a:cubicBezTo>
                <a:cubicBezTo>
                  <a:pt x="1502" y="924"/>
                  <a:pt x="1502" y="924"/>
                  <a:pt x="1502" y="924"/>
                </a:cubicBezTo>
                <a:cubicBezTo>
                  <a:pt x="1504" y="930"/>
                  <a:pt x="1504" y="930"/>
                  <a:pt x="1504" y="930"/>
                </a:cubicBezTo>
                <a:cubicBezTo>
                  <a:pt x="1506" y="936"/>
                  <a:pt x="1506" y="936"/>
                  <a:pt x="1506" y="936"/>
                </a:cubicBezTo>
                <a:cubicBezTo>
                  <a:pt x="1508" y="942"/>
                  <a:pt x="1508" y="942"/>
                  <a:pt x="1508" y="942"/>
                </a:cubicBezTo>
                <a:cubicBezTo>
                  <a:pt x="1510" y="949"/>
                  <a:pt x="1510" y="949"/>
                  <a:pt x="1510" y="949"/>
                </a:cubicBezTo>
                <a:cubicBezTo>
                  <a:pt x="1512" y="955"/>
                  <a:pt x="1512" y="955"/>
                  <a:pt x="1512" y="955"/>
                </a:cubicBezTo>
                <a:cubicBezTo>
                  <a:pt x="1514" y="961"/>
                  <a:pt x="1514" y="961"/>
                  <a:pt x="1514" y="961"/>
                </a:cubicBezTo>
                <a:cubicBezTo>
                  <a:pt x="1516" y="967"/>
                  <a:pt x="1516" y="967"/>
                  <a:pt x="1516" y="967"/>
                </a:cubicBezTo>
                <a:cubicBezTo>
                  <a:pt x="1518" y="973"/>
                  <a:pt x="1518" y="973"/>
                  <a:pt x="1518" y="973"/>
                </a:cubicBezTo>
                <a:cubicBezTo>
                  <a:pt x="1520" y="980"/>
                  <a:pt x="1520" y="980"/>
                  <a:pt x="1520" y="980"/>
                </a:cubicBezTo>
                <a:cubicBezTo>
                  <a:pt x="1522" y="986"/>
                  <a:pt x="1522" y="986"/>
                  <a:pt x="1522" y="986"/>
                </a:cubicBezTo>
                <a:cubicBezTo>
                  <a:pt x="1524" y="992"/>
                  <a:pt x="1524" y="992"/>
                  <a:pt x="1524" y="992"/>
                </a:cubicBezTo>
                <a:cubicBezTo>
                  <a:pt x="1526" y="999"/>
                  <a:pt x="1526" y="999"/>
                  <a:pt x="1526" y="999"/>
                </a:cubicBezTo>
                <a:cubicBezTo>
                  <a:pt x="1528" y="1005"/>
                  <a:pt x="1528" y="1005"/>
                  <a:pt x="1528" y="1005"/>
                </a:cubicBezTo>
                <a:cubicBezTo>
                  <a:pt x="1530" y="1011"/>
                  <a:pt x="1530" y="1011"/>
                  <a:pt x="1530" y="1011"/>
                </a:cubicBezTo>
                <a:cubicBezTo>
                  <a:pt x="1532" y="1018"/>
                  <a:pt x="1532" y="1018"/>
                  <a:pt x="1532" y="1018"/>
                </a:cubicBezTo>
                <a:cubicBezTo>
                  <a:pt x="1534" y="1024"/>
                  <a:pt x="1534" y="1024"/>
                  <a:pt x="1534" y="1024"/>
                </a:cubicBezTo>
                <a:cubicBezTo>
                  <a:pt x="1536" y="1030"/>
                  <a:pt x="1536" y="1030"/>
                  <a:pt x="1536" y="1030"/>
                </a:cubicBezTo>
                <a:cubicBezTo>
                  <a:pt x="1538" y="1037"/>
                  <a:pt x="1538" y="1037"/>
                  <a:pt x="1538" y="1037"/>
                </a:cubicBezTo>
                <a:cubicBezTo>
                  <a:pt x="1540" y="1043"/>
                  <a:pt x="1540" y="1043"/>
                  <a:pt x="1540" y="1043"/>
                </a:cubicBezTo>
                <a:cubicBezTo>
                  <a:pt x="1542" y="1050"/>
                  <a:pt x="1542" y="1050"/>
                  <a:pt x="1542" y="1050"/>
                </a:cubicBezTo>
                <a:cubicBezTo>
                  <a:pt x="1544" y="1056"/>
                  <a:pt x="1544" y="1056"/>
                  <a:pt x="1544" y="1056"/>
                </a:cubicBezTo>
                <a:cubicBezTo>
                  <a:pt x="1546" y="1063"/>
                  <a:pt x="1546" y="1063"/>
                  <a:pt x="1546" y="1063"/>
                </a:cubicBezTo>
                <a:cubicBezTo>
                  <a:pt x="1548" y="1069"/>
                  <a:pt x="1548" y="1069"/>
                  <a:pt x="1548" y="1069"/>
                </a:cubicBezTo>
                <a:cubicBezTo>
                  <a:pt x="1550" y="1076"/>
                  <a:pt x="1550" y="1076"/>
                  <a:pt x="1550" y="1076"/>
                </a:cubicBezTo>
                <a:cubicBezTo>
                  <a:pt x="1552" y="1082"/>
                  <a:pt x="1552" y="1082"/>
                  <a:pt x="1552" y="1082"/>
                </a:cubicBezTo>
                <a:cubicBezTo>
                  <a:pt x="1554" y="1089"/>
                  <a:pt x="1554" y="1089"/>
                  <a:pt x="1554" y="1089"/>
                </a:cubicBezTo>
                <a:cubicBezTo>
                  <a:pt x="1556" y="1096"/>
                  <a:pt x="1556" y="1096"/>
                  <a:pt x="1556" y="1096"/>
                </a:cubicBezTo>
                <a:cubicBezTo>
                  <a:pt x="1558" y="1102"/>
                  <a:pt x="1558" y="1102"/>
                  <a:pt x="1558" y="1102"/>
                </a:cubicBezTo>
                <a:cubicBezTo>
                  <a:pt x="1560" y="1109"/>
                  <a:pt x="1560" y="1109"/>
                  <a:pt x="1560" y="1109"/>
                </a:cubicBezTo>
                <a:cubicBezTo>
                  <a:pt x="1562" y="1116"/>
                  <a:pt x="1562" y="1116"/>
                  <a:pt x="1562" y="1116"/>
                </a:cubicBezTo>
                <a:cubicBezTo>
                  <a:pt x="1564" y="1122"/>
                  <a:pt x="1564" y="1122"/>
                  <a:pt x="1564" y="1122"/>
                </a:cubicBezTo>
                <a:cubicBezTo>
                  <a:pt x="1566" y="1129"/>
                  <a:pt x="1566" y="1129"/>
                  <a:pt x="1566" y="1129"/>
                </a:cubicBezTo>
                <a:cubicBezTo>
                  <a:pt x="1568" y="1136"/>
                  <a:pt x="1568" y="1136"/>
                  <a:pt x="1568" y="1136"/>
                </a:cubicBezTo>
                <a:cubicBezTo>
                  <a:pt x="1570" y="1142"/>
                  <a:pt x="1570" y="1142"/>
                  <a:pt x="1570" y="1142"/>
                </a:cubicBezTo>
                <a:cubicBezTo>
                  <a:pt x="1572" y="1149"/>
                  <a:pt x="1572" y="1149"/>
                  <a:pt x="1572" y="1149"/>
                </a:cubicBezTo>
                <a:cubicBezTo>
                  <a:pt x="1574" y="1156"/>
                  <a:pt x="1574" y="1156"/>
                  <a:pt x="1574" y="1156"/>
                </a:cubicBezTo>
                <a:cubicBezTo>
                  <a:pt x="1576" y="1163"/>
                  <a:pt x="1576" y="1163"/>
                  <a:pt x="1576" y="1163"/>
                </a:cubicBezTo>
                <a:cubicBezTo>
                  <a:pt x="1578" y="1170"/>
                  <a:pt x="1578" y="1170"/>
                  <a:pt x="1578" y="1170"/>
                </a:cubicBezTo>
                <a:cubicBezTo>
                  <a:pt x="1580" y="1176"/>
                  <a:pt x="1580" y="1176"/>
                  <a:pt x="1580" y="1176"/>
                </a:cubicBezTo>
                <a:cubicBezTo>
                  <a:pt x="1582" y="1183"/>
                  <a:pt x="1582" y="1183"/>
                  <a:pt x="1582" y="1183"/>
                </a:cubicBezTo>
                <a:cubicBezTo>
                  <a:pt x="1584" y="1190"/>
                  <a:pt x="1584" y="1190"/>
                  <a:pt x="1584" y="1190"/>
                </a:cubicBezTo>
                <a:cubicBezTo>
                  <a:pt x="1586" y="1197"/>
                  <a:pt x="1586" y="1197"/>
                  <a:pt x="1586" y="1197"/>
                </a:cubicBezTo>
                <a:cubicBezTo>
                  <a:pt x="1588" y="1204"/>
                  <a:pt x="1588" y="1204"/>
                  <a:pt x="1588" y="1204"/>
                </a:cubicBezTo>
                <a:cubicBezTo>
                  <a:pt x="1590" y="1211"/>
                  <a:pt x="1590" y="1211"/>
                  <a:pt x="1590" y="1211"/>
                </a:cubicBezTo>
                <a:cubicBezTo>
                  <a:pt x="1592" y="1218"/>
                  <a:pt x="1592" y="1218"/>
                  <a:pt x="1592" y="1218"/>
                </a:cubicBezTo>
                <a:cubicBezTo>
                  <a:pt x="1594" y="1225"/>
                  <a:pt x="1594" y="1225"/>
                  <a:pt x="1594" y="1225"/>
                </a:cubicBezTo>
                <a:cubicBezTo>
                  <a:pt x="1596" y="1232"/>
                  <a:pt x="1596" y="1232"/>
                  <a:pt x="1596" y="1232"/>
                </a:cubicBezTo>
                <a:cubicBezTo>
                  <a:pt x="1598" y="1239"/>
                  <a:pt x="1598" y="1239"/>
                  <a:pt x="1598" y="1239"/>
                </a:cubicBezTo>
                <a:cubicBezTo>
                  <a:pt x="1600" y="1246"/>
                  <a:pt x="1600" y="1246"/>
                  <a:pt x="1600" y="1246"/>
                </a:cubicBezTo>
                <a:cubicBezTo>
                  <a:pt x="1602" y="1253"/>
                  <a:pt x="1602" y="1253"/>
                  <a:pt x="1602" y="1253"/>
                </a:cubicBezTo>
                <a:cubicBezTo>
                  <a:pt x="1604" y="1260"/>
                  <a:pt x="1604" y="1260"/>
                  <a:pt x="1604" y="1260"/>
                </a:cubicBezTo>
                <a:cubicBezTo>
                  <a:pt x="1606" y="1267"/>
                  <a:pt x="1606" y="1267"/>
                  <a:pt x="1606" y="1267"/>
                </a:cubicBezTo>
                <a:cubicBezTo>
                  <a:pt x="1608" y="1274"/>
                  <a:pt x="1608" y="1274"/>
                  <a:pt x="1608" y="1274"/>
                </a:cubicBezTo>
                <a:cubicBezTo>
                  <a:pt x="1610" y="1282"/>
                  <a:pt x="1610" y="1282"/>
                  <a:pt x="1610" y="1282"/>
                </a:cubicBezTo>
                <a:cubicBezTo>
                  <a:pt x="1612" y="1289"/>
                  <a:pt x="1612" y="1289"/>
                  <a:pt x="1612" y="1289"/>
                </a:cubicBezTo>
                <a:cubicBezTo>
                  <a:pt x="1614" y="1296"/>
                  <a:pt x="1614" y="1296"/>
                  <a:pt x="1614" y="1296"/>
                </a:cubicBezTo>
                <a:cubicBezTo>
                  <a:pt x="1616" y="1303"/>
                  <a:pt x="1616" y="1303"/>
                  <a:pt x="1616" y="1303"/>
                </a:cubicBezTo>
                <a:cubicBezTo>
                  <a:pt x="1618" y="1310"/>
                  <a:pt x="1618" y="1310"/>
                  <a:pt x="1618" y="1310"/>
                </a:cubicBezTo>
                <a:cubicBezTo>
                  <a:pt x="1620" y="1318"/>
                  <a:pt x="1620" y="1318"/>
                  <a:pt x="1620" y="1318"/>
                </a:cubicBezTo>
                <a:cubicBezTo>
                  <a:pt x="1622" y="1325"/>
                  <a:pt x="1622" y="1325"/>
                  <a:pt x="1622" y="1325"/>
                </a:cubicBezTo>
                <a:cubicBezTo>
                  <a:pt x="1624" y="1332"/>
                  <a:pt x="1624" y="1332"/>
                  <a:pt x="1624" y="1332"/>
                </a:cubicBezTo>
                <a:cubicBezTo>
                  <a:pt x="1626" y="1340"/>
                  <a:pt x="1626" y="1340"/>
                  <a:pt x="1626" y="1340"/>
                </a:cubicBezTo>
                <a:cubicBezTo>
                  <a:pt x="1628" y="1347"/>
                  <a:pt x="1628" y="1347"/>
                  <a:pt x="1628" y="1347"/>
                </a:cubicBezTo>
                <a:cubicBezTo>
                  <a:pt x="1630" y="1354"/>
                  <a:pt x="1630" y="1354"/>
                  <a:pt x="1630" y="1354"/>
                </a:cubicBezTo>
                <a:cubicBezTo>
                  <a:pt x="1632" y="1362"/>
                  <a:pt x="1632" y="1362"/>
                  <a:pt x="1632" y="1362"/>
                </a:cubicBezTo>
                <a:cubicBezTo>
                  <a:pt x="1634" y="1369"/>
                  <a:pt x="1634" y="1369"/>
                  <a:pt x="1634" y="1369"/>
                </a:cubicBezTo>
                <a:cubicBezTo>
                  <a:pt x="1636" y="1376"/>
                  <a:pt x="1636" y="1376"/>
                  <a:pt x="1636" y="1376"/>
                </a:cubicBezTo>
                <a:cubicBezTo>
                  <a:pt x="1638" y="1384"/>
                  <a:pt x="1638" y="1384"/>
                  <a:pt x="1638" y="1384"/>
                </a:cubicBezTo>
                <a:cubicBezTo>
                  <a:pt x="1640" y="1391"/>
                  <a:pt x="1640" y="1391"/>
                  <a:pt x="1640" y="1391"/>
                </a:cubicBezTo>
                <a:cubicBezTo>
                  <a:pt x="1642" y="1399"/>
                  <a:pt x="1642" y="1399"/>
                  <a:pt x="1642" y="1399"/>
                </a:cubicBezTo>
                <a:cubicBezTo>
                  <a:pt x="1644" y="1406"/>
                  <a:pt x="1644" y="1406"/>
                  <a:pt x="1644" y="1406"/>
                </a:cubicBezTo>
                <a:cubicBezTo>
                  <a:pt x="1646" y="1414"/>
                  <a:pt x="1646" y="1414"/>
                  <a:pt x="1646" y="1414"/>
                </a:cubicBezTo>
                <a:cubicBezTo>
                  <a:pt x="1648" y="1421"/>
                  <a:pt x="1648" y="1421"/>
                  <a:pt x="1648" y="1421"/>
                </a:cubicBezTo>
                <a:cubicBezTo>
                  <a:pt x="1650" y="1429"/>
                  <a:pt x="1650" y="1429"/>
                  <a:pt x="1650" y="1429"/>
                </a:cubicBezTo>
                <a:cubicBezTo>
                  <a:pt x="1652" y="1436"/>
                  <a:pt x="1652" y="1436"/>
                  <a:pt x="1652" y="1436"/>
                </a:cubicBezTo>
                <a:cubicBezTo>
                  <a:pt x="1654" y="1444"/>
                  <a:pt x="1654" y="1444"/>
                  <a:pt x="1654" y="1444"/>
                </a:cubicBezTo>
                <a:cubicBezTo>
                  <a:pt x="1656" y="1452"/>
                  <a:pt x="1656" y="1452"/>
                  <a:pt x="1656" y="1452"/>
                </a:cubicBezTo>
                <a:cubicBezTo>
                  <a:pt x="1658" y="1459"/>
                  <a:pt x="1658" y="1459"/>
                  <a:pt x="1658" y="1459"/>
                </a:cubicBezTo>
                <a:cubicBezTo>
                  <a:pt x="1660" y="1467"/>
                  <a:pt x="1660" y="1467"/>
                  <a:pt x="1660" y="1467"/>
                </a:cubicBezTo>
                <a:cubicBezTo>
                  <a:pt x="1662" y="1475"/>
                  <a:pt x="1662" y="1475"/>
                  <a:pt x="1662" y="1475"/>
                </a:cubicBezTo>
                <a:cubicBezTo>
                  <a:pt x="1664" y="1482"/>
                  <a:pt x="1664" y="1482"/>
                  <a:pt x="1664" y="1482"/>
                </a:cubicBezTo>
                <a:cubicBezTo>
                  <a:pt x="1666" y="1490"/>
                  <a:pt x="1666" y="1490"/>
                  <a:pt x="1666" y="1490"/>
                </a:cubicBezTo>
                <a:cubicBezTo>
                  <a:pt x="1668" y="1498"/>
                  <a:pt x="1668" y="1498"/>
                  <a:pt x="1668" y="1498"/>
                </a:cubicBezTo>
                <a:cubicBezTo>
                  <a:pt x="1670" y="1505"/>
                  <a:pt x="1670" y="1505"/>
                  <a:pt x="1670" y="1505"/>
                </a:cubicBezTo>
                <a:cubicBezTo>
                  <a:pt x="1672" y="1513"/>
                  <a:pt x="1672" y="1513"/>
                  <a:pt x="1672" y="1513"/>
                </a:cubicBezTo>
                <a:cubicBezTo>
                  <a:pt x="1674" y="1521"/>
                  <a:pt x="1674" y="1521"/>
                  <a:pt x="1674" y="1521"/>
                </a:cubicBezTo>
                <a:cubicBezTo>
                  <a:pt x="1676" y="1529"/>
                  <a:pt x="1676" y="1529"/>
                  <a:pt x="1676" y="1529"/>
                </a:cubicBezTo>
                <a:cubicBezTo>
                  <a:pt x="1678" y="1537"/>
                  <a:pt x="1678" y="1537"/>
                  <a:pt x="1678" y="1537"/>
                </a:cubicBezTo>
                <a:cubicBezTo>
                  <a:pt x="1680" y="1544"/>
                  <a:pt x="1680" y="1544"/>
                  <a:pt x="1680" y="1544"/>
                </a:cubicBezTo>
                <a:cubicBezTo>
                  <a:pt x="1682" y="1552"/>
                  <a:pt x="1682" y="1552"/>
                  <a:pt x="1682" y="1552"/>
                </a:cubicBezTo>
                <a:cubicBezTo>
                  <a:pt x="1684" y="1560"/>
                  <a:pt x="1684" y="1560"/>
                  <a:pt x="1684" y="1560"/>
                </a:cubicBezTo>
                <a:cubicBezTo>
                  <a:pt x="1686" y="1568"/>
                  <a:pt x="1686" y="1568"/>
                  <a:pt x="1686" y="1568"/>
                </a:cubicBezTo>
                <a:cubicBezTo>
                  <a:pt x="1688" y="1576"/>
                  <a:pt x="1688" y="1576"/>
                  <a:pt x="1688" y="1576"/>
                </a:cubicBezTo>
                <a:cubicBezTo>
                  <a:pt x="1690" y="1584"/>
                  <a:pt x="1690" y="1584"/>
                  <a:pt x="1690" y="1584"/>
                </a:cubicBezTo>
                <a:cubicBezTo>
                  <a:pt x="1692" y="1592"/>
                  <a:pt x="1692" y="1592"/>
                  <a:pt x="1692" y="1592"/>
                </a:cubicBezTo>
                <a:cubicBezTo>
                  <a:pt x="1694" y="1600"/>
                  <a:pt x="1694" y="1600"/>
                  <a:pt x="1694" y="1600"/>
                </a:cubicBezTo>
                <a:cubicBezTo>
                  <a:pt x="1696" y="1608"/>
                  <a:pt x="1696" y="1608"/>
                  <a:pt x="1696" y="1608"/>
                </a:cubicBezTo>
                <a:cubicBezTo>
                  <a:pt x="1698" y="1616"/>
                  <a:pt x="1698" y="1616"/>
                  <a:pt x="1698" y="1616"/>
                </a:cubicBezTo>
                <a:cubicBezTo>
                  <a:pt x="1700" y="1624"/>
                  <a:pt x="1700" y="1624"/>
                  <a:pt x="1700" y="1624"/>
                </a:cubicBezTo>
                <a:cubicBezTo>
                  <a:pt x="1702" y="1632"/>
                  <a:pt x="1702" y="1632"/>
                  <a:pt x="1702" y="1632"/>
                </a:cubicBezTo>
                <a:cubicBezTo>
                  <a:pt x="1704" y="1640"/>
                  <a:pt x="1704" y="1640"/>
                  <a:pt x="1704" y="1640"/>
                </a:cubicBezTo>
                <a:cubicBezTo>
                  <a:pt x="1706" y="1648"/>
                  <a:pt x="1706" y="1648"/>
                  <a:pt x="1706" y="1648"/>
                </a:cubicBezTo>
                <a:cubicBezTo>
                  <a:pt x="1708" y="1656"/>
                  <a:pt x="1708" y="1656"/>
                  <a:pt x="1708" y="1656"/>
                </a:cubicBezTo>
                <a:cubicBezTo>
                  <a:pt x="1710" y="1665"/>
                  <a:pt x="1710" y="1665"/>
                  <a:pt x="1710" y="1665"/>
                </a:cubicBezTo>
                <a:cubicBezTo>
                  <a:pt x="1712" y="1673"/>
                  <a:pt x="1712" y="1673"/>
                  <a:pt x="1712" y="1673"/>
                </a:cubicBezTo>
                <a:cubicBezTo>
                  <a:pt x="1714" y="1681"/>
                  <a:pt x="1714" y="1681"/>
                  <a:pt x="1714" y="1681"/>
                </a:cubicBezTo>
                <a:cubicBezTo>
                  <a:pt x="1716" y="1689"/>
                  <a:pt x="1716" y="1689"/>
                  <a:pt x="1716" y="1689"/>
                </a:cubicBezTo>
                <a:cubicBezTo>
                  <a:pt x="1718" y="1697"/>
                  <a:pt x="1718" y="1697"/>
                  <a:pt x="1718" y="1697"/>
                </a:cubicBezTo>
                <a:cubicBezTo>
                  <a:pt x="1720" y="1706"/>
                  <a:pt x="1720" y="1706"/>
                  <a:pt x="1720" y="1706"/>
                </a:cubicBezTo>
                <a:cubicBezTo>
                  <a:pt x="1722" y="1714"/>
                  <a:pt x="1722" y="1714"/>
                  <a:pt x="1722" y="1714"/>
                </a:cubicBezTo>
                <a:cubicBezTo>
                  <a:pt x="1724" y="1722"/>
                  <a:pt x="1724" y="1722"/>
                  <a:pt x="1724" y="1722"/>
                </a:cubicBezTo>
                <a:cubicBezTo>
                  <a:pt x="1726" y="1731"/>
                  <a:pt x="1726" y="1731"/>
                  <a:pt x="1726" y="1731"/>
                </a:cubicBezTo>
                <a:cubicBezTo>
                  <a:pt x="1728" y="1739"/>
                  <a:pt x="1728" y="1739"/>
                  <a:pt x="1728" y="1739"/>
                </a:cubicBezTo>
                <a:cubicBezTo>
                  <a:pt x="1730" y="1747"/>
                  <a:pt x="1730" y="1747"/>
                  <a:pt x="1730" y="1747"/>
                </a:cubicBezTo>
                <a:cubicBezTo>
                  <a:pt x="1732" y="1756"/>
                  <a:pt x="1732" y="1756"/>
                  <a:pt x="1732" y="1756"/>
                </a:cubicBezTo>
                <a:cubicBezTo>
                  <a:pt x="1734" y="1764"/>
                  <a:pt x="1734" y="1764"/>
                  <a:pt x="1734" y="1764"/>
                </a:cubicBezTo>
                <a:cubicBezTo>
                  <a:pt x="1736" y="1772"/>
                  <a:pt x="1736" y="1772"/>
                  <a:pt x="1736" y="1772"/>
                </a:cubicBezTo>
                <a:cubicBezTo>
                  <a:pt x="1738" y="1781"/>
                  <a:pt x="1738" y="1781"/>
                  <a:pt x="1738" y="1781"/>
                </a:cubicBezTo>
                <a:cubicBezTo>
                  <a:pt x="1740" y="1789"/>
                  <a:pt x="1740" y="1789"/>
                  <a:pt x="1740" y="1789"/>
                </a:cubicBezTo>
                <a:cubicBezTo>
                  <a:pt x="1742" y="1798"/>
                  <a:pt x="1742" y="1798"/>
                  <a:pt x="1742" y="1798"/>
                </a:cubicBezTo>
                <a:cubicBezTo>
                  <a:pt x="1744" y="1806"/>
                  <a:pt x="1744" y="1806"/>
                  <a:pt x="1744" y="1806"/>
                </a:cubicBezTo>
                <a:cubicBezTo>
                  <a:pt x="1746" y="1815"/>
                  <a:pt x="1746" y="1815"/>
                  <a:pt x="1746" y="1815"/>
                </a:cubicBezTo>
                <a:cubicBezTo>
                  <a:pt x="1748" y="1823"/>
                  <a:pt x="1748" y="1823"/>
                  <a:pt x="1748" y="1823"/>
                </a:cubicBezTo>
                <a:cubicBezTo>
                  <a:pt x="1750" y="1832"/>
                  <a:pt x="1750" y="1832"/>
                  <a:pt x="1750" y="1832"/>
                </a:cubicBezTo>
                <a:cubicBezTo>
                  <a:pt x="1752" y="1840"/>
                  <a:pt x="1752" y="1840"/>
                  <a:pt x="1752" y="1840"/>
                </a:cubicBezTo>
                <a:cubicBezTo>
                  <a:pt x="1754" y="1849"/>
                  <a:pt x="1754" y="1849"/>
                  <a:pt x="1754" y="1849"/>
                </a:cubicBezTo>
                <a:cubicBezTo>
                  <a:pt x="1756" y="1858"/>
                  <a:pt x="1756" y="1858"/>
                  <a:pt x="1756" y="1858"/>
                </a:cubicBezTo>
                <a:cubicBezTo>
                  <a:pt x="1758" y="1866"/>
                  <a:pt x="1758" y="1866"/>
                  <a:pt x="1758" y="1866"/>
                </a:cubicBezTo>
                <a:cubicBezTo>
                  <a:pt x="1760" y="1875"/>
                  <a:pt x="1760" y="1875"/>
                  <a:pt x="1760" y="1875"/>
                </a:cubicBezTo>
                <a:cubicBezTo>
                  <a:pt x="1762" y="1884"/>
                  <a:pt x="1762" y="1884"/>
                  <a:pt x="1762" y="1884"/>
                </a:cubicBezTo>
                <a:cubicBezTo>
                  <a:pt x="1764" y="1892"/>
                  <a:pt x="1764" y="1892"/>
                  <a:pt x="1764" y="1892"/>
                </a:cubicBezTo>
                <a:cubicBezTo>
                  <a:pt x="1766" y="1901"/>
                  <a:pt x="1766" y="1901"/>
                  <a:pt x="1766" y="1901"/>
                </a:cubicBezTo>
                <a:cubicBezTo>
                  <a:pt x="1768" y="1910"/>
                  <a:pt x="1768" y="1910"/>
                  <a:pt x="1768" y="1910"/>
                </a:cubicBezTo>
                <a:cubicBezTo>
                  <a:pt x="1770" y="1918"/>
                  <a:pt x="1770" y="1918"/>
                  <a:pt x="1770" y="1918"/>
                </a:cubicBezTo>
                <a:cubicBezTo>
                  <a:pt x="1772" y="1927"/>
                  <a:pt x="1772" y="1927"/>
                  <a:pt x="1772" y="1927"/>
                </a:cubicBezTo>
                <a:cubicBezTo>
                  <a:pt x="1774" y="1936"/>
                  <a:pt x="1774" y="1936"/>
                  <a:pt x="1774" y="1936"/>
                </a:cubicBezTo>
                <a:cubicBezTo>
                  <a:pt x="1776" y="1945"/>
                  <a:pt x="1776" y="1945"/>
                  <a:pt x="1776" y="1945"/>
                </a:cubicBezTo>
                <a:cubicBezTo>
                  <a:pt x="1778" y="1954"/>
                  <a:pt x="1778" y="1954"/>
                  <a:pt x="1778" y="1954"/>
                </a:cubicBezTo>
                <a:cubicBezTo>
                  <a:pt x="1780" y="1962"/>
                  <a:pt x="1780" y="1962"/>
                  <a:pt x="1780" y="1962"/>
                </a:cubicBezTo>
                <a:cubicBezTo>
                  <a:pt x="1782" y="1971"/>
                  <a:pt x="1782" y="1971"/>
                  <a:pt x="1782" y="1971"/>
                </a:cubicBezTo>
                <a:cubicBezTo>
                  <a:pt x="1784" y="1980"/>
                  <a:pt x="1784" y="1980"/>
                  <a:pt x="1784" y="1980"/>
                </a:cubicBezTo>
                <a:cubicBezTo>
                  <a:pt x="1786" y="1989"/>
                  <a:pt x="1786" y="1989"/>
                  <a:pt x="1786" y="1989"/>
                </a:cubicBezTo>
                <a:cubicBezTo>
                  <a:pt x="1788" y="1998"/>
                  <a:pt x="1788" y="1998"/>
                  <a:pt x="1788" y="1998"/>
                </a:cubicBezTo>
              </a:path>
            </a:pathLst>
          </a:custGeom>
          <a:noFill/>
          <a:ln w="38160">
            <a:solidFill>
              <a:srgbClr val="0062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Text Box 97"/>
          <p:cNvSpPr/>
          <p:nvPr/>
        </p:nvSpPr>
        <p:spPr>
          <a:xfrm>
            <a:off x="2918160" y="3789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Freeform 98"/>
          <p:cNvSpPr/>
          <p:nvPr/>
        </p:nvSpPr>
        <p:spPr>
          <a:xfrm rot="5400000">
            <a:off x="5076360" y="3357360"/>
            <a:ext cx="1218960" cy="1219320"/>
          </a:xfrm>
          <a:custGeom>
            <a:avLst/>
            <a:gdLst>
              <a:gd name="textAreaLeft" fmla="*/ 0 w 1218960"/>
              <a:gd name="textAreaRight" fmla="*/ 1219320 w 1218960"/>
              <a:gd name="textAreaTop" fmla="*/ 0 h 1219320"/>
              <a:gd name="textAreaBottom" fmla="*/ 1219680 h 1219320"/>
            </a:gdLst>
            <a:ahLst/>
            <a:rect l="textAreaLeft" t="textAreaTop" r="textAreaRight" b="textAreaBottom"/>
            <a:pathLst>
              <a:path w="1920" h="1920">
                <a:moveTo>
                  <a:pt x="0" y="0"/>
                </a:moveTo>
                <a:cubicBezTo>
                  <a:pt x="8" y="0"/>
                  <a:pt x="8" y="0"/>
                  <a:pt x="8" y="0"/>
                </a:cubicBezTo>
                <a:cubicBezTo>
                  <a:pt x="16" y="1"/>
                  <a:pt x="16" y="1"/>
                  <a:pt x="16" y="1"/>
                </a:cubicBezTo>
                <a:cubicBezTo>
                  <a:pt x="24" y="1"/>
                  <a:pt x="24" y="1"/>
                  <a:pt x="24" y="1"/>
                </a:cubicBezTo>
                <a:cubicBezTo>
                  <a:pt x="32" y="1"/>
                  <a:pt x="32" y="1"/>
                  <a:pt x="32" y="1"/>
                </a:cubicBezTo>
                <a:cubicBezTo>
                  <a:pt x="40" y="2"/>
                  <a:pt x="40" y="2"/>
                  <a:pt x="40" y="2"/>
                </a:cubicBezTo>
                <a:cubicBezTo>
                  <a:pt x="48" y="2"/>
                  <a:pt x="48" y="2"/>
                  <a:pt x="48" y="2"/>
                </a:cubicBezTo>
                <a:cubicBezTo>
                  <a:pt x="56" y="2"/>
                  <a:pt x="56" y="2"/>
                  <a:pt x="56" y="2"/>
                </a:cubicBezTo>
                <a:cubicBezTo>
                  <a:pt x="64" y="3"/>
                  <a:pt x="64" y="3"/>
                  <a:pt x="64" y="3"/>
                </a:cubicBezTo>
                <a:cubicBezTo>
                  <a:pt x="72" y="3"/>
                  <a:pt x="72" y="3"/>
                  <a:pt x="72" y="3"/>
                </a:cubicBezTo>
                <a:cubicBezTo>
                  <a:pt x="80" y="3"/>
                  <a:pt x="80" y="3"/>
                  <a:pt x="80" y="3"/>
                </a:cubicBezTo>
                <a:cubicBezTo>
                  <a:pt x="88" y="4"/>
                  <a:pt x="88" y="4"/>
                  <a:pt x="88" y="4"/>
                </a:cubicBezTo>
                <a:cubicBezTo>
                  <a:pt x="96" y="4"/>
                  <a:pt x="96" y="4"/>
                  <a:pt x="96" y="4"/>
                </a:cubicBezTo>
                <a:cubicBezTo>
                  <a:pt x="104" y="4"/>
                  <a:pt x="104" y="4"/>
                  <a:pt x="104" y="4"/>
                </a:cubicBezTo>
                <a:cubicBezTo>
                  <a:pt x="112" y="5"/>
                  <a:pt x="112" y="5"/>
                  <a:pt x="112" y="5"/>
                </a:cubicBezTo>
                <a:cubicBezTo>
                  <a:pt x="120" y="5"/>
                  <a:pt x="120" y="5"/>
                  <a:pt x="120" y="5"/>
                </a:cubicBezTo>
                <a:cubicBezTo>
                  <a:pt x="128" y="5"/>
                  <a:pt x="128" y="5"/>
                  <a:pt x="128" y="5"/>
                </a:cubicBezTo>
                <a:cubicBezTo>
                  <a:pt x="136" y="6"/>
                  <a:pt x="136" y="6"/>
                  <a:pt x="136" y="6"/>
                </a:cubicBezTo>
                <a:cubicBezTo>
                  <a:pt x="144" y="6"/>
                  <a:pt x="144" y="6"/>
                  <a:pt x="144" y="6"/>
                </a:cubicBezTo>
                <a:cubicBezTo>
                  <a:pt x="152" y="7"/>
                  <a:pt x="152" y="7"/>
                  <a:pt x="152" y="7"/>
                </a:cubicBezTo>
                <a:cubicBezTo>
                  <a:pt x="160" y="7"/>
                  <a:pt x="160" y="7"/>
                  <a:pt x="160" y="7"/>
                </a:cubicBezTo>
                <a:cubicBezTo>
                  <a:pt x="168" y="7"/>
                  <a:pt x="168" y="7"/>
                  <a:pt x="168" y="7"/>
                </a:cubicBezTo>
                <a:cubicBezTo>
                  <a:pt x="176" y="8"/>
                  <a:pt x="176" y="8"/>
                  <a:pt x="176" y="8"/>
                </a:cubicBezTo>
                <a:cubicBezTo>
                  <a:pt x="184" y="8"/>
                  <a:pt x="184" y="8"/>
                  <a:pt x="184" y="8"/>
                </a:cubicBezTo>
                <a:cubicBezTo>
                  <a:pt x="192" y="8"/>
                  <a:pt x="192" y="8"/>
                  <a:pt x="192" y="8"/>
                </a:cubicBezTo>
                <a:cubicBezTo>
                  <a:pt x="200" y="9"/>
                  <a:pt x="200" y="9"/>
                  <a:pt x="200" y="9"/>
                </a:cubicBezTo>
                <a:cubicBezTo>
                  <a:pt x="208" y="9"/>
                  <a:pt x="208" y="9"/>
                  <a:pt x="208" y="9"/>
                </a:cubicBezTo>
                <a:cubicBezTo>
                  <a:pt x="216" y="10"/>
                  <a:pt x="216" y="10"/>
                  <a:pt x="216" y="10"/>
                </a:cubicBezTo>
                <a:cubicBezTo>
                  <a:pt x="224" y="10"/>
                  <a:pt x="224" y="10"/>
                  <a:pt x="224" y="10"/>
                </a:cubicBezTo>
                <a:cubicBezTo>
                  <a:pt x="232" y="10"/>
                  <a:pt x="232" y="10"/>
                  <a:pt x="232" y="10"/>
                </a:cubicBezTo>
                <a:cubicBezTo>
                  <a:pt x="240" y="11"/>
                  <a:pt x="240" y="11"/>
                  <a:pt x="240" y="11"/>
                </a:cubicBezTo>
                <a:cubicBezTo>
                  <a:pt x="248" y="11"/>
                  <a:pt x="248" y="11"/>
                  <a:pt x="248" y="11"/>
                </a:cubicBezTo>
                <a:cubicBezTo>
                  <a:pt x="256" y="12"/>
                  <a:pt x="256" y="12"/>
                  <a:pt x="256" y="12"/>
                </a:cubicBezTo>
                <a:cubicBezTo>
                  <a:pt x="264" y="12"/>
                  <a:pt x="264" y="12"/>
                  <a:pt x="264" y="12"/>
                </a:cubicBezTo>
                <a:cubicBezTo>
                  <a:pt x="272" y="13"/>
                  <a:pt x="272" y="13"/>
                  <a:pt x="272" y="13"/>
                </a:cubicBezTo>
                <a:cubicBezTo>
                  <a:pt x="280" y="13"/>
                  <a:pt x="280" y="13"/>
                  <a:pt x="280" y="13"/>
                </a:cubicBezTo>
                <a:cubicBezTo>
                  <a:pt x="288" y="13"/>
                  <a:pt x="288" y="13"/>
                  <a:pt x="288" y="13"/>
                </a:cubicBezTo>
                <a:cubicBezTo>
                  <a:pt x="296" y="14"/>
                  <a:pt x="296" y="14"/>
                  <a:pt x="296" y="14"/>
                </a:cubicBezTo>
                <a:cubicBezTo>
                  <a:pt x="304" y="14"/>
                  <a:pt x="304" y="14"/>
                  <a:pt x="304" y="14"/>
                </a:cubicBezTo>
                <a:cubicBezTo>
                  <a:pt x="312" y="15"/>
                  <a:pt x="312" y="15"/>
                  <a:pt x="312" y="15"/>
                </a:cubicBezTo>
                <a:cubicBezTo>
                  <a:pt x="320" y="15"/>
                  <a:pt x="320" y="15"/>
                  <a:pt x="320" y="15"/>
                </a:cubicBezTo>
                <a:cubicBezTo>
                  <a:pt x="328" y="16"/>
                  <a:pt x="328" y="16"/>
                  <a:pt x="328" y="16"/>
                </a:cubicBezTo>
                <a:cubicBezTo>
                  <a:pt x="336" y="16"/>
                  <a:pt x="336" y="16"/>
                  <a:pt x="336" y="16"/>
                </a:cubicBezTo>
                <a:cubicBezTo>
                  <a:pt x="344" y="17"/>
                  <a:pt x="344" y="17"/>
                  <a:pt x="344" y="17"/>
                </a:cubicBezTo>
                <a:cubicBezTo>
                  <a:pt x="352" y="17"/>
                  <a:pt x="352" y="17"/>
                  <a:pt x="352" y="17"/>
                </a:cubicBezTo>
                <a:cubicBezTo>
                  <a:pt x="360" y="18"/>
                  <a:pt x="360" y="18"/>
                  <a:pt x="360" y="18"/>
                </a:cubicBezTo>
                <a:cubicBezTo>
                  <a:pt x="368" y="18"/>
                  <a:pt x="368" y="18"/>
                  <a:pt x="368" y="18"/>
                </a:cubicBezTo>
                <a:cubicBezTo>
                  <a:pt x="376" y="19"/>
                  <a:pt x="376" y="19"/>
                  <a:pt x="376" y="19"/>
                </a:cubicBezTo>
                <a:cubicBezTo>
                  <a:pt x="384" y="19"/>
                  <a:pt x="384" y="19"/>
                  <a:pt x="384" y="19"/>
                </a:cubicBezTo>
                <a:cubicBezTo>
                  <a:pt x="392" y="20"/>
                  <a:pt x="392" y="20"/>
                  <a:pt x="392" y="20"/>
                </a:cubicBezTo>
                <a:cubicBezTo>
                  <a:pt x="400" y="20"/>
                  <a:pt x="400" y="20"/>
                  <a:pt x="400" y="20"/>
                </a:cubicBezTo>
                <a:cubicBezTo>
                  <a:pt x="408" y="21"/>
                  <a:pt x="408" y="21"/>
                  <a:pt x="408" y="21"/>
                </a:cubicBezTo>
                <a:cubicBezTo>
                  <a:pt x="416" y="21"/>
                  <a:pt x="416" y="21"/>
                  <a:pt x="416" y="21"/>
                </a:cubicBezTo>
                <a:cubicBezTo>
                  <a:pt x="424" y="22"/>
                  <a:pt x="424" y="22"/>
                  <a:pt x="424" y="22"/>
                </a:cubicBezTo>
                <a:cubicBezTo>
                  <a:pt x="432" y="22"/>
                  <a:pt x="432" y="22"/>
                  <a:pt x="432" y="22"/>
                </a:cubicBezTo>
                <a:cubicBezTo>
                  <a:pt x="440" y="23"/>
                  <a:pt x="440" y="23"/>
                  <a:pt x="440" y="23"/>
                </a:cubicBezTo>
                <a:cubicBezTo>
                  <a:pt x="448" y="23"/>
                  <a:pt x="448" y="23"/>
                  <a:pt x="448" y="23"/>
                </a:cubicBezTo>
                <a:cubicBezTo>
                  <a:pt x="456" y="24"/>
                  <a:pt x="456" y="24"/>
                  <a:pt x="456" y="24"/>
                </a:cubicBezTo>
                <a:cubicBezTo>
                  <a:pt x="464" y="24"/>
                  <a:pt x="464" y="24"/>
                  <a:pt x="464" y="24"/>
                </a:cubicBezTo>
                <a:cubicBezTo>
                  <a:pt x="472" y="25"/>
                  <a:pt x="472" y="25"/>
                  <a:pt x="472" y="25"/>
                </a:cubicBezTo>
                <a:cubicBezTo>
                  <a:pt x="480" y="25"/>
                  <a:pt x="480" y="25"/>
                  <a:pt x="480" y="25"/>
                </a:cubicBezTo>
                <a:cubicBezTo>
                  <a:pt x="488" y="26"/>
                  <a:pt x="488" y="26"/>
                  <a:pt x="488" y="26"/>
                </a:cubicBezTo>
                <a:cubicBezTo>
                  <a:pt x="496" y="26"/>
                  <a:pt x="496" y="26"/>
                  <a:pt x="496" y="26"/>
                </a:cubicBezTo>
                <a:cubicBezTo>
                  <a:pt x="504" y="27"/>
                  <a:pt x="504" y="27"/>
                  <a:pt x="504" y="27"/>
                </a:cubicBezTo>
                <a:cubicBezTo>
                  <a:pt x="512" y="28"/>
                  <a:pt x="512" y="28"/>
                  <a:pt x="512" y="28"/>
                </a:cubicBezTo>
                <a:cubicBezTo>
                  <a:pt x="520" y="28"/>
                  <a:pt x="520" y="28"/>
                  <a:pt x="520" y="28"/>
                </a:cubicBezTo>
                <a:cubicBezTo>
                  <a:pt x="528" y="29"/>
                  <a:pt x="528" y="29"/>
                  <a:pt x="528" y="29"/>
                </a:cubicBezTo>
                <a:cubicBezTo>
                  <a:pt x="536" y="29"/>
                  <a:pt x="536" y="29"/>
                  <a:pt x="536" y="29"/>
                </a:cubicBezTo>
                <a:cubicBezTo>
                  <a:pt x="544" y="30"/>
                  <a:pt x="544" y="30"/>
                  <a:pt x="544" y="30"/>
                </a:cubicBezTo>
                <a:cubicBezTo>
                  <a:pt x="552" y="30"/>
                  <a:pt x="552" y="30"/>
                  <a:pt x="552" y="30"/>
                </a:cubicBezTo>
                <a:cubicBezTo>
                  <a:pt x="560" y="31"/>
                  <a:pt x="560" y="31"/>
                  <a:pt x="560" y="31"/>
                </a:cubicBezTo>
                <a:cubicBezTo>
                  <a:pt x="568" y="32"/>
                  <a:pt x="568" y="32"/>
                  <a:pt x="568" y="32"/>
                </a:cubicBezTo>
                <a:cubicBezTo>
                  <a:pt x="576" y="32"/>
                  <a:pt x="576" y="32"/>
                  <a:pt x="576" y="32"/>
                </a:cubicBezTo>
                <a:cubicBezTo>
                  <a:pt x="584" y="33"/>
                  <a:pt x="584" y="33"/>
                  <a:pt x="584" y="33"/>
                </a:cubicBezTo>
                <a:cubicBezTo>
                  <a:pt x="592" y="34"/>
                  <a:pt x="592" y="34"/>
                  <a:pt x="592" y="34"/>
                </a:cubicBezTo>
                <a:cubicBezTo>
                  <a:pt x="600" y="34"/>
                  <a:pt x="600" y="34"/>
                  <a:pt x="600" y="34"/>
                </a:cubicBezTo>
                <a:cubicBezTo>
                  <a:pt x="608" y="35"/>
                  <a:pt x="608" y="35"/>
                  <a:pt x="608" y="35"/>
                </a:cubicBezTo>
                <a:cubicBezTo>
                  <a:pt x="616" y="36"/>
                  <a:pt x="616" y="36"/>
                  <a:pt x="616" y="36"/>
                </a:cubicBezTo>
                <a:cubicBezTo>
                  <a:pt x="624" y="36"/>
                  <a:pt x="624" y="36"/>
                  <a:pt x="624" y="36"/>
                </a:cubicBezTo>
                <a:cubicBezTo>
                  <a:pt x="632" y="37"/>
                  <a:pt x="632" y="37"/>
                  <a:pt x="632" y="37"/>
                </a:cubicBezTo>
                <a:cubicBezTo>
                  <a:pt x="640" y="38"/>
                  <a:pt x="640" y="38"/>
                  <a:pt x="640" y="38"/>
                </a:cubicBezTo>
                <a:cubicBezTo>
                  <a:pt x="648" y="38"/>
                  <a:pt x="648" y="38"/>
                  <a:pt x="648" y="38"/>
                </a:cubicBezTo>
                <a:cubicBezTo>
                  <a:pt x="656" y="39"/>
                  <a:pt x="656" y="39"/>
                  <a:pt x="656" y="39"/>
                </a:cubicBezTo>
                <a:cubicBezTo>
                  <a:pt x="664" y="40"/>
                  <a:pt x="664" y="40"/>
                  <a:pt x="664" y="40"/>
                </a:cubicBezTo>
                <a:cubicBezTo>
                  <a:pt x="672" y="40"/>
                  <a:pt x="672" y="40"/>
                  <a:pt x="672" y="40"/>
                </a:cubicBezTo>
                <a:cubicBezTo>
                  <a:pt x="680" y="41"/>
                  <a:pt x="680" y="41"/>
                  <a:pt x="680" y="41"/>
                </a:cubicBezTo>
                <a:cubicBezTo>
                  <a:pt x="688" y="42"/>
                  <a:pt x="688" y="42"/>
                  <a:pt x="688" y="42"/>
                </a:cubicBezTo>
                <a:cubicBezTo>
                  <a:pt x="696" y="43"/>
                  <a:pt x="696" y="43"/>
                  <a:pt x="696" y="43"/>
                </a:cubicBezTo>
                <a:cubicBezTo>
                  <a:pt x="704" y="43"/>
                  <a:pt x="704" y="43"/>
                  <a:pt x="704" y="43"/>
                </a:cubicBezTo>
                <a:cubicBezTo>
                  <a:pt x="712" y="44"/>
                  <a:pt x="712" y="44"/>
                  <a:pt x="712" y="44"/>
                </a:cubicBezTo>
                <a:cubicBezTo>
                  <a:pt x="720" y="45"/>
                  <a:pt x="720" y="45"/>
                  <a:pt x="720" y="45"/>
                </a:cubicBezTo>
                <a:cubicBezTo>
                  <a:pt x="728" y="46"/>
                  <a:pt x="728" y="46"/>
                  <a:pt x="728" y="46"/>
                </a:cubicBezTo>
                <a:cubicBezTo>
                  <a:pt x="736" y="47"/>
                  <a:pt x="736" y="47"/>
                  <a:pt x="736" y="47"/>
                </a:cubicBezTo>
                <a:cubicBezTo>
                  <a:pt x="744" y="47"/>
                  <a:pt x="744" y="47"/>
                  <a:pt x="744" y="47"/>
                </a:cubicBezTo>
                <a:cubicBezTo>
                  <a:pt x="752" y="48"/>
                  <a:pt x="752" y="48"/>
                  <a:pt x="752" y="48"/>
                </a:cubicBezTo>
                <a:cubicBezTo>
                  <a:pt x="760" y="49"/>
                  <a:pt x="760" y="49"/>
                  <a:pt x="760" y="49"/>
                </a:cubicBezTo>
                <a:cubicBezTo>
                  <a:pt x="768" y="50"/>
                  <a:pt x="768" y="50"/>
                  <a:pt x="768" y="50"/>
                </a:cubicBezTo>
                <a:cubicBezTo>
                  <a:pt x="776" y="51"/>
                  <a:pt x="776" y="51"/>
                  <a:pt x="776" y="51"/>
                </a:cubicBezTo>
                <a:cubicBezTo>
                  <a:pt x="784" y="52"/>
                  <a:pt x="784" y="52"/>
                  <a:pt x="784" y="52"/>
                </a:cubicBezTo>
                <a:cubicBezTo>
                  <a:pt x="792" y="52"/>
                  <a:pt x="792" y="52"/>
                  <a:pt x="792" y="52"/>
                </a:cubicBezTo>
                <a:cubicBezTo>
                  <a:pt x="800" y="53"/>
                  <a:pt x="800" y="53"/>
                  <a:pt x="800" y="53"/>
                </a:cubicBezTo>
                <a:cubicBezTo>
                  <a:pt x="808" y="54"/>
                  <a:pt x="808" y="54"/>
                  <a:pt x="808" y="54"/>
                </a:cubicBezTo>
                <a:cubicBezTo>
                  <a:pt x="816" y="55"/>
                  <a:pt x="816" y="55"/>
                  <a:pt x="816" y="55"/>
                </a:cubicBezTo>
                <a:cubicBezTo>
                  <a:pt x="824" y="56"/>
                  <a:pt x="824" y="56"/>
                  <a:pt x="824" y="56"/>
                </a:cubicBezTo>
                <a:cubicBezTo>
                  <a:pt x="832" y="57"/>
                  <a:pt x="832" y="57"/>
                  <a:pt x="832" y="57"/>
                </a:cubicBezTo>
                <a:cubicBezTo>
                  <a:pt x="840" y="58"/>
                  <a:pt x="840" y="58"/>
                  <a:pt x="840" y="58"/>
                </a:cubicBezTo>
                <a:cubicBezTo>
                  <a:pt x="848" y="59"/>
                  <a:pt x="848" y="59"/>
                  <a:pt x="848" y="59"/>
                </a:cubicBezTo>
                <a:cubicBezTo>
                  <a:pt x="856" y="60"/>
                  <a:pt x="856" y="60"/>
                  <a:pt x="856" y="60"/>
                </a:cubicBezTo>
                <a:cubicBezTo>
                  <a:pt x="864" y="61"/>
                  <a:pt x="864" y="61"/>
                  <a:pt x="864" y="61"/>
                </a:cubicBezTo>
                <a:cubicBezTo>
                  <a:pt x="872" y="62"/>
                  <a:pt x="872" y="62"/>
                  <a:pt x="872" y="62"/>
                </a:cubicBezTo>
                <a:cubicBezTo>
                  <a:pt x="880" y="63"/>
                  <a:pt x="880" y="63"/>
                  <a:pt x="880" y="63"/>
                </a:cubicBezTo>
                <a:cubicBezTo>
                  <a:pt x="888" y="64"/>
                  <a:pt x="888" y="64"/>
                  <a:pt x="888" y="64"/>
                </a:cubicBezTo>
                <a:cubicBezTo>
                  <a:pt x="896" y="65"/>
                  <a:pt x="896" y="65"/>
                  <a:pt x="896" y="65"/>
                </a:cubicBezTo>
                <a:cubicBezTo>
                  <a:pt x="904" y="66"/>
                  <a:pt x="904" y="66"/>
                  <a:pt x="904" y="66"/>
                </a:cubicBezTo>
                <a:cubicBezTo>
                  <a:pt x="912" y="67"/>
                  <a:pt x="912" y="67"/>
                  <a:pt x="912" y="67"/>
                </a:cubicBezTo>
                <a:cubicBezTo>
                  <a:pt x="920" y="68"/>
                  <a:pt x="920" y="68"/>
                  <a:pt x="920" y="68"/>
                </a:cubicBezTo>
                <a:cubicBezTo>
                  <a:pt x="928" y="69"/>
                  <a:pt x="928" y="69"/>
                  <a:pt x="928" y="69"/>
                </a:cubicBezTo>
                <a:cubicBezTo>
                  <a:pt x="936" y="70"/>
                  <a:pt x="936" y="70"/>
                  <a:pt x="936" y="70"/>
                </a:cubicBezTo>
                <a:cubicBezTo>
                  <a:pt x="944" y="72"/>
                  <a:pt x="944" y="72"/>
                  <a:pt x="944" y="72"/>
                </a:cubicBezTo>
                <a:cubicBezTo>
                  <a:pt x="952" y="73"/>
                  <a:pt x="952" y="73"/>
                  <a:pt x="952" y="73"/>
                </a:cubicBezTo>
                <a:cubicBezTo>
                  <a:pt x="960" y="74"/>
                  <a:pt x="960" y="74"/>
                  <a:pt x="960" y="74"/>
                </a:cubicBezTo>
                <a:cubicBezTo>
                  <a:pt x="968" y="75"/>
                  <a:pt x="968" y="75"/>
                  <a:pt x="968" y="75"/>
                </a:cubicBezTo>
                <a:cubicBezTo>
                  <a:pt x="976" y="76"/>
                  <a:pt x="976" y="76"/>
                  <a:pt x="976" y="76"/>
                </a:cubicBezTo>
                <a:cubicBezTo>
                  <a:pt x="984" y="77"/>
                  <a:pt x="984" y="77"/>
                  <a:pt x="984" y="77"/>
                </a:cubicBezTo>
                <a:cubicBezTo>
                  <a:pt x="992" y="79"/>
                  <a:pt x="992" y="79"/>
                  <a:pt x="992" y="79"/>
                </a:cubicBezTo>
                <a:cubicBezTo>
                  <a:pt x="1000" y="80"/>
                  <a:pt x="1000" y="80"/>
                  <a:pt x="1000" y="80"/>
                </a:cubicBezTo>
                <a:cubicBezTo>
                  <a:pt x="1008" y="81"/>
                  <a:pt x="1008" y="81"/>
                  <a:pt x="1008" y="81"/>
                </a:cubicBezTo>
                <a:cubicBezTo>
                  <a:pt x="1016" y="83"/>
                  <a:pt x="1016" y="83"/>
                  <a:pt x="1016" y="83"/>
                </a:cubicBezTo>
                <a:cubicBezTo>
                  <a:pt x="1024" y="84"/>
                  <a:pt x="1024" y="84"/>
                  <a:pt x="1024" y="84"/>
                </a:cubicBezTo>
                <a:cubicBezTo>
                  <a:pt x="1032" y="85"/>
                  <a:pt x="1032" y="85"/>
                  <a:pt x="1032" y="85"/>
                </a:cubicBezTo>
                <a:cubicBezTo>
                  <a:pt x="1040" y="87"/>
                  <a:pt x="1040" y="87"/>
                  <a:pt x="1040" y="87"/>
                </a:cubicBezTo>
                <a:cubicBezTo>
                  <a:pt x="1048" y="88"/>
                  <a:pt x="1048" y="88"/>
                  <a:pt x="1048" y="88"/>
                </a:cubicBezTo>
                <a:cubicBezTo>
                  <a:pt x="1056" y="89"/>
                  <a:pt x="1056" y="89"/>
                  <a:pt x="1056" y="89"/>
                </a:cubicBezTo>
                <a:cubicBezTo>
                  <a:pt x="1064" y="91"/>
                  <a:pt x="1064" y="91"/>
                  <a:pt x="1064" y="91"/>
                </a:cubicBezTo>
                <a:cubicBezTo>
                  <a:pt x="1072" y="92"/>
                  <a:pt x="1072" y="92"/>
                  <a:pt x="1072" y="92"/>
                </a:cubicBezTo>
                <a:cubicBezTo>
                  <a:pt x="1080" y="94"/>
                  <a:pt x="1080" y="94"/>
                  <a:pt x="1080" y="94"/>
                </a:cubicBezTo>
                <a:cubicBezTo>
                  <a:pt x="1088" y="95"/>
                  <a:pt x="1088" y="95"/>
                  <a:pt x="1088" y="95"/>
                </a:cubicBezTo>
                <a:cubicBezTo>
                  <a:pt x="1096" y="97"/>
                  <a:pt x="1096" y="97"/>
                  <a:pt x="1096" y="97"/>
                </a:cubicBezTo>
                <a:cubicBezTo>
                  <a:pt x="1104" y="99"/>
                  <a:pt x="1104" y="99"/>
                  <a:pt x="1104" y="99"/>
                </a:cubicBezTo>
                <a:cubicBezTo>
                  <a:pt x="1112" y="100"/>
                  <a:pt x="1112" y="100"/>
                  <a:pt x="1112" y="100"/>
                </a:cubicBezTo>
                <a:cubicBezTo>
                  <a:pt x="1120" y="102"/>
                  <a:pt x="1120" y="102"/>
                  <a:pt x="1120" y="102"/>
                </a:cubicBezTo>
                <a:cubicBezTo>
                  <a:pt x="1128" y="103"/>
                  <a:pt x="1128" y="103"/>
                  <a:pt x="1128" y="103"/>
                </a:cubicBezTo>
                <a:cubicBezTo>
                  <a:pt x="1136" y="105"/>
                  <a:pt x="1136" y="105"/>
                  <a:pt x="1136" y="105"/>
                </a:cubicBezTo>
                <a:cubicBezTo>
                  <a:pt x="1144" y="107"/>
                  <a:pt x="1144" y="107"/>
                  <a:pt x="1144" y="107"/>
                </a:cubicBezTo>
                <a:cubicBezTo>
                  <a:pt x="1152" y="109"/>
                  <a:pt x="1152" y="109"/>
                  <a:pt x="1152" y="109"/>
                </a:cubicBezTo>
                <a:cubicBezTo>
                  <a:pt x="1160" y="110"/>
                  <a:pt x="1160" y="110"/>
                  <a:pt x="1160" y="110"/>
                </a:cubicBezTo>
                <a:cubicBezTo>
                  <a:pt x="1168" y="112"/>
                  <a:pt x="1168" y="112"/>
                  <a:pt x="1168" y="112"/>
                </a:cubicBezTo>
                <a:cubicBezTo>
                  <a:pt x="1176" y="114"/>
                  <a:pt x="1176" y="114"/>
                  <a:pt x="1176" y="114"/>
                </a:cubicBezTo>
                <a:cubicBezTo>
                  <a:pt x="1184" y="116"/>
                  <a:pt x="1184" y="116"/>
                  <a:pt x="1184" y="116"/>
                </a:cubicBezTo>
                <a:cubicBezTo>
                  <a:pt x="1192" y="118"/>
                  <a:pt x="1192" y="118"/>
                  <a:pt x="1192" y="118"/>
                </a:cubicBezTo>
                <a:cubicBezTo>
                  <a:pt x="1200" y="120"/>
                  <a:pt x="1200" y="120"/>
                  <a:pt x="1200" y="120"/>
                </a:cubicBezTo>
                <a:cubicBezTo>
                  <a:pt x="1208" y="122"/>
                  <a:pt x="1208" y="122"/>
                  <a:pt x="1208" y="122"/>
                </a:cubicBezTo>
                <a:cubicBezTo>
                  <a:pt x="1216" y="124"/>
                  <a:pt x="1216" y="124"/>
                  <a:pt x="1216" y="124"/>
                </a:cubicBezTo>
                <a:cubicBezTo>
                  <a:pt x="1224" y="126"/>
                  <a:pt x="1224" y="126"/>
                  <a:pt x="1224" y="126"/>
                </a:cubicBezTo>
                <a:cubicBezTo>
                  <a:pt x="1232" y="128"/>
                  <a:pt x="1232" y="128"/>
                  <a:pt x="1232" y="128"/>
                </a:cubicBezTo>
                <a:cubicBezTo>
                  <a:pt x="1240" y="131"/>
                  <a:pt x="1240" y="131"/>
                  <a:pt x="1240" y="131"/>
                </a:cubicBezTo>
                <a:cubicBezTo>
                  <a:pt x="1248" y="133"/>
                  <a:pt x="1248" y="133"/>
                  <a:pt x="1248" y="133"/>
                </a:cubicBezTo>
                <a:cubicBezTo>
                  <a:pt x="1256" y="135"/>
                  <a:pt x="1256" y="135"/>
                  <a:pt x="1256" y="135"/>
                </a:cubicBezTo>
                <a:cubicBezTo>
                  <a:pt x="1264" y="137"/>
                  <a:pt x="1264" y="137"/>
                  <a:pt x="1264" y="137"/>
                </a:cubicBezTo>
                <a:cubicBezTo>
                  <a:pt x="1272" y="140"/>
                  <a:pt x="1272" y="140"/>
                  <a:pt x="1272" y="140"/>
                </a:cubicBezTo>
                <a:cubicBezTo>
                  <a:pt x="1280" y="142"/>
                  <a:pt x="1280" y="142"/>
                  <a:pt x="1280" y="142"/>
                </a:cubicBezTo>
                <a:cubicBezTo>
                  <a:pt x="1288" y="145"/>
                  <a:pt x="1288" y="145"/>
                  <a:pt x="1288" y="145"/>
                </a:cubicBezTo>
                <a:cubicBezTo>
                  <a:pt x="1296" y="147"/>
                  <a:pt x="1296" y="147"/>
                  <a:pt x="1296" y="147"/>
                </a:cubicBezTo>
                <a:cubicBezTo>
                  <a:pt x="1304" y="150"/>
                  <a:pt x="1304" y="150"/>
                  <a:pt x="1304" y="150"/>
                </a:cubicBezTo>
                <a:cubicBezTo>
                  <a:pt x="1312" y="153"/>
                  <a:pt x="1312" y="153"/>
                  <a:pt x="1312" y="153"/>
                </a:cubicBezTo>
                <a:cubicBezTo>
                  <a:pt x="1320" y="155"/>
                  <a:pt x="1320" y="155"/>
                  <a:pt x="1320" y="155"/>
                </a:cubicBezTo>
                <a:cubicBezTo>
                  <a:pt x="1328" y="158"/>
                  <a:pt x="1328" y="158"/>
                  <a:pt x="1328" y="158"/>
                </a:cubicBezTo>
                <a:cubicBezTo>
                  <a:pt x="1336" y="161"/>
                  <a:pt x="1336" y="161"/>
                  <a:pt x="1336" y="161"/>
                </a:cubicBezTo>
                <a:cubicBezTo>
                  <a:pt x="1344" y="164"/>
                  <a:pt x="1344" y="164"/>
                  <a:pt x="1344" y="164"/>
                </a:cubicBezTo>
                <a:cubicBezTo>
                  <a:pt x="1352" y="167"/>
                  <a:pt x="1352" y="167"/>
                  <a:pt x="1352" y="167"/>
                </a:cubicBezTo>
                <a:cubicBezTo>
                  <a:pt x="1360" y="170"/>
                  <a:pt x="1360" y="170"/>
                  <a:pt x="1360" y="170"/>
                </a:cubicBezTo>
                <a:cubicBezTo>
                  <a:pt x="1368" y="173"/>
                  <a:pt x="1368" y="173"/>
                  <a:pt x="1368" y="173"/>
                </a:cubicBezTo>
                <a:cubicBezTo>
                  <a:pt x="1376" y="176"/>
                  <a:pt x="1376" y="176"/>
                  <a:pt x="1376" y="176"/>
                </a:cubicBezTo>
                <a:cubicBezTo>
                  <a:pt x="1384" y="180"/>
                  <a:pt x="1384" y="180"/>
                  <a:pt x="1384" y="180"/>
                </a:cubicBezTo>
                <a:cubicBezTo>
                  <a:pt x="1392" y="183"/>
                  <a:pt x="1392" y="183"/>
                  <a:pt x="1392" y="183"/>
                </a:cubicBezTo>
                <a:cubicBezTo>
                  <a:pt x="1400" y="187"/>
                  <a:pt x="1400" y="187"/>
                  <a:pt x="1400" y="187"/>
                </a:cubicBezTo>
                <a:cubicBezTo>
                  <a:pt x="1408" y="190"/>
                  <a:pt x="1408" y="190"/>
                  <a:pt x="1408" y="190"/>
                </a:cubicBezTo>
                <a:cubicBezTo>
                  <a:pt x="1416" y="194"/>
                  <a:pt x="1416" y="194"/>
                  <a:pt x="1416" y="194"/>
                </a:cubicBezTo>
                <a:cubicBezTo>
                  <a:pt x="1424" y="198"/>
                  <a:pt x="1424" y="198"/>
                  <a:pt x="1424" y="198"/>
                </a:cubicBezTo>
                <a:cubicBezTo>
                  <a:pt x="1432" y="202"/>
                  <a:pt x="1432" y="202"/>
                  <a:pt x="1432" y="202"/>
                </a:cubicBezTo>
                <a:cubicBezTo>
                  <a:pt x="1440" y="206"/>
                  <a:pt x="1440" y="206"/>
                  <a:pt x="1440" y="206"/>
                </a:cubicBezTo>
                <a:cubicBezTo>
                  <a:pt x="1448" y="210"/>
                  <a:pt x="1448" y="210"/>
                  <a:pt x="1448" y="210"/>
                </a:cubicBezTo>
                <a:cubicBezTo>
                  <a:pt x="1456" y="214"/>
                  <a:pt x="1456" y="214"/>
                  <a:pt x="1456" y="214"/>
                </a:cubicBezTo>
                <a:cubicBezTo>
                  <a:pt x="1464" y="219"/>
                  <a:pt x="1464" y="219"/>
                  <a:pt x="1464" y="219"/>
                </a:cubicBezTo>
                <a:cubicBezTo>
                  <a:pt x="1472" y="223"/>
                  <a:pt x="1472" y="223"/>
                  <a:pt x="1472" y="223"/>
                </a:cubicBezTo>
                <a:cubicBezTo>
                  <a:pt x="1480" y="228"/>
                  <a:pt x="1480" y="228"/>
                  <a:pt x="1480" y="228"/>
                </a:cubicBezTo>
                <a:cubicBezTo>
                  <a:pt x="1488" y="233"/>
                  <a:pt x="1488" y="233"/>
                  <a:pt x="1488" y="233"/>
                </a:cubicBezTo>
                <a:cubicBezTo>
                  <a:pt x="1496" y="237"/>
                  <a:pt x="1496" y="237"/>
                  <a:pt x="1496" y="237"/>
                </a:cubicBezTo>
                <a:cubicBezTo>
                  <a:pt x="1504" y="243"/>
                  <a:pt x="1504" y="243"/>
                  <a:pt x="1504" y="243"/>
                </a:cubicBezTo>
                <a:cubicBezTo>
                  <a:pt x="1512" y="248"/>
                  <a:pt x="1512" y="248"/>
                  <a:pt x="1512" y="248"/>
                </a:cubicBezTo>
                <a:cubicBezTo>
                  <a:pt x="1520" y="253"/>
                  <a:pt x="1520" y="253"/>
                  <a:pt x="1520" y="253"/>
                </a:cubicBezTo>
                <a:cubicBezTo>
                  <a:pt x="1528" y="259"/>
                  <a:pt x="1528" y="259"/>
                  <a:pt x="1528" y="259"/>
                </a:cubicBezTo>
                <a:cubicBezTo>
                  <a:pt x="1536" y="265"/>
                  <a:pt x="1536" y="265"/>
                  <a:pt x="1536" y="265"/>
                </a:cubicBezTo>
                <a:cubicBezTo>
                  <a:pt x="1540" y="268"/>
                  <a:pt x="1540" y="268"/>
                  <a:pt x="1540" y="268"/>
                </a:cubicBezTo>
                <a:cubicBezTo>
                  <a:pt x="1544" y="271"/>
                  <a:pt x="1544" y="271"/>
                  <a:pt x="1544" y="271"/>
                </a:cubicBezTo>
                <a:cubicBezTo>
                  <a:pt x="1548" y="274"/>
                  <a:pt x="1548" y="274"/>
                  <a:pt x="1548" y="274"/>
                </a:cubicBezTo>
                <a:cubicBezTo>
                  <a:pt x="1552" y="277"/>
                  <a:pt x="1552" y="277"/>
                  <a:pt x="1552" y="277"/>
                </a:cubicBezTo>
                <a:cubicBezTo>
                  <a:pt x="1556" y="280"/>
                  <a:pt x="1556" y="280"/>
                  <a:pt x="1556" y="280"/>
                </a:cubicBezTo>
                <a:cubicBezTo>
                  <a:pt x="1560" y="284"/>
                  <a:pt x="1560" y="284"/>
                  <a:pt x="1560" y="284"/>
                </a:cubicBezTo>
                <a:cubicBezTo>
                  <a:pt x="1564" y="287"/>
                  <a:pt x="1564" y="287"/>
                  <a:pt x="1564" y="287"/>
                </a:cubicBezTo>
                <a:cubicBezTo>
                  <a:pt x="1572" y="294"/>
                  <a:pt x="1572" y="294"/>
                  <a:pt x="1572" y="294"/>
                </a:cubicBezTo>
                <a:cubicBezTo>
                  <a:pt x="1576" y="297"/>
                  <a:pt x="1576" y="297"/>
                  <a:pt x="1576" y="297"/>
                </a:cubicBezTo>
                <a:cubicBezTo>
                  <a:pt x="1580" y="301"/>
                  <a:pt x="1580" y="301"/>
                  <a:pt x="1580" y="301"/>
                </a:cubicBezTo>
                <a:cubicBezTo>
                  <a:pt x="1584" y="305"/>
                  <a:pt x="1584" y="305"/>
                  <a:pt x="1584" y="305"/>
                </a:cubicBezTo>
                <a:cubicBezTo>
                  <a:pt x="1588" y="308"/>
                  <a:pt x="1588" y="308"/>
                  <a:pt x="1588" y="308"/>
                </a:cubicBezTo>
                <a:cubicBezTo>
                  <a:pt x="1592" y="312"/>
                  <a:pt x="1592" y="312"/>
                  <a:pt x="1592" y="312"/>
                </a:cubicBezTo>
                <a:cubicBezTo>
                  <a:pt x="1596" y="316"/>
                  <a:pt x="1596" y="316"/>
                  <a:pt x="1596" y="316"/>
                </a:cubicBezTo>
                <a:cubicBezTo>
                  <a:pt x="1600" y="320"/>
                  <a:pt x="1600" y="320"/>
                  <a:pt x="1600" y="320"/>
                </a:cubicBezTo>
                <a:cubicBezTo>
                  <a:pt x="1604" y="324"/>
                  <a:pt x="1604" y="324"/>
                  <a:pt x="1604" y="324"/>
                </a:cubicBezTo>
                <a:cubicBezTo>
                  <a:pt x="1608" y="328"/>
                  <a:pt x="1608" y="328"/>
                  <a:pt x="1608" y="328"/>
                </a:cubicBezTo>
                <a:cubicBezTo>
                  <a:pt x="1612" y="332"/>
                  <a:pt x="1612" y="332"/>
                  <a:pt x="1612" y="332"/>
                </a:cubicBezTo>
                <a:cubicBezTo>
                  <a:pt x="1616" y="337"/>
                  <a:pt x="1616" y="337"/>
                  <a:pt x="1616" y="337"/>
                </a:cubicBezTo>
                <a:cubicBezTo>
                  <a:pt x="1620" y="341"/>
                  <a:pt x="1620" y="341"/>
                  <a:pt x="1620" y="341"/>
                </a:cubicBezTo>
                <a:cubicBezTo>
                  <a:pt x="1624" y="346"/>
                  <a:pt x="1624" y="346"/>
                  <a:pt x="1624" y="346"/>
                </a:cubicBezTo>
                <a:cubicBezTo>
                  <a:pt x="1628" y="350"/>
                  <a:pt x="1628" y="350"/>
                  <a:pt x="1628" y="350"/>
                </a:cubicBezTo>
                <a:cubicBezTo>
                  <a:pt x="1632" y="355"/>
                  <a:pt x="1632" y="355"/>
                  <a:pt x="1632" y="355"/>
                </a:cubicBezTo>
                <a:cubicBezTo>
                  <a:pt x="1636" y="360"/>
                  <a:pt x="1636" y="360"/>
                  <a:pt x="1636" y="360"/>
                </a:cubicBezTo>
                <a:cubicBezTo>
                  <a:pt x="1640" y="364"/>
                  <a:pt x="1640" y="364"/>
                  <a:pt x="1640" y="364"/>
                </a:cubicBezTo>
                <a:cubicBezTo>
                  <a:pt x="1644" y="369"/>
                  <a:pt x="1644" y="369"/>
                  <a:pt x="1644" y="369"/>
                </a:cubicBezTo>
                <a:cubicBezTo>
                  <a:pt x="1648" y="375"/>
                  <a:pt x="1648" y="375"/>
                  <a:pt x="1648" y="375"/>
                </a:cubicBezTo>
                <a:cubicBezTo>
                  <a:pt x="1652" y="380"/>
                  <a:pt x="1652" y="380"/>
                  <a:pt x="1652" y="380"/>
                </a:cubicBezTo>
                <a:cubicBezTo>
                  <a:pt x="1656" y="385"/>
                  <a:pt x="1656" y="385"/>
                  <a:pt x="1656" y="385"/>
                </a:cubicBezTo>
                <a:cubicBezTo>
                  <a:pt x="1660" y="391"/>
                  <a:pt x="1660" y="391"/>
                  <a:pt x="1660" y="391"/>
                </a:cubicBezTo>
                <a:cubicBezTo>
                  <a:pt x="1664" y="396"/>
                  <a:pt x="1664" y="396"/>
                  <a:pt x="1664" y="396"/>
                </a:cubicBezTo>
                <a:cubicBezTo>
                  <a:pt x="1668" y="402"/>
                  <a:pt x="1668" y="402"/>
                  <a:pt x="1668" y="402"/>
                </a:cubicBezTo>
                <a:cubicBezTo>
                  <a:pt x="1672" y="408"/>
                  <a:pt x="1672" y="408"/>
                  <a:pt x="1672" y="408"/>
                </a:cubicBezTo>
                <a:cubicBezTo>
                  <a:pt x="1676" y="414"/>
                  <a:pt x="1676" y="414"/>
                  <a:pt x="1676" y="414"/>
                </a:cubicBezTo>
                <a:cubicBezTo>
                  <a:pt x="1680" y="420"/>
                  <a:pt x="1680" y="420"/>
                  <a:pt x="1680" y="420"/>
                </a:cubicBezTo>
                <a:cubicBezTo>
                  <a:pt x="1684" y="426"/>
                  <a:pt x="1684" y="426"/>
                  <a:pt x="1684" y="426"/>
                </a:cubicBezTo>
                <a:cubicBezTo>
                  <a:pt x="1688" y="433"/>
                  <a:pt x="1688" y="433"/>
                  <a:pt x="1688" y="433"/>
                </a:cubicBezTo>
                <a:cubicBezTo>
                  <a:pt x="1692" y="439"/>
                  <a:pt x="1692" y="439"/>
                  <a:pt x="1692" y="439"/>
                </a:cubicBezTo>
                <a:cubicBezTo>
                  <a:pt x="1696" y="446"/>
                  <a:pt x="1696" y="446"/>
                  <a:pt x="1696" y="446"/>
                </a:cubicBezTo>
                <a:cubicBezTo>
                  <a:pt x="1700" y="453"/>
                  <a:pt x="1700" y="453"/>
                  <a:pt x="1700" y="453"/>
                </a:cubicBezTo>
                <a:cubicBezTo>
                  <a:pt x="1704" y="461"/>
                  <a:pt x="1704" y="461"/>
                  <a:pt x="1704" y="461"/>
                </a:cubicBezTo>
                <a:cubicBezTo>
                  <a:pt x="1708" y="468"/>
                  <a:pt x="1708" y="468"/>
                  <a:pt x="1708" y="468"/>
                </a:cubicBezTo>
                <a:cubicBezTo>
                  <a:pt x="1712" y="476"/>
                  <a:pt x="1712" y="476"/>
                  <a:pt x="1712" y="476"/>
                </a:cubicBezTo>
                <a:cubicBezTo>
                  <a:pt x="1716" y="483"/>
                  <a:pt x="1716" y="483"/>
                  <a:pt x="1716" y="483"/>
                </a:cubicBezTo>
                <a:cubicBezTo>
                  <a:pt x="1720" y="491"/>
                  <a:pt x="1720" y="491"/>
                  <a:pt x="1720" y="491"/>
                </a:cubicBezTo>
                <a:cubicBezTo>
                  <a:pt x="1724" y="500"/>
                  <a:pt x="1724" y="500"/>
                  <a:pt x="1724" y="500"/>
                </a:cubicBezTo>
                <a:cubicBezTo>
                  <a:pt x="1728" y="508"/>
                  <a:pt x="1728" y="508"/>
                  <a:pt x="1728" y="508"/>
                </a:cubicBezTo>
                <a:cubicBezTo>
                  <a:pt x="1732" y="517"/>
                  <a:pt x="1732" y="517"/>
                  <a:pt x="1732" y="517"/>
                </a:cubicBezTo>
                <a:cubicBezTo>
                  <a:pt x="1736" y="526"/>
                  <a:pt x="1736" y="526"/>
                  <a:pt x="1736" y="526"/>
                </a:cubicBezTo>
                <a:cubicBezTo>
                  <a:pt x="1738" y="531"/>
                  <a:pt x="1738" y="531"/>
                  <a:pt x="1738" y="531"/>
                </a:cubicBezTo>
                <a:cubicBezTo>
                  <a:pt x="1740" y="535"/>
                  <a:pt x="1740" y="535"/>
                  <a:pt x="1740" y="535"/>
                </a:cubicBezTo>
                <a:cubicBezTo>
                  <a:pt x="1742" y="540"/>
                  <a:pt x="1742" y="540"/>
                  <a:pt x="1742" y="540"/>
                </a:cubicBezTo>
                <a:cubicBezTo>
                  <a:pt x="1746" y="550"/>
                  <a:pt x="1746" y="550"/>
                  <a:pt x="1746" y="550"/>
                </a:cubicBezTo>
                <a:cubicBezTo>
                  <a:pt x="1748" y="555"/>
                  <a:pt x="1748" y="555"/>
                  <a:pt x="1748" y="555"/>
                </a:cubicBezTo>
                <a:cubicBezTo>
                  <a:pt x="1750" y="560"/>
                  <a:pt x="1750" y="560"/>
                  <a:pt x="1750" y="560"/>
                </a:cubicBezTo>
                <a:cubicBezTo>
                  <a:pt x="1752" y="565"/>
                  <a:pt x="1752" y="565"/>
                  <a:pt x="1752" y="565"/>
                </a:cubicBezTo>
                <a:cubicBezTo>
                  <a:pt x="1754" y="570"/>
                  <a:pt x="1754" y="570"/>
                  <a:pt x="1754" y="570"/>
                </a:cubicBezTo>
                <a:cubicBezTo>
                  <a:pt x="1756" y="576"/>
                  <a:pt x="1756" y="576"/>
                  <a:pt x="1756" y="576"/>
                </a:cubicBezTo>
                <a:cubicBezTo>
                  <a:pt x="1758" y="581"/>
                  <a:pt x="1758" y="581"/>
                  <a:pt x="1758" y="581"/>
                </a:cubicBezTo>
                <a:cubicBezTo>
                  <a:pt x="1760" y="587"/>
                  <a:pt x="1760" y="587"/>
                  <a:pt x="1760" y="587"/>
                </a:cubicBezTo>
                <a:cubicBezTo>
                  <a:pt x="1762" y="592"/>
                  <a:pt x="1762" y="592"/>
                  <a:pt x="1762" y="592"/>
                </a:cubicBezTo>
                <a:cubicBezTo>
                  <a:pt x="1764" y="598"/>
                  <a:pt x="1764" y="598"/>
                  <a:pt x="1764" y="598"/>
                </a:cubicBezTo>
                <a:cubicBezTo>
                  <a:pt x="1766" y="604"/>
                  <a:pt x="1766" y="604"/>
                  <a:pt x="1766" y="604"/>
                </a:cubicBezTo>
                <a:cubicBezTo>
                  <a:pt x="1768" y="610"/>
                  <a:pt x="1768" y="610"/>
                  <a:pt x="1768" y="610"/>
                </a:cubicBezTo>
                <a:cubicBezTo>
                  <a:pt x="1770" y="616"/>
                  <a:pt x="1770" y="616"/>
                  <a:pt x="1770" y="616"/>
                </a:cubicBezTo>
                <a:cubicBezTo>
                  <a:pt x="1772" y="622"/>
                  <a:pt x="1772" y="622"/>
                  <a:pt x="1772" y="622"/>
                </a:cubicBezTo>
                <a:cubicBezTo>
                  <a:pt x="1774" y="628"/>
                  <a:pt x="1774" y="628"/>
                  <a:pt x="1774" y="628"/>
                </a:cubicBezTo>
                <a:cubicBezTo>
                  <a:pt x="1776" y="634"/>
                  <a:pt x="1776" y="634"/>
                  <a:pt x="1776" y="634"/>
                </a:cubicBezTo>
                <a:cubicBezTo>
                  <a:pt x="1778" y="641"/>
                  <a:pt x="1778" y="641"/>
                  <a:pt x="1778" y="641"/>
                </a:cubicBezTo>
                <a:cubicBezTo>
                  <a:pt x="1780" y="647"/>
                  <a:pt x="1780" y="647"/>
                  <a:pt x="1780" y="647"/>
                </a:cubicBezTo>
                <a:cubicBezTo>
                  <a:pt x="1782" y="654"/>
                  <a:pt x="1782" y="654"/>
                  <a:pt x="1782" y="654"/>
                </a:cubicBezTo>
                <a:cubicBezTo>
                  <a:pt x="1784" y="661"/>
                  <a:pt x="1784" y="661"/>
                  <a:pt x="1784" y="661"/>
                </a:cubicBezTo>
                <a:cubicBezTo>
                  <a:pt x="1786" y="668"/>
                  <a:pt x="1786" y="668"/>
                  <a:pt x="1786" y="668"/>
                </a:cubicBezTo>
                <a:cubicBezTo>
                  <a:pt x="1788" y="675"/>
                  <a:pt x="1788" y="675"/>
                  <a:pt x="1788" y="675"/>
                </a:cubicBezTo>
                <a:cubicBezTo>
                  <a:pt x="1790" y="682"/>
                  <a:pt x="1790" y="682"/>
                  <a:pt x="1790" y="682"/>
                </a:cubicBezTo>
                <a:cubicBezTo>
                  <a:pt x="1792" y="689"/>
                  <a:pt x="1792" y="689"/>
                  <a:pt x="1792" y="689"/>
                </a:cubicBezTo>
                <a:cubicBezTo>
                  <a:pt x="1794" y="697"/>
                  <a:pt x="1794" y="697"/>
                  <a:pt x="1794" y="697"/>
                </a:cubicBezTo>
                <a:cubicBezTo>
                  <a:pt x="1796" y="704"/>
                  <a:pt x="1796" y="704"/>
                  <a:pt x="1796" y="704"/>
                </a:cubicBezTo>
                <a:cubicBezTo>
                  <a:pt x="1798" y="712"/>
                  <a:pt x="1798" y="712"/>
                  <a:pt x="1798" y="712"/>
                </a:cubicBezTo>
                <a:cubicBezTo>
                  <a:pt x="1800" y="720"/>
                  <a:pt x="1800" y="720"/>
                  <a:pt x="1800" y="720"/>
                </a:cubicBezTo>
                <a:cubicBezTo>
                  <a:pt x="1802" y="728"/>
                  <a:pt x="1802" y="728"/>
                  <a:pt x="1802" y="728"/>
                </a:cubicBezTo>
                <a:cubicBezTo>
                  <a:pt x="1804" y="736"/>
                  <a:pt x="1804" y="736"/>
                  <a:pt x="1804" y="736"/>
                </a:cubicBezTo>
                <a:cubicBezTo>
                  <a:pt x="1806" y="745"/>
                  <a:pt x="1806" y="745"/>
                  <a:pt x="1806" y="745"/>
                </a:cubicBezTo>
                <a:cubicBezTo>
                  <a:pt x="1808" y="753"/>
                  <a:pt x="1808" y="753"/>
                  <a:pt x="1808" y="753"/>
                </a:cubicBezTo>
                <a:cubicBezTo>
                  <a:pt x="1810" y="762"/>
                  <a:pt x="1810" y="762"/>
                  <a:pt x="1810" y="762"/>
                </a:cubicBezTo>
                <a:cubicBezTo>
                  <a:pt x="1812" y="771"/>
                  <a:pt x="1812" y="771"/>
                  <a:pt x="1812" y="771"/>
                </a:cubicBezTo>
                <a:cubicBezTo>
                  <a:pt x="1814" y="780"/>
                  <a:pt x="1814" y="780"/>
                  <a:pt x="1814" y="780"/>
                </a:cubicBezTo>
                <a:cubicBezTo>
                  <a:pt x="1816" y="790"/>
                  <a:pt x="1816" y="790"/>
                  <a:pt x="1816" y="790"/>
                </a:cubicBezTo>
                <a:cubicBezTo>
                  <a:pt x="1818" y="799"/>
                  <a:pt x="1818" y="799"/>
                  <a:pt x="1818" y="799"/>
                </a:cubicBezTo>
                <a:cubicBezTo>
                  <a:pt x="1820" y="809"/>
                  <a:pt x="1820" y="809"/>
                  <a:pt x="1820" y="809"/>
                </a:cubicBezTo>
                <a:cubicBezTo>
                  <a:pt x="1821" y="814"/>
                  <a:pt x="1821" y="814"/>
                  <a:pt x="1821" y="814"/>
                </a:cubicBezTo>
                <a:cubicBezTo>
                  <a:pt x="1822" y="819"/>
                  <a:pt x="1822" y="819"/>
                  <a:pt x="1822" y="819"/>
                </a:cubicBezTo>
                <a:cubicBezTo>
                  <a:pt x="1823" y="824"/>
                  <a:pt x="1823" y="824"/>
                  <a:pt x="1823" y="824"/>
                </a:cubicBezTo>
                <a:cubicBezTo>
                  <a:pt x="1824" y="829"/>
                  <a:pt x="1824" y="829"/>
                  <a:pt x="1824" y="829"/>
                </a:cubicBezTo>
                <a:cubicBezTo>
                  <a:pt x="1826" y="840"/>
                  <a:pt x="1826" y="840"/>
                  <a:pt x="1826" y="840"/>
                </a:cubicBezTo>
                <a:cubicBezTo>
                  <a:pt x="1827" y="845"/>
                  <a:pt x="1827" y="845"/>
                  <a:pt x="1827" y="845"/>
                </a:cubicBezTo>
                <a:cubicBezTo>
                  <a:pt x="1828" y="850"/>
                  <a:pt x="1828" y="850"/>
                  <a:pt x="1828" y="850"/>
                </a:cubicBezTo>
                <a:cubicBezTo>
                  <a:pt x="1829" y="856"/>
                  <a:pt x="1829" y="856"/>
                  <a:pt x="1829" y="856"/>
                </a:cubicBezTo>
                <a:cubicBezTo>
                  <a:pt x="1830" y="861"/>
                  <a:pt x="1830" y="861"/>
                  <a:pt x="1830" y="861"/>
                </a:cubicBezTo>
                <a:cubicBezTo>
                  <a:pt x="1831" y="867"/>
                  <a:pt x="1831" y="867"/>
                  <a:pt x="1831" y="867"/>
                </a:cubicBezTo>
                <a:cubicBezTo>
                  <a:pt x="1832" y="872"/>
                  <a:pt x="1832" y="872"/>
                  <a:pt x="1832" y="872"/>
                </a:cubicBezTo>
                <a:cubicBezTo>
                  <a:pt x="1833" y="878"/>
                  <a:pt x="1833" y="878"/>
                  <a:pt x="1833" y="878"/>
                </a:cubicBezTo>
                <a:cubicBezTo>
                  <a:pt x="1834" y="884"/>
                  <a:pt x="1834" y="884"/>
                  <a:pt x="1834" y="884"/>
                </a:cubicBezTo>
                <a:cubicBezTo>
                  <a:pt x="1835" y="890"/>
                  <a:pt x="1835" y="890"/>
                  <a:pt x="1835" y="890"/>
                </a:cubicBezTo>
                <a:cubicBezTo>
                  <a:pt x="1836" y="896"/>
                  <a:pt x="1836" y="896"/>
                  <a:pt x="1836" y="896"/>
                </a:cubicBezTo>
                <a:cubicBezTo>
                  <a:pt x="1837" y="902"/>
                  <a:pt x="1837" y="902"/>
                  <a:pt x="1837" y="902"/>
                </a:cubicBezTo>
                <a:cubicBezTo>
                  <a:pt x="1838" y="908"/>
                  <a:pt x="1838" y="908"/>
                  <a:pt x="1838" y="908"/>
                </a:cubicBezTo>
                <a:cubicBezTo>
                  <a:pt x="1839" y="914"/>
                  <a:pt x="1839" y="914"/>
                  <a:pt x="1839" y="914"/>
                </a:cubicBezTo>
                <a:cubicBezTo>
                  <a:pt x="1840" y="920"/>
                  <a:pt x="1840" y="920"/>
                  <a:pt x="1840" y="920"/>
                </a:cubicBezTo>
                <a:cubicBezTo>
                  <a:pt x="1841" y="926"/>
                  <a:pt x="1841" y="926"/>
                  <a:pt x="1841" y="926"/>
                </a:cubicBezTo>
                <a:cubicBezTo>
                  <a:pt x="1842" y="933"/>
                  <a:pt x="1842" y="933"/>
                  <a:pt x="1842" y="933"/>
                </a:cubicBezTo>
                <a:cubicBezTo>
                  <a:pt x="1843" y="939"/>
                  <a:pt x="1843" y="939"/>
                  <a:pt x="1843" y="939"/>
                </a:cubicBezTo>
                <a:cubicBezTo>
                  <a:pt x="1844" y="946"/>
                  <a:pt x="1844" y="946"/>
                  <a:pt x="1844" y="946"/>
                </a:cubicBezTo>
                <a:cubicBezTo>
                  <a:pt x="1845" y="952"/>
                  <a:pt x="1845" y="952"/>
                  <a:pt x="1845" y="952"/>
                </a:cubicBezTo>
                <a:cubicBezTo>
                  <a:pt x="1846" y="959"/>
                  <a:pt x="1846" y="959"/>
                  <a:pt x="1846" y="959"/>
                </a:cubicBezTo>
                <a:cubicBezTo>
                  <a:pt x="1847" y="966"/>
                  <a:pt x="1847" y="966"/>
                  <a:pt x="1847" y="966"/>
                </a:cubicBezTo>
                <a:cubicBezTo>
                  <a:pt x="1848" y="973"/>
                  <a:pt x="1848" y="973"/>
                  <a:pt x="1848" y="973"/>
                </a:cubicBezTo>
                <a:cubicBezTo>
                  <a:pt x="1849" y="980"/>
                  <a:pt x="1849" y="980"/>
                  <a:pt x="1849" y="980"/>
                </a:cubicBezTo>
                <a:cubicBezTo>
                  <a:pt x="1850" y="987"/>
                  <a:pt x="1850" y="987"/>
                  <a:pt x="1850" y="987"/>
                </a:cubicBezTo>
                <a:cubicBezTo>
                  <a:pt x="1851" y="994"/>
                  <a:pt x="1851" y="994"/>
                  <a:pt x="1851" y="994"/>
                </a:cubicBezTo>
                <a:cubicBezTo>
                  <a:pt x="1852" y="1001"/>
                  <a:pt x="1852" y="1001"/>
                  <a:pt x="1852" y="1001"/>
                </a:cubicBezTo>
                <a:cubicBezTo>
                  <a:pt x="1853" y="1008"/>
                  <a:pt x="1853" y="1008"/>
                  <a:pt x="1853" y="1008"/>
                </a:cubicBezTo>
                <a:cubicBezTo>
                  <a:pt x="1854" y="1016"/>
                  <a:pt x="1854" y="1016"/>
                  <a:pt x="1854" y="1016"/>
                </a:cubicBezTo>
                <a:cubicBezTo>
                  <a:pt x="1855" y="1023"/>
                  <a:pt x="1855" y="1023"/>
                  <a:pt x="1855" y="1023"/>
                </a:cubicBezTo>
                <a:cubicBezTo>
                  <a:pt x="1856" y="1031"/>
                  <a:pt x="1856" y="1031"/>
                  <a:pt x="1856" y="1031"/>
                </a:cubicBezTo>
                <a:cubicBezTo>
                  <a:pt x="1857" y="1039"/>
                  <a:pt x="1857" y="1039"/>
                  <a:pt x="1857" y="1039"/>
                </a:cubicBezTo>
                <a:cubicBezTo>
                  <a:pt x="1858" y="1047"/>
                  <a:pt x="1858" y="1047"/>
                  <a:pt x="1858" y="1047"/>
                </a:cubicBezTo>
                <a:cubicBezTo>
                  <a:pt x="1859" y="1055"/>
                  <a:pt x="1859" y="1055"/>
                  <a:pt x="1859" y="1055"/>
                </a:cubicBezTo>
                <a:cubicBezTo>
                  <a:pt x="1860" y="1063"/>
                  <a:pt x="1860" y="1063"/>
                  <a:pt x="1860" y="1063"/>
                </a:cubicBezTo>
                <a:cubicBezTo>
                  <a:pt x="1861" y="1071"/>
                  <a:pt x="1861" y="1071"/>
                  <a:pt x="1861" y="1071"/>
                </a:cubicBezTo>
                <a:cubicBezTo>
                  <a:pt x="1862" y="1079"/>
                  <a:pt x="1862" y="1079"/>
                  <a:pt x="1862" y="1079"/>
                </a:cubicBezTo>
                <a:cubicBezTo>
                  <a:pt x="1863" y="1088"/>
                  <a:pt x="1863" y="1088"/>
                  <a:pt x="1863" y="1088"/>
                </a:cubicBezTo>
                <a:cubicBezTo>
                  <a:pt x="1864" y="1096"/>
                  <a:pt x="1864" y="1096"/>
                  <a:pt x="1864" y="1096"/>
                </a:cubicBezTo>
                <a:cubicBezTo>
                  <a:pt x="1865" y="1105"/>
                  <a:pt x="1865" y="1105"/>
                  <a:pt x="1865" y="1105"/>
                </a:cubicBezTo>
                <a:cubicBezTo>
                  <a:pt x="1866" y="1114"/>
                  <a:pt x="1866" y="1114"/>
                  <a:pt x="1866" y="1114"/>
                </a:cubicBezTo>
                <a:cubicBezTo>
                  <a:pt x="1867" y="1123"/>
                  <a:pt x="1867" y="1123"/>
                  <a:pt x="1867" y="1123"/>
                </a:cubicBezTo>
                <a:cubicBezTo>
                  <a:pt x="1868" y="1132"/>
                  <a:pt x="1868" y="1132"/>
                  <a:pt x="1868" y="1132"/>
                </a:cubicBezTo>
                <a:cubicBezTo>
                  <a:pt x="1869" y="1141"/>
                  <a:pt x="1869" y="1141"/>
                  <a:pt x="1869" y="1141"/>
                </a:cubicBezTo>
                <a:cubicBezTo>
                  <a:pt x="1870" y="1151"/>
                  <a:pt x="1870" y="1151"/>
                  <a:pt x="1870" y="1151"/>
                </a:cubicBezTo>
                <a:cubicBezTo>
                  <a:pt x="1871" y="1160"/>
                  <a:pt x="1871" y="1160"/>
                  <a:pt x="1871" y="1160"/>
                </a:cubicBezTo>
                <a:cubicBezTo>
                  <a:pt x="1872" y="1170"/>
                  <a:pt x="1872" y="1170"/>
                  <a:pt x="1872" y="1170"/>
                </a:cubicBezTo>
                <a:cubicBezTo>
                  <a:pt x="1873" y="1180"/>
                  <a:pt x="1873" y="1180"/>
                  <a:pt x="1873" y="1180"/>
                </a:cubicBezTo>
                <a:cubicBezTo>
                  <a:pt x="1874" y="1185"/>
                  <a:pt x="1874" y="1185"/>
                  <a:pt x="1874" y="1185"/>
                </a:cubicBezTo>
                <a:cubicBezTo>
                  <a:pt x="1874" y="1190"/>
                  <a:pt x="1874" y="1190"/>
                  <a:pt x="1874" y="1190"/>
                </a:cubicBezTo>
                <a:cubicBezTo>
                  <a:pt x="1874" y="1195"/>
                  <a:pt x="1874" y="1195"/>
                  <a:pt x="1874" y="1195"/>
                </a:cubicBezTo>
                <a:cubicBezTo>
                  <a:pt x="1875" y="1200"/>
                  <a:pt x="1875" y="1200"/>
                  <a:pt x="1875" y="1200"/>
                </a:cubicBezTo>
                <a:cubicBezTo>
                  <a:pt x="1876" y="1205"/>
                  <a:pt x="1876" y="1205"/>
                  <a:pt x="1876" y="1205"/>
                </a:cubicBezTo>
                <a:cubicBezTo>
                  <a:pt x="1876" y="1210"/>
                  <a:pt x="1876" y="1210"/>
                  <a:pt x="1876" y="1210"/>
                </a:cubicBezTo>
                <a:cubicBezTo>
                  <a:pt x="1876" y="1216"/>
                  <a:pt x="1876" y="1216"/>
                  <a:pt x="1876" y="1216"/>
                </a:cubicBezTo>
                <a:cubicBezTo>
                  <a:pt x="1877" y="1221"/>
                  <a:pt x="1877" y="1221"/>
                  <a:pt x="1877" y="1221"/>
                </a:cubicBezTo>
                <a:cubicBezTo>
                  <a:pt x="1878" y="1226"/>
                  <a:pt x="1878" y="1226"/>
                  <a:pt x="1878" y="1226"/>
                </a:cubicBezTo>
                <a:cubicBezTo>
                  <a:pt x="1879" y="1237"/>
                  <a:pt x="1879" y="1237"/>
                  <a:pt x="1879" y="1237"/>
                </a:cubicBezTo>
                <a:cubicBezTo>
                  <a:pt x="1879" y="1242"/>
                  <a:pt x="1879" y="1242"/>
                  <a:pt x="1879" y="1242"/>
                </a:cubicBezTo>
                <a:cubicBezTo>
                  <a:pt x="1879" y="1248"/>
                  <a:pt x="1879" y="1248"/>
                  <a:pt x="1879" y="1248"/>
                </a:cubicBezTo>
                <a:cubicBezTo>
                  <a:pt x="1880" y="1253"/>
                  <a:pt x="1880" y="1253"/>
                  <a:pt x="1880" y="1253"/>
                </a:cubicBezTo>
                <a:cubicBezTo>
                  <a:pt x="1881" y="1259"/>
                  <a:pt x="1881" y="1259"/>
                  <a:pt x="1881" y="1259"/>
                </a:cubicBezTo>
                <a:cubicBezTo>
                  <a:pt x="1881" y="1265"/>
                  <a:pt x="1881" y="1265"/>
                  <a:pt x="1881" y="1265"/>
                </a:cubicBezTo>
                <a:cubicBezTo>
                  <a:pt x="1881" y="1270"/>
                  <a:pt x="1881" y="1270"/>
                  <a:pt x="1881" y="1270"/>
                </a:cubicBezTo>
                <a:cubicBezTo>
                  <a:pt x="1882" y="1276"/>
                  <a:pt x="1882" y="1276"/>
                  <a:pt x="1882" y="1276"/>
                </a:cubicBezTo>
                <a:cubicBezTo>
                  <a:pt x="1883" y="1282"/>
                  <a:pt x="1883" y="1282"/>
                  <a:pt x="1883" y="1282"/>
                </a:cubicBezTo>
                <a:cubicBezTo>
                  <a:pt x="1883" y="1288"/>
                  <a:pt x="1883" y="1288"/>
                  <a:pt x="1883" y="1288"/>
                </a:cubicBezTo>
                <a:cubicBezTo>
                  <a:pt x="1884" y="1293"/>
                  <a:pt x="1884" y="1293"/>
                  <a:pt x="1884" y="1293"/>
                </a:cubicBezTo>
                <a:cubicBezTo>
                  <a:pt x="1884" y="1299"/>
                  <a:pt x="1884" y="1299"/>
                  <a:pt x="1884" y="1299"/>
                </a:cubicBezTo>
                <a:cubicBezTo>
                  <a:pt x="1884" y="1305"/>
                  <a:pt x="1884" y="1305"/>
                  <a:pt x="1884" y="1305"/>
                </a:cubicBezTo>
                <a:cubicBezTo>
                  <a:pt x="1885" y="1311"/>
                  <a:pt x="1885" y="1311"/>
                  <a:pt x="1885" y="1311"/>
                </a:cubicBezTo>
                <a:cubicBezTo>
                  <a:pt x="1886" y="1317"/>
                  <a:pt x="1886" y="1317"/>
                  <a:pt x="1886" y="1317"/>
                </a:cubicBezTo>
                <a:cubicBezTo>
                  <a:pt x="1886" y="1324"/>
                  <a:pt x="1886" y="1324"/>
                  <a:pt x="1886" y="1324"/>
                </a:cubicBezTo>
                <a:cubicBezTo>
                  <a:pt x="1886" y="1330"/>
                  <a:pt x="1886" y="1330"/>
                  <a:pt x="1886" y="1330"/>
                </a:cubicBezTo>
                <a:cubicBezTo>
                  <a:pt x="1887" y="1336"/>
                  <a:pt x="1887" y="1336"/>
                  <a:pt x="1887" y="1336"/>
                </a:cubicBezTo>
                <a:cubicBezTo>
                  <a:pt x="1888" y="1342"/>
                  <a:pt x="1888" y="1342"/>
                  <a:pt x="1888" y="1342"/>
                </a:cubicBezTo>
                <a:cubicBezTo>
                  <a:pt x="1888" y="1349"/>
                  <a:pt x="1888" y="1349"/>
                  <a:pt x="1888" y="1349"/>
                </a:cubicBezTo>
                <a:cubicBezTo>
                  <a:pt x="1889" y="1355"/>
                  <a:pt x="1889" y="1355"/>
                  <a:pt x="1889" y="1355"/>
                </a:cubicBezTo>
                <a:cubicBezTo>
                  <a:pt x="1889" y="1361"/>
                  <a:pt x="1889" y="1361"/>
                  <a:pt x="1889" y="1361"/>
                </a:cubicBezTo>
                <a:cubicBezTo>
                  <a:pt x="1889" y="1368"/>
                  <a:pt x="1889" y="1368"/>
                  <a:pt x="1889" y="1368"/>
                </a:cubicBezTo>
                <a:cubicBezTo>
                  <a:pt x="1890" y="1375"/>
                  <a:pt x="1890" y="1375"/>
                  <a:pt x="1890" y="1375"/>
                </a:cubicBezTo>
                <a:cubicBezTo>
                  <a:pt x="1891" y="1381"/>
                  <a:pt x="1891" y="1381"/>
                  <a:pt x="1891" y="1381"/>
                </a:cubicBezTo>
                <a:cubicBezTo>
                  <a:pt x="1891" y="1388"/>
                  <a:pt x="1891" y="1388"/>
                  <a:pt x="1891" y="1388"/>
                </a:cubicBezTo>
                <a:cubicBezTo>
                  <a:pt x="1891" y="1395"/>
                  <a:pt x="1891" y="1395"/>
                  <a:pt x="1891" y="1395"/>
                </a:cubicBezTo>
                <a:cubicBezTo>
                  <a:pt x="1892" y="1401"/>
                  <a:pt x="1892" y="1401"/>
                  <a:pt x="1892" y="1401"/>
                </a:cubicBezTo>
                <a:cubicBezTo>
                  <a:pt x="1893" y="1408"/>
                  <a:pt x="1893" y="1408"/>
                  <a:pt x="1893" y="1408"/>
                </a:cubicBezTo>
                <a:cubicBezTo>
                  <a:pt x="1893" y="1415"/>
                  <a:pt x="1893" y="1415"/>
                  <a:pt x="1893" y="1415"/>
                </a:cubicBezTo>
                <a:cubicBezTo>
                  <a:pt x="1894" y="1422"/>
                  <a:pt x="1894" y="1422"/>
                  <a:pt x="1894" y="1422"/>
                </a:cubicBezTo>
                <a:cubicBezTo>
                  <a:pt x="1894" y="1429"/>
                  <a:pt x="1894" y="1429"/>
                  <a:pt x="1894" y="1429"/>
                </a:cubicBezTo>
                <a:cubicBezTo>
                  <a:pt x="1894" y="1437"/>
                  <a:pt x="1894" y="1437"/>
                  <a:pt x="1894" y="1437"/>
                </a:cubicBezTo>
                <a:cubicBezTo>
                  <a:pt x="1895" y="1444"/>
                  <a:pt x="1895" y="1444"/>
                  <a:pt x="1895" y="1444"/>
                </a:cubicBezTo>
                <a:cubicBezTo>
                  <a:pt x="1896" y="1451"/>
                  <a:pt x="1896" y="1451"/>
                  <a:pt x="1896" y="1451"/>
                </a:cubicBezTo>
                <a:cubicBezTo>
                  <a:pt x="1896" y="1458"/>
                  <a:pt x="1896" y="1458"/>
                  <a:pt x="1896" y="1458"/>
                </a:cubicBezTo>
                <a:cubicBezTo>
                  <a:pt x="1896" y="1466"/>
                  <a:pt x="1896" y="1466"/>
                  <a:pt x="1896" y="1466"/>
                </a:cubicBezTo>
                <a:cubicBezTo>
                  <a:pt x="1897" y="1473"/>
                  <a:pt x="1897" y="1473"/>
                  <a:pt x="1897" y="1473"/>
                </a:cubicBezTo>
                <a:cubicBezTo>
                  <a:pt x="1898" y="1481"/>
                  <a:pt x="1898" y="1481"/>
                  <a:pt x="1898" y="1481"/>
                </a:cubicBezTo>
                <a:cubicBezTo>
                  <a:pt x="1898" y="1489"/>
                  <a:pt x="1898" y="1489"/>
                  <a:pt x="1898" y="1489"/>
                </a:cubicBezTo>
                <a:cubicBezTo>
                  <a:pt x="1899" y="1496"/>
                  <a:pt x="1899" y="1496"/>
                  <a:pt x="1899" y="1496"/>
                </a:cubicBezTo>
                <a:cubicBezTo>
                  <a:pt x="1899" y="1504"/>
                  <a:pt x="1899" y="1504"/>
                  <a:pt x="1899" y="1504"/>
                </a:cubicBezTo>
                <a:cubicBezTo>
                  <a:pt x="1899" y="1512"/>
                  <a:pt x="1899" y="1512"/>
                  <a:pt x="1899" y="1512"/>
                </a:cubicBezTo>
                <a:cubicBezTo>
                  <a:pt x="1900" y="1520"/>
                  <a:pt x="1900" y="1520"/>
                  <a:pt x="1900" y="1520"/>
                </a:cubicBezTo>
                <a:cubicBezTo>
                  <a:pt x="1901" y="1528"/>
                  <a:pt x="1901" y="1528"/>
                  <a:pt x="1901" y="1528"/>
                </a:cubicBezTo>
                <a:cubicBezTo>
                  <a:pt x="1901" y="1536"/>
                  <a:pt x="1901" y="1536"/>
                  <a:pt x="1901" y="1536"/>
                </a:cubicBezTo>
                <a:cubicBezTo>
                  <a:pt x="1901" y="1544"/>
                  <a:pt x="1901" y="1544"/>
                  <a:pt x="1901" y="1544"/>
                </a:cubicBezTo>
                <a:cubicBezTo>
                  <a:pt x="1902" y="1553"/>
                  <a:pt x="1902" y="1553"/>
                  <a:pt x="1902" y="1553"/>
                </a:cubicBezTo>
                <a:cubicBezTo>
                  <a:pt x="1903" y="1561"/>
                  <a:pt x="1903" y="1561"/>
                  <a:pt x="1903" y="1561"/>
                </a:cubicBezTo>
                <a:cubicBezTo>
                  <a:pt x="1903" y="1569"/>
                  <a:pt x="1903" y="1569"/>
                  <a:pt x="1903" y="1569"/>
                </a:cubicBezTo>
                <a:cubicBezTo>
                  <a:pt x="1904" y="1578"/>
                  <a:pt x="1904" y="1578"/>
                  <a:pt x="1904" y="1578"/>
                </a:cubicBezTo>
                <a:cubicBezTo>
                  <a:pt x="1904" y="1587"/>
                  <a:pt x="1904" y="1587"/>
                  <a:pt x="1904" y="1587"/>
                </a:cubicBezTo>
                <a:cubicBezTo>
                  <a:pt x="1904" y="1595"/>
                  <a:pt x="1904" y="1595"/>
                  <a:pt x="1904" y="1595"/>
                </a:cubicBezTo>
                <a:cubicBezTo>
                  <a:pt x="1905" y="1604"/>
                  <a:pt x="1905" y="1604"/>
                  <a:pt x="1905" y="1604"/>
                </a:cubicBezTo>
                <a:cubicBezTo>
                  <a:pt x="1906" y="1613"/>
                  <a:pt x="1906" y="1613"/>
                  <a:pt x="1906" y="1613"/>
                </a:cubicBezTo>
                <a:cubicBezTo>
                  <a:pt x="1906" y="1622"/>
                  <a:pt x="1906" y="1622"/>
                  <a:pt x="1906" y="1622"/>
                </a:cubicBezTo>
                <a:cubicBezTo>
                  <a:pt x="1906" y="1631"/>
                  <a:pt x="1906" y="1631"/>
                  <a:pt x="1906" y="1631"/>
                </a:cubicBezTo>
                <a:cubicBezTo>
                  <a:pt x="1907" y="1640"/>
                  <a:pt x="1907" y="1640"/>
                  <a:pt x="1907" y="1640"/>
                </a:cubicBezTo>
                <a:cubicBezTo>
                  <a:pt x="1908" y="1650"/>
                  <a:pt x="1908" y="1650"/>
                  <a:pt x="1908" y="1650"/>
                </a:cubicBezTo>
                <a:cubicBezTo>
                  <a:pt x="1908" y="1659"/>
                  <a:pt x="1908" y="1659"/>
                  <a:pt x="1908" y="1659"/>
                </a:cubicBezTo>
                <a:cubicBezTo>
                  <a:pt x="1909" y="1669"/>
                  <a:pt x="1909" y="1669"/>
                  <a:pt x="1909" y="1669"/>
                </a:cubicBezTo>
                <a:cubicBezTo>
                  <a:pt x="1909" y="1678"/>
                  <a:pt x="1909" y="1678"/>
                  <a:pt x="1909" y="1678"/>
                </a:cubicBezTo>
                <a:cubicBezTo>
                  <a:pt x="1909" y="1688"/>
                  <a:pt x="1909" y="1688"/>
                  <a:pt x="1909" y="1688"/>
                </a:cubicBezTo>
                <a:cubicBezTo>
                  <a:pt x="1910" y="1698"/>
                  <a:pt x="1910" y="1698"/>
                  <a:pt x="1910" y="1698"/>
                </a:cubicBezTo>
                <a:cubicBezTo>
                  <a:pt x="1911" y="1708"/>
                  <a:pt x="1911" y="1708"/>
                  <a:pt x="1911" y="1708"/>
                </a:cubicBezTo>
                <a:cubicBezTo>
                  <a:pt x="1911" y="1713"/>
                  <a:pt x="1911" y="1713"/>
                  <a:pt x="1911" y="1713"/>
                </a:cubicBezTo>
                <a:cubicBezTo>
                  <a:pt x="1911" y="1718"/>
                  <a:pt x="1911" y="1718"/>
                  <a:pt x="1911" y="1718"/>
                </a:cubicBezTo>
                <a:cubicBezTo>
                  <a:pt x="1911" y="1723"/>
                  <a:pt x="1911" y="1723"/>
                  <a:pt x="1911" y="1723"/>
                </a:cubicBezTo>
                <a:cubicBezTo>
                  <a:pt x="1911" y="1728"/>
                  <a:pt x="1911" y="1728"/>
                  <a:pt x="1911" y="1728"/>
                </a:cubicBezTo>
                <a:cubicBezTo>
                  <a:pt x="1912" y="1733"/>
                  <a:pt x="1912" y="1733"/>
                  <a:pt x="1912" y="1733"/>
                </a:cubicBezTo>
                <a:cubicBezTo>
                  <a:pt x="1912" y="1738"/>
                  <a:pt x="1912" y="1738"/>
                  <a:pt x="1912" y="1738"/>
                </a:cubicBezTo>
                <a:cubicBezTo>
                  <a:pt x="1912" y="1743"/>
                  <a:pt x="1912" y="1743"/>
                  <a:pt x="1912" y="1743"/>
                </a:cubicBezTo>
                <a:cubicBezTo>
                  <a:pt x="1913" y="1749"/>
                  <a:pt x="1913" y="1749"/>
                  <a:pt x="1913" y="1749"/>
                </a:cubicBezTo>
                <a:cubicBezTo>
                  <a:pt x="1913" y="1754"/>
                  <a:pt x="1913" y="1754"/>
                  <a:pt x="1913" y="1754"/>
                </a:cubicBezTo>
                <a:cubicBezTo>
                  <a:pt x="1913" y="1759"/>
                  <a:pt x="1913" y="1759"/>
                  <a:pt x="1913" y="1759"/>
                </a:cubicBezTo>
                <a:cubicBezTo>
                  <a:pt x="1914" y="1770"/>
                  <a:pt x="1914" y="1770"/>
                  <a:pt x="1914" y="1770"/>
                </a:cubicBezTo>
                <a:cubicBezTo>
                  <a:pt x="1914" y="1775"/>
                  <a:pt x="1914" y="1775"/>
                  <a:pt x="1914" y="1775"/>
                </a:cubicBezTo>
                <a:cubicBezTo>
                  <a:pt x="1914" y="1780"/>
                  <a:pt x="1914" y="1780"/>
                  <a:pt x="1914" y="1780"/>
                </a:cubicBezTo>
                <a:cubicBezTo>
                  <a:pt x="1914" y="1786"/>
                  <a:pt x="1914" y="1786"/>
                  <a:pt x="1914" y="1786"/>
                </a:cubicBezTo>
                <a:cubicBezTo>
                  <a:pt x="1914" y="1791"/>
                  <a:pt x="1914" y="1791"/>
                  <a:pt x="1914" y="1791"/>
                </a:cubicBezTo>
                <a:cubicBezTo>
                  <a:pt x="1915" y="1797"/>
                  <a:pt x="1915" y="1797"/>
                  <a:pt x="1915" y="1797"/>
                </a:cubicBezTo>
                <a:cubicBezTo>
                  <a:pt x="1915" y="1802"/>
                  <a:pt x="1915" y="1802"/>
                  <a:pt x="1915" y="1802"/>
                </a:cubicBezTo>
                <a:cubicBezTo>
                  <a:pt x="1915" y="1808"/>
                  <a:pt x="1915" y="1808"/>
                  <a:pt x="1915" y="1808"/>
                </a:cubicBezTo>
                <a:cubicBezTo>
                  <a:pt x="1916" y="1813"/>
                  <a:pt x="1916" y="1813"/>
                  <a:pt x="1916" y="1813"/>
                </a:cubicBezTo>
                <a:cubicBezTo>
                  <a:pt x="1916" y="1819"/>
                  <a:pt x="1916" y="1819"/>
                  <a:pt x="1916" y="1819"/>
                </a:cubicBezTo>
                <a:cubicBezTo>
                  <a:pt x="1916" y="1825"/>
                  <a:pt x="1916" y="1825"/>
                  <a:pt x="1916" y="1825"/>
                </a:cubicBezTo>
                <a:cubicBezTo>
                  <a:pt x="1916" y="1830"/>
                  <a:pt x="1916" y="1830"/>
                  <a:pt x="1916" y="1830"/>
                </a:cubicBezTo>
                <a:cubicBezTo>
                  <a:pt x="1916" y="1836"/>
                  <a:pt x="1916" y="1836"/>
                  <a:pt x="1916" y="1836"/>
                </a:cubicBezTo>
                <a:cubicBezTo>
                  <a:pt x="1917" y="1842"/>
                  <a:pt x="1917" y="1842"/>
                  <a:pt x="1917" y="1842"/>
                </a:cubicBezTo>
                <a:cubicBezTo>
                  <a:pt x="1917" y="1848"/>
                  <a:pt x="1917" y="1848"/>
                  <a:pt x="1917" y="1848"/>
                </a:cubicBezTo>
                <a:cubicBezTo>
                  <a:pt x="1917" y="1854"/>
                  <a:pt x="1917" y="1854"/>
                  <a:pt x="1917" y="1854"/>
                </a:cubicBezTo>
                <a:cubicBezTo>
                  <a:pt x="1918" y="1859"/>
                  <a:pt x="1918" y="1859"/>
                  <a:pt x="1918" y="1859"/>
                </a:cubicBezTo>
                <a:cubicBezTo>
                  <a:pt x="1918" y="1865"/>
                  <a:pt x="1918" y="1865"/>
                  <a:pt x="1918" y="1865"/>
                </a:cubicBezTo>
                <a:cubicBezTo>
                  <a:pt x="1918" y="1871"/>
                  <a:pt x="1918" y="1871"/>
                  <a:pt x="1918" y="1871"/>
                </a:cubicBezTo>
                <a:cubicBezTo>
                  <a:pt x="1918" y="1877"/>
                  <a:pt x="1918" y="1877"/>
                  <a:pt x="1918" y="1877"/>
                </a:cubicBezTo>
                <a:cubicBezTo>
                  <a:pt x="1919" y="1883"/>
                  <a:pt x="1919" y="1883"/>
                  <a:pt x="1919" y="1883"/>
                </a:cubicBezTo>
                <a:cubicBezTo>
                  <a:pt x="1919" y="1889"/>
                  <a:pt x="1919" y="1889"/>
                  <a:pt x="1919" y="1889"/>
                </a:cubicBezTo>
                <a:cubicBezTo>
                  <a:pt x="1919" y="1895"/>
                  <a:pt x="1919" y="1895"/>
                  <a:pt x="1919" y="1895"/>
                </a:cubicBezTo>
                <a:cubicBezTo>
                  <a:pt x="1919" y="1901"/>
                  <a:pt x="1919" y="1901"/>
                  <a:pt x="1919" y="1901"/>
                </a:cubicBezTo>
                <a:cubicBezTo>
                  <a:pt x="1919" y="1908"/>
                  <a:pt x="1919" y="1908"/>
                  <a:pt x="1919" y="1908"/>
                </a:cubicBezTo>
                <a:cubicBezTo>
                  <a:pt x="1920" y="1914"/>
                  <a:pt x="1920" y="1914"/>
                  <a:pt x="1920" y="1914"/>
                </a:cubicBezTo>
                <a:cubicBezTo>
                  <a:pt x="1920" y="1920"/>
                  <a:pt x="1920" y="1920"/>
                  <a:pt x="1920" y="1920"/>
                </a:cubicBezTo>
              </a:path>
            </a:pathLst>
          </a:custGeom>
          <a:noFill/>
          <a:ln w="38160">
            <a:solidFill>
              <a:srgbClr val="0062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Text Box 99"/>
          <p:cNvSpPr/>
          <p:nvPr/>
        </p:nvSpPr>
        <p:spPr>
          <a:xfrm>
            <a:off x="5869080" y="350028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Text Box 100"/>
          <p:cNvSpPr/>
          <p:nvPr/>
        </p:nvSpPr>
        <p:spPr>
          <a:xfrm>
            <a:off x="1339200" y="549360"/>
            <a:ext cx="1294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1 вари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йди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Text Box 101"/>
          <p:cNvSpPr/>
          <p:nvPr/>
        </p:nvSpPr>
        <p:spPr>
          <a:xfrm>
            <a:off x="5874480" y="549360"/>
            <a:ext cx="1294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2 вари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йди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9" name="Object 102"/>
              <p:cNvSpPr txBox="1"/>
              <p:nvPr/>
            </p:nvSpPr>
            <p:spPr>
              <a:xfrm>
                <a:off x="5867280" y="1700280"/>
                <a:ext cx="136692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0" name="Object 103"/>
              <p:cNvSpPr txBox="1"/>
              <p:nvPr/>
            </p:nvSpPr>
            <p:spPr>
              <a:xfrm>
                <a:off x="1403280" y="1628640"/>
                <a:ext cx="1081080" cy="61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Text Box 4"/>
          <p:cNvSpPr/>
          <p:nvPr/>
        </p:nvSpPr>
        <p:spPr>
          <a:xfrm>
            <a:off x="774720" y="1071720"/>
            <a:ext cx="3581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 вариа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дите наименьшее  значение функции на отрезке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]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 алгоритм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Text Box 5"/>
          <p:cNvSpPr/>
          <p:nvPr/>
        </p:nvSpPr>
        <p:spPr>
          <a:xfrm>
            <a:off x="5508720" y="1071720"/>
            <a:ext cx="299232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 вариа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дите наибольшее значение функции на отрезке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1/4;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 алгоритм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 = 3х – 4х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Rectangle 5"/>
          <p:cNvSpPr/>
          <p:nvPr/>
        </p:nvSpPr>
        <p:spPr>
          <a:xfrm>
            <a:off x="763560" y="3751200"/>
            <a:ext cx="343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y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=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x  - 10x  + 25x+ 7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TextBox 1"/>
          <p:cNvSpPr/>
          <p:nvPr/>
        </p:nvSpPr>
        <p:spPr>
          <a:xfrm>
            <a:off x="1468080" y="3738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TextBox 2"/>
          <p:cNvSpPr/>
          <p:nvPr/>
        </p:nvSpPr>
        <p:spPr>
          <a:xfrm>
            <a:off x="2482920" y="373860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TextBox 3"/>
          <p:cNvSpPr/>
          <p:nvPr/>
        </p:nvSpPr>
        <p:spPr>
          <a:xfrm>
            <a:off x="7219800" y="355428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539280" y="549360"/>
            <a:ext cx="74566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5000"/>
              </a:lnSpc>
              <a:spcBef>
                <a:spcPts val="601"/>
              </a:spcBef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                      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Цель урока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spcAft>
                <a:spcPts val="1001"/>
              </a:spcAft>
              <a:buClr>
                <a:srgbClr val="fe8637"/>
              </a:buClr>
              <a:buSzPct val="45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вторить и закрепить производную показательной, логарифмической и степенной функций ;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spcAft>
                <a:spcPts val="1001"/>
              </a:spcAft>
              <a:buClr>
                <a:srgbClr val="fe8637"/>
              </a:buClr>
              <a:buSzPct val="45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крепить методы решения наибольшего и наименьшего значения функции ; совершенствовать применение полученных знаний  при решении заданий 7 и 12;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spcAft>
                <a:spcPts val="1001"/>
              </a:spcAft>
              <a:buClr>
                <a:srgbClr val="fe8637"/>
              </a:buClr>
              <a:buSzPct val="45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звитие познавательного интереса и внимания при решении задач по готовым чертежам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2060"/>
                </a:solidFill>
                <a:latin typeface="Century Schoolbook"/>
                <a:ea typeface="Times New Roman"/>
              </a:rPr>
              <a:t>Задача урока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595d63"/>
              </a:buClr>
              <a:buSzPct val="70000"/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работка навыка работы с производной при     подготовке к ЕГЭ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spcAft>
                <a:spcPts val="1001"/>
              </a:spcAft>
              <a:buClr>
                <a:srgbClr val="fe8637"/>
              </a:buClr>
              <a:buSzPct val="50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spcAft>
                <a:spcPts val="1001"/>
              </a:spcAft>
              <a:buClr>
                <a:srgbClr val="fe8637"/>
              </a:buClr>
              <a:buSzPct val="50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Oval 3"/>
          <p:cNvSpPr/>
          <p:nvPr/>
        </p:nvSpPr>
        <p:spPr>
          <a:xfrm>
            <a:off x="1676520" y="4343400"/>
            <a:ext cx="75960" cy="7632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" name="Group 4"/>
          <p:cNvGrpSpPr/>
          <p:nvPr/>
        </p:nvGrpSpPr>
        <p:grpSpPr>
          <a:xfrm>
            <a:off x="380880" y="990720"/>
            <a:ext cx="6019920" cy="4343400"/>
            <a:chOff x="380880" y="990720"/>
            <a:chExt cx="6019920" cy="4343400"/>
          </a:xfrm>
        </p:grpSpPr>
        <p:grpSp>
          <p:nvGrpSpPr>
            <p:cNvPr id="365" name="Group 5"/>
            <p:cNvGrpSpPr/>
            <p:nvPr/>
          </p:nvGrpSpPr>
          <p:grpSpPr>
            <a:xfrm>
              <a:off x="380880" y="4800600"/>
              <a:ext cx="6019920" cy="368280"/>
              <a:chOff x="380880" y="4800600"/>
              <a:chExt cx="6019920" cy="368280"/>
            </a:xfrm>
          </p:grpSpPr>
          <p:sp>
            <p:nvSpPr>
              <p:cNvPr id="366" name="Line 6"/>
              <p:cNvSpPr/>
              <p:nvPr/>
            </p:nvSpPr>
            <p:spPr>
              <a:xfrm>
                <a:off x="380880" y="4876920"/>
                <a:ext cx="5943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Text Box 7"/>
              <p:cNvSpPr/>
              <p:nvPr/>
            </p:nvSpPr>
            <p:spPr>
              <a:xfrm>
                <a:off x="6095880" y="4800600"/>
                <a:ext cx="304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х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8" name="Group 8"/>
            <p:cNvGrpSpPr/>
            <p:nvPr/>
          </p:nvGrpSpPr>
          <p:grpSpPr>
            <a:xfrm>
              <a:off x="1371600" y="990720"/>
              <a:ext cx="380880" cy="4343400"/>
              <a:chOff x="1371600" y="990720"/>
              <a:chExt cx="380880" cy="4343400"/>
            </a:xfrm>
          </p:grpSpPr>
          <p:grpSp>
            <p:nvGrpSpPr>
              <p:cNvPr id="369" name="Group 9"/>
              <p:cNvGrpSpPr/>
              <p:nvPr/>
            </p:nvGrpSpPr>
            <p:grpSpPr>
              <a:xfrm>
                <a:off x="1371600" y="990720"/>
                <a:ext cx="304920" cy="4343400"/>
                <a:chOff x="1371600" y="990720"/>
                <a:chExt cx="304920" cy="4343400"/>
              </a:xfrm>
            </p:grpSpPr>
            <p:sp>
              <p:nvSpPr>
                <p:cNvPr id="370" name="Line 10"/>
                <p:cNvSpPr/>
                <p:nvPr/>
              </p:nvSpPr>
              <p:spPr>
                <a:xfrm flipV="1">
                  <a:off x="1676520" y="1143000"/>
                  <a:ext cx="0" cy="41911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1" name="Text Box 11"/>
                <p:cNvSpPr/>
                <p:nvPr/>
              </p:nvSpPr>
              <p:spPr>
                <a:xfrm>
                  <a:off x="1371600" y="990720"/>
                  <a:ext cx="304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y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2" name="Text Box 12"/>
              <p:cNvSpPr/>
              <p:nvPr/>
            </p:nvSpPr>
            <p:spPr>
              <a:xfrm>
                <a:off x="1447920" y="4800600"/>
                <a:ext cx="304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73" name="Arc 13"/>
          <p:cNvSpPr/>
          <p:nvPr/>
        </p:nvSpPr>
        <p:spPr>
          <a:xfrm>
            <a:off x="2209680" y="4648320"/>
            <a:ext cx="406440" cy="228600"/>
          </a:xfrm>
          <a:custGeom>
            <a:avLst/>
            <a:gdLst>
              <a:gd name="textAreaLeft" fmla="*/ 0 w 406440"/>
              <a:gd name="textAreaRight" fmla="*/ 406800 w 40644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fill="none" w="21503" h="21230">
                <a:moveTo>
                  <a:pt x="3980" y="0"/>
                </a:moveTo>
                <a:cubicBezTo>
                  <a:pt x="13443" y="1774"/>
                  <a:pt x="20588" y="9596"/>
                  <a:pt x="21502" y="19180"/>
                </a:cubicBezTo>
              </a:path>
              <a:path stroke="0" w="21503" h="21230">
                <a:moveTo>
                  <a:pt x="3980" y="0"/>
                </a:moveTo>
                <a:cubicBezTo>
                  <a:pt x="13443" y="1774"/>
                  <a:pt x="20588" y="9596"/>
                  <a:pt x="21502" y="19180"/>
                </a:cubicBezTo>
                <a:lnTo>
                  <a:pt x="0" y="21230"/>
                </a:lnTo>
                <a:lnTo>
                  <a:pt x="3980" y="0"/>
                </a:lnTo>
                <a:close/>
              </a:path>
            </a:pathLst>
          </a:custGeom>
          <a:noFill/>
          <a:ln w="381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14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15"/>
          <p:cNvSpPr/>
          <p:nvPr/>
        </p:nvSpPr>
        <p:spPr>
          <a:xfrm flipH="1">
            <a:off x="1676520" y="4419720"/>
            <a:ext cx="13716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6"/>
          <p:cNvSpPr/>
          <p:nvPr/>
        </p:nvSpPr>
        <p:spPr>
          <a:xfrm flipH="1">
            <a:off x="1676160" y="1600200"/>
            <a:ext cx="281916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17"/>
          <p:cNvSpPr/>
          <p:nvPr/>
        </p:nvSpPr>
        <p:spPr>
          <a:xfrm>
            <a:off x="3048120" y="441972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18"/>
          <p:cNvSpPr/>
          <p:nvPr/>
        </p:nvSpPr>
        <p:spPr>
          <a:xfrm>
            <a:off x="4495680" y="1600200"/>
            <a:ext cx="0" cy="32767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Oval 19"/>
          <p:cNvSpPr/>
          <p:nvPr/>
        </p:nvSpPr>
        <p:spPr>
          <a:xfrm>
            <a:off x="1676520" y="15238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Oval 20"/>
          <p:cNvSpPr/>
          <p:nvPr/>
        </p:nvSpPr>
        <p:spPr>
          <a:xfrm>
            <a:off x="4495680" y="48006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Oval 21"/>
          <p:cNvSpPr/>
          <p:nvPr/>
        </p:nvSpPr>
        <p:spPr>
          <a:xfrm>
            <a:off x="3048120" y="48769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2" name="Object 2"/>
              <p:cNvSpPr txBox="1"/>
              <p:nvPr/>
            </p:nvSpPr>
            <p:spPr>
              <a:xfrm>
                <a:off x="2771640" y="4797360"/>
                <a:ext cx="31608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х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3" name="Object 3"/>
              <p:cNvSpPr txBox="1"/>
              <p:nvPr/>
            </p:nvSpPr>
            <p:spPr>
              <a:xfrm>
                <a:off x="3124080" y="4952880"/>
                <a:ext cx="47628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</m:t>
                    </m:r>
                    <m:r>
                      <m:t xml:space="preserve">х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4" name="Rectangle 24"/>
          <p:cNvSpPr/>
          <p:nvPr/>
        </p:nvSpPr>
        <p:spPr>
          <a:xfrm>
            <a:off x="1800" y="247896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26"/>
          <p:cNvSpPr/>
          <p:nvPr/>
        </p:nvSpPr>
        <p:spPr>
          <a:xfrm>
            <a:off x="2160" y="4114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27"/>
          <p:cNvSpPr/>
          <p:nvPr/>
        </p:nvSpPr>
        <p:spPr>
          <a:xfrm>
            <a:off x="1800" y="388548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28"/>
          <p:cNvSpPr/>
          <p:nvPr/>
        </p:nvSpPr>
        <p:spPr>
          <a:xfrm>
            <a:off x="533520" y="4084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8" name="Object 4"/>
              <p:cNvSpPr txBox="1"/>
              <p:nvPr/>
            </p:nvSpPr>
            <p:spPr>
              <a:xfrm>
                <a:off x="4495680" y="4952880"/>
                <a:ext cx="2970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9" name="Object 5"/>
              <p:cNvSpPr txBox="1"/>
              <p:nvPr/>
            </p:nvSpPr>
            <p:spPr>
              <a:xfrm>
                <a:off x="1143000" y="3733920"/>
                <a:ext cx="50148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0" name="Line 31"/>
          <p:cNvSpPr/>
          <p:nvPr/>
        </p:nvSpPr>
        <p:spPr>
          <a:xfrm>
            <a:off x="3048120" y="4876920"/>
            <a:ext cx="60948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2"/>
          <p:cNvSpPr/>
          <p:nvPr/>
        </p:nvSpPr>
        <p:spPr>
          <a:xfrm flipV="1">
            <a:off x="1676520" y="4114440"/>
            <a:ext cx="0" cy="3049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3"/>
          <p:cNvSpPr/>
          <p:nvPr/>
        </p:nvSpPr>
        <p:spPr>
          <a:xfrm>
            <a:off x="1676520" y="320040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Line 34"/>
          <p:cNvSpPr/>
          <p:nvPr/>
        </p:nvSpPr>
        <p:spPr>
          <a:xfrm flipV="1">
            <a:off x="4191120" y="3200040"/>
            <a:ext cx="0" cy="16765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4" name="Object 6"/>
              <p:cNvSpPr txBox="1"/>
              <p:nvPr/>
            </p:nvSpPr>
            <p:spPr>
              <a:xfrm>
                <a:off x="1066680" y="2590920"/>
                <a:ext cx="45720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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5" name="Object 7"/>
              <p:cNvSpPr txBox="1"/>
              <p:nvPr/>
            </p:nvSpPr>
            <p:spPr>
              <a:xfrm>
                <a:off x="2438280" y="4495680"/>
                <a:ext cx="304920" cy="28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6" name="Object 8"/>
              <p:cNvSpPr txBox="1"/>
              <p:nvPr/>
            </p:nvSpPr>
            <p:spPr>
              <a:xfrm>
                <a:off x="5867280" y="692280"/>
                <a:ext cx="2827440" cy="12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y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7" name="Object 9"/>
              <p:cNvSpPr txBox="1"/>
              <p:nvPr/>
            </p:nvSpPr>
            <p:spPr>
              <a:xfrm>
                <a:off x="6732720" y="3228840"/>
                <a:ext cx="160488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kx</m:t>
                    </m:r>
                    <m:r>
                      <m:t xml:space="preserve">+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8" name="Text Box 39"/>
          <p:cNvSpPr/>
          <p:nvPr/>
        </p:nvSpPr>
        <p:spPr>
          <a:xfrm>
            <a:off x="6477120" y="195588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k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угловой коэффициент прямой(секуще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9" name="Object 10"/>
              <p:cNvSpPr txBox="1"/>
              <p:nvPr/>
            </p:nvSpPr>
            <p:spPr>
              <a:xfrm>
                <a:off x="2567160" y="887400"/>
                <a:ext cx="166212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0" name="Line 41"/>
          <p:cNvSpPr/>
          <p:nvPr/>
        </p:nvSpPr>
        <p:spPr>
          <a:xfrm>
            <a:off x="4267080" y="2666880"/>
            <a:ext cx="0" cy="22100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Line 42"/>
          <p:cNvSpPr/>
          <p:nvPr/>
        </p:nvSpPr>
        <p:spPr>
          <a:xfrm flipH="1">
            <a:off x="1676520" y="2666880"/>
            <a:ext cx="259056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Oval 43"/>
          <p:cNvSpPr/>
          <p:nvPr/>
        </p:nvSpPr>
        <p:spPr>
          <a:xfrm>
            <a:off x="4419720" y="1523880"/>
            <a:ext cx="152280" cy="15264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Freeform 44"/>
          <p:cNvSpPr/>
          <p:nvPr/>
        </p:nvSpPr>
        <p:spPr>
          <a:xfrm>
            <a:off x="228600" y="1066680"/>
            <a:ext cx="4343400" cy="3646440"/>
          </a:xfrm>
          <a:custGeom>
            <a:avLst/>
            <a:gdLst>
              <a:gd name="textAreaLeft" fmla="*/ 0 w 4343400"/>
              <a:gd name="textAreaRight" fmla="*/ 4343760 w 4343400"/>
              <a:gd name="textAreaTop" fmla="*/ 0 h 3646440"/>
              <a:gd name="textAreaBottom" fmla="*/ 3646800 h 3646440"/>
            </a:gdLst>
            <a:ahLst/>
            <a:rect l="textAreaLeft" t="textAreaTop" r="textAreaRight" b="textAreaBottom"/>
            <a:pathLst>
              <a:path w="2709" h="2119">
                <a:moveTo>
                  <a:pt x="0" y="2119"/>
                </a:moveTo>
                <a:cubicBezTo>
                  <a:pt x="357" y="2060"/>
                  <a:pt x="1690" y="2118"/>
                  <a:pt x="2142" y="1765"/>
                </a:cubicBezTo>
                <a:cubicBezTo>
                  <a:pt x="2594" y="1412"/>
                  <a:pt x="2591" y="368"/>
                  <a:pt x="2709" y="0"/>
                </a:cubicBezTo>
              </a:path>
            </a:pathLst>
          </a:custGeom>
          <a:noFill/>
          <a:ln w="442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Line 45"/>
          <p:cNvSpPr/>
          <p:nvPr/>
        </p:nvSpPr>
        <p:spPr>
          <a:xfrm flipV="1">
            <a:off x="380880" y="3580920"/>
            <a:ext cx="5639040" cy="160020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6"/>
          <p:cNvSpPr/>
          <p:nvPr/>
        </p:nvSpPr>
        <p:spPr>
          <a:xfrm>
            <a:off x="2971800" y="4343400"/>
            <a:ext cx="152280" cy="15228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Line 47"/>
          <p:cNvSpPr/>
          <p:nvPr/>
        </p:nvSpPr>
        <p:spPr>
          <a:xfrm flipV="1">
            <a:off x="1828800" y="1523880"/>
            <a:ext cx="3276720" cy="4572000"/>
          </a:xfrm>
          <a:prstGeom prst="line">
            <a:avLst/>
          </a:prstGeom>
          <a:ln w="19080">
            <a:solidFill>
              <a:srgbClr val="1a74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Line 48"/>
          <p:cNvSpPr/>
          <p:nvPr/>
        </p:nvSpPr>
        <p:spPr>
          <a:xfrm flipV="1">
            <a:off x="2209680" y="1066320"/>
            <a:ext cx="2590920" cy="4876920"/>
          </a:xfrm>
          <a:prstGeom prst="line">
            <a:avLst/>
          </a:prstGeom>
          <a:ln w="28440">
            <a:solidFill>
              <a:srgbClr val="7598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Line 49"/>
          <p:cNvSpPr/>
          <p:nvPr/>
        </p:nvSpPr>
        <p:spPr>
          <a:xfrm flipV="1">
            <a:off x="1371600" y="2057400"/>
            <a:ext cx="3886200" cy="4114800"/>
          </a:xfrm>
          <a:prstGeom prst="line">
            <a:avLst/>
          </a:prstGeom>
          <a:ln w="19080">
            <a:solidFill>
              <a:srgbClr val="2c6c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50"/>
          <p:cNvSpPr/>
          <p:nvPr/>
        </p:nvSpPr>
        <p:spPr>
          <a:xfrm flipV="1">
            <a:off x="1371600" y="2057400"/>
            <a:ext cx="4648320" cy="3657600"/>
          </a:xfrm>
          <a:prstGeom prst="line">
            <a:avLst/>
          </a:prstGeom>
          <a:ln w="19080">
            <a:solidFill>
              <a:srgbClr val="3080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Line 51"/>
          <p:cNvSpPr/>
          <p:nvPr/>
        </p:nvSpPr>
        <p:spPr>
          <a:xfrm flipV="1">
            <a:off x="1143000" y="2742840"/>
            <a:ext cx="5334120" cy="2590920"/>
          </a:xfrm>
          <a:prstGeom prst="line">
            <a:avLst/>
          </a:prstGeom>
          <a:ln w="19080">
            <a:solidFill>
              <a:srgbClr val="329a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Line 52"/>
          <p:cNvSpPr/>
          <p:nvPr/>
        </p:nvSpPr>
        <p:spPr>
          <a:xfrm flipH="1">
            <a:off x="4266720" y="4876920"/>
            <a:ext cx="22860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Line 53"/>
          <p:cNvSpPr/>
          <p:nvPr/>
        </p:nvSpPr>
        <p:spPr>
          <a:xfrm flipV="1">
            <a:off x="1676520" y="1599840"/>
            <a:ext cx="0" cy="10666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Oval 54"/>
          <p:cNvSpPr/>
          <p:nvPr/>
        </p:nvSpPr>
        <p:spPr>
          <a:xfrm>
            <a:off x="4191120" y="2590920"/>
            <a:ext cx="152280" cy="15228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55"/>
          <p:cNvSpPr/>
          <p:nvPr/>
        </p:nvSpPr>
        <p:spPr>
          <a:xfrm>
            <a:off x="4191120" y="4876920"/>
            <a:ext cx="759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Line 56"/>
          <p:cNvSpPr/>
          <p:nvPr/>
        </p:nvSpPr>
        <p:spPr>
          <a:xfrm flipV="1">
            <a:off x="1676520" y="2666880"/>
            <a:ext cx="0" cy="5335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Oval 57"/>
          <p:cNvSpPr/>
          <p:nvPr/>
        </p:nvSpPr>
        <p:spPr>
          <a:xfrm>
            <a:off x="4114800" y="3124080"/>
            <a:ext cx="152280" cy="15264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58"/>
          <p:cNvSpPr/>
          <p:nvPr/>
        </p:nvSpPr>
        <p:spPr>
          <a:xfrm>
            <a:off x="3962520" y="365760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59"/>
          <p:cNvSpPr/>
          <p:nvPr/>
        </p:nvSpPr>
        <p:spPr>
          <a:xfrm flipH="1">
            <a:off x="1676520" y="3657600"/>
            <a:ext cx="22860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60"/>
          <p:cNvSpPr/>
          <p:nvPr/>
        </p:nvSpPr>
        <p:spPr>
          <a:xfrm>
            <a:off x="3962520" y="4876920"/>
            <a:ext cx="22860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61"/>
          <p:cNvSpPr/>
          <p:nvPr/>
        </p:nvSpPr>
        <p:spPr>
          <a:xfrm>
            <a:off x="1676520" y="3200400"/>
            <a:ext cx="0" cy="4572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Oval 62"/>
          <p:cNvSpPr/>
          <p:nvPr/>
        </p:nvSpPr>
        <p:spPr>
          <a:xfrm>
            <a:off x="3886200" y="3581280"/>
            <a:ext cx="152280" cy="15264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63"/>
          <p:cNvSpPr/>
          <p:nvPr/>
        </p:nvSpPr>
        <p:spPr>
          <a:xfrm>
            <a:off x="3657600" y="411480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Line 64"/>
          <p:cNvSpPr/>
          <p:nvPr/>
        </p:nvSpPr>
        <p:spPr>
          <a:xfrm flipH="1">
            <a:off x="1676160" y="4114800"/>
            <a:ext cx="198108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Line 65"/>
          <p:cNvSpPr/>
          <p:nvPr/>
        </p:nvSpPr>
        <p:spPr>
          <a:xfrm>
            <a:off x="3657600" y="4876920"/>
            <a:ext cx="3049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Line 66"/>
          <p:cNvSpPr/>
          <p:nvPr/>
        </p:nvSpPr>
        <p:spPr>
          <a:xfrm>
            <a:off x="1676520" y="3657600"/>
            <a:ext cx="0" cy="4572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Oval 67"/>
          <p:cNvSpPr/>
          <p:nvPr/>
        </p:nvSpPr>
        <p:spPr>
          <a:xfrm>
            <a:off x="3581280" y="4038480"/>
            <a:ext cx="152640" cy="15264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7" name="Object 11"/>
              <p:cNvSpPr txBox="1"/>
              <p:nvPr/>
            </p:nvSpPr>
            <p:spPr>
              <a:xfrm>
                <a:off x="3581280" y="4952880"/>
                <a:ext cx="83844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→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8" name="Line 70"/>
          <p:cNvSpPr/>
          <p:nvPr/>
        </p:nvSpPr>
        <p:spPr>
          <a:xfrm>
            <a:off x="1676520" y="4267080"/>
            <a:ext cx="0" cy="152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72"/>
          <p:cNvSpPr/>
          <p:nvPr/>
        </p:nvSpPr>
        <p:spPr>
          <a:xfrm rot="20585400">
            <a:off x="4572360" y="373356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сатель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73"/>
          <p:cNvSpPr/>
          <p:nvPr/>
        </p:nvSpPr>
        <p:spPr>
          <a:xfrm rot="18012000">
            <a:off x="2941200" y="247572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Секущ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1" name="Object 12"/>
              <p:cNvSpPr txBox="1"/>
              <p:nvPr/>
            </p:nvSpPr>
            <p:spPr>
              <a:xfrm>
                <a:off x="0" y="5495760"/>
                <a:ext cx="9144000" cy="136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Производной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функции</m:t>
                        </m:r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в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точке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х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называется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число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к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которому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стремится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отношение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Δ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Δx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при</m:t>
                        </m:r>
                        <m:r>
                          <m:t xml:space="preserve"> </m:t>
                        </m:r>
                        <m:r>
                          <m:t xml:space="preserve">Δх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432" name="Group 75"/>
          <p:cNvGrpSpPr/>
          <p:nvPr/>
        </p:nvGrpSpPr>
        <p:grpSpPr>
          <a:xfrm>
            <a:off x="6372360" y="3789360"/>
            <a:ext cx="2771280" cy="1444320"/>
            <a:chOff x="6372360" y="3789360"/>
            <a:chExt cx="2771280" cy="1444320"/>
          </a:xfrm>
        </p:grpSpPr>
        <p:sp>
          <p:nvSpPr>
            <p:cNvPr id="433" name="Text Box 76"/>
            <p:cNvSpPr/>
            <p:nvPr/>
          </p:nvSpPr>
          <p:spPr>
            <a:xfrm>
              <a:off x="6372360" y="3789360"/>
              <a:ext cx="277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cc3300"/>
                  </a:solidFill>
                  <a:latin typeface="Arial"/>
                </a:rPr>
                <a:t>Обозначение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4" name="Object 13"/>
                <p:cNvSpPr txBox="1"/>
                <p:nvPr/>
              </p:nvSpPr>
              <p:spPr>
                <a:xfrm>
                  <a:off x="6926400" y="4561560"/>
                  <a:ext cx="1293480" cy="672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f</m:t>
                          </m:r>
                        </m:e>
                        <m:sup>
                          <m:r>
                            <m:t xml:space="preserve">'</m:t>
                          </m:r>
                        </m:sup>
                      </m:sSup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35" name="WordArt 80"/>
          <p:cNvSpPr txBox="1"/>
          <p:nvPr/>
        </p:nvSpPr>
        <p:spPr>
          <a:xfrm>
            <a:off x="179280" y="0"/>
            <a:ext cx="87854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00ff00"/>
                  </a:solidFill>
                  <a:miter/>
                </a:ln>
                <a:gradFill rotWithShape="0">
                  <a:gsLst>
                    <a:gs pos="0">
                      <a:srgbClr val="008000"/>
                    </a:gs>
                    <a:gs pos="100000">
                      <a:srgbClr val="3b435b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2000" spc="1" strike="noStrike">
              <a:ln w="19080">
                <a:solidFill>
                  <a:srgbClr val="00ff00"/>
                </a:solidFill>
                <a:miter/>
              </a:ln>
              <a:gradFill rotWithShape="0">
                <a:gsLst>
                  <a:gs pos="0">
                    <a:srgbClr val="008000"/>
                  </a:gs>
                  <a:gs pos="100000">
                    <a:srgbClr val="3b435b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99640" y="188640"/>
            <a:ext cx="619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2060"/>
                </a:solidFill>
                <a:latin typeface="Century Schoolbook"/>
              </a:rPr>
              <a:t>ОПРЕДЕЛЕНИЕ ПРОИЗВОДНОЙ И ЕЕ</a:t>
            </a:r>
            <a:br>
              <a:rPr sz="2500"/>
            </a:br>
            <a:r>
              <a:rPr b="0" lang="ru-RU" sz="2500" spc="-1" strike="noStrike">
                <a:solidFill>
                  <a:srgbClr val="002060"/>
                </a:solidFill>
                <a:latin typeface="Century Schoolbook"/>
              </a:rPr>
              <a:t>ГЕОМЕТРИЧЕСКИЙ СМЫСЛ</a:t>
            </a:r>
            <a:endParaRPr b="0" lang="en-US" sz="25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4360" y="1483920"/>
            <a:ext cx="741672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1" lang="ru-RU" sz="25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УСТНАЯ РАБОТА </a:t>
            </a:r>
            <a:br>
              <a:rPr sz="2500"/>
            </a:br>
            <a:br>
              <a:rPr sz="2500"/>
            </a:br>
            <a:r>
              <a:rPr b="1" lang="ru-RU" sz="24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1. КАКАЯ ФУНКЦИЯ НАЗЫВАЕТСЯ ПОКАЗАТЕЛЬНОЙ?</a:t>
            </a:r>
            <a:br>
              <a:rPr sz="2400"/>
            </a:br>
            <a:r>
              <a:rPr b="1" lang="ru-RU" sz="24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2. КАКАЯ ФУНКЦИЯ НАЗЫВАЕТСЯ ЛОГАРИФМИЧЕСКОЙ?</a:t>
            </a:r>
            <a:br>
              <a:rPr sz="2400"/>
            </a:br>
            <a:r>
              <a:rPr b="1" lang="ru-RU" sz="24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3. КАКАЯ ФУНКЦИЯ НАЗЫВАЕТСЯ СТЕПЕННОЙ?</a:t>
            </a:r>
            <a:br>
              <a:rPr sz="2400"/>
            </a:br>
            <a:r>
              <a:rPr b="1" lang="ru-RU" sz="24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4. ЧЕМУ РАВНА ПРОИЗВОДНАЯ ПОКАЗАТЕЛЬНОЙ, ЛОГАРИФМИЧЕСКОЙ , СТЕПЕННОЙ  ФУНКЦИЙ?</a:t>
            </a:r>
            <a:br>
              <a:rPr sz="2400"/>
            </a:br>
            <a:r>
              <a:rPr b="1" lang="ru-RU" sz="24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5. ЧТО ТАКОЕ НАТУРАЛЬНЫЙ ЛОГАРИФМ?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2"/>
          <p:cNvSpPr/>
          <p:nvPr/>
        </p:nvSpPr>
        <p:spPr>
          <a:xfrm>
            <a:off x="1908000" y="0"/>
            <a:ext cx="475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Математический диктант. 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9" name="Group 30"/>
          <p:cNvGrpSpPr/>
          <p:nvPr/>
        </p:nvGrpSpPr>
        <p:grpSpPr>
          <a:xfrm>
            <a:off x="761040" y="399960"/>
            <a:ext cx="4321440" cy="676440"/>
            <a:chOff x="761040" y="399960"/>
            <a:chExt cx="4321440" cy="676440"/>
          </a:xfrm>
        </p:grpSpPr>
        <p:sp>
          <p:nvSpPr>
            <p:cNvPr id="440" name="Rectangle 4"/>
            <p:cNvSpPr/>
            <p:nvPr/>
          </p:nvSpPr>
          <p:spPr>
            <a:xfrm>
              <a:off x="761040" y="614520"/>
              <a:ext cx="432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1. Верно ли, что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           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41" name="Object 5"/>
                <p:cNvSpPr txBox="1"/>
                <p:nvPr/>
              </p:nvSpPr>
              <p:spPr>
                <a:xfrm>
                  <a:off x="3203640" y="399960"/>
                  <a:ext cx="1851120" cy="676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p>
                                <m:e>
                                  <m:r>
                                    <m:t xml:space="preserve">х</m:t>
                                  </m:r>
                                </m:e>
                                <m:sup>
                                  <m:r>
                                    <m:t xml:space="preserve">α</m:t>
                                  </m:r>
                                </m:sup>
                              </m:sSup>
                            </m:e>
                          </m:d>
                        </m:e>
                        <m:sup>
                          <m:r>
                            <m:t xml:space="preserve">′</m:t>
                          </m:r>
                        </m:sup>
                      </m:sSup>
                      <m:r>
                        <m:t xml:space="preserve">=</m:t>
                      </m:r>
                      <m:sSup>
                        <m:e>
                          <m:r>
                            <m:t xml:space="preserve">αх</m:t>
                          </m:r>
                        </m:e>
                        <m:sup>
                          <m:r>
                            <m:t xml:space="preserve">α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42" name="Group 6"/>
          <p:cNvGrpSpPr/>
          <p:nvPr/>
        </p:nvGrpSpPr>
        <p:grpSpPr>
          <a:xfrm>
            <a:off x="769680" y="1071720"/>
            <a:ext cx="5004360" cy="604080"/>
            <a:chOff x="769680" y="1071720"/>
            <a:chExt cx="5004360" cy="604080"/>
          </a:xfrm>
        </p:grpSpPr>
        <p:sp>
          <p:nvSpPr>
            <p:cNvPr id="443" name="Rectangle 7"/>
            <p:cNvSpPr/>
            <p:nvPr/>
          </p:nvSpPr>
          <p:spPr>
            <a:xfrm>
              <a:off x="769680" y="1216080"/>
              <a:ext cx="500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2. Верно ли, что                           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44" name="Object 8"/>
                <p:cNvSpPr txBox="1"/>
                <p:nvPr/>
              </p:nvSpPr>
              <p:spPr>
                <a:xfrm>
                  <a:off x="3306600" y="1071720"/>
                  <a:ext cx="2176560" cy="582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х</m:t>
                              </m:r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</m:d>
                        </m:e>
                        <m:sup>
                          <m:r>
                            <m:t xml:space="preserve">′</m:t>
                          </m:r>
                        </m:sup>
                      </m:sSup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t xml:space="preserve">х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45" name="Group 9"/>
          <p:cNvGrpSpPr/>
          <p:nvPr/>
        </p:nvGrpSpPr>
        <p:grpSpPr>
          <a:xfrm>
            <a:off x="770040" y="1444680"/>
            <a:ext cx="4919040" cy="639720"/>
            <a:chOff x="770040" y="1444680"/>
            <a:chExt cx="4919040" cy="639720"/>
          </a:xfrm>
        </p:grpSpPr>
        <p:sp>
          <p:nvSpPr>
            <p:cNvPr id="446" name="Rectangle 10"/>
            <p:cNvSpPr/>
            <p:nvPr/>
          </p:nvSpPr>
          <p:spPr>
            <a:xfrm>
              <a:off x="770040" y="1587600"/>
              <a:ext cx="4919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3. Верно ли, что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                     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47" name="Object 11"/>
                <p:cNvSpPr txBox="1"/>
                <p:nvPr/>
              </p:nvSpPr>
              <p:spPr>
                <a:xfrm>
                  <a:off x="3308040" y="1444680"/>
                  <a:ext cx="2211480" cy="639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u</m:t>
                              </m:r>
                              <m:r>
                                <m:t xml:space="preserve">+</m:t>
                              </m:r>
                              <m:r>
                                <m:t xml:space="preserve">v</m:t>
                              </m:r>
                            </m:e>
                          </m:d>
                        </m:e>
                        <m:sup>
                          <m:r>
                            <m:t xml:space="preserve">′</m:t>
                          </m:r>
                        </m:sup>
                      </m:sSup>
                      <m:r>
                        <m:t xml:space="preserve">=</m:t>
                      </m:r>
                      <m:sSup>
                        <m:e>
                          <m:r>
                            <m:t xml:space="preserve">u</m:t>
                          </m:r>
                        </m:e>
                        <m:sup>
                          <m:r>
                            <m:t xml:space="preserve">'</m:t>
                          </m:r>
                        </m:sup>
                      </m:sSup>
                      <m:r>
                        <m:t xml:space="preserve">+</m:t>
                      </m:r>
                      <m:sSup>
                        <m:e>
                          <m:r>
                            <m:t xml:space="preserve">v</m:t>
                          </m:r>
                        </m:e>
                        <m:sup>
                          <m:r>
                            <m:t xml:space="preserve">'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48" name="Group 12"/>
          <p:cNvGrpSpPr/>
          <p:nvPr/>
        </p:nvGrpSpPr>
        <p:grpSpPr>
          <a:xfrm>
            <a:off x="771120" y="1973160"/>
            <a:ext cx="4833360" cy="660240"/>
            <a:chOff x="771120" y="1973160"/>
            <a:chExt cx="4833360" cy="660240"/>
          </a:xfrm>
        </p:grpSpPr>
        <p:sp>
          <p:nvSpPr>
            <p:cNvPr id="449" name="Rectangle 13"/>
            <p:cNvSpPr/>
            <p:nvPr/>
          </p:nvSpPr>
          <p:spPr>
            <a:xfrm>
              <a:off x="771120" y="2117520"/>
              <a:ext cx="483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4. Верно ли, что                         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0" name="Object 14"/>
                <p:cNvSpPr txBox="1"/>
                <p:nvPr/>
              </p:nvSpPr>
              <p:spPr>
                <a:xfrm>
                  <a:off x="3308040" y="1973160"/>
                  <a:ext cx="2192400" cy="660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С</m:t>
                              </m:r>
                              <m:r>
                                <m:t xml:space="preserve">⋅</m:t>
                              </m:r>
                              <m:r>
                                <m:t xml:space="preserve">u</m:t>
                              </m:r>
                            </m:e>
                          </m:d>
                        </m:e>
                        <m:sup>
                          <m:r>
                            <m:t xml:space="preserve">′</m:t>
                          </m:r>
                        </m:sup>
                      </m:sSup>
                      <m:r>
                        <m:t xml:space="preserve">=</m:t>
                      </m:r>
                      <m:sSup>
                        <m:e>
                          <m:r>
                            <m:t xml:space="preserve">C</m:t>
                          </m:r>
                        </m:e>
                        <m:sup>
                          <m:r>
                            <m:t xml:space="preserve">'</m:t>
                          </m:r>
                        </m:sup>
                      </m:sSup>
                      <m:r>
                        <m:t xml:space="preserve">⋅</m:t>
                      </m:r>
                      <m:sSup>
                        <m:e>
                          <m:r>
                            <m:t xml:space="preserve">u</m:t>
                          </m:r>
                        </m:e>
                        <m:sup>
                          <m:r>
                            <m:t xml:space="preserve">'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51" name="Group 15"/>
          <p:cNvGrpSpPr/>
          <p:nvPr/>
        </p:nvGrpSpPr>
        <p:grpSpPr>
          <a:xfrm>
            <a:off x="745200" y="2492280"/>
            <a:ext cx="3980160" cy="531000"/>
            <a:chOff x="745200" y="2492280"/>
            <a:chExt cx="3980160" cy="531000"/>
          </a:xfrm>
        </p:grpSpPr>
        <p:sp>
          <p:nvSpPr>
            <p:cNvPr id="452" name="Rectangle 16"/>
            <p:cNvSpPr/>
            <p:nvPr/>
          </p:nvSpPr>
          <p:spPr>
            <a:xfrm>
              <a:off x="745200" y="2563560"/>
              <a:ext cx="3980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5. Верно ли, что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          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3" name="Object 17"/>
                <p:cNvSpPr txBox="1"/>
                <p:nvPr/>
              </p:nvSpPr>
              <p:spPr>
                <a:xfrm>
                  <a:off x="3419280" y="2492280"/>
                  <a:ext cx="1073160" cy="455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С</m:t>
                          </m:r>
                        </m:e>
                        <m:sup>
                          <m:r>
                            <m:t xml:space="preserve">'</m:t>
                          </m:r>
                        </m:sup>
                      </m:sSup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54" name="Group 35"/>
          <p:cNvGrpSpPr/>
          <p:nvPr/>
        </p:nvGrpSpPr>
        <p:grpSpPr>
          <a:xfrm>
            <a:off x="835200" y="3021120"/>
            <a:ext cx="4236120" cy="675360"/>
            <a:chOff x="835200" y="3021120"/>
            <a:chExt cx="4236120" cy="675360"/>
          </a:xfrm>
        </p:grpSpPr>
        <p:sp>
          <p:nvSpPr>
            <p:cNvPr id="455" name="Rectangle 19"/>
            <p:cNvSpPr/>
            <p:nvPr/>
          </p:nvSpPr>
          <p:spPr>
            <a:xfrm>
              <a:off x="835200" y="3236760"/>
              <a:ext cx="4236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6. Верно ли, что                  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6" name="Object 20"/>
                <p:cNvSpPr txBox="1"/>
                <p:nvPr/>
              </p:nvSpPr>
              <p:spPr>
                <a:xfrm>
                  <a:off x="3595320" y="3021120"/>
                  <a:ext cx="1295640" cy="64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p>
                                <m:e>
                                  <m:r>
                                    <m:t xml:space="preserve">е</m:t>
                                  </m:r>
                                </m:e>
                                <m:sup>
                                  <m:r>
                                    <m:t xml:space="preserve">х</m:t>
                                  </m:r>
                                </m:sup>
                              </m:sSup>
                            </m:e>
                          </m:d>
                        </m:e>
                        <m:sup>
                          <m:r>
                            <m:t xml:space="preserve">′</m:t>
                          </m:r>
                        </m:sup>
                      </m:sSup>
                      <m:r>
                        <m:t xml:space="preserve">=</m:t>
                      </m:r>
                      <m:sSup>
                        <m:e>
                          <m:r>
                            <m:t xml:space="preserve">е</m:t>
                          </m:r>
                        </m:e>
                        <m:sup>
                          <m:r>
                            <m:t xml:space="preserve">х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57" name="Group 33"/>
          <p:cNvGrpSpPr/>
          <p:nvPr/>
        </p:nvGrpSpPr>
        <p:grpSpPr>
          <a:xfrm>
            <a:off x="856800" y="3732120"/>
            <a:ext cx="4577400" cy="857520"/>
            <a:chOff x="856800" y="3732120"/>
            <a:chExt cx="4577400" cy="857520"/>
          </a:xfrm>
        </p:grpSpPr>
        <p:sp>
          <p:nvSpPr>
            <p:cNvPr id="458" name="Rectangle 22"/>
            <p:cNvSpPr/>
            <p:nvPr/>
          </p:nvSpPr>
          <p:spPr>
            <a:xfrm>
              <a:off x="856800" y="4019400"/>
              <a:ext cx="457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7. Верно ли, что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                 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9" name="Object 23"/>
                <p:cNvSpPr txBox="1"/>
                <p:nvPr/>
              </p:nvSpPr>
              <p:spPr>
                <a:xfrm>
                  <a:off x="3595680" y="3732120"/>
                  <a:ext cx="1482840" cy="857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p>
                                <m:e>
                                  <m:r>
                                    <m:t xml:space="preserve">а</m:t>
                                  </m:r>
                                </m:e>
                                <m:sup>
                                  <m:r>
                                    <m:t xml:space="preserve">х</m:t>
                                  </m:r>
                                </m:sup>
                              </m:sSup>
                            </m:e>
                          </m:d>
                        </m:e>
                        <m:sup>
                          <m:r>
                            <m:t xml:space="preserve">′</m:t>
                          </m:r>
                        </m:sup>
                      </m:sSup>
                      <m:r>
                        <m:t xml:space="preserve">=</m:t>
                      </m:r>
                      <m:f>
                        <m:num>
                          <m:sSup>
                            <m:e>
                              <m:r>
                                <m:t xml:space="preserve">а</m:t>
                              </m:r>
                            </m:e>
                            <m:sup>
                              <m:r>
                                <m:t xml:space="preserve">х</m:t>
                              </m:r>
                            </m:sup>
                          </m:sSup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ln</m:t>
                          </m:r>
                          <m:r>
                            <m:t xml:space="preserve">а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60" name="Group 31"/>
          <p:cNvGrpSpPr/>
          <p:nvPr/>
        </p:nvGrpSpPr>
        <p:grpSpPr>
          <a:xfrm>
            <a:off x="855360" y="4641840"/>
            <a:ext cx="5857560" cy="1222560"/>
            <a:chOff x="855360" y="4641840"/>
            <a:chExt cx="5857560" cy="1222560"/>
          </a:xfrm>
        </p:grpSpPr>
        <p:sp>
          <p:nvSpPr>
            <p:cNvPr id="461" name="Rectangle 25"/>
            <p:cNvSpPr/>
            <p:nvPr/>
          </p:nvSpPr>
          <p:spPr>
            <a:xfrm>
              <a:off x="855360" y="4943520"/>
              <a:ext cx="585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8. Верно ли, что                                     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62" name="Object 26"/>
                <p:cNvSpPr txBox="1"/>
                <p:nvPr/>
              </p:nvSpPr>
              <p:spPr>
                <a:xfrm>
                  <a:off x="3579480" y="4641840"/>
                  <a:ext cx="2879640" cy="1222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r>
                                    <m:t xml:space="preserve">u</m:t>
                                  </m:r>
                                </m:num>
                                <m:den>
                                  <m:r>
                                    <m:t xml:space="preserve">v</m:t>
                                  </m:r>
                                </m:den>
                              </m:f>
                            </m:e>
                          </m:d>
                        </m:e>
                        <m:sup>
                          <m:r>
                            <m:t xml:space="preserve">′</m:t>
                          </m:r>
                        </m:sup>
                      </m:sSup>
                      <m:r>
                        <m:t xml:space="preserve">=</m:t>
                      </m:r>
                      <m:f>
                        <m:num>
                          <m:sSup>
                            <m:e>
                              <m:r>
                                <m:t xml:space="preserve">u</m:t>
                              </m:r>
                            </m:e>
                            <m:sup>
                              <m:r>
                                <m:t xml:space="preserve">'</m:t>
                              </m:r>
                            </m:sup>
                          </m:sSup>
                          <m:r>
                            <m:t xml:space="preserve">⋅</m:t>
                          </m:r>
                          <m:r>
                            <m:t xml:space="preserve">v</m:t>
                          </m:r>
                          <m:r>
                            <m:t xml:space="preserve">−</m:t>
                          </m:r>
                          <m:r>
                            <m:t xml:space="preserve">u</m:t>
                          </m:r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v</m:t>
                              </m:r>
                            </m:e>
                            <m:sup>
                              <m:r>
                                <m:t xml:space="preserve">'</m:t>
                              </m:r>
                            </m:sup>
                          </m:sSup>
                        </m:num>
                        <m:den>
                          <m:sSup>
                            <m:e>
                              <m:r>
                                <m:t xml:space="preserve">v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63" name="Group 27"/>
          <p:cNvGrpSpPr/>
          <p:nvPr/>
        </p:nvGrpSpPr>
        <p:grpSpPr>
          <a:xfrm>
            <a:off x="787320" y="5864400"/>
            <a:ext cx="8105760" cy="1747440"/>
            <a:chOff x="787320" y="5864400"/>
            <a:chExt cx="8105760" cy="1747440"/>
          </a:xfrm>
        </p:grpSpPr>
        <p:sp>
          <p:nvSpPr>
            <p:cNvPr id="464" name="Rectangle 28"/>
            <p:cNvSpPr/>
            <p:nvPr/>
          </p:nvSpPr>
          <p:spPr>
            <a:xfrm>
              <a:off x="787320" y="5864400"/>
              <a:ext cx="7632720" cy="174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9. Верно ли, что уравнение касательной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записывается так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65" name="Object 29"/>
                <p:cNvSpPr txBox="1"/>
                <p:nvPr/>
              </p:nvSpPr>
              <p:spPr>
                <a:xfrm>
                  <a:off x="4284720" y="6094440"/>
                  <a:ext cx="4608360" cy="65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r>
                        <m:t xml:space="preserve">f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х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+</m:t>
                      </m:r>
                      <m:sSup>
                        <m:e>
                          <m:r>
                            <m:t xml:space="preserve">f</m:t>
                          </m:r>
                        </m:e>
                        <m:sup>
                          <m:r>
                            <m:t xml:space="preserve">'</m:t>
                          </m:r>
                        </m:sup>
                      </m:sSup>
                      <m:r>
                        <m:t xml:space="preserve">(</m:t>
                      </m:r>
                      <m:sSub>
                        <m:e>
                          <m:r>
                            <m:t xml:space="preserve">х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(</m:t>
                      </m:r>
                      <m:r>
                        <m:t xml:space="preserve">х</m:t>
                      </m:r>
                      <m:r>
                        <m:t xml:space="preserve">−</m:t>
                      </m:r>
                      <m:sSub>
                        <m:e>
                          <m:r>
                            <m:t xml:space="preserve">х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1360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10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12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14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1" name="Объект 1"/>
              <p:cNvSpPr txBox="1"/>
              <p:nvPr/>
            </p:nvSpPr>
            <p:spPr>
              <a:xfrm>
                <a:off x="250920" y="963720"/>
                <a:ext cx="1584360" cy="104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а</m:t>
                                </m:r>
                              </m:e>
                              <m:sup>
                                <m:r>
                                  <m:t xml:space="preserve">х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′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2" name="Объект 3"/>
              <p:cNvSpPr txBox="1"/>
              <p:nvPr/>
            </p:nvSpPr>
            <p:spPr>
              <a:xfrm>
                <a:off x="1763640" y="1147680"/>
                <a:ext cx="162720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х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3" name="Объект 4"/>
              <p:cNvSpPr txBox="1"/>
              <p:nvPr/>
            </p:nvSpPr>
            <p:spPr>
              <a:xfrm>
                <a:off x="6588000" y="2421000"/>
                <a:ext cx="115272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х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4" name="Объект 5"/>
              <p:cNvSpPr txBox="1"/>
              <p:nvPr/>
            </p:nvSpPr>
            <p:spPr>
              <a:xfrm>
                <a:off x="7740720" y="2151000"/>
                <a:ext cx="449280" cy="116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х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5" name="Объект 6"/>
              <p:cNvSpPr txBox="1"/>
              <p:nvPr/>
            </p:nvSpPr>
            <p:spPr>
              <a:xfrm>
                <a:off x="179280" y="5084640"/>
                <a:ext cx="199872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og</m:t>
                                </m:r>
                              </m:e>
                              <m:sub>
                                <m:r>
                                  <m:t xml:space="preserve">а</m:t>
                                </m:r>
                              </m:sub>
                            </m:sSub>
                            <m:r>
                              <m:t xml:space="preserve">х</m:t>
                            </m:r>
                          </m:e>
                        </m:d>
                      </m:e>
                      <m:sup>
                        <m:r>
                          <m:t xml:space="preserve">′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6" name="Объект 7"/>
              <p:cNvSpPr txBox="1"/>
              <p:nvPr/>
            </p:nvSpPr>
            <p:spPr>
              <a:xfrm>
                <a:off x="2122560" y="5084640"/>
                <a:ext cx="345744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х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а</m:t>
                        </m:r>
                      </m:den>
                    </m:f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х</m:t>
                    </m:r>
                    <m:r>
                      <m:t xml:space="preserve">&gt;</m:t>
                    </m:r>
                    <m:r>
                      <m:rPr>
                        <m:lit/>
                        <m:nor/>
                      </m:rPr>
                      <m:t xml:space="preserve"> 0, </m:t>
                    </m:r>
                    <m:r>
                      <m:t xml:space="preserve">а</m:t>
                    </m:r>
                    <m:r>
                      <m:t xml:space="preserve">&gt;</m:t>
                    </m:r>
                    <m:r>
                      <m:rPr>
                        <m:lit/>
                        <m:nor/>
                      </m:rPr>
                      <m:t xml:space="preserve"> 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7" name="Объект 8"/>
              <p:cNvSpPr txBox="1"/>
              <p:nvPr/>
            </p:nvSpPr>
            <p:spPr>
              <a:xfrm>
                <a:off x="250920" y="2349360"/>
                <a:ext cx="2597040" cy="88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ах</m:t>
                            </m:r>
                            <m:r>
                              <m:t xml:space="preserve">+</m:t>
                            </m:r>
                            <m:r>
                              <m:t xml:space="preserve">в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sup>
                        <m:r>
                          <m:t xml:space="preserve">′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8" name="Объект 9"/>
              <p:cNvSpPr txBox="1"/>
              <p:nvPr/>
            </p:nvSpPr>
            <p:spPr>
              <a:xfrm>
                <a:off x="2771640" y="2276640"/>
                <a:ext cx="2381400" cy="115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а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ах</m:t>
                        </m:r>
                        <m:r>
                          <m:t xml:space="preserve">+</m:t>
                        </m:r>
                        <m:r>
                          <m:t xml:space="preserve">в</m:t>
                        </m:r>
                      </m:den>
                    </m:f>
                    <m:r>
                      <m:t xml:space="preserve">,</m:t>
                    </m:r>
                    <m:r>
                      <m:t xml:space="preserve">а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9" name="Объект 10"/>
              <p:cNvSpPr txBox="1"/>
              <p:nvPr/>
            </p:nvSpPr>
            <p:spPr>
              <a:xfrm>
                <a:off x="324000" y="3645000"/>
                <a:ext cx="300348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og</m:t>
                                </m:r>
                              </m:e>
                              <m:sub>
                                <m:r>
                                  <m:t xml:space="preserve">а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х</m:t>
                            </m:r>
                            <m:r>
                              <m:t xml:space="preserve">+</m:t>
                            </m:r>
                            <m:r>
                              <m:t xml:space="preserve">в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sup>
                        <m:r>
                          <m:t xml:space="preserve">′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0" name="Объект 11"/>
              <p:cNvSpPr txBox="1"/>
              <p:nvPr/>
            </p:nvSpPr>
            <p:spPr>
              <a:xfrm>
                <a:off x="3348000" y="3645000"/>
                <a:ext cx="209556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k</m:t>
                        </m:r>
                      </m:num>
                      <m:den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х</m:t>
                        </m:r>
                        <m:r>
                          <m:t xml:space="preserve">+</m:t>
                        </m:r>
                        <m:r>
                          <m:t xml:space="preserve">в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а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1" name="Объект 12"/>
              <p:cNvSpPr txBox="1"/>
              <p:nvPr/>
            </p:nvSpPr>
            <p:spPr>
              <a:xfrm>
                <a:off x="6300720" y="3235320"/>
                <a:ext cx="1575000" cy="112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е</m:t>
                                </m:r>
                              </m:e>
                              <m:sup>
                                <m:r>
                                  <m:t xml:space="preserve">х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′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2" name="Объект 13"/>
              <p:cNvSpPr txBox="1"/>
              <p:nvPr/>
            </p:nvSpPr>
            <p:spPr>
              <a:xfrm>
                <a:off x="7853400" y="3500280"/>
                <a:ext cx="647640" cy="79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е</m:t>
                        </m:r>
                      </m:e>
                      <m:sup>
                        <m:r>
                          <m:t xml:space="preserve">х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483" name="Picture 35" descr=""/>
          <p:cNvPicPr/>
          <p:nvPr/>
        </p:nvPicPr>
        <p:blipFill>
          <a:blip r:embed="rId1"/>
          <a:stretch/>
        </p:blipFill>
        <p:spPr>
          <a:xfrm>
            <a:off x="5580000" y="1052640"/>
            <a:ext cx="2921040" cy="957240"/>
          </a:xfrm>
          <a:prstGeom prst="rect">
            <a:avLst/>
          </a:prstGeom>
          <a:ln w="0">
            <a:noFill/>
          </a:ln>
        </p:spPr>
      </p:pic>
      <p:sp>
        <p:nvSpPr>
          <p:cNvPr id="484" name="TextBox 2"/>
          <p:cNvSpPr/>
          <p:nvPr/>
        </p:nvSpPr>
        <p:spPr>
          <a:xfrm>
            <a:off x="2268360" y="31752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Запомн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332000" y="549360"/>
            <a:ext cx="6511680" cy="4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575f6d"/>
                </a:solidFill>
                <a:latin typeface="Century Schoolbook"/>
              </a:rPr>
              <a:t>НАЙТИ ПРОИЗВОДНУЮ ФУНКЦИИ 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6" name="Object 37"/>
              <p:cNvSpPr txBox="1"/>
              <p:nvPr/>
            </p:nvSpPr>
            <p:spPr>
              <a:xfrm>
                <a:off x="250920" y="1052640"/>
                <a:ext cx="2768400" cy="89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е</m:t>
                        </m:r>
                      </m:e>
                      <m:sup>
                        <m:r>
                          <m:t xml:space="preserve">х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х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87" name="Picture 40" descr="j0195384"/>
          <p:cNvPicPr/>
          <p:nvPr/>
        </p:nvPicPr>
        <p:blipFill>
          <a:blip r:embed="rId1"/>
          <a:stretch/>
        </p:blipFill>
        <p:spPr>
          <a:xfrm>
            <a:off x="6300720" y="1773360"/>
            <a:ext cx="2087640" cy="26636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88" name="Объект 1"/>
              <p:cNvSpPr txBox="1"/>
              <p:nvPr/>
            </p:nvSpPr>
            <p:spPr>
              <a:xfrm>
                <a:off x="258840" y="1844640"/>
                <a:ext cx="482580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9" name="Объект 2"/>
              <p:cNvSpPr txBox="1"/>
              <p:nvPr/>
            </p:nvSpPr>
            <p:spPr>
              <a:xfrm>
                <a:off x="395280" y="2852640"/>
                <a:ext cx="3554280" cy="13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4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0" name="Объект 3"/>
              <p:cNvSpPr txBox="1"/>
              <p:nvPr/>
            </p:nvSpPr>
            <p:spPr>
              <a:xfrm>
                <a:off x="324000" y="4221000"/>
                <a:ext cx="4255920" cy="83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7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1" name="Объект 4"/>
              <p:cNvSpPr txBox="1"/>
              <p:nvPr/>
            </p:nvSpPr>
            <p:spPr>
              <a:xfrm>
                <a:off x="468360" y="5373720"/>
                <a:ext cx="3189240" cy="7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3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75f6d"/>
                </a:solidFill>
                <a:latin typeface="Century Schoolbook"/>
              </a:rPr>
              <a:t>ВЫЧИСЛИТЬ ПРОИЗВОДНУЮ СЛОЖНОЙ ФУНКЦИИ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93" name="Picture 7" descr=""/>
          <p:cNvPicPr/>
          <p:nvPr/>
        </p:nvPicPr>
        <p:blipFill>
          <a:blip r:embed="rId1"/>
          <a:stretch/>
        </p:blipFill>
        <p:spPr>
          <a:xfrm>
            <a:off x="2589120" y="1844640"/>
            <a:ext cx="3867120" cy="76356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8" descr=""/>
          <p:cNvPicPr/>
          <p:nvPr/>
        </p:nvPicPr>
        <p:blipFill>
          <a:blip r:embed="rId2"/>
          <a:stretch/>
        </p:blipFill>
        <p:spPr>
          <a:xfrm>
            <a:off x="2700360" y="3213000"/>
            <a:ext cx="3646440" cy="80640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10" descr=""/>
          <p:cNvPicPr/>
          <p:nvPr/>
        </p:nvPicPr>
        <p:blipFill>
          <a:blip r:embed="rId3"/>
          <a:stretch/>
        </p:blipFill>
        <p:spPr>
          <a:xfrm>
            <a:off x="3276720" y="4381560"/>
            <a:ext cx="2400120" cy="12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7T17:53:34Z</dcterms:created>
  <dc:creator>user</dc:creator>
  <dc:description/>
  <dc:language>en-US</dc:language>
  <cp:lastModifiedBy>Windows User</cp:lastModifiedBy>
  <cp:lastPrinted>2014-04-08T21:33:15Z</cp:lastPrinted>
  <dcterms:modified xsi:type="dcterms:W3CDTF">2020-04-06T15:30:21Z</dcterms:modified>
  <cp:revision>139</cp:revision>
  <dc:subject/>
  <dc:title>Слайд 1</dc:title>
</cp:coreProperties>
</file>