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457-280D-453A-BD5A-A375663DF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A3D5-1E1D-4281-98C6-EFB7EBC290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CD3-B61A-4D35-A2E3-ECC6AA79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5A2-3993-4968-893D-369229BB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01-13B3-4224-9A9E-D3698EC3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D7A-6015-4DCE-AB53-BDBDD4BD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ED7-1015-4126-B9C4-C812E30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BBF-F361-4D52-9AFF-D24F128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331-2E2A-4683-A98D-7ACB088C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20D-0040-4207-8277-2EC8A59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A01-9B69-4A3F-8DC4-D9A14BA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F03-7CDD-4924-A9DD-948F967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591-3723-4E92-93DD-710AD29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DBC-75D2-4CF6-819D-A05449B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4875-B7AC-40A9-80DB-5094E629A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8581680" cy="10904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396720" y="1127160"/>
            <a:ext cx="8350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87440" y="401760"/>
            <a:ext cx="8102520" cy="927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24000" y="158760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  <a:ea typeface="Arial"/>
              </a:rPr>
              <a:t>Учимся читать громко и выразительно, думать, мыслить, рассужд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52240" y="333360"/>
            <a:ext cx="778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cc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  <a:ea typeface="Arial"/>
              </a:rPr>
              <a:t>О каких буквах идёт речь в стихотворе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  <a:ea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man Old Style"/>
                <a:ea typeface="Arial"/>
              </a:rPr>
              <a:t>Прочитай и отве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4960" y="981000"/>
            <a:ext cx="82486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Утром на траве росо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Эта буква заблестит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под вечер на крылеч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Рядом громко зарычи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Bookman Old Style"/>
                <a:ea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583200" y="981000"/>
            <a:ext cx="8134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Эта буква на мороз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 оса, ужалить мож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Ну а в мае на берёз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Жук её узнать поможе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Bookman Old Style"/>
                <a:ea typeface="Arial"/>
              </a:rPr>
              <a:t>Ж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606600" y="981000"/>
            <a:ext cx="814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С этой буквой – добрым другом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Долгою дорогой в 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нь за днём назло недуг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  <a:ea typeface="Arial"/>
              </a:rPr>
              <a:t>Даже под дождём идё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Bookman Old Style"/>
                <a:ea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537840" y="981000"/>
            <a:ext cx="858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Arial"/>
              </a:rPr>
              <a:t>Эту букву парово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своей трубе привёз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Arial"/>
              </a:rPr>
              <a:t>Губы вытяни в труб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получишь букву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  <a:ea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410760" y="981000"/>
            <a:ext cx="8542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Буква эта знаменита –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Стоит в начале алфави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470880" y="981000"/>
            <a:ext cx="83494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Эта буква бодрым шаг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бой идёт под бараба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бодает буква букву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Arial"/>
              </a:rPr>
              <a:t>Будто баловник бара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f497d"/>
                </a:solidFill>
                <a:latin typeface="Bookman Old Style"/>
                <a:ea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334800"/>
            <a:ext cx="998280" cy="1567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1547640" y="317520"/>
            <a:ext cx="153684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" descr=""/>
          <p:cNvPicPr/>
          <p:nvPr/>
        </p:nvPicPr>
        <p:blipFill>
          <a:blip r:embed="rId3"/>
          <a:stretch/>
        </p:blipFill>
        <p:spPr>
          <a:xfrm>
            <a:off x="3292560" y="324000"/>
            <a:ext cx="1243080" cy="1565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4"/>
          <a:stretch/>
        </p:blipFill>
        <p:spPr>
          <a:xfrm>
            <a:off x="4932360" y="317520"/>
            <a:ext cx="103032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5"/>
          <a:stretch/>
        </p:blipFill>
        <p:spPr>
          <a:xfrm>
            <a:off x="6297480" y="324000"/>
            <a:ext cx="1073160" cy="1565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6"/>
          <a:stretch/>
        </p:blipFill>
        <p:spPr>
          <a:xfrm>
            <a:off x="7705800" y="328680"/>
            <a:ext cx="1066680" cy="15667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7"/>
          <a:stretch/>
        </p:blipFill>
        <p:spPr>
          <a:xfrm>
            <a:off x="517680" y="2852640"/>
            <a:ext cx="80899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4:22:51Z</dcterms:created>
  <dc:creator>Синецкая Г.Г.</dc:creator>
  <dc:description/>
  <dc:language>en-US</dc:language>
  <cp:lastModifiedBy>АРСЕНТЬЕВЫ</cp:lastModifiedBy>
  <dcterms:modified xsi:type="dcterms:W3CDTF">2020-04-08T18:00:03Z</dcterms:modified>
  <cp:revision>35</cp:revision>
  <dc:subject/>
  <dc:title>Презентация PowerPoint</dc:title>
</cp:coreProperties>
</file>