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3AA3-E3DD-4CB9-B0E3-858F100006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58B-AE4E-4BE1-97EB-E908F19DC2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94F5-472E-4B97-9221-EA5028F68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598C-1038-4580-A739-241D31554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209B-2E41-401B-BE54-86911E971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8AC-1796-4B80-9B7C-71C07E2C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7A1-63B3-4546-8153-224E52AB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903-904D-41FA-93C1-1B724E1F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482-5F2A-40F4-BBB3-414EE398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5A2-E491-48E1-9693-F3EC9FC0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289-C6D0-4E13-A7EF-4CE19CA9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6BD-A619-40FF-BB27-ECEC4E2A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F3C-A476-4B72-9F72-57CA5AD4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853-00EA-4734-AD07-378D4265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6DF-408F-4A0D-88A1-F0BD42CC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D24-43D5-4410-B64A-E062F44A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C4A-C1A6-4924-AD8C-B17F6FBE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12E5-6CFD-4A6E-AF79-30C4BEB15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560" y="4005000"/>
            <a:ext cx="74883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речевого центра в старшей группе из опыта работы воспитателя: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сицкой Г.Г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Картинки по запросу картинки буквы"/>
          <p:cNvPicPr/>
          <p:nvPr/>
        </p:nvPicPr>
        <p:blipFill>
          <a:blip r:embed="rId1"/>
          <a:stretch/>
        </p:blipFill>
        <p:spPr>
          <a:xfrm>
            <a:off x="0" y="0"/>
            <a:ext cx="1825560" cy="1825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Похожее изображение"/>
          <p:cNvPicPr/>
          <p:nvPr/>
        </p:nvPicPr>
        <p:blipFill>
          <a:blip r:embed="rId2"/>
          <a:stretch/>
        </p:blipFill>
        <p:spPr>
          <a:xfrm>
            <a:off x="7445520" y="0"/>
            <a:ext cx="1698480" cy="170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Похожее изображение"/>
          <p:cNvPicPr/>
          <p:nvPr/>
        </p:nvPicPr>
        <p:blipFill>
          <a:blip r:embed="rId3"/>
          <a:stretch/>
        </p:blipFill>
        <p:spPr>
          <a:xfrm>
            <a:off x="0" y="5013360"/>
            <a:ext cx="1660680" cy="166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Похожее изображение"/>
          <p:cNvPicPr/>
          <p:nvPr/>
        </p:nvPicPr>
        <p:blipFill>
          <a:blip r:embed="rId4"/>
          <a:stretch/>
        </p:blipFill>
        <p:spPr>
          <a:xfrm>
            <a:off x="7515360" y="5229360"/>
            <a:ext cx="1628640" cy="162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111\Desktop\hello_html_m245cf291.jpg"/>
          <p:cNvPicPr/>
          <p:nvPr/>
        </p:nvPicPr>
        <p:blipFill>
          <a:blip r:embed="rId5"/>
          <a:stretch/>
        </p:blipFill>
        <p:spPr>
          <a:xfrm>
            <a:off x="1692360" y="0"/>
            <a:ext cx="5904000" cy="385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0"/>
          <p:cNvSpPr/>
          <p:nvPr/>
        </p:nvSpPr>
        <p:spPr>
          <a:xfrm>
            <a:off x="539640" y="0"/>
            <a:ext cx="5184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вижения руки всегда были тесно связаны с речью и способствовали ее развитию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М.Бехтер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6926400" y="4886280"/>
            <a:ext cx="221760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:\документы\с флэшки\моё\РазФиВ\Фото\IMG_20191202_081256.jpg"/>
          <p:cNvPicPr/>
          <p:nvPr/>
        </p:nvPicPr>
        <p:blipFill>
          <a:blip r:embed="rId2"/>
          <a:stretch/>
        </p:blipFill>
        <p:spPr>
          <a:xfrm>
            <a:off x="5827680" y="206064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D:\документы\с флэшки\моё\РазФиВ\Фото\IMG_20191202_080748.jpg"/>
          <p:cNvPicPr/>
          <p:nvPr/>
        </p:nvPicPr>
        <p:blipFill>
          <a:blip r:embed="rId3"/>
          <a:stretch/>
        </p:blipFill>
        <p:spPr>
          <a:xfrm>
            <a:off x="1403280" y="2924280"/>
            <a:ext cx="35528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33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библиотеке для ребят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полках книги в ряд стоят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и, читай и много знай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книгу ты не обижай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а откроет мир большой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если сделаешь больно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ы книжку – навсегд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аницы замолчат тогда.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 Блажн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6988320" y="4941720"/>
            <a:ext cx="2155680" cy="191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D:\документы\с флэшки\моё\РазФиВ\Фото\IMG_20191202_075815.jpg"/>
          <p:cNvPicPr/>
          <p:nvPr/>
        </p:nvPicPr>
        <p:blipFill>
          <a:blip r:embed="rId2"/>
          <a:stretch/>
        </p:blipFill>
        <p:spPr>
          <a:xfrm>
            <a:off x="3419640" y="1052640"/>
            <a:ext cx="495612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0"/>
          <p:cNvSpPr/>
          <p:nvPr/>
        </p:nvSpPr>
        <p:spPr>
          <a:xfrm>
            <a:off x="395280" y="117360"/>
            <a:ext cx="3456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куклой можно управл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ял рукавичку и надел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вот уж Петушок зап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поменял ты рукавичку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превратился он в Лисич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знаю я наверняк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ера трудится ру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кукла ожи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ет, пережива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атр кукол (Соколова Н.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6926400" y="4886280"/>
            <a:ext cx="2217600" cy="197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https://avatars.mds.yandex.net/get-mpic/906397/img_id2848599514281489977.jpeg/9hq"/>
          <p:cNvPicPr/>
          <p:nvPr/>
        </p:nvPicPr>
        <p:blipFill>
          <a:blip r:embed="rId2"/>
          <a:stretch/>
        </p:blipFill>
        <p:spPr>
          <a:xfrm>
            <a:off x="3924360" y="26028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34876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ое место в нашем центре занимает методическая литература способствующая развитию речи детей в патриотическом воспит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6926400" y="4886280"/>
            <a:ext cx="2217600" cy="1971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D:\документы\с флэшки\моё\РазФиВ\Фото\IMG_20191129_112112.jpg"/>
          <p:cNvPicPr/>
          <p:nvPr/>
        </p:nvPicPr>
        <p:blipFill>
          <a:blip r:embed="rId2"/>
          <a:stretch/>
        </p:blipFill>
        <p:spPr>
          <a:xfrm>
            <a:off x="611280" y="2060640"/>
            <a:ext cx="3647880" cy="273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673800" cy="275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:\документы\с флэшки\моё\работа 2019 г\печать\моя родина\k11g61MNUeI.jpg"/>
          <p:cNvPicPr/>
          <p:nvPr/>
        </p:nvPicPr>
        <p:blipFill>
          <a:blip r:embed="rId4"/>
          <a:stretch/>
        </p:blipFill>
        <p:spPr>
          <a:xfrm>
            <a:off x="179280" y="4221000"/>
            <a:ext cx="2976840" cy="223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D:\документы\с флэшки\моё\работа 2019 г\печать\азбука\wc3QqVmjcHA.jpg"/>
          <p:cNvPicPr/>
          <p:nvPr/>
        </p:nvPicPr>
        <p:blipFill>
          <a:blip r:embed="rId5"/>
          <a:stretch/>
        </p:blipFill>
        <p:spPr>
          <a:xfrm>
            <a:off x="4356000" y="4149720"/>
            <a:ext cx="316548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тотека по развитию связной речи содержит различные группы дидактических игр, направленных на развитие речи детей: игры на развитие словаря, игры по формированию грамматического строя речи, игры на речевые процессы, и тд. Данная картотека помогает нам вести планомерную работу с детьми по развитию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604000" y="1413000"/>
            <a:ext cx="53964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954240" cy="2966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22460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111\Desktop\s1200.jpg"/>
          <p:cNvPicPr/>
          <p:nvPr/>
        </p:nvPicPr>
        <p:blipFill>
          <a:blip r:embed="rId3"/>
          <a:stretch/>
        </p:blipFill>
        <p:spPr>
          <a:xfrm>
            <a:off x="7488360" y="5386320"/>
            <a:ext cx="165564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развитие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586640" y="1412640"/>
            <a:ext cx="1557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6870600" y="4836960"/>
            <a:ext cx="2273400" cy="2021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422568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5364000" y="1268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4"/>
          <a:stretch/>
        </p:blipFill>
        <p:spPr>
          <a:xfrm>
            <a:off x="3492360" y="3933720"/>
            <a:ext cx="3640320" cy="273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2771640" y="1557360"/>
            <a:ext cx="32990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речевого развит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10920" y="1773360"/>
            <a:ext cx="78469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свободного общения с взрослыми и детьми, овладение конструктивными способами и средствами взаимодействия с окружающи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всех компонентов устной речи детей: грамматического строя речи, связной речи – диалогической и монологической форм, формирование словаря, воспитание звуковой культуры 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6926400" y="4626000"/>
            <a:ext cx="221760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работа с деть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7846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в с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таршей</a:t>
            </a: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 групп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333333"/>
              </a:buClr>
              <a:buSzPct val="55000"/>
              <a:buFont typeface="Wingdings" charset="2"/>
              <a:buChar char=""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артикуляции и правильного произнош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333333"/>
              </a:buClr>
              <a:buSzPct val="55000"/>
              <a:buFont typeface="Wingdings" charset="2"/>
              <a:buChar char=""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фонематического слух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333333"/>
              </a:buClr>
              <a:buSzPct val="55000"/>
              <a:buFont typeface="Wingdings" charset="2"/>
              <a:buChar char=""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рение и активизация словар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333333"/>
              </a:buClr>
              <a:buSzPct val="55000"/>
              <a:buFont typeface="Wingdings" charset="2"/>
              <a:buChar char=""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пражнение в использовании в речи слов-обобщ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333333"/>
              </a:buClr>
              <a:buSzPct val="55000"/>
              <a:buFont typeface="Wingdings" charset="2"/>
              <a:buChar char=""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пражнение в  использовани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речи числительны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333333"/>
              </a:buClr>
              <a:buSzPct val="55000"/>
              <a:buFont typeface="Wingdings" charset="2"/>
              <a:buChar char=""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диалогической речи; развитие мелкой моторики рук в процессе различных видов дет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111\Desktop\s1200.jpg"/>
          <p:cNvPicPr/>
          <p:nvPr/>
        </p:nvPicPr>
        <p:blipFill>
          <a:blip r:embed="rId2"/>
          <a:stretch/>
        </p:blipFill>
        <p:spPr>
          <a:xfrm>
            <a:off x="6926400" y="4886280"/>
            <a:ext cx="221760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евое развит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9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ь воспита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истематические занятия по развитию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еседы, игры и игровые упраж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евой цен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буратино.jpg"/>
          <p:cNvPicPr/>
          <p:nvPr/>
        </p:nvPicPr>
        <p:blipFill>
          <a:blip r:embed="rId3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111\Desktop\s1200.jpg"/>
          <p:cNvPicPr/>
          <p:nvPr/>
        </p:nvPicPr>
        <p:blipFill>
          <a:blip r:embed="rId4"/>
          <a:stretch/>
        </p:blipFill>
        <p:spPr>
          <a:xfrm>
            <a:off x="6926400" y="4886280"/>
            <a:ext cx="221760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речевого центра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артикуляционных упражн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дыхательных упражнений с играми для подду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пальчиковых иг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оздоровительных пауз со стихотворным текстом (физминутк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хороводных иг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народных иг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словесных игр по всем раздел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идактические игры на совершенствование ЗК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идактические игры на обогащение и активизацию словарного запа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идактические игры на развитие грамматическог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роя реч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524720" y="5229360"/>
            <a:ext cx="1190520" cy="124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речевого центра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идактические игры на формирование связной реч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дметные картинки, фотографии и открытки по всем лексическим темам на обогащение словарного запаса, на развитие грамматического строя речи, на развитие связной реч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южетные картинки и иллюстрации к сказкам для обучения детей пересказыванию знакомых сказок и на составление рассказов с последовательно развивающимся дейст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обия для подготовки к обучению грамо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атериал и игры для развития мелкой моторики ру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308720" y="4941720"/>
            <a:ext cx="135108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нтр речевого разви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111\Desktop\s1200.jpg"/>
          <p:cNvPicPr/>
          <p:nvPr/>
        </p:nvPicPr>
        <p:blipFill>
          <a:blip r:embed="rId3"/>
          <a:stretch/>
        </p:blipFill>
        <p:spPr>
          <a:xfrm>
            <a:off x="6926400" y="4886280"/>
            <a:ext cx="2217600" cy="197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D:\документы\с флэшки\моё\РазФиВ\Фото\IMG_20191129_163307.jpg"/>
          <p:cNvPicPr/>
          <p:nvPr/>
        </p:nvPicPr>
        <p:blipFill>
          <a:blip r:embed="rId4"/>
          <a:stretch/>
        </p:blipFill>
        <p:spPr>
          <a:xfrm>
            <a:off x="1835280" y="1341360"/>
            <a:ext cx="5481360" cy="4110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зяйка речевого уголка – Маша-Неваляша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524720" y="5229360"/>
            <a:ext cx="1351080" cy="1412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586640" y="1412640"/>
            <a:ext cx="1557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:\Users\111\Desktop\s1200.jpg"/>
          <p:cNvPicPr/>
          <p:nvPr/>
        </p:nvPicPr>
        <p:blipFill>
          <a:blip r:embed="rId2"/>
          <a:stretch/>
        </p:blipFill>
        <p:spPr>
          <a:xfrm>
            <a:off x="6926400" y="4626000"/>
            <a:ext cx="2217600" cy="19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:\документы\с флэшки\моё\РазФиВ\Фото\IMG-20191203-WA0004.jpg"/>
          <p:cNvPicPr/>
          <p:nvPr/>
        </p:nvPicPr>
        <p:blipFill>
          <a:blip r:embed="rId3"/>
          <a:stretch/>
        </p:blipFill>
        <p:spPr>
          <a:xfrm>
            <a:off x="3924360" y="148428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:\документы\с флэшки\моё\РазФиВ\Фото\IMG-20191203-WA0005.jpg"/>
          <p:cNvPicPr/>
          <p:nvPr/>
        </p:nvPicPr>
        <p:blipFill>
          <a:blip r:embed="rId4"/>
          <a:stretch/>
        </p:blipFill>
        <p:spPr>
          <a:xfrm>
            <a:off x="395280" y="1413000"/>
            <a:ext cx="3168720" cy="489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96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развития речевого дыхания и мелкой моторики пальцев рук в нашем центре имеются различные тренажёр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воздушные шары;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тренажёры для дыхания;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разные клубочки;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карандаши и ручки;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наборы различных семян для выкладывания картин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пуговки крышки;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прищепки;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111\Desktop\s1200.jpg"/>
          <p:cNvPicPr/>
          <p:nvPr/>
        </p:nvPicPr>
        <p:blipFill>
          <a:blip r:embed="rId2"/>
          <a:stretch/>
        </p:blipFill>
        <p:spPr>
          <a:xfrm>
            <a:off x="6926400" y="4626000"/>
            <a:ext cx="221760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на</dc:creator>
  <dc:description/>
  <dc:language>en-US</dc:language>
  <cp:lastModifiedBy>111</cp:lastModifiedBy>
  <dcterms:modified xsi:type="dcterms:W3CDTF">2020-04-07T16:27:29Z</dcterms:modified>
  <cp:revision>95</cp:revision>
  <dc:subject/>
  <dc:title>Слайд 1</dc:title>
</cp:coreProperties>
</file>